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F2E8-EE3C-42A6-A88F-A7F37F13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9D0-2B28-4C3C-97CF-262BE353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5FD-52FA-4BCE-9633-DAD79BB9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543-AB98-4391-97B2-F61E07B0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BC57-BD70-47EA-AB10-E88787E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5EA-6D0E-411C-B90E-8B999E94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D11-B301-457F-8A58-0978B7F1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C0B-9F77-45C7-82E5-0DE76614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92E-2925-4ADB-B5B8-D186AC58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05B-1CF7-4CE6-BB6C-1C478426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CBC-76CD-449D-8028-EE0AA5B1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F30-E7B9-4D1C-A908-8AA8241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09D4A-E83E-4D79-BDFE-9F0DA7FD52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тся мне пятна кровавые тё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тся мне: крест на Голгофе сто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тся мне очи, как небо лазур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тся Христос ― на кресте Он ви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подвиг великий,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жертву от ран всю в кро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я призыв и нежный, и власт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ердце своё целиком подар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нятся мне пят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, как волны всю жизнь залив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, как море в ненастье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людей, за Христа что стра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 дела, что лукавый 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о подумать ― насилье и м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, куда я не кину свой вз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Христа пригвождённые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в очах Его горький ук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как больно страдать Ему сн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ие раны опять на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поспела, давно уж гот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 Он ― Хозяин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 Он, уж близится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тяжело отчего так и ж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ведь не дремлет, и сеется с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о времени жатву сгу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ь придёшь Ты, Христос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м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царство наступит Твоё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Ты миром от всюду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дь не знает, что в нём всё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0:44Z</dcterms:modified>
  <cp:revision>12</cp:revision>
  <dc:subject>Slavic hymnal Гимны веры христиан, hymn 423</dc:subject>
  <dc:title>Снятся мне пятна</dc:title>
</cp:coreProperties>
</file>