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31C6-A693-46C0-B19B-6A10004B3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06C6-A645-44C7-BA9B-6C6B82256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F9E3-A6D9-4A70-99D9-5CC0E19C5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1E70-2EA9-40DE-8CD4-07CFB7250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D39E-0A58-4ADF-9495-0FCDCBAAA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4414-FEBF-4902-8114-BB0B5CD16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A3CA-F905-48ED-9DB8-A6C1023D4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A94A-C37A-4077-AF2C-5F6E7D52A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809B-B52E-461E-AFCE-F16AFDFEE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5786-BC2A-455A-ACD1-C39619468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8E1E-68F5-4F84-8B56-7A44B0FAD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A682-6088-4610-B1EB-1130D92AE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65859F-BE5B-491B-9DDF-EECBC283A43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3726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когда с неба звучали напе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когда Солнце взошло в тьме ночн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ёл Сын Божий, родился от Де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л в этом мире Просветитель 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жизни любил Он, смертью купил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ежал во гробе, чтоб нас оправ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мёртвых Он воскр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ёт жизнь люд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когда с неба придёт Он оп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1448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3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когда с неб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3726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когда взяли Его на Голгоф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били к древу грешников ру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яжких мученьях Он умер за мног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 меня страдал Спаситель 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жизни любил Он, смертью купил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ежал во гробе, чтоб нас оправ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мёртвых Он воскр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ёт жизнь люд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когда с неба придёт Он оп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3726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когда в гробе лежал Он, умерш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когда дан был Страдальцу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ы с неба вдруг сошли на земл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ежда многих — Избавитель 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жизни любил Он, смертью купил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ежал во гробе, чтоб нас оправ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мёртвых Он воскр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ёт жизнь люд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когда с неба придёт Он оп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когда тщетно стерегли могил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мень отвален силой незе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крес Распятый, попрал смерти сил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Отцу вознёсся Искупитель 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жизни любил Он, смертью купил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ежал во гробе, чтоб нас оправ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мёртвых Он воскр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ёт жизнь люд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когда с неба придёт Он оп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когда небо озарится сла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дастся трубный звук над всей землё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зей почивших я увижу снов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к и славен Добрый Пастырь 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жизни любил Он, смертью купил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ежал во гробе, чтоб нас оправ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мёртвых Он воскр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ёт жизнь люд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когда с неба придёт Он оп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34:59Z</dcterms:modified>
  <cp:revision>13</cp:revision>
  <dc:subject>Slavic hymnal Гимны веры христиан, hymn 836</dc:subject>
  <dc:title>Некогда с неба</dc:title>
</cp:coreProperties>
</file>