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364-1439-48D8-93DD-5CB8BEE9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92B-AAF6-47C3-9FDF-09A2D5A5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656-95FB-499A-9855-C3DAB12F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F8F-A0EF-420B-A0B0-A50354F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633-FF52-44DF-B84A-E57CE9A3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956-463D-4112-BD50-0070CDA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EC1-64F8-42F3-90DF-0B8CC3B5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826-CE4B-4D72-B213-88AE1B94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B2E-CC96-4526-A0B0-6BB9A6C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BAF-3D8E-4B73-B617-EB5B44FC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624-6C51-4FE6-82FD-B1411C06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659-951C-4C71-B2EC-2B97DF99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37052-9AE0-4D3E-9F92-90380EB3E0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beauty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y of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ove which from our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nd around us 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 добро земных кра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бро земных кра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ары Твоих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, что с перв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ет жизнь дет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onder of each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ay and of the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ll and vale and tree and fl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n and moon and stars of l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учи светил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веты Твоих по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каждый данный ми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дня, во тьме ноче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joy of huma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, sister, parent,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iends on earth and friends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gentle thoughts and mi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родителей,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х иль чужи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тремления к доб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у юную пор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Church that ev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eth holy hand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ering up on every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pure sacrifice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всякий вышни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аёшь Ты нам,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зов, молитвы ж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обещанный венец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all, to Thee we 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hymn of grateful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ебе, Отец, 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песнь хвалы пс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self, best gift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race so freely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at great, great love of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joy in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Церковь, что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родов всех и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 уст несёт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дар, что свыше дан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9:15Z</dcterms:modified>
  <cp:revision>12</cp:revision>
  <dc:subject>Slavic hymnal Гимны веры христиан, hymn 819</dc:subject>
  <dc:title>For the Beauty of the Earth / За добро земных красот</dc:title>
</cp:coreProperties>
</file>