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1CE-9FC1-4E2D-B5DA-04FFCDAB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1356-C767-44D1-8E8F-C6530BD6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68B0-B39E-4713-9E81-0694F0B1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4F28-C251-49F5-A0F7-F8E095CC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F83-2ED9-4CE6-AEE5-B7DCFC60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B19A-0250-4AF9-AEFC-35EC85A3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9C4-0D8B-4F99-8AB1-722CB124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8CA-E67F-45BB-A259-608025A7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EDB7-2607-4CA4-8CBB-DD32424A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075-6CD6-4D76-B8B8-8BA4F6F3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F2F-22D4-4D0D-847B-7212DA40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E72-86F2-42C2-B30A-B7DD5810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2E8C0-CDF6-48F8-A508-58878AC311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, Majes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of heaven living 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entle Saviour, clos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rong deliverer, beginning and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within me falls at Your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0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King of Kings, Maje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ajesty, I can but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my all befor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royal robes I don’t d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th and heav’n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eternal, faithful and tr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bought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ansomed sou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ought this s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ar to Your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within me cries out in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ajesty, I can but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my all before You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royal robes I don’t dese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to serve 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3:13Z</dcterms:modified>
  <cp:revision>9</cp:revision>
  <dc:subject>The Source, song number 309</dc:subject>
  <dc:title>King of Kings, Majesty</dc:title>
</cp:coreProperties>
</file>