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830-DE59-46D1-99D6-8C21BC96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6EB-FF7C-4D50-9387-4ABB1F30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E57-4F79-4A6D-827F-855EFB05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E16-E261-4EEC-8401-6D1A47CE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631-FA25-4328-A4AA-CE02537F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0EB-8F25-43C1-84A8-1156757E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C47-082F-4771-87A2-7784C2A1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E49-6F25-4128-A390-003F22AE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5F4-21A0-4D45-AF88-924BB104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0EF-1A11-4305-BC56-DDDE4097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1FD-CAD7-4193-8668-F1EDD1F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AD9-26E5-4AAB-B779-978ECBC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C9C0A-BE8C-4796-844F-1602E1BD06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tepped down into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my eyes,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y that made this heart ador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pe of a life spent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406   Истин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шёл к нам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дай мне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красоту, что пленила серд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могла мн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all days, Oh so highly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ious in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umbly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earth You crea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for love’s sake becam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сти Царь, Создатель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 Твой престо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рад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небрёг Своей сла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 на землю с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much i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 my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on that cross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меня Ты пролил кр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Тво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меня Ты пролил кр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про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ишёл сказать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чуде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мне близ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 Тебе прек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о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2:20Z</dcterms:modified>
  <cp:revision>12</cp:revision>
  <dc:subject>The Source 3, song number 1406 in Russian</dc:subject>
  <dc:title>Истинный свет / Light of the World (Here I Am to Worship)</dc:title>
</cp:coreProperties>
</file>