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5BE-B459-4BC2-81FC-3B0A44D8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EBD-363A-4395-BE5F-C5DBE931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537-9EA3-4F7E-886A-FDD5DAE8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E41-B500-4329-832F-D08F9C73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1B6-EA65-407B-A026-0370D68D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077-3DFB-4E4A-953B-75127147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F0A-0ABE-412D-A1D2-63B90152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360-36F6-4EEC-B614-6B81860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8FD-6949-407D-91D2-40C446D1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D59-A81D-488D-8234-B8B2066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A2A-BE1C-4ED6-8256-8845142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6E4-BC9F-4DB9-B2CF-90263811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C4175-B9CD-4684-8990-0547BB750A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ou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jestic is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prais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we magn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Go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Our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4:52Z</dcterms:modified>
  <cp:revision>11</cp:revision>
  <dc:subject>The Source 2, song number 916</dc:subject>
  <dc:title>O Lord, Our Lord (How Majestic Is Your Name)</dc:title>
</cp:coreProperties>
</file>