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F48E-BD28-42FF-877C-8D588F16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6D41-28A9-4990-8039-A02EDFCE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8C8B-FE6F-43E5-900A-02682695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6E5B-9E71-4627-AFFE-1E6140F7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48E9-D2FB-4051-90A6-538E13A8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385-004A-4B9E-8144-AF12411E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5BC0-6B76-430B-AC3A-FB814B82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A115-AC77-4437-8815-668E9EED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978-95AC-4D12-AF51-8B3D317E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D86-5199-422F-8D99-308B5308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A2E7-B087-4CF1-B4B1-E2452CBA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FAB3-54EE-4324-A2BA-FF770511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198F6-E02A-41A5-B71D-4527892A79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! Господь всегда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 свой крест, в страданьях не роп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Творца и ты и жребий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рен нам. Общенья с Ним и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! Господь чрез тьму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лучший друг, к блаженству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уныв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! Господь руков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ущим так, как прошлым управл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лишь верь! Ничто да не смут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й час поймёшь зачем ты зд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! и буре и вол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ажет Он — настанет тиш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! уж близок слав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 Христом мы будем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святой отрёт нам слёзы с гл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нет скорбь, забота и нуж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! земное всё пр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нас дом Отцовский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9:27Z</dcterms:modified>
  <cp:revision>12</cp:revision>
  <dc:subject>Slavic hymnal Гимны веры христиан, hymn 860</dc:subject>
  <dc:title>Не унывай! Господь всегда с тобой</dc:title>
</cp:coreProperties>
</file>