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503-E739-4FBB-BE35-6D0E67DD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620-547A-4F15-A6AA-ADE8EA9E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CCF-DB69-4C5F-932B-9EAFEC39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0D8-7B63-4B23-898F-6CA66A4C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73A-954F-4390-96DE-B1C224E4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913-0EC3-40B1-B381-C35FF0A6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FAF-1D3D-43BA-80DB-4F84BA8D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239-DD74-4452-AECF-F9F3C3BA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4D4-B92A-4260-B8A8-586E5161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45B-41AE-42CF-9755-7AB5FD4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F82-F2B8-46C2-9FA4-870680C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F0E-36E8-44E9-81F2-C814DD4A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AE89F-A68F-4713-856B-9500593AA7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to the world! the Lord is c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earth receive her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every heart prepare Him 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 and nature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 and nature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’n, and heav’n and nature 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ся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уйся мир! Господь гря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я, ликуй пред Н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ми скорей Царя ц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ойте новый, новы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to the world! the Saviour reig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n their songs empl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fields and floods, rocks, hills and 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 the sounding j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 the sounding jo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at, repeat the sounding jo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уйся мир! Христос при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ерквах поют о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ля, сады, леса, хол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вторят, вторят с торж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more let sin and sorrow g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r thorns infest the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comes to make His blessings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 the curse is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 the curse is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r as, far as the curse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грех не ослеплял нар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терны не рос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жизнь даёт, снимает гн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ех, во всех концах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rules the world with truth and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akes the nations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glories of His righte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onders, and wonders of His l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ёс Он мир и благо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се могли позн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Бог велик и справедли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нас, как нас Он возлю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9:53Z</dcterms:modified>
  <cp:revision>14</cp:revision>
  <dc:subject>Slavic hymnal Гимны веры христиан, hymn 243</dc:subject>
  <dc:title>Joy to the World! / Радуйся мир! Господь грядёт</dc:title>
</cp:coreProperties>
</file>