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F95-A5BD-46BF-A87F-E4BF0A23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BE3-9B70-476C-92FB-EEFD070C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AA8-7B73-4D15-BE4C-37BEFC00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C96-1AFA-460A-B38A-8709FB38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2E8-7277-4B72-9F6C-273EFCA3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A49-ECD7-4210-9246-C3C91249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6C4-0492-4527-BB1C-13D4C334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011-5A90-4554-AB99-E143A6AD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F05-28BB-4AB4-8928-623A669E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3B0-45B2-42C9-AA40-0F3FAC68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7733-6F4C-4C64-8774-CFA2F5BF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B58-77E7-4A97-862B-F8447F3D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18AD6-E760-47FF-81D2-65B3E38512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mercy and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hadow of You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ace to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5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 will sh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word goes f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tremble and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let me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inest whi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g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ower and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’s fl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find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this s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holy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am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surren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let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am ca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passion of kn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endles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depth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orgiveness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ild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makes me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and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6:32Z</dcterms:modified>
  <cp:revision>11</cp:revision>
  <dc:subject>The Source 2, song number 850</dc:subject>
  <dc:title>Just Let Me Say</dc:title>
</cp:coreProperties>
</file>