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1D8-63B4-43D1-86E7-707A3209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7B9-40E4-46DF-B97F-4BA5BC1A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3B7-C744-4380-A104-1ED5FA5D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120-6552-4590-99EF-B210A9B6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73F-52FA-409E-B8A4-670E4E70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4AC-417D-45AB-8979-17485977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626-C025-4F61-9F71-EFAE0F1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AD0-9F5E-44BA-B89C-831A120D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CBF-6732-438C-99D5-1FAB41D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61C-4E6D-4E3C-8049-B346B625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0B2-6D15-4976-9B4D-307785A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629-239E-4E62-AFAC-D5E4A60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622BD-513F-49F9-8DE0-CB70CBBD38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urvey the wondrous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which the Prince of glory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ichest gain I count but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our contempt on all my p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поднимаю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, где Божий Сын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знаю греха по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 того, что почи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bid it, Lord, that I should bo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e in the death of Christ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vain things that charm me m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acrifice them to Hi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рани меня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славы не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виг Твой, чтоб смерть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венцом моих пох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, from His head, His hands,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 and love flow mingled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e’er such love and sorrow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orns compose so rich a c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я любовью, Ты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страдал и пролил кр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ражды, среди уг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e whole realm of nature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ere a present far too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so amazing, so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mands my soul, my life,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я целый мир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ар мой был бы слишком м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 за любовь Твою я д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! Я Твой всёцело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4:07Z</dcterms:modified>
  <cp:revision>12</cp:revision>
  <dc:subject>Slavic hymnal Гимны веры христиан, hymn 868</dc:subject>
  <dc:title>When I Survey the Wondrous Cross / Когда я поднимаю взор</dc:title>
</cp:coreProperties>
</file>