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AEF-7D71-49BE-BA17-5E162EBD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D076-DA50-4672-B5C2-48B37A6B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008-C6E3-4723-AA0C-9B7EB50A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1EE6-548F-48C3-BDC6-94B184C2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2F9-B65B-4B70-8E1B-3018A10C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1E0-AD84-4862-9B1E-164AEC3C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B8D-F06F-4E8C-AB47-5408DF65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835-F453-4916-88E4-F90EEB7C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B1C-B6AA-4AC2-ADBD-34D545BC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473-36B3-4A44-8EC4-27EF6BF3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4C7-A0CA-4983-9223-BB408AB7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812-978E-442B-AE00-89A8B920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EC393-76D5-40A8-919D-3310DD20C8A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гов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Ты слаб в земн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ужайся и мо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ужно, дам теб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гово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Твоя 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может совер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ить ярмо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раны исце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годен я, чтоб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ой грех с меня о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Агнца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в он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еред Ним яв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овторять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мер за меня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8:01Z</dcterms:modified>
  <cp:revision>12</cp:revision>
  <dc:subject>Slavic hymnal Гимны веры христиан, hymn 857</dc:subject>
  <dc:title>Спаситель говорит</dc:title>
</cp:coreProperties>
</file>