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937D-7B72-4F30-92CB-D15FA710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A8D3-4F7F-41C7-846C-081DA267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F657-1103-4C47-8088-DB2CEEF5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0C9E-B94B-4504-A25F-E679BECA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F53C-1A5D-4D0D-AA69-4DF42EF4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EB2D-A14F-4EAD-ABD7-9E9CDE82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BFB2-BD1E-47F9-9761-63910161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1988-B57B-49C9-B03D-E1C8C661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DCC1-13CF-4C96-88D6-37DC30BB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8DE7-213B-4417-B76F-1F9D7E64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9770-8BE9-4468-8A45-818579FD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F1A-1C10-45DE-8C1C-18A763BA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403EF-E094-448F-8A14-FB53D046FE5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 изнур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ый, робкий и боль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Спаситель Вознес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ть душе твое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хочет, 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ы принял дар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хочет, 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ы принял дар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шник бед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приютный, одино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Господню доброт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аляет Он поро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щает чисто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рует жизнь ин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й лишь приди к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рует жизнь ин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й лишь приди к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сть душу пусть не м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ликом не мечт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ведав грех гнет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Господень прин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Духа, силой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ведёт нас в вечный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Духа, силой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ведёт нас в вечный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ший и уста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скорбей и раб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себя ты не исправ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огубишь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надежду, всю наде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агай лишь н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надежду, всю наде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агай лишь н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6:33Z</dcterms:modified>
  <cp:revision>12</cp:revision>
  <dc:subject>Slavic hymnal Гимны веры христиан, hymn 840</dc:subject>
  <dc:title>Грешник бедный, изнурённый</dc:title>
</cp:coreProperties>
</file>