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4C32-C080-448D-97BF-92DB4FE3E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DA8E-D488-4314-8A6E-8F7EDA0A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D75E-33D8-4FAD-B5DE-3394FA319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4D51-57BE-4120-8A9B-20972B9B7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D6CF-C720-47EB-BE2B-6C0FB1E2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1F3D-657D-4481-8D8D-5C0EBCFF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E86A-9A82-494D-9604-96A71555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D4CE-9726-4179-BCE9-BAB42957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3693-F9DE-4B17-ADEF-D9B1388A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E88C-87EC-4151-B9D2-C52A5F6D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E36C-BC85-45B5-A38C-FB660A81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E063-B980-42F7-A310-FAD11462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566A5-4A6A-481D-98ED-B3F61629BB2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God is an awesome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reigns from heaven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wisdom, pow’r and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God is an awesome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repeat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1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ш Бог — всемогущ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— всемогущий царств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лаве С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чудный, любя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— всемогущи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(повторить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28:40Z</dcterms:modified>
  <cp:revision>11</cp:revision>
  <dc:subject>The Source, song number 418 in Russian</dc:subject>
  <dc:title>Наш Бог — всемогущий / Our God is an Awesome God (Awesome God)</dc:title>
</cp:coreProperties>
</file>