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60</a:t>
            </a:r>
            <a:r>
              <a:rPr b="1" lang="ru-RU" sz="3600" spc="-1" strike="noStrike">
                <a:solidFill>
                  <a:srgbClr val="ffffff"/>
                </a:solidFill>
                <a:latin typeface="Verdana"/>
              </a:rPr>
              <a:t>	</a:t>
            </a:r>
            <a:r>
              <a:rPr b="1" lang="ru-RU" sz="3600" spc="-1" strike="noStrike">
                <a:solidFill>
                  <a:srgbClr val="ffffff"/>
                </a:solidFill>
                <a:latin typeface="Verdana"/>
              </a:rPr>
              <a:t>Любить Тебя, Господ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юбить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ь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зирать наз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по следам Т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и не уста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клоняться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зирать назад.</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лужить Теб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ужить Теб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ужить Теб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зирать наз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по следам Т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дти и не уста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клоняться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взирать назад.</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3:59:53Z</dcterms:modified>
  <cp:revision>3</cp:revision>
  <dc:subject>Slavic hymnal Гимны веры христиан, chorus 60</dc:subject>
  <dc:title>Любить Тебя, Господь</dc:title>
</cp:coreProperties>
</file>