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D48-6F7E-46EE-B746-F7A9720C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EE9-227D-4A3D-8F11-12B1FEEB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B4D-3E5E-4144-B732-8FE1C0C5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DCD-5BD8-4F61-94A3-C36EC298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650-9947-4C02-AB11-022672D1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C66-7EE9-42CA-BF2F-C9814C8B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66B-D2B2-41BD-9537-D4CBB257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7C3-7B4C-4987-B146-96F06210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1AD-C216-42D7-8C37-A6BE5E8F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7DF-6A2E-4833-B447-9D8D69C2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F2C-5BE3-4B65-B771-72458CA1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9DB-0A2F-4B63-9CE1-88404A8E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960DE-5497-436C-B506-38C5E0753B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rs I spent in vanity and p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ring not my Lord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not it was for me He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знь моя терялась в су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я терялась в су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 не думал и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грешников Он по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God’s Word at last my sin I learn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I trembled at the law I’d spur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y guilty soul imploring 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Божье грех открыло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ал я в страшной пуст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Христа увидел пред с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’ve giv’n to Jesus ev’ry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 gladly own Him as my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y raptured soul can only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перь Иисусу от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отрадно жить и в нищ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ой восторженной 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 о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love that drew salvation’s pl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grace that brought it down to m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mighty gulf that God did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открыл спасенья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явилась в пол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ритель грешным людям 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there was great and grace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there was multiplied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burdened soul found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и милость во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остил блуждавших в тем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освободил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0Z</dcterms:modified>
  <cp:revision>14</cp:revision>
  <dc:subject>Slavic hymnal Гимны веры христиан, hymn 419</dc:subject>
  <dc:title>At Calvary / Жизнь моя терялась в суете</dc:title>
</cp:coreProperties>
</file>