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4BD-72C5-4862-8E3D-F04B9374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0F0-7A47-439A-ACD7-1BAE8DD7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818-CD13-47D1-9F7E-EFD1F340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3FF-08CB-4D54-BBB7-B79AD752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A3E-FFE4-4E89-BBF2-6ADD3D6E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83A-C587-4E5F-9EA1-F50652A0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D83-B28E-45D4-B4D8-3B02641D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299-B914-4CB9-9CC0-0E1BE2BB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DFF-B3CA-42AE-9982-863BED87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F72-A4DE-4AEB-B571-0FB6B0C8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071-D311-4B09-8B4E-B1C5A66B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C08-89E1-4FEC-958D-F536A3BF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AAB88-06B6-44CF-B844-E72919E0DD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my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’ eternal ages let His praises 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lory in the highest I will shout and s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рю в обещани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 Христа Ц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снь хвалы пою, к Нему душой смот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«Слава в вышних Богу!» уж взошла за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that cannot f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howling storms of doub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ear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the living Word of God I sha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, Ему хв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усь я грозных бурь греха и з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бы милость Божия со мной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Christ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und to Him eternally by love’s strong c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vercoming daily with the Spirit’s Sw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 Христа к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даюсь Ему я всей душой впол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хочу с Ним быть на правой сторо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I cannot f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st’ning every moment to the Spirit’s c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ting in my Saviour, as my all in a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ю в обещания, я в них крепл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ю Божьей в сердце веселю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но воскликну, как пред Ним явлю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 on the promises of God my Savi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anding, stand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tanding on the promises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в обещания стою, стою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, вер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ерой в обещания ст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2Z</dcterms:modified>
  <cp:revision>13</cp:revision>
  <dc:subject>Slavic hymnal Гимны веры христиан, hymn 640</dc:subject>
  <dc:title>Standing on the Promises / Верю в обещания Христа Царя</dc:title>
</cp:coreProperties>
</file>