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F19-56B9-40D1-B3A8-C49A586E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8B3-5715-43D4-AA1F-88591CB6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25E-40AB-489E-AFF2-9BA054E7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E5D-9688-442F-A2A5-5E73386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869-9F58-40AB-9D6A-B7050834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51E2-7FBC-4548-936A-37421540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64E-81FE-4A64-B81C-79C61B3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0E3-77FB-4DD2-A33A-E7F9F0D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111-EE3A-4EB5-B30C-DA244A2F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03D-8139-4144-AF04-FA6D302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90A-88DA-42DC-9BD3-7EA45F3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019-2DA0-40EC-9F64-12BCA6EA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91567-AC35-40A6-995D-4341BFE36E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13Z</dcterms:modified>
  <cp:revision>12</cp:revision>
  <dc:subject>Slavic hymnal Гимны веры христиан, hymn 461</dc:subject>
  <dc:title>Спаситель мой живёт!</dc:title>
</cp:coreProperties>
</file>