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EEA-D61D-4A1D-887D-50C3E95F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290-279D-4464-8D8F-AB297480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78E-3DE2-4012-881D-203929FC8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D8A-FC1F-4288-9027-4C5C8F6E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6AA-FEB1-412A-AD93-3A3E168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6BD-D6B0-4F88-9BEC-503290E6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6CF-1624-4C89-9DAA-4BCF6BB0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234-D5E1-4F6F-A1DF-D5E8F5C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3C9-F618-43F0-A000-7AAE2002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636-ADEB-4F9F-A9B7-753AC5CE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7C5-2A39-4A31-A197-2555E3E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BF2-8F25-4682-B77D-45B9711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47167-D5C1-497F-8157-8407168C04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наш свет и упов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и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нам мир и оправ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ляет нас от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часто враг иск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душевный нам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в свирепый, разъя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всех нас погло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наш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враг пылает злобой д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бессильна наша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ним боролся Муж вели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ого послал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 этот дивный Муж всесиль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ь наш и миров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ш Господь любвеоби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человеческих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мир был полн враг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с нами и м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мся мы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сё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мира в злобе и смят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е может погуб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ан Богом осуж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 скоро должен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мир нас всех ос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ит, будет 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ог заступник верный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ой жизни —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нас лишат и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а, свободы и сем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 к нам с утеш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адит нам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40Z</dcterms:modified>
  <cp:revision>12</cp:revision>
  <dc:subject>Slavic hymnal Гимны веры христиан, hymn 621</dc:subject>
  <dc:title>Господь — наш свет и упованье</dc:title>
</cp:coreProperties>
</file>