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A86-8277-4A85-97A7-6E56378F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AE2-7FED-42B3-911C-48F9D68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CA4-66A2-4E16-AE59-5B9E68DA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522-85AE-4213-ABA0-E65E7460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AE0-31EB-4726-A522-41B21AB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6DC-8A45-424E-8317-D10D3D4B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256-C75E-49D1-A4F8-734BAFF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5C0-670C-468B-A948-574F683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1A3-1CBD-455E-8E0F-F61C9A25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740-FE48-4F91-8C38-166B432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7DC-1F0D-4EE5-B368-9833FB9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E34-9302-49BB-9156-ABFC0A2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392B4-EF8F-420D-821A-39A2238B8B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held d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ilt my life u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is world reve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ars to 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I once thou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counted lo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ent and worthless 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red t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1   All I Once Held D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my heart’s 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know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found in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known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ossess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I could not ea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surpassing g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righte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to know the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Your risen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suffe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com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death, my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ith You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ever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You, Jesus, knowing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greate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all, You’re the b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joy, my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lov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Graham Kendrick (compiler), The Source, Kevin Mayhew: Buxhall, Suffolk, England, 1998.  ISBN 9781840031201.
</dc:description>
  <cp:keywords>lyrics words praise worship songs</cp:keywords>
  <dc:language>en-US</dc:language>
  <cp:lastModifiedBy>John Zaitseff</cp:lastModifiedBy>
  <dcterms:modified xsi:type="dcterms:W3CDTF">2011-06-25T08:37:59Z</dcterms:modified>
  <cp:revision>10</cp:revision>
  <dc:subject>The Source, song number 11</dc:subject>
  <dc:title>All I Once Held Dear (Knowing You)</dc:title>
</cp:coreProperties>
</file>