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34F-3D41-442C-95F0-59E98EC8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D95-D563-4F3B-9A09-0AA0A84C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512-52F4-4315-8BB7-59E4B179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94A-5FF5-43D4-A035-5F8D0DE4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625-7735-4F9A-B680-517967A0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FA6-EAFA-4836-9DDB-600F20C2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EB2-2E17-4A7C-95B6-BF3A1669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B81-92CC-4275-B9E3-8C6A706A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5F6-A2F1-4723-8BA7-F4B523F4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C39-E5C2-4DE8-9B12-57BA0AE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B44-B586-4900-A192-D1C1686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562-2C2D-4A32-BEA9-7275ECC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82016-184E-40D6-8766-200EE901A5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82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Радость, радость непреста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нас Сам ведёт за р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могает нам в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хранит от бед и му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ей внемлет Он моль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следам пойдём Христо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льнуть к рукам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од бременем сур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опасть нам без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ры, жизнь дающ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, как солнце, в нас гор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 грешных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о благ Он нам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непрестан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адостны 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 отрады, Богом да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гаснет ник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04Z</dcterms:modified>
  <cp:revision>12</cp:revision>
  <dc:subject>Slavic hymnal Гимны веры христиан, hymn 567</dc:subject>
  <dc:title>Радость, радость непрестанно</dc:title>
</cp:coreProperties>
</file>