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BCC-78FE-4D6E-805F-77B79763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13C-098F-4F65-93FE-9350DFC9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1B6-A59A-4DC4-BAFD-7B218032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50A-384A-4C1C-853A-5B805EB6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B4D-81F5-413E-9D05-232745B7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893-86FF-4A1B-B67D-EFDFE7D5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296-E8EA-4058-80ED-39B4315E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D5E-4AFE-479E-A057-5AC21B63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190-5E87-4474-B5E4-7A101CB2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E51-9C86-449B-9388-9030616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364-A973-4DC9-8911-1AE81CBC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596-56DD-4006-BB7D-990A9676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49C6B-BFF9-48AC-AA2F-AA0A55DEB04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стырь Добрый ищет бедную овц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 Него погибнет, жаль её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Пастырь Добрый ищ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ахма дорогая вновь обрет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земли и мрака поднята 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им делить веселье всех Отец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был мёртв, потерян, — найден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ет тебя, ищет те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аждет Господь спаст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35Z</dcterms:modified>
  <cp:revision>12</cp:revision>
  <dc:subject>Slavic hymnal Гимны веры христиан, hymn 372</dc:subject>
  <dc:title>Пастырь Добрый ищет бедную овцу</dc:title>
</cp:coreProperties>
</file>