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463E-A5A5-4068-AE1C-7C45D04E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2409-2558-461B-8C9D-256621A3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B6E7-3F6D-48A9-9B9E-6AC3EC3E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4CA-0B46-45B0-AFA8-D119394C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818-DE20-4D74-B6AC-B08EAECA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AAA3-FC74-4BF0-84CE-A2C42E46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7911-728B-45FD-93DB-7616DD16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D6F0-96AB-4235-954D-EA7D68A6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4F17-1AEA-4AB7-9E59-D8E06728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807B-020C-483A-8831-675E12DA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A39B-D58E-4C8C-A9BA-EE6AFB30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727-85DC-4CA9-A8D4-B72BBA5B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98A5A-889A-4217-93DD-6DB64C4123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ень желанный, день блаж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 нам тот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торый дух наш освящ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вечный ко Христу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огу песнь, не умол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, там слышно: свят! свят! св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сем Своим блаженство 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ит Божья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день жела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радость — зреть Его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вечно с Ним в любви од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если здесь любим Он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даст блаженство там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лике душ, Им исцел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петь будем: свят! свят! св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овью ограждё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ли ввек не огорч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аши песни в плоти т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 земной нечист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Он, Творец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в сияньи красо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душою освящ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оспоём мы: свят! свят! свя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вуки песни вдохнов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с Богом славы съедин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3:41Z</dcterms:modified>
  <cp:revision>13</cp:revision>
  <dc:subject>Slavic hymnal Гимны веры христиан, hymn 682</dc:subject>
  <dc:title>О, день желанный, день блаженный</dc:title>
</cp:coreProperties>
</file>