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56E-8A09-49AF-9D3E-C6CE2F9C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442-2071-4162-B020-EE780F5E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08A-1CCC-4168-839C-F57DD03D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A84-29A4-4883-B074-ED5F338B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31B-373E-4506-96EF-A0C85C21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627-C9B3-4610-83B3-36BA914D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289-A62E-43D5-A756-EB9DA53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765-50C2-41FE-828A-BBEC1246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53B-6ABF-4017-9338-7954F85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A86-9A5E-41F7-9754-95AAA5EE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CE2-A6D1-43B4-BF46-7861258E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E9F-E7D9-4AC1-A968-1789821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9D3B3-F72F-4DE6-95BB-FB92720E917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a Father 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only love could make a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, the heavens cr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love was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4   All Fo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sing all fo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join the angel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holy is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glory, King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I broken Your he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still You forgive, if only I 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w many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ve You heard me pr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 near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 a Saviour pray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bba Father, have Your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they know not what the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 cross draw man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, to You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beginning, my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I need i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10:08Z</dcterms:modified>
  <cp:revision>12</cp:revision>
  <dc:subject>The Source 4, song number 1704</dc:subject>
  <dc:title>All For Love</dc:title>
</cp:coreProperties>
</file>