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0A8-6531-4626-AEB1-05EB7296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137-09D7-4EA0-B0D8-90BEE2B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4FF-FE9F-4A2A-9DE2-228421D7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F13-6499-4FA6-AA36-146803DE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382-D1CB-47F3-9CE2-D1CC4B45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00C-17A9-49E2-A7BB-28F922B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1AF-5CB1-405D-97FF-FF9FD84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96A-8B72-4399-B2D2-B6F60C54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E85-AF09-4781-A230-AF8BDE68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0F7-4AB6-4172-8FD0-5EA7EE1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A20-2EBF-44C1-8B23-B25806E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F8D-DDBA-4283-AF02-A2275772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12159-BE62-4E3F-83B9-F8DB72E43C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2:33Z</dcterms:modified>
  <cp:revision>12</cp:revision>
  <dc:subject>Slavic hymnal Гимны веры христиан, hymn 629</dc:subject>
  <dc:title>Я знаю, жив Христос Спаситель</dc:title>
</cp:coreProperties>
</file>