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9200-0348-455E-A37A-A1970B15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0AF-8B74-4BBB-B407-4BC8BBDA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561-A235-4A29-ABF1-01764440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4F5C-BC85-41B5-92E6-05352EB3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55B1-F65E-4984-BF06-DDE05382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6F9-10D4-44E8-8B65-D49210A7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41F-45B5-4713-B55A-5443527F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AD2-A7C7-4E4C-9D8D-BCC56258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AAB-851D-40BE-905B-1D1C2BEB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DDA0-E987-460F-A7E7-F12561FA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72EE-C545-40E0-9207-6317BD47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C25-C530-4C39-9B96-5A52E675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79A1B-864A-4022-A06D-317B952FC2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he Lord is risen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s of men and angels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 Господь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пришла с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aise your joys and triumphs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ye heav’ns, and earth, re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ь Всевышнего хва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небо и зем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s again our glorious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, O death, is now thy s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 наш славный Царь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, скажи, где твоё ж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ying once He all doth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y victory, O gr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Он, чтоб жизнь н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д не страшен нам ни м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’s redeeming work is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ught the fight, the battle w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ый подвиг соверш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врагов унизил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th in vain forbids Him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hath opened parad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, Владыке не меш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крыл всем людям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ar we now where Christ has 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ing our exalted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 крыльях мы ле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свыше, вслед за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like Him, like Him we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s the cross, the grave, the sk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еть с Ним, с Ним о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терпеть, с Ним вечн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0:55Z</dcterms:modified>
  <cp:revision>13</cp:revision>
  <dc:subject>Slavic hymnal Гимны веры христиан, hymn 291</dc:subject>
  <dc:title>Christ the Lord is Risen Today / Наш Господь Христос воскрес</dc:title>
</cp:coreProperties>
</file>