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55B8-4BF3-4CFA-BC86-0323E16C7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0DED-31CB-4139-963F-657D67D6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B80E-FD03-42E4-AD6E-A607871DC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8669-F3EE-41C6-B294-37C7CCB2A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8DF5-1149-4D37-B046-F446D8C7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4181-682F-4F36-8BE0-B96B699A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6954-14A7-4F26-94D2-DEF99A82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29D9-61F7-4467-BA14-8EC816CA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F239-82DA-4BFE-B003-9F015E1F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9FAC-8EA1-4D59-9558-EFF430BE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9061-0DAC-433E-BA2C-5A88EF7E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F3E1-2104-45AA-B2D3-6E566280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9559E-03C7-47B7-B0D2-57636064AE9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 есть я в душ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уя за Хрис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предаю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цели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радостно м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спас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радость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— Спасителя дит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частлив есть я в ду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 через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авлю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ест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Как радо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м бы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лишь у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ье, мир ты найдёш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мирское прой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что ты там пожн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о только, как с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ман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радость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— Спасителя дит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 через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авлю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ест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Как радо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м бы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оту всю нам 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всем обещ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ить Духом Свят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удет всех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люблю Его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тел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радость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— Спасителя дит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асён через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лавлю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ест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Как радо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ым бы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5:55Z</dcterms:modified>
  <cp:revision>12</cp:revision>
  <dc:subject>Slavic hymnal Гимны веры христиан, hymn 604</dc:subject>
  <dc:title>Счастлив есть я в душе</dc:title>
</cp:coreProperties>
</file>