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3E2-E3AB-42B6-8FE1-FB2DDDAA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85D-0E6B-420C-9863-FDA554F8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942-06E6-4AE9-81C8-C7A88D15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DE1-312B-4110-AD4D-8AE963F9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EB5-9623-4E68-A585-6B9F9903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93E-C419-4CE6-9A3C-AF7B9D5A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078-0E21-4873-AC7E-096321B0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82F-F730-4E52-A735-7EAAF4F2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03A-7A5A-4E59-B392-6D3B619A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1F8-097F-4A73-8406-F1E6428C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D2D-966D-4C7F-99C0-46F45229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EE3-A976-4417-84E1-DF2086A3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634BA-E85C-4DEF-BD6D-427BFCDAE35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олнце угас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ревней, за холм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дух мой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олитву пред Твор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солнцем управл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по милости С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дитяти устро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й жизни средь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ли солнце угас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ь планет, небес Влады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мало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, в прелести вели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 бежит, све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мне Отцом открыл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Твой вечный стал мне б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землю к нам явилс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ыл в Едемский с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Твоего дых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чувствую в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Ты моё стен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е всё влечёшь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т день, при всём стар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сполнил я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читал в Твоём Пис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лов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раск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ти, Творец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ерши моё жел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был сильнее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одить Тебе жел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 жизн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 так я поступ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 я того жел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дух мой равнод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и любовь — сло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о сердцем малод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лодна моя мол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достатки замеч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желанье всё силь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ангел, я жела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м от земных стр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ьми меня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я впадаю в с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тех, кто в тайной м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гает твой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верит, кто горд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сомненьи, как в о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учи ты их мо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им счастье, как и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9:53Z</dcterms:modified>
  <cp:revision>13</cp:revision>
  <dc:subject>Slavic hymnal Гимны веры христиан, hymn 766</dc:subject>
  <dc:title>Если солнце угасает</dc:title>
</cp:coreProperties>
</file>