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82A-D749-4BBC-AFDC-C5E500F3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E52D-C2FF-425E-9735-56F0072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2FC-56B3-4547-9D94-A1061ACD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281-3B68-4756-958A-43279430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087-0B6B-4B57-B211-C1772FB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0AB-EACE-4168-99E7-A7DE5264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9EC-E8D6-4067-A60F-040BBE0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35B-62E3-4D99-82D7-92F6DF4C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C3F-21A3-4DCF-A78F-2B545C0F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480-E94A-42B7-BDDC-4AFD89F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49F-F5FB-406F-B2B0-371708B5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7BF-DF85-409E-B9B4-38825EC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7E4EB-1C44-4CDC-BA57-689C66D1FF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hall reign wherev’r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its successive journeys r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kingdom spread from shore to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moons shall wax and wan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доходит солнца лу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доходит солнца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царствовать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ступит вся земля в сою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будет Он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islands with their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urope her best tribute br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north to south the princes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y their homage at Hi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народов и пл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ногам снесут д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знатными почт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б зайдёт в Его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shall endless prayer be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ndless praises crown His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like sweet perfume sha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every morning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молиться будут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ой главу Его вен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ой славе и кр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и будет Он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ople and realms of eve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well on His love with sweetest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fant voices shall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early blessings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анет бурь, уйдёт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мирно зажив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лолетних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«Осанна» вос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e displays His heal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th and the curse are known no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tribes of Adam bo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blessings than their father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цел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аснет смерть, исчезнет ст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ьше даст людским сы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потерял тогда А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s abound where’er He reig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soner leaps to loose his ch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ry find eterna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sons of want ar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ий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живущее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цепи рабства раз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нит ложь и су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ery creature rise and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rateful honours to our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 with song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repeat the loud “Am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— хвала от всех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тдалений, из пусты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енье ангел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емли услышится: «Амин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7:46Z</dcterms:modified>
  <cp:revision>12</cp:revision>
  <dc:subject>Slavic hymnal Гимны веры христиан, hymn 833</dc:subject>
  <dc:title>Jesus Shall Reign / Куда доходит солнца луч</dc:title>
</cp:coreProperties>
</file>