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2828-C233-4FFA-BAAB-619E1B52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D81-A378-4DBD-B974-05AE7984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A90D-AB7E-49E8-8866-D33E3D40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8BE7-5F24-47D4-BC39-D3DD7FFD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F6DA-48B4-41F1-9821-FC429C52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4E36-7F33-4C36-AD18-0A2F39BD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65E0-F5FA-471F-A79B-BF718CA4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BC1A-D4CB-4AC5-8376-E5F85032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F43-F1BE-4A24-9C94-CC12835E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545-914B-4964-ADF1-23FE83E4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C02A-B154-45C4-A6F0-AFE100DD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CEF-5337-49DD-AC73-4AE0DECB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97DA7-C67B-4587-B554-63241427F50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Своих лазур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пящих нас, а бод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н н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ьники горя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их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и ожи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их серд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небес Своих лазур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ебо «Аллилуйя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вся обн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кра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ой озар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ем дни ненас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мир и счаст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нут все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ёзы, и то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ебо «Аллилуйя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вся обн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кра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ой озар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нает как у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редко отдых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нес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нимет наше б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о блаженства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радости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ебо «Аллилуйя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вся обно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крас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ой озар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7:23Z</dcterms:modified>
  <cp:revision>13</cp:revision>
  <dc:subject>Slavic hymnal Гимны веры христиан, hymn 324</dc:subject>
  <dc:title>С небес Своих лазурных</dc:title>
</cp:coreProperties>
</file>