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325B-ED31-4EF8-A34C-EE8E2D3A6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2EFD-F58C-4A17-B955-87CC7486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6ABA-0747-46BE-A883-A94D201E0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9D5E-DCBE-47D6-BC42-AD197FE4B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4AC1-EC71-4F16-B0B9-1269B5F9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1EF7-98AF-4D4C-BE82-DED287B5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A1CF-D75B-4836-9B9F-715F315F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8193-6E63-417E-90F7-CB63D68D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2C82-39E1-4164-BFF5-F99FEEBD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F00B-1716-4794-BD7F-4C252F62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C8C7-629C-4C63-9F36-5CCF16C8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1A03-2547-4F99-8E0A-CFE30D76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CE240-7245-4B21-821D-CA7092FEC97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со Христом на земле я чуж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Господь! Близок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ван я с Господом к доле 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Господь! мой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кать зачем и на горечь взир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же Христос всегда силен спас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 Он меня в Свою славу приня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Господь! мой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4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десь со Христом на зем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я тщетно отрады иск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Господь! Близок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Он вечный мне мир даров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Господь! мой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говорит Он средь горьких скорб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Будет с тебя благодати Мое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ом водимый пойду я см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Господь! мой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ёзы, и труд, и печаль на пути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Господь! Близок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домой надлежит мне до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Господь! мой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мне отрады не может п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 Христа моё сердце отня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в Ком живёт полнота,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Господь! мой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Господь придёт встретить мен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Господь! Близок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уюсь близости славного дн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Господь! мой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ещё день и мир ветхий прой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ник! стремись неустанно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Господь за тобою гряд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Господь! мой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4:10Z</dcterms:modified>
  <cp:revision>12</cp:revision>
  <dc:subject>Slavic hymnal Гимны веры христиан, hymn 446</dc:subject>
  <dc:title>Здесь со Христом на земле я чужой</dc:title>
</cp:coreProperties>
</file>