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B086-2591-4C57-80D3-68CA68AB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6244-A778-4A61-8FD5-91F93CDA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C90-05E5-45AA-A3F1-EEBB053B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37C-75B7-4FB4-ADFE-1DD4A990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A16-29B9-413F-A0F6-F9A57E57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14FB-20D1-4436-9520-458C25D6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8D5A-68FC-41DE-844A-A9C8D32D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FA3-C605-4DAB-A13D-9FC3878A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614-F5F5-4AF4-AF32-EDC0F6C0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AC8-D500-4D96-A2B0-5BF995C4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94F-EC3F-4D21-9826-FC8F909E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3E6-5C6A-491D-9820-66F41976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9D4E1-95D9-435E-A1A0-4F7CDEAE58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обмив, Він обмив,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Своїй Ісус мене обм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обмив, Він обмив,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Своїй Ісус мене обм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гріхи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, що пр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обмив, Він обмив, Він об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Своїй Ісус мене обм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0   Він обм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2:48Z</dcterms:modified>
  <cp:revision>12</cp:revision>
  <dc:subject>Slavic hymnal Гимны веры христиан, Ukrainian hymn 100</dc:subject>
  <dc:title>Він обмив</dc:title>
</cp:coreProperties>
</file>