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AC7-9496-4287-9AA8-59E933C7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2D6-7465-4FC3-A50F-AB1EA673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AE8-8A13-42B7-8D4D-4D068A79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EAD-E1DC-44B5-8E2E-C5B101D6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38B-71F3-4E2F-99CA-DA80DC16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174-3A15-474B-B604-BE42016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EF5-3595-4E5A-83ED-8FCA2164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00C-3E04-4FBD-B4DB-C1874CA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062-14AE-442E-8442-14E184EC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9FC-ADEB-4F72-BFA1-55D1C03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55A-7ADD-416E-8F7E-B69B5BAC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E9D-2BEB-4B21-AF68-5653351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74017-4D32-47AC-A2F3-B87497EF01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67   Holy Words Long Preser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08Z</dcterms:modified>
  <cp:revision>11</cp:revision>
  <dc:subject>The Source 3, song number 1267</dc:subject>
  <dc:title>Holy Words Long Preserved (Ancient Words)</dc:title>
</cp:coreProperties>
</file>