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201-5E81-4780-A3A1-09031821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6DA-DDDD-476D-9356-A0BDC36F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3795-7E62-4969-963C-FEF1A698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CF9-0A06-4F9E-B226-1EB092D6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6B8-69D9-4624-8A6D-5EC516B9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0FD-898E-4B74-89A8-31BEB546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AA3-46D0-4717-B367-75EDAE2C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A2C-76D4-4017-B074-04A824B5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C48-CEBA-4D5C-96FC-89233524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52B-4E46-44D3-BA96-CBC32D8E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2A1-314E-43D0-A5E0-A2D4E4FE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B56-8632-4674-9C59-89AFF463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DB348-9D23-424A-B3B2-08A4519ADE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ухайте вістку святу в просто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и ще маєте ча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м дарує Спас вічне житт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Бог нас навіки простив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3   Слухайте вістку свя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аль стане загублених дн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робиться сумно підчас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що за грішних Ісус кров проли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Бог нас навіки простив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 душі від життєвих спо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яжко буває нер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що безмірно нас любить Ісу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Бог нас навіки простив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від гибелі сп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7:46Z</dcterms:modified>
  <cp:revision>12</cp:revision>
  <dc:subject>Slavic hymnal Гимны веры христиан, Ukrainian hymn 43</dc:subject>
  <dc:title>Слухайте вістку святу</dc:title>
</cp:coreProperties>
</file>