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92B-1F76-453B-B89B-4CDD001A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B60-7E88-4C0D-BCC0-5C033A5B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FE6-8A4F-4263-A12F-C1D5E692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CD4-2047-4BB1-8F0E-15A47EBD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0BF-3144-479E-A27E-388EF96C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405-D1B0-4A6C-864D-3145947F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D487-0392-47A2-91AD-BD248108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A46-8011-4B57-A56E-92FB5D57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E26-ECA7-4779-AAEB-90046F10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008-0143-48D0-BC06-D8B1056F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643-744B-4C13-A85A-69405BE0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5F4-B794-4AFF-AC66-4A287214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7FFF0-7E30-4ED0-B469-D5385460FE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grace and suff’ring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shown me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judgement You rece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ve w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’ve wo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35   At the Foot of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can trade these 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o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ar forgiveness like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to kiss the feet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 am made comple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given m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eath You bor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ve wo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’ve wo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can trade these 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o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ar forgiveness like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to kiss the feet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ade these ashes in fo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ar forgiveness like a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to kiss the feet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ev’ry burden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oot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34Z</dcterms:modified>
  <cp:revision>12</cp:revision>
  <dc:subject>The Source 3, song number 1135</dc:subject>
  <dc:title>At the Foot of the Cross (Ashes to Beauty)</dc:title>
</cp:coreProperties>
</file>