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1</a:t>
            </a:r>
            <a:r>
              <a:rPr b="1" lang="ru-RU" sz="3600" spc="-1" strike="noStrike">
                <a:solidFill>
                  <a:srgbClr val="ffffff"/>
                </a:solidFill>
                <a:latin typeface="Verdana"/>
              </a:rPr>
              <a:t>	</a:t>
            </a:r>
            <a:r>
              <a:rPr b="1" lang="ru-RU" sz="3600" spc="-1" strike="noStrike">
                <a:solidFill>
                  <a:srgbClr val="ffffff"/>
                </a:solidFill>
                <a:latin typeface="Verdana"/>
              </a:rPr>
              <a:t>Знаешь ли битву Иисуса?</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наешь ли битву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ужас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я слезами залью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нив о ранах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ак над Ним издева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аушали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возди так жадно впивали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истое тело Его!</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гненно-красной струё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истекала из р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над притихшей землё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чи клубился тума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от людей прита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в беззакония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как в Страдальца он вп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мертным прильнувши креста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сь я зальюся слез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нив о том, как смотр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 состраданья глаз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Кто за грешных терп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умирая, мол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аспинавших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беспредельно том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уках конца Своего.</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посмотри на Иису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зко Он свис со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я слезами залью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помнив о смерти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понапрасну лику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ёмные силы враг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но они торжеству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ный соткавши покров.</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Взглянь на зарю воскрес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имнам хваленья вн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ишь, выходит из тл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ый Спаситель з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бой немой задыхая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ев поражённый л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овцам любимым склоняя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стырь Собой их хранит.</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6:15Z</dcterms:modified>
  <cp:revision>3</cp:revision>
  <dc:subject>Slavic hymnal Гимны веры христиан, hymn 271</dc:subject>
  <dc:title>Знаешь ли битву Иисуса?</dc:title>
</cp:coreProperties>
</file>