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52C-8ECA-4062-A956-82CF7AFE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59B-58D2-4B27-9429-B9D1E7C8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692-82B9-4939-9B6A-2CA96781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FE1-09DF-4315-9EC4-C7419AE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0F7-4C3D-4167-AAD2-25096210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827-FE73-4042-94D4-FBADDFC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3C0-035D-4EBF-B8BD-DB8ECE0D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2DB-74D5-4598-A9D0-1574E8A2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FAA-1E52-497D-B8D3-71D93967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832-32F2-455B-AB82-B5DE9A00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24B-6A22-44B8-8EB2-277AC702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402-EE4E-4F32-A7FC-CB430DD4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D2FEB-A605-4A13-BBE6-EC62069B2EB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, You a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uch more worthy than I’ve kn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ima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ust how glorious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deep a love You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7   Worthy, You Are Wo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, I give 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One who saved my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found me and You free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shame that was my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cannot begin to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erciful You’ve b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my ears have heard of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now my eyes have s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worthy, You’re wort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praised, for ever and a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, Your glory reaches hig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igh above the heav’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45Z</dcterms:modified>
  <cp:revision>12</cp:revision>
  <dc:subject>The Source 3, song number 1637</dc:subject>
  <dc:title>Worthy, You Are Worthy</dc:title>
</cp:coreProperties>
</file>