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28A5-4BAC-4B3A-B094-A54A9420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7383-F94A-4BB9-A022-D0BF9657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2BC-5B1A-4D79-B6BB-E1E4BDCE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C7BF-3A35-48E3-86F7-9832C97C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93F-6D7F-4EE1-B865-78B657F1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24FC-2080-429F-AF10-F548F976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900-94BB-4DF8-B3D8-92734BE7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5A02-C963-4D31-A3C7-0B515A80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D11-0FBF-40C3-9AF9-7179D043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DB37-2F5A-4A9A-8BE8-7E484D5C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D4A3-8733-425F-9F1F-23E586EC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421-9460-4149-A305-0213A1A5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DFA5A-60F6-46DC-AB45-25FAE3EAB2A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дружнее, брат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туда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т слави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скоро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сердцам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то Христа не прин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кой тот не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перёд дружнее, брать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, в небе ждё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есть наш светильник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переди 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ть наш напр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кою средь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осподу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ится впол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будет с Ним прославл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ещан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, в небе ждё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ого наших брать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ится уж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у иску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ан покой сердц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о там же бу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оржеств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же в мире плак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нам уны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, в небе ждё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ждёт нас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4:29Z</dcterms:modified>
  <cp:revision>12</cp:revision>
  <dc:subject>Slavic hymnal Гимны веры христиан, hymn 687</dc:subject>
  <dc:title>Вперёд дружнее, братья!</dc:title>
</cp:coreProperties>
</file>