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а</a:t>
            </a:r>
            <a:r>
              <a:rPr b="1" lang="ru-RU" sz="3600" spc="-1" strike="noStrike">
                <a:solidFill>
                  <a:srgbClr val="ffffff"/>
                </a:solidFill>
                <a:latin typeface="Verdana"/>
              </a:rPr>
              <a:t>	</a:t>
            </a:r>
            <a:r>
              <a:rPr b="1" lang="ru-RU" sz="3600" spc="-1" strike="noStrike">
                <a:solidFill>
                  <a:srgbClr val="ffffff"/>
                </a:solidFill>
                <a:latin typeface="Verdana"/>
              </a:rPr>
              <a:t>Благословений поток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обещал ниспосла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ним, чужим и далёк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небесную да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освежат, оживя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вы, холмы и дорог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знью опять закипя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свыше пошл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ом Твой веди одиноки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м больных исцел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наполняют весь д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вствуем наши пор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ем ниц пред Христо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Благословений поток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в Своё время пошлё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во свете мы ходи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Он с нами живёт.</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еба польются дожд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дают капля за капл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потоков мы ждём.</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2:07:50Z</dcterms:modified>
  <cp:revision>5</cp:revision>
  <dc:subject>Slavic hymnal Гимны веры христиан, hymn 11 (as amended)</dc:subject>
  <dc:title>Благословений потоки</dc:title>
</cp:coreProperties>
</file>