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F46-2CD0-4EB3-907E-D4753C9B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111-93CC-48A8-AF2E-CACA91CC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BF8-BEF5-4478-B485-609010AC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357-D783-4B94-8E9B-CD55C9FA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1A1-2C58-4C80-A93B-282D9ABD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A50-A693-467F-9E6E-3460D97E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EE0-3D0D-44BB-BC63-11BEF490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9D3-7FCE-43F0-88EA-DD11E3C7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092-0177-4CCD-91F6-9DBD8B18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B06-556D-4C04-B693-172E3F2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39F-3979-4011-9083-6274532D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38A-051E-4895-A4C0-C5BE13D9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A169A-4711-4AB8-906F-2678E88397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servants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follow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Master has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 к труд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ги Господа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пойдём, чт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Сам пр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robe and a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our labour re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небесн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итс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рует вен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home of the faith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dwelling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out with the ranso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обитель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одвор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и песнь вос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balm of His coun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ength to re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do with our m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our hands find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овета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нас напр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илы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обно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hungry be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fountain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ry be 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чущий хлеб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жаждет, к источ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 and its b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lory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herald the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мы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слугой сво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ork! To the wor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abour for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kingdom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rror shall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мрака и лж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ь должно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love of our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xalted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ud-swelling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is fr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ославить дол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ржеством воспе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ристом спасе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on, toil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hope and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bour till the Master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 труду! Все к тру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ты и мо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наш 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6Z</dcterms:modified>
  <cp:revision>13</cp:revision>
  <dc:subject>Slavic hymnal Гимны веры христиан, hymn 525</dc:subject>
  <dc:title>To the Work! / Все к труду!</dc:title>
</cp:coreProperties>
</file>