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784-E00B-4E4F-9035-4B3962BA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67D-0B7F-445C-818A-003E1040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D92-4C47-444E-AEAE-571D0E82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58E-3107-4293-8814-AF967318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01A-445D-4F75-82B6-DA28762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70D-7758-404F-A2A0-6369FF67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E91-353A-44B7-82E1-2ED36951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254-0552-4711-8533-8704D52B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E6C-9BFB-49D3-86FA-8E1B3515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71F-473F-4B1E-AA96-7F5E6150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744-C7A4-4D0A-9DD9-D49EA021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719-5AEF-4CD0-89D7-F23CC74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D831D-529E-4BB2-A7C3-90BBDB3479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my Redeemer live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s prepared a plac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rowns of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ose who would His children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, жи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жив Христос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сто дать мне обе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верь открыл мне к жизни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дом Божи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десь я только жду призы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 за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озьмёт меня от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ведёт меня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trusting Jesus Christ for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His blood now speaks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listening for the welcome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ay: “The Master waiteth the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цело сердцем доверя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распят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су Его вним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ходи! Я жду теб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now enraptured with the th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nd wonder at His lov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from Heav’n to earth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ie, that I may liv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беждён Его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страдальцем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ask me not to linger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sinful, thoughtless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only waiting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ar the summons: “Child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может взя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ук Спасител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текал пречистой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мне смертью крестной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Jesus soon will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e time will not be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shall reach my heave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oin the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придёт уж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еня туда возь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од лучом Христова вз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навеки вос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52Z</dcterms:modified>
  <cp:revision>13</cp:revision>
  <dc:subject>Slavic hymnal Гимны веры христиан, hymn 629</dc:subject>
  <dc:title>I Know That My Redeemer Liveth / Я знаю, жив Христос Спаситель</dc:title>
</cp:coreProperties>
</file>