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27E-BBA5-4542-ADF4-4DF6EB5C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183-F651-41D0-B47D-7D96739C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E12-10A4-45A5-B7C8-AE2CE351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0BE-ADDB-4621-A81E-6F73CC3F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0C1-3100-401D-8A09-01543D7A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A8C-C4CC-47BF-A0E5-0D573631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C51-4219-4A33-BCAE-76FAC483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708-CC10-4C32-8431-D8ADC6AE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80A-814D-4580-8E67-06F81DF4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715-3F4D-4BDC-A186-DB96FEE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2B9-1F53-43DF-85EC-29B088B4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056-D622-4C7B-A3EC-6178EF5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30424-F9D2-4055-87C3-12E3BA67B8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гробе Он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я славы ожид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гробе Он леж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стерег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печать кладу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побежд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 расторгае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Он вос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илы вражьи Он поп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, над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одерж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им вечно царств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х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8:53Z</dcterms:modified>
  <cp:revision>12</cp:revision>
  <dc:subject>Slavic hymnal Гимны веры христиан, hymn 288</dc:subject>
  <dc:title>Во гробе Он лежал</dc:title>
</cp:coreProperties>
</file>