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B6B-9AD4-4210-8DE5-CBE08B26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D66-4650-49E2-9154-98BCC6C6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CF3-DF1C-4322-BD73-CFD72EF1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0CF-00B2-414D-A190-47EEAA55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5EF-2A24-4085-9532-3D0F689E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653-601B-461D-AE5E-7FF97FDF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FC2-4ACE-49B3-9645-C8C62C05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BF7-3442-4191-8F9B-AB91951B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9EA-DE20-4229-A0CB-9131E4EE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C08-B9DC-410F-8B0A-CD97BBAD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396-D011-49A3-8B27-D3A27D1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3FB-5BE2-456D-B949-37EAC651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DA842-EEDD-4EF9-B7AC-D3269B0CB8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ет, бушует и не уним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тая вьюга, как з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-то рыдает, из сил выби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 горемычный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о, в подвале каморка уб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лодно в ней и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й лишь два стула да ко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ёхног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егом окно зам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ет, бушует и не уним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риумолкнут, то снова в рыда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они разом нач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не знают, что мать без с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мочка!» — громко зо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Холодно, мамочка, холодно, мил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мочка! кушать хоти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ь уж не слышит их песнь уныл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ьюга доносится к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 мой, Боже, о, где ж сострад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людская любов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безнадёжных одно уп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! спаси бедняк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8:47Z</dcterms:modified>
  <cp:revision>12</cp:revision>
  <dc:subject>Slavic hymnal Гимны веры христиан, hymn 779</dc:subject>
  <dc:title>Воет, бушует и не унимается</dc:title>
</cp:coreProperties>
</file>