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82E-20F2-40A2-A5F3-5313B0E7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649-6E1B-49D8-910D-6E538D6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9DA-961A-46FE-A67C-B1A2F110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2B9-1DE7-4309-AAED-3A9DA40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CF6-852C-497E-B23E-6AAB518E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9C5-BBA4-4E55-BC4B-A5C640D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FA1-C0C2-4AFC-B7D1-558A3CB1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090-212C-4F36-8F36-90E044B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7E4-4139-4620-B010-1C377574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AC0-B8FF-48E0-9C85-AFC84945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689-9195-439D-8FAD-855391D2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3FE-9178-46DD-922A-D74969E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A297-4F9F-49E3-87A0-A5C07774B1B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веки жить буду я с Н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бес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показ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теперь Его Духом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подвластен Хрис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изобильи Он всё мне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 я в мире не 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мой щит от врага и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 слово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оих Он в свой час забер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бес вы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 шумом земное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двластен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жизнь даро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век не остави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 Ним вой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ай, что Он зав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жить в свете вечного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2:52Z</dcterms:modified>
  <cp:revision>12</cp:revision>
  <dc:subject>Slavic hymnal Гимны веры христиан, hymn 598</dc:subject>
  <dc:title>Я подвластен Христу</dc:title>
</cp:coreProperties>
</file>