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6EE-54DB-4807-BA52-0D601B4F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42D-EDCA-45C3-B659-BA8BCC42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490-68B1-43ED-945B-8D441A36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218-BD61-459E-9914-644A2A20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FCD0-9151-4573-A637-DF93B021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65AA-6B83-4E08-8CFB-072C7D46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817-E284-490D-965A-11CFF17E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185-0628-4AC0-AF99-46B52A37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B04-92E6-4F58-9C7B-DB4B9F23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AAA-9EBC-4923-BBAC-65F6611B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9F3-08E8-4616-8E21-932B5C4B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F56-382B-48F6-8BB9-9642FF37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99632-6690-4169-B87D-63BF5CF576D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not skilled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will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od has plann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nly know at His righ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ands One who is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80   I Am Not Skill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ake Him at His word and d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died to save me, this I r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my heart I find a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Him to be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ould leave His place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for sinful man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unt it strange, so once di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I knew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oves, my Savi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’s always the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 was, my God He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’s always gonna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living, dying, let me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trength, my so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is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ho lives to be my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ce died to be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He would leave His place on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for sinful man to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ount it strange, so once did 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I knew my Savi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oves, my Saviour li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’s always there fo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 was, my God He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He’s always gonna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, my Saviour l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, my Saviour lo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24Z</dcterms:modified>
  <cp:revision>12</cp:revision>
  <dc:subject>The Source 4, song number 1880</dc:subject>
  <dc:title>I Am Not Skilled To Understand (My Saviour, My God)</dc:title>
</cp:coreProperties>
</file>