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22D-113C-4CAA-B59B-5836E2E7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3F9-DF21-40EB-B364-1192FCF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6B2-3CCB-489A-9699-818FC7E7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2AA-A1F3-45D6-8059-89F5AB38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938-473C-43EE-B687-9A53A23C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71F-FA4B-4D67-B319-0E1BCB5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CB4-C19C-43E3-BDB0-D4398422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854-D8D5-4D24-8C0B-EAADFD4E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4F7-81CE-44EC-9D7E-FE497C0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D44-185F-4E0A-8310-1AD62F1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4A8-A086-4FA4-B19F-33C0159A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88B-4B05-45CB-A835-5A28186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C0604-03DC-428C-8207-A04A62545E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олюбив Бог сві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дав С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мер Він на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ріхів щоб нас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буд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’явиться Він з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а є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2   Так полюбив Бог сві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24Z</dcterms:modified>
  <cp:revision>12</cp:revision>
  <dc:subject>Slavic hymnal Гимны веры христиан, Ukrainian hymn 72</dc:subject>
  <dc:title>Так полюбив Бог світ</dc:title>
</cp:coreProperties>
</file>