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2429-D543-4076-B94D-BEDC2BDE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2047-06F0-480F-8316-D47068BE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1B12-DB8F-4546-9F0C-BDDC4B41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9794-5207-46A6-84A9-219F6A2C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6FD8-4823-464E-9FEA-0A78451C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E969-8474-4B07-8F8A-9AE55AAB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45FE-00E0-4073-ABA4-60EF0F9A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77D6-90E2-4CA8-9CED-0A3D3D89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BC81-06D5-4E92-A050-C25B5A9A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E9D-FAD1-46F1-84AB-C73E8EBA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1DF4-066B-453F-8BB9-03E1749B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095-E61A-4625-BDD2-6FD299D6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C6E02-C928-4DB3-A937-3404AC8A58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hink of the heavenl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white-robed angels 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any a friend is gathered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fear and toil and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я мыслить о ст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ангелы жив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яркой снежной белиз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hink of the heavenl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y Redeemer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rapturous songs of triumph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ndless, joyous str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г любви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краше лилий по вес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 радости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hink of the heavenl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aints’ eternal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palms and robes and cr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’er f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our joys ar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утники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вши кровь в святой вой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побед на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hink of the heavenl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promised land so f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my raptured spirit lo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forever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мыслить о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осле битвы з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ют вход свободный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найду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ll be no parting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не будет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7:20Z</dcterms:modified>
  <cp:revision>12</cp:revision>
  <dc:subject>Slavic hymnal Гимны веры христиан, hymn 816</dc:subject>
  <dc:title>The Heavenly Land / Люблю я мыслить о стране</dc:title>
</cp:coreProperties>
</file>