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2B1-001B-4FFD-B788-315EADD9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070-C5F6-43B2-B8AB-5C6327A5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AE2-2246-430E-AC5A-DC0C473F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BE9-225E-403B-AC62-4A855E14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D253-A583-4DE1-BEBA-EC6E7BD9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216-61A1-4ED6-A150-F0A727D2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5ED-501F-468A-BA70-02E1D5EE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E55-21B4-472C-8411-1DEDA33E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D56-72D8-497D-97F5-833AC31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E5A-1047-4562-A701-C2D21BF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5BF-A76F-4177-8797-310B47BF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5CD-A420-4F85-A970-D00D31F8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C8AC3-7F87-424C-81AF-CF4A907941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5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Is Good All th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’re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are shadows all a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not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guid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keep you safe and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He has prom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never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r forsa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word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ere sinn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un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for us He chose to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ed u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oly Spir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can stand and tes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is mer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will never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may not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plans You hav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life is in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eyes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clearly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put a song of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heart of mi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 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darke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ight will s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God is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ood, He’s so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4:51Z</dcterms:modified>
  <cp:revision>10</cp:revision>
  <dc:subject>The Source, song number 125</dc:subject>
  <dc:title>God Is Good All the Time</dc:title>
</cp:coreProperties>
</file>