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C97-2740-467E-B19B-A5BA7C95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620-9893-4F34-AD9C-6E2C7440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556-F045-4FD9-AD62-55B3529B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4FF-4661-4BC0-8519-A7A26AE3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B03-82FA-4311-97F4-151050EF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447-D499-427E-8132-BDA91E47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C14-023B-4FDA-946D-984E5447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2F2-5AAF-44C5-AFF4-B29CF545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998-B2BF-43F2-94A6-658FE57B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D48-8886-4B0E-AE38-6C08EB72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88F-8301-41CC-AC93-02759CC7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A89-F3CE-4100-91BE-9DC40AB2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94B80-8714-4E9E-9CE7-DFA9326235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ангелы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яркой снежной бел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мыслить о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г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краше лилий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 радости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утник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вши кровь в святой вой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побед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сле битвы 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ют вход свободный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найд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3:28Z</dcterms:modified>
  <cp:revision>12</cp:revision>
  <dc:subject>Slavic hymnal Гимны веры христиан, hymn 816</dc:subject>
  <dc:title>Люблю я мыслить о стране</dc:title>
</cp:coreProperties>
</file>