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26E-2E65-4188-934F-703F21BD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87A-6120-47CF-BE2E-B8E63A0E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191-C3FB-4452-B9CE-EAC4E0D7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DAB-9725-4069-BB61-F8419766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013-7262-409C-A25D-36CAD398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3DE-278E-476F-A1EE-7E33955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2E5-337B-4650-B1DF-1C51CB7E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35-9430-4530-85F6-A0AD473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260-98CA-4CED-AD72-F4EC98E4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35B-86BF-4C23-B0DA-8D4C37C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450-B145-403D-8F04-5A07189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1E-701A-43BA-A96B-EAD6FF36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4FDE1-D819-4DA7-BAFC-B86010E07B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себе спас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крылся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еня на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окоил Сам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теперь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уши моей смут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людей прих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ою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ашёл себе спас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 пути у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 Его пр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вечном я на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 Ним я гов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го беседы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не отверг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жалоб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ужде моей случа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мне даё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несчастье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аняет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к спас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вно прост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узнать хо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ра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ставьте вс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йтесь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душе реш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любит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держит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00Z</dcterms:modified>
  <cp:revision>12</cp:revision>
  <dc:subject>Slavic hymnal Гимны веры христиан, hymn 636</dc:subject>
  <dc:title>Я нашёл себе спасенье</dc:title>
</cp:coreProperties>
</file>