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8B10-29DD-405A-A6A7-703F874E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97F8-A3B9-424C-96CF-C5B3C477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395-F415-4210-98F4-D162076E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E30D-A9CB-4EAC-B763-78F7A091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6DBB-5F28-4831-9DB2-76EF5743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3939-7CC5-48D6-B5A6-6BB02C38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A5BF-27F2-48EC-92C1-8E6B954C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943C-EAF3-4DDD-A1AF-909E4AFF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5C9B-E79C-441B-8E98-6F939233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910D-EF19-4291-BD0F-725A8B75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6E40-D05A-41C2-98DA-BBC71D62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FC44-CDF3-4AD9-B52F-ECDC7E15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6F5C3-7E7F-4870-A551-DB42B8D38B6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иши ночной среди по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ночи мрак исче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тели ангелы с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ть песню для люд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ир на земле! Господь посл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лог любви свят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 в безмолвии вним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й песне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тиши ноч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тают ангелы с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лночной тиш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р несут благую 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адостной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, где горе, плач и с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ат они с хвал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глушит наш Вавил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песни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, под бременем заб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гбённые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рудом идущие вперё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есные к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ите, новый день спе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чудесной быстр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майте с радостью в ду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й песне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наступают дни, к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ждётся челове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ут и войны и враж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славный 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оцарится на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олкнет бури 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ьются все сердца в хв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й песне не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8:24Z</dcterms:modified>
  <cp:revision>13</cp:revision>
  <dc:subject>Slavic hymnal Гимны веры христиан, hymn 795</dc:subject>
  <dc:title>В тиши ночной</dc:title>
</cp:coreProperties>
</file>