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804-FD19-4474-831F-9D49C22F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1E1-5B89-41CA-B49D-E920315D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429-E22E-417E-8D25-48CBF7E9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184-3B20-413B-AE6B-C9F9A201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9DB-437D-4DCB-B319-E8CF5E67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725-53CC-4A05-AFD1-E377FE5B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B07-6EB6-40B6-9226-64B490AE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CB4-BAA9-49D5-9C03-5EC3BB3F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1FF-A17B-4362-9BF3-8C3A133A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4F8-E3DF-4FF8-8F12-936A9EAA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07A5-A31B-4D88-AFAD-A6F2687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DA4-BAC3-4258-AB17-9864CA35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56DCF-DF64-4401-AD13-D720200D502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де невірний та серцем лука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ді вже Бога Святого гніви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ді грішити, неправду твори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реба вже Богові вірно служи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ога ― велике це щас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вжди повинні про це ми подб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і тіло на Божеє ді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повинні Йому ми від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9   Роде невір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подивіться на Божеє ді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о страшнеє Він всюди т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океани для Нього слухня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діють, що Він їм ве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ива дозріла, робітників м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ця велика потрібна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асу не гайте та з Богом руш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вам поможе усяким до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ті люди навіки щасли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і мамоні служить відрек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і в кайданах ― гріховних тих ран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ли рабами у неї ко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яка велика Тобі, наш Влади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и будем Тебе усі 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Твого Сина гріхи наші зм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вільнила з тяжкої тюр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35Z</dcterms:modified>
  <cp:revision>12</cp:revision>
  <dc:subject>Slavic hymnal Гимны веры христиан, Ukrainian hymn 59</dc:subject>
  <dc:title>Роде невірний та серцем лукавий</dc:title>
</cp:coreProperties>
</file>