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2D1-D18E-4218-B64B-49CD990D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139-39EC-4A1B-9132-170CA77A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6B5-669B-4A8E-99AF-21DF4889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ED8-8475-4931-96E8-B37DB4CE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BB8-97A2-421F-A162-9FF40B55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962-94E8-4135-83F6-69541699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D89-866B-499C-8ABE-36EBE9A2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92F-9E67-43F8-8E0D-DFD2E060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1B8-BD39-4B4D-A866-5B55E87E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A6B-3DD8-45F7-B85D-760D621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FCE-3D7E-40AC-A587-C9E5FF3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447-861A-4D0A-8F07-39086500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06829-D117-4E7E-B732-CA0F20ECFC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n it be that I should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int’rest in the Saviour’s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ed He for me, who caused His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, who Him to death pursu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гу ль постичь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ль постичь любовь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 Его крови свя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ль Он умер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был Ему чуж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I approach th’ eternal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aim the crown, through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ld I approach th’ eternal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aim the crown, through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в пути, а, на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мне золотой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!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, my God, shouldst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!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, my God, shouldst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― побед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а меня страдал Сам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mystery all: th’ Immortal 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can explore His strange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vain the first-born seraph 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und the depths of lov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айна, глубже всяких тай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винный злыми умерщ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огрешивших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ом Небесным утвер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! Let earth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ngel minds inquir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! Let earth ad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ngel minds inquir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да знаю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ft His Father’s thron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free, so infinite His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ptied Himself of all bu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d for Adam’s helpless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 в небе С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грешникам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чижил, смири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на казнь, нас воз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, immense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, O my God, it found ou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ercy all, immense and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, O my God, it found ou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а нашл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my imprisoned spirit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 bound in sin and nature’s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eye diffused a quick’ning 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ke, the dungeon flamed with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в темнице изны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цепями скован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небесный свет посл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вы крепкие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fell off, my heart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ose, went forth and followe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fell off, my heart wa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ose, went forth and followe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милости я стал друг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лся, встал, иду за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condemnation now I drea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and all in Him, is 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ive in Him my living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thed in righteousness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сужденья, не страш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за меня свершил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мой Спаситель и Гл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знь дают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9:35Z</dcterms:modified>
  <cp:revision>12</cp:revision>
  <dc:subject>Slavic hymnal Гимны веры христиан, hymn 881</dc:subject>
  <dc:title>And Can It Be That I Should Gain? / Могу ль постичь любовь Христа?</dc:title>
</cp:coreProperties>
</file>