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08F-1E8D-48B8-B255-5108B7A2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BCF-451F-4C72-B5D0-7C473015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507-5718-4D66-B211-4070AB8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D2F-0E9C-43DA-A066-6A41F67F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BA7-BDC1-4106-B236-472A7C9F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5B9-BEA0-49F1-8DE3-3D7E858C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206-BA60-4AF8-8F45-70BB89DF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61B-9C94-4150-BAE0-BAC1EFAE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495-BC95-4761-AE87-62713242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8A5-7D9D-4180-9DBE-60DAA0E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7FF-6BC9-4772-A7CB-6C6ADC60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6ED-DFDA-492D-B084-E84C8D2A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11A5B-A39A-48E5-857C-00D0599C0E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л я на новую дор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ьмы тернистый путь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дали небесного черт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живитель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ёк тот чудный и прия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моим живительны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меня в дороге тру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йти мне в Отч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ышел я на новую дор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еной, как волны у примо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-то страшно стонет и ре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от, не знающий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назад мен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азад я не верн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й путь и труден,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аких препятствий не страш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еди лишь был бы огон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чил я всё своё им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им, как есть, иду к От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верю, верю без сомн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заблудшую ов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5:29Z</dcterms:modified>
  <cp:revision>12</cp:revision>
  <dc:subject>Slavic hymnal Гимны веры христиан, hymn 440</dc:subject>
  <dc:title>Вышел я на новую дорогу</dc:title>
</cp:coreProperties>
</file>