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70CE-23D9-40BE-BBD5-D752A92B0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AD30-A15B-4238-83B9-1E7CD7DB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3009-CD98-401C-9176-89C720C9C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2089-A90B-4B9D-ADCA-404471A6B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4F16-65E6-4849-898A-0A3F14CF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8151-634D-44FB-B28F-3892526E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C658-6125-4A32-9C60-0193990E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9C2A-2B4A-435B-B60A-5EB0BB15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8DB8-0F22-495F-A91D-58E4469C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201E-97D4-4455-825D-3153B71C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6CA8-A7A6-4057-9F5A-B6481608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339D-E78A-4C72-8823-21549A5A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A2CB9-DF5E-4D41-8E61-3AF6001FC22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Спаситель с небес к нам нис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у плоть на Себя восприня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грешную землю со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 раба ныне скромный приня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, слава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нам всем Он принё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нам всем Он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т, Спаситель с небе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на землю Господь Сам со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 почёте, не в царском венц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 чертоге, не в пышном двор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пещере приют Он обр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, слава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нам всем Он принё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нам всем Он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с надзвёздного трона со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Владыка, Господь и Творец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место радости — скорбь Он на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пасти Своих бедных ов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, слава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нам всем Он принё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нам всем Он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15:40Z</dcterms:modified>
  <cp:revision>13</cp:revision>
  <dc:subject>Slavic hymnal Гимны веры христиан, hymn 229</dc:subject>
  <dc:title>Вот, Спаситель с небес к нам нисшёл</dc:title>
</cp:coreProperties>
</file>