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140-E9FF-4348-A436-37E6AB8C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96F-31C4-4BE8-ABEF-9D18B2A5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ACB-D2D2-483E-A7C6-140EE900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C42-C167-4239-B69B-A15C41C4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9B0-F43C-4066-90DE-E6611BF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342-681A-4315-B38F-6590B3B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A57-4FCB-4A0C-93A1-F67FC4AD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8AF-222F-460E-959E-193AF24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BEA-C74D-4F4A-AB92-ED5061D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652-1B01-4EB6-8223-01BB7B3E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1D1-83DB-4341-8FFD-845218A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E3E-137A-4821-B354-90C5347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7C2A9-6BBB-43AF-8E77-E30408E1E5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9:25Z</dcterms:modified>
  <cp:revision>13</cp:revision>
  <dc:subject>Slavic hymnal Гимны веры христиан, hymn 644</dc:subject>
  <dc:title>Господь, Ты Сам меня ведёшь</dc:title>
</cp:coreProperties>
</file>