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03E6-0B63-4262-97AA-3B464D769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4EFC-C914-4EE2-94DE-11A14A33B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C7A8-15A7-4602-915E-471597C42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31FC-36D6-44D0-A370-AE942DB6E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F43A-6323-4C63-8122-3DA4CD147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FCE9-0066-4CE1-BC2A-CCA74D78D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AA7E-8D7B-46F5-A17A-20E5AF629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7C2E-8595-4506-B86B-ADBEF0126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5776-9095-4874-B1BC-BCA1CF771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A533-9CF7-4C15-920A-76F892B8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EFD5-64DA-41C8-BF99-DF8C1D4D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2E6D-20BE-433A-91DA-12D40342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B40145-668F-412F-A46D-841C27F7E3B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горит ли свет т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душою смерт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евая светочем ночную тен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едует она за ним стезёю светл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овершенный Божий ден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5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рат, горит ли свет тво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рат, горит ли свет т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пол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еваешь ты власть ть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рака проч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шь ли ты грядущий слав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Госпо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дрствуя весь день и ноч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, горит душа тв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гнём небесн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авая грешникам во тьме усну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вляешь ли ты 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от край чуд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казав им верный пу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рат, горит ли свет т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пол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еваешь ты власть ть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рака проч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шь ли ты грядущий слав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Госпо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дрствуя весь день и ноч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горит алтарь т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храме непрестан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пусть тво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ю к Богу льн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горит свети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ы постоян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солнце не вз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рат, горит ли свет т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пол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еваешь ты власть ть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рака проч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шь ли ты грядущий слав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Госпо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дрствуя весь день и ноч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0:55Z</dcterms:modified>
  <cp:revision>13</cp:revision>
  <dc:subject>Slavic hymnal Гимны веры христиан, hymn 558</dc:subject>
  <dc:title>Брат, горит ли свет твой?</dc:title>
</cp:coreProperties>
</file>