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12D-04DA-47AC-9126-492F8FFF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D936-58C5-49F4-94FF-A7D12EE2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79D-31EB-4B1A-8A5B-3F35B521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FE8-FC2B-4A0B-B059-6914E3B2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0D4-ADB5-4722-83AF-224BE00D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F6A6-386A-4278-A2A3-C4DFA27E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3B58-7450-4DDA-A96E-3E3E481E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85E-41AD-438B-B74F-D074570A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B24-8A03-4B12-B3EA-D0A3E96B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D5B-15C4-4530-97E3-C9949B0D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F8FA-48A8-4987-BEE2-E0454F30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CBCE-A4B3-4E9A-AD70-942650A2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33F82-F7F0-484B-9591-9E6E731C9FE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ёны с мужья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ёны с мужья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ёны с мужья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, день тот уж близ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с родны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с родны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с родными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стка с свекровью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стка с свекровью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стка с свекровью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и сёстры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и сёстры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и сёстры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и с паствой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и с паствой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и с паствой разлу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день тот уж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великий, стра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станут пред су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десь посеял, то там пожн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десь посеял, то там пожн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десь посеял, то там пожн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,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4:13Z</dcterms:modified>
  <cp:revision>12</cp:revision>
  <dc:subject>Slavic hymnal Гимны веры христиан, hymn 317</dc:subject>
  <dc:title>Да, день тот уж близок</dc:title>
</cp:coreProperties>
</file>