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DBF-0CC9-41B6-BC6C-37324B8A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BA5-9977-4A7C-A278-DC32E477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1D0D-40D0-4F9F-926F-27670A62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06F-0A9A-41F3-B993-8009E3EF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48E-F5CC-4097-8191-05B396F1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837-F0B4-458E-A343-B97D9F22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C82-62D2-4D0F-93A8-414F1AD8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FB7-2032-4C10-BD62-CA8CC96B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20D-FCDC-4CDD-AD7C-E8E9F7AB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50B-7984-4E36-BE33-B12A9D92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9FE-6D47-4293-B432-EB459077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BC0-AB7A-40F5-9E8E-384B994C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3C407-23AC-40AB-8EFB-3CD110339C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dying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ough hope of vic’try is d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faith defending and never b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forsaking this world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ь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с Ним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ую долю можно ль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смиряться, стоит боро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за это мир весь от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 though life is br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ing death’s shadows, sorrow and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triumphant, never despond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at last our crowns we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краток хоть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далёко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я, не уста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трудиться пусть нам не лен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conquering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the cross ’mid mock’ry and d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’s journey ended, our tent up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everlasting we’ll then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для Иисуса, грех побед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поношенья бодро сн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ив путь жизни, чтобы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й бессмертья венчанн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8T07:52:59Z</dcterms:modified>
  <cp:revision>14</cp:revision>
  <dc:subject>Slavic hymnal Гимны веры христиан, hymn 468</dc:subject>
  <dc:title>Living For Jesus, Dying With Him / Жить для Иисуса, с Ним умирать</dc:title>
</cp:coreProperties>
</file>