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A94-1C6B-44E9-A1B1-45F82136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04B-7D66-4E91-A926-E5B57EC9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20F-4651-48A6-8120-8F06C13E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357-EF12-4754-B86E-E4F137DF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680-AECA-4C05-B5ED-55C0AFCD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78C-1ADE-4362-9B0E-8628184B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EA1-ECB1-4721-BFC5-FA090310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E0F-5D3A-4326-BB18-6934264D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1F3-9E02-4E2E-96B8-12CD67F0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399-93B6-4FF9-905E-81CD4442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842-ACE0-4617-B64F-AFBE6FC6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DF9A-1CF1-47D6-8EAB-55EC4080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F11DA-3B66-4166-B064-D621B7514B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холм зелёный там в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родской ст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распят был за грех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ем мы спас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холм зелёный т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муки пере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м мы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, что страда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нам дар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умер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прощень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, предав себя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по Его сле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й Он достоин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грешных искуп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та небесные лишь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людям от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0:46Z</dcterms:modified>
  <cp:revision>12</cp:revision>
  <dc:subject>Slavic hymnal Гимны веры христиан, hymn 418</dc:subject>
  <dc:title>Есть холм зелёный там вдали</dc:title>
</cp:coreProperties>
</file>