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C497-A374-47D0-8252-757CE0BBE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C5D5-4DBA-4F19-ADC2-9E6E8775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B574-DEE3-40A9-8B61-534284854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D8F5-E459-47A9-90DF-A8D455F44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E6B7-8778-41EC-8FBB-15C9EE7B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BC1B-662D-427D-8126-D9296A98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6C0F-ACD2-4224-A087-83740D34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18D8-2C39-46E5-A40C-662ADCEE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CB25-FA01-4727-B26C-73434A4E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E8D5-FA51-4878-A6BA-F2DFB17D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9E29-C0AF-4DE1-B2D4-19B64ADC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FD8F-B674-4BCD-8837-40BA9EFA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E6055C-9D35-45E0-A0F3-D89518C757F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й, Господь, люблю бы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рассвет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ходит ночь, проснулся шум днев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лучше дня и мягче ночи лет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нанье сладкое, что Ты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едине с Тобой вникаю в тай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 рук Твоих и вечного доб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едине я вижу лик Твой сла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яньи рос и в свежести у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Тобой,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, измучившись в борьбе сур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 к Тебе с вечернею мольб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ятен отдых под Твоим покр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пробудясь, приятней быть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, придёт торжественное утр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нутся все… умолкнет шум земн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снее солнца засияют чу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всегда останемся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11:45:01Z</dcterms:modified>
  <cp:revision>13</cp:revision>
  <dc:subject>Slavic hymnal Гимны веры христиан, hymn 821</dc:subject>
  <dc:title>С Тобой, Господь</dc:title>
</cp:coreProperties>
</file>