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E4C-43A5-48DA-B78E-DCBA0E65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105-FA44-4A78-9962-80D62B92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13C-9F5D-42A1-B46C-BBEC7C91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FB7-5D79-4A70-A9BE-80F31826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BC7-5ACE-49FC-9065-5E167BF3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E05-AFED-428C-B207-54713ADD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5BB-D239-4EDA-8A4D-B9918A29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092-DD2A-4A8D-B6C3-4F795D6E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D84-2148-4CED-A5B1-7A7A792F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FB9-9952-437E-AA79-14997A3E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EF1-C741-46A6-AB12-D051961E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FCA4-FA88-4176-9D8D-D001C633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57D1F-80E6-49E5-85DC-EC6F0EFFCF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віту спасіння, любове св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аші провини лилась кр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ь світ відкупив Він, і дав спокій С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віт весь раді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віт весь раді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віт весь раді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любові свят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6   О, світу спас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гато провин в мене й темний мі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Божого слова торкнувся мій слу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ерце скорилось, і сльози я л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і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і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і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душ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молитесь і вірить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міць перемоги в Христі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вітлом небесним весь світ осві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анна, осан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анна, осан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анна Спасителю Господ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ин Божий розп’ятий вмирав на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п’ятий для світу і я у Хри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 вже для мене розп’ятий є з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 Ним ум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 Ним ум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 Ним ум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Ісусом м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еркнучу славу, безсмертя вінец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і дасть у небі Всесильний Творец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ллються там хори землі та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вічної сла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вічної сла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вічної сла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Христі я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6:38Z</dcterms:modified>
  <cp:revision>12</cp:revision>
  <dc:subject>Slavic hymnal Гимны веры христиан, Ukrainian hymn 76</dc:subject>
  <dc:title>О, світу спасіння, любове свята!</dc:title>
</cp:coreProperties>
</file>