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4CD5-1A69-40E2-8E59-E10D17899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A191-4BDE-4D1A-816A-F6E5A9CD9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11ED-64DD-410E-99E9-008A55A9B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7DE8-F6D1-486A-A1C2-7D4DC19CF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3D12-0A8E-4B38-9AC0-65BC7A26A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4F6A-A171-4EC8-B895-C5AC31E2E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7C54-92C4-4595-B851-6D24E378D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9E43-667E-4D9D-AF33-E61F1F65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64BA-7329-47A3-BA7F-871D84DC3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F25D-A598-4556-9FF1-1516FFED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963C-79C0-4CFD-B4E5-3D471437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E75F-E6D8-4EED-BA3C-CADAF158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7EF76F-3E94-44F8-8BA1-B6843AD2BD1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trumpet of the Lord shall s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ime shall be no m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morning breaks eter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ight and f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9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час, когда труба Господ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с, когда труба Госпо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землёю прозв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станет вечно светлая зар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saints on earth shall g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on the other sh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roll is called up yond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ена Он всех спасё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ерекличке повто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, по милости Господней, бу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roll is called up yonder,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roll is called up yond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ной переклич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ной переклич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ной переклич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по милости Господней бу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at bright and cloudless mo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dead in Christ shall r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glory of His resurrection sha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ень блаженный воскре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умерших во Хри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дворенья их в обители Ца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chosen ones shall g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ir home beyond the sk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roll is called up yond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святых, омытых кров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литой на кре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зовёт Он, и на зов отвеч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roll is called up yonder,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roll is called up yond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ной переклич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ной переклич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ной переклич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по милости Господней бу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labour for th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the dawn ’til setting su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talk of all His wondr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ve and ca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трудиться для Тебя,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ю всем слу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утра раннего и до заката д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hen all of life is o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our work on earth is d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roll is called up yond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когда велишь работу м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ную Ты сло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ный клич тогда предстан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roll is called up yonder,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roll is called up yond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35434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ной переклич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ной переклич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ной переклич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по милости Господней бу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2:56Z</dcterms:modified>
  <cp:revision>13</cp:revision>
  <dc:subject>Slavic hymnal Гимны веры христиан, hymn 690</dc:subject>
  <dc:title>When the Roll Is Called Up Yonder / В час, когда труба Господня</dc:title>
</cp:coreProperties>
</file>