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332-1948-47A8-B2E3-198BD04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462-FE40-45DE-A72F-72C21DF8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3FA-A12A-44E2-8B0D-66F1EC6B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37E-8A9E-4904-86AA-3E8B5E2D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07E-5B32-4016-8B3C-FAB5EA3D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DB6-1B0E-4085-A4F8-7762692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656-B558-418F-9B85-FD92C009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026-60C6-44FA-9DF4-E9157861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1A9-E60C-4ACB-9F0B-AB37738D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BBD-7BB1-4E25-A0DF-E70611E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25A-082B-4C84-82C7-B7937C40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D44-2FAF-4F52-9361-6145C621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383D5-904D-43A6-810D-B9738DB064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Calvary’s mountain, one dreadful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ed Christ my Saviour, weary and w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cing for sinners death on the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might save them from endless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скупитель, избит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избитый в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на Голгофу, нёс тяжкий кр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мученье и гнё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для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Father forgive them!” thus did He p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n while His lifeblood flowed fas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ying for sinners while in such w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but Jesus ever loved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Отче!» — неслась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ручьями из ран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от гнева всех защи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ын Божий мог так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w I love Him, Saviour and Fri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can my praises ever find 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years unnumbered on Heave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o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tongue shall praise Him forever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я должен любит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иновных Он жертвой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в небе Его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авить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Redeemer! Precious Redeem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ms now I see Him on Calvary’s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unded and bleeding, for sinners plea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ind and unheeding—dying for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, мой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е смерти пострадал за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й кровью за нас ви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с любовью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9Z</dcterms:modified>
  <cp:revision>14</cp:revision>
  <dc:subject>Slavic hymnal Гимны веры христиан, hymn 414</dc:subject>
  <dc:title>Blessed Redeemer / Мой Искупитель, избитый весь</dc:title>
</cp:coreProperties>
</file>