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5A3-A853-4100-8FF8-D63B256F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C044-9A29-4664-BA5E-945913F6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4A5-FFBB-445C-8D61-0918976D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EAC-677E-484F-BA81-F19F48E8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FC1-B8ED-4A29-8AB3-4CF9F1C5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1D9-A83C-49D6-86CB-62EED86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CAF-89A5-43DD-B033-BB80BB0A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8EF-2003-47A4-AE5A-0BDBCF1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C79-5009-480C-95A4-55C48DA4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3CF-118F-426D-B4B5-DDE51C5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036-0833-4A40-8EC4-CE97909E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8EB-A835-45DE-896F-57794BE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0A4A8-3661-4E08-80AD-666E3F0760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th’ incarnate God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s the merit of His bl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nture on Him, venture who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 other trust int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ew Him prostrate in the gar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ground your Maker 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bloody tree behold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, will this not suff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48Z</dcterms:modified>
  <cp:revision>13</cp:revision>
  <dc:subject>Slavic hymnal Гимны веры христиан, hymn 338</dc:subject>
  <dc:title>I Will Arise and Go to Jesus (Come, Ye Sinners, Poor and Needy) / Грешники, к Христу придите</dc:title>
</cp:coreProperties>
</file>