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D18-99F4-4CA8-9835-76FC4ECF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854-020E-464C-8EAD-66DA6EBE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370-0DDE-4A5D-B751-450265A1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F08-6AC4-49C8-9BAA-4C96B45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546-019C-4872-A2E1-04FC0FC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4C9-EF51-4756-9461-34CB44C8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7C8-1EB3-4607-BBB6-22CFD7A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3EF-8BED-4101-8D13-3A91904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338-1BDB-488F-8233-D36DD80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AC2-D110-41B8-9883-7AC2AA1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A89-82F5-4AF9-81E0-2466976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467-A872-4AF1-A59C-6FBBC9C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9A6AC-014E-462C-A2CE-EFA455ED7ED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пора уж пробуд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сна греха и пусто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давно к тебе стуч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Мой брат! пора у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озлюбил любовью веч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крестной смерти возлюб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, тебя, мой брат беспеч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вечной смерти искуп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ран и сердца кровь струила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как горел любовью вз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й брат! Он пострадал неви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заслужили тот поз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ая кровь всё очи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имает с сердца страшный гн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а всю душу обновл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тихой пристани ве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ттолк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тко ждёт твоей люб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спе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ей, скорей к Нему при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25Z</dcterms:modified>
  <cp:revision>12</cp:revision>
  <dc:subject>Slavic hymnal Гимны веры христиан, hymn 362</dc:subject>
  <dc:title>Мой брат! пора уж пробудиться</dc:title>
</cp:coreProperties>
</file>