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DDAE-49E6-4076-8EEF-3F31F05A4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237C-17DA-4B35-94BD-29343773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A536-39F1-41FD-8631-B431FD3A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972A-F18A-4A84-901B-9C35DFBA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5B8F-3EF3-45F3-B6C4-EE151485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8FE1-DEAB-4581-BC2E-E100164E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3E65-05C5-4A6A-9768-D29695DF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D038-7A72-4B40-AAA0-5FBF071C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D2CD-EC4B-4FE1-B834-35E2DD4A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21BF-C787-4273-BC00-07A079E1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9B74-6D4D-4047-82E4-7C1E6561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B9A9-D120-410B-BA6E-E80A9DF9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A579F-B2AC-49C7-ADCE-60179964CBC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, and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ye that are upright in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e that have made Him your ch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id sadness and sorrow de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пряньте, воспой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те, воспойте, лику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е кровью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овую песню воспо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вас спас от гре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 and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 and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joyful, for He is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arth and in Heaven supre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fashions and rules by His wor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“Mighty” and “Strong” to rede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им Того, Кто на зем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шёл, чтобы нас оправ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с ценой Своей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ье навеки нам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 and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 and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though in the conflict for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enemies almost preva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armies, just hid from your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more than the foes which ass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илу нам даст и побе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итву с грехом укреп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Своею поддер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ом Своим утвер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 and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 and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, and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praises proclaiming in s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arp and with organ and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ud hallelujahs prolo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со всеми свят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ебную песню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с искупил Своей кров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лава вовеки Е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 and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,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ad in the Lord and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45Z</dcterms:modified>
  <cp:revision>13</cp:revision>
  <dc:subject>Slavic hymnal Гимны веры христиан, hymn 573</dc:subject>
  <dc:title>Be Glad in the Lord / Воспряньте, воспойте, ликуйте</dc:title>
</cp:coreProperties>
</file>