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EE9-94DA-4D63-AB22-9F2E3D89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A45-2C39-414A-9F59-DAF69F4B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5EE-720B-48C7-8D33-684D8561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720-DD53-45EE-8876-D795E760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A48-231C-4536-9EBD-B89AED92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7E8-58CF-49AD-A5B1-6B33EE3B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A9F-3D13-4871-800D-316742B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738-A52F-48A2-8D4E-ED6E001F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3BF-4A6D-4A1C-8BE5-4E20B4E9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8615-7528-417D-A752-8730014D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F9A-1EB1-44FC-AF31-6A975F8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6F5-A6AE-4BC2-88DC-3CA05DE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3FFDE-121B-424C-B28A-EA7343D3C5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ecious blood I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might’st ransome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ened from the d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0   За тебе Я вми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в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ров Свою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ажданням на хре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відкуп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-circled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for earthl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and’rings sad and 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землі про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корботах та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и у неб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щастя дать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ffered much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thy tongue can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bitt’rest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cue thee from h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бо залиш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ю Я зійш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грішних по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ти тебе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ave brought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from My hom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ardon and M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ному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Я волю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ї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 до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життя від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Він ― Спаситель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хвалу скла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8:56Z</dcterms:modified>
  <cp:revision>13</cp:revision>
  <dc:subject>Slavic hymnal Гимны веры христиан, Ukrainian hymn 30</dc:subject>
  <dc:title>I Gave My Life for Thee / За тебе Я вмирав</dc:title>
</cp:coreProperties>
</file>