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584-9999-4FBF-87ED-FDEAE7D2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C9B-90D6-4E87-8968-DD766BA7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377-8021-46F1-89B7-244EF171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A67-7511-4DAC-B952-DF0069C0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898-1A2C-491B-B968-610D7418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3CC-3806-49E2-A10F-361D70F0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663-95A8-47CA-BB03-9215F628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4A1-AB65-49DA-B44D-DB25BB12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4AA-4FEF-416E-BA7F-F5B7BB5B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6A4-C569-41AD-BBDA-A8DA2400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2C2-699E-4776-A23B-F40E2342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49AB-829A-4722-BA0F-479D85A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89730-785F-424D-9CC5-BB8D6A19B38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the King of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ing on the clouds with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shak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hole earth sh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His love and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hing over all our s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opl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98   I See the King of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a gene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ising up to take thei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elfless fai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elfless fa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see a near re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rring as we pray and s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on our kne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on our kn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l my heart and make it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 up my eyes to the things un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 me how to love lik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lov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eak my heart for what break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am, for Your Kingdom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alk from earth into eter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, hosan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sanna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00Z</dcterms:modified>
  <cp:revision>12</cp:revision>
  <dc:subject>The Source 4, song number 1898</dc:subject>
  <dc:title>I See the King of Glory (Hosanna)</dc:title>
</cp:coreProperties>
</file>