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5</a:t>
            </a:r>
            <a:r>
              <a:rPr b="1" lang="ru-RU" sz="3600" spc="-1" strike="noStrike">
                <a:solidFill>
                  <a:srgbClr val="ffffff"/>
                </a:solidFill>
                <a:latin typeface="Verdana"/>
              </a:rPr>
              <a:t>	</a:t>
            </a:r>
            <a:r>
              <a:rPr b="1" lang="ru-RU" sz="3600" spc="-1" strike="noStrike">
                <a:solidFill>
                  <a:srgbClr val="ffffff"/>
                </a:solidFill>
                <a:latin typeface="Verdana"/>
              </a:rPr>
              <a:t>Нет лучше места одного</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ет лучше места одн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и был бы мой грех тяж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дух счастлив вблизи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ожь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ожь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ожь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милости престо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Елей любви с престола ль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чищает дух от з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ходящим мир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н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ожь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ожь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милости престо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г путь к нему открыл для вс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то б к нему ни подо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го спадёт великий гр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Божь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ожь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ожь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милости престо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огда измучит суе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Дух, как радостный пос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овёт меня к груди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Божь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ожь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Божьей милости престо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милости престол.</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46:44Z</dcterms:modified>
  <cp:revision>3</cp:revision>
  <dc:subject>Slavic hymnal Гимны веры христиан, hymn 55</dc:subject>
  <dc:title>Нет лучше места одного</dc:title>
</cp:coreProperties>
</file>