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6150B-F5DD-4A4B-BC51-BFED7D565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6F1BE-AD86-43C6-B47C-B22F906EA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0AADA-C159-4396-8197-064A8CAB0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0B448-BD9F-4392-A2BC-85C63ABA1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62805-B347-45FD-BC8A-7EDCAB1AD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A9BCB-40BD-4D24-8600-813C3DE92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CDFBD-DFE4-41E0-9770-34547B833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C063A-E38F-40D1-A894-26C92EC6C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23746-E1C5-4781-A358-2A632DC8C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A3C16-532E-401B-92DA-D05A64736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4F09A-B925-4739-AAE8-1B57007EA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4A42E-983B-46E6-B34D-294441CB4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B1F37D-8137-4C22-B03F-24278885717E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idings of salvation bring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rough the death on Calvar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the souls of people ca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 will gladly follow Th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21   За Євангельську ми вір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а Євангельську ми вір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а Христом підемо в слід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сі єдиною сім’є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сі за Ним вперед, вперед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s one fam’ly undivid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s Thy people of destin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th our hearts by Thee unit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, we will follow Th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міло всі ми за Ісус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ов одна сім’я, ході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ерцем щирим, одним дух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сі вперед, вперед за Ни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s one fam’ly undivid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s Thy people of destin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th our hearts by Thee unit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, we will follow Th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міло всі ми за Ісус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ов одна сім’я, ході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ерцем щирим, одним дух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сі вперед, вперед за Ни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iercely, on the battle rage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ope grows dim—the end seems nigh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the battle of the 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lp us keep Thy banner hig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оротьба іде кипуч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а землі по всіх місцях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тріли хоч гріха пекучі,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аш прапор святий в рук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s one fam’ly undivid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s Thy people of destin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th our hearts by Thee unit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, we will follow Th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міло всі ми за Ісус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ов одна сім’я, ході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ерцем щирим, одним дух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сі вперед, вперед за Ни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a world of cold indiffer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any from Thee turn asid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lp us to reveal the differen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ive for Thee, what e’er beti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віт байдуже спогляда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а розп’ятого Хрис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А Христос заповіда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огу присвятить житт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s one fam’ly undivid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s Thy people of destin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th our hearts by Thee unit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, we will follow Th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міло всі ми за Ісус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ов одна сім’я, ході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ерцем щирим, одним дух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сі вперед, вперед за Ни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Fortress Faith,” as Zion’s daught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lp us, Jesus, to protec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lp us give our foes no quart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all worldly lures reje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ру й святість ― скарб від Бога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оронімо ревно всі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омине земна тривога,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ам Христос прийде в красі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s one fam’ly undivid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s Thy people of destin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th our hearts by Thee unit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, we will follow Th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міло всі ми за Ісус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ов одна сім’я, ході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ерцем щирим, одним дух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сі вперед, вперед за Ни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5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lp us in our oblig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be faithful to the e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at the bound’ries of Thy Kingd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y Thy pow’r we may exte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авду сіймо, свято жийм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Людям світло понесі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ершу ми любов загрійм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праці щирість покажі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3T06:49:41Z</dcterms:modified>
  <cp:revision>13</cp:revision>
  <dc:subject>Slavic hymnal Гимны веры христиан, Ukrainian hymn 21</dc:subject>
  <dc:title>Tidings of Salvation Bringing / За Євангельську ми віру</dc:title>
</cp:coreProperties>
</file>