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a:t>
            </a:r>
            <a:r>
              <a:rPr b="1" lang="ru-RU" sz="3600" spc="-1" strike="noStrike">
                <a:solidFill>
                  <a:srgbClr val="ffffff"/>
                </a:solidFill>
                <a:latin typeface="Verdana"/>
              </a:rPr>
              <a:t>	</a:t>
            </a:r>
            <a:r>
              <a:rPr b="1" lang="ru-RU" sz="3600" spc="-1" strike="noStrike">
                <a:solidFill>
                  <a:srgbClr val="ffffff"/>
                </a:solidFill>
                <a:latin typeface="Verdana"/>
              </a:rPr>
              <a:t>Приди, о Боже, к нам</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Come, Thou almighty K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us Thy Name to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p us to prais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риди, о Боже, к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людским сердц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ther all gloriou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er all victor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reign over us,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cient of Days!</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Отче праве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ём прославле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и царствуй в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век век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Come, Thou incarnate 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rd on Thy mighty sw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prayer atten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иди, Всевластный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атры любви раски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 люд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Thy people bl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ive Thy Word succ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irit of holi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 us descen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се грехи пр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добр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а свято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ас из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ome, holy Comfor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sacred witness b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is glad hour.</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ди, Предвечны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ерез верных 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и народ.</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ou Who almighty 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rule in ever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er from us dep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irit of power!</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а Твой мир все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в небесны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щь Твою я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рода в род.</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o Thee, great One in Thr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ternal praises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nce, evermor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ш Триеди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и в день трев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ём псалмы.</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sovereign majes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we in glory s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o eternit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ve and ador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мощь Твою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 в нас образ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 жит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умели мы.</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7:23Z</dcterms:modified>
  <cp:revision>3</cp:revision>
  <dc:subject>Slavic hymnal Гимны веры христиан, hymn 20</dc:subject>
  <dc:title>Come, Thou Almighty King / Приди, о Боже, к нам</dc:title>
</cp:coreProperties>
</file>