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D54-3F00-4B4E-A366-5BCCFA40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208-F87A-45F3-8EC2-E1A6FFC0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5DE-0B30-458C-B1D8-1A2498AB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716-30B8-4F0E-A125-8A964340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5FD-CDB2-427B-916D-F689B033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585-0344-4E68-95AF-94BBFCAF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464-7DFE-40B0-8B4F-A9E9C6DB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DEC-CAFC-4E94-A489-050F3C28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13C-DD04-4618-BE20-05AD99B1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841-44A8-44C3-9938-88A9EA16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508-CF78-4378-95DD-99480DDD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00C-E601-460E-BC24-4470726B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4216A-2EE2-4C78-87B7-25E66C6F98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pour out Your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all the peoples of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sons and daugh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ak Your words of prophe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dreams and vi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veal the secret of Your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our faith is ri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all heaven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oming of Your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74   Lord, Pour Out Your 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awa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re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our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awa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one who calls 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will b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pour out Your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all the nations of the worl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m se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m fall in rev’rent a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 Your mighty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ke the heavens and the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 world is wai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creation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oming of Your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awa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re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our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gonna be a great awake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one who calls on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will be sa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7:24Z</dcterms:modified>
  <cp:revision>12</cp:revision>
  <dc:subject>The Source 4, song number 1974</dc:subject>
  <dc:title>Lord, Pour Out Your Spirit (Great Awakening)</dc:title>
</cp:coreProperties>
</file>