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416-76F9-45BA-A3CB-2A0DB6CD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E4F-5025-44FB-9E3C-9C2E98C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364-0BB7-4196-83B7-3C9C8378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2A3-6BE6-409C-8E98-C9A3F6C4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575-E30D-495F-8629-E32527CF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648-FA38-4B45-8C49-7B4C2CA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055-91B0-446A-94B1-AA6D872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10F-7A5F-4E79-9A9D-409C570B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FF2-5175-46BA-9A6E-DCABA50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A38-18FF-49B9-B45D-5684032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5E1-0533-40ED-9ABB-56AED8B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BDC-2187-4513-80BC-D70B5B3F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63075-9926-4750-A3FF-70433BAEA5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Man of sorrows!” what a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Son of God who c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uined sinners to recla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уж скорбе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уж скорбей!» так назван Т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заоблач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л спасти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ing shame and scoffing ru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lace condemned He st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led my pardon with His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 боль извед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руган, осу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древу смерти пригво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lty, vile and helpless 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Lamb of God was H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atonement! Can it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реха и зла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только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нас от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d up was He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finished!” was His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n heaven exalted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згла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смерть вку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с радостью вст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omes, our glorious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ransomed hom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new this song we’ll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 What a Savi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ть искупленны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ерный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наш Спас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1:00:27Z</dcterms:modified>
  <cp:revision>12</cp:revision>
  <dc:subject>Slavic hymnal Гимны веры христиан, hymn 838</dc:subject>
  <dc:title>Hallelujah, What a Saviour! / «Муж скорбей!» так назван Тот</dc:title>
</cp:coreProperties>
</file>