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31A-254B-4EF1-B5CB-F259AE7F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227-AC05-475A-B3B1-FB15178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9D4-0530-409C-8EB8-1EF41FE1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330-281B-4204-A2E2-40F2DCFF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240-1F4C-49C2-8F37-6D73B336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CF8-FD50-4C8F-AC5D-294106AF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10B-6497-4ADD-A0E5-063C660B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79B-3FA8-45AA-9724-F1FF9C74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472-CE40-4A65-A76D-F51D7D7C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0C6-8CFA-4D96-B0E1-2D7BA84D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608-D3F6-4946-B895-B5386528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1CB-8B0F-44FC-8999-7104578F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276DD-2746-4CC2-8D11-95A4AE12E4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—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ила и за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ед Он выйти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ша жизнь сокры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евний враг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ибелью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е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лишь для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ире всех стра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ердыня наша — вечны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ка грозного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долеем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шь может,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вать его ц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н? звучит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есть и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от же в род и 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раги голодным ль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инут на съ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будет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ст нам изба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тьмы рычит, как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его гн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рать нас хоче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он обр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чную по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у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будет с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поддержит, укре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вными д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лишат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на кривых пу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беды, смерть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м Господь даст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4:25Z</dcterms:modified>
  <cp:revision>12</cp:revision>
  <dc:subject>Slavic hymnal Гимны веры христиан, hymn 849</dc:subject>
  <dc:title>Твердыня наша — вечный Бог</dc:title>
</cp:coreProperties>
</file>