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CFCA-CEA7-4A3B-BA0F-54BEB82CE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0E09-5FEF-4E47-9051-87FAA9C8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75BE-9470-4EC7-8F3F-C3867D177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212D-812D-45A8-8AA1-CE2D00AB5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7017-0B18-4CED-94AF-2CA1B9E8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FD65-82AD-43DE-A901-4B201F34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39D3-4C9E-4A09-9F7E-A067242D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B078-08F5-4203-B9CF-6D924D20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2809-F3A9-4062-8A02-54B12492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2A5B-4C28-4842-AD33-A8681658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6617-2A87-457C-817C-FD956F6E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9CBA-BA7B-4376-9B35-D4884963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81FBA-4675-45B6-9E64-196EC218354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am a stranger here, within a foreign l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home is far away, upon a golden st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mbassador to be of realms beyond the se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here on business for my 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странник на зем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странник на земле, вокруг всё чуждо м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оя обитель там — в небесной сторо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лагую весть нести повсюду послан 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 повелению Цар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is is the message that I br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 message angels fain would 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h, be ye reconciled,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us saith my Lord and K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h, be ye reconciled to Go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немлите вести той благ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й вторят ангелы толп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О, примиритесь вы», 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зывает Бог и Цар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О, примиритесь с Богом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is is the King’s command: that all m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verywhe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pent and turn away from sin’s seductive sna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all who will obey, with Him shall reign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y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hat’s my business for my 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г ныне каяться всем людям повел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отвратиться сердцем от греховных д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ристу внемли и жизнь прими, молю теб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 повелению Цар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is is the message that I br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 message angels fain would 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h, be ye reconciled,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us saith my Lord and K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h, be ye reconciled to Go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немлите вести той благ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й вторят ангелы толп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О, примиритесь вы», 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зывает Бог и Цар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О, примиритесь с Богом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home is brighter far than Sharon’s rosy pla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ternal life and joy throughout its vast domai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Sovereign bids me tell how mortals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ay dwe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hat’s my business for my 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ияет чудный свет в моей стране род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радость вечная у верных над гла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умолкая, звать туда всех должен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 повелению Цар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is is the message that I br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 message angels fain would 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h, be ye reconciled,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us saith my Lord and K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h, be ye reconciled to Go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немлите вести той благ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й вторят ангелы толп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О, примиритесь вы», 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зывает Бог и Цар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О, примиритесь с Богом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1:40Z</dcterms:modified>
  <cp:revision>13</cp:revision>
  <dc:subject>Slavic hymnal Гимны веры христиан, hymn 660</dc:subject>
  <dc:title>The King’s Business / Я странник на земле</dc:title>
</cp:coreProperties>
</file>