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76D6-F37A-41A4-BEE4-7B10B92B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8CC3-11B1-4439-A7F8-CCC28ED6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F89-6ED5-482E-9885-CDA9489B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6BED-73E8-412C-A039-D8F90B98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B8C-C5AD-494C-9732-237CA6DA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DCAB-4C13-40F8-BE3C-8F28FDD9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E87-5533-4F97-ADB1-36A3BD71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798-2CBB-4004-BBD7-1630C713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672C-6D32-4D72-A5A2-05C62611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D22D-F897-4F01-B9F5-8BD24A8D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722-486A-4AD6-9CD9-8C5A8AB0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9E30-80A6-4A12-82CF-6AED82F6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806CD-F5E3-44CB-A02E-87298846FDD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сильный Царь вселен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ясли Сам избр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дитя, смир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щере возлеж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глядел, как зр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дям говор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Да, в яслях был Спаситель,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мне чуждым б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сильный Царь вселен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олос я услыш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 яслях был в ч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щеры тесной дыш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к тебе и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в тебе ро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жить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изобраз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зеркале живо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ко мне яв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освет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 Тебе род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ал Твоё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до! Ты род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ал опять ди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мне всел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сли обре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и ж, Дитя Свято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и во мне,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, дитя земн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дыне не возр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сь я умаля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б в любви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сь преображ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авы вечны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8:31Z</dcterms:modified>
  <cp:revision>14</cp:revision>
  <dc:subject>Slavic hymnal Гимны веры христиан, hymn 232</dc:subject>
  <dc:title>Всесильный Царь вселенной</dc:title>
</cp:coreProperties>
</file>