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D761-5677-45CD-B528-6B4FFB8B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0D8-A08D-459E-B00F-5EAD3FD5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77B-AA7D-478E-88E5-754AED22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EC3-4D1D-485F-8369-1045A73B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210-849B-42DB-8C05-B928DFEB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FB0-84B8-4084-9748-E894B1EF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7FE3-CC7B-44FA-9E16-A26D7AC6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034-57FF-4F16-8372-086E272E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70F-B98E-49B4-A8F3-2093F630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745-C898-4425-8D36-CA0EEE8A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511-4ACE-47CC-AB20-97150275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A09-1A69-4144-8DAB-F10B5D77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61672-5743-41E6-957D-7CD0CACA07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ю вечну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открыла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спас от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л Христа при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полнил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Божьим доро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юбви святой 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ю вечную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стало мне р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земля красот пол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жизнь кипит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ась во мне ве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тички радостно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ля, на лес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торгом дышет гру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чера внушало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сегодня не сму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 Христа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мой и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 страхов и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радости дрож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Себе меня прив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ов, навек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может разлуч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— надежда и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зде отрадн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е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одним лишь я с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знали там и 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6:02Z</dcterms:modified>
  <cp:revision>13</cp:revision>
  <dc:subject>Slavic hymnal Гимны веры христиан, hymn 856</dc:subject>
  <dc:title>Божью вечную любовь</dc:title>
</cp:coreProperties>
</file>