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B4C-4BFC-4077-8EDB-B31099E6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2C1-9AE9-46A3-8730-B41182E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A7E-1BA4-4369-8AF1-23264EC5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39F-AB61-4639-A4E8-1F765C24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ABD-927D-4C05-85BB-3C035581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D31-470E-4888-81C8-73469B9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D29-CE50-4F22-A289-C6F620CF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99B-B70E-4D2D-BB9B-18945756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6FB-1B65-43B6-A83D-E121F321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C30-D3DD-47A1-813B-53CD7B07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80C-8A50-4E80-9AD5-B3F5FC96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72E-09E2-4FA0-B894-CB78ECA7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DD73B-9A79-48BF-8334-BCCC1178B5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ews of Your impending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disciples bro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vingly You took the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rds of blessing spo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когда учени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Когда уче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мерть Свою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с любовью, как к друзь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хлеб,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ead You broke, and with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tributed to 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ody—take and e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ake of it, all of you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ломив, им всем ра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слова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рузья, примите, ешьт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тело есть Мо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O Lord, You took the 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d, and then You s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blood—by it, for 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onement will be ma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с вином Ты чашу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, о ней м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ия есть кровь Моя», — с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е пейте из не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is is the covenant of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can there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you do it, do i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membrance, friends, of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т новый Мой завет в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ам, друзья, да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е всегда творите 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спомните Мою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blood we would remembe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us shed on the t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utilated body, to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us ever s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й же кровь Твою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ую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истерзан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помнить в этот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ssess our thoughts, that ever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eek the reason why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You on Calv’ry’s rugged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ose such a death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Господь, всегда во в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мыслить лиш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Ты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ко уми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08Z</dcterms:modified>
  <cp:revision>13</cp:revision>
  <dc:subject>Slavic hymnal Гимны веры христиан, hymn 727</dc:subject>
  <dc:title>As News of Your Impending Death / Господь, когда ученикам</dc:title>
</cp:coreProperties>
</file>