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B38-DC9A-4756-A7FD-44556A38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FF6-FBC5-4235-9FB0-4912523D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64F-4FE6-4979-8772-1B86032E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DD9-B72C-438C-86AB-88C936E7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478-1058-4062-BE54-0A929393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685-29DB-455C-8C85-3C653615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D9F-6161-44AA-BB9F-3790710D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FF7-3AC1-40AF-A249-52F0764A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7F9-2035-461B-99B6-B060B10B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677-7A23-4406-8557-0CDBC595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62C-5577-4FC6-AC1A-B8975BA6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AE4-C68B-48BB-B8D0-51D863C1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BC308-1A9E-479F-8C69-E8A4B5083C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dear and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it’s worn and faded 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ch recalls those happy days of long a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 stood at mother’s kn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er hand up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heard her voice in gentle tones and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3   Книгу Божу м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у Божу ма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оч старенька вже во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ні пригадую минулії дав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ній моя мати знайш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ар спасіння у Хри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 забуду я часу щаслив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e read of Jesus’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He blessed the children d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He suffered, bled and died upon the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His heavy load of c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e dried my flowing t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er kisses as she said it was fo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ам’ятаю: про Хр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се читала мати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любив, страждав, вмирав Він на хрест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уважно слухав вс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ам’ятай, за тебе ц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―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Говорила мати ― ти Його люби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572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ll, those days are past and g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ir memory lingers 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dear old Book each day has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u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seek to do His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my mother taught me th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ver in my heart His Words ab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е давно, давно я чу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слів тих не забу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мені ця Книга ― світло на шля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 слова Христа любл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се вперед за Ним і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до щастя хочу вічного при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572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Book, precious Boo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y dear old tear stained leaves I love to loo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art sweeter day by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I walk the narrow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leads at last to that bright hom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край, куди прийме Господь вас і м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15Z</dcterms:modified>
  <cp:revision>12</cp:revision>
  <dc:subject>Slavic hymnal Гимны веры христиан, Ukrainian hymn 73</dc:subject>
  <dc:title>Книгу Божу маю я</dc:title>
</cp:coreProperties>
</file>