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4F8-4657-4A2F-A21C-6746D6B6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DCE-12E4-4BC9-BCE1-16F0006B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CC5-9041-46C3-B0EA-6ACB433F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198-9C47-42F0-9448-47E604D9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535-0B34-4A8F-A749-2DBC36AA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F7E-851B-43FC-B663-486C7406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57B-8700-4F7F-9F04-1467A840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FCB-3128-422C-BF14-8ECEAC47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316-8FC4-4645-9389-CBC5085F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2E3-E491-41D1-AEC1-49587B5C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901-CBD1-4DD1-AF85-A3F2D37F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1BD-072D-4271-BE45-0BFB6550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DB05A-364A-4B0A-ABF5-D17E0ED501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’s my shepherd, I’ll not wa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kes me down to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astures green; He leadeth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quiet water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— мой Пасты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й Пастырь, я ни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у знать нуж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лачных пажитях па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близи живой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He doth restor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 to walk doth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e paths of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for His own name’s s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крепляет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 путь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мне любов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и до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a, though I walk in death’s dark v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ill I fear no 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 art with me, and Thy r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aff me comfort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я з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ю Ты; рук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able Thou hast fur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resence of my fo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d Thou dost with oil anoi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cup over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готовил пищ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ду моих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ил на голову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клад Свои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ness and mercy all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surely follow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God’s house forever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welling-place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любовь и 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за мною в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доме Божьем на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в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8:09Z</dcterms:modified>
  <cp:revision>12</cp:revision>
  <dc:subject>Slavic hymnal Гимны веры христиан, hymn 834</dc:subject>
  <dc:title>The Lord’s My Shepherd / Господь — мой Пастырь</dc:title>
</cp:coreProperties>
</file>