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DC7-156C-4E4B-AC91-AA5401A3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EC0-297B-4720-ABC5-D27700F5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5D2-ACCA-4E42-8905-8A2D627B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D9E-6207-4614-8C2C-7681FDF5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256-906F-4575-AAF9-BDE584E0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7AB-B858-4912-A044-56F8727A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B31-DAFB-43F2-9122-DEE3529E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01E-0089-4E8A-8E2D-451EF92B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8DA-E03A-431C-AF54-2F3793D8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A30-B44E-48F2-9C40-4E0AC69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140-9053-4C00-B43B-AC70BAA1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091-C4DF-4A02-9005-0C0871E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C4E73-A7E2-4CC6-A3D7-DD2313E3BF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10Z</dcterms:modified>
  <cp:revision>12</cp:revision>
  <dc:subject>Slavic hymnal Гимны веры христиан, hymn 713 (as amended)</dc:subject>
  <dc:title>Призови Христа, о грешный</dc:title>
</cp:coreProperties>
</file>