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0F5-305B-4A95-B6C9-8673D61D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26E3-211F-4068-8A99-FD551FAA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97F-6977-45AE-99D0-CC683463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208F-EB78-49FA-A352-0E600F19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0891-F952-49B1-91D9-73F342BF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5A6-6573-46D0-ACF5-E74F7EDF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628-85AB-45D2-94B3-C6A68F3E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85D4-BFD4-4C18-8103-9879A462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C6D-E71F-450F-BAFD-09CF8116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946F-E412-4E49-BE7B-7C2E4AD3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D406-CE01-4034-938A-9F69CE71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FF7D-FB59-4656-B817-91F9966D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7F6B8-A1A1-47ED-A88E-F666400FEC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be the fountain of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a world of sinners revea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be the dear Son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by His stripes we are hea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овь Свою Сын Бож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ою Сын Божий про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точник жизни откр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ами Своими Он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овных язв исце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I’ve wandered far from His f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ing to my heart pain and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me in the blood of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be whiter than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вца блуждал я в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вокруг меня всё тем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me in the blood of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be whiter than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а белей!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rny was the crown that He w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cross His body o’erc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ievous were the sorrows He b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He suffered thus not in v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нец терновый по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за нас Он вис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пасенья грешны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любви Он всё претерп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to that fountain be 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to cleanse my sins here be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me in the blood that He 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be whiter than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лечёт поток тот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ко Христу всё силь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ю святою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me in the blood of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be whiter than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а белей!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ther, I have wandered from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ten has my heart gone ast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imson do my sins seem to m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er cannot wash them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, согрешил п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 хочу я откр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я виновен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чем греха мне не см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o the fountain of T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y promise, I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nse me by Thy washing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be whiter than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к Тебе я и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еня поток тот из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благодатной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me in the blood of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be whiter than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а белей!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Иисуса 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нега бе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31Z</dcterms:modified>
  <cp:revision>13</cp:revision>
  <dc:subject>Slavic hymnal Гимны веры христиан, hymn 431</dc:subject>
  <dc:title>Whiter Than Snow (Blessèd Be the Fountain of Blood) / Кровь Свою Сын Божий пролил</dc:title>
</cp:coreProperties>
</file>