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996-7684-4217-922E-673F149C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8B2-DA79-4014-A973-C2283A68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EAD-1D5C-498B-80A5-7E19D47D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273-C56E-42EC-AEF0-D4A7BD5C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796-DC5D-4C7C-8C21-EF45464B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7F0-1F5C-43B5-94E6-E5F2433C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230-12DF-4D02-81A3-E883A43C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D1D-246E-4FB0-9667-9742AA45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5D4-FA04-4291-9691-AD753F90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5AE-F78F-4BCB-B338-005FF475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D1C-4DA5-4C4D-9D76-A26C6F14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543-C730-430C-87D3-3A36646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BB3DA-F650-4651-9ED5-B5CF987E3D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Твоей полна вся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Твоей полна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Свою Ты превознёс на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л меня и ввёл в Сво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 меня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л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с меня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л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Тебя, благодарю Т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лост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06Z</dcterms:modified>
  <cp:revision>13</cp:revision>
  <dc:subject>Slavic hymnal Гимны веры христиан, hymn 901</dc:subject>
  <dc:title>Милости Твоей полна вся земля</dc:title>
</cp:coreProperties>
</file>