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A9C-F686-42F4-A5C0-A496C859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A81-91A6-49B3-AE79-09AFF054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C09-5ADB-42B2-86E9-FDC82029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F5A-91F9-4A27-BB6D-C4ECE679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1A0-284E-4827-9F5C-9CD3CF65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82D-2FDC-401E-9B76-9B451D2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520-325C-4E90-B093-44E68004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B08-30FA-4D9F-B793-83849482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F82-02FF-4320-A493-479C2538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1FB-1776-45F0-91A0-07BF4F53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8E4-EBA4-41F9-8553-FB13D99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47E-5789-4369-A0FA-10A0526F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0425B-45C5-4A26-9BB6-C2BB51B5B7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аполня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гонь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не пог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любовь объеди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 нас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ёт, нам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я сила,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дим друг другу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ьются песней зв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сной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паситель будет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ёт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шёл добра пу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наш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енья дай на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возв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ир, пленённый л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ебя по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и нас силой с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 нам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я могли усл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нцы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сширь сердца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в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рукой пронз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в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любовь к святому де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ширяй наш 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знь не проле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есплодный зв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34Z</dcterms:modified>
  <cp:revision>12</cp:revision>
  <dc:subject>Slavic hymnal Гимны веры христиан, hymn 483</dc:subject>
  <dc:title>Божья сила, Божье слово</dc:title>
</cp:coreProperties>
</file>