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F0D4-6320-4222-8C18-B606A2C1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DBB6-8667-4770-B4B5-A66D304D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99FA-6C14-44F0-BCDC-EB0ABC6C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33AE-9312-4C69-BB9D-1B4A0EC0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B1D0-1338-40F9-B38E-91F62D1D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FE20-2B9D-4A95-A199-B885015B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85F5-C85B-4E3F-B6F5-CA085EF4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38EE-2510-46CC-A1CE-6C9BA7E6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2289-808C-4D91-B7BB-BAFD2D49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C2B0-1DCE-455B-980E-5A8D4E4F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687F-3658-4FA8-A0CD-FAE881A6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C675-69C6-4833-9437-05310C5E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ACEE1-EE8A-4C98-B8A4-80B92C99E60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a place of quiet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place where sin cannot mol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место сладкой тиш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 сладкой ти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корбь, ни смерть нам не страш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blest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t from the heart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us, who wait bef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пришёл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упником на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, мир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a place of comfort sw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place where we our Saviour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 утешенья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 прощенье, мир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blest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t from the heart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us, who wait bef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пришёл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упником на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, мир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a place of full rel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place where all is joy and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обожденье от з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восторженно по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blest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t from the heart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us, who wait bef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r to the heart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пришёл от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упником на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, мир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груд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6T04:04:44Z</dcterms:modified>
  <cp:revision>12</cp:revision>
  <dc:subject>Slavic hymnal Гимны веры христиан, hymn 854</dc:subject>
  <dc:title>Near to the Heart of God / Есть место сладкой тишины</dc:title>
</cp:coreProperties>
</file>