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2E59-CAEF-4160-9C5D-3AFD6A8B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E396-E60C-4718-AD4B-705DB381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6191-AB92-4301-8A81-57FCFACF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DD9E-A7A4-435A-B4BA-9D50B4FD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8E6E-76F3-412E-BBED-8AD052FE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BF76-52C9-4F52-AA57-F8283AEB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9B5B-33D0-472E-9620-3414C618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1E6F-47DB-45EA-9C33-C40DC69A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C29E-26FC-4405-9259-F4D6C295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5538-2241-4E40-9BFD-3F5C57CF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429D-C481-464E-B4CE-B52A8DB1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32F3-5D55-4ACF-B004-A680CA2F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AFDEC-DB10-4027-A963-02B8256E912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мертный, Незрим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знающи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и ди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нас неда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енный, С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и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лавим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ессмертный, Незри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ём постоя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ихий, как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авит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ходит в за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праведли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еки ве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дивная мил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ет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м и мал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лага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ённых и вер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лаженству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цвет, наша сл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пепел и тле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янем и сох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без перем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вечной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ный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ьский сла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ь нас, Предвеч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й нам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м свете ходить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рывае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7:46Z</dcterms:modified>
  <cp:revision>12</cp:revision>
  <dc:subject>Slavic hymnal Гимны веры христиан, hymn 878</dc:subject>
  <dc:title>Бессмертный, Незримый</dc:title>
</cp:coreProperties>
</file>