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B74-88C4-4584-BBD4-F9908770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4533-2CD2-4DD4-BF0D-F1383D19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D846-4910-43DC-9BC0-C47D9BBB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F80-2D28-48BB-8134-41B4518F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4783-C238-4AD9-94F7-6C6F82A5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A09-093B-4D15-A7AD-22655B81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F604-4AAB-4CC3-9A0A-8E019DAE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8C9-8B23-48E4-87F5-BE9A704A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6FB-4CF5-4BE1-9095-19E35A16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36AD-9554-4C1D-B0F1-449E791B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21B-B6AD-4C7A-894A-035896B9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D5D8-2895-4052-9871-614D834C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45917-B62D-447B-851D-6D360278A03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scribe grea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our God, the Ro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work is 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all His ways are just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5   Воздайте славу Богу наш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айте славу Богу наш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ены дела и пути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дайте славу Богу наш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ены дела и пути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God of faithfulnes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out injust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od and upright is He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— верный Бог,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еправды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аведен и истинен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7:26:44Z</dcterms:modified>
  <cp:revision>11</cp:revision>
  <dc:subject>The Source, song number 25 in Russian</dc:subject>
  <dc:title>Воздайте славу Богу нашему / Ascribe Greatness</dc:title>
</cp:coreProperties>
</file>