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EDEC-A26B-498C-BFC1-A1B3C9B64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A4B9-CB2C-49E5-8296-FDA67D5E3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4773-1F00-45EE-AD22-D76ABB64E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3854-7C9D-4AA6-9AC0-3737E029F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F615-F760-4DC7-992A-8726C587B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B894-D2F2-46A5-BFCC-956A1D2CB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E637-F7BC-4AA5-BD88-8397E3501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C7DA-3406-4619-88A9-A863D5C2C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5067-71D9-4E37-8F41-B44B65EE5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B4E1-7252-4597-BA29-C5D763BE2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DBDA-7AFA-4E1C-9FAC-FF88E90B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9889-E1C7-4DDD-9D02-302E6DFD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D671A8-A123-43CF-96C5-F6D83E10240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окончили уч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омой пойд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благие наставл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рдце мы возьмё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но, тихо и спокой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домой пойд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благие наставл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рдце мы возьм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6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ы окончили учен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, Спаситель, нам жела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колу посещ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учащим свыше зва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ебе вещ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но, тихо и спокой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домой пойд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благие наставл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рдце мы возьм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ждать мы воскрес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опять при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послушать наставл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ебя в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но, тихо и спокой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домой пойд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благие наставл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рдце мы возьм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26:24Z</dcterms:modified>
  <cp:revision>12</cp:revision>
  <dc:subject>Slavic hymnal Гимны веры христиан, hymn 765</dc:subject>
  <dc:title>Мы окончили ученье</dc:title>
</cp:coreProperties>
</file>