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BB7F-C47A-405F-A694-C6382706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3727-D71A-4FB7-AC4D-06F78F09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C76D-3DD0-43BD-8708-52D16AF3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D352-5B70-4592-9EA6-FE9F16B1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F105-8C05-45E3-A723-ACBECEA3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1E7B-3E8E-4F3C-B0D5-05A62450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267D-F38C-42AA-A473-EDDB92DB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4686-0CB4-4BB1-A6A0-A797AFFD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9707-A63E-4009-AC97-212D30BB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689A-C986-49F3-AE58-1F90D4CD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6C1A-8B51-44E8-9320-FFA3D930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A67F-4EB2-4E29-81CD-AACD13C5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9B678-1FDB-4679-BCE0-A5BBF4FE560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и, к Христу при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спасенья возвещ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ти нас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любви и силы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ож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ож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хочет: страхи пр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хочет: страхи пр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шники, к Христу прид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ы в нужде, при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жью щедр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, святость и пр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нас влечёт к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без денег у Н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без денег у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ми своим стар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этом нам не бы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 Он, чтоб вы нужда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шли к Нему прос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чтобы вас в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чтобы вас во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гнетённые, прид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едлит кто и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м быть, то никогда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жизни не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праведных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праведных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те: в Гефсим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простёрся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древе умир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т люди Божий ст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ь ещё не убе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ь ещё не убе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площённый Бог вознёс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крови — жизнь вс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го душой наде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веряйся ник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спасти наш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спасти наш 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святые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хвалу по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х песням громко вт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а Иисуса чт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нас та песнь 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нас та песнь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9:40Z</dcterms:modified>
  <cp:revision>12</cp:revision>
  <dc:subject>Slavic hymnal Гимны веры христиан, hymn 338</dc:subject>
  <dc:title>Грешники, к Христу придите</dc:title>
</cp:coreProperties>
</file>