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E28-FDDD-45E8-AC7B-2F0E0A94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596-8EA4-4FBE-B6E4-04A29E6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561-9106-4E10-B18C-652CF22A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C68-90AA-40BB-B33F-A706CE50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8EC9-CDEA-4F50-AA09-5BE1659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E4E-A0F7-4D27-9152-02F6C29B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B8B-D8A7-418F-92C4-E1BFB24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99D-3231-41DC-AE4E-FCB1767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3A8-F2AD-4672-889B-9B23EB05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AE8-740B-4C9D-B220-9DD5A9D1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DF3-F293-4831-A96E-2784C12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875-13E4-4F9E-A859-4854969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676D2-88A6-4F47-A4AC-36761B778D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Potter, we are Your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ld us and use us for Your great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 shine through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Father, gracious and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, Your children, from day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dwell among us in might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 us, be near us, humbly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 upon us in all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us Your peace in this world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unite us in love and friend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s is the praise for ever. 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7:57Z</dcterms:modified>
  <cp:revision>15</cp:revision>
  <dc:subject>Slavic hymnal Гимны веры христиан, Ukrainian hymn 32</dc:subject>
  <dc:title>Heavenly Father, Lord God Almighty / Отче небесний, Боже могутній</dc:title>
</cp:coreProperties>
</file>