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8</a:t>
            </a:r>
            <a:r>
              <a:rPr b="1" lang="ru-RU" sz="3600" spc="-1" strike="noStrike">
                <a:solidFill>
                  <a:srgbClr val="ffffff"/>
                </a:solidFill>
                <a:latin typeface="Verdana"/>
              </a:rPr>
              <a:t>	</a:t>
            </a:r>
            <a:r>
              <a:rPr b="1" lang="ru-RU" sz="3600" spc="-1" strike="noStrike">
                <a:solidFill>
                  <a:srgbClr val="ffffff"/>
                </a:solidFill>
                <a:latin typeface="Verdana"/>
              </a:rPr>
              <a:t>Мой дом и я служить хотим</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ой дом и я служить хот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Христос, лишь Одно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дай мне силы самом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лушным быть рабом Твои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О, помоги в поступках вс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ыть самому в пример для тех,</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которыми я должен 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торых должен я люби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сегда лишь мыслью занят 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я и вся моя сем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двигли в сердце нашем хр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им спасительным слова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Тебе, как жертву, отд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бя и всю мою семь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слышь, Господь, мольбу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лагодать излей Твою!</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7:14Z</dcterms:modified>
  <cp:revision>3</cp:revision>
  <dc:subject>Slavic hymnal Гимны веры христиан, hymn 168</dc:subject>
  <dc:title>Мой дом и я служить хотим</dc:title>
</cp:coreProperties>
</file>