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C64-163E-4697-B6C0-373228B7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D35-D3E9-49C1-A7E4-95D009DC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438-63D0-473E-A554-A05DC03F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BC8-C863-46D6-A3D4-9BD1EA1B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136-EA4D-4AEB-9FB4-2A20B73D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52F-8F8F-4981-9A6D-0BCEDEE0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205-2C43-4934-943E-9551B1EB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F70-E433-46A2-B7BE-1416EB0E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B4D-ADA6-4641-9FFD-EBFA3B5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27C-9E17-448E-81D1-06DDEF4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895-A5AF-4B85-815E-C791F2C8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BFC-A19E-4C7E-A2E9-F59AFB36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CF902-717B-47B3-B810-7BD1B1E842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03Z</dcterms:modified>
  <cp:revision>12</cp:revision>
  <dc:subject>Slavic hymnal Гимны веры христиан, hymn 689</dc:subject>
  <dc:title>Встретимся ли мы с тобою</dc:title>
</cp:coreProperties>
</file>