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456-07DD-4359-A1A6-CE0A8AF2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303-73D0-4693-8267-7E94619D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482-BE92-44DF-8EF1-7B450EC0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AC4-4DB1-4FC4-A7A2-4FE036C4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D7AD-8CBE-48B5-8006-C72310B7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6DB-9B53-4AA2-A9ED-B322F1AB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AB6-48FA-4F2F-9F70-4B53F10E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3EC-9542-458D-9CD2-3C8DF997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92A-082D-446A-90D7-8F97A05B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685-D4BA-4D08-9F89-504A434B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4F7-6A41-4014-9556-DFFC1B73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F74-6C61-49D6-BA5F-905287EB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E5477-78B6-4693-A0BC-2D085E7DBD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обедимое нам дано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гонений его воз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в удел приобрёл Себе 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победу даруе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победимое нам дано зна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йдем за стан ко Христу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ши наш крест, Его смерть возвес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традали мы с Ним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 во славе восцарствуем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ясь, носим бесчестие м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споведывать имя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мы глядим с уповань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хвалой Его наши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овал нам державную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Спаситель врага побе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Он и в нас совершает поб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ем вечного Господа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в бой без сму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 пеньем пой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Иисусом, без отступ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 с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2:39Z</dcterms:modified>
  <cp:revision>12</cp:revision>
  <dc:subject>Slavic hymnal Гимны веры христиан, hymn 496</dc:subject>
  <dc:title>Непобедимое нам дано знамя</dc:title>
</cp:coreProperties>
</file>