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7AF-B36B-4722-B1C5-3C29B9EB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A81-DEDB-401C-803D-1611306C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CFB-1ABC-414E-9C92-988C1A9E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171-93FC-4745-9268-9BB1B449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BF7-0CEF-415E-9A41-E60F8BDF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AD6-E5DE-44C6-B947-0077D20C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820-973D-496E-B3ED-2DA7A762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956-8ABE-409A-BEFB-0687400F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BB0-EE9A-4A4B-9C6D-B65593C4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726-10E2-4BC2-8F27-E3D05A6D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1B4-051B-416D-9AD3-B3590C56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778-5F1A-4D7C-8506-9CEAD820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308C8-B978-4AB4-A3DF-745BFFC6A5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8   You Ar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, O Lord, so worth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, O Lord, so wort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, O Lord, so faithf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, O Lord, so faith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priv’lege and an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at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esence as Your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O Lord, so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35Z</dcterms:modified>
  <cp:revision>12</cp:revision>
  <dc:subject>The Source 2, song number 1078</dc:subject>
  <dc:title>You Are Holy, O Lord, So Holy</dc:title>
</cp:coreProperties>
</file>