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453-5015-45CB-A3F8-A821D8E8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9AB-24CE-429A-A2E4-1B77C63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839-A917-4863-9247-55C9C421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40C-2905-4C69-82FF-322D37D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9F9-655D-47F9-97D6-BF3780C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A7E-A77E-4689-A303-D4A7817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1DE-D884-4E59-9748-6935FCED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553-6B62-40CE-B134-93E429F3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9B1-4695-4FF4-8F47-F9327070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936-50AC-4833-81FB-AA338A2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3D8-A374-4A7F-A1CA-25CAD10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A29-DCBF-4D75-BD30-70247637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F6242-55DE-4582-8521-40A667851C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Know He Rescued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He rescued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lood has cover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ame He’s taken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ain is healed in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, I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aise a bann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 ha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y bur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with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dancing on this mountain-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Redeeme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13Z</dcterms:modified>
  <cp:revision>11</cp:revision>
  <dc:subject>The Source 2, song number 768</dc:subject>
  <dc:title>I Know He Rescued My Soul (My Redeemer Lives)</dc:title>
</cp:coreProperties>
</file>