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A2C-D17D-43A2-9D89-9EF019CB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498-6D68-4005-995E-53A7E2A9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978-E797-4B84-8659-46160E4E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52F-CCCB-4D84-A0C2-B7525F7B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455-7E92-47B3-A173-08600803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F63-3A20-468F-B832-46905B2C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0B3-88C1-4A41-ADC8-59A77F89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17A-2FCB-46B3-A877-77F7D215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0F5-BD37-4CE5-B647-61098025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01D-FC2B-4A67-BF29-28B8DC8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6C2-38A7-4D47-B921-A5E1B26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0FA-11F6-4210-B41D-104D35D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FCCBD-E895-41A7-B38E-34ACA98A4A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время приш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tongue will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day ev’ry knee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ill, the greatest treasure remains for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время, скажут, что Ты есть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ени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 сокровища небес для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вой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65040"/>
            <a:ext cx="962028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we choose to surrender 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ingly our knees wi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ll our hearts, soul, mind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gladly choos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 2-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отдаём мы Теб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хотно склонит каждый из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жизнь Тебе мы с рад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м, Господь,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6504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now is the time to gi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to wo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, just as you are before your God, Come, come, 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пришло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время отдать Ему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 поклон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такой, как ты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Отца, Приди! 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0-12-18T07:17:20Z</dcterms:modified>
  <cp:revision>10</cp:revision>
  <dc:subject>The Source 2, song number 662 in Russian</dc:subject>
  <dc:title>Приди, время пришло поклониться / Come, Now Is the Time to Worship</dc:title>
</cp:coreProperties>
</file>