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BA42-2DB8-47FB-92C9-E1945F7D9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94CB-61B3-4CC9-B177-AEB09E9B0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A385-3591-4C18-A246-053EB7CDC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A57E-5E5B-49F4-B615-8FB6AED2C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C40B-A217-451B-8568-4FBC26727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6BAB-A2C5-48AB-A1D2-68E2A4C09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0205-5C88-416A-AE8C-F25426AD5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CA62-2B92-477E-B380-CFB7883A6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2D28-7791-48AA-B195-77F8F3EB2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A3D8-8B76-42F7-90DA-169B22C4B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F23D-50B0-4374-BCBC-D12D59798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E442-79EA-4831-A873-E585FB419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452A4F-38CA-4728-AD89-8118796C61A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sn’t He beautifu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autiful, isn’t H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Prince of Peace, Son of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sn’t H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sn’t He wonderfu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onderful, isn’t H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unsellor, Almighty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sn’t He, isn’t He, isn’t H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242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Isn’t He Beautifu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es, You are beautifu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autiful, yes, You 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Prince of Peace, Son of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es, You 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es, You are wonderfu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onderful, yes, You 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unsellor, Almighty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es, You are, yes, You a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es, You 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6-25T08:39:51Z</dcterms:modified>
  <cp:revision>10</cp:revision>
  <dc:subject>The Source, song number 242</dc:subject>
  <dc:title>Isn’t He Beautiful</dc:title>
</cp:coreProperties>
</file>