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2E0-FF77-44DC-885E-950433EE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C38-91D1-4E5B-9AF2-D84CFE4A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966-ADBD-4F7B-A90A-F549C826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407-2C7C-4C31-9FB4-DCB1C8EB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945-4FE5-4DAB-823C-301E5FE6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01C-33E4-4762-81C0-ADED45F3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F2E-C41C-4C3F-AA55-2581E248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D8C-6316-4154-A868-88E4E45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F0D-36DD-4B69-B014-40F1764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0B8-9235-475B-BDA7-675BEC19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03A-3BC0-44D9-99D4-CC0FD89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D36-2947-4144-B610-0FF061C7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1EBA3-7524-4D83-BFAB-BBD217D2391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повисла над городом юж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вспыхнет восток голу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 на земле мне не ну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олько Спаситель с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шёл меня в мире сур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души моей тягостный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Его всемогущим пок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ё сердце от счастья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чь повисла над гор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ичего не мог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не прожить не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 Ним я пою Аллилуй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в Нём отдыхает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ывают минуты лих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как море, запенится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не боюсь я сти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ядом Спасител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йный ветер над городом 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ажая деревья в с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 от Христа не пой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уда, ни за что не по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40:37Z</dcterms:modified>
  <cp:revision>12</cp:revision>
  <dc:subject>Slavic hymnal Гимны веры христиан, hymn 790</dc:subject>
  <dc:title>Ночь повисла над городом южным</dc:title>
</cp:coreProperties>
</file>