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180-635B-46D0-9D55-092F66D5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BF6-F088-45D7-BF40-5C7282A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8A3-3534-449E-A628-F29AE2CC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5E5-3449-4380-A666-E3FB3F2F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814-E09B-45BB-82E4-90213B14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266A-1E26-4FEE-9A10-3FE0C61A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78C-BFE6-4995-827E-97A1454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0A9-F105-4E37-B85C-6410CD62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B18-346C-49B9-B803-5660D5FD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2EA-3E2C-4DF0-99D3-8D50166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817-58FE-4B15-A233-5CBB2531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3B9-145E-42D0-B938-D68AF4BF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94117-5BD1-4BAE-BBD6-A0C2B2438F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чудов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паситель в перший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і мною в заповіт вступ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окоєм серце наді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5   О, див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айшов мене в долині слі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Він Пастир добрий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же Його, я вже не сві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в любв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руку простягнув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ви серця розігн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валу я Господу від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дивний день, коли пізн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шею я любов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серце Господа прийн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асливий став на вс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пер зі мною Він 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укою Сам мене в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день, день щасл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Христос гріхи прост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9:18Z</dcterms:modified>
  <cp:revision>14</cp:revision>
  <dc:subject>Slavic hymnal Гимны веры христиан, Ukrainian hymn 15</dc:subject>
  <dc:title>О, дивний день, чудовий час</dc:title>
</cp:coreProperties>
</file>