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D46-D3D2-4BD5-AE8A-26532F0D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F79-99F1-48F6-B127-66883387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595-F862-403F-A266-F63BD069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772-BD39-422D-9C2F-03B7B5D5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273-4DC0-49DB-8182-B95A23CF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718-C6B0-4F55-91DF-64E8E5E5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D67-94D3-45DD-8573-2BE33969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0D6-70C8-4BAC-BB47-C9AB6A7A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C52-6D99-4FBD-B644-74AA2839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C08-F429-4957-A689-7A1E1F1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810-B4EF-4A48-A010-13703AA6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7D1-26EB-4567-91FF-E60966FC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8E017-D59C-4F93-B300-AE6CAE5178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 дрогнет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если даже и будет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 не страшись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 по тропинке с тобою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есь мир побе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тебе ведь Он даро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ты так слаб и без с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на пороге неведо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пает силу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, что даром дарит нам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то течёт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пороге неведом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адеждой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Бог любовь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х обителях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38Z</dcterms:modified>
  <cp:revision>12</cp:revision>
  <dc:subject>Slavic hymnal Гимны веры христиан, hymn 719</dc:subject>
  <dc:title>Пусть на пороге неведомых дней</dc:title>
</cp:coreProperties>
</file>