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5B27-16A1-420C-A626-0BD0A95E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0A1A-E898-401B-BF73-AA652CB8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3A85-9717-480C-B7A9-BF206852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78E6-1B7C-4A9A-A534-D0E6BFA9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924A-E138-4292-A746-093B5D83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3DE0-625F-45CF-B947-61CA15E9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F49A-78D4-4F66-94E3-2B80ECAC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68D4-4464-4C50-B3A2-A87E47C5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0EAC-DF1A-4852-B646-9E7BD3B1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E688-2D26-450F-8154-896DCC93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20EB-B1A5-45A1-B8A4-820FAB2E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3224-427A-4874-A639-EAD3D126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8D80A-B2A4-43CC-B799-DFFC8F36576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eard the voice of Jesus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unto Me and r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y down, thou weary one, lay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ead upon My breas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а глас я услых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глас я услых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вал: «Ко Мне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и, усталый, Мне на гр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ву и отдохн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me to Jesus as I w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ary and worn and sa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found in Him a resting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has made me gl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усталый я к Н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ечалью и то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отраду я на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, 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eard the voice of Jesus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, I freely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ving water; thirst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oop down, and drink, and liv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глас я услых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 жаждущий, смот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ю воду Я 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вкуси, жив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me to Jesus, and I d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life-giving stre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thirst was quenched, my soul revi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I live in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к Нему я и прильну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живительной стру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жажду больше, в Нём жи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лив я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eard the voice of Jesus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this dark world’s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unto Me, thy morn shall 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thy day be brigh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глас я услых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 тёмном мире —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воззри, взойдёт з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рака больше н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oked to Jesus, and I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m my Star, my Su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that light of life I’ll wal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travelling days ar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взглянул я и на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солнце и звез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ветом жизни озар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путь земной прой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4:54Z</dcterms:modified>
  <cp:revision>13</cp:revision>
  <dc:subject>Slavic hymnal Гимны веры христиан, hymn 469</dc:subject>
  <dc:title>I Heard the Voice of Jesus Say / Иисуса глас я услыхал</dc:title>
</cp:coreProperties>
</file>