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210-E770-4E02-8635-44277DDC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5C8-BECE-4DF2-BC35-F2EFB6AC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711-D2EC-433D-9A95-3D56F851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D9B-F931-4848-BD97-F0B36A01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A93-6992-46B1-8A1A-D746783B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4E4-81F4-4400-B1FF-93D408A2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648-380F-4B9B-BD6D-A215C5BB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761-F7FA-433B-A139-711DA739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EBC-ED42-4009-A2B8-4AD5040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AC8-16D7-46EB-9197-5911B7F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689-5B89-4BD1-8F25-D56757D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B02-848C-4484-9CD9-C7B5801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D9B75-2D95-425F-954E-966994A6B0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6:04Z</dcterms:modified>
  <cp:revision>13</cp:revision>
  <dc:subject>Slavic hymnal Гимны веры христиан, hymn 724</dc:subject>
  <dc:title>Взойдём на Голгофу, мой брат</dc:title>
</cp:coreProperties>
</file>