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5790-3CD6-44D1-BCB9-65D7B13E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E936-A6D0-4782-8672-304F0BFF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71A7-0DC7-456A-ACBE-4250ED8A5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6596-5FE4-486D-AA9C-96C6E51D5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425B-B815-4C65-B832-C1369710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22F0-8030-42A6-94E2-36B1B4E4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D655-8D78-4B51-8A4C-6F8DD401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1FB4-63F5-4DD6-B043-4295E92B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E27D-9D33-4134-9470-CC1D3E07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210D-53E1-4582-85F7-68215E04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5C17-F8C7-4E99-82F8-A032DCA6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669B-71C0-4D99-9CAF-2FBCD81E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B9F85-ADDD-44AB-A811-2B7CEC8BD01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, what a beautiful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Son of God, Son of Ma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amb that was sl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oy and peace, strength and hop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race that blows all fear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, what a beautiful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мя так прекрасно Твоё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мя так прекрасно Тво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исус, Агнец наш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Чудный Господ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ость, силу, мир да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агодать рекой течё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исус, чудно Имя Тво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, what a beautiful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ruth revealed, my future seal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aled my p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ove and freedom, life and warmt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race that blows all fear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, what a beautiful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мя так прекрасно Тво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стину Свою откры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нял мою бол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Жизнь, свободу, любовь да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агодать рекой течё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исус, чудно Имя Тво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, what a beautiful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scued my soul, my stronghol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Lifts me from sh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giveness, security, power and 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Grace that blows all fear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Jesus, what a beautiful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мя так прекрасно Тво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пас и сокрыл, искупи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нял мой позор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оя безопасность, прощенье грех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агодать рекой течё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исус, чудно Имя Тво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1T14:50:18Z</dcterms:modified>
  <cp:revision>11</cp:revision>
  <dc:subject>The Source, song number 301 in Russian</dc:subject>
  <dc:title>Имя так прекрасно Твоё! / Jesus, What a Beautiful Name</dc:title>
</cp:coreProperties>
</file>