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5DDE-E918-4D01-85F3-7A1C2BAD8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B6AC-40C2-43DB-BAB3-D9D2E5842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5A3A-391F-477B-80AA-34FFA46B4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06D9-559B-44AC-8FD2-D14C2A5CA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F7BC-BA7B-4E2C-BCE2-B75BB2DA3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10E4-B853-49FD-BC34-91C5FEBF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130E-F3C7-4E86-AF81-DCE6B5884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4133-D901-4445-80EF-2E6579CBE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7726-02A7-4EE7-BD6F-4524FEB97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88DA-185A-4F27-B3BE-A61E9AAE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ABF4-8E0C-4C98-9C76-CA2202D3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34E6-6790-4524-BCDC-0A02E8DB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CE71FD-1460-4E48-A32F-4C929B74E8F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aithful One, so unchang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geless One, You’re my rock of pe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 of all, I depend on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ll out to You again and ag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ll out to You again and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rock in times of troub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lift me up when I fall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through the st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 is the anch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hope is in You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144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89   Faithful 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4-04-12T09:10:20Z</dcterms:modified>
  <cp:revision>10</cp:revision>
  <dc:subject>The Source, song number 89</dc:subject>
  <dc:title>Faithful One</dc:title>
</cp:coreProperties>
</file>