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35A-C3A2-4A47-BE8C-1EDDD2C3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A2C-73CA-4FEE-93E3-88954092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8F4-2858-493E-AEDC-1480521C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B49-9574-48AB-8041-1CF9D625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7C6-B928-423F-866B-0D7FD476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874-C6EA-4919-9D98-0840D447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BBD-423D-4FFE-AC2A-D83957A1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BD6-DDC5-448F-B004-CD9E6CDB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0C0-D3FD-4D6C-9CEF-1CDA13DC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F95-8689-424D-B8E3-402A5E7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81B-72C7-4800-AEA4-10C36EA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9F1-BA58-4C62-8D29-062A3200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3E14E-5767-47D7-A992-0061FA2B70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aught me how to wat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tch and pray, watch and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ve rejoicing ev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day, ev’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Jesus washed (when Jesus washed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hed my sin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O happy day! O happy day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 (O happy day!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app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5:26Z</dcterms:modified>
  <cp:revision>11</cp:revision>
  <dc:subject>The Source 2, song number 908</dc:subject>
  <dc:title>O Happy Day!</dc:title>
</cp:coreProperties>
</file>