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B80C-AFC9-4C31-99E1-7937DE21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D71B-227C-4CF3-BFBC-D4AF86C2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EDC5-20CF-4EAF-A402-35ABE5FDB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A0DD-A05A-4EA5-9B79-6FCB687E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B0E5-61B1-4400-B642-612871EB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C6C5-278E-47EC-BD3E-1ADF9F65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0546-E6F9-4788-9CBE-3C7DAD7C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729F-CA0E-4788-BA1C-AC391539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CA23-553E-4287-AF83-BEF602BD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BD1A-EC30-4C6E-9256-FD5360FB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FF71-825D-47A9-A480-5B89AE0C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EBAC-0C4F-4901-95BB-7DFED8BD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BC005-B2F6-460A-9EA0-D20F2DBF6CA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чую про Христа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 серці весе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співаю в простот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 ― Ісус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на тьму гріха і з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гинув, подив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звучить моя хва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 ― Ісус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1   Коли я чую про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і моїй Ти радість 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тепер мо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цілий світ, як я, спів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 ― Ісус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якій безодні потопав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гадати я бо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і звідти врятув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, І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віті я без Бога ж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же я учу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щати, як мене прос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, І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і моїй Ти радість 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тепер мо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цілий світ, як я, спів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 ― Ісус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Тобою мертвим був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же я учу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Тебе, як Творця люб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, І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Тобою мертвим був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я весе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дух від смерти ожи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, І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і моїй Ти радість 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тепер мо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цілий світ, як я, спів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мій ― Ісус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4:46Z</dcterms:modified>
  <cp:revision>12</cp:revision>
  <dc:subject>Slavic hymnal Гимны веры христиан, Ukrainian hymn 71</dc:subject>
  <dc:title>Коли я чую про Христа</dc:title>
</cp:coreProperties>
</file>