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492A-3C81-4C80-AD37-A9D8C239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1441-6578-42E1-80EF-E7DEC32E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476A-EEBB-4C2B-83C6-5BC89E69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BE6C-9F4B-43D7-B3B2-ADD86723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36BB-9DF4-48FC-9551-CF9C4913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B623-85D5-4A2D-ACED-679B76EC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7C71-8457-4DE7-A672-06794E7F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DA04-9A2A-439B-86D7-5D7EE42F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FC79-31F7-4D97-AB7C-1C8486C6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85CF-36F8-45E3-AF2F-95077F62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B4BF-0BBF-4B9C-B803-7BD8834D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D1D4-DD58-43B0-B0C3-BAFF3294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9F0FA-04E3-4ADB-820E-1109A49424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without one pl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at Thy blood was sh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Thou bidst me com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аков, как есмь, о Боже 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о Боже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еп, и наг, и слаб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ровь лилась и за грех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 Тебе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and waiting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id my soul of one dark blo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 whose blood can clea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ch sp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я не мед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у скорей Спасите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 моих Цел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 Тебе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I am, though tossed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many a conflict, many a doub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ghtings and fears within, withou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I come, I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в, как есмь, в чужой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м пронят внутри и в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раскаяться в в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 Тебе и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19Z</dcterms:modified>
  <cp:revision>14</cp:revision>
  <dc:subject>Slavic hymnal Гимны веры христиан, hymn 479</dc:subject>
  <dc:title>Just As I Am / Таков, как есмь, о Боже мой</dc:title>
</cp:coreProperties>
</file>