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F97-8B4D-4E45-AFB9-46EBE354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BF5-3C0E-471F-B800-C6210FD8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1B7-05BA-4726-93C9-2707A315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927-07D2-4AFE-BAE2-9C285D1C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842-9F32-4957-A081-53EDD5C3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C86-8B1C-464F-8D40-D58C6B23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059-B3A3-4A89-981F-71F73D40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6C0-024E-476C-9987-43C4FB5D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E3D-2E3C-4FA1-9313-20097501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990-1E63-4848-BFC8-45CC04B9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510-8DD1-4555-B61A-10EE6C3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9EC-2E72-41C2-925C-2C2CEAC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CD3EF-F90A-4DAE-8650-C5B62FE218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чудесная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ся Церковь повто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радостной —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ёмный мир скорбей и слёз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весь нар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есть чудесная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пускайте по вол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й свет земли сы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жители м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трашитесь бурь и гро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Божий юби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в шуме битвы зл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ой чистой 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, если в сердце сто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ред лицом угро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те песнь в день похор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несите вдаль и вшир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ликует целый ми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дар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 царстве слёз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вечный наш пса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Христос жизнь принё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8:57Z</dcterms:modified>
  <cp:revision>12</cp:revision>
  <dc:subject>Slavic hymnal Гимны веры христиан, hymn 572</dc:subject>
  <dc:title>Весть чудесная звучит</dc:title>
</cp:coreProperties>
</file>