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729-7505-414C-AA19-1F7AD927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D8B-A0E3-4146-B7AD-0D70B41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9B4-116F-4E92-8BF8-9DAB6F31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BA7-0F7F-41B7-8E78-3703C781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E8C-EA84-4FFE-9CF4-ED7245F9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637-78AB-4701-BA38-9F2A2B38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E3B-02DF-4587-A31C-043021CD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7E9-B4F7-48AA-939B-18678A0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C34-939D-46F2-8810-C1C4EEB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87C-58C0-4360-AEDA-EE3F3948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CCA-6334-48A9-8D46-AA218647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340-9F4F-452B-B804-23F5FBA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F95E-0D2D-4643-8DF0-926BB04417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38Z</dcterms:modified>
  <cp:revision>14</cp:revision>
  <dc:subject>Slavic hymnal Гимны веры христиан, hymn 902</dc:subject>
  <dc:title>Велики и чудны дела Твои</dc:title>
</cp:coreProperties>
</file>