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985-D7F5-40DC-AFD6-C9FC1FFF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44A-22AA-462A-B4A2-D4027460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EB0-4E17-4F62-881B-A7D831EC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B8C-D104-4334-AB87-10F14BF0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1ED-A00A-4C4A-8802-C1A4887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E70-71A0-49B6-B5EA-F9AF78B8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E69-4BD0-494A-9676-A889A918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BFB-0DF5-4B70-B198-20B2B3C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1C1-2D04-4D18-B03A-6C0377A1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41F-E063-4A26-B8C3-D2B0EF7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318-C0C1-4825-9EB0-F4B526B5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7D3-97F5-495C-BB8D-A98B18A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37EA7-4027-4AB0-BB5F-D69588EE93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ой нам путь откры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 царствие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 с небес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х туда в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Он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раба Он восприн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тости для всех тру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спят, потом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ой нам путь откры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рок дней по воскрес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являлся вс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Себя на осмот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Фому уверил 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ал им обещ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Дух Святой пошл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олгофское стра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есло свой славный п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брал потом на г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апостолов С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н был простому взо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знёсся в вид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два мужа им пред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азали: «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ознёсся — вы видал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пять придёт на суд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5:45Z</dcterms:modified>
  <cp:revision>12</cp:revision>
  <dc:subject>Slavic hymnal Гимны веры христиан, hymn 310</dc:subject>
  <dc:title>О, какой нам путь открылся</dc:title>
</cp:coreProperties>
</file>