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772-B8F1-4092-9A19-EE50BBA2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0C5-DD50-4FE5-88B2-4F17395F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BBD-E374-43FA-9352-AA0F6AF7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70D-EF85-437A-BAE9-823285BF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2B4-2F7A-42B7-8D05-374C0CB2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A57-EE1E-49B1-A95A-490A2E09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F1C-BB0A-47BC-85BD-79A59897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C3E-3279-4441-B128-F1D2FEF6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AE8-CFB0-411B-BCE6-7E6C9E3B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048-70A3-4B49-AB2A-19E2274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6DE-148D-4D89-8771-49E4AC29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94D-12C2-4D45-87CC-F69F7A4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F998D-4E0A-4B29-BDFB-F11140198DF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ghteous, You love just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ose who honou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ee You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rise and lift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Your majesty, Your ho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I am will bles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8   You Are Righte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ope is in the name of the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help comes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trength,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st is in the name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faith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17Z</dcterms:modified>
  <cp:revision>12</cp:revision>
  <dc:subject>The Source 3, song number 1648</dc:subject>
  <dc:title>You Are Righteous (My Hope)</dc:title>
</cp:coreProperties>
</file>