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34E-26FD-4EC0-9AC4-28260694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133-5E45-40BA-9D00-8F808D07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1FA-C191-43B8-B33B-D6DF5D6E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5A82-EF60-4658-A7A4-05717172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A9C-1C8D-487F-89B1-49BCA228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896-28F7-422C-B1B6-13F89FD3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F46-8BCA-48B3-A3A7-93AB9557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AB11-FE95-4C7C-BDD2-16C88713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0F1-8580-4CA7-BAD5-F66BBCBC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1F88-7EB4-41FD-A34D-973E2FDA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C9DF-117C-4B7B-8C77-B3E3559D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8A2-C6F0-444F-A70D-97ABA486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BA039-0DCE-4741-85D6-45283D00165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ome before You tod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’s just on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want to s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’ve given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e blessings that I cannot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4   I Come Before You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4572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grateful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song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n out-stretched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les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4572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’ve done in my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my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ave me Your l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my sin and my sh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ok my s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aled all my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572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grateful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song of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n out-stretched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less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just want to thank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Thank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22:25Z</dcterms:modified>
  <cp:revision>12</cp:revision>
  <dc:subject>The Source 4, song number 1884</dc:subject>
  <dc:title>I Come Before You Today (Thank You, Lord)</dc:title>
</cp:coreProperties>
</file>