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FFE-8820-44F6-9CF6-F823F5CC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43C-207C-4C0A-82AB-9E7370C6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615-958B-4426-A5B9-382057F7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3A4-C3BF-417E-9141-BCFFBE6F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0AD-A408-4CD7-A35E-7AF84587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5A6-7C47-4643-99CD-F28E81BF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7E7-BF6B-49E9-85CD-E7A5CA23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5AC-5654-4347-A8C1-13508E7A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5BB-81D5-4FCB-AE78-AD94C05E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C96-3C7E-43FE-AA7F-41435FF0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44ED-15BF-4251-B643-1CF0E0D2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1A1-E9A0-4AD5-89B8-3FFFA8F1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EE358-177F-4B0E-95B9-D0ADCC0C07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eople be 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ur God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8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Lord Re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fire goes before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urns up all His enem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ills melt like w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presenc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presenc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eople be 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ur God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eav’ns declare His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eoples see Hi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, O Lord, are exa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all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eople be 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ur God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reigns, our God reig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1:48Z</dcterms:modified>
  <cp:revision>10</cp:revision>
  <dc:subject>The Source, song number 485</dc:subject>
  <dc:title>The Lord Reigns</dc:title>
</cp:coreProperties>
</file>