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1E3-0F04-441A-81C6-722B7A02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689-3717-4394-B864-303A3263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A79-4594-43BB-A261-4D32DEC4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7F3-D22E-477F-87A1-046A7CA6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79F-D1C2-41A0-A03D-6A3B9CBA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492D-5216-4CFD-86D9-09917A35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B40-402B-46B0-86F5-186A0152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A7B-0B43-4652-9622-09C60D11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F57-A672-48E9-BFA2-B25FCB13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6533-A860-458C-A2B2-5B44285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3AF-481E-49A1-96C7-3A0164B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3C2-96FE-442C-914F-AB1EBC42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D3EB7-327E-4694-82AE-7030E0BE6B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heaven was filled with His prais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when sin was as black as could b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came forth to be born of a virg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welt among men, my Example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когда с н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звучали нап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олнце взошло в тьме ноч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Сын Божий, родился от Де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л в этом мире Просвет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d Him up Calvary’s mount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nailed Him to die on the t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uffering anguish, despised and rejec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ing our sins, my Redeeme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зяли Его на Голгоф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или к древу грешников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яжких мученьях Он умер за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традал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y left Him alone in the gard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 rested, from suffering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gels came down o’er His tomb to keep vigi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pe of the hopeless, my Saviour is H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в гробе лежал Он, умерш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дан был Страдальц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 неба вдруг сошли на зем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многих — Избав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grave could conceal Him no lo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tone rolled away from the do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He arose, over death He had conquer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is ascended, my Lord ever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тщетно стерегли мог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мень отвален сил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Распятый, попрал смерти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вознёсся Искуп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ving, He loved me; dying, He sav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ried, He carried my sins far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ising, He justified, freely for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He’s coming—O glorious d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любил Он, смертью куп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ал во гробе, чтоб нас оправ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жизнь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с неба придё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trumpet will sound for His co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e day the skies with His glory will s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onderful day, my beloved ones bring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ious Saviour, this Jesus i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298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гда небо озарится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трубный звук 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почивших я увижу сно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славен Добрый Пастыр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9:24Z</dcterms:modified>
  <cp:revision>13</cp:revision>
  <dc:subject>Slavic hymnal Гимны веры христиан, hymn 836</dc:subject>
  <dc:title>One Day / Некогда с неба</dc:title>
</cp:coreProperties>
</file>