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E1C-0CCE-432C-B513-339C9A38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13F-1EFB-44A1-B20E-D1D6C911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4D7-9C0C-420D-8FBB-8EB61375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03B-128F-4F2C-9A12-74547BA8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BF7-E80D-4017-B413-1640450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F69-8518-4BAC-8BE8-45E0C1F0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D38-13D5-4AB6-BC7A-41CDF449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0D0-2316-4FBE-BE44-30357C17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8C2-B48C-468B-9652-CDE0C6E7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0D0-7220-420B-9F61-3825F431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042-9D2F-4716-B557-70CB5715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C86-D5CC-4A66-AAE8-8CF7694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69472-2675-4579-AA50-7351F138BD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пробуждения, нет пока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е души блуждают в поть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рассвета везде увя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спокойствия — ужас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о Господи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ю Твою заменивш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ленные ценности стали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х сокровищ и славы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т проб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ам придёт, если мы неради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полюбит, коль души тем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орили нечестием нив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е дочери, дети, сы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, Всевышний, на нас Ты в оби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возмездий Тво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ишь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удрыми девами будет ж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наша с каждым мгнов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роч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жидает нас всех вперед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исцели наши уши и о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окаянья в сердцах пробу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покаявшись, мы пока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другие сумеем заж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жалься над нашим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стоя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страни Твой карающий ме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7:59Z</dcterms:modified>
  <cp:revision>12</cp:revision>
  <dc:subject>Slavic hymnal Гимны веры христиан, hymn 780</dc:subject>
  <dc:title>Нет пробуждения, нет покаянья</dc:title>
</cp:coreProperties>
</file>