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DE3-532D-4158-A5E3-41ED3144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3FC-331C-4D4A-96C7-BDDCD94E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CD8-8CF2-49B2-85F6-BF2A89D1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465-43C2-4262-BB6E-32E03531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01E-002A-4B76-BC1F-231CB679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CF2-D024-43EC-9C8B-22624CCD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06D-D487-4623-95AD-5F809622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ED5-CBCC-4C05-8CE3-42AFD418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05D-CC7A-4154-9805-927B8480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6CA-2914-4113-B864-4F2E988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DEB-0007-4150-9773-8B285D45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77C-86FD-4134-B70E-4EE89AC7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FC338-D4A5-4C55-8AE4-77804BC684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a moment, You ar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the ages, God befor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a vapour, You are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everlasting, reigning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 who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st praises, honour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Your name, be unto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6   We Are a 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the broken, You are the heal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Redeemer,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ove-song we’ll sing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ing before You, blessing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 who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st praises, honour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Your name, be unto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1:12Z</dcterms:modified>
  <cp:revision>11</cp:revision>
  <dc:subject>The Source 2, song number 1026</dc:subject>
  <dc:title>We Are a Moment (Be Unto Your Name)</dc:title>
</cp:coreProperties>
</file>