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E67-A69C-4CF7-A6C5-D0B0D3E3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11F-26A6-41E9-A3DE-EB57764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CB9-6308-48BB-9EAA-C7FE9EA9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7D3-EB37-45C6-A91E-6EC7F93A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C16-4D88-4871-AA59-9CCB55F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BF6-E010-4A35-A799-A40F7D61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546-D71A-487B-9B7B-28645AD6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F88-278F-48A9-906E-E1F9E9F9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011-710E-4874-BF30-70C70BE3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C33-2E51-4F29-8619-F0C816B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CF1-1289-4D9B-85DD-1E24E81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0FD4-A188-40E5-9EC6-FD97CBA1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07D60-FE8D-4498-8AB5-DAFCAC24AB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now, but in the coming y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be in the better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read the meaning of our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-то в свете без те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а там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ём значение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кровенное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catch the broken threa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inish what we her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will the mysteries expl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h then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м потерянную 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чим начатое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тайны сможем у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емное там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know why clouds instead of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over many a cherished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ong has ceased when scarce begu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re, some tim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емнело всё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пеха не было ни в ч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есня обрывалась вдруг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небесной мы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knows the way, He holds the k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uides us with unerring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 with tearless eyes we’ll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there, up there,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нает всё, Он держит клю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зноя нет, ни грозных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т и мир, там всё пой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trust in God through all the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for He doth hold thy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thy way, still sing and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time, some time we’ll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Богу доверя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прямым пут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темно, но близок 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о, там мы всё пой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37Z</dcterms:modified>
  <cp:revision>13</cp:revision>
  <dc:subject>Slavic hymnal Гимны веры христиан, hymn 667</dc:subject>
  <dc:title>Some Time We’ll Understand / Когда-то в свете без теней</dc:title>
</cp:coreProperties>
</file>