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4C8-D369-459B-9597-B1B0F8D7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85A-CB62-4517-9D21-62FED227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B5E-0413-497D-9BDA-9A95BA3F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140-888D-4825-A0C3-276C420B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126-1E96-486F-AC24-28931807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C7E-0B1F-4F84-AD9B-333B6340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3BE-9A44-4860-98D7-33F694FC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EC6-880E-49DA-85F7-8450288D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0BF-8EAF-41D7-A980-468B09F3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21B-E40B-4B68-AD82-A857A9E7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D95-4637-4AE3-BC0C-1D77E0E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9E3-0D69-411E-9F74-A0440F40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2C249-C9C0-4A1E-B510-D0667925D1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, и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ердце озар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да воспр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ух в борьбе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уж полдень зной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к тру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ю спокой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оможет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 не у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труд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пожелтела н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жатва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ен звук призы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руж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колос не ув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жи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единитесь,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ом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и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лабый не от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ущённою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1:51Z</dcterms:modified>
  <cp:revision>12</cp:revision>
  <dc:subject>Slavic hymnal Гимны веры христиан, hymn 529</dc:subject>
  <dc:title>Друзья, взошло светило</dc:title>
</cp:coreProperties>
</file>