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D5A-3BBF-4F1E-9D7E-2001420E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56E-C059-496F-B363-F496CF5F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962-3353-4B83-A5FD-723EBBF4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30C0-87C8-43AF-9612-BAE718BF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46B-B854-498F-90A0-4E34A3A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9B5-EFBC-4FD6-97C9-0FD1100F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E1F-29DC-4D0A-BDFA-58EB2769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C28-CE37-4A32-B356-3F15E2D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596-485A-44FB-9AFD-998F74FE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896-140B-4F18-8E2B-F5CE586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B46-A1DE-4EFE-94BF-ADB81CE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79B-4A5F-4666-AAA6-6E70F4BF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ADF41-A0BE-42BB-AE64-C3BD0460F8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у Божу м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таренька вже в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ригадую минулії дав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моя мати знай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пасіння 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буду я часу щасли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3   Книгу Божу м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ю: про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читала мати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в, страждав, вмирав Ві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уважно слухав вс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за тебе ц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―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ворила мати ― ти Його люби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 давно, давно я ч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лів тих не за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і ця Книга ― світло на шлях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лова Христа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вперед за Ним 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до щастя хочу вічного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вята і ж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нига Божа! я люблю, люблю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вернути не д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арство Боже нас вед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, куди прийм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с і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11Z</dcterms:modified>
  <cp:revision>12</cp:revision>
  <dc:subject>Slavic hymnal Гимны веры христиан, Ukrainian hymn 73</dc:subject>
  <dc:title>Книгу Божу маю я</dc:title>
</cp:coreProperties>
</file>