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7</a:t>
            </a:r>
            <a:r>
              <a:rPr b="1" lang="ru-RU" sz="3600" spc="-1" strike="noStrike">
                <a:solidFill>
                  <a:srgbClr val="ffffff"/>
                </a:solidFill>
                <a:latin typeface="Verdana"/>
              </a:rPr>
              <a:t>	</a:t>
            </a:r>
            <a:r>
              <a:rPr b="1" lang="ru-RU" sz="3600" spc="-1" strike="noStrike">
                <a:solidFill>
                  <a:srgbClr val="ffffff"/>
                </a:solidFill>
                <a:latin typeface="Verdana"/>
              </a:rPr>
              <a:t>Ты для меня, Спаситель</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You came for me, O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heav’nly place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ft Your abode in hea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erful place of lov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ошёл с святых небе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ил Ты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ю полную чудес.</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came for me,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nt through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praise to You,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nour and praises be!</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came for me,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nt through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praise to You,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nour and praises b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Saviour! You came from hea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humbleness subli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orn in a lowly stabl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ved for the poor and blind.</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ирившись, в яслях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епым Ты был вод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бедных мира жил.</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came for me,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nt through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praise to You,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nour and praises b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Saviour, Your love is precio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t draws me close to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want to live for You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ce I was saved by You.</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красо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и Твоей плен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жить хочу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бою я спасён.</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came for me,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nt through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praise to You,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nour and praises b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Saviour, my heart desir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de in You each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Make Your abode in me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otect me by Your pow’r.</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 Тебе лишь, о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сокрыться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мне Твою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трой Ты для Себя.</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ou came for me,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ent through Calv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praise to You,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nour and praises b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для меня, для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Голгофский крес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о мой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а Тебе и честь!</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I want to sing for You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ways and eve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 belong to You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ld firmly in Your pow’r.</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ебе лишь петь хоч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гда, во всякий ми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принадлеж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есь в руках Твоих!</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8:07Z</dcterms:modified>
  <cp:revision>3</cp:revision>
  <dc:subject>Slavic hymnal Гимны веры христиан, hymn 117</dc:subject>
  <dc:title>You Came for Me, O Saviour / Ты для меня, Спаситель</dc:title>
</cp:coreProperties>
</file>