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647-4A39-44E3-8268-4684C10D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F1A-CDCC-49D2-B4F0-134EEF6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CDD2-283B-44C5-BCE8-3DDDF6B1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21A-9242-4CE4-A135-7B9F4618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69C-2910-4912-A0BB-87A8AAB5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6AA-2546-4C2E-B51F-16235394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8F7-72CE-4972-85E4-967005A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774-179E-4508-8C7A-F6786961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BDF-8281-4566-BEF6-0B782627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D1B-6F75-4D90-8DA0-409B4C31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107-5C6B-428E-9BF6-9870B58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960-DC9A-48B8-9D6A-F86C3DE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A3092-ED2C-4AEE-BE3C-34406DDAC02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1Z</dcterms:modified>
  <cp:revision>13</cp:revision>
  <dc:subject>Slavic hymnal Гимны веры христиан, hymn 597</dc:subject>
  <dc:title>I’ve Found a Friend / Я Друга дивного познал</dc:title>
</cp:coreProperties>
</file>