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90E-24C5-4007-93F4-F17DD378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596-2A3D-4F27-8C37-1AFB345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04F-7D5B-4AD6-9254-A41D911F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D8E-5A89-4AC8-9D37-4268A92E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B7B-8B44-4654-ACE6-B3F99D3C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2F3-9D39-4EF1-8D96-ECA400DA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BD2-B545-47DB-A32D-2F052CC3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3B5-A6C9-40CE-AAFE-72DED92B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1BBB-D448-4CF1-8630-0A67968F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E58-E332-4AD4-BBE2-4B98017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C13-9F12-4319-8B32-8C804FC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C3B-747A-4374-A181-E2AF849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940D5-E939-4AEC-9FE0-36CC29A2EC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3:02Z</dcterms:modified>
  <cp:revision>12</cp:revision>
  <dc:subject>Slavic hymnal Гимны веры христиан, hymn 847</dc:subject>
  <dc:title>Спаситель, мысли о Тебе</dc:title>
</cp:coreProperties>
</file>