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2F754-4ADB-4011-AF47-53231066D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60343-A799-41F4-BEB5-B4CDBB13C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018F9-14BC-4608-A48E-637A085DE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77C44-A5FE-4F3F-9D04-18A4B5A87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CDB91-393A-437F-8E3B-6499AC10D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B33F0-E3DB-4B31-960A-B29B7DE65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6E361-34D6-46A8-9C20-96DA40CA7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CA07B-E22F-4FDA-9151-B61E72551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4FC41-0069-4CE8-A1FA-DAE2E944C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D3E36-1E45-48AA-B3EA-39733378B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E321B-0B3C-4885-B883-EDCBAA829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CEEB2-F164-449F-A313-7EAA7B4B4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BF4302-90C9-4FD6-B8C3-731CCF690014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дя дорогой одинок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видел странника с сум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гнулся, шёл под ношей тяжк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мне сказал, дав знак руко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Возьми крест свой, иди за М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бя давно Я оправдал»,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как могу Ему я отказ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дь Он мне всё отд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47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Идя дорогой одиноко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говорил ко мне и сразу 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знал, что это ― Иису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дал мне жизни наставлени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некто, шедший в Еммау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Возьми крест свой, иди за М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бя давно Я оправдал»,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как могу Ему я отказ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дь Он мне всё отд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чу я, Боже, нести крест тепер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крест передо мною ст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т, от которого я сердца двер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гда до сих пор закрыв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Возьми крест свой, иди за М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бя давно Я оправдал»,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как могу Ему я отказ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дь Он мне всё отд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й крест нести я буду до конц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 достижения венц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святой Своей деснице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ношу снимет Сам мо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Возьми крест свой, иди за М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бя давно Я оправдал»,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как могу Ему я отказ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дь Он мне всё отд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7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4-17T00:07:24Z</dcterms:modified>
  <cp:revision>13</cp:revision>
  <dc:subject>Slavic hymnal Гимны веры христиан, hymn 447</dc:subject>
  <dc:title>Идя дорогой одинокою</dc:title>
</cp:coreProperties>
</file>