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673-3045-44BF-BE9E-183C1643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66C-D771-4E2C-A6E8-5762078C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09D-D76C-4B36-85D1-049ADD86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890-80CC-4077-A2C0-4D64043F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0CB-A317-4949-8F0B-A96AEEDD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A9B-E7F7-40D8-9837-0713B1DD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E944-1D74-4A60-B666-610F5697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E08-8B1D-432B-AA5D-1D151428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69A-F8DB-4015-B0AC-516527E8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376-A35E-4177-93CD-72B236A7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1B6-DF26-4676-BA40-027AE83F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A5F-199F-4647-AFDA-EBA58852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2B399-E893-4E80-ADFC-19EF04EF8B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our confession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ar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very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are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we’ve nothing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ay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come to Your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ay, “Help us alo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t’s Our Confession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broken heart and a contrite spi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yet to de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eart of mercy b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’s strong curr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river flow by Your Spirit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c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mercies fall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t mercies flow from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ew mercies for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shower them down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39Z</dcterms:modified>
  <cp:revision>10</cp:revision>
  <dc:subject>The Source, song number 248</dc:subject>
  <dc:title>It’s Our Confession, Lord (Sweet Mercies)</dc:title>
</cp:coreProperties>
</file>