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F40-1EE0-4091-891A-AFD44959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676-614E-4BE4-BA06-A19813B7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764-4DF5-4B92-8BA7-C0BDF996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2AE-9991-45C1-8EF6-DE8DA700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D7D-E74E-4C22-8859-1683103A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EA6-FCB1-4A7C-A27E-BAA7A9A5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934-FE50-4FCA-8EB7-57942BD4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794-328B-4D9D-87AE-011022F8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8D9-55EB-4CF0-BD4D-6BE98C4E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0FB-72FA-4B66-93A7-3AEDA3B0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DE07-85F4-4911-9254-A933720A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EC7-BC23-4FA9-B096-DFB3076B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532CD-78A8-46BC-9F36-FBC8CA5D5A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Ему принадлеж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упованьи и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Его хож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сё Иисусу отдаю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кладу к Его н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ету отверг зем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ю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ь хочу Христ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Предвечный да нау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ть Христа, Христа люб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, храм во мне соз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ю и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 и сердце наполня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Иисусу отдаю 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о Он во мне сверш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радость дал святую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а, слава Богу с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 (всё я отдаю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Тебе, мой Искуп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я отд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59Z</dcterms:modified>
  <cp:revision>12</cp:revision>
  <dc:subject>Slavic hymnal Гимны веры христиан, hymn 547</dc:subject>
  <dc:title>Всё Иисусу отдаю я</dc:title>
</cp:coreProperties>
</file>