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9F31-0899-4331-B2D9-9CF285F6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296F-CE52-425C-960A-BFEF8CF4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484D-B373-4F14-8BD5-8A219FA7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7AC9-B31E-4E4B-B109-BA45F36D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E9EF-2752-4062-844D-662F4D50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841A-E41D-48C7-9887-FF22CA41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03D2-F58A-4304-9B68-ABACFBBE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4F76-93A5-4E0E-840A-E738C39B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C1AA-3505-4ABA-BA06-0E7F239E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4B55-1904-4545-AA75-17D3B1AD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8973-CDB7-47D5-9C3E-DF67B762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FBE3-1D47-495E-92CC-2DA3B672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77C00-11B6-406D-8903-8AF7625217E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I once held d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ilt my life up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is world reve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ars to 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11   Всё, что я цен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я це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оил жизнь на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чтает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б 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I once thought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have counted lo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pent and worthless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ompared to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терей сч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атой, суе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, когда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ился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ing You, Jesus, knowing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no greater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all, You’re the b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joy, my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love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ть Тебя, Иисус, знать Теб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ичего важ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не жизнь, лучше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праведность и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им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Now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to know You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 found in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known as Y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Тебя по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ывать в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нести Тво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все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possess by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at I could not ea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-surpassing g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правед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обр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бесценный 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ing You, Jesus, knowing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no greater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all, You’re the b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joy, my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love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ть Тебя, Иисус, знать Теб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ичего важ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не жизнь, лучше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праведность и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им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h, to know the pow’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Your risen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o know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Your suffer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енья 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чу по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трад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по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become lik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Your death, my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with You to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never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делить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, и смерть, и п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жить в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ир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43080"/>
            <a:ext cx="91440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nowing You, Jesus, knowing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re is no greater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all, You’re the b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’re my joy, my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love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772080"/>
            <a:ext cx="9144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ть Тебя, Иисус, знать Теб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ичего важ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не жизнь, лучше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праведность и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любим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6-25T12:22:16Z</dcterms:modified>
  <cp:revision>11</cp:revision>
  <dc:subject>The Source, song number 11 in Russian</dc:subject>
  <dc:title>Всё, что я ценил / All I Once Held Dear (Knowing You)</dc:title>
</cp:coreProperties>
</file>