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331-9C43-4930-B664-7F897A13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07A-F97E-4352-B1B6-24BF1747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D870-AD88-4429-BC30-F4ADD2B3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157-A5AF-4FFC-993B-8C75F02A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203A-45E3-4409-9AD5-DAC17784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2CB-87CE-41A7-A7D1-F85DBE08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242-41FD-4BF3-B19C-E0CA4B3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4EC-C17E-4090-95B9-C32DA6B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B43-2C4A-402C-8FA2-55ECF43D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D46-6782-460A-8FAE-49080A3A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CC4-D707-4401-9981-6998EB18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5A-73A3-4F4A-999F-681352D4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A9C9C-9BDB-41EB-A68B-5FD91135F6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little town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till we see thee 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bove thy deep and dreamless slee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silent stars go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малый город Вифл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алый город Виф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ал спокойным с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рождался нов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змолвии ноч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et in thy dark streets shin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everlasting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opes and fears of all th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re met in thee to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запно тьму рассе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, дивный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Тот, Кого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ал много,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morning stars,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oclaim the holy bi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raises sing to God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peace up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 Христос в долину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небо нас прив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царство зла с небес приш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ангельская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Christ is born of Ma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gathered all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ile mortals sleep, the angels k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ir watch of wond’ring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ёзды, весть о Чу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вдаль и в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 песнь Тому, Кто е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м дар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silently, how sil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rous gift is giv’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God imparts to huma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blessings of His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дар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устился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им сердцам Господ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ы в тиши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ear may hear His com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n this world of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meek souls will receive Him, st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dear Christ enters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 и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шума,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ым ждать Его приня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яется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Holy Child of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escend to us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st out our sin, and enter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born in u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ий Сын, нас не поки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в любв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изгони и в наш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сь в сердца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hear the Christmas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great glad tidings te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come to us, abide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ur Lord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небе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ёт о Боге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сейчас, вселися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Эмману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8:21Z</dcterms:modified>
  <cp:revision>11</cp:revision>
  <dc:subject>The Source, song number 393 in Russian</dc:subject>
  <dc:title>О, малый город Вифлеем / O Little Town of Bethlehem</dc:title>
</cp:coreProperties>
</file>