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2D0-4673-4BF0-B8AC-3E375054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6EC-267D-4D22-870A-BFF4D675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D6E-B5D1-4039-9329-F4DEE852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611-9932-422C-B8EC-A92B0F2C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62D-FD30-4764-95D9-55E02D9B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02E-D5FA-4485-9AB8-3871F70F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A4A-FCA6-4740-B761-BAC85249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071-7FF2-49AE-9741-7C26E739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DE0-5B3B-47C4-9542-D6E50284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153-4FC8-408A-A7ED-E0594E1E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27F-6C18-4296-8718-C2182339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C446-9734-4F5A-887D-3E0AB2BD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CF0DD-4E4F-44AB-AFA9-1C2DE11FC8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ликованьем прославля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икованьем прославл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славы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сердце открыв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м: милость нам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гони неверья т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и сомнений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й нас к жизни лучш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дай сердцу и у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ют мощь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с ангелами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ечном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г и поле, лес и г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 потоки и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нье птичек, туч узоры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ворце нам 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песню подхват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 рассветом начала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— наш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олюбье вяже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ужным пеньем выст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тели над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радость возвещ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день за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4:21Z</dcterms:modified>
  <cp:revision>12</cp:revision>
  <dc:subject>Slavic hymnal Гимны веры христиан, hymn 610</dc:subject>
  <dc:title>С ликованьем прославляем</dc:title>
</cp:coreProperties>
</file>