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4</a:t>
            </a:r>
            <a:r>
              <a:rPr b="1" lang="ru-RU" sz="3600" spc="-1" strike="noStrike">
                <a:solidFill>
                  <a:srgbClr val="ffffff"/>
                </a:solidFill>
                <a:latin typeface="Verdana"/>
              </a:rPr>
              <a:t>	</a:t>
            </a:r>
            <a:r>
              <a:rPr b="1" lang="ru-RU" sz="3600" spc="-1" strike="noStrike">
                <a:solidFill>
                  <a:srgbClr val="ffffff"/>
                </a:solidFill>
                <a:latin typeface="Verdana"/>
              </a:rPr>
              <a:t>Отец мой богат</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тец мой богат домами, земл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кровища мира в деснице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лмазов, рубинов, одежд дорог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Его кладовых не исчислит никт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вере во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ын Божий сходил спасти всех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жил на земле, как беднейший из н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же Он просит Отца за Св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дать им удел в вечной славе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вере во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гибнул во тьме, томился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жим был для Бога, рабом суе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меня принял, дал сердцу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дел меня ждёт в светлом царст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свя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вере во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Дворец иль шалаш? — теперь всё рав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итель моя — в самой лучшей стра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здесь, на чужбине, пою лишь од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дивен Господь! Он наследст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дал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е дит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вере во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 Господне дитя.</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9:27:36Z</dcterms:modified>
  <cp:revision>3</cp:revision>
  <dc:subject>Slavic hymnal Гимны веры христиан, hymn 64</dc:subject>
  <dc:title>Отец мой богат</dc:title>
</cp:coreProperties>
</file>