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91A-AE98-4B08-AA78-793D22B4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D96-83D2-41E6-BA79-120AFE26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7E1-0A0F-4112-9F7A-CDD33D25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463-05D0-4A7C-BBA2-4B40EDE2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950-06FA-4F53-93C8-2E29BACD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7A4-BEC5-4DB7-B868-CD5F880C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B87-96D0-4FF4-AD28-35A0C08E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F9E-AC7C-49FD-86E5-96C921DA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1EB0-7822-428A-83EF-451EE08E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B66-D029-413A-8BAC-AB3ABD71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AA0-2314-4D8F-9462-0C7845CC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0C7-65A9-4BB1-A836-23E04F21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90F37-5618-44F9-BD6D-48ED4893EC2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fore the redee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ord shall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ome with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lasting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be upon their he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36   Therefore the Redee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y shall ob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adness and jo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orrow and mo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flee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fore the redee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ord shall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come with s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o Z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erlasting j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all be upon their he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54Z</dcterms:modified>
  <cp:revision>12</cp:revision>
  <dc:subject>The Source 3, song number 1536</dc:subject>
  <dc:title>Therefore the Redeemed</dc:title>
</cp:coreProperties>
</file>