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62AB-D50D-42CA-83F2-61977E8BD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BEA-C17E-4A00-86BD-D833BAD9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1ED2-D991-4B60-B01E-C716FEC2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C8BF-53AE-452F-9D22-AD5C9EC2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6D55-3F90-4C44-B75A-0D61DE52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05F7-B773-4C16-A8FA-2B8B3728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6052-CB2D-4077-81B8-D37A94D1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F799-28B9-4521-B77A-F8309309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BEAD-B937-4085-9281-11316D89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F545-9E06-4282-90D8-16353F27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09C8-7E79-4DA7-A1CB-4262D54E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AEE0-D977-47B9-832A-D15F1274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36AD0-6461-4818-9EBA-B0797A9F4F4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сердце из тканей жив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милосердный во мне сотвор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хие мехи желаний плотс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щной десницею Он устран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мне Госпо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ую жизнь Он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овое сердце из тка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ые мысли — Христовы цве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ые чувства Его полн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ая радость и новый пса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ая жизнь с милосердным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мне Госпо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ую жизнь Он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10172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шумных домах иль безмолвных пол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раке полночном иль в звёзд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жу ль дворцы я, вхожу ль в шалаш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ду всё ново для новой ду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мне Госпо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1013472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ую жизнь Он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тхое тело осталось од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уж недолго: сотлеет о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тело, бессмертную пло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мне навеки Спаситель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мне Госпо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ую жизнь Он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ая весть услаждает мой слу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ую землю с сияньем вок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небо без туч грозов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иготовил для верных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вс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мне Господ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ое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ую жизнь Он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6:24Z</dcterms:modified>
  <cp:revision>12</cp:revision>
  <dc:subject>Slavic hymnal Гимны веры христиан, hymn 602</dc:subject>
  <dc:title>Новое сердце из тканей живых</dc:title>
</cp:coreProperties>
</file>