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554-A9A0-4C90-AAFB-3AFC967D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DFC-5983-4CF8-9B53-208CEE6A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F5D-4A8F-44DA-B8C6-AD41E0C3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B33-0AC7-4BAC-8379-E4CB7284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E58-43CC-40EE-B5F9-88195ED8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B1C-FEA8-470F-9272-93F279C8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034-0B17-4C34-B4AA-DB45B7AB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A84-F9AB-4D5F-B872-6E6FDD9E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106-9C52-4111-AC5F-C6530462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C0D-82B1-48AC-B6BD-03E2C98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EC57-0D6A-4AB7-AE17-68B0F674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587-8D04-4CE5-BB84-E072AFBB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EC7A3-0027-48F5-B293-1847668934E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just one thing that matter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I do my best to live for tru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id I live my life fo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my treasures will mean no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ly what I’ve done for love’s rewa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tand the tes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13   When It’s All Been Sai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r mercy is so grea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look beyond our weaknes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nd purest gold in miry c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king sinners into sa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sing Your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on earth and ever aft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’ve shown me heaven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tru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t’s all been said and d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life when life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28Z</dcterms:modified>
  <cp:revision>12</cp:revision>
  <dc:subject>The Source 3, song number 1613</dc:subject>
  <dc:title>When It’s All Been Said and Done</dc:title>
</cp:coreProperties>
</file>