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9EE-E99A-46B0-8CDD-03DBF1EC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0B6-2606-435F-928A-379848BA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CA0-0CD1-4E8A-BBEE-F0437F4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0C4-1FA5-4E97-8B98-476BB0AF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E94-21BF-4C97-9898-3FAC8ABA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D84-2A7F-4874-8F3D-19FFC6E4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061-34D8-482B-9684-FC4C90E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3A9-ACE9-4536-86E8-3C26425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41F-2765-4495-9970-9E99F49B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369-1F18-4ADA-A7E8-ABD0F446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398-2DA0-4EEE-9383-5914CF9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FA5-8F63-4FA7-85FA-31CE31C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A33B8-5469-4C16-8B8F-7390E03CDD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at Thy table, Lord, we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eed on food div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is the bread we 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precious blood the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Твоего стола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го стола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ся нам да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леб — Твоя святая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ровь Твоя — ви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, Who prepares this rich re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mself comes down and d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nvites us thus to f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ши души нап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ходил Ты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мира принял на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спасень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peace and pardon sweetly f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 what delightful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eat the bread—and drink the w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nk on nobler g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Ты умер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в мог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оскрес на трет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уть к Отцу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ep was the suff’ring He end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e accursed t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—each welcome guest may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ll endur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й любви весь мир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й и свя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Себе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у вечно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there was never love so fre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Saviour—so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Thou mayest claim that heart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owes so much to T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разум, волю, сердце, —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и управля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чешь Ты, чтоб мог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в небесны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4Z</dcterms:modified>
  <cp:revision>14</cp:revision>
  <dc:subject>Slavic hymnal Гимны веры христиан, hymn 730</dc:subject>
  <dc:title>Here at Thy Table, Lord / У Твоего стола, Господь</dc:title>
</cp:coreProperties>
</file>