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0C7-37D2-4299-9E6A-DC0F71F5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926-1F0A-4437-86E0-C5B7AF2F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992-10BD-4048-B40D-93A5ACBE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E94-2841-48BC-B6BE-69298FE1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941-4998-4642-984F-11BEA425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1C1-87E9-458D-BF6B-24C4CBF2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180-770D-4EA6-A1D1-2CECFD22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709-DB48-434F-802B-68588DF0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FA4-877C-4AC4-ADA8-B2562CDF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36A-C147-4462-ACA4-DA2158C0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005-FB39-4BD7-BCAE-2409A138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182-A23B-4E4C-8241-A58452F4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6D85A-A446-4956-B977-29C8D56ADFA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валой к Отцу небес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ердце вознош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Творцу чудесн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славу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ёс Христос м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ерть в любви ко м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дав Своё спа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л мен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хвалой к Отцу небесн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еснь благода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Ег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за дар прощ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ощь Его кр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о друг возлюбл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 в союз с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Нём и ты, искупл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идти с кре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рестом, Отцом возложен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влеки серд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и, Христом проложен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верная ов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елай прет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изнию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Божьи откр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ыть от глаз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е в тебе служ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го най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ашему Уч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жизнь твою при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ём с благог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се к стопам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усть благосл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будет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22Z</dcterms:modified>
  <cp:revision>12</cp:revision>
  <dc:subject>Slavic hymnal Гимны веры христиан, hymn 783</dc:subject>
  <dc:title>С хвалой к Отцу небесному</dc:title>
</cp:coreProperties>
</file>