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A6B-DFD6-47E5-90B8-E561339F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836-6A25-4EDA-9B3D-5177AA2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51E-B3EA-4569-8D2B-9DD28EE9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FAA-66C8-41EB-AF4F-B360E12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74E-EAB5-4A45-9737-B075C041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67B-1352-496E-BE71-E8E64B4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EC3-4C86-4039-B752-2835B624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348-3D20-4090-8BF5-01AD558C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46F-785A-4E4E-920B-E5DA94A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97F-6413-448A-B53A-492F1EF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906-E308-412C-9345-655D1B6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15F1-7B4D-471D-8FF6-07649E5D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EAFB3-8AAE-4347-BC1F-290DEC9A52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Не покину Я вас, не забуду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 Бог каже тобі і мен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про вас турбуватис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стражданнях тяжких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праці Я вам помаг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силу і міць по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в годину сердечної вт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у в душу бадьорість вли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0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4   Не покину Я вас, не забу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батько, і мати, й рі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речуться від вас, то Я 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ідним Батьком для вас з т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іжно буду Я вас догля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к, як мати маленьке дит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д усякого зла захищ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вадить у вічне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самотнєє серце розва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умні думи Я геть відже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розбите життя Я полад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х засмучений в вас підкріп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е покину Я вас, не заб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ли світ вас забуде, то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м вашим як був, так і бу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незмінна є вірність Моя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34Z</dcterms:modified>
  <cp:revision>14</cp:revision>
  <dc:subject>Slavic hymnal Гимны веры христиан, Ukrainian hymn 4</dc:subject>
  <dc:title>Не покину Я вас, не забуду</dc:title>
</cp:coreProperties>
</file>