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0B1-B53D-4733-8D22-D477D5E0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B12-3107-4685-85CB-16F6F688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33C-1826-47CE-BF93-BCEA4AB8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185-E6C3-41CE-B5A2-20C8E05D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E77-65A3-4E1F-9529-7EB5D36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FD0-A92B-4F6F-A14E-7CB2FB5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965-6D02-4D48-8E6F-2A2E7C5E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B0E-5301-4504-B7E2-F35D255D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833-2104-407B-B7EF-94B6BEC3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1A0-E1E9-43C1-9CEF-49B05DD8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5E6-9F07-45BB-84BA-3DC71ED0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257-0B74-4516-A16B-3916156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644BE-C6EE-4FD8-8C1B-F7DDF296D0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care for the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natch them in pity from sin and the gra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ep o’er the erring one, lift up the fall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m of Jesus, the mighty to s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дям блуждающ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гибающим правду с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пробудите уснувших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’ they are slighting Him, still He is wai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the penitent child to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ead with them earnestly, plead with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nt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forgive, if they only bel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искупления всем поне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оляйте к Иисусу при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спасения славьте, хвал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несчастный мог счастье на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human heart, crush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emp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elings lie buried that grace can re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uched by a loving heart, wak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ords that are broken will vibrate once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страдающем, в скорби сур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аздник Дух Божий лишь может соз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сияющим слугам Христ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о о том на земле возвещ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 the perishing, duty demands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for thy labour the Lord will prov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ack to the narrow way patiently win the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the poor wand’rer a Saviour has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уждение тяжкого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ть к бесконечному счастью люд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слаждение в жизни недол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тешенье без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cue the peri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e for the d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merc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луждающим путь ук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к паденью держите ру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09Z</dcterms:modified>
  <cp:revision>14</cp:revision>
  <dc:subject>Slavic hymnal Гимны веры христиан, hymn 531</dc:subject>
  <dc:title>Rescue the Perishing / Людям блуждающим</dc:title>
</cp:coreProperties>
</file>