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277-78E7-489F-AD71-81D5F74D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D96-3870-4099-BC0F-903A8B28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8B6-8F7E-4857-BD98-054A35DC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028-57F3-4415-8761-FEC90CC4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947-BF63-4495-81E6-ADB3F15A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10C-1923-428E-A9C7-F0D80477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CAD-5EB9-4B03-A2B5-A3C2AAB8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9BB-4BA9-4F8A-A02F-91053687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7AD2-9530-4B7B-8213-DABEA0D7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015F-ABD1-4F51-BB58-B9DA80D9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9D2-0CA8-4FA6-808D-1E7493C6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B3B-4D45-4B15-B629-49F741C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A00FC-B992-497E-903A-75B21CE84A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всюду б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ует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ят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пасител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ведать ут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емим взоры в вы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ись, милый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стра, берег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у всюду б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кнет солн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«д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е скажем «н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ордишься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ым будь, не гор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будет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ердцем смир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яжет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ён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ст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й друг, не гр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раждует, смир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любит, лю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и брат, берег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не сгуб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ождаться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рпи,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 сердцем Твор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иг берег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07Z</dcterms:modified>
  <cp:revision>12</cp:revision>
  <dc:subject>Slavic hymnal Гимны веры христиан, hymn 435</dc:subject>
  <dc:title>Сердцу всюду беда</dc:title>
</cp:coreProperties>
</file>