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380-3BB1-420D-B912-839B7C95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31A-4846-412E-B0FF-56D4D802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8A48-B223-4D00-AB17-F02A8BA0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F61-0AE5-4ED8-9F04-6E48DDF0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592-E73A-4150-883C-1EED6E6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C8E-0C80-40DD-A64B-2E20536F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21C-435D-44AE-8F1A-CD4ACFE3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EB6-371F-4AD1-9D9D-9DD44394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43F-6200-4E2D-B87C-762B3C04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022-6D75-49B5-B955-F5D27B6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B11-35C3-4152-AA18-DE01D3E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CBC-2211-4CC0-96AC-91C85BAB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93EC-3B31-4469-A6EC-1F320F376E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heart is p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o deeply for mirth and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burdens press and the c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ay grows weary and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о мной ли 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в сердце ст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корби сжимают гру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яд забот с каждым днём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тёмен жизнен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my way i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nameless dread and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light fades into deep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He care enough to be n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омра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мой тучей скорбей и б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сный день скрыла ночи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Он мне помощь 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tried and fa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sist some temptation st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or my deep grief I find no r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my tears flow all the night 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я сраж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не спешит пом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жат к стене, нет защиты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ыдаю горько всю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Jesus care when I’ve said good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arest on earth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ad heart aches till it 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it aught to Him? Does He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ли Он, когда путь прой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«прощайте» скажу друзья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кончит труд, в вечность отзо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ли Он со мной 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430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yes, He cares; I know He ca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eart is touched with my grie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ays ar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ng nights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my Saviour c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, всегда Христос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ронут моей ну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лине плача и в царстве н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Он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53Z</dcterms:modified>
  <cp:revision>12</cp:revision>
  <dc:subject>Slavic hymnal Гимны веры христиан, hymn 862</dc:subject>
  <dc:title>Does Jesus Care? / Со мной ли Он?</dc:title>
</cp:coreProperties>
</file>