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869-4F97-4057-996A-2D603356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7E9-AD01-4576-A126-787F642D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FE6-0873-489D-A1D6-BD8BB63B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D44-D0F8-4D8D-A22C-355F63DD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734-6F98-4983-B37E-D10E7B15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B0B-E4BA-44E7-B342-1DA75313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640-21DA-43ED-A25F-F7F682F1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A87-FC49-4682-850E-7DCB8598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A07-8A51-43E6-A243-1CCC7CC4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3AD-95A5-4953-A7AB-340A2F12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8D7-AA5D-4910-B0EC-95197E3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03E-1B1A-4A54-BB8E-14E0C15F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2AA8E-0875-4FAF-B98D-CF927DDF9E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асла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могу ль тебя об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ругие в звуках п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мне привет слаг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 верными общ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лучше буду зн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станет песнь при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льётся там ре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нет необъ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слышу голос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сточника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меня встре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зов Христа, в тот день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там тебя иск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там повстреч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обнимет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сточник засия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шь ли меня ты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встречу, где источ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чёт живой источ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тебя я встречу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17Z</dcterms:modified>
  <cp:revision>12</cp:revision>
  <dc:subject>Slavic hymnal Гимны веры христиан, hymn 684</dc:subject>
  <dc:title>У источника спасенья</dc:title>
</cp:coreProperties>
</file>