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138-B8E1-4436-84CA-CAE45AB6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B2E-947F-4437-8B35-BC4B8B2C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A90-5B29-492D-9AC8-E425353F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890-6911-47D4-B191-8F3F7727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565-5505-4D5D-B6FF-0457211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F26-CCED-4B81-8D5F-D7CD4DEF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D9F-0F0F-447C-999D-7A2CE62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D5C-7DC3-4C79-B0F5-CC4F868F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103-9BC1-424B-9ED8-FB87886B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DDE-94A5-4946-856F-08205B5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0E5-2276-4552-BCEC-B6A2A3A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8D3-073C-4783-8523-3BAA801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A3932-23C1-4C08-B2AC-41FF49688B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покорными сл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Твоими нам хочется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Твою сделать жизни ос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Твоею врагов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ными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отдавшим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ем, Владыке влад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м трудиться, творить Тв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чтоб славить мог вся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смиренными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станем, когда Ты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оцаришься, излечишь нед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удалишь, самолюбье и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0:46:00Z</dcterms:modified>
  <cp:revision>12</cp:revision>
  <dc:subject>Slavic hymnal Гимны веры христиан, hymn 874</dc:subject>
  <dc:title>Верными сердцем, покорными слову</dc:title>
</cp:coreProperties>
</file>