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799-D2FE-4C76-898E-B1CE5531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F4C-A0F3-4429-9815-D0FE58C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2BD-EA5A-4D02-AF54-69AA1D78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650-A80B-48A2-A5A7-A35CEA9A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064-B50F-44A1-931A-E108504B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58C-660F-4619-AEE5-EDE342A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802-FDF7-4C3F-AFDC-4664BB1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F02-2AF7-4277-AC22-31AB42A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19E-BC6F-491A-9A99-45B2780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E94-4705-4B20-8E47-DA37147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174-036E-41AA-9FB4-0A4968E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8B6-BF7A-40B2-BB9F-FD6B161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6564B-D388-4858-813F-4E31467774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021   Иисусу хв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blood He has saved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His pow’r He has rais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God b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He ha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омы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силой подня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у хв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Его к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9T08:14:38Z</dcterms:modified>
  <cp:revision>11</cp:revision>
  <dc:subject>The Source, song number 1021 in Russian</dc:subject>
  <dc:title>Иисусу хвала / To God Be the Glory (My Tribute)</dc:title>
</cp:coreProperties>
</file>