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6</a:t>
            </a:r>
            <a:r>
              <a:rPr b="1" lang="ru-RU" sz="3600" spc="-1" strike="noStrike">
                <a:solidFill>
                  <a:srgbClr val="ffffff"/>
                </a:solidFill>
                <a:latin typeface="Verdana"/>
              </a:rPr>
              <a:t>	</a:t>
            </a:r>
            <a:r>
              <a:rPr b="1" lang="ru-RU" sz="3600" spc="-1" strike="noStrike">
                <a:solidFill>
                  <a:srgbClr val="ffffff"/>
                </a:solidFill>
                <a:latin typeface="Verdana"/>
              </a:rPr>
              <a:t>Вот, дремлет Гефсимански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т дремлет Гефсиманский с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рузья Иисуса мирно сп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 отдалении од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Отцу взывает Божий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н на коленях; ли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клонил к земле сыр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н молящейся ду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дался в дремлющей тиш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 чаша мук пройдёт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оля не Моя —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ец, да будет, Я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было тихо всё в са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И капал пот с лица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капли крови со кре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ангел Божий тут сто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ына Божья подкреплял.</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1:15Z</dcterms:modified>
  <cp:revision>3</cp:revision>
  <dc:subject>Slavic hymnal Гимны веры христиан, hymn 266</dc:subject>
  <dc:title>Вот, дремлет Гефсиманский сад</dc:title>
</cp:coreProperties>
</file>