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C06-8C3A-4FAF-8AB2-E8FCACB4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AE5-D948-4913-B90C-1C93F281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4EB1-EA89-49CE-83E8-6A4B029B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6D9-BCB5-45C2-9D54-A8DBF425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5AB-40A8-4552-8AE8-4649F871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2CB-127E-44CB-AFEA-DF0792D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4A0-75D1-4C7F-92C5-D2AA4037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B98-90A9-41E9-B421-F8B15486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87B-F8CC-4E99-AEFC-947E410D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C7C-9AB6-4224-B881-CBD7E30C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07D-DEBC-4D74-AC04-08E8FF12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C55-1794-46CA-86E6-5CF07DD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8955D-D1EA-4E2B-92BE-E4BB045C17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осле ночи, свет после т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ь после зноя, блеск после м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сле смерти, песнь 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за горем, луч за д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 после жатвы, пир за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а борьбою, явь после гр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осле н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китанья — милост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траданья — слава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сть покоя — после угро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45Z</dcterms:modified>
  <cp:revision>12</cp:revision>
  <dc:subject>Slavic hymnal Гимны веры христиан, hymn 488</dc:subject>
  <dc:title>День после ночи</dc:title>
</cp:coreProperties>
</file>