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8BF-2A3F-4D1A-9A2D-31C07703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BE7-4E5E-4BC6-8ED8-97567BEB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4F9-2B9D-4DB5-A95D-98B5A07F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712-4950-4E4A-9CA5-AA6A58A3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FB1-0E4B-4BC8-AECE-B943A75B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ECF4-0E9D-4D32-AE55-B3E69347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C67-886F-4B9E-ABB9-AAD58DC2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5B3-7551-4C54-BEEA-63E92DF4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1BE-BD2A-4694-A3FD-214E8694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538-2588-4443-9BC7-C0D35D5E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892-CF66-47FA-BBF3-F43042CA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B3DF-4421-47E3-97AF-BCC2F72B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028F0-4E46-46D2-BE79-0EE7859B15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1   Будем розсів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Слово Боже р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заході сонця, і вдень, і вно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о чекати урожаю з л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пору добру, чи в час непо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у час бурі, спеки чи дощ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занедбаєм славної на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правду Божу вс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і перешкоди різні навкру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час настане, жниво все дости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58Z</dcterms:modified>
  <cp:revision>12</cp:revision>
  <dc:subject>Slavic hymnal Гимны веры христиан, Ukrainian hymn 41</dc:subject>
  <dc:title>Bringing in the Sheaves / Будем розсівати</dc:title>
</cp:coreProperties>
</file>