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372-F9E5-40E9-8EAE-566C489E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576-1B96-4EB8-908E-ADEF831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9C0-2E41-4583-80D9-ACEA750C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5B16-E773-43CF-BC61-E67B7A6B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722-96A7-451E-BEBF-DC98CC4A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82DB-9962-40A7-B064-495DEC66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67C-2672-4F03-8C8F-026295A3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D4C-2446-4D50-AC7E-F834AEA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FF7-9DC4-4959-943A-13C7A68E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7DC-A8D3-4418-A411-6E6FB906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F12-298A-48F7-8330-0A5BFB9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2BC-9FFE-4050-B305-E1D6868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A49A6-B8E2-439E-9087-47DA819630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9Z</dcterms:modified>
  <cp:revision>12</cp:revision>
  <dc:subject>Slavic hymnal Гимны веры христиан, hymn 438</dc:subject>
  <dc:title>Сокрой своё горе</dc:title>
</cp:coreProperties>
</file>