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548D-8332-4FCE-84C3-F75AADD23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ADF7-0D2D-492B-8D09-FB8D327A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9236-DFF6-4F07-9DEB-653BC460F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D105-386A-4117-A058-DE648D4F1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AF67-2FE9-4DA0-BCFF-856CD0D8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BAB1-F90A-4DA0-8AE5-AF30D488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FF6C-31BC-4CEB-B117-5AF200C7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60AA-499B-480C-AA9A-70D5485F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0A68-067F-427D-952A-5887AEE9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46A8-9A8E-443D-92F3-D1FC5D14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E2B3-0A47-4A8F-8F8A-77399AB4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BE56-6FFD-46AD-A65A-9A2C2597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5DA27C-9B01-4A36-9B92-AB880F28A47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рянь, Христов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 смелей гля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й разум, волю, сердце,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посвя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рянь, Христов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ря уже взош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братства смело возвещ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ойся силы 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2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спрянь, Христов народ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рянь, Христов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церковь мир гляд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й труд ей предсто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место в ней займ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 подвиги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иди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озни, хитрости вра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Христом мы побед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3:25Z</dcterms:modified>
  <cp:revision>12</cp:revision>
  <dc:subject>Slavic hymnal Гимны веры христиан, hymn 524</dc:subject>
  <dc:title>Воспрянь, Христов народ!</dc:title>
</cp:coreProperties>
</file>