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DB0-378A-4947-812B-AC5F03ED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5CB3-325A-49C1-BADB-DB9D3068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8B1-02DF-4E5D-8256-4E2F63C1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8C1F-21B3-4997-B438-E4FB5F35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447A-2B71-4FEC-BF3A-19D0A68A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F73-3EF3-4110-952B-7C1610DE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8BA2-5C9C-4523-9E52-C70EDC8B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6359-821B-4F92-99B5-800CC83F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5FF6-B930-45B8-8BE2-7CFF3415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C680-6BFB-4310-B1CB-B20FF75F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44E-57DD-4F97-B120-5678C51B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6CB-80D2-4C61-AEBA-B206E6EC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2FC10-DEE3-4958-AF5F-20BC50B4C0B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ешь ли ты, сколько я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ёзд сияет в небес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облаков прекрас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ь несётся на вет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Господь число их зн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одной не потер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мадного чи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громадного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наешь ли ты, сколько яс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ешь ли ты сколько быст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ыбок плещется в волн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мотыльков пушис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етает на пол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звал их име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ли вместе с 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радовал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радовали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ешь ли ты сколько раз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живёт люд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грешников несчас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в праздности сво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ий взор на всех вз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де грешник погиб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к нему в любви спе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к нему в любви спеш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0:18Z</dcterms:modified>
  <cp:revision>13</cp:revision>
  <dc:subject>Slavic hymnal Гимны веры христиан, hymn 753</dc:subject>
  <dc:title>Знаешь ли ты, сколько ясных?</dc:title>
</cp:coreProperties>
</file>