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AE77-55CC-49F3-8B03-97948C127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C25C-3B02-4771-82E3-046CCE62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8A5B-A6A8-4786-8880-AEDB14E5C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6C54-C3DA-4BDB-87EA-94E858C73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F6B8-331F-4925-A745-7AE1AD85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CD19-3D77-4E3D-8BF0-B29B85A6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7514-3427-4ED2-A5F4-2C81C419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BF97-19F7-4DAB-8C9F-A21A8BF6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F632-4297-4026-8AFD-3BA961EE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765B-B139-4793-849F-BE2D964F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5401-C84A-4E6C-BC79-A35C0AFA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9CF6-4490-4AAF-91AD-9D7A9A5D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91979-FE74-4BE6-AB0D-50BE6372A93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небі мій Отцівський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хочу до Ісу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 сліз, ні горя в домі т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хочу до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го ніхто не підко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ічно в ньому буду 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ічно в ньому буду 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хочу до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4  На небі мій Отцівський ді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 люди тут шукають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хочу до Ісу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умають про щастя в н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хочу до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 землі загине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є ж насліддя в небі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є ж насліддя в небі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хочу до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дому хочу я ввесь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хочу до Ісу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навіки Сам Він сп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хочу до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щай, земле, йду в дім свят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щастя, радість і спок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е щастя, радість і спок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йду вже до І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4:25Z</dcterms:modified>
  <cp:revision>14</cp:revision>
  <dc:subject>Slavic hymnal Гимны веры христиан, Ukrainian hymn 34</dc:subject>
  <dc:title>На небі мій Отцівський дім</dc:title>
</cp:coreProperties>
</file>