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46A-E34C-4DB0-8776-4EBAE5A5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8BD-892C-4B17-A87D-28FD0A03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FAB-1323-453F-830C-3001EA82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85D-71C9-4260-8BE8-3E8E890F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000-B7FA-42D5-A1FD-E7AF6868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378-0F88-41E0-9EC5-723DFE9E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D60-EA68-484E-B94A-4881A261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73CA-4F76-4A88-B01F-B2A1EA90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EA7-36F3-4A3F-863A-49A0C1E9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15F-2BD8-464D-942E-2708EA05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DC1-54FF-443D-833F-EF0A0EA2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857-8000-401A-AB9D-95FDEC35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AFE69-7A9C-4498-B9BB-510A853F00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ессмертьи иду, наступая на з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корбей и страданий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у меня и тепло и свет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я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 я, что мне можно и что мне нельз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хорошо и что плох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на земле существую не з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я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в бессмертьи и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тив истины войско ведёт сат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и зла ополчились жест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меня впереди неземная стр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я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же если встречаю следы катастроф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ает из сердца трев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думаю я, что есть любящи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частлив, что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от радости слов — побеждаю я з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ю найдена в небо дор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уше у меня и тепло и свет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му что я верую в 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4:48Z</dcterms:modified>
  <cp:revision>13</cp:revision>
  <dc:subject>Slavic hymnal Гимны веры христиан, hymn 798</dc:subject>
  <dc:title>Я в бессмертьи иду</dc:title>
</cp:coreProperties>
</file>