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585-FD08-4D88-AE46-AF5AE854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753-A3C8-4F66-8173-B8F75131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CE4-C2F5-4BDF-A9C8-686D514B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692E-A116-4BFD-B194-4A35ADA5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2E2-153C-439F-B47A-CE53B045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D40-56D5-4B15-93A0-972DA739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2B0-7919-4D8F-AF65-B51978C5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F05-6B57-47EF-AAF1-4F076B89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4A4-48DC-4E3C-8666-9252B7E6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1D5-4EA8-4C11-B7BD-F93B8AC1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B1B-4F01-4060-B61F-EDD18EC1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7CE-D1B4-46B2-8FB1-0B00731E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ABACC-2A80-47CB-ACA9-F1EDEB5E64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і, слава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і, слава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спас, гріхи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оє серце кров’ю ом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7   Господі, слава Тоб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22Z</dcterms:modified>
  <cp:revision>12</cp:revision>
  <dc:subject>Slavic hymnal Гимны веры христиан, Ukrainian hymn 107</dc:subject>
  <dc:title>Господі, слава Тобі</dc:title>
</cp:coreProperties>
</file>