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F09-30CF-4112-81AE-BBF8C4DF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0E6-19D0-44C0-81C3-FFDBA5DE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C69-76E5-4881-A618-1DA23E92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E12-4C51-4994-B3C3-1257EFE7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D56-9578-4F5B-82C5-FA9E1AF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8D4-E6D9-4332-879E-04584228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42F-0EAB-484E-937A-AAE86050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B54-FE79-4894-B940-72BA834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122-E29C-4C46-A273-F4E2367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0EA-7A41-400F-BF4E-458D65D9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503-62A7-4891-9AA0-5AFFA74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3E4-A785-49CF-8878-7382B2F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53D63-C3C3-448F-BE04-F9C7640982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нам выступать в пох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Начальник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!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бойтесь, н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Победитель на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учит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раг си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тив нас не у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бед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чрез Агнца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― наш Вож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крепкий щ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ожи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шь ты враг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ь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ай в ряды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го тру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душно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мся к вечной цели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войско благослов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евностью горели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40Z</dcterms:modified>
  <cp:revision>12</cp:revision>
  <dc:subject>Slavic hymnal Гимны веры христиан, hymn 491</dc:subject>
  <dc:title>Звучит труба</dc:title>
</cp:coreProperties>
</file>