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2A6-139D-4AD5-81D6-1A8F7FF3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532-49BA-406A-BFEA-6AF33023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738-ABA7-4E8B-B922-3971DE28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13B-F8EF-4EC0-BC10-FE3CA596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925-C735-45DF-93BD-C3FD3D88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336-FA76-42C1-BA99-DFD21A2A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76C-8EED-49DD-9421-C08267B2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9B0-413A-49B9-9B37-7348EC98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3C1-EB87-48F4-BB7E-A7DBD05E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8BE-A73A-43C0-A1F4-8FC4DB1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757-7ED7-4A35-B4DF-10C4DA2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C21-EB77-42D4-8044-E1D86A4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60BE8-A4EF-4B1C-848C-915D21B726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долеют тебя испы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посильной устанешь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плю за каплей из чаш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ь будешь, упрёки бросая судьб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шою, судьбу не злосл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долеют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воё сердце заноет то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ят страданий тяжёлы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ова душа не услышит к 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ей не скажет: «Иди,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, что греет и душу и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игнет ли в жизни утрата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ь безутешно о ней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участь начертана свыше та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енье сбылось неземного 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утешенья ищи и даров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ера, надежда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нья не станет, ослабнут ли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мане сомнений потонет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евизом иди ты до самой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знь и в страданьи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ош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большего счасть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яться, верить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25Z</dcterms:modified>
  <cp:revision>12</cp:revision>
  <dc:subject>Slavic hymnal Гимны веры христиан, hymn 702</dc:subject>
  <dc:title>Когда одолеют тебя испытанья</dc:title>
</cp:coreProperties>
</file>