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BD9-2639-43FA-9D3C-8C4927B2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600-3DA5-4567-BE69-D91EBB83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3764-F4E5-468E-9CEB-AFF75179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4B3-A905-40E9-B968-367A2DF8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B17-00C4-474B-ADAA-D5159DA0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9E9-89CD-4D67-AC1C-0178EFD8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40E-6377-481E-8A36-2B7D853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1D3-351D-4633-9926-8FB1614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B26-2E63-4679-8C6E-8D3F04EC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FE7-4A76-4B79-A2EC-81914ED5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94A-9F2E-420F-977D-A049B09E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F9E7-FC01-4CAE-B662-780483C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70EA5-6457-4F08-A47B-BF4436938EF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в с нас закона пораб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 Христос пролил, вот в ч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щень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учен, истерзан, в язвах Он бы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с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няв с нас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о Христе, тем нет осужден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готовил наше спасен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о Мне придите!» — Христос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Он снимет гн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— Божьи дети, вот наша сла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охранит нас в мире лука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жизни от смерти мы переш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покой наш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! Прими Божью мил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найдёшь свет и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л с нас греховное бремя и 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з навсегда Сын Божий сп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36Z</dcterms:modified>
  <cp:revision>13</cp:revision>
  <dc:subject>Slavic hymnal Гимны веры христиан, hymn 385</dc:subject>
  <dc:title>Сняв с нас закона порабощенье</dc:title>
</cp:coreProperties>
</file>