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071F-EB4E-4F74-9FE9-2F4A2E54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34DA-7858-46F6-82B4-AEC325D4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06B0-A3C2-494B-8437-530A2D22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16A9-609E-4C9E-B4E2-D385F95A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6FB4-4151-4265-8F6F-55183860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DF9C-3411-4AD5-9843-357D707C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0B5B-CE31-400B-A2DD-5774EE22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4935-B0B2-4B80-B4E7-53AF9405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A698-0EC8-441C-A1CB-FB497A68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309B-C886-47DF-B04C-0AB7F349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5732-4587-49F0-8FCC-EE8C10F3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B90C-676D-40F6-A99E-A0619794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E24BC-0B2F-4938-971D-7FF5CE8A5DC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,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being’s ransomed pow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thoughts and words and do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days and all my hou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ё Иисусу, всё Иис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сли, чувства и д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, силы и познань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Его меня спа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!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days and all my hou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!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y days and all my h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Его меня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Его меня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y hands perform His bid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y feet run in His w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y eyes see Jesus on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y lips speak forth His prai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пусть Ему лишь служ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ги пусть за Ним и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и — на Него взир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Нём уста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!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y lips speak forth His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!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y lips speak forth His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Нём уста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Нём уста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ce my eyes were fixed o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ve lost sight of all be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enchained my spirit’s vi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ing at the Crucifi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душой вз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ирское не гля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влёк меня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принадле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!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ing at the Crucif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!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ing at the Cruc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принадле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принадле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what wonder! how amaz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glorious King of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igns to call me His belo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s me rest beneath His w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ликий дар спас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целый мир соз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л бедное твор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Сво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!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ing now beneath His w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Jesus! all for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sting now beneath His w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Сво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Сво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7T13:46:51Z</dcterms:modified>
  <cp:revision>13</cp:revision>
  <dc:subject>Slavic hymnal Гимны веры христиан, hymn 548</dc:subject>
  <dc:title>All for Jesus / Всё Иисусу, всё Иисусу</dc:title>
</cp:coreProperties>
</file>