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84E-92CF-417B-A3C9-A86C4C29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13D-0C3E-4AFF-A825-9E4B41E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8A3-6130-4F45-A4EF-8BD8B83F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8F6-CEC2-4F07-B139-E61B4AB4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157-AB9E-451C-941C-A789133F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726-CFAB-408E-AE96-E808919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E1A-1B6B-454A-960E-CEA4462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CC5-597F-4B93-9EE8-5264329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53A-01E0-4965-899F-958159A5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765-EAA1-493D-AF2F-99365DA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FDA-C16E-441E-A2DF-ED8D0141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067-0BFA-4419-821B-520DC4EF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70B24-3EDF-4BE7-B72D-33E999F8D7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коро Спаситель на землю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и сил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Он с любовью к Себе при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 чертог Свой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коро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и минуты мелькаю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ёмная ночь уж проход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вдалеке разгорается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чный, день судный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корее на землю гря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ленье, и смерть разру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е царство везде утвер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нам обители 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твой грядёт, о невеста, не с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риготовься, 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йди поспешно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48Z</dcterms:modified>
  <cp:revision>12</cp:revision>
  <dc:subject>Slavic hymnal Гимны веры христиан, hymn 327</dc:subject>
  <dc:title>Уж скоро Спаситель на землю придёт</dc:title>
</cp:coreProperties>
</file>