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589-EC20-424F-AD37-41134BD7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0AE-DBA7-4FDD-A811-893A371D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79E-DB24-41A6-8529-BB2B40CC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6A1-DBDD-48D3-BB60-38B0BC5F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155-7842-4D1C-A8B2-11A6AAF1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123-81F9-49A4-BF52-44094BC8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7B1-0F80-4011-B3EF-37CC2C60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1DF-DC93-4384-95AC-DE57C409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239-F889-4CEF-9000-307E2339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A06-78A0-4736-865D-5A2DF6DE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4F5-2960-40C0-B7F8-7CD77198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BD4-1A88-484E-9355-A03984CA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77AC7-DF15-4101-8988-9B73FF6B0B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God from whom all blessings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, all creatures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above, ye heav’nly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Father, Son and Holy G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Даятелю всех бл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е и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Бог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и Сын и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11:48:34Z</dcterms:modified>
  <cp:revision>12</cp:revision>
  <dc:subject>Slavic hymnal Гимны веры христиан, hymn 818</dc:subject>
  <dc:title>Praise God From Whom All Blessings Flow / Хвала Даятелю всех благ</dc:title>
</cp:coreProperties>
</file>