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EC5-485C-496B-85BF-171655D3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C95-F48A-4CB2-89DF-A3418F39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896-EDFC-46F8-BABD-2820D121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AC9-2140-48E3-8A32-480858A3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E87-8045-4F1B-9AD6-68093A2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754-D507-40D2-98F9-3763BC9A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A49-12C2-4F35-B488-FA11DF06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88C-29D0-48C8-9533-DDFEA4BE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04C-AB63-4BB5-A90E-0F759431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76A0-C0B5-4FAF-B954-909B518D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8C2-7622-4DD5-B4ED-AD14322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1E6-BE8A-4A5D-9993-B22397D6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FC2C6-E0DA-42CD-9FE6-09F3E020B4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радость, жизнь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меня Он не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оял бы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ёлый час отец и 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т нас так ут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ю печаль прогонит в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мне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дивных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а сень, и тёплы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сный день, и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плый май, и урож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 Ним счастлив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отречься от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верен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 — спешит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и день, и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горя не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я верою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родине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 жить с Христ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ить, быть вечн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на век ве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39Z</dcterms:modified>
  <cp:revision>12</cp:revision>
  <dc:subject>Slavic hymnal Гимны веры христиан, hymn 470</dc:subject>
  <dc:title>Иисус мне больше, чем весь мир</dc:title>
</cp:coreProperties>
</file>