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E722-48A8-4368-ACD1-8A560B65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95A-DAD6-47DC-A099-892408C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4C4-AE5B-47C6-B01D-24DA7BA5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8F3-30AD-4DF5-A934-0ABD726A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691-60F8-4658-BD7E-057DE3A8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CDC-335A-48AB-8FD2-718B24F4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BC7-6C89-42F8-A08C-3EB53C3F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CB8-1CB5-451E-B0D4-36192F16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AC6-AA05-40BF-BD6B-66893E10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762-630E-44FC-BAF6-8F9566EB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591-E8E4-436B-A010-45CFC60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7DB-83AE-4F87-8452-0745E59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DD02F-F441-418A-AFE5-D7CAA59F36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98   Father, Into You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into Your courts I will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emble in Your holy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 in Your sanctu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lendour and majest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 all life ador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wi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r love is ev’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will exalt, seas re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trees’ joyful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ing You and so will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song I’ll s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and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and bless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22Z</dcterms:modified>
  <cp:revision>12</cp:revision>
  <dc:subject>The Source 3, song number 1198</dc:subject>
  <dc:title>Father, Into Your Courts I Will Enter (All the Earth)</dc:title>
</cp:coreProperties>
</file>