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73E-0B3E-4F93-AC19-E6AC765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6B1A-F190-430D-A1E5-621F7696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76D-2772-46E3-9FFF-7B9F1CAA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B7F-1DDE-479F-9637-4F53CC22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864-F753-4F7F-9E22-9A2A8593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114-D517-4852-B99D-0CFFDBBC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CB1-4754-4026-8BDE-6A0C24C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646F-F1D8-4793-95EC-6A6F5F7D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A3D-3E6B-49E2-898F-83856EF9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47F-487F-431C-ADF1-91A5B3DD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8ED-9E6E-4D6E-9CF3-9088EFED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EE7-EC2D-4CA9-9BDE-40CDBEE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F45AB-CFF0-4808-857B-53F482265E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восстав с веч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шёл на крест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шли по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надцать друз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 смирень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звал с моль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един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восстав с вече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Отец всес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Предвечны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юбвеоби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правды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айна! Три —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м сущ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за нас про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ная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для нас откр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ая люб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источник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ёю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у нас Власт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чество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ждь у нас 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у нас вой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разные друж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армия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все еди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един с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одну пус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наш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одну святы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 кровав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пред нами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етило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ияет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56Z</dcterms:modified>
  <cp:revision>13</cp:revision>
  <dc:subject>Slavic hymnal Гимны веры христиан, hymn 728</dc:subject>
  <dc:title>Господь! восстав с вечери</dc:title>
</cp:coreProperties>
</file>