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4FD-8AFA-4AC3-AD00-3858D006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ACE-9764-47AC-9338-92637881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131-32AD-42C6-B53B-5801D6BE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BE3-6CAC-4F33-A434-EEE59FD8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089-66AF-47ED-9EF9-D1246E6B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4BF0-1352-4445-BF0A-6121044E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E03-A915-47DE-B1E6-F2D6F345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04E-D430-4EF9-8677-08839695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F75-FD05-449B-8576-8CB9A89A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A91-F0A2-43A1-8CEB-EB003B8D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CCF-D23A-4642-B118-5E04FFA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788-C994-42BC-9320-478B500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A46F0-A11A-4813-A04D-33DEA81A5D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e very thought of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weetness fills my bre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eter far Thy fac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Thy presenc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мысли о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ют сердцам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— лик Твой созерц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ть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voice can sing, no heart can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can the mem’ry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er sound than Thy blest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 of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святое Имя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и слав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звуки музыки, чем х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лава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pe of every contrite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of all the m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fall, how kind Thou 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ood to those who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кающихся душ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для тех, кто н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ым самый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ищущим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at to those who find? Ah,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tongue nor pen can sh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ve of Jesus, what it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but His loved ones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Христа — важней вс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ловом, ни п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исать любви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лаг, сокрытых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ight of all be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fount of living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passing all the joys we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e can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вет живущим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ечных с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йны, скрытые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рабам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our only joy be Th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our prize wilt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Thou our glor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радость наша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шей славою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конца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27Z</dcterms:modified>
  <cp:revision>12</cp:revision>
  <dc:subject>Slavic hymnal Гимны веры христиан, hymn 847</dc:subject>
  <dc:title>Jesus, the Very Thought of Thee / Спаситель, мысли о Тебе</dc:title>
</cp:coreProperties>
</file>