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E6A-2CFC-4509-A76D-DF07FD93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1D9-9EAA-4A71-8D29-020DF51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219-B1AE-4281-A4DF-500DCA08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825-7C75-4201-9B1F-22727074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417-D43E-495F-A765-3E89121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C20-4DCA-453D-B84C-67F324CD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C23-096C-400E-9E1C-F01F4BEA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9B5-9E4A-4C73-85D5-3C12BD14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3AC-3990-479A-B9CC-9931C2EC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4ED-00B8-45A6-885A-61C03C42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F13-AFB9-49FA-AC28-4571C10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13D-4426-40E1-92D1-055E295C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E3FB1-0C70-4E24-A007-D452363415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your load of s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ocks and asks ad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, will you let Him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pleasure, room for bus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Christ the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place that He can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heart for which H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you any room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n grace He calls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day is time acce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morrow you may call in v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and time now give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ill pass God’s day of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y heart left cold and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y Saviour’s pleading c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om for Jesus, King of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now His Word ob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ng the heart’s door widely o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Him enter while you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0Z</dcterms:modified>
  <cp:revision>13</cp:revision>
  <dc:subject>Slavic hymnal Гимны веры христиан, hymn 350</dc:subject>
  <dc:title>Have You Any Room for Jesus? / Есть ли место Иисусу?</dc:title>
</cp:coreProperties>
</file>