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F12-EB33-42EE-B170-BC2835E2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DFC-D34C-4161-B1A1-514E4A7E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336-FFEC-4B07-83DD-F8BEF9E5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CCC-39E6-4FE3-BB7D-1F70400D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9C1-479F-48BF-A3AE-54A15BCF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035-CBD6-4E95-8826-6455E5C0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467-C62B-47ED-B69B-B8F39DF8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296-DC6D-4AB8-9F72-024F06FD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5FD-FDEA-4DCC-8F70-5A54EDC2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730-74FF-47F3-ACA0-82F9910B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D85-D295-4EF2-8653-0B86E100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0D5-CE26-4FCC-9E20-654388A3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1C6D5-A301-49A0-993F-4D6A2F3FED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ейское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грает волн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радость, то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перед 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тебя пригр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не горди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ажи душе сме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Ешь, пей, веселися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итейское море игр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ожет ведь ст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однишься с сум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шь ты скит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рячей слез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ожет быть зав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ая мог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ипучие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59Z</dcterms:modified>
  <cp:revision>12</cp:revision>
  <dc:subject>Slavic hymnal Гимны веры христиан, hymn 773</dc:subject>
  <dc:title>Житейское море играет волнами</dc:title>
</cp:coreProperties>
</file>