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370-7136-435B-AA60-192A4E86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CF8-9686-4C9A-A138-CCD99E2C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731-358A-4870-94B6-40F5F266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98C-C25D-42F5-8C18-FC59E8A1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746-6759-43B6-9608-CE3F92C9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F85-3007-4AA4-A7AA-C4A8B29E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2BD-E4A6-4511-A025-9B922CA5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76F-60E3-4CD5-BE77-D05CF351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4D2-F7AF-4936-B124-D9FFFF41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4C1-8A2A-4F57-957D-1FC0DC60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175F-D026-4C6F-B3E7-EC9F23E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4EB-EB09-47EC-A006-23D921B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35A33-CA71-4C40-852A-638BBA7B69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врезался мо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б цель всех помыш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: любить и жить лишь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м Тебе, Господь, об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навек я исцел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лен был и адом связ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ю рушил ада п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если б вид Его муч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гляд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сердце радост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счастие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я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икнет в душу, примиря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живительный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кровь Христ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я грех великий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мой Он принял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отдал Он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корбях — моё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я радость п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ветлый и свобо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 меня, Господь,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ёртвый духом и хол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новой жизнью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неизре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мерть Спасителя вз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Нему в любви сми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звы рук и ног лобз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 рук, где я чертой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мой дух за Ним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т обновленным,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7:09Z</dcterms:modified>
  <cp:revision>13</cp:revision>
  <dc:subject>Slavic hymnal Гимны веры христиан, hymn 725</dc:subject>
  <dc:title>Ах, если б вид Его мучений</dc:title>
</cp:coreProperties>
</file>