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45E-BDD0-4FF0-91FE-704E4A03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8F8-C082-42F5-ADEF-4A4AD78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2EB-39C9-44BA-86F9-76F8F083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BB3-EF7C-48A0-9F1A-E1A60D0F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9EC-F1D1-45F8-A540-D89022B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589-431A-4EB3-B906-D4FC098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35A-101F-4620-B240-C5823B18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7DA-AE47-406E-9F2E-A3BE8573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B4A-2B95-4441-A280-4EC13CD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605-AD0A-4E13-B597-8F4A805D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4CC-3A04-4325-9A47-FFB52FB5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3B4-45B4-4410-B67B-E60081C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00C67-8120-44E5-945B-3A18A882197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 нами Бог, хто буде проти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ти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Павло апостол нам сказ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8   З нами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ь, Я з вами буду 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ни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Господь Спаситель обіця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ров Христа змиває 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жен грі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Іван апостол напис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р Святого Духа Господь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біця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Йоїль пророк пророкув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40Z</dcterms:modified>
  <cp:revision>14</cp:revision>
  <dc:subject>Slavic hymnal Гимны веры христиан, Ukrainian hymn 8</dc:subject>
  <dc:title>З нами Бог, хто буде проти нас</dc:title>
</cp:coreProperties>
</file>