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10C7-0DA0-4E25-8EDE-483B1807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6848-7090-4C7C-B6D0-DABE73D8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BCE9-3F6A-44A2-9119-DCD56D55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374-7C22-4B12-92B7-59AFB5C0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67A-DA43-41E8-B5AB-2832FD5F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600A-C6D4-4722-9045-C1D66F52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456F-D460-449C-A8DF-FF6BCB01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7F1-D6F6-4F06-B028-1D0744EC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5D6A-34D5-4A56-AFDA-4399B44F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DDD8-4427-4FFA-8123-E0CF4891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548E-DCE6-4A4A-9B1C-F25BD1E8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706B-F1E3-4EC4-9BA3-820B3750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0D34C-FB0D-4443-8CC5-DBCF6F7425D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deer pants for the wa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my soul longs afte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strength, my sh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alone may my spirit y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7   As the Deer P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friend and You are my br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hough You are a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 more than any ot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much more than an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strength, my sh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alone may my spirit y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You more than gold or sil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ly You can satis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the real joy-g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apple of my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strength, my shie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alone may my spirit y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lone are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ng to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3T09:17:22Z</dcterms:modified>
  <cp:revision>11</cp:revision>
  <dc:subject>The Source, song number 27</dc:subject>
  <dc:title>As the Deer Pants</dc:title>
</cp:coreProperties>
</file>