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464-E9A7-449D-9898-80615074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8E9-F226-47BF-BC9F-306ACF82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C5F-00BC-46E3-BCA6-D0AADA1C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A365-6ADA-4683-A961-155FF3B8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D401-6F91-48E4-9DFB-68555605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2ACB-A796-44F3-A77B-E8BCAA22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1997-57BD-4C67-9E8F-B221266B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6BA2-F705-404D-B1B4-F87F3E61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573-777E-4358-8D0F-0B88B266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AAF-4390-4941-A470-6143B254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C1F4-1F1C-4A9E-BD1C-D1F816A9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DF0-EAA4-46AE-ACAC-BF1BBD56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C04C3-6D02-4692-A0E3-B7F185178EC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 вам, Христово цветущее пл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ждённое в бурях великих судь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грозно встречает последнее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 на последний решительны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еною стальною, полки боев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рье идёт к вам на лютую бра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книтесь теснее, ряды молод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ешительной битве никто не отст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вет вам, Христ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бите победу, священное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ярче горит над руинам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ж вперёд христианское 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бескорыстной, Христова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сердца молодые пусть бу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еньи одном на груди у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автра, быть может, кого и подним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ой разъярённой на древ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ерёд, не робея, на смену 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лым борцам, не страшитесь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тите, цветите, плоды принос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ое в мире наследь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5:48Z</dcterms:modified>
  <cp:revision>12</cp:revision>
  <dc:subject>Slavic hymnal Гимны веры христиан, hymn 794</dc:subject>
  <dc:title>Привет вам, Христово цветущее племя</dc:title>
</cp:coreProperties>
</file>