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7B3-E01C-4653-B955-4382B484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DFD-CA6D-47E1-B512-2634F50A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577-5516-4493-BF7F-48F87C62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D87-6F2F-4EF3-B57A-688F9B3B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143-D0B3-48D6-8DB7-E4E23D1B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FBC-5D8B-4A1F-8A0E-DD22318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438-470F-4215-9993-A2E81CF5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F89-A5A7-4361-BA7D-BF5FCAD2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EE9-64AD-40CC-8994-C15A2F18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650-6F76-4939-A36A-D864F3D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1A5-2F0A-4345-B3CF-B075D681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45F-67AF-4AF8-B5BE-7A20035B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8044B-A6AC-4DFE-8F66-27B2215807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48Z</dcterms:modified>
  <cp:revision>12</cp:revision>
  <dc:subject>Slavic hymnal Гимны веры христиан, hymn 861</dc:subject>
  <dc:title>Быть лицом к лицу с Иисусом</dc:title>
</cp:coreProperties>
</file>