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C9F2-8362-4EC3-929F-546B87B95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0808-1CCE-4672-AE11-5D55BE73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4294-C0AE-4D75-A9D6-8696E340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ECD2-9403-473F-B3EA-FA161CFA4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9671-73CE-4075-88A0-21118378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A924-15F5-4C88-902F-DBA10899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0FDB-068F-4F0B-A485-22B098AF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6E28-1BFE-42E9-A44D-6FC393F0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2BD2-F6F8-428E-B5F3-EEE2A90B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2F6B-5189-46E9-97D1-62A937AE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9446-CFA4-4E47-8069-7A1E0DC9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B3AD-55B6-42C7-8397-76D39B6F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70B12-C30B-479E-BF81-7AA94F7F4CC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, почему откры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благодати д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почему спасенья щ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дан от вечных к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знаю в Кого я ве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то меня с Христом не разл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мне наследье вр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, когда опять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знаю, почему откры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, как мой Бог да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веры слух жи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к та вера мир нес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бящему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знаю в Кого я ве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то меня с Христом не разл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мне наследье вр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, когда опять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 я, как Дух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л мне путь Христ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к даёт Христос благ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енье всех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знаю в Кого я ве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то меня с Христом не разл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мне наследье вр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, когда опять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 я, что в жизни м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начено н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к меня к родной стр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хочет дов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знаю в Кого я ве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то меня с Христом не разл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мне наследье вр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, когда опять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ю времени, ни 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Господь при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как: чрез смерть, иль Сам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день Он по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я знаю в Кого я вер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то меня с Христом не разл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мне наследье вр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ень, когда опять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6:12Z</dcterms:modified>
  <cp:revision>12</cp:revision>
  <dc:subject>Slavic hymnal Гимны веры христиан, hymn 585</dc:subject>
  <dc:title>Не знаю, почему открыт</dc:title>
</cp:coreProperties>
</file>