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953-7E83-460A-A4C0-CF170862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D3C-3ABC-4EBD-9549-B43B5350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F55-4864-4FE7-BE5A-EFF2753C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7C2-BC68-4024-9170-4045F3F8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CB4-0FFD-46A4-AC3B-62E9CE09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651-4B73-49AF-916E-3D8B9E5E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556-7B6A-42F7-BCD6-C375EC6B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B7B-3EF6-48C1-BB43-121666C4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A61-3DA7-4948-B766-76B70AD6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2B6-90A3-4290-BC17-C133F61B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F40-BDAC-49AD-8C78-1D68519E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B10-D501-4B7C-A65D-657F4889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C0D9D-B6ED-40DF-980D-6235C54EBE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, веди чрез мрак гу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а ночь, далёк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от з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со мной пре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свет, в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ным. Тебя я не про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ди ме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луждать. Теперь же я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е раз с пу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дился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п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рука мне в жизни всё да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, лишений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лица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злучила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22:40Z</dcterms:modified>
  <cp:revision>12</cp:revision>
  <dc:subject>Slavic hymnal Гимны веры христиан, hymn 824</dc:subject>
  <dc:title>Небесный свет, веди чрез мрак густой</dc:title>
</cp:coreProperties>
</file>