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13B6-15B6-493F-847D-DACED5B9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4AAE-89B2-47E4-B0C7-A3E90E01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DCCB-2F34-4BAB-901D-819BC427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4F8F-7291-4238-A32B-B92566F9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3906-A207-4F2F-BB3D-090BBBC9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A21A-F546-4C27-B297-FAD43B97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03BB-BD43-4536-AB96-56DBACEF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4521-FA0F-4DE8-A699-30A64CCF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E32D-2CCF-4E35-8F83-893D8C1E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1D68-649C-401C-AAE3-2AA18E57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90A0-04EE-4AB7-86D6-5B6B05BF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26E4-0C53-4563-83B4-C1C8438C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8F50B-FE38-4F4E-9284-62A41E4D17C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boundless salvation, deep ocean of lo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fullness of mercy, Christ brought from ab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whole world redeeming, so rich and so fr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w flowing for all men,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, roll over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6   О, світу спасі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, світу спасіння, любове свя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За наші провини лилась кров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есь світ відкупив Він, і дав спокій Сві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Хай світ весь радіє,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любові святі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sins they are many, their stains are so dee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bitter the tears of remorse that I wee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useless is weeping; thou great crimson se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y waters can cleanse me,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, roll over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агато провин в мене й темний мій ду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а Божого слова торкнувся мій слу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серце скорилось, і сльози я лл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Господь мій Спаситель,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пас душу м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tempers are fitful, my passions are str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y bind my poor soul and they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e to wro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neath thy blest billows deliverance I s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come, mighty ocean,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roll over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 хочу молитесь і вірить Йо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о міць перемоги в Христі од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світлом небесним весь світ освіти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санна, осанна, осанна, осан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санна Спасителю Господу си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tide is now flowing, I’m touching the w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hear the loud call of the Mighty, to sa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faith’s growing bolder, delivered I’ll b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plunge ’neath the waters,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y roll over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ин Божий розп’ятий вмирав на хрест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Розп’ятий для світу і я у Христ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світ вже для мене розп’ятий є з Ни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 з Ним умираю,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З Ісусом мої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now, Hallelujah, the rest of my da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hall gladly be spent in promoting His prai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o opened His bosom to pour out this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 boundless salvation,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you and for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емеркнучу славу, безсмертя вінец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Мені дасть у небі Всесильний Творец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Зіллються там хори землі та небе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Для вічної слави,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(×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Христі я воскр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3:30Z</dcterms:modified>
  <cp:revision>12</cp:revision>
  <dc:subject>Slavic hymnal Гимны веры христиан, Ukrainian hymn 76</dc:subject>
  <dc:title>O Boundless Salvation / О, світу спасіння, любове свята!</dc:title>
</cp:coreProperties>
</file>