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699-B7C6-49C7-A9C9-F186386A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4B9-5BEC-4621-B9FC-57528F46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259-03F7-4D06-85A6-163EDCC3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FB7-BBED-4F48-BDEE-F15E4982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589-7CB8-40CB-9EE3-FBA46B69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03B-18EF-4403-ADE5-243343D4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1BF-3251-4D3D-9955-4B04C159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270-52BF-43FF-85A0-922AD94B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632-17F0-4F20-A9DB-347ACE10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DCD-6465-4021-873E-6B2478C0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A10-211E-47F7-8BD0-89E5C72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FCB-FB29-4AF4-9FAA-F614F2B1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46A7C-FD94-488D-8F7B-F297661A4F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 of God goes forth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kingly crown to 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-red banner streams af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llows in His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ышел на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аведных по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рез преграды и вра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стремится всл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est can drink his cup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umphant ove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patient bears his cross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ollows in His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чашу горя тихо п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невозму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ерпеливо крест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rtyr first, whose eagl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pierce beyond the gr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aw his Master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led on Him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фан с решимостью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ял перед су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увидел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him, with pardon on his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idst of mortal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 for them that did the wr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llows in his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я тягостны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л врагам сво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осит Бога за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следует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lorious band, the chosen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whom the Spirit 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elve valiant saints, their hope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ocked the cross and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надцать избранны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гнём любви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наш мир спасат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ши всякий стра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climbed the steep ascent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peril, toil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od, to us may grace be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ollow in their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их славны им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ух непобед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мужества 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едовать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2Z</dcterms:modified>
  <cp:revision>13</cp:revision>
  <dc:subject>Slavic hymnal Гимны веры христиан, hymn 499</dc:subject>
  <dc:title>The Son of God Goes Forth To War / Сын Божий вышел на войну</dc:title>
</cp:coreProperties>
</file>