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8DE-40D4-4E25-8FE9-0F2F4670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E18-5E68-483E-84D0-11296725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80E-749F-4501-917E-EF3D5057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106-D2C4-4130-9FBA-CFBFDBAF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3856-72BB-4F97-B737-CB2029C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9AE-7B90-4391-8CE3-1C51BDEF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262-2E4E-47E8-99BB-F5D417C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586-1F70-455D-888A-62E715C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FD7-266D-4290-9BB6-EF63A2DC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9A8-79E9-4C28-B102-01049872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9FB-3D9A-4D50-9E32-495BEC3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9A5-7CD6-47B4-8417-A43FBE2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5C6CD-1DE3-4B31-BFF6-B26C3F6C1E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ake up thy cross and follow M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d my Master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to rans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render your all to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Возьми свой крес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зьми свой крест, иди за 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за тебя пе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ко кресту приб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closer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ought His will to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at will I now ab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ил Он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снял тяжкий гн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послушным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куда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be through the shadows d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o’er the storm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ake my cross and follow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 иль смерт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ные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крест за Ним я вслед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ни вё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life, my all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Master, Lor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ердце, волю, жизнь мою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Спаситель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ollow my Christ who love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e leads, I’ll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лед за Ним пойду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Он ни пов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8Z</dcterms:modified>
  <cp:revision>13</cp:revision>
  <dc:subject>Slavic hymnal Гимны веры христиан, hymn 433</dc:subject>
  <dc:title>Wherever He Leads, I’ll Go / «Возьми свой крест, иди за Мной»</dc:title>
</cp:coreProperties>
</file>