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237B-A62F-490D-8F5F-1A0CCDB1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77ED-79DF-4005-ACCB-A787999C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1509-6F76-4292-841D-BFE482CB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7E5-1F16-4EB2-9132-92B86771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2DB-F021-4D79-8A52-3C74B95D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A2A-57E7-4034-9871-DB2FFCAC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2D4F-4945-4304-8C3C-6E5CEECA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CD0-AEEB-4A41-9F26-D5F05F17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5F76-9B22-46C4-8ADA-197E5BFD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8E30-B581-43F6-9CE7-2D3A61C8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C7C0-362E-47B2-BE53-857DDCF4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602-0CC7-46F0-B9D6-08A0E893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C69E8-CE5D-48DA-A07B-8929B71D26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тільки ві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тільки ві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все можливим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тільки ві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2   О, тільки ві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5:30Z</dcterms:modified>
  <cp:revision>12</cp:revision>
  <dc:subject>Slavic hymnal Гимны веры христиан, Ukrainian hymn 112</dc:subject>
  <dc:title>О, тільки вір</dc:title>
</cp:coreProperties>
</file>