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7EC-19F1-4AEE-810F-7E78161C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D84-4676-471B-A566-7F12C4DD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D5F-2B17-4598-9FD6-ADE9AC67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744-9815-4CAC-982B-15D36EAA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535-59FC-4C02-A213-3B5753BA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136-C265-4D8D-B7F6-4B394408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7DA-CD0E-4D19-8B6D-E94D6C29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2CB-B330-4C6C-BC8A-7C4DE6F8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E43-BFF4-424B-8C11-1227B9A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A39-7803-451B-8C13-A90D998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8FD-60E1-4C3C-B43A-809CB9C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567-01C0-4E1C-B2A5-902B0A7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0E48B-FDC4-46AE-B072-C5677D516F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источник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ветлых, чистых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вскоре встретим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источника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земной тернистый, скор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ним н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х брегах реки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рево жизни над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ветлым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кто устал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тем во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 веч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будем об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42Z</dcterms:modified>
  <cp:revision>12</cp:revision>
  <dc:subject>Slavic hymnal Гимны веры христиан, hymn 652</dc:subject>
  <dc:title>Мы у источника спасенья</dc:title>
</cp:coreProperties>
</file>