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258-05A6-432D-9F77-89353379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927-D762-442F-B250-578D0E0A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402-EB48-4091-B729-354280CA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A8A-FC08-4423-B35A-092F706D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729-2BA8-4ACB-8E5F-4D1A72D8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637-ED70-4D29-8C58-0C66ACEB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7DB-AC04-474C-BA00-FE235F1E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FC4-937C-4973-9ED2-2F76E720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D52-E9E4-4C68-985C-A305BD6E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23A-79D0-4074-8DDD-4A21C6A5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546-4370-4B4A-B38E-C7B7E446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F90-5014-45FB-81C8-FC48CBB4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96E2A-9628-44CF-9F17-4824CA0E63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ебудь со мной! уж свет сменился мг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устеет тьма, Господь,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лишусь опоры я земн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плот бессильных, Ты,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к жизни день короткий утеч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меркнет всё земное и пройд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е песни счастья только звук пуст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руг неизменный, о,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будь со 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с царским обликом ко мне прид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с состраданьем нежным и в любв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ы исцеление неси с Соб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ак солнца луч, таким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Тебе нуждаюсь каждый час, мой Б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тоб искусителя Ты превозмо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 светлый час и облачной пор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уководя, храня,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 страшен враг, коль Ты, Господь, вблиз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корбь не теснит, не знаю я тос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де смерти жало? Ад, где ужас тво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ессильно всё, — лишь Ты пребудь со мно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предсмертный час на Крест Свой укаж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вездою утренней средь тьмы гор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ветлеет небо новою зарё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 жизни и смерти Сам пребудь со мн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5:45Z</dcterms:modified>
  <cp:revision>13</cp:revision>
  <dc:subject>Slavic hymnal Гимны веры христиан, hymn 823</dc:subject>
  <dc:title>Пребудь со мной</dc:title>
</cp:coreProperties>
</file>