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A98-B659-43AD-9370-03D4B60E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4109-0DC6-41E5-85AD-3D9E3F19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47C-8308-4597-A20F-69F1A47A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9830-5DBD-4714-8F15-98F6C577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D54-A228-43F2-BD80-2D7BE993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E1E7-BEF1-4001-A33F-39FC8275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E6B-3610-4F20-8326-44B19B46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36F-F3F9-47B4-A376-5AA7AA07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9836-9644-442F-86B6-353E5B89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2F7D-DF5A-4B6C-BB63-2E9E2EF9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6B39-00AC-444D-9FAC-84095F43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4591-1280-4E62-87AE-DF8A9066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87C39-E1AA-4855-94B7-D7BCD63254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огонь с небес свящ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возносим дар смир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низойди к мольбам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м нас Духом Ты к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бещал, то совер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огонь с неб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Илии, внемли молен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освяти нас на служ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усть Он сердце возро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овое в нас сот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ное пусть всё с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м холодным и беспеч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Ты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ги любовью бескон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и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ражью силу поп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вято жить и ум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благодать Твою являт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нам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елым, твёрдым быть в служ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мне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спасать, о, дай мне рв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мне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вой алтарь слагаю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всё моё, прими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 прославить лишь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огонь, Твой огонь мне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48:36Z</dcterms:modified>
  <cp:revision>12</cp:revision>
  <dc:subject>Slavic hymnal Гимны веры христиан, hymn 300</dc:subject>
  <dc:title>Господь, огонь с небес священный</dc:title>
</cp:coreProperties>
</file>