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288-76B7-4F32-B8F9-AAC2EAF2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A56-229A-469A-9CFE-1F805F28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60C-2714-4A0C-AEC2-D51E14AD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0A4-E1F0-4B0E-97EB-F87E9FCD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696-9EC9-4CA6-A9FD-651F5D29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D2C-94BE-43C2-9B58-63165767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1F8-9CA5-4F8C-A389-95C81F22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8D8-FC99-450B-B4EF-ED9CDB1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712-5BF8-42EA-9AC2-7BF281B1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D8A-3337-40CD-AC48-83A8EF5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B5A-5D0D-419C-9235-54B0A55A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09D-8958-45BD-92EC-713829D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61957-3561-46A9-B5E5-FA910752A43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нас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всегда с Ним в союз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ю купил нас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 мне, скажи об Иису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н даст над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олько Ему покор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арствует в сердце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оро вернётся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быть послушным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царстве Ег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скажи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н — мой Спасител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а Его крепко держу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дару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47Z</dcterms:modified>
  <cp:revision>12</cp:revision>
  <dc:subject>Slavic hymnal Гимны веры христиан, hymn 422</dc:subject>
  <dc:title>Скажи мне, скажи об Иисусе</dc:title>
</cp:coreProperties>
</file>