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12E-B5B9-4523-9DFC-C20C74B0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7B8-C3FB-49DD-947A-5C474339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6DF-0F9E-4EC8-8D68-75A538C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EB1-F65D-4214-BF2D-C0879841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634-34F9-4475-AAF2-40A819CC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1B2-721F-44E6-9720-B1C7093D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727-DB2A-437B-BD47-BE6AFB6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D44-1EA7-445D-B192-2140A68F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70F-C9C3-4F20-8FD8-591ECFDD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37E-534E-43FF-85F8-A472CFEF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572-40B3-42FF-9E6D-D9230DAB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456-31F4-4CAA-8ADC-F05DDF2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3B85D-4E39-43F7-822F-E36ADA19959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ли место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ьею кровью мир омы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а дверь открой скор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 Господь к тебе ст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5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ли место Иису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заботам, и вес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ты даё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Умершего за грех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ужели оттолкнё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ни отдашь ли Иисус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ывает Он о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т быть то день послед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льше Он не будет 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же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изнь и сердце всё от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ас замолкнет благодат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 уж не будет з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Царя небесной сл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в сердце пригот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внемли Его призы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ми Его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04Z</dcterms:modified>
  <cp:revision>12</cp:revision>
  <dc:subject>Slavic hymnal Гимны веры христиан, hymn 350</dc:subject>
  <dc:title>Есть ли место Иисусу?</dc:title>
</cp:coreProperties>
</file>