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E4D-FE03-42B5-AA18-F24529C9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E61-91D5-4C20-A221-DFFAD934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36C-7216-42C1-9102-1AFBE02A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4C9-246D-4574-8285-EE35173C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16C-57CF-473D-9A9D-416BEC5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AAD-D04B-4166-BC17-4CA5E13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DD6-8CEF-4ED0-82DF-C3BFF4D4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5A7-CCEC-4E35-9FC5-19E66137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3523-A5B8-4405-A8F9-41F9F8A4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7F2-F8D9-41E5-8CC4-5A0232F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C45-F262-41BA-A6AF-63C531E6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A63-0AE6-4C69-B66E-C77E72C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C43E-B034-4167-9B24-4DE84607D6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the holy of ho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into His presence with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at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hol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ship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70   Come Into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6:43Z</dcterms:modified>
  <cp:revision>12</cp:revision>
  <dc:subject>The Source 3, song number 1170</dc:subject>
  <dc:title>Come Into the Holy of Holies</dc:title>
</cp:coreProperties>
</file>