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1C8-0750-4664-8460-1C1A531D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CCF-5E87-4EF7-9288-E433402F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572-CB40-4A95-BA19-4C18D99F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442-6C39-4526-BCD4-2547A738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321-6DD3-4EFD-B4B4-1FE283EB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3AE-ADE1-42B5-BAF4-0458139D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B3B-25D6-4E07-8215-71C03860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F69-D372-4F01-8F9C-A0373E2A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83B-2FCA-4AF9-9B53-54782B6B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6C4-66C8-4238-B737-2486215B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6E1-0C0E-42EE-BA8D-9AD79A77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C63-CFF5-4A0F-843E-E3BDACD9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213AC-EFDE-4641-94F0-B728E4B032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-то в свете без те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, а там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чтём значение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кровенное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-то в свете без те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м потерянную 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ончим начатое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айны сможем уяс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земное там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емнело всё во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пеха не было ни в ч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есня обрывалась вдруг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небесной мы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нает всё, Он держит клю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в небесный д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ноя нет, ни грозных т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т и мир, там всё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8:55Z</dcterms:modified>
  <cp:revision>13</cp:revision>
  <dc:subject>Slavic hymnal Гимны веры христиан, hymn 667</dc:subject>
  <dc:title>Когда-то в свете без теней</dc:title>
</cp:coreProperties>
</file>