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86B8-4D51-4AC6-B473-B149BC86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A561-099E-403D-BE3C-2DBE277E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E368-6C42-49E2-8562-B463D7571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8CCE-7520-4A0D-9998-3EA2997F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31B6-A8E6-4791-8237-E004E241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D883-480B-4A9B-9C1C-12A1AF8B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7065-CB98-4D66-A84D-658B8539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314D-485F-4848-ACC4-AEC5961C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0C74-73B8-454E-AF7E-483FF9AE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4AAD-989A-4FC5-A3B0-3F0008D0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D599-A6D9-4162-9F16-42263218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0E34-2EA9-4714-AC32-A324F6F7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DBD1F-54BB-425B-8A69-C809AA87E96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nder of Your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all be our medit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gather in that sha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the sun went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weep with those who th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were leav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ere leaving,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humble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never wore an earthly cr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55   The Wonder of Your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teal away at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they took down Your bod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love and tears to leav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 borrowed gr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go with Mary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place they laid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they laid You,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nd the stone was rolled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oss, O the wonderful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glory, what victory I’ve f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come to the wonderful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whole life I lay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re heaven’s praises si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ose hours of dark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Holy Spirit bro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ound that empty thr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il the decl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rise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risen, Jes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not de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hold He lives for ever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oss, O the wonderful 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glory, what victory I’ve f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ll come to the wonderful 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my whole life I lay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0:23Z</dcterms:modified>
  <cp:revision>12</cp:revision>
  <dc:subject>The Source 3, song number 1555</dc:subject>
  <dc:title>The Wonder of Your Cross</dc:title>
</cp:coreProperties>
</file>