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D3C-018B-4DBF-93FD-611FC935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EBD-5352-4CE8-AAA6-B34C2F0F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3CE-F117-48FA-82C8-4AF9E081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981-D807-4853-AFC0-0ADD2547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6A8-67C9-419E-8E2C-C5249D0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D80-8B3F-4774-9A12-62A4CB51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A63-9F81-48ED-B290-AEA7AE2B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828-830A-49BE-92FF-F638F7D7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EA6-1FC4-46DC-957B-C1AB1633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052-67AE-46C8-8538-2C316745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9DF-FCEF-480D-9D8C-EC41949B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4E9-1144-453F-86AB-9B56B914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40145-240C-4B95-A7BB-251DE316AE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, kindly Light, amid th’ encir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om,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is dark, and I am far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;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свет, ве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, веди чрез мрак гу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а ночь, далёк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Thou my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o not ask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istant sce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ep enough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от з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ит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ё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ы со мной пре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not ever thus, nor pr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ou shouldst lead me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o choose and see my p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lead Thou me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иным. Тебя я не про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ди мен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луждать. Теперь же я без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d the garish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spite of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ide ruled my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 not past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е раз с пу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дился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, п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ong Thy power hath bles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t still will lead m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or and fen, o’er crag and torr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e night is g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рука мне в жизни всё да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ряд скорбей, лишений и невз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иянью д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the m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angel-faces smi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I have l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 since, and lost awh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лица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злучила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5T10:53:04Z</dcterms:modified>
  <cp:revision>12</cp:revision>
  <dc:subject>Slavic hymnal Гимны веры христиан, hymn 824</dc:subject>
  <dc:title>Lead, Kindly Light / Небесный свет, веди чрез мрак густой</dc:title>
</cp:coreProperties>
</file>