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117F-B71F-421F-88C7-5713AD8EC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754D-8176-47B5-A86B-AB6978B5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AF46-61F7-4FF4-84DF-CB21F175F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31B9-02EC-4FCE-8B32-E07B7EBB3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2310-2D7B-45C3-B06E-7EC012E8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B8A3-464C-4CC6-80B5-266F153B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16FA-A870-409A-B137-FF795C57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9821-659E-45F7-81C2-F0DEB04B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319A-4024-422B-AC92-585FBDDA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4FD9-5A2A-4289-B201-629DE629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FF58-27C8-4254-B0D8-AD7DAFA6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0230-3AFE-4A9A-A3C1-99D2C98E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A0D89-3ADF-4F3D-9D07-12709E0040E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am saved from s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have peace with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 walk with Jesus day by d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His hand so str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lds me all day l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with Him I will not go astr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ід гріха я спасе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Божий світ поселе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Серцем вірую я в Ісу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ін спокій дав мені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тягар зняв з душі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Сина Божого вірую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14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7   Від гріха я спас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hold me with His mighty h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hold me with His mighty h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emptation He will help me st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He will hold me with His mighty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, ві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вірую я у І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, ві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ина Божого ві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any passed me b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eding not my cr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the Saviour heard and rescued 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was lost and bli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esus was so ki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o, He touched my eyes and now I s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ін мене відкупи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ірою я прийня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Серцем вірую я у Ісу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в незмінній любві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ін хранитель душі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Сина Божого вірую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hold me with His mighty h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hold me with His mighty h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emptation He will help me st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He will hold me with His mighty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, ві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вірую я у І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, ві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ина Божого ві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a promise su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t shall endu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o, I will be with thee all the way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though foes assai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shall still prevai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I know He helps me watch and pr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Що за радість тепе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ін зі мною є вс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Серцем вірую я в Ісу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Хочу славити вс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За те, що спас мен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Сина Божого вірую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hold me with His mighty h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hold me with His mighty h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emptation He will help me st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He will hold me with His mighty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, ві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вірую я у І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, ві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ина Божого ві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49:01Z</dcterms:modified>
  <cp:revision>13</cp:revision>
  <dc:subject>Slavic hymnal Гимны веры христиан, Ukrainian hymn 17</dc:subject>
  <dc:title>His Mighty Hand (I Am Saved From My Sin) / Від гріха я спасен</dc:title>
</cp:coreProperties>
</file>