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184-88CD-4910-B156-7C3956A3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FE7-6A66-489A-950A-0850EC67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94F-0A8E-412C-9BCF-F686454F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20E-8A03-4FB0-AC45-61899F23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8AD-113A-4042-887F-0A05992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1A3-E9E2-42BD-8602-0D64EA7D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01E-0D8D-441D-BAF9-E6105E87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6B3-A46B-4450-97C6-B49F005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726-A0F0-422A-9216-E641DFF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D71-0EB4-4AFA-8D9E-A622BC8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F92-32BE-48C9-9925-AD1DD07A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0EE-9D35-4B2C-B592-89B3E29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D9BD5-A820-43FB-B2C0-93E5FC5ADC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hristians, awake! Salute the happy m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ereon the Saviour of the world was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ise to adore the mystery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ich hosts of angels chanted from ab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ith them the joyful tidings first beg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f God incarnate and the Virgin’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5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Christians, Awak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 watchful shepherds it was t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ho heard th’ angelic herald’s voice, “Be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 bring good tidings of a Saviour’s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you and all the nations on the ear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hath God fulfilled His promised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s day is born a Saviour, Christ the Lor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spake; and straightway the celestial ch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 hymns of joy, unknown before, conspi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praises of redeeming love they sa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heav’n’s whole orb with alleluias ra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highest glory was their anthem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eace on the earth, in ev’ry heart good w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Bethl’em straight th’ enlight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epherds r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ee, unfolding, God’s eternal pl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found, with Joseph and the blessèd m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r Son, the Saviour, in a manger la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to their flocks, still praising God, retu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ir glad hearts with holy rapture b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 may we keep and ponder in our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God’s wondrous love in saving lost manki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ace we the Babe, who hath retrieved our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From His poor manger to His bitter cro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ad in His steps, assisted by His gr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ill our first heav’nly state again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n may we hope, th’ angelic hosts am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o sing, redeemed, a glad triumphal so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 that was born upon this joyfu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round us all His glory shall disp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aved by His love, incessant we shall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ternal praise to heav’n’s almight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37:11Z</dcterms:modified>
  <cp:revision>11</cp:revision>
  <dc:subject>The Source 2, song number 653</dc:subject>
  <dc:title>Christians, Awake!</dc:title>
</cp:coreProperties>
</file>