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BFF-BE87-4DAD-B0FC-82FA6003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6A3-EAB9-4D87-B8CE-3C6B8A47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549-A332-431D-BA86-C5BBF61B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CBF4-0152-465D-ACFA-A2C39DE6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6FE-52BD-4E98-A1BE-E430C663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7EF-12B7-4984-B194-98F5714E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D6E-4788-4DE9-8065-737A46E2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1DD-44AF-4401-91A9-6F54521B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5BC-1F14-421D-86D4-1FB1F636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9E0-A1DB-4BB1-839B-6EF5BF13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1B3-A798-4942-86DC-876D5CD4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666-1CA6-48AF-BD36-1F6360D1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C7C1F-FA45-4E0B-AEA5-E49ADC04AD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всюду страданий и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осветен наш жизнен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ны жизни бушуют, как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грозя захлест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чалены добрые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нередко туманит сле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арче, усердней 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шла стороною гро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лько всюду страд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свою мы грехом исказ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может теперь оправ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молнии нас не сраз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каяться, плакать, ры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уете постоянной,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легко совратиться с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, наш Небесный Влады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шь нас научить и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хочется всем нам уда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оды собирали мы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мы страждем и плач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 в наши души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7:46Z</dcterms:modified>
  <cp:revision>12</cp:revision>
  <dc:subject>Slavic hymnal Гимны веры христиан, hymn 506</dc:subject>
  <dc:title>Сколько всюду страданий и горя</dc:title>
</cp:coreProperties>
</file>