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BF4-2CAD-40BE-9CF6-B75A8E82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D5D-A713-488C-BE77-F817487F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A7B-3400-4BCA-9ED1-11FF8CB2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765-FCCE-4300-8E23-72B7AB69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734-208D-4450-AEA6-E7321572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6C4-F26D-4255-A3C7-E443A52F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EC0-7E0C-4B8D-AE65-50A1ACD4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078-4B3B-4EB4-9098-3032574E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A52-CA1F-4725-A1F3-F823F3A9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C1B-5E0E-4339-8DDA-9A18FDF5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6DB-9944-45E4-8A87-D62D8E00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E60-B021-46BD-8A49-3EA74F05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634BF-B980-4DC2-A253-D92752ADDA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агрянице стои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рновом венц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го спереди связаны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скорби глуб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ледном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жалости к людям и му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багрянице стоишь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телом скорбишь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позорная пытка ужас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шный час дл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равненно боль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, что жертва для многих напра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любовью го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яя вра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ежно объять мир стремил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многим поня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лпа над Ним злобно глумила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йте скипетр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и скор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равствуй, Царь Иудейский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ич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затекшие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я всех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остниковую палку влаг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ли тростью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колючкам в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 впалым ланитам хлес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левали в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лилася с ч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они всё сильней хохо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страдал и терз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порочный над Богом глум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, о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паситель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так тяжко том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0:15Z</dcterms:modified>
  <cp:revision>12</cp:revision>
  <dc:subject>Slavic hymnal Гимны веры христиан, hymn 285</dc:subject>
  <dc:title>В багрянице стоишь Ты</dc:title>
</cp:coreProperties>
</file>