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4D4-1DCA-4F1B-9740-FAC561D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629-1089-4065-BB18-28E5B13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791-7130-497D-971A-444A86AB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47A-017F-4C63-8A3F-9E6CBCF9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343-FB87-4089-8C86-2D90C687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5C6-8FE0-4865-9FAF-A2F54B04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57C-1233-4731-B2AE-16F2BB9C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F84-7062-4295-A850-B9B70576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51C-3F1F-4B9F-8A64-15D057E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204-C848-4B10-88BD-993C77B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FDF-C105-4DC5-8691-F07308C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1DA-1863-4BB7-8D23-BEB27571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D1FC9-012A-4561-BF0E-F5A2E884712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718   О, благодать! спасён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лагодать! спасён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з пучины 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— и чудом стал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слеп — и вижу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рва внушила сердцу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— дала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души излил в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мир течёт ре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 Господним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вся крепость в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ерный щит, Он — часть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х путя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ending love, amazing grac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цепи снял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меня прос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река, с небес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овь и благодать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плоть моя ум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борьбе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небесном доме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и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1T14:51:34Z</dcterms:modified>
  <cp:revision>11</cp:revision>
  <dc:subject>The Source 4, song number 1718 in Russian</dc:subject>
  <dc:title>О, благодать! спасён Тобой / Amazing Grace! (My Chains Are Gone)</dc:title>
</cp:coreProperties>
</file>