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B7B8-24B2-4677-8C6E-F781C55A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921-7DF6-42A9-B5FA-66AD7EBF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E74D-8BE0-4BBA-AAE5-00A9225A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221D-E2A5-4A35-A72E-19FC567B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8DA-760F-4C35-877D-C68E0A8D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73B-E002-4B89-BC4F-F8900E21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748-BCCC-4A3D-A4E8-A4F0EB1D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1220-9E5F-4FA2-AAFE-1A274286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78FD-9CB0-42D4-B5BA-4821B11D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8BCF-76F6-4482-A3DD-93CA6D14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EE7-CEAB-473F-A917-BD1ADD07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9EEE-DB43-4A41-BC27-6AB5CE63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648B6-411F-4DB5-B7A3-FAD55CC3DD7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ніп один хоч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0   Не хотів би я без пл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життя дав, добре зн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смерти не бо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сам себе пит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чим я перед Ним з’явлю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 хотів, щоб ще верну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і роки, що я прож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сім серцем і душе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би служ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працюйте, діти Бож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дивіться! вже смер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негайно закли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і душі до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хотів би я без пл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Господа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одну хотів би душ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еві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0:18Z</dcterms:modified>
  <cp:revision>12</cp:revision>
  <dc:subject>Slavic hymnal Гимны веры христиан, Ukrainian hymn 50</dc:subject>
  <dc:title>Не хотів би я без плоду</dc:title>
</cp:coreProperties>
</file>