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410-8596-40DA-882D-F557B6CE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F21-9D98-4F91-8CE9-30B98D95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7B6-007D-4A50-A59D-1A805D3D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922-1558-4EFA-8851-E1D88464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6EA-4F97-4AD2-9CA6-F885A8A9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CC8-EC54-48B5-9BE4-AF44141C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245-7075-493D-A422-DB648AE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B19-D759-482C-BD8B-C5764D1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4A0-ABEE-4FA1-B6EF-5E5332CF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764-7D4C-4AD1-807D-E841F6D5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AA3-2A3E-4D24-8E16-86D578F3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C00-6A83-4F95-8A3C-A102138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B664A-DC0A-41F2-9B20-7EBC0A7E50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firm a foundation, ye saints of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laid for your faith in His excellent Wo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more can He say than to you He hath s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you who for refuge to Jesus have f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т основ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основанье, стоит в род и 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е в Писаньи Бог людя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брого смертный добавит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адует сердце, рассеяло ть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not; I am with thee. O be not dismay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am thy God, I will still give thee 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trengthen thee, help thee, and cause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t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held by My righteous, omnipotent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 твой Пастырь с тобою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бре и в несчастьи, в тяжёлом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 чужбине, в темнице сыр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е покинет, пребудет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the deep waters I call thee to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rivers of woe shall not thee over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will be with thee, thy troubles to bl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nctify to thee thy deepest di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воды пошлю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и не на волны, гляди на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ным и твёрдым даю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я и скорби в добро превра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rough fiery trials thy pathway shall l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e, all sufficient, shall be thy su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lames shall not hurt thee; I onl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dross to consume and thy gold to ref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через пламя придётся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! только прямо, послушно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гненной печи, душой невре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олото выйдешь на радос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down to old age all My people shall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, eternal, unchangeable l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hen hoary hairs shall their temples ador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lambs they shall still in My bosom be b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арости видит Мой вер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не покинут, кто Богом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шают на теле, теряют кра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ам их до цели святой доне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ul that on Jesus hath leaned for repo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ot, I will not desert to its fo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oul, though all hell should endeav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shak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never, no never, no never fors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, что с рыданьем к Иисусу при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м на попранье служителям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негодует, пусть ад вос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икому Я не выдам е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59Z</dcterms:modified>
  <cp:revision>12</cp:revision>
  <dc:subject>Slavic hymnal Гимны веры христиан, hymn 850</dc:subject>
  <dc:title>How Firm a Foundation / Стоит основанье</dc:title>
</cp:coreProperties>
</file>