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CFA-7E61-4E3C-9FEF-3E211AD7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B10-9457-475A-8277-C2669B13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2A9-4723-421F-B1AE-7DB79A1B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493-1B81-4B3F-94EA-100680CC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248-AD45-4C8B-9E22-EFB32C8B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F8D-E1B0-4988-A256-443AC91A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ECC-B085-402B-8F79-9AB14948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ED1-1521-4384-8AFB-C3D18060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A91-1284-4EDA-AE93-E161F11C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276-F043-43C4-8696-7D7AEC3B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8B3-D0DA-4E56-9362-91263D2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A8D-CA49-4B5E-854E-B71B4BEB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BB08A-89AA-49B1-A08B-6E81F42E87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we have heard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singing o’er the pl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ountains in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ing their joyous st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нгелы, к нам весть дош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к нам весть д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вучала над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Христова Рожд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я мир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pherds, why this jubil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r joyous strains pro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gladsome tidings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inspire your heav’nly s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что тешит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яет торже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ите нам 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ладенце не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to Bethlehem and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 whose birth the angels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adore on bended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the Lord, the newbor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в Вифл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ться Богу с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небесный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ithin a manger l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ord of heav’n and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ry, Joseph, lend your 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us sing our Saviour’s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ных яслях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ладыка всей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руки прост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к Нему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a, in excelsis D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 в вышних Б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8:17Z</dcterms:modified>
  <cp:revision>12</cp:revision>
  <dc:subject>Slavic hymnal Гимны веры христиан, hymn 879</dc:subject>
  <dc:title>Angels We Have Heard On High / Ангелы, к нам весть дошла</dc:title>
</cp:coreProperties>
</file>