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8E61-F1AE-4262-83D7-A270A1DC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CC8-0A2A-444B-B9E8-D30ED601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ED8-D78B-4A11-9E94-B4EE2674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66C-8A4A-4F86-9929-1D388CE0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584-A12B-47BA-A7FA-EB30F4B8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041-3EE7-4656-A71E-8ABDE019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241-A8DD-4159-B6F7-D8BD856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224-3E20-4A5D-85ED-230C021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994-C12C-4CF7-ACFA-B3B3E49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397-343B-4714-9F4B-556373F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A9-45B3-4F27-B0AB-3DE48DA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EFE-811F-4977-A304-2C2ED0B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327E0-1062-4779-9884-C2D84E45E13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Christ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what will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rapture I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died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лицом к лицу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с Иисус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свет Его оч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чему душой стрем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роже жизни 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faintly now I se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darkling veil betw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 blessed day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glory shall b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видим мы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возь тусклое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великий день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есть узр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ejoicing in His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re banished grief and p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rooked ways are straigh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dark things shall be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тайное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беды уст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правит всё крив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х верных награ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! O blissful mo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, to see and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with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who loves me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лицом к лицу — блаженств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 чуд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дёт нас к соверш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дал нам благо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 shall beho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ce to face in all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see Him by and b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ицом к лицу у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Его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10:06Z</dcterms:modified>
  <cp:revision>12</cp:revision>
  <dc:subject>Slavic hymnal Гимны веры христиан, hymn 861</dc:subject>
  <dc:title>Face to Face / Быть лицом к лицу с Иисусом</dc:title>
</cp:coreProperties>
</file>