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A1F-30DE-444C-BFF8-00E7DA2C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BE3-2C19-41C5-AFF0-C91656CC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0DD-B8CF-4DF1-9A26-46F3D349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2A3-F86A-4D7E-A9B4-68F9925D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3E8-080E-4822-86A2-319A025E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7FF-F002-40DF-AB95-83F40CCA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A5E-3B76-4729-A3E0-4F2FE31E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F0A-5CDD-41A4-B55C-F78EFEFB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ACF-88F8-417C-B7B7-E39144DF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4BF-D6AA-47FB-BE99-E7969FA3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155-C98C-4E8C-98CB-5184830A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8D77-45C9-4CA0-AABB-377424A2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4BF63-DF9E-43CD-B472-BC747D82E4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те бодрі завжди і мол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оро наш Господь прий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х усіх візьме у край небес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Хто Його в молитві ж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адійсь на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! ― Господь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вердить престол Свій в прав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их в Царство Він візьм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2   Будьте бодрі завж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те бодрі завжди і мол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емна сила зла не с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силу Духа правди зодягн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и всі щита візьмі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адійсь на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! ― Господь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вердить престол Свій в прав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их в Царство Він візьм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те бодрі завжди і мол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спасе від всіх гріх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рі і надії підкріпі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 за грішників терп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адійсь на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! ― Господь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вердить престол Свій в прав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их в Царство Він візьм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те бодрі завжди і молі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благання вчує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на Спаса з вірою дивіться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у всім поможе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, надійсь на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, молись! ― Господь прий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твердить престол Свій в прав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их в Царство Він візьм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6:28Z</dcterms:modified>
  <cp:revision>13</cp:revision>
  <dc:subject>Slavic hymnal Гимны веры христиан, Ukrainian hymn 12</dc:subject>
  <dc:title>Будьте бодрі завжди і моліться</dc:title>
</cp:coreProperties>
</file>