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5681-1022-4172-8F68-DCFBC910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0C66-4192-4E35-AFB4-0F162F78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A512-DEAF-4F25-852A-53E6AA6C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FBC4-6D02-4E2A-8B2F-2D0F3625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B72E-880A-4DC0-896F-57AF84BF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867-80F2-433B-B98B-A1137C30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5110-785E-46B8-93CA-BC068400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A5D3-8C27-4E4A-8B4A-266A418E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E33F-16FB-4D67-AFFC-CA22D841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DD4D-BE3F-4302-9632-896AE3C3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0F63-CCAC-4493-849F-6651AB81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0E6A-AC2C-442B-B018-AC84F4B6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FADFC-D749-46B3-88FD-A3BFCDFB709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first Noël, the angel did s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s to certain poor shepherd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fields as they l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fields where they lay keeping their shee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 a cold winter’s night that was so de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Рождестве благую в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ождестве благую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ал Бог ангела прин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гачам, не мудре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бедным в поле пастух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ël, Noël, Noël, Noë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is the King of Isra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ël, Noël, Noël, Noë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is the King of Isra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lookèd up and saw a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ing in the east, beyond them f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 the earth it gave great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o it continued both day and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свет их оси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ень ангел им сказ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тесь! вам рождён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людям радость Он принёс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ël, Noël, Noël, Noë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is the King of Isra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y the light of that same st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ee Wise Men came from country f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eek for a King was their int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 follow the star, wherever it w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е небес т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глась чудесная звез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стила мудре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Царь сошёл к Своим раб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ël, Noël, Noël, Noë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is the King of Isra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did they know assure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in that house the King did l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entered it them for to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ound the Babe in pove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луч звезды для уха 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ёл он мудрых в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, что ярче всех све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огий домик оза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ël, Noël, Noël, Noë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is the King of Isra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Христос, пришёл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род от бед и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entered in those Wise Men th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 reverently upon the kn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ffered there, in His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gold and myrrh and frankince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шли смиренно в мал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али ниц перед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ладенцу поднесли да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шли с хвалой в свои дв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6:39Z</dcterms:modified>
  <cp:revision>12</cp:revision>
  <dc:subject>Slavic hymnal Гимны веры христиан, hymn 814</dc:subject>
  <dc:title>The First Noël / О Рождестве благую весть</dc:title>
</cp:coreProperties>
</file>