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8DA-E592-4C7F-AC9D-83161E3D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5042-80A6-49B5-A7E6-914AAA6F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C2F-3182-4C27-BE33-D42424F6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DAE-52E6-47C5-9ADB-AF093B7B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819-3E23-42A7-9B3D-4CB583ED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E2A-E4B2-444D-9E5C-53792D3C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66F6-3C8F-4A41-80E4-55FF6476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E40-F41F-47D1-BC99-8C8425BF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A5C-42A8-43EB-94F2-0783E3C5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953-9619-4E42-850B-91B87594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395-6EDE-433C-8E1B-E69E66D9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2D2-4DEE-493B-AAD2-2B270A2D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F8CB5-10EC-4CD0-AB2B-0572B5E535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Иисус зовёт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егодня вас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пути блаженн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едших по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зовёт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овёт, Он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, Он зов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ди ко Мн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Иисус зовёт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ердца!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веры чист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юные 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я дар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зовёт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овёт, Он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, Он зов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ди ко Мн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юные!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те Богу утро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Иисус зовёт оп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зов при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зовёт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овёт, Он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те, Он зов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ди ко Мн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0:22Z</dcterms:modified>
  <cp:revision>12</cp:revision>
  <dc:subject>Slavic hymnal Гимны веры христиан, hymn 757</dc:subject>
  <dc:title>Вот Иисус зовёт детей</dc:title>
</cp:coreProperties>
</file>