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F13-991D-40F9-8FAF-3A83BA73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DB2-FB19-480C-BB25-17C34525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697-E4AC-4489-AD00-9D649384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881-BD01-439F-94A6-5EF094B7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762-5EFB-4363-AE8C-D2B7AFF5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772-18EC-4F8B-AA1E-87B297EE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563-8B64-4B5E-8151-D34C3567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CD4-05FF-4170-BE7D-AFB6E3A1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D51-5347-4720-8842-03C9D2C2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80C-D8C6-4B12-BFFB-60EB1F3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38A-2BBC-4DAE-A17E-4BA835F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31A-63D0-4CC3-AB97-F89A21A0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818C0-FA37-477C-8775-F1524BC432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щит от стрел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ох путникам-бор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луч среди затм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з бездны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дух живущих дыш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ессилен гордый у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н верой чуткой сл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голос Божьих д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а — щит от стр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верой окры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к на труд спеш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, в битве побежд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он пламенем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ост живой воз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ебом и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тель мира 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ям волны мор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силой вдохно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ссиленных борц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царства побеж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ает власть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с нас недуг с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шает мертвец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унынья утеш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ческих сы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грешников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квозь тень грядущих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ам нашим от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га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щит от стрел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ох путникам-бор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— луч среди затм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з бездны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51:29Z</dcterms:modified>
  <cp:revision>12</cp:revision>
  <dc:subject>Slavic hymnal Гимны веры христиан, hymn 641</dc:subject>
  <dc:title>Вера — щит от стрел сомненья</dc:title>
</cp:coreProperties>
</file>