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68-584D-4E24-B0D1-2A0B2C05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499-9962-4A10-8C30-9CF726C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B19-1963-45C7-8D65-15F01914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924-5C98-4413-8869-1825C433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840-CEA7-4F89-A41C-A6B3A86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136-E10A-4980-B466-6D5B91C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A89-2A3C-4303-B6DC-945D414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1BD-40DD-48EF-AF44-DAB0FF07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032-2EC4-4530-A041-2A127E4B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3E7-F675-499C-AEEC-19E9DD67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381-C33C-4991-8900-5E789B89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FC5-B8FD-40F5-9E16-BEB6590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52339-D3A9-4158-BFC9-A667FAFB4A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о я ищу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вижу с каждым д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егда хочу пойти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лед за Ним Его пут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но я ищу Ии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, куда вел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юн, мне дано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дти Его троп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волю испол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оит в дверях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ить иго просит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Нему стучаться 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ворит: я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Он меня, Он люб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едь умер за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любит Он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31Z</dcterms:modified>
  <cp:revision>12</cp:revision>
  <dc:subject>Slavic hymnal Гимны веры христиан, hymn 756</dc:subject>
  <dc:title>Рано я ищу Иисуса</dc:title>
</cp:coreProperties>
</file>