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19</a:t>
            </a:r>
            <a:r>
              <a:rPr b="1" lang="ru-RU" sz="3600" spc="-1" strike="noStrike">
                <a:solidFill>
                  <a:srgbClr val="ffffff"/>
                </a:solidFill>
                <a:latin typeface="Verdana"/>
              </a:rPr>
              <a:t>	</a:t>
            </a:r>
            <a:r>
              <a:rPr b="1" lang="ru-RU" sz="3600" spc="-1" strike="noStrike">
                <a:solidFill>
                  <a:srgbClr val="ffffff"/>
                </a:solidFill>
                <a:latin typeface="Verdana"/>
              </a:rPr>
              <a:t>Известна мне церков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звестна мне церковь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ердцу отрадно так бы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ву любовь воспе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й жажду Его я хвали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звестна ль вам церковь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которой так сердце влеч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к небу молитва свят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рячим потоком теч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странник! ты знаешь, что мир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церкви той веет все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то там не чувствует сиры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ытым себя нико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едь церковь есть неба предвер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й милости Божьей престо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ыл исцелён от невер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церковь Христову вошё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руг, иди в церковь жив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м Божий и ты в ней найдёш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грудь Иисуса святу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ргнись и мир обретёш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0:23:03Z</dcterms:modified>
  <cp:revision>4</cp:revision>
  <dc:subject>Slavic hymnal Гимны веры христиан, hymn 519</dc:subject>
  <dc:title>Известна мне церковь живая</dc:title>
</cp:coreProperties>
</file>