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CBD-EF38-409C-95A6-A2C8E1D8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6F5C-EAE3-4537-9BAF-ABC0CA3B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095-A76D-4AFB-904A-4151866B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C9F-E7EC-4347-BBAD-2E1F306D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CA3-E531-49C2-B9FF-3668AB5A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F35-BFFA-4509-8DFD-889599A2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909B-9568-4FFD-8031-B53B24D8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43C-5E53-4F61-BADD-E6F84477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5C5F-EFD0-4A61-AE86-39DF95AF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FE0-D940-4D86-86BA-C4B68593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FD0-82E1-4E90-B93F-20083C90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E24-F2C8-4673-8B7B-34FE6AE5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22AB9-6DCC-466A-9909-95F08134D9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sent His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called Him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me to love, heal and forg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d and died to buy my pard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 empty grave i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rove my Savi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70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 Sent His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 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weet to hold a newborn ba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eel the pride and joy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greater still the calm assu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child can face uncertain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 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n one day I’ll cross the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fight life’s final war with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n, as death gives way to vict’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see the lights of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know He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 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2-09-22T21:51:19Z</dcterms:modified>
  <cp:revision>11</cp:revision>
  <dc:subject>The Source 2, song number 701</dc:subject>
  <dc:title>God Sent His Son (Because He Lives)</dc:title>
</cp:coreProperties>
</file>