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B6AF-B51C-45E9-A1B6-6935DC478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524E-DFC0-402B-BEE8-11CE1FA5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5E6F-10C0-4574-80D7-84B1D3509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6505-F9D9-4453-9B9D-7F2AE30EF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D048-6191-46C9-93E0-D9B3CC64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8D9C-688F-4214-B502-BF0943D7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D460-F7C0-4899-ADEB-745A05FA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F72B-30A4-4404-88BB-6F1211ED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5EEE-D3ED-4407-A036-9975D49A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1EA4-EC42-402B-9423-95DA7296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5DE8-075E-4146-A2D5-960A95BE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D4A7-F583-43E2-A69C-1599D04B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2BC4FD-DA3B-44D0-82AD-6F141B8472F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6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ы войдём во дво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ойдём во дв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лагодарностью в сердц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рата с ликованьем на уст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ём: сотворил Господь се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ем будем радостны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радовал меня, возрадовал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уду петь: Бог радует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радовал меня, возрадовал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уду петь: Бог радует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enter His g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thanksgiving i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enter His courts with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say this is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the Lord has ma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ejoice for He has made me gl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has made me gl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has made me gl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rejoice for He has made me gl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7:26:01Z</dcterms:modified>
  <cp:revision>12</cp:revision>
  <dc:subject>The Source, song number 262 in Russian</dc:subject>
  <dc:title>Мы войдём во дворы / I Will Enter His Gates (He Has Made Me Glad)</dc:title>
</cp:coreProperties>
</file>