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1397-E86A-4990-86ED-72363F1E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1333-DE7D-4964-867C-8E61E7A9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1823-AEEC-42D5-AFDE-60E1FDAC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BD60-7CF3-457F-86ED-DFE38EB3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2F79-72AF-4174-9A36-3E55FE95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1234-59AA-4F7B-93E7-F227776D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2451-316D-4B51-98E4-70CC974D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EB6A-4255-4742-A85C-4826F6EC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5432-C787-4812-9372-627220E4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CAC0-DDCA-479C-8147-02B0B863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953E-DDBF-4D48-A535-87849A42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6AC9-C796-4A48-870B-6176B7BE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5B9DA-73D4-41A1-9276-9CF8D03932F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к Спасителю в юные д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найте в Нём верного дру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суетою вас мир не плен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сердце Господь не поруг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зовёт вас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хочет вам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поспешите, Ему поклон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ас зовёт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те к Спасител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ите на крест, на мученья 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много за вас претерпел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й поспешите отдать Ему всё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 ваш, и душу, и т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зовёт вас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хочет вам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поспешите, Ему поклон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ас зовёт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ликих и малых не мало уш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этого мира неждан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знает, когда попадём в их чис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товьтесь к тому постоян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зовёт вас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хочет вам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поспешите, Ему поклон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ас зовёт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те к Иисусу, пока ещё д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найте в Нём верного д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не покрыла вас смертная тен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кройтесь в Христовых заслуг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зовёт вас к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вечную хочет вам 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поспешите, Ему поклон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вас зовёт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3:58Z</dcterms:modified>
  <cp:revision>12</cp:revision>
  <dc:subject>Slavic hymnal Гимны веры христиан, hymn 379</dc:subject>
  <dc:title>Придите к Спасителю в юные дни</dc:title>
</cp:coreProperties>
</file>