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154-993B-41B3-81B1-5AF5A5A6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492-3A9A-4583-B03F-DF2FA00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ACB-3BB6-461B-8BC3-C74EE3CA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8D-016F-491E-B192-77046A7A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061-8782-41F7-B80C-C1C2418D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E5E-02C1-4CDE-BBF4-BDD47EBF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0A7-7A52-4E2A-89C3-1FCD3ADD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ABB-8F98-4819-9DFB-F790E28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C46-28F2-4096-8086-9AD348D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678-1786-44A9-9C25-E88E73F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7F7-17E9-4CCB-BCEB-0E6830A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444-E3BF-4F55-890A-80A761DD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14540-164A-4032-9E09-6A854A06F6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coming to earth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in power and love to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ns of His coming multi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ning light breaks in eastern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, for the time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ing to claim His chosen b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redeemed and pu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is whole earth scattered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’s dominion will then b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sighing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t were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shall the dead in Christ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ght up to meet Him in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these glories meet our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f it w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to my heart ’twill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shall crown Him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 to prepare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come som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 and true would He find u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in gladness and not in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 should com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3Z</dcterms:modified>
  <cp:revision>13</cp:revision>
  <dc:subject>Slavic hymnal Гимны веры христиан, hymn 323</dc:subject>
  <dc:title>What If It Were Today? / С неба Спаситель придёт опять</dc:title>
</cp:coreProperties>
</file>