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71B-C3DC-4B9D-8B74-86A8AB99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0D8-0710-460C-A6E5-49A0DCE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1BA-FAB0-4FE8-848B-AEDEAF6F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4DF-66DB-4C96-A591-8A56934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CD3-3F46-453D-A0EE-D1B25EAB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E6E-D66F-49C5-8295-3736E5B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0E9-6D04-4918-8C9D-9A4AA637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5E4-8146-484B-BB6B-614825F8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A22-1DB3-4D4F-BFA7-F8FDA45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4F3-75DF-4A70-8F26-7FE14E5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7DA-B55F-46AD-B2B0-00D0AB1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F44-1B6A-4DDC-9EF4-950331C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2B29-4CAC-43D3-B0C5-DDF76433BB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ovelier spot in the d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lace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on a clear Sabbath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’n to the clear ringing b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tones so sweetly ar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close by the church in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one that I loved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leeps, sweetly sleeps, ’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urb not her rest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lose by the side of that lov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trees where the wild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farewell hymn will be ch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st by her side in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church in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ome to the church in the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pot is so dear to my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little brown church in the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urch in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wildw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y fades away into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fain from this spot of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h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my way to the mansion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3:28Z</dcterms:modified>
  <cp:revision>12</cp:revision>
  <dc:subject>Slavic hymnal Гимны веры христиан, Ukrainian hymn 46</dc:subject>
  <dc:title>Little Brown Church in the Vale / Дізнавсь я про Церкву живую</dc:title>
</cp:coreProperties>
</file>