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C13-97FE-4605-A927-56C7DC54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1E0-869A-4BDF-9EBA-D80F0DE2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57F-AF72-4AE4-97EC-177CB5D9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069-42C5-495A-A1A3-27BA96B2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D72-0BFD-4EA7-9F65-9FA53AC0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D21-ACBC-4C64-8F6E-EBAF1043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B8E-7B63-4669-BE93-0B0757A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A93-4067-4F15-B2E7-A7F1A715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B8C-89C7-4192-BDA5-40788F2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758-EE22-4C25-93B5-FECD3B4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7A1-DD7C-429F-9A5D-58ECFEC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33B-FDF0-4A86-A6F1-6D93A64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D0E2-0989-471E-A2C3-2A2C855949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 me and I will be sa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be h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the one I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I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9   Heal M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32Z</dcterms:modified>
  <cp:revision>12</cp:revision>
  <dc:subject>The Source 3, song number 1239</dc:subject>
  <dc:title>Heal Me, O Lord</dc:title>
</cp:coreProperties>
</file>