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C3F-72FD-4DD0-9E26-30B20031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981-3343-4F58-80D1-480588F4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C9F-3DB9-4E9D-A243-525F705F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05E-F519-4F99-A736-52F18368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B3C-9463-4994-B237-665F894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772-6952-49E9-B104-3EF50DC1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0DA-4CE7-4D6F-8623-F18E3577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3F2-7207-4B39-946D-0C8E6658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481-5C0D-4918-85C3-F144D8D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66A-2CAD-4E20-B8E6-3AA8936D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D63D-8603-42D2-A952-DD7E9F5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C01-E42E-43D5-94D5-008EC11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27A0-901C-4ACB-ADC4-07EDCB89F6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 дні останнього ча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 нам тоді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ми побачим ная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Сам на землю Цар царі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0   В ті дні останнього ча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вже ознаки 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а землі довкол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Боже Слово свідчить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итель Ісус прийде п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сі померлі у Хри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зазвучить труба з небес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и воскреснуть перш усі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у славі Господь по нас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ві — всі переміни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о підхоплені бу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Господом зустрінем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к ми завжди з Господом бу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прийде, Він знов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 радістю Його чекає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може рано, може і в півн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знаєм, що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43Z</dcterms:modified>
  <cp:revision>14</cp:revision>
  <dc:subject>Slavic hymnal Гимны веры христиан, Ukrainian hymn 40</dc:subject>
  <dc:title>В ті дні останнього часу</dc:title>
</cp:coreProperties>
</file>