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9BE-CAAA-45A9-9C4F-B3B60BC3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4DE-7F85-4320-9237-97C54961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D89-C1D5-4ED1-A1C1-5FFA563D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4F3-8EC3-4A87-B101-89F50B6C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448-8326-4415-9C44-5D60F2E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21B-D60B-4D0B-9B5B-6347718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3A6-2253-4932-857A-561A7811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CA3-9129-428C-858E-09198B6C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EBC-F3F4-46C3-B702-934E757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CC4-C3F2-459F-88C4-DB4780C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114-BB52-4ABF-B4D2-4A2CADA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ED5-B77C-4D1E-9A55-506C2177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006F9-E892-4F85-8567-943FF838B9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м Его беспе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в небе, птицы в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еют лучшей д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род Свой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ляет и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ешает все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уках с любовью но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ль смерть нас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юбви Христа могуч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нас терпел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в испытань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до малое, не бо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щитом Его укрой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 всём тебе по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отивников ни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иль отнимае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юбовь Свою я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ердце всюду п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52Z</dcterms:modified>
  <cp:revision>12</cp:revision>
  <dc:subject>Slavic hymnal Гимны веры христиан, hymn 876</dc:subject>
  <dc:title>Божьи дети днём и ночью</dc:title>
</cp:coreProperties>
</file>