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45F-DA96-4673-8C19-33988AE9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EF7-5819-45C2-8228-A3CB6576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401-C6E4-4AE5-B2B6-F3FB792E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E88D-2190-4ED8-99AB-A1FCB00F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218-AE67-44F9-B657-294A2BD6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166-4427-4E51-B9D9-078B62C8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2E9-50BE-4800-9848-5D683A5A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C8F-2CE1-46AE-89D4-D528E5E6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AE4-DA72-4817-AFFE-45E849BB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6B6-559A-43AB-BF0E-954F891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DAD-0A0D-4083-B140-1E004DD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203-8844-4657-8AA5-DC7B527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88BB0-96DB-4B70-B2CB-F145562216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здесь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т мир сердц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ж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ребыть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ет сердце ни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слав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име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и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всем прос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ждого к Себе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мирённым близок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’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, кого принял в Свой 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 не пере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любовью дышат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ю дал и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58Z</dcterms:modified>
  <cp:revision>12</cp:revision>
  <dc:subject>Slavic hymnal Гимны веры христиан, hymn 893</dc:subject>
  <dc:title>Jesus, the Very Thought of Thee / Христос, здесь мысли о Тебе</dc:title>
</cp:coreProperties>
</file>