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C272-8D15-410A-A0AF-6B6F1798C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8747-82C9-434E-997A-1A3F6CDB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92DA-95AF-407D-99F5-6134C6288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0BF1-6949-4C25-9319-23408F512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7871-91BC-4321-A012-3E36315C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CFC2-8A94-47EB-A3FB-98C04313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681C-E668-4566-BC85-BF2873A1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7454-DB59-4589-AB01-33787FBC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60DF-70D8-45E3-A394-094C6364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53CC-3F8A-4C4E-BB6E-F7FCBC8E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6A21-DAAE-4F23-A648-A4D912D4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7472-30F9-4C2B-8F20-3E22308B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2BD5F-4FF1-4057-8A8E-FA56441EBC6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is so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is so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is so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so good to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223   Добрый наш 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брый наш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брый наш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брый наш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ак добр ко м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cares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cares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cares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so good to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ак добр ко м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Him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Him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Him s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so good to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юб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юб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юб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ак добр ко м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praise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praise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praise His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so good to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у 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у 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у 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ак добр ко м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6-06-08T20:35:32Z</dcterms:modified>
  <cp:revision>13</cp:revision>
  <dc:subject>The Source 3, song number 1223 in Russian</dc:subject>
  <dc:title>Добрый наш Бог / God Is So Good</dc:title>
</cp:coreProperties>
</file>