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B199-B9C8-4886-915E-230D2018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3ED0-99DD-49F0-8C80-7D03CAB9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DCFB-5312-4675-B084-91F2AEA01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29DC-2C9C-4CF3-9699-C2E8F157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2A64-CD45-4C7B-9438-DC43DE56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3855-80FA-43E0-9EBD-CEDA23BA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31E7-4986-465D-BD77-535ACE2C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F936-C8BA-4064-9E32-F8A1CB3D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3804-CDC8-4D76-A4D9-FA435CCE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DF52-699B-4644-B943-1EB75A23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82CB-8476-4BAC-8F18-197D66F5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6B6A-B02B-44FA-ADE6-F349DFB6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4CFD4-6534-4BC2-91F2-CC6AB65BD6D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к я не залишу святую Біблі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 ній знайшов спасіння і рад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защо, нізащо я Біблію не зали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защо, нізащо святу книгу Бож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5   Повік я не залиш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є спокусі і обгортає ть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а дає побіду і розгоняє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защо, нізащо я Біблію не зали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защо, нізащо святу книгу Бож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зіб’юсь з дороги, сер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євих фи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а мене справляє до вічних берег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защо, нізащо я Біблію не зали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защо, нізащо святу книгу Бож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їй лиш довіряю, знаходжу в н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ім сяє Сонце Правди й любов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н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защо, нізащо я Біблію не зали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защо, нізащо святу книгу Бож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8:34Z</dcterms:modified>
  <cp:revision>12</cp:revision>
  <dc:subject>Slavic hymnal Гимны веры христиан, Ukrainian hymn 45</dc:subject>
  <dc:title>Повік я не залишу святую Біблію!</dc:title>
</cp:coreProperties>
</file>