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C2A-C827-499A-8101-05D6DEC6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C22-8ABA-4A19-924F-264FC296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288-F962-4E9C-855C-58B4D5C1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083-C72D-4679-B978-D9E77086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1A9-292C-4E9F-A79F-B6D33776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124-A1B0-4A5E-ACDC-E48177D9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F74-ED98-4512-AF9D-BA8EA6EA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7FB-4A0A-481C-9367-73CCA319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5B5-899E-42F9-9EC5-6E89375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FC1-73F1-4631-A631-4AE996CA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B8C-186B-440E-AE5A-DA98C420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CA5-559F-416A-94E0-F92F5B8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84CCE-D2CD-4E6F-B4C6-961C13A1EF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beautiful beyond d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marvellous for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 wonderful for comprehen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nothing ever seen or he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grasp Your infinite wisd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fathom the depth of Your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beautiful beyond descri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enthroned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You Ar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tand, 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, 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to whom all praise is d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3:09Z</dcterms:modified>
  <cp:revision>10</cp:revision>
  <dc:subject>The Source, song number 589</dc:subject>
  <dc:title>You Are Beautiful (I Stand in Awe)</dc:title>
</cp:coreProperties>
</file>