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CC6-25D4-45A4-94ED-3A7EF205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A02-BC45-4913-8C08-257A332D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D83-1665-4050-A5A5-FDBB832F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C7F-62B2-4014-B5A6-77147275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233-F17F-4E3B-922B-F833048A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5A2-FF51-49A9-A038-25A75D31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A47-3D51-447E-B3A4-045E874A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31C-FDD9-42C3-92B4-D6DEA81B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840-78F9-400C-9B8E-10F79047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BE8-F94C-401E-9BEB-4818098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650-3312-4B82-8816-D363FB4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F07-DC7A-45CC-851A-A9B3CCC8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28DDC-A705-4B3B-A87F-C71E56D1E0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бя, о Цар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 раньше я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л блаженства в жизни т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и бесплодно я теря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ни в сомненьях и печ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ныне мрачно протек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Тебя, о Ц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л в обмане, в заблужд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л чего-то, сам не 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м безумном ослеп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ари, не Творца иск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с любовью бескон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л и вот, я Твой уж ве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небесах моя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 престоле Бог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Христос, мой Бог,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десную восс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я духом к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ть с хвалой к Его черт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32Z</dcterms:modified>
  <cp:revision>13</cp:revision>
  <dc:subject>Slavic hymnal Гимны веры христиан, hymn 444</dc:subject>
  <dc:title>Зачем Тебя, о Царь вселенной</dc:title>
</cp:coreProperties>
</file>