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421-D57F-43EC-8787-173B18BF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98C-84F5-4741-9CDC-26DDB9AB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C4B-3FEE-4B49-97DD-F87E843A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B9E-C6F3-499B-B3D7-0BF24ABC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B96-FD1E-4C69-8C0E-098C1A6E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891-3C86-4554-BD9B-CD66D526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D10-86BB-48B6-9BAE-F4086461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3EF-9CE6-47EC-8438-D2329156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664-1D6E-47FD-9C13-EC7BFAF8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439-E455-4823-8D05-1E9D8357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74B-E050-448D-8AF4-94DCB2A2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156-73E7-4109-8E70-FA1DD91B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9DEFF-77BE-44D0-B9B6-211EC9D972D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ости сил не ща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живою согре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ожий стал нам приме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ед тобой вперед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надежду и вер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посвяти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войдёт в твою гр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от всезрящего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йся скрывать что-ни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ртвуй собою в смир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на тернисто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святое слу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для Иису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сердце радость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несчастных сходил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чных, небесных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Свою положи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бречённых спас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ум, желанья и силы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Него посвя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посвяти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ными вместе терп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оружьи Господ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итву за правду всту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3:44Z</dcterms:modified>
  <cp:revision>12</cp:revision>
  <dc:subject>Slavic hymnal Гимны веры христиан, hymn 549</dc:subject>
  <dc:title>Всё посвяти Иисусу</dc:title>
</cp:coreProperties>
</file>