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A1F4-0EA9-4085-BFC9-1DA4F9FC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03DA-C1D4-4AA9-8A93-EFCAE5F9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6B9F-1B69-4B05-A2DE-99A4D2BF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9B09-8F59-4031-85B2-6BB68964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6591-D903-475E-8388-DB93DC52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2D34-E602-44DE-B4BA-062DC529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4F2-8257-4932-8F99-E1C035A3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B271-39DF-40B7-B405-B1A1D86B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0815-DFBC-4F9F-AD96-02C3B946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9B50-BE08-4BED-BB82-3217021D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41C8-9DDD-4082-A9AC-101F249D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0AC8-59C1-467A-A77B-540E33FA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BB5D9-2917-49FE-B6EB-D8BA1BCB0CB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город убежища, там за сте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поспешает беглец молод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жит он усталый по степи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ышит он клики врагов за с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жище близко, но близко враг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ги же скорее, несчастный, бег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 город убежищ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 на земле нет, беглец, для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места покоя, ни крова жил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еч, отточенный враждебной ру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сюду висит над твоей гол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жище близко, но близко враг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ги же скорее, несчастный, бег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город убежища, тихий при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искони мир и согласье жив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здан для счастья, свободы,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ститель и враг не проникнет т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жище близко, но близко враг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ги же скорее, несчастный, бег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2:54Z</dcterms:modified>
  <cp:revision>13</cp:revision>
  <dc:subject>Slavic hymnal Гимны веры христиан, hymn 331</dc:subject>
  <dc:title>Вот город убежища</dc:title>
</cp:coreProperties>
</file>