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F9A-73F0-4561-A5E9-82D34F52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172-AC6F-49F3-838F-B72D7E6A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9B9-4690-4A75-A88B-69EEBA69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2AA-DC3C-44CA-86E5-8EC8FB5B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26C-1F2E-4359-88BE-86983D2C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CB4-E971-401B-A99E-3FDC2201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46B-7D3E-4EA4-8154-0F9FE607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FC2-FB96-40F1-8EA1-D913E033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BC3-66B9-4B2A-8774-890F8CD5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AEB-71EA-4E0C-B9D2-72CA07D0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3CE-60D6-4F0B-BE68-3098A3F2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773-BAB1-437C-9F01-EC46B679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98B07-32A4-4CE9-B965-DFD813BA08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умом Тебя, всем помышле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ушу Тебе посвя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жизнь с каждым сердца биень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Ты меня соблю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вою милосердную в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икогда не роп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вою многотрудную до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которых пришёл искуп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пречистою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корыстной глубокой люб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меня, Боже,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33Z</dcterms:modified>
  <cp:revision>12</cp:revision>
  <dc:subject>Slavic hymnal Гимны веры христиан, hymn 474</dc:subject>
  <dc:title>Научи меня, Боже, любить</dc:title>
</cp:coreProperties>
</file>