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121D-7EB6-4E3A-83FE-48FCEB77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9413-2A26-463B-960C-2CB1F0F2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A4FB-1317-45EC-8D57-1A6AC0D0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3068-0725-48CB-BECC-86CD2AC2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99C0-9B43-4AB1-9262-DAF1A3F0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818D-5899-46A6-9B1E-47D7AE5C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FF9C-1096-4709-BAB8-19F59E8F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2520-14D8-4649-9608-03DFDD4E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02BB-8EEF-4FBB-9037-6E585FD5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E552-AFC9-47E0-B45A-D7D6C6E5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52B6-D5AF-40E4-B94C-35813279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5A3C-DACB-493E-8277-92250F25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2165A-8F32-47E0-BB5B-E1B64465033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еди, друг, жизнь бесп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, как пар, она прой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 мира скорот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смерть к тебе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у минуту вдруг исчез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лесть мира, и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сть смерти в ужас вверг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м ты найдёшь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сть смерти в ужас вверг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м ты найдёшь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6а   Не веди, др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кажутся ничтож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твои д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ешь, к цели лож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жизнь твоя тек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не будь же, друг, беспеч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стигнутым враспло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нев Его тогда уж веч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бо верен в слове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нев Его тогда уж веч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бо верен в слове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зовёт тебя, поверь 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в любви С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ты открой теперь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ск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шлёт тебе отр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ре — счастье и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тебе затем нагр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рай введёт с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тебе затем нагр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рай введёт с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4:51Z</dcterms:modified>
  <cp:revision>13</cp:revision>
  <dc:subject>Slavic hymnal Гимны веры христиан, hymn 366 (as amended)</dc:subject>
  <dc:title>Не веди, друг, жизнь беспечно</dc:title>
</cp:coreProperties>
</file>