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FDB-DDEC-476D-A24E-EF803898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8FC-1181-4D2E-9C15-2A376F72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08CE-288B-4B55-97C6-3B1873A3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226-D529-4541-AC0C-DC22A135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23C-5182-413C-914D-625E11A4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E05-B319-4537-8D5A-9668222A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086-637A-4746-BCDF-B08EEBB5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DB2-59F3-45AB-A84C-AFF4DFBE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68E1-9B4D-4910-9018-E33CB47E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9E9-0F70-4196-9C74-031BEBA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0D0-204F-4A7A-B874-E20E7A47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29F-EA95-4B11-B3CF-DAD2C7B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789EF-5395-433D-B9BE-E77E529311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, друзья, плыв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облаком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оют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, друзья, плыв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облаком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оют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равнине оке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ионы уж при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м заветным берег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йдётся в светлой 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сем земным плов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лионы уж при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м заветным берег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йдётся в светлой 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сем земным плов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ус правьте, пусть нес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Божий над с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рабля пусть песнь по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рус правьте, пусть нес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Божий над с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орабля пусть песнь по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ив якорь безоп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: конец скорб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мы войдём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мы вечно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тихнет буря в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якорь бросим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ив якорь безоп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поём: конец скорб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мы войдём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мы вечно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14Z</dcterms:modified>
  <cp:revision>13</cp:revision>
  <dc:subject>Slavic hymnal Гимны веры христиан, hymn 654</dc:subject>
  <dc:title>По равнине океана</dc:title>
</cp:coreProperties>
</file>