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F4B-084F-436D-96F4-4414BB50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3C5-AE4B-40BB-B2BE-7F9D7196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4F0-0B1F-43DB-80BB-4CF21ED1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9C7-F771-47BE-A0C7-40C223EC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309-C661-4363-AB0B-E2D40404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F6F-48F8-4333-B160-A3691F05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CC3-CE37-4C63-950B-DE8F5D28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075-1B75-4DC3-9AB4-DE408B2A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A69-7E40-4A96-BD05-75006AE0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969-5E7B-44D3-8767-5D3ABADC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1F3-4F85-497B-80BA-A951B13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336-57C0-49B8-92BA-E98A113B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CD2B9-2467-486E-AE30-67AC9B1042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ю Я вас, не забу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Он и мне и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храню и в пустыне безлю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яжёлой житейской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у одолеть все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свыше в пути наде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тяжёлой 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и крепость по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оставлю Я в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ать и отец, и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кутся от вас и осудя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другом для вас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целю воспалённы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рачую сердечный нед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рою разбитые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ю обессилевший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аю с заботою неж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учу ваши руки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ю в этой жизни мяте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е царство вв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ир вас отвергнет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— Отцом и хранителем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инет вас милость М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05Z</dcterms:modified>
  <cp:revision>12</cp:revision>
  <dc:subject>Slavic hymnal Гимны веры христиан, hymn 708</dc:subject>
  <dc:title>Не оставлю Я вас</dc:title>
</cp:coreProperties>
</file>