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DAD-7A48-48A8-B802-87EE502F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8011-227D-4E7E-B10A-11E4F2BD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096-1C87-4298-9AAF-8FE037CA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572-0338-40E2-B891-1DE61E7E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CD5-2B7B-413E-B983-A64A0919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1BF3-C6A5-4480-9C01-727CEF9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14F-7855-4D6D-BF3B-1A5BD62A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EF9-BECF-4A0C-BF97-A22F64DF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24B-F24A-4F29-A477-AC25DBA9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C4D-F3A6-4220-BDCB-74E2DA4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3D2-FD40-403F-B416-6794CEE9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18DE-AB9A-407C-86CF-D1A6706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6B537-CB1C-4AAF-86D4-B682A887F3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царство, где Иисус цар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м Божиих де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туда их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о царство, где Иисус ца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еловеческих сы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гнут тех в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, кого от всех гр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Иисус спас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увижу в том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тех, кто средь с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озлюбили больше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вечный Бога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ышу зов их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, 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е в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поют: «иди до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0:47Z</dcterms:modified>
  <cp:revision>12</cp:revision>
  <dc:subject>Slavic hymnal Гимны веры христиан, hymn 755</dc:subject>
  <dc:title>То царство, где Иисус царит</dc:title>
</cp:coreProperties>
</file>