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09B-9F4D-4405-8335-8CE38F78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467-D824-470F-8BC4-65163505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B83-A3BD-4ADA-93D5-73FCEAF3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271-4A6A-4194-B02A-F3CD29F0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0EC-E359-4810-BF6F-5C465FC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D89-20F7-440D-90DE-B7628EDA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237-1718-43E6-B307-C166721D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A6D-822C-42F9-A872-625C50E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1BF-C4DA-4465-8676-CB2C6E5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BA8-9491-42FC-BAB2-FF5FC39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61A-8409-43AC-9413-CA609F2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26C-85BA-4DF2-B1FA-91175FA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2150-2D7E-4B37-BA54-110668276D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fe to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higher than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oul in its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rrows would f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вётся д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, что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sinful, so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e, Thine, would I b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кутала м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 я в бор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calm of the noont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orrow’s lone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imes when tem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s o’er me its pow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нуряющий з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диночества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ель пред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вит сети н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empests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its wide, heav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раз, и не 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слабе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 in the confli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pressed by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fled to my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eathed out my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часто тес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естоким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Богом 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иву в мире 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often, when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sea billows ro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I hidden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ou Rock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жизни пр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ярче блест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окой и мой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ing i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blest “Rock of Ages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iding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Ты — 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кроюсь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8T02:19:22Z</dcterms:modified>
  <cp:revision>13</cp:revision>
  <dc:subject>Slavic hymnal Гимны веры христиан, hymn 626</dc:subject>
  <dc:title>Hiding In Thee / О, как рвётся душа</dc:title>
</cp:coreProperties>
</file>