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2DA-7D07-446F-B40E-7033D0C0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D42-1C68-4750-BE2C-EB792A80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BDD-D6CA-4A8E-A57F-D8841AA9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337-3906-4C64-BE64-2D935099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DE8-03D5-48B0-B29B-4F248653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C71-74F5-4508-9031-AF2967EF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047-DCBD-44A6-8DA9-45A6764A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6EF-6F5D-4607-9165-E11E41FD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38E-8304-4191-8A45-D12A490D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7BE-5061-4267-9A89-34474535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E6C-95E6-4FC6-927B-896CE970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FC4-F91E-4519-9C6B-D1EBAAC0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48C72-7EC8-4A67-BD58-00EC21A42D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eyes have seen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oming of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trampling out the vi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grapes of wrath are sto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ижу я очами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очами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Господ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чет Он точило гне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полнил грешный 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eauty of the li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was born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lory in His bo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ransfigures you an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Иуд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сило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реображае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died to make men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to make men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, чтоб спас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и мы должны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loosed the fateful light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terrible swift s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ый меч Его свер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жает ложь и з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истина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seen Him in the watch-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 hundred circling c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have builded Him an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evening dews and d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агерях Его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ымящихся кост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и Ему воздви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угах, в глуши ле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read His righteous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dim and flaring lamp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ay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истины чи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огнях и фонар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ден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ay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sounded forth the trum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never sound retr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sifting out the hearts of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His judgement s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ный звук всех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не отступ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удилище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бязаны пред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 swift, my soul, to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! Be jubilant, my f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, душа, всегда го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торжеств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наш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marching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сеси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4:35Z</dcterms:modified>
  <cp:revision>12</cp:revision>
  <dc:subject>Slavic hymnal Гимны веры христиан, hymn 890</dc:subject>
  <dc:title>Battle Hymn of the Republic / Вижу я очами веры</dc:title>
</cp:coreProperties>
</file>