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461-C871-40B1-BE07-DE12D409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46BA-DF50-4E47-868D-5D330AD2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483-94F0-475E-A053-8EE56DA4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796-707C-4CEE-9F66-6C50E435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6F6-B881-47E7-B22E-15B0C80E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F0-64B3-4BA2-936B-0F5456FA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C3DA-7A29-4EAD-9156-ABD15303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3E9-5C65-4296-A453-1C97E86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2EA-3FF0-4427-931D-5FD77D3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A65-5285-4B0E-95A3-0FBE2DF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D7E-861A-49C9-8D02-61B5AB6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2D2-7F81-498A-ACB1-C2AC19B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55952-6A37-48F0-9368-A3B9EF33C4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kingdom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se of Thine abo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hurch our blest Redeemer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own precious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Thy Church, O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walls before The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ar as the apple of Thine ey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ven on Th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tears sha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her my prayers asc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er my cares and toils be gi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oils and cares sha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yond my highest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ize her heavenly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sweet communion, solemn v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 hymns of love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Thou Friend div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aviour and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hand from every snare and f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great deliverance b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ure as Thy truth shall l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Zion shall b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rightest glories earth can y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righter bliss of hea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11-26T21:33:50Z</dcterms:modified>
  <cp:revision>14</cp:revision>
  <dc:subject>Slavic hymnal Гимны веры христиан, hymn 561</dc:subject>
  <dc:title>I Love Thy Kingdom, Lord / Люблю, Господь, Твой дом</dc:title>
</cp:coreProperties>
</file>