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B70-2B6C-4B5F-B0B5-F8CF88CC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722-94D4-4FEC-BF1F-6BE1D619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658-295D-4939-8BC8-72FD0487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B8C-7483-4F39-AA9B-BE3CBCAB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09F-7CD9-4FE0-9B8D-D921459E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F51-1B8E-4682-AB06-E94AB2F5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D46-E69F-4CE7-9DE0-48386081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E90-D96E-4F55-B4EE-5A880ABE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CDD-B149-4DC1-B200-0B25C57D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4B9-6920-430B-873E-9FB4CDF2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E4D-4C73-4D9F-9DDC-EAAC5C60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0D3-19B7-4DB0-B866-53A9DCB0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45377-AF13-41F1-BEFB-1CA9396F60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чь Самарии не зн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, как бедную овц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ань Христа её иск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привесть к Твор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что Тот, Кто полн желан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нять с неё греховный гн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збавить от страдан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1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Дочь Самарии не з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ам, где пальмы наклоня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й сказал Спаситель С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её лета промч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земным пут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т, она спешит в селен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роду весть несё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«Не Мессия ль то в смире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теперь вода жи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сердец людских теч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лагодать в ней разлив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ом Бог да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 познает мир: с щедр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юч свой Бог на нас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любим мы Того, 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весть дивную послуша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лость миру Бог даёт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Царь Христос, Кто любит ду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колодца ж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20T00:04:08Z</dcterms:modified>
  <cp:revision>12</cp:revision>
  <dc:subject>Slavic hymnal Гимны веры христиан, hymn 341</dc:subject>
  <dc:title>Дочь Самарии не знала</dc:title>
</cp:coreProperties>
</file>