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687-3688-4FEE-B064-9096350D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CC3-F9F0-4AEC-886A-D0A8E152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B58-1935-48A0-B130-356B1F44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71C-0308-49AF-B8C2-BE3E7152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ADB-A5EF-4AB2-994A-53B1A599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473-0D8B-452F-978D-C9164894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09A-329A-4F96-82F8-6531E518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0AF-B678-498E-B7C2-A0863679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98D-A7B6-4530-99CA-D5A75913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F3D-368F-467D-8848-E50793A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1B0-F2A6-46A5-80A6-CC6EC7BC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CD1-006F-409F-A0D1-12C72120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6E246-7DAE-483B-A941-C34C9F6E73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pilgrims we’re bound for our heavenly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tears will no longer be sh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eavenly roses eternally bl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arts of God’s children are gl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путники к род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утники к родине славной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и ненастья, н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ажити мира любовью цве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ит, как солнце,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pain, no complaining, no suff’ring we’ll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death will our bodies not was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sorrow of parting and no broken hear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e joy in green pastures we’ll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страданий, ни б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мерти дыханья, ни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и насилья, ни злобны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, там радость, там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land God has promised will soon be attain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ount Tabor’s already in vie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ong of the Lamb will forever be 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ose who temptation once kn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лышится клич, что страна 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им поют из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 льётся, как Божья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пришельцам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multitudes stand by the river of lif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deemed by the Lamb from all s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nstantly gaze at the glory of God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new day for us will be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я искупленных кров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ьют из источника бл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ая радость, любовью ч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в их светлых о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night wi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will shine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ьмы, нет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как солнце, там светит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исла пришельцев и их и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ишутся в книг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Бог принимает, а Божья ст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сулит навек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5Z</dcterms:modified>
  <cp:revision>14</cp:revision>
  <dc:subject>Slavic hymnal Гимны веры христиан, hymn 686</dc:subject>
  <dc:title>Like Pilgrims / Вот путники к родине славной идут</dc:title>
</cp:coreProperties>
</file>