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08FA-C37C-41E7-BF39-BAAF9344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AC3-D50E-4B4C-8B9E-72E254A7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200-5224-4ACC-B3A1-7D8304F8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BE0-F050-4C6D-AF7A-41AACE3D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759-318D-4CC8-ABEA-339F33E0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C9C-F31A-410C-8C81-7470D6D1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691-3320-40EC-8110-CEC5DCEA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A5B1-E876-4D21-8497-FC7EB0D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170-A4A8-4D45-80F1-AB1F574E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15D-3740-4048-BBF9-4DB91D7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7C2-8C95-4853-B40F-7F614B8E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AD9-D05E-4E58-A411-EBDCF4B0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5593-4641-440F-8775-3B4111A949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b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on His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 tear you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precious in His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40   Before the World Be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you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that you’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make Him 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His great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gave His only S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to the 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your gift is sm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oken hearts, broken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tak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the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ower of His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w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you would 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11Z</dcterms:modified>
  <cp:revision>11</cp:revision>
  <dc:subject>The Source, song number 40</dc:subject>
  <dc:title>Before the World Began (So You Would Come)</dc:title>
</cp:coreProperties>
</file>