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EFDB-0822-4D78-8C13-820A7197A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E62F-D240-4846-8B87-D3C78948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61D5-51EB-4156-86A4-C3853E6B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1574-EE87-4A30-A57F-BE7FB87C6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CA2E-F612-4CDC-8F04-4FFD800D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C0FB-A739-445D-BC88-28AA1B97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1206-0749-4500-A006-257FF3ED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76C8-004C-4FEF-BCAF-B9A84185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883B-71E5-4F1F-B76C-AC102C6B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A042-8E4B-4DD2-93C1-F7EB05C4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9A95-F0A6-4770-8DB2-9B85D2B9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653A-2ADB-4467-83B4-EA23F500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C4507-3EB2-453E-8C63-749F560B1C3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there is, above all oth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is love beyond a brother’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2   Любить нас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ить нас Христос безмір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вжди ніжно, завжди вір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ly friends may fail and leav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day soothe, the next day griev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is Friend will ne’er deceiv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астя світу промин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друг нас забув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 же ні, не залиш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Tis eternal life to know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k, oh, think how much we ow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хресті Ісус в страждання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им дав Він оправда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s precious blood He bought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wilderness He sought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is fold He safely brought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инуле все прощ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сть дивну посил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то Йому лиш довір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ed Jesus! Would you know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yourselves entirely to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то пізнать Його баж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окій, щастя той пізн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k no longer of the mo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past new courage bo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carries all your so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илічує всі бол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нове життя дару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ає Своїм Сл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your sins shall be for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ackwards shall your foes be dr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х до Себе заклик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воє царство Він прийм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st of blessings He’ll provid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ught but good shall e’er betid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to glory He will guid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e lo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блаженство обіц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горі завжди помаг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веде Він нас до 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9:31Z</dcterms:modified>
  <cp:revision>12</cp:revision>
  <dc:subject>Slavic hymnal Гимны веры христиан, Ukrainian hymn 62</dc:subject>
  <dc:title>Oh, How He Loves! / Любить нас Христос безмірно</dc:title>
</cp:coreProperties>
</file>