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888-A68E-4D57-AB6A-37961228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F70-B7B2-4B00-A765-950AE50E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696-4D0C-4348-9782-83CCF573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5F0-8664-407E-85C0-38EE7255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456-099B-46C5-80BF-197E734B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916-794B-498E-8440-913A165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7F2-8E5F-4FDC-8D57-393C9B77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163-E819-48AE-9277-EA11A767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CD9-625A-43BC-AA42-EC27C79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5AF-2704-4933-90A3-BD421B21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451-17DF-42DE-9F68-C6D7D46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58A-A618-4C85-BE56-AA25FF14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9014-52FE-4822-A8AA-E1F37CED18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м и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пасенье от забо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бов снимает цепи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мир твор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шает С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уше, на мор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людям мир нес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им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другим достичь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ы добра вк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мечей куёт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чит не вр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кать в сердца вра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ренно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людям мир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служи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, снимать тяжёл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ледует за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горсточка, огнём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евши скорбь и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ети Божьи, мир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езде 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и мы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 братству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ий мир царил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нам, Боже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ье, прост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 в мире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ть к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8:15Z</dcterms:modified>
  <cp:revision>12</cp:revision>
  <dc:subject>Slavic hymnal Гимны веры христиан, hymn 500</dc:subject>
  <dc:title>Сын Божий людям мир несёт</dc:title>
</cp:coreProperties>
</file>