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FD7-84AC-4409-B2D4-9757CE4A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5D5-7609-4C21-AE23-76BD1A2C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D94-A895-4289-9A8C-2F7C2AEF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58F-A95F-45B0-9745-DE82CFBD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104-A1EE-45E4-AE5E-625013F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4A5-77B3-479B-933D-239A810A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B70-F3BE-47E6-A989-02384C9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FFF-957D-4D7E-B902-040A238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B2A-9994-4F71-97D0-32784B2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579-AA6D-4F57-8639-294C37D2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490-44C2-4511-850D-D137318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E99-30A0-45B0-ABD6-BA77874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5A503-1CDD-4BB6-B4AC-4884266AB3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13Z</dcterms:modified>
  <cp:revision>12</cp:revision>
  <dc:subject>Slavic hymnal Гимны веры христиан, hymn 688</dc:subject>
  <dc:title>В край родной</dc:title>
</cp:coreProperties>
</file>