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60</a:t>
            </a:r>
            <a:r>
              <a:rPr b="1" lang="ru-RU" sz="3600" spc="-1" strike="noStrike">
                <a:solidFill>
                  <a:srgbClr val="ffffff"/>
                </a:solidFill>
                <a:latin typeface="Verdana"/>
              </a:rPr>
              <a:t>	</a:t>
            </a:r>
            <a:r>
              <a:rPr b="1" lang="ru-RU" sz="3600" spc="-1" strike="noStrike">
                <a:solidFill>
                  <a:srgbClr val="ffffff"/>
                </a:solidFill>
                <a:latin typeface="Verdana"/>
              </a:rPr>
              <a:t>Иисус — покров душ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Иисус — покров душ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укрыться мне в Теб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трашны волны, Ты спас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Грозный ветер укро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рой меня, Спаситель м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т житейской бури злой,</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пристани меня вед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 Себе мой дух прими.</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Нет другой защиты м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аюсь Тебе вполн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 покинь меня, мол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шу поддержи м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надежда вся мо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агаюсь на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еззащитную главу</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под сень Твою кладу.</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Кто, Господь, к Тебе при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ноту любви найдё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емощных Ты укреп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недуги исцелиш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вят и праведен лишь 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лон я нечистот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о, где грех и где нуж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Благодать Твоя сильна.</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Благодатью дай мне 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моги мне не греш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ердце чистым сотвор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сё тело освят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учи меня служ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 путям Твоим ходи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ухом сердце ожив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К вечной жизни возроди!</a:t>
            </a:r>
            <a:endParaRPr b="0" lang="en-US" sz="3200" spc="-1" strike="noStrike">
              <a:solidFill>
                <a:srgbClr val="000000"/>
              </a:solidFill>
              <a:latin typeface="Verdana"/>
            </a:endParaRPr>
          </a:p>
        </p:txBody>
      </p:sp>
      <p:sp>
        <p:nvSpPr>
          <p:cNvPr id="43"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4T06:04:54Z</dcterms:modified>
  <cp:revision>3</cp:revision>
  <dc:subject>Slavic hymnal Гимны веры христиан, hymn 160</dc:subject>
  <dc:title>Иисус — покров душе</dc:title>
</cp:coreProperties>
</file>