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9AE-7FC5-4DF6-A18D-C2E2B590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318-36A2-4DF4-86DA-BF51377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266-13E6-47D1-BC94-68A35C1C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204-71CB-4B25-819A-F3278D8C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CCC-F589-44EC-800F-7B4FCFAF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A89-5532-44D4-A4B5-C0D29B11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DBF-0ACB-4CDA-A064-A0C4F14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D20-3A41-4C7E-922C-8D95DEB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26A-F3B3-46A8-B13D-0DBF26C0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8C7-8D5C-4552-8317-22FACF46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9E0-C38F-4738-B618-5C84FEC9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1FE-5D8F-4B54-B723-DCC34A3F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E2D08-4A90-4279-A983-D2A241A302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rieved my Lord from 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corned His love so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 I wandered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пирал любовь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пирал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чадом тьмы, рабом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о мной была звез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desert wild, o’er mountai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anderer I chose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retched soul condemn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родной, в чуж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разных бед, от зл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ерегали жизн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urned my darkness into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blessèd Christ of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praise His Name both day and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other’s prayers have follow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гнал из сердца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стал всего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влекли мен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oming home, I’m coming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ive my wasted life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ther’s prayers have follow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followed me, the whole world thro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9Z</dcterms:modified>
  <cp:revision>13</cp:revision>
  <dc:subject>Slavic hymnal Гимны веры христиан, hymn 777</dc:subject>
  <dc:title>Mother’s Prayers Have Followed Me / Я попирал любовь Христа</dc:title>
</cp:coreProperties>
</file>