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4C0-8321-423A-918A-AA2F33F6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B06-EA0C-480A-9220-D42FD7A1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C90-268E-4C9C-AAE3-5C103F1C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6C2-82CD-4DB3-A509-50B9E838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01E-AE97-45FB-BECE-FC91110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49F-8499-4D7B-A455-418F321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CBC-8459-48DB-BDED-941283BB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8E9A-BC87-45FD-AA63-569C4DC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5F9-8137-46F7-9EC2-C79790E0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F98-4DAD-4EDA-9F8F-7CD98DB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E34-46EC-44C7-BC76-46148C0F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F87-72C2-4654-8689-37804CFF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7F8CE-CFA5-4B2C-BF59-E836307CA2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1:55Z</dcterms:modified>
  <cp:revision>12</cp:revision>
  <dc:subject>Slavic hymnal Гимны веры христиан, hymn 415</dc:subject>
  <dc:title>Вблизи креста Христова</dc:title>
</cp:coreProperties>
</file>