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D5C-4802-4906-A512-C75E82CB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AD7-2220-42EE-A670-3BBF233A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DE52-8CE7-4F03-B2A9-6AD72D3B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D9A-0431-4A18-8F96-E08AD278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D75-02D1-48D3-B48E-681CD192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56B-B864-457D-B791-EE65AEC8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7E8-EBF7-4878-B4C7-8E97DDA5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72F-2BC3-4431-B08D-5B6F881C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466-E9A5-48A9-9186-3489DA85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15F-36B4-4277-9C92-13429CFC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6A4-F9B7-4071-8CEF-9540B33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6EB-18F8-4875-9E1E-2958743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66B96-EFFE-4C3F-B1B0-1AF91FDCCFB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wondrous lov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uel cross He suff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urse to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tell the wondrous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my lost estate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boundless love and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he ransom freely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повеств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еня от мук изъ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любви и со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отел Свой выкуп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praise my dear Redee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triumphant power I’ll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the victory He giv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sin and death and 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вечным торж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илён, как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д смертью и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heav’nly love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from death to life hath brought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n of God with Him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слабого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в рай путе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пре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, oh sing, of my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purcha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the cross He sealed my pard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aid the debt and made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49Z</dcterms:modified>
  <cp:revision>13</cp:revision>
  <dc:subject>Slavic hymnal Гимны веры христиан, hymn 570</dc:subject>
  <dc:title>I Will Sing of My Redeemer / Буду петь, как Искупитель</dc:title>
</cp:coreProperties>
</file>