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0A9-0A9B-4F9B-AD8C-A116E164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C69-B220-4E18-BC9F-C0473299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A15-B612-4564-8344-3AE43CC0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149-64E7-4E7F-9ED7-33E22D28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381-C460-4848-9EB5-C4800FB3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CB3-771F-469D-BA79-657C1E95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F46-654A-4FC8-97A6-1A3F36B3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852-FB8A-408F-AA50-81A933D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E2B-BA7F-4D19-BDEB-E50E8650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69A-0CD2-4666-8915-984529F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C63-F794-4141-B47D-C9D44DB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7C3-78A8-4CFA-A5B7-3D10B84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F0FF6-E741-4E69-A8E9-B3D2877DE8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16Z</dcterms:modified>
  <cp:revision>12</cp:revision>
  <dc:subject>Slavic hymnal Гимны веры христиан, hymn 851</dc:subject>
  <dc:title>О вера, стойкая в борьбе</dc:title>
</cp:coreProperties>
</file>