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7C8-DCCD-4386-AEC6-177290E6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024-9864-4844-972C-81056BA3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6F5-5F43-47B4-904D-BFABDFFC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FC7-81E3-4587-8213-264015A4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F08-0873-405C-94A8-5E87D8C0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BC8-781F-401D-ABF5-86D75CC3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1A7-A921-430E-9632-F1D164FF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ED65-98E4-408E-976F-358543A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6DF-B722-4B83-9F0C-826BE581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28F-6CEF-4F62-807C-E612B58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094-87D1-4DA6-A51D-AF966536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A55-EBC4-420D-B3C6-CE9D9E4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BFFE3-5CC6-4A45-B13B-7650530006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ust remember, your God loves you sti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awaits you a brighter tomorr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God promises, He will fulf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тоскуй ты, душа дорог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, поверь мне, настанет друг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нас любит Господь, не за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lace your trust in the Lord; doubts will v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mmune with Him often in pray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your heart every fear He will banis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your soul He will lift from des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й ты на Господа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чаще молися в ти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тихнет на сердце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ar in mind, Jesus Christ died to save yo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the cross for your sins He did 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lasting salvation He gave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said, “I am with you alway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, что Христос,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ради страдал на кр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бед твой благ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тобою всегда и в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despair when your burdens appa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on’t complain at the load you must b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at times when hard trials befall yo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 assured: you are under His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щайся в тяжёлые 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бремя не ропщут у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в жизни бывают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ейся на милость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life’s winds and waves He’s the mast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protect us, He ever is n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save from the brink of disas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our craft into port He will st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волны бушуют, как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ер страшно и грозно шу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ты! С любовью во вз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бя твой Спаситель гля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нашей Он Са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щиту Он нам по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т Он нам то, что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к радости, к счастью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традать здесь осталось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ы к последней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сур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нас Спасител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hard trials are still undergo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soon life’s final battle will co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finish our course, fully kn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’re off to our heavenly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 we’ll have peace and quiet—for 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disturbance or storm will be the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hrist, our Saviour, will reign there forev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glory and splendour we’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тань тихая нас ожи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и страшной и грозной там 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солнца Христос там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сияет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9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Precious soul, cease from sadness and sorr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transition for us may be ni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e know not—today or tomor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may be in our “homeland”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скуй ты, душа дор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ечалься и радостна бу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родина наша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ш вечный, блаженный при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5Z</dcterms:modified>
  <cp:revision>14</cp:revision>
  <dc:subject>Slavic hymnal Гимны веры христиан, hymn 717</dc:subject>
  <dc:title>Precious Soul, Cease From Sadness and Sorrow / Не тоскуй ты, душа дорогая</dc:title>
</cp:coreProperties>
</file>