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0B1C-516A-4E54-B0C5-FCF9007E3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31EA-09A6-41FF-8F6E-53907FCEE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3763-5E06-46FC-B03B-849FDF893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9CA8-F3C4-4FED-A8C4-6402B3C33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35B3-8A91-4B79-9B8C-F34A0E6BC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8CEC-7C58-41C9-AA74-18804AF6B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E390-6A7F-4C26-B91B-75889B09D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F30B-A050-4D43-AB4C-9C713AE4C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15F6-433A-4E7E-A0B1-DFCB2C05E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D3B3-8173-457D-8E5D-7D20AEEF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5C22-74A4-4946-A212-BA3F8570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9558-5174-4A2D-8BC5-F1A51AB2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BB9725-24D5-4B5B-9A85-37B639CFED0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ерен я, что не отлуч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от Господа ничт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жизнь, ни смерть, ни день гряду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Его любви мне всё да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Его любви мне всё да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ерен я, что мне спас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мертью крестной приобрё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Его крови — освобожд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власти тьмы и царства зо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власти тьмы и царства зо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0944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1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Уверен 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ерен я, что Он во слав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Дух Святой здесь на зем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коснулся и настав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ять спасенье во Хри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ять спасенье во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ерен я. О счастье жиз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упил я с Господом в за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ам ведёт меня в отчиз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ый дом, в чудесный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ый дом, в чудесный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4:24Z</dcterms:modified>
  <cp:revision>13</cp:revision>
  <dc:subject>Slavic hymnal Гимны веры христиан, hymn 614</dc:subject>
  <dc:title>Уверен я</dc:title>
</cp:coreProperties>
</file>