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90A-A7E7-43AB-813E-996E8666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9F8-5112-409B-B911-EFBDA01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16A-09E5-414C-AC6C-53391BFC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D9A-D0C3-4D65-8F01-1AF200E3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8AA-6745-4473-8595-275EEA56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C0F-EC37-4650-A590-1C88747B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409-967D-4554-AA52-1AC55BC8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801-5AFB-4943-965E-048B89B9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40F-7A79-47C7-90DC-D1D9D45B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EB0-E739-4C7A-B9A1-0C178D2D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31F-1E32-45C5-B610-43E7414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B9D-5835-4A28-B09A-6A362D19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80D55-372C-479C-B9B8-0D8721068E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ye first the kingdom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is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these things shall be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47   Ищите прежде Ц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прежде Царства Бож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ы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льное приложится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not live by bread al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by ev’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proceeds from the mouth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ие Божье не пища и пить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о Святом Дух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k and it shall be given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ek and you shall f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ck and it shall be opened un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е и дано буде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и найдё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е и отворят 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the Son sha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be free ind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shall know the truth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th will set you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близилось Царства Бож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те и ждит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ывает, всех хочет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llelu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, аллилуй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05:48Z</dcterms:modified>
  <cp:revision>13</cp:revision>
  <dc:subject>The Source, song number 447 in Russian</dc:subject>
  <dc:title>Ищите прежде Царства Божия / Seek Ye First</dc:title>
</cp:coreProperties>
</file>