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BBA-CC83-4C1B-BB03-6CC583A7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7C9-1488-47FB-A992-31FB8E5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43A-77DD-4467-9B03-EEBFC0EB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B59-5DD7-4D5C-8079-3DC21472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73F-2824-4971-A47E-53D37ACB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6DF-301F-4D5E-BAA6-795D7855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BD7-E290-49C8-8120-2ED1CF1B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4B9-4738-40FA-B3A9-1DC8B0D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7A4-2E7B-4B1F-BAE8-5543F07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FE2-A6FC-4265-847D-EC83F0F2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E47-88D7-4366-A52A-CF5C3F5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F44-66B3-4B28-9428-10FC292C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B6C7E-E26A-4E00-A4EB-321B2F0CD0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 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5:26Z</dcterms:modified>
  <cp:revision>12</cp:revision>
  <dc:subject>Slavic hymnal Гимны веры христиан, Ukrainian hymn 81</dc:subject>
  <dc:title>Christ Arose! / У гробі Він лежав</dc:title>
</cp:coreProperties>
</file>