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B8F-9558-47B4-A572-22972B1B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0EA-79C0-45B8-B544-753AD7C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2DA-10B3-4C4D-9D17-D70698A2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1AA-B896-4CE4-9B37-D01CB67D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ADD-AD2E-448C-B275-DB520603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C88-0C32-489A-93E2-E864C29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C6F-9E34-4A9C-A16C-688D4A8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D1B-7AA3-4A19-BF45-2C579CC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BCA4-D563-4BB0-A546-8E42EA0D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1A67-8D06-4374-869F-E778444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8EC-FF61-482F-A465-484F747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30A-B07C-408F-B6E2-FCACA05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24DC0-88F2-495F-A297-4F3F4DA0F3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Голгофській горі бачу там хрест ста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є символ мучення й нару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ле люблю цей хрест, він мені дорог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нім Спас за весь світ постражд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0   На Голгофській гор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ой старий, шорсткий хрест, що світ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низ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ін всіх вірних збира і ме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 Христос у цей світ прийшов, щоб хр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яж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За гріхи нести всіх і мо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а хресті тім старім, кров Христа видно т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минаю все я час гір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за мене текла кров Ісуса св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Щоб обмити мене із гріх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Споглядати буду на старий хрест шорст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уду нести я стид і ган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Спаситель мене в дім Свій вічний візь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навіки там з Ним я б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І любити той хрест буду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ж життю мому прийде к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єднавсь я до нього на вс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В славний день заміню за ві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57Z</dcterms:modified>
  <cp:revision>12</cp:revision>
  <dc:subject>Slavic hymnal Гимны веры христиан, Ukrainian hymn 80</dc:subject>
  <dc:title>На Голгофській горі</dc:title>
</cp:coreProperties>
</file>