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8AF-4D7C-402F-A330-84E7A65A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74F-08A0-46C3-976B-C0F5FC2C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73F-B831-485D-8579-2839CE60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C42-5749-4845-B186-15904F46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195-AB6C-4FD7-9066-218DF78F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13E-DBEC-41EF-A109-356E74B1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D11-A456-45B3-9392-DCD4C7A0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CD0-3765-4343-A317-F3CA007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EC3-5861-41F2-8915-1C6634F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DE0-295C-4E70-94FC-14F3EC2A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506-CA2D-4EA1-BE30-4BFCDDA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E64-11D6-43F7-8D57-7E20C5B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4498-BFC9-4F0C-B987-983FC13764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! Верь без смущ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орьба дол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Бог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разит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вер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!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вихр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жизни без па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пр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жизни помертве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Бог может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чь вокруг тем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верь, бра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ид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35Z</dcterms:modified>
  <cp:revision>12</cp:revision>
  <dc:subject>Slavic hymnal Гимны веры христиан, hymn 638</dc:subject>
  <dc:title>Брат, верь! Верь без смущенья!</dc:title>
</cp:coreProperties>
</file>