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517-01C4-4312-A050-B10FAFFD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3B8-91A1-4577-90D2-85267A8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373-6FF6-4D1B-86CB-8D20C05C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C63-6A35-42EC-901B-5B6E8C73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35A8-C0EE-46A4-AE21-376743B9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BD5-8DD1-4D23-8880-AEE92A31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84F-E5F9-427C-9277-02D225F5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51B-6C22-45B6-AD3F-92F24E11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B9F-744B-40DA-82FE-BDDB8237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E09-8824-409A-9E57-4610275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561-492B-4B69-9106-57CB602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6DC-4773-44C2-A9AC-352505CD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7177D-4152-441F-BEAB-DF17114763A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Господня велика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ільша, як наші всі гріх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 Голгофі з’явила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Агнець кров Свою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1   Милість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і вагання, як море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шують, щоби душу з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і гріхи милість біль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навчає нас свят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провини ― не скриєм ї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 може змити їх нам з душ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, ось тече струмок на зм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им він зробить тебе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я милість дивна й безмежн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риє тих, що вірні Й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, що готові любить Й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лість в цю хвилю прийміть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м прощає вон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а милі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а є, як наші всі грі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10:42:43Z</dcterms:modified>
  <cp:revision>12</cp:revision>
  <dc:subject>Slavic hymnal Гимны веры христиан, Ukrainian hymn 101</dc:subject>
  <dc:title>Милість Господня велика так</dc:title>
</cp:coreProperties>
</file>