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C0D-CB12-49E1-B403-FC7ED805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6F3-695E-474A-8BB5-7ACDF389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F0F-102F-4066-BCAE-8828D9BB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9E6-61B0-492E-B053-B60FBA2F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BB5-F701-4173-8ED0-BAD4C2A1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186-1E6B-40F9-9002-420B3712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11D-A505-45C8-B4F1-549FEDA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E74-C3E2-4A11-B27E-971B98DC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A5F-2073-4359-847A-6968B36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A13-808E-4D8B-8C85-1AB04B7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A75-A76B-4A38-B661-9F597AA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2D6-226A-429D-8B9D-D73B2853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E351D-4E29-4D33-BB06-6879D2C7B7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олг спасать несчастн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51Z</dcterms:modified>
  <cp:revision>13</cp:revision>
  <dc:subject>Slavic hymnal Гимны веры христиан, hymn 802</dc:subject>
  <dc:title>Святая ночь</dc:title>
</cp:coreProperties>
</file>