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9301-0981-4FF2-B4CA-18B450346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F8AB-4EB6-4548-8712-5A03832C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645E-8AD0-4819-B107-901B9B381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9FC5-3300-4346-9CDF-910A45E92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08B7-4E14-489B-BF9F-52BF4EFC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2A27-994E-4878-A3D7-BD1CF08DC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121E-D8A7-4F75-B0EC-6D229C957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4D79-C32D-41E6-BF24-68F4E0B7E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1104-0147-4BE5-9EC2-FC2F2176C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715E-082C-49AF-B59C-B0E5F699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1C86-78DC-41D1-9A40-A6437032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88A3-C501-4B07-9189-63AEE663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037D3B-0050-4155-A635-3AE67757F3C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свод уже темне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ь забвенья наста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ет быть теперь Созда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 твой в вечность от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огда ты правду вспомни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в Евангельи чи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огда ты плакать буд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Христа ты не приня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6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босвод уже темне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увы! уж будет позд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льзя уж возврат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, что в жизни раз отвергну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ельзя о том прос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ниги жизни там откры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кличка там и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в той книге не записан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царство Божье не во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мой друг, сомненья пол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теряй напрасно д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, приняв призыв небес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ратись к Отцу скор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11:47Z</dcterms:modified>
  <cp:revision>12</cp:revision>
  <dc:subject>Slavic hymnal Гимны веры христиан, hymn 365</dc:subject>
  <dc:title>Небосвод уже темнеет</dc:title>
</cp:coreProperties>
</file>