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6B1-A470-45F6-953A-C62AD960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86B-1319-447E-84C4-D9866774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F83-08B6-4B21-BED7-9BB8B4C3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D50D-852E-46DB-A637-45EB05A6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DF0-0A83-4035-9309-23A1E5B7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2EB-54FC-4DB0-A4C9-DDBBECC8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85E-C484-43DF-80C5-B7E74AEC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A98-CF26-4EB3-A204-464F9A88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0FB-945E-4129-A709-CF5D5A4C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FEC-DB3C-4C57-B92C-69D4046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B51-37DE-4E0E-A0DE-1BF3E343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BD8-7517-43C9-A756-BD69EDAE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9129B-66F0-4592-9EBE-4207AC65C5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очи веры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утрати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надежды крылья всё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ли б к Тебе мен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бросил за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дежду, как меч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юбовь была б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любовью был бы Ты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б очи веры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огда б любовь ост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нился сует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ы бездну устран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мною и Тобой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18Z</dcterms:modified>
  <cp:revision>12</cp:revision>
  <dc:subject>Slavic hymnal Гимны веры христиан, hymn 441</dc:subject>
  <dc:title>Если б очи веры, Боже</dc:title>
</cp:coreProperties>
</file>