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5FC-B05B-41B4-B224-FF9943FF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2A6-2BA6-40C2-A911-E8176492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FEE-BE76-4809-B261-98652DDE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F32-A20A-485A-A27A-8C2407DA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818-FCEE-4B9E-ABB7-556992C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EC5-39B2-4A95-A853-9E773380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B10-4E56-4AF4-90D1-CEFC5858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C90A-1458-43DD-840C-EF71E163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663-7266-43F9-94D8-E4B304EE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5F9-0D3D-453A-A9C7-29C0026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D05-20B6-4F30-9999-304E329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81E-D3EC-4A6E-8293-CA6B880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67A4-7515-4850-B0B0-AD1F57E509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2:48Z</dcterms:modified>
  <cp:revision>13</cp:revision>
  <dc:subject>Slavic hymnal Гимны веры христиан, hymn 239</dc:subject>
  <dc:title>О, малый город Вифлеем</dc:title>
</cp:coreProperties>
</file>