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B66-1A3E-4F80-86FB-965953F3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C26-B334-4B69-8ABA-D5F04FE3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AAB9-C5DC-4C54-AA0B-465BE6D4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585-474A-4CC2-9CCD-2F622519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035-0A59-4A32-B09B-B81E65D9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DA1F-5EE7-4C57-8DCC-5C36E342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35AF-C7B9-490A-8834-3769E7F0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426-B4C6-48F9-A9F9-74A1538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2BD-E1A6-41B5-879D-425AFD78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9C6-966F-46F1-BEE2-05516C59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8DA8-5651-4E23-8C90-C3A8C16A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B2E-B54A-498E-8023-FE338098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7D930-42DC-4D86-8D83-D0C9BF45720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my Lord and K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my ever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How Lovely You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died and rose agai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forgave all my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meek and low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pure and ho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the Bridegro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will 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bride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o gentle, so pure and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 as the morning st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w lovely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26:18Z</dcterms:modified>
  <cp:revision>10</cp:revision>
  <dc:subject>The Source, song number 279</dc:subject>
  <dc:title>Jesus, How Lovely You Are</dc:title>
</cp:coreProperties>
</file>