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2F6-1CA5-42C3-8237-64676A4E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9FA-871F-4A14-A093-C3E8046F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E19-9FB6-41BE-88F2-291FDAF1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F3A-D2CD-447A-8EC3-23AE372A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5C23-404E-4A75-8C37-CA3A044E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3816-AF60-4A9A-831B-90D22676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7D0-B0F5-4485-A941-62D1CE3F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2D7-33C4-400A-9D68-AE3F92C6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5DB-9058-4ABB-8DF2-D3DBCA9E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14B-1A33-4A33-84F1-EA1FCFBB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04BE-3774-4483-9689-E958E858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DDE2-5B86-4AE9-A07D-DEE16EA7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A47E5-3ADF-4690-9A17-6D03A0658B3E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Christ alone my hope is f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 is my light, my strength, my so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cornerstone, this solid grou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irm through the fiercest drought and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at heights of love, what depths of pe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hen fears are stilled, when strivings cea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comforter, my all in 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the love of Christ I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311   In Christ A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Christ alone!—who took on fles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ullness of God in helpless ba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gift of love and righteous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corned by the ones He came to s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l on the cross as Jesus di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wrath of God was satis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’ry sin on Him was la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the death of Christ I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3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re in the ground His body l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ght of the world by darkness s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n bursting forth in gloriou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Up from the grave He rose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s He stands in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Sin’s curse has lost its grip on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I am His and He is mine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ought with the precious blood of Chr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620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guilt in life, no fear in d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is is the pow’r of Christ in 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rom life’s first cry to final brea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Jesus commands my desti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No pow’r of hell, no scheme of m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Can ever pluck me from His ha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ill He returns or calls me ho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re in the pow’r of Christ I’ll 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4:39Z</dcterms:modified>
  <cp:revision>12</cp:revision>
  <dc:subject>The Source 3, song number 1311</dc:subject>
  <dc:title>In Christ Alone</dc:title>
</cp:coreProperties>
</file>