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D77-2442-4D0A-A26C-E5D90952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7CC-C784-4672-A83D-3812C380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D08-9437-4582-9C77-66630185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85B-6668-4772-A678-DE391965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0A7-ABE0-4AE2-86BF-9E491210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A39-0DBD-441E-9B3F-FC21EFA2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277-13C7-4E6E-ADE4-A1AB3F71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E75-6BA5-426B-845D-02263262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3EA-0DA8-4B3E-A3E7-A03DF528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050-75EB-41BD-BFE1-86E62B35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CF4-06FF-4ECC-AB22-FB02865D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957-1626-4823-B759-6505860B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E5C72-B654-431C-8885-2EDCA487CA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vellous grace of our loving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exceeds our sin and our guil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nder on Calvary’s mount out-po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here the blood of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sp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1   Милість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Господня велика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ільша, як наші всі гріх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а Голгофі з’явила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Агнець кров Свою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and despair, like the sea waves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eaten the soul with infinite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, yes, grace unt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ints to the refuge, the mighty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 і вагання, як море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шують, щоби душу згу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сі гріхи милість більш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навчає нас свят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is the stain that we cannot h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we do to wash it a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There is flowing a crimson 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than snow you may be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провини ― не скриєм ї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ж може змити їх нам з душ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, ось тече струмок на зм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им він зробить тебе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vellous, infinite, matchles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ly bestowed on all who belie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hat are longing to see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this moment His grace rece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я милість дивна й безмежн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риє тих, що вірні Й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, що готові любить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в цю хвилю прийміть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will pardon and cleanse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, grace, God’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that is greater than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7:09Z</dcterms:modified>
  <cp:revision>12</cp:revision>
  <dc:subject>Slavic hymnal Гимны веры христиан, Ukrainian hymn 101</dc:subject>
  <dc:title>Grace Greater Than Our Sin / Милість Господня велика так</dc:title>
</cp:coreProperties>
</file>