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9BA-80A7-45E6-A939-D76BD090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B27-EEE5-4B8A-B704-A8650035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0C2-81E1-4ABC-8F81-FE006AD0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FD8-10BD-42BF-BDC1-0EB38A51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096-A193-4D54-8F0B-B84044E3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0EA-942B-4E09-AB33-2ECA1E44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4D7-1641-40F7-9D98-EA75CE64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364-F6EA-438D-90CA-1BC367B8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9D7-AD45-487F-8850-3DAB5932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78A-C64D-4959-872E-334CCC98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21A-2D46-4E47-BB1B-64B3EDB4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F35-923D-496B-9B4A-327AC01E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23E2C-C5A0-4BA8-827E-FF6E94EB0E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ть ли в мире равн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л меня, когда н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юбви я слав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с Собой соеди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держав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вство веры мне влож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я Его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Друга дивного по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, о люди, верь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грехи с меня Он с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пас меня от смер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стопам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пытом измерь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елика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, и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ой обла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если б мир мне угрож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мощь обещ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а от Него д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мой ободр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кругом борьба, войн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 покой вове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Друга дивного по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юбящ бесконе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м советником Он с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ём к отчизне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ор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мой с Ним сердеч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жизнь, иль смерть, иль чад заб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, я Его вове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03Z</dcterms:modified>
  <cp:revision>12</cp:revision>
  <dc:subject>Slavic hymnal Гимны веры христиан, hymn 597</dc:subject>
  <dc:title>Я Друга дивного познал</dc:title>
</cp:coreProperties>
</file>