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EF0-6646-4128-8700-71879902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F87-2928-4D63-96FF-1438BB9D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540-206C-4087-A210-32685A3D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0AE1-EDF0-4A6F-B574-9159E35F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8E2-667E-4CBA-8A78-7EC7F392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4CE-DAB6-43D2-9A89-E493688A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D94-E849-4A06-8967-89F17E7E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8B3-5D52-498B-806E-7F40B6BE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4FD-EF41-4E55-9C3C-132DD70C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7F6F-39D5-4AE3-9E71-003FA07C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184-A989-4CC7-A816-E7D5FA1E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17C-B311-43EA-9E05-B14596DD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3776D-B12A-4C8D-A017-F5ADDBB19C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Богом! — Двери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отверз, как брату б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как безмерно я бог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прощеньем облада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в мире с Бо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вит сердце мне тос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рю я, что для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там в чертогах 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блаженной за ре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Богом! Он со м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, на всех путях мо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евогах, горестях земн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орьбе с неправдой и нужд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 счастье, так и в тяжкой д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вердят мои у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усть воля Господа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ею вечно будет вол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душа нашла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мире с 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18Z</dcterms:modified>
  <cp:revision>12</cp:revision>
  <dc:subject>Slavic hymnal Гимны веры христиан, hymn 596</dc:subject>
  <dc:title>Я в мире с Богом</dc:title>
</cp:coreProperties>
</file>