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D6F-4C7E-4C06-ABFF-167D853A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3E3-215D-48DA-9E3A-88D04AD1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89A-FD23-46F2-8BA0-253C7609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3E6-9631-4AAE-B1D1-8493A27E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364-1F07-45DC-9916-1D6BF942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262-35DA-444A-AC6A-8A6FAA96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D52-BC3C-4383-8B91-80DC87B4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DF0-5150-42D6-9DE6-441A0F07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D4E-46A1-4278-A2FD-C9F750C7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973-BBF7-403D-95BE-EB65F922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054-603F-4785-8888-E29A9A03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9ED-51CA-48BE-9107-80EB9FCC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58A15-4468-4075-8891-4836DE65B6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sinners, poor and nee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ak and wounded, sick and s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ady stands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of pity, love and pow’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изну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, робкий и боль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Спаситель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душе твое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принял да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thirsty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free bounty glorif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belief and true repen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grace that brings you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иют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Господню доброт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яет Он поро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 чист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рует жизнь и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лишь приди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not conscience make you li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of fitness fondly dre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fitness He requir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feel your need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сть душу пусть не м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ом не меч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ведав грех гнет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Господень при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а, силой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ведёт нас в веч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ye weary,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st and ruined by the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tarry ’til you’re be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never come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й и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скорбей и раб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ебя ты не исправ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губиш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arise and go to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embrace me in His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arms of my dear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 are ten thousand ch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надежду, всю над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агай лишь н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1:38Z</dcterms:modified>
  <cp:revision>12</cp:revision>
  <dc:subject>Slavic hymnal Гимны веры христиан, hymn 840</dc:subject>
  <dc:title>I Will Arise and Go to Jesus (Come, Ye Sinners) / Грешник бедный, изнурённый</dc:title>
</cp:coreProperties>
</file>