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7D3-DA6F-4A9D-B90B-0CD39DA0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EEC-2CCA-4FCF-B6DC-70DEE16C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AC2D-DE43-418D-8DE1-69AAF5D3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CE0-FD51-4596-B505-254684D9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CE5-8E44-499F-BFDF-40B5E472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661-2D5A-4633-A10A-939D7E08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3E6-58DB-4EFF-B3DE-E6E25649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4C8-18B2-40A4-AB32-70A9D0B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DE4-F571-468C-8DC3-851FA020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321-30DB-43B4-A6C8-51A10A5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41E-9CB9-4BBD-96C0-73879A05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9B6-BC43-4FEF-ACC6-A8A5D264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09325-C231-4FE9-B4D9-1B43265579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is so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ake Him at His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rest upon His prom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know “Thus saith the Lor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дко верить в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о верить в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ить всем Его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ушою воз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to trust His cleansing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in simple faith to plung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ath the healing, cleansing f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я н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го святую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служу, молю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посвящаю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’tis sweet to trust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sin and self to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from Jesus simply t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иятно в Бога 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пребывая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Господа жизнь м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ляясь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I learned to trust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Jesus, Saviour fri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know that Thou art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t be with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тремлюсь найти от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лгофского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у за грех в на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праведност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I’ve proved Him o’er and o’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precious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grace to trust Him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 мой,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ну к Тебе я всей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ь, Господь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, есмь и буду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50:00Z</dcterms:modified>
  <cp:revision>14</cp:revision>
  <dc:subject>Slavic hymnal Гимны веры христиан, hymn 622</dc:subject>
  <dc:title>’Tis So Sweet to Trust in Jesus / Сладко верить в Иисуса</dc:title>
</cp:coreProperties>
</file>