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2A1-13C3-4A92-9495-EEA6083E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734-7BAB-4C78-A57A-3A7E6CF9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2AB-EC8C-4B97-9E54-F334DB68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F25D-F968-4385-9B1B-1831D397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6F9-4719-44B3-B830-5B1443E5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BA0-1FB3-42D8-BDB8-041EEEBF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5E4-4397-49B1-B34C-06F83B0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5FC-DD24-4344-B073-1342EB45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379-AEF2-4A1A-8133-67BF7DA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DAF-48C5-4FD1-83A5-DD5ACF4E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04C-B285-45E0-9D30-5FD2493A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772-7ED9-4BD2-A936-CC83179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3AF9E-D561-48EA-AE79-4B0B7D650C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Lord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for sure all of my day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ld in Your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afted into Your perfec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ый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ый Господь, чудны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ю я: все мои дни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жишь в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х руках, меня хра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gently call me into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uiding me by Your Holy Spir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each me, dear Lord,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life through Your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влечёшь меня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Святым мне Твою во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каж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полнять пом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captured by Your holy ca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me apart, I know You’re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e to Yoursel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Lord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приблизь Своей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, чтоб быть с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бя пр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me, moul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se me, fill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дух преобраз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me, gu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ad me, walk besid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my life to the Potter’s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мной рядом буд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я жизнь свою, Господь, 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6-25T13:18:38Z</dcterms:modified>
  <cp:revision>11</cp:revision>
  <dc:subject>The Source 2, song number 640 in Russian</dc:subject>
  <dc:title>Славный Господь, чудный Спаситель / Beautiful Lord, Wonderful Saviour (The Potter’s Hand)</dc:title>
</cp:coreProperties>
</file>