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BCF-7EC7-43DF-8F35-C89CE78C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DD1-5600-4293-A932-09338739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E9C-70EC-41FB-BC11-0F56AE29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CF1-9515-462D-9242-EED89485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AC3-11E6-46C2-9421-C4B64DF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55C-E2A1-4259-8CAE-2B1361CF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F04-413D-44B6-A13D-3CDAAC40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EF0-9155-4E2A-B90E-2C3259C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041-A1A0-451B-8A40-BFF0F98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AD1-1F0D-4F04-AAE8-F6952F92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399-D865-428C-ABBC-C57CBD7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183-3232-470E-8EC4-19643EF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5B98B-8766-49A3-818C-DF20C63376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51Z</dcterms:modified>
  <cp:revision>12</cp:revision>
  <dc:subject>Slavic hymnal Гимны веры христиан, Ukrainian hymn 79</dc:subject>
  <dc:title>As News of Your Impending Death / Коли Господь ученикам</dc:title>
</cp:coreProperties>
</file>