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54F-9DC9-4CDF-BCF4-312B566A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7A2-BA1C-43D4-B2E0-83AFB85B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B37-E805-4C58-AE5B-7866A57A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F62-71D9-49A7-8C9B-DCFF43CA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3B8-E394-4B53-A80A-AECA7B51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A56-96F5-457F-A8C8-15A062D7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4CE-4A4D-4074-9DCC-F95E204B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C7A-E71C-4D34-8446-E4E437CE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FC66-B31B-42F7-9A05-80705E3A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0C5-9C67-45BE-B374-EE52826D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F4B-FFF4-4A24-B470-2C38B671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D47-5DD2-43BC-9A67-D33941C1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8E0D8-C9D5-4F0C-84BE-F3D58C58F9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plendour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othed in majes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all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earth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073   В сиянии Ца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иянии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еск велич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я земля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raps Himself in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arkness tries to h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embles at His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embles at His 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блачён во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ает тьмы и с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а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лоса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with me, 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со мной: «наш Бог так велик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все: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ge to age He st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ime is in His han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ginning and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ginning and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оит в ве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дни в Его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о и 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ало и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od-head, Three-in-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, Spirit,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on and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ion and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аш три-еди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, Отец и Сы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Он и Ле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Он и Л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with me, 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со мной: «наш Бог так велик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все: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thy of all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will 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е всех им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превозне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 по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with me, 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 со мной: «наш Бог так велик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все: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так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36:19Z</dcterms:modified>
  <cp:revision>12</cp:revision>
  <dc:subject>The Source 4, song number 2073 in Russian</dc:subject>
  <dc:title>В сиянии Царя / The Splendour of the King (How Great Is Our God)</dc:title>
</cp:coreProperties>
</file>