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207-DDF2-43CC-B6D3-90FBD736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3AF-5E8D-46B1-9F3B-12B87775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E6A-7634-47C0-9EF9-C05B46CC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5B5-B4D9-499C-BD71-1465819E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3C8-4FB4-478D-8104-26484BE0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F19-1A2D-46B5-8DB1-57A488CF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ED9-5D58-4606-A752-43FD209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52A-BF84-4452-B12C-087AECB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00A-BCAB-4842-8D45-3B215CF4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3DF-21F5-4C79-AA4B-CB78003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94F-992B-493A-A1FE-9142EEE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60B-81ED-4E87-B78A-28370915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48D18-42FB-4A5B-9E2A-EAA93D263C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сёстры, время приближ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наш Спаситель в мир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мрак ночи пред зарёй сгущ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еверие вокруг раст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, сёстры,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 нужны бури и нен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ы зла и мира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ладеем дивной тайной счаст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 Боге богатеть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че пойте песни предрасс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радальцы обрел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тесь, души беззавет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Христа найдёте вы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наш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охнови сердца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Один наш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и борьбы земной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3:25Z</dcterms:modified>
  <cp:revision>13</cp:revision>
  <dc:subject>Slavic hymnal Гимны веры христиан, hymn 329</dc:subject>
  <dc:title>Братья, сёстры, время приближается</dc:title>
</cp:coreProperties>
</file>