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58A2-A0C9-48E3-AC64-735D1869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CD99-B588-43DE-8426-3BBC5140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B50B-0518-4F38-92D8-7ABC02AA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8683-2289-4065-9D04-DD020B0E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2DC3-9005-4D33-9FBB-0B2BC5AD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B530-BC9A-4646-B2FC-4D3896A8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CB55-937F-409B-85A4-319142F7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948B-F052-4931-AFFE-A899FB66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A2C7-A52F-46E5-A53D-C68BAF79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CB43-8649-458B-A6F0-FA2EAD93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59C6-1C55-4811-B206-D38EF67B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2AF3-C55F-4DAF-BE92-96EDAEEF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47F83-E2F2-4895-BD50-38AF822B9A6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янь восторг земной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вись союз плотской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стыне тьма ноч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я нету в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исусе мир скорбей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влекусь земным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вечно с Ним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ые блага т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уха нет в них ц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у чужд их плен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вянь восторг зем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и мечтаний сон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текших дней урон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всё испы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чаяньи сто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довольно дал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мертное, пройди!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ое, гряди!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мир сойдет и к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ленным друзь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, Спаситель, к нам,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1:58Z</dcterms:modified>
  <cp:revision>13</cp:revision>
  <dc:subject>Slavic hymnal Гимны веры христиан, hymn 463</dc:subject>
  <dc:title>Увянь восторг земной, мой Иисус!</dc:title>
</cp:coreProperties>
</file>