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0988-C147-49BC-A1B1-60E4A3CB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6DF1-0E93-456C-9571-5A506D56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50CC-40BA-4302-81FE-91967958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BEEF-6387-4ACE-998D-3121FDF2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E9AB-5F54-47DF-9307-5634B0FB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7D26-8597-4969-9151-D9875088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FF64-2218-4C48-9E23-4D83FA4E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4880-64CD-407E-BDA5-2D94FF12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AA93-4967-4748-81D5-D3DF2109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38B0-36D7-43EA-A799-FA1FCB98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51D5-DAD9-4248-A1A1-5EC9825D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F33B-93C5-4F8B-A668-BCE90DA9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69716-D9BA-439C-BDA0-EA3E5480BF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my desire, to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ith all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have withi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You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at I adore is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1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is is My Des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give You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You my sou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for You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breath that I ta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moment I’m awa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Your way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5:59:24Z</dcterms:modified>
  <cp:revision>10</cp:revision>
  <dc:subject>The Source, song number 515</dc:subject>
  <dc:title>This is My Desire (I Give You My Heart)</dc:title>
</cp:coreProperties>
</file>