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632-1F52-48F3-A0A3-85EC924F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55C-B7CF-4F29-8E84-C8D83860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E3D-1813-4D69-B8D3-0BDAA09D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73C-481E-482D-AA91-2E8E792D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C32-C9AE-4935-AB4D-2264AA0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B9D-E980-4945-A6C9-1D451D43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6A-12C0-48BE-A7F9-F596DC25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DEF-BC6B-47BF-9FF0-BB6BDD5E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009-321D-4175-B59C-7199789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B17-9C95-4F10-929F-2EC3AB5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BCF-534E-4E01-9D67-ADA0687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58F-744F-4FEF-99ED-DA15FD5F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46382-1B25-4E47-AA1A-FB48BE5932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1:29Z</dcterms:modified>
  <cp:revision>12</cp:revision>
  <dc:subject>Slavic hymnal Гимны веры христиан, hymn 818</dc:subject>
  <dc:title>Хвала Даятелю всех благ</dc:title>
</cp:coreProperties>
</file>