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9D9-1F7A-412D-9BE7-350DEBD1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951-8FA5-4D75-A2DA-15E430F3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89D-D4B3-441E-9D96-AEB91BFC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2EB-0E90-4FF0-BA1E-670A5037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E31-DE57-46E3-AF41-823A3108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41D-4FFF-4738-8A8F-78EFC1B9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456-ACA6-4AE5-975D-4635B023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013-AF32-4419-A89F-C2335DA6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668F-BFE0-41FC-ADA1-2A156AEF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989-C7EC-44F5-A726-A2D81DBF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228-AEC1-43FF-95F1-2A16CE02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8E9-C162-4117-8BF8-11AD793D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98A82-375A-4530-8D1A-AD2EE82DE2C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 зовёт Спаситель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ою у двери и стуч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воём Я сердце жить хоч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прощенье Он грех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хочет мир в тебя изл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сит дверь лишь отвор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тебе зовёт Спаситель с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ет умо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к себе Его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нимай же, друг, Его сло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жен, кто всей душой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нять Спасителя любов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то внимателен к слов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Могу ль войти к тебе в твой хр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удет чувствовать в с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ждя в земной своей бор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молять он будет с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оставляй мой тесный хр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оставляй мой тесный хра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2:40Z</dcterms:modified>
  <cp:revision>13</cp:revision>
  <dc:subject>Slavic hymnal Гимны веры христиан, hymn 361</dc:subject>
  <dc:title>К тебе зовёт Спаситель сам</dc:title>
</cp:coreProperties>
</file>