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0577-DEED-4360-BB2B-35DAB755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FD56-8806-403C-9421-01E7D6A0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54DB-D2A3-47A4-A368-506D9DE5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8AD2-7D45-418D-AE3A-5B11BE6E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20A3-6CC3-49EF-A578-57CD134B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737A-40A9-42E2-979F-1168E560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AB78-65AE-4228-98E8-7DB4E5D0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A02C-41C6-4F8C-ABB1-49737DE8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FEB6-538F-433E-9F11-10A23C37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DE0B-A868-410E-9B57-5CF2D921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36DE-61A2-49A9-971E-39FC2F60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F444-2C56-4A1D-8DDE-F9BA7CF4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2E1F4-2D36-491D-94E4-064B8F47C61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 с моря люди громко вопи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йте свет! Дайте св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жите к берегу надёжны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и жизнь нес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везде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очью с моря люди гром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теперь доходит Македонский з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йте свет! Дайте св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роявить Христ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и жизнь нес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везде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ю молитвой о дру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ух Божий погибающих дости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и жизнь нес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везде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рестанно совершайте труд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Богом делайте дела с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и жизнь нес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везде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1:26Z</dcterms:modified>
  <cp:revision>12</cp:revision>
  <dc:subject>Slavic hymnal Гимны веры христиан, hymn 887</dc:subject>
  <dc:title>Ночью с моря люди громко</dc:title>
</cp:coreProperties>
</file>