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99B-D6C0-4A78-8214-0F0330CD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CFEB-F99F-4528-8A81-2762FF02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C8B-025B-45AE-94E9-84BA5717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55D-C4E8-4453-BF0D-CC618F4A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41F3-4C63-4660-879D-84DC825D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979-11E3-4C12-83CD-18AC9913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419B-329B-4646-9FAE-519BF0BB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536-8F91-4E5C-92D4-77CF3AA0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D1A-6ECA-48D1-90DC-0B3D3190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BB5C-40D9-4AE5-A4C1-04F454D3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BD8-F7D7-4972-8EAD-6B402A93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6BA-6A91-4942-BA21-127BAFEB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243A4-518E-42BC-A63F-914FF0E267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тьмы земных с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край, где Божи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т в радостных лу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лещет всё в цве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край, в тот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всем сердцем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больше счастья для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вечно в царств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дали от тьмы земных су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ечная любовь ца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ных весел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изни вечная ве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м озар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край, в тот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всем сердцем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больше счастья для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вечно в царств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туч на своде неба н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ря не гроз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ыто зло житейских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льёт слеза с л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край, в тот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всем сердцем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больше счастья для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вечно в царств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8:24Z</dcterms:modified>
  <cp:revision>12</cp:revision>
  <dc:subject>Slavic hymnal Гимны веры христиан, hymn 662</dc:subject>
  <dc:title>Вдали от тьмы земных сует</dc:title>
</cp:coreProperties>
</file>