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039-0DCE-495B-8C79-9909B7F2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26A-FB6D-4066-84DC-7913647F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116-BC4A-47F0-BD41-218F078A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3B2-041B-4F8B-92D3-C0FDD5F3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306-7678-4AEE-BF06-8D6EBBED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A39-C942-4FC9-93E0-B51B918F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6EF-DB1A-49CC-A1F6-CF9781E4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52A-75E0-43EA-95EA-8B7850A3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EED-4CF9-4675-90D6-CCE85EAC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7F9-303D-43DA-A711-B02EBA9A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042-9DA5-4045-8FE6-B8C8C8A7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A05-9738-4D7E-BDA1-64B4FFF1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418A-08E6-4E4E-94F3-348C919EC2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rried on 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y soul long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s to worship You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ower and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hands, lift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my voice towards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sun and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se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time I thin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aise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 s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9:01Z</dcterms:modified>
  <cp:revision>11</cp:revision>
  <dc:subject>The Source 2, song number 715</dc:subject>
  <dc:title>Hear These Praises From a Grateful Heart (Love You So Much)</dc:title>
</cp:coreProperties>
</file>