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F782-14AD-4D85-8D69-8F543ABB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8CDC-1565-402A-8F49-F4E13993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8106-102C-405E-A984-1F7DF40AE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5D1F-50E5-4325-89AE-624BABD06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D3F4-426B-4304-9583-B684B3FB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7A5F-E3D0-4C23-B93F-508A8249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6AAE-503E-427A-9F99-EA6719D5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DF91-9521-47A2-AD6A-729D6D3D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904C-E3B7-425D-9559-90B228CE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2E6F-B491-4074-B813-00494415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595D-8A8F-4DCD-90CA-5384A1E4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0DC7-8E08-412B-8BAF-168EA06E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799BD-B959-4428-93F8-6B95885DDA0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 могут изме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ёрный день трев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Один завет храни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и земля прой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ратья могут измен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сё покрыто ть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 сбивает с н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верой успок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и земля прой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ёмный, горький жизни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х дней за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твёрдая, что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и земля прой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5:23Z</dcterms:modified>
  <cp:revision>12</cp:revision>
  <dc:subject>Slavic hymnal Гимны веры христиан, hymn 898</dc:subject>
  <dc:title>Братья могут изменить</dc:title>
</cp:coreProperties>
</file>