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30F-DAB2-4303-9511-E41E890A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159-DB27-4518-849A-F541964A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312-7F68-4D93-80B7-4E833A7B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C2A-750D-49CD-AE65-D29E65A8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E25F-F053-4899-AFEE-507EF93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A87-7A80-48FC-A398-9519FDA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32E-47B9-4B6B-9BFB-76F59979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8EC-81DD-4CB2-A527-0917B307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D13-133C-48DD-98D3-AC3B147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30C-E977-41AA-A40A-88397425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520B-089B-4783-8FD0-5CB1CD7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E06-19F7-41DD-B2E5-E96114C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A8589-E8FE-4FEE-A641-FDFC1D8F5B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Spirit, faithful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e Christian’s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y lead us by the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grims in a desert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ry souls fore’er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y hear that sweetest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present, tru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near Thine aid to l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ve us not to doubt and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oping on in darkness dr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are raging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grow faint and hopes give o’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days of toi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still for sweet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left but heaven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ing if our names are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ding deep the dismal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ding naught but Jesus’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spering softly, “Wanderer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Me, I’ll guide thee h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49:30Z</dcterms:modified>
  <cp:revision>13</cp:revision>
  <dc:subject>Slavic hymnal Гимны веры христиан, hymn 302</dc:subject>
  <dc:title>Holy Spirit, Faithful Guide / Вождь наш верный, Дух Святой</dc:title>
</cp:coreProperties>
</file>