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159-B698-4D7A-8455-BB1B211D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035-F3F8-4522-B105-5E10C9E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CA76-B668-4BF9-82E2-FC08CE86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91A-3FD3-496C-B21D-66AC41BE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B80-4E2E-4C15-83DC-82EF22F3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A5B-CBF7-44AA-8FDA-B5AA2A10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8B6-94B9-45BD-AFC8-DDF05636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5F8-8862-42C0-9E70-1E19229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99A-E67E-4C90-97C6-A6605B8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470-A756-4201-871C-A8ED0BA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915-1305-40E3-A923-313D07C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B1B-31F2-4D29-9EED-9283E9A4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37D55-EC10-4587-9897-2CB0BEA5AE9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to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to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to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40   I Was Made to Praise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prais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glorify Your n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ev’ry circumstance I’ll 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 chance to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lov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ill always worship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’ll obey You, Lor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s mad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13Z</dcterms:modified>
  <cp:revision>12</cp:revision>
  <dc:subject>The Source 3, song number 1340</dc:subject>
  <dc:title>I Was Made to Praise You</dc:title>
</cp:coreProperties>
</file>