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6A9-DF56-49AD-94A9-57FA4283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896F-6ED0-4CAF-BEEF-53D182E9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D2DA-12FB-49AF-99C7-7AF71753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A56-26BE-4092-8090-3C50155F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3BE3-2D55-4A5C-85B3-EB6CFDDC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CD98-1A81-4B58-8EFE-AA7A4C62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9AB-487E-4177-94D2-FA947F4A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A83C-C11D-49FC-A379-2842B9E4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91EA-E85B-4BCB-B902-61700460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336A-0744-41BB-B864-E9CCF497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33A1-98C9-4119-9E48-15A4C99E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297-60C7-4F70-A088-D268BA38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52DC5-A831-4475-805E-6BD78BB986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свой крест, иди за Мн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гов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за тебя перед тол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ко кресту приби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«Возьми свой крес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приблизил Он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и снял тяжкий гн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послушным быть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ти, куда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ряд скорбей иль смерти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бурные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 крест за Ним я вслед п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ни вё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ердце, волю, жизнь мою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я от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Спаситель, 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ух и пл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7:28Z</dcterms:modified>
  <cp:revision>12</cp:revision>
  <dc:subject>Slavic hymnal Гимны веры христиан, hymn 433</dc:subject>
  <dc:title>«Возьми свой крест, иди за Мной»</dc:title>
</cp:coreProperties>
</file>