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BEF-BFF0-44CF-8210-9D9F9D30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B75D-31F1-4C1A-80BA-E13B3867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B24-CE81-4535-8304-8DBA850F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91AE-9F5C-4CB0-8D67-6F93ED3E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CEF-60F5-4445-B58B-BDE1A22E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998B-072D-46BD-BF77-EE4E55F8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5D49-5C77-42A8-AD2E-F527EC48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491-42B3-491A-84C3-CED163F8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511-9AB8-4973-BF37-1794B06C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6B4-9614-4D14-A566-5351F295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A95A-F92C-4FAB-94BF-8B1320CD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3F18-C335-4759-8AD8-51FBEB4D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68CF5-AB8C-4B24-AAF1-B4CF6B3FFB8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роен колодец в пустыне сух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лнен он светлой кристальной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юди идут по неровным пу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заветным воротам, к далёким кра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многие с жаждой в устало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ходят, не видя колодца т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учшего ищут они впере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гибнут в пути, не найдя нич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строен колодец в пусты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ые приходят к колодцу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ей вопрошают: когда, поч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ем он был вырыт? и спорят он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поре проходят их лучшие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ые приходят к источнику 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но пьют из живой глуб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новою силой стремятся впер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заветным воротам небесной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идишь ли, друг, ты колодец Хри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чнися, не спорь о начале 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жаждешь, ― и пей из колодца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век на земле не возжаждут у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6:18Z</dcterms:modified>
  <cp:revision>12</cp:revision>
  <dc:subject>Slavic hymnal Гимны веры христиан, hymn 396</dc:subject>
  <dc:title>Устроен колодец в пустыне сухой</dc:title>
</cp:coreProperties>
</file>