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2E05-DC15-4FD2-A413-1022CBAE7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23A5-1AF1-4269-AE51-F8431F54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C138-0B94-464D-A551-A087C9A4E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9D28-D30A-4091-A084-D01EA7877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E0C5-3403-4486-986B-6D4B634F0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AD56-65AE-4118-9469-E3123E77F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C178-9782-4DED-8AD0-19D41D8ED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9B9F-1FD8-4A6A-B30B-A3B499C51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DA64-2574-47AE-9738-F336377DB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8E1C-6BE5-4A16-BAA9-62482BDA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D1E1-3A27-45A7-A66F-B321CA4E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618E-BE0D-4310-A59F-C6B2096A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CF7BDD-5B8B-4C1F-A823-327AB0DB05E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 прийде, Він знов прий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з радістю Його чекає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може рано, може і в північ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знаєм, що прий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10   Ісус прий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10:44:55Z</dcterms:modified>
  <cp:revision>14</cp:revision>
  <dc:subject>Slavic hymnal Гимны веры христиан, Ukrainian hymn 110</dc:subject>
  <dc:title>Ісус прийде, Він знов прийде</dc:title>
</cp:coreProperties>
</file>