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362-E13A-4D99-9091-0CB68D0A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B0C-0B9C-4BCF-A988-3390DD0A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35C-F3EE-405A-8C44-EABDC175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6B8-E64F-493B-B1E6-D48C319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157-9C32-4439-9F7C-AA5B1A44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581-177F-4B15-99B7-889BCC79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84C-DC1C-43D4-AAC6-026625D0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263-39D2-4631-9CA5-FCE07FAB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D92-A584-4BB8-B030-FA498F2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7BA-59AB-40C4-BC88-32FB20D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C06-E4B3-457B-8E38-D68A14AB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3EF-F9D9-4EF4-BDFA-4678958E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F2289-0D92-4F89-854D-8D29EA4DAB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 beams our Father’s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His lighthouse ever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o us He gives the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lights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rk the night of sin has sett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ud the angry billows ro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ger eyes are watching, lo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lights, along the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im your feeble lamp,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tempest tos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darkness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lower lights be bu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a gleam across the w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ying now to make the harb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me poor sailor may b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5:00:01Z</dcterms:modified>
  <cp:revision>14</cp:revision>
  <dc:subject>Slavic hymnal Гимны веры христиан, hymn 555</dc:subject>
  <dc:title>Let the Lower Lights Be Burning / Ярко свой маяк Отец наш</dc:title>
</cp:coreProperties>
</file>