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7947-3AF9-4B93-AF0C-26907B59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024-E516-4894-A610-4033DA64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271-03B1-41FD-8169-5D845A78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AE5-4AFD-443E-BC1F-6F2C36DB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D8D-BB18-4404-A548-B7C49623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DA7-CCB1-4AE0-9DF8-996FD9C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83C-B724-46AE-A487-2CEDE01C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72F-93A6-4BE3-A696-CCF238C8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9F7-D72A-4169-B3A9-DE4B214F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99D-9070-4588-8DC0-F713E9C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679-F906-416D-A2AB-6AB75F4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59D-EF8B-4CF1-851F-A7804DC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8063-9B9F-4B44-B106-1D6731E360B6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24   In Your Pres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go where the 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overflow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my feet are on a roc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blazing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bur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hide where the flood of 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not rea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re I’m covered by Your blo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want to be where the scheme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darkness cannot touch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my firm found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rust in You all day l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am Your child and Your serv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strength and my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m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’s where I am str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Lord, my G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that’s where I be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eeking Your face, touching Your gr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cleft of the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Your presence, O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25Z</dcterms:modified>
  <cp:revision>12</cp:revision>
  <dc:subject>The Source 3, song number 1324</dc:subject>
  <dc:title>In Your Presence</dc:title>
</cp:coreProperties>
</file>