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26"/>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spcBef>
                <a:spcPts val="11"/>
              </a:spcBef>
              <a:spcAft>
                <a:spcPts val="11"/>
              </a:spcAft>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26"/>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26"/>
              </a:spcBef>
              <a:spcAft>
                <a:spcPts val="11"/>
              </a:spcAft>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1440000"/>
                <a:tab algn="l" pos="21607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568</a:t>
            </a:r>
            <a:r>
              <a:rPr b="1" lang="ru-RU" sz="3600" spc="-1" strike="noStrike">
                <a:solidFill>
                  <a:srgbClr val="ffffff"/>
                </a:solidFill>
                <a:latin typeface="Verdana"/>
              </a:rPr>
              <a:t>	</a:t>
            </a:r>
            <a:r>
              <a:rPr b="1" lang="ru-RU" sz="3600" spc="-1" strike="noStrike">
                <a:solidFill>
                  <a:srgbClr val="ffffff"/>
                </a:solidFill>
                <a:latin typeface="Verdana"/>
              </a:rPr>
              <a:t>Будем радоваться, братья</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удем радоваться, брат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чь уныние и стра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нял нас Христос в объят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хранит в Своих рука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ратья! радуйтесь о Бог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Его святых дела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 восторгом без тревог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певайте вы в сердца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ежде гибель нам всечасно</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десь грозила на пут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Христос рукою властн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призвал за Ним идти.</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ли в рубищах мы бедны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ыне мы богаты в Нём.</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уг сокровищ заповедных</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нам даст в раю Своё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ак слепые, в тьме греховн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ы блуждали без пут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небесный, свет духовны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л нам зренье для оч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Если б скорби, искуш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пустил на нас Господь,</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ра сильна все сомне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ечаль в нас побороть.</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усть средь бед и испытанья</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айных помыслах сердец</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ёрдо будет упованье:</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ми Бог, благой Отец!</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ь наша совершенна</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Христа, не от люде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ичто во всей вселенной</a:t>
            </a:r>
            <a:endParaRPr b="0" lang="en-US" sz="3200" spc="-1" strike="noStrike">
              <a:solidFill>
                <a:srgbClr val="000000"/>
              </a:solidFill>
              <a:latin typeface="Verdana"/>
            </a:endParaRPr>
          </a:p>
          <a:p>
            <a:pPr>
              <a:lnSpc>
                <a:spcPct val="112000"/>
              </a:lnSpc>
              <a:spcBef>
                <a:spcPts val="11"/>
              </a:spcBef>
              <a:spcAft>
                <a:spcPts val="11"/>
              </a:spcAft>
              <a:tabLst>
                <a:tab algn="l" pos="0"/>
                <a:tab algn="l" pos="720720"/>
                <a:tab algn="l" pos="1440000"/>
                <a:tab algn="l" pos="2160720"/>
                <a:tab algn="r" pos="864072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владеть не может ей.</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spcBef>
                <a:spcPts val="11"/>
              </a:spcBef>
              <a:spcAft>
                <a:spcPts val="11"/>
              </a:spcAft>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9T06:26:26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content/gimny-very-khristian/ for more information.</dc:description>
  <dc:language>en-US</dc:language>
  <cp:lastModifiedBy>John Zaitseff</cp:lastModifiedBy>
  <dcterms:modified xsi:type="dcterms:W3CDTF">2024-11-14T21:45:08Z</dcterms:modified>
  <cp:revision>4</cp:revision>
  <dc:subject>Slavic hymnal Гимны веры христиан, hymn 568</dc:subject>
  <dc:title>Будем радоваться, братья</dc:title>
</cp:coreProperties>
</file>