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3029-F2ED-4E7F-A86D-EF45BC5A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1F6-2D80-4FDE-911F-6E0FE765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23BC-2660-4E78-9CC4-E2EE3567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CBAE-6E96-470C-B5E5-03BC74EE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DDAA-524E-43D7-8E93-4B0B2A8C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64CD-2963-4811-87FC-812095A8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660-B11F-4BB6-A9CB-AB6E3129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2AFC-2535-41D3-96CB-111A87DC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9777-F27E-44C8-8D30-5598A9E8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BBA2-5E86-4657-BD60-F7321C64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6EA1-3528-4BDF-85AE-39B3C097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0DC-91E3-40AF-939C-AD155E6E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2A1B9-4A30-4B94-85DB-431DB090FAB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ther in heaven, how we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ft Your name in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Your kingdom be esta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our pr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r people declare Your mighty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Lord God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as and is and is to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èd be the Lord God Almigh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reigns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96   Father in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2:37Z</dcterms:modified>
  <cp:revision>11</cp:revision>
  <dc:subject>The Source, song number 96</dc:subject>
  <dc:title>Father in Heaven, How We Love You (Blessed Be the Lord God Almighty)</dc:title>
</cp:coreProperties>
</file>