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FBA-83AD-477A-B072-75994155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5E93-8726-4BAC-AE3E-E885CCB8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9C7-9480-4D33-A881-2254C832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B4F-2BEF-4CCC-9AC0-4B1D86B9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79F-01A0-40DC-8D5E-9C4811DA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B85-7A3B-4FC6-B587-2148FC5E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E38-2D6B-4A70-8BC7-C5716941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27D-2399-4977-9E2B-D72D21CB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2D1-CD89-46D3-8D72-F9D38C56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5F0-4C41-4AE2-B4BF-AC099BEA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BA3-2B6D-42C9-B50C-FEF47FC4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FE6-08DA-46EE-B809-21B232A6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A0B2E-7B89-4962-8506-F3CEA52834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тко и нежно Иисус призыв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ризывает, лю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л у порога, стучит, ожид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дёт Он меня и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ротко и неж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и медлить, когда Искуп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сит, о каждом скор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благодати принять не хотите 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для тебя и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ни сгущаются, смерть торжеству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беспощадно гу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приходит, в обитель и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ичу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и любовь нам Господь обе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жертву отдал Он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ы согрешили, но Он нам прощ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меня и т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), приди (прид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, кто жаждет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жной любовью Иисус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, не медли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31Z</dcterms:modified>
  <cp:revision>12</cp:revision>
  <dc:subject>Slavic hymnal Гимны веры христиан, hymn 357</dc:subject>
  <dc:title>Кротко и нежно Иисус призывает</dc:title>
</cp:coreProperties>
</file>