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E33-A4B7-49F1-8DE3-55ACA4C8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A23-6EA2-4536-B4F9-EA10FD5F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B40-FEBD-4401-B38F-43F56902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FAE-26A9-47D0-87A4-D133AC21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9C4-5C7B-4A20-A607-B4455701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EE6-DA98-4430-BF4A-8B6681E1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D84-583D-4127-8C25-7B590122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B9D-3D64-4231-B9B4-61D5AD95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A64-0742-4371-839F-910EAB1E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A55-6C53-4691-B10B-B40EB708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C6C-B98C-424F-8815-7BAFCD6A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E3C-E549-40CB-984F-E9D74F43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468E7-8C00-4B9B-88B3-EF2DE8C7F7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silver n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obtained my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riches of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have saved my poor so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я от 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а мне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е мог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ood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only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th of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maketh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дала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жертва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silver n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obtained my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uilt on my con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o heavy had gr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м тл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олг был уплачен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этот дол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объятна вина!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ood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only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th of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only a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ыкуп от см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ной д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silver n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obtained my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comma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bade me draw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 д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частье, надежд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нье и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удел мой земн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ood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only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th of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oveth my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, на Голгоф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е проли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стал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ла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silver nor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obtained my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into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ld not thus be bou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олото тл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пи разби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ятся на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е богач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ood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only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th of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hath wr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ровь непоро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мне от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чертогу д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я клю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6Z</dcterms:modified>
  <cp:revision>13</cp:revision>
  <dc:subject>Slavic hymnal Гимны веры христиан, hymn 421</dc:subject>
  <dc:title>Nor Silver Nor Gold / Не золотом тленным</dc:title>
</cp:coreProperties>
</file>