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882-6D1E-4DA8-BB3A-B75287A2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AB64-F7D3-453C-ACF2-730BEFA7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F92-5AC3-4AFD-8B0E-FC4D0752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424-8AF8-419C-9B19-8B163B0B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C08-6422-4592-A3A9-946F913A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0CC-1C11-434B-8226-F87EBD29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FE9-4992-470E-B5FA-577F5717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2A1-A605-4187-8518-0D75D975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39B-64E8-4AA7-B70F-103F2630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568-8C33-466E-B361-06D2302B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3F1-9AB4-4852-A1E8-7A376C7E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9F1-7B38-474E-A75F-A2F34FC3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75C2D-DB81-4673-B208-3D28B70E62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’s shore, heaven’s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 long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my loved ones who ar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side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край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мира, счастья, ти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люсь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world is not a hom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yearn for heaven’s sh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ng to be with all the s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st for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ир не роди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душа чуж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дом мой и друз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тся дух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enward, heaven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now lift my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od has promised rest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enter Parad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, к небе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нял свой вз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много близких т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 в мире до сих п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s are long, the battle fi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must do my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 I find no rest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healing for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сток здесь бой, дни тяж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но мне в бор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о среди греховной мг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итальческой суд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be soon, very so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ake my f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last to enter into rest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Father’s house of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ёк, не дал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й борьбе коне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у песен я пот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к борцам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uman eye has never s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human ear has he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uman mind could not con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го глаз смертный не в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ыслях не им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ём я слухом не слых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удет мой у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3Z</dcterms:modified>
  <cp:revision>13</cp:revision>
  <dc:subject>Slavic hymnal Гимны веры христиан, hymn 688</dc:subject>
  <dc:title>Heaven’s Shore / В край родной</dc:title>
</cp:coreProperties>
</file>