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937-27E0-4D1F-B3FB-036998F5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025-AB6C-4F50-B29B-B6B42FE6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76B-2202-4E70-B968-E94AD5F4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4EAD-A8A7-4C53-BC0A-5439F742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11A-1CB5-4D0D-B897-ACDF31D1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9774-9892-4F93-A238-15CAA64D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5C3-6E80-4A3A-87F6-79B27F07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FA1-0B8E-4A2A-B743-300B21C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CF9-C8F9-4ED9-B309-13D72A06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167-408A-418E-987E-E5887735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DAB-AC30-46F8-AF3B-5B3E168F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238-942C-402B-AD49-E8136D1D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FFB49-C857-49C5-AD30-EF18D554577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beauty of holiness we see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n of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we bring all that we po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lay at Your fee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he place where Your glory shi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, lover of all manki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have drawn us with love div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o make us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17   In the Beauty of Hol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ause at Your gates onc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heart and my spirit s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sh I could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and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s there tribute that I could br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as there ever a song to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could ever express, my K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ork that You’ve don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ould I ever conceive of th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e depths and the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brea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f the riches I now po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ecause of Your l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o I pause at Your gates once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s my heart and my spirit soa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I wish I could love You mo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God and my 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37Z</dcterms:modified>
  <cp:revision>12</cp:revision>
  <dc:subject>The Source 3, song number 1317</dc:subject>
  <dc:title>In the Beauty of Holiness</dc:title>
</cp:coreProperties>
</file>