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929E4-6AAE-413D-A135-F9BE13188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BDD22-EC94-4013-BA3C-0B6C42258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9C633-0E50-4F10-87CF-E4ECB9610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2F779-21E1-4E99-AA2B-21C09E150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B38A3-C0F6-4CA6-A68E-2100A71FF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128EC-3077-4C58-BBC9-1B4206EC6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66BAD-F648-4729-84A1-B12830B65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275ED-9689-4191-853A-322C389B9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23776-9ECD-497D-95DE-51CAA392A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E2C4F-1C02-4E4C-9522-91F33C9DC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BFBDB-5A85-4BEA-921A-2B3FFEFF7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65212-0C11-4A73-9715-87D82EE4C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83931B-0DDD-4A08-B822-AA615ACB4FBA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с! Ты в Кане Галилейск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брачный праздник приходи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первый раз средь тьмы житейск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славу там Свою яв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Господи! Ты к нам прид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лаву Свою яв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Господи! Ты к нам прид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ас благослов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40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Христос! Ты в Кан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 и к нам, как гость чудес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радость всех благослов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укрепи Ты связью тес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юз по вере и люб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Господи! Ты к нам прид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лаву Свою яв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Господи! Ты к нам прид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ас благослов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радость брака освящаеш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в церкви вечной, как жени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брачном пире восседаеш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реди искупленных Свои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Господи! Ты к нам прид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лаву Свою яв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Господи! Ты к нам прид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ас благослов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всех зовёшь на праздник слав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дай, чтоб новая че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аня всегда Твои устав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гла войти на брак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Господи! Ты к нам прид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лаву Свою яв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Господи! Ты к нам прид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ас благослов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с! где в мире этом рад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з света Твоего лиц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жизни истинная сладос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счастье в мире без Творц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Господи! Ты к нам прид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лаву Свою яв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Господи! Ты к нам прид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ас благослов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где! Для жизни этой сил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у Тебя, Господь Иису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лагодатствуй до могил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бой свершаемый союз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Господи! Ты к нам прид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лаву Свою яв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Господи! Ты к нам прид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ас благослов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2:19:13Z</dcterms:modified>
  <cp:revision>12</cp:revision>
  <dc:subject>Slavic hymnal Гимны веры христиан, hymn 740</dc:subject>
  <dc:title>Христос! Ты в Кане Галилейской</dc:title>
</cp:coreProperties>
</file>