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825-53F3-4884-B15E-210D93B1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948-E3F0-4C23-8CCB-C850769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82E-7BE5-4BE3-B34D-54954E9C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69D-52BB-4618-A22D-84E458A7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FFD-85B4-4ACE-B3BB-3F17DF0C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2D8-23D5-4AC9-B165-EEC9925C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2E8-0460-4B3D-B0E2-78E8C9BA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DEA-E1D6-421E-951C-8CC4FA6C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532-8DB8-4079-BDBF-7F317FBB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94C-B4C8-4E12-9348-ED6BD2E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DE3-620D-4D88-BBA7-ABE8382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2757-EFB6-4688-85F5-72A35625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D161C-9931-4B47-AB59-96437BF9C6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11Z</dcterms:modified>
  <cp:revision>12</cp:revision>
  <dc:subject>Slavic hymnal Гимны веры христиан, hymn 511</dc:subject>
  <dc:title>Силой мира облечённый</dc:title>
</cp:coreProperties>
</file>