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CFC-5458-4B4D-AC74-200708AC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473-7762-4A14-B07F-6EB2794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B37-AF36-467A-9457-051F5F17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339-7A64-441B-975E-51B024C0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9AD-143F-4E7A-989F-51FCD06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CDF-6E1B-4125-945A-83E7571D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94D-0911-4EC1-A216-D9B206AD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F4C-1714-4553-AE96-6CD7B94E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8D3-7A27-42DD-8D4B-C88AE0A3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4D0-496B-456E-917A-E17D8A6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8FC-1D32-4835-B9D8-C6292C4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005-4DD3-4759-A2BA-EFB76C1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AC410-D2DD-41CE-B5E0-1128DF84D9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л я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лой сторо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о ней го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все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 будет то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ал я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во жизни цв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 небесны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вая река там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арфы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хвалы не мол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сную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битель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ая радост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сна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туда не вой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Бог со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той сторо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бури земной не д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ашен тот г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всех Божь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там никогда не з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46Z</dcterms:modified>
  <cp:revision>12</cp:revision>
  <dc:subject>Slavic hymnal Гимны веры христиан, hymn 676</dc:subject>
  <dc:title>Слышал я о стране</dc:title>
</cp:coreProperties>
</file>