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07F-11BB-4A80-9965-D69A3516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E56-AABB-4C79-8AEF-DBABDC71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8D9-AACB-4223-AB05-F1E237E1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22B-41EA-4491-9856-2847B1DE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4B1-E599-4E0A-BBDB-352E97C9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2FA-39F8-4921-B92E-14DD24CD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AA2-5B76-4BE7-9D37-D2100B1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0A0-ABDD-4210-BE72-E2F1A718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B24-C63D-468F-9ECF-48A9688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AAE-8BED-4820-A800-1C95923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87B-E7ED-4863-9A16-D60A413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65E-FC1C-4E6B-93F4-7B6F331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AA501-BE6D-4496-BCAE-2578A86716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we that love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our joys be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a song with sweet accord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surround the thron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ose refuse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never knew our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children of the heav’nly King,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speak their joys abroa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ll of Zion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thousand sacred 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we reach the heav’nly fields, 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walk the golden street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let our songs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v’ry tear be d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hro’ Emmanuel’s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fairer worlds on high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, beautiful Z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rching upward 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eautiful city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4Z</dcterms:modified>
  <cp:revision>13</cp:revision>
  <dc:subject>Slavic hymnal Гимны веры христиан, hymn 588</dc:subject>
  <dc:title>We’re Marching to Zion / Придите, все сердца</dc:title>
</cp:coreProperties>
</file>