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FF0-A7E6-4495-A09E-67497431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152-C1C7-4DD9-BC65-188FF067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E11-D4F0-47D7-A05A-3039D21F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F90-14E6-4829-AA46-67E86FEE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4D7-7B10-496B-A1CB-79BEC095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5B1-D9D2-445E-A6C6-D2338E5B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495-9D82-4456-8990-410BFED0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313-0AD6-4549-86D1-F6857E75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34B-4EAC-4EAA-B0A3-5AED8574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96B-30F2-4E64-98EA-FE3E4007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8A9-A70E-440A-8790-7E7DA1EB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000-F724-4EB3-B1D4-8AC65BA7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90589-5DA9-4309-B163-23CAE69C282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раз, скорбя жест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 вздохом повторя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Кто бы из тоски глубо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у выход указал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Сколько раз, скорбя жесто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иди! Душою чёрс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Его не оттолк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помни вечность, не упорств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чтены ведь наши 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приди! Благоприя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ыне день: Христос зов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Он и безвозвра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ый мир душ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Иисусу!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о скорбь твою, по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Он с радостью встреч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теп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8:57Z</dcterms:modified>
  <cp:revision>12</cp:revision>
  <dc:subject>Slavic hymnal Гимны веры христиан, hymn 383</dc:subject>
  <dc:title>Сколько раз, скорбя жестоко</dc:title>
</cp:coreProperties>
</file>