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8CE-AB7F-42B6-B473-82331EE3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D4D-B18F-4121-B165-B17F90A8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857-B89D-4DED-A49E-63A4B6C2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D0C-710E-43E4-974B-DC989472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E5A-059A-4D24-91F0-4AC5EE59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CE6-A664-4085-8516-9083473E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AFA-E97A-46DB-8A7D-2E888427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3B0-8C08-4348-B058-66ABA24F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59B-AB32-4A55-B72A-D269314D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928-FB3E-40DA-96DA-9E74D777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2BE-011B-4608-B3B5-31451711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68A-9CBE-4325-B818-DF3473F4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6BA0D-B6F7-44B5-8345-137062A821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так много пе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ны и вздохи круг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 мы счастья ис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 скорбели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ушедши в зем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и добра от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лишалис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х не видели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ире так много печ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Господня нежда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й, могуч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из густого тум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вела к жизни 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тал нам любящим Бо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м Небесным Отц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не стонем под и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, надеждой жив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грехов очи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а Христова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и, тревоги, сомнень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мутся и тают, как л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наш путь оза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нам свыше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в пути подкреп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ь перед нами ви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2:21Z</dcterms:modified>
  <cp:revision>12</cp:revision>
  <dc:subject>Slavic hymnal Гимны веры христиан, hymn 630</dc:subject>
  <dc:title>В мире так много печали</dc:title>
</cp:coreProperties>
</file>