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1</a:t>
            </a:r>
            <a:r>
              <a:rPr b="1" lang="ru-RU" sz="3600" spc="-1" strike="noStrike">
                <a:solidFill>
                  <a:srgbClr val="ffffff"/>
                </a:solidFill>
                <a:latin typeface="Verdana"/>
              </a:rPr>
              <a:t>	</a:t>
            </a:r>
            <a:r>
              <a:rPr b="1" lang="ru-RU" sz="3600" spc="-1" strike="noStrike">
                <a:solidFill>
                  <a:srgbClr val="ffffff"/>
                </a:solidFill>
                <a:latin typeface="Verdana"/>
              </a:rPr>
              <a:t>Спаситель, говори на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зде во вся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и сил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оставлю в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шли Ты нам влеч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м словам вним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и сердце пень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дай ликова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ы — непобеди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сегда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чтобы в душ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 веры не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слова дай сл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оставлю ва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крой щедрот клю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полни счастья гимн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литься на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нам себя всёце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отдать, лю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ё здесь делать дел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дать с небес Теб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ы — непобеди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сегда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чтобы в душ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 веры не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слова дай сл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оставлю вас!»</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вет нам открыв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вляй причин причин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служенью силы да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в мире лучшей до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жить всегда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рить Твою лишь в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Твой войти поко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говор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ова любв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мы — непобедим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всегда с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паситель, чтобы в душ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Луч веры не пог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 слова дай слыш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е оставлю вас!»</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2:03Z</dcterms:modified>
  <cp:revision>3</cp:revision>
  <dc:subject>Slavic hymnal Гимны веры христиан, hymn 201</dc:subject>
  <dc:title>Спаситель, говори нам</dc:title>
</cp:coreProperties>
</file>