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AE15-971B-4DB4-9282-56F046ACE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DB1D-46D6-44AA-96E3-3E5733D4F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6508-FAE3-46A4-93B7-17EC81706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2B9F-9FAA-4ACE-B429-AB2517CFC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DF9D-6195-4206-B500-C48A0BFD6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256A-B5B2-4C9F-9612-477B42669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B831-E5D0-4725-9052-0E324194A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0760-938F-4B5C-9E29-DBA0CF622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550C-79FE-4272-9B1A-9867A9A58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C22D-6109-410A-9684-1D006711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A330-F0CB-4E34-9531-102A6594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B81E-1FC9-46F2-90D5-D0E0AE4C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988F32-80BE-47B5-A154-71A8CA19A0C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keep me near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a precious fount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ee to all, a healing stre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lows from Calvary’s mount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2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У креста хочу стоя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креста хочу сто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зерцать душ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 Голгофы благо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 течёт рек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cross, in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my glory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 my raptured soul shall 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st beyond the ri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креста, у кр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сть моя и сла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пасенья полно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блаженство пра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ar the cross, a trembling so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ve and mercy found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the bright and Morning S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ed its beams aroun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креста меня наш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 и си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везда святой люб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мой озари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cross, in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my glory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 my raptured soul shall 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st beyond the ri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креста, у кр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сть моя и сла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пасенья полно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блаженство пра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ar the cross! O Lamb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ing its scenes before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lp me walk from day to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its shadows o’e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креста открылся м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ткий Агнец Бож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влёк меня к С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л всего дорож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cross, in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my glory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 my raptured soul shall 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st beyond the ri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креста, у кр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сть моя и сла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пасенья полно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блаженство пра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ar the cross I’ll watch and wa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ing, trusting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 I reach the golden str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beyond the ri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креста я буду ж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рой и надежд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Бог велит прин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царство безмятеж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cross, in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my glory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 my raptured soul shall 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st beyond the ri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креста, у кр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сть моя и сла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пасенья полно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блаженство пра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3:44Z</dcterms:modified>
  <cp:revision>13</cp:revision>
  <dc:subject>Slavic hymnal Гимны веры христиан, hymn 424</dc:subject>
  <dc:title>Near the Cross / У креста хочу стоять</dc:title>
</cp:coreProperties>
</file>