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AAF-AAA8-4CCC-9F70-9A84224E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CC0-FCA4-49A0-AC4E-5D9ADC90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E10-3AC5-4268-B6F2-F99EA355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7F5-524A-40EF-A00F-F9477800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6BA-FD8C-49C6-A905-065B5CF7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9DE-EBE7-4A34-96CE-485BE65C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313-0646-4FB7-BE88-F8C39B21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8D3-2D24-4012-941D-F8E719EA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016-BB87-4F5B-9EEB-7E2AF15E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56E-1845-4998-B3BD-F26F0918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7D7-AF07-43D8-BF10-328AB78D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643-A0AD-40FC-AF65-7B4E313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1168E-ABCC-469E-B980-C8CF2B898A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ко спасенью новы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овом Христа открыт пре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тебе дарует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вори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уть ко спасе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Будьте, как дети!» — Он гов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Христа нам радость да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щий всякий пусть повтор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ый тот зов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что тебя зовёт Он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все сомненья, искренно 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ди в Его отверстую двер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Он зовёт: 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, радость будет в небес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мы в райских встретимся врат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 там Спаситель скроет в лу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ой С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9:15Z</dcterms:modified>
  <cp:revision>13</cp:revision>
  <dc:subject>Slavic hymnal Гимны веры христиан, hymn 381</dc:subject>
  <dc:title>Путь ко спасенью</dc:title>
</cp:coreProperties>
</file>