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0A1-A0F4-4E2B-828F-EE184D1B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9FB-C5A9-4BEA-96FE-95A1135B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731-070F-4553-B07B-12612CA5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834-EC2F-43A4-B971-73EA26D7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E2A-3EC0-4899-B4A7-64621886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198-1772-4412-BB13-D0CF0C06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468-07DA-406E-A122-7403557A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253-9185-4C2D-922F-38CDDD6A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B1E-A6FF-495E-9216-D56F21CD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D77-AA9C-40F7-A83A-B606DE30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714-245F-4439-BC54-D26C4F39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C7D-05C0-45B5-A9DE-78E0FDE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668A2-FA1E-44D9-86B6-B36A14807D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у я шум, как бы множество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он ожидания ми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ься, Невеста! Жених твой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ок час брачного п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ж слышу я ш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ь всё, чем мир твоё сердце мут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, печаль, ожи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помни, как Бог Твой тебя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понёс Он стра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, как один Он любить тебя 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й, на Иисуса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, как Спаситель твой д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л, за тебя уми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как поверил любви Он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что Он любит наве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, выше и глубже всех гор 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Его вечна, безме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, мой Спаситель, отрада 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а войти я в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а в пречистой крови я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мой Царь, мой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36Z</dcterms:modified>
  <cp:revision>12</cp:revision>
  <dc:subject>Slavic hymnal Гимны веры христиан, hymn 326</dc:subject>
  <dc:title>Уж слышу я шум, как бы множества вод</dc:title>
</cp:coreProperties>
</file>