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BDD-80DD-450F-872B-808625E9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0D6-54F8-4A4A-940F-05A8199E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C83-86C8-47D9-B297-C357834F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A5C-F674-425D-BA72-FB106AAC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EF7-AED9-4437-AD68-BB8BB555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CC4-5337-44E9-A5CB-D25F6D0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A7E-BF36-4A0F-87E4-4D18EA66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E94-52F8-43A5-8F3B-266FE512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BFE-CB4D-46D8-B7F3-135673C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3FC-F05B-41FE-AD88-52ED3CB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F36-1215-4B18-8C04-EB41372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9AC-F097-47F3-A1FE-82EF3F1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B0652-76A3-4950-8D15-6070527648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we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bright angel feet hav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crystal tide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by the throne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третимся ли мы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мся ли мы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ые вс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покойною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чистые тек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margin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hing up its silver s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walk and worship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happy golden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озрачною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, светлой, как кристал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оскликнем мы с То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день теперь наст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re we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y we every burden d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ce our spirits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ovide a robe and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ами и ре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непроходимый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коль тяжкою це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м его откр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miling o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 of the Saviou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, whom death will never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t their songs of sav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жаясь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Христа мы будем 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 земл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сходил, чтоб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we’ll gather at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, the beautiful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 with the saints at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lows by the throne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ы встретимся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чудною, над чудною рек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неумолкаемой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мы будем сл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we’ll reach the shining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pilgrimage will ce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happy hearts will qu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 melody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будем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уть придёт к ко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третимся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ся хвалу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1Z</dcterms:modified>
  <cp:revision>13</cp:revision>
  <dc:subject>Slavic hymnal Гимны веры христиан, hymn 689</dc:subject>
  <dc:title>Shall We Gather at the River? / Встретимся ли мы с тобою</dc:title>
</cp:coreProperties>
</file>