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98F-A3EA-4AC1-8E32-1957C835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ACC-4C1C-4350-A5F8-DC909276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2E1-A56F-437F-ACBC-918798B7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0D6-4D97-41C9-881D-041075AB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654-298C-405A-AD1B-FC85D55F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F74-4244-44B1-945E-5D2987CB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BBF-B13F-4873-A6B5-11EAC845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13C-906B-4BB7-A974-8BBBBE13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004-4DC9-4EB9-932F-AFE87E3E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B44-994B-4849-836D-E6C606F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BBE-2926-470A-A7FE-FD308412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A08-723F-448D-956D-AD75731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8DFD7-1139-4465-B1BF-95DD261904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обр Спаситель: с неб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, оставив тр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, как дитя, как мы, был 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ид раба прин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ас Он слёзы проли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ир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ший, верный Друг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никого вер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добр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т к нам Он и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к нам ст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громко, то слегка, как в две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входит, в нас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ьбу исполнить Он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шлёт привет нам С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ёт небесный клад д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дост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видеть глаз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в мире зде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ре лик Его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 в сияньи в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ветит кротко к нам с выс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ствует Твор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ворит: за гробом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сех благо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лучший, верный Друг де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йди, дай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, кто здесь, могли в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торжеств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наших уст Ты пригот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ели мы Т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помощи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9:23Z</dcterms:modified>
  <cp:revision>12</cp:revision>
  <dc:subject>Slavic hymnal Гимны веры христиан, hymn 751</dc:subject>
  <dc:title>Как добр Спаситель</dc:title>
</cp:coreProperties>
</file>