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93C9-2B29-4363-9E15-95A87847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03A-49D5-44A8-861B-CA998A1B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AA7B-85F1-431A-9752-A8E15961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12D1-F2B5-4FD3-94A9-E0BD6779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DAA3-67DC-41A7-B882-19ACF8BA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868-EBF8-4CE1-A76E-60B9CEBB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DCC4-ED3B-4BBD-9436-DA9B67C9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F8A-5D99-4B91-A53E-ED3B0AB5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5E89-F357-45D1-9D15-677F8B07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A912-D70B-4784-9C77-012BEF59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402-A0DD-472A-9ED8-BCC219A5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D6BE-3F7F-4E48-91E7-050BD762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3A0A2-D8CF-4832-849F-A1923701895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thing I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thing I 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aze upon Your beau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of my sal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er of my h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each me how to live, O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18   One Thing I Des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pray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pray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heav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ll created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er than hope, higher than drea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day of tr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ove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ecret place of refu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will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pray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pray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heav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ll created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er than hope, higher than drea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eek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upon Your name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want is You, 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eek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upon your name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want is You, Jesus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heav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ll created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er than hope, higher than drea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the Lord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heav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nam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all created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er than hope, higher than dream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name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3:46Z</dcterms:modified>
  <cp:revision>12</cp:revision>
  <dc:subject>The Source 4, song number 2018</dc:subject>
  <dc:title>One Thing I Desire</dc:title>
</cp:coreProperties>
</file>