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751-430A-4E58-8EBD-0E6122D6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C9C-9C18-460D-A689-913229C8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7E5-7D85-44C7-9B72-314DADF2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E10-4804-4E09-8A14-C8ABC446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E83-0AA5-4AC5-9A39-A90ACF0D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2A3-A3A4-4F51-A869-9AD1CB97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219-0165-45F0-A618-EA0F53F1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199-C056-4F8C-94E1-88B073AB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4CE-06E9-4805-95A7-4D9FECBD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4F4-6CD9-47B5-8299-EADD994B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BC2-7832-4280-A9EB-DF1E2A84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CA89-3267-4200-AF91-EB8DD201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88BCE-779A-4E5D-BB3A-5133FEB96A7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offer up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pirit and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uring out the oil of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worship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surrender I must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’ry p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receive the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broken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Offer Up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deserve my ev’ry br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ve paid the great c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up Your life to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death on a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all my sham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defeated my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ed up the gates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beckoned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hat can I g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I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faithful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o loving a 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what can be s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can be 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praise of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things You have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words could not t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in 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debt of love that is 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thank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38Z</dcterms:modified>
  <cp:revision>9</cp:revision>
  <dc:subject>The Source, song number 265</dc:subject>
  <dc:title>I Will Offer Up My Life (This Thankful Heart)</dc:title>
</cp:coreProperties>
</file>