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469-5B8F-47BE-940F-76873AC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5397-9EEC-4766-BA1E-906BFF76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2FC-7B4E-47D8-961B-069931CA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36C-2E61-42C5-9CCB-448311F4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ED7-FDC8-41EA-96FB-C6A91F85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81C-6816-4227-9473-36E1D96B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186-A745-4506-A0C7-B479FDB4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514-271F-473C-85B0-4B5B285D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499-C372-477E-BEE6-B348A2E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99C-9F0F-4B36-BB7F-0E3FDB22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CBF-25F7-4051-B743-58F493D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A02-8EA0-439D-9CBE-A8B626EA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9262D-551C-4C02-951F-EADAD9672C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жемчужину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рошёл почти весь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моря и все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мне дорог жемчуг то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его — спасенье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его живых кра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онул в морской в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искал так много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о, долго я иск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стречая нич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в пути я уви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радост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накомца взор сия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Он в руках дер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редкий,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блеснул в моих гла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хотел домой бе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ома свои пр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иметь его в ру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н кротко мне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ало мира сам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Я жемчуг Свой про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Я даю его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руку прот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жемчуг получ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взглян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благосло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мчуг мой не дар мор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Господней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принес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 усладу скорб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07Z</dcterms:modified>
  <cp:revision>12</cp:revision>
  <dc:subject>Slavic hymnal Гимны веры христиан, hymn 603</dc:subject>
  <dc:title>Я искал так много лет</dc:title>
</cp:coreProperties>
</file>