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F33-C10B-4D9F-AC0C-D94A7307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351-0389-479B-A2E4-052E743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B64-B7B0-4850-8B54-57A38613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3EE-2451-4B68-B2C8-E17A80F1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3A4-3E96-47A2-8F1C-DDD6C54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D32-D5FA-406F-A2F1-23420079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A9B-312E-4003-9AC8-A235715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AAA-1CF6-416F-8803-957E274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DE0-B3B3-443C-B3F4-645DC454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B2D-EF61-441B-869B-4058C66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9C2-1BF2-42C9-BF9F-1B61181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BD3-8060-4BEF-B891-D709FD5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9F650-B854-44C0-A74B-346AD786A3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9   While Shepherds Wa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42Z</dcterms:modified>
  <cp:revision>10</cp:revision>
  <dc:subject>The Source 2, song number 1059</dc:subject>
  <dc:title>While Shepherds Watched</dc:title>
</cp:coreProperties>
</file>