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E8AF-C051-4364-BAC4-CCF64BB8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2ED2-E474-43AE-867D-3261E052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DCCC-BBA6-4993-A412-5529F06D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B750-8395-490B-B06B-2F7EF885A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2D15-F69E-4A0B-A3EA-F4730FEB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D0CE-F0BC-4AA2-8304-272DA43C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73C5-F90C-4E83-BA3A-5B0A0CF4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5E49-A217-4332-8BC3-A5DA0739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81E9-E87D-4319-A4A8-500FFB10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9EEC-8E2F-4886-8B41-F3C01179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44C7-7676-4BD7-AB59-01D41D24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8471-8C70-4986-957D-F7373A5B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BB01A-783D-43DE-956B-706D788E958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мой крест бер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обой хочу ид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чу я вражду людск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нев и злобу на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менил Ты жизни пл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любил, чего хот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бореньи постоян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и небо — мой у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Господь, мой крест беру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врагом мне станет ны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верным он всегда та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друзья меня покин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 всегда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любви и благо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же к сердцу с каждым днё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ится враг, исчез прия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не радостно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нев и ненависть люд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нят нас к Христа ног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тяжёлая зем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ет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души не завою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с нами Бог жи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лесть дух не очар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 Боге наш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нас укрепл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видит чуд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молитва окрыл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открыл нам неб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кончатся том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ершится путь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место даст виден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ьбы сменятся хва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42:45Z</dcterms:modified>
  <cp:revision>12</cp:revision>
  <dc:subject>Slavic hymnal Гимны веры христиан, hymn 846</dc:subject>
  <dc:title>О Господь, мой крест беру я</dc:title>
</cp:coreProperties>
</file>