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259-8277-49C1-9812-019E3525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B67-4BB3-46DE-80FE-AFC84C5E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910-2DF9-4599-A072-7B9F4895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251-8EDE-41B8-890D-1A526A9B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B8BF-4321-4561-8162-8CC4BE9B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A5D-541E-41DC-942F-8E1FB0D0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48E-2AFA-46E8-84E4-F0688A18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B25-9988-4C6A-832F-AE43C6C4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288-DC6E-441F-ADE9-4A57DF18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BF0-DC95-45F5-95E9-081F76E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218-6DC5-457D-82C3-11968593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44C-0B8C-401E-B500-CCF0FB6C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63A2D-551C-40C3-A57B-4670AE44127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жизнь Ему отд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призывая, Он даёт им р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страдая, взял твой грех Он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ерь Его слов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бой за Ним вступ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ет битва злая, ты ж не ун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сть душа больная слаба пред враг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ерь, победа в Нё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 Христа взи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не забудь о Н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, когда сияя, день горит луч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ость ведь земная исчезает вдр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Нём пребудь, о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труд свершай ты с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, свой день кончая, в Нём найдё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ука святая приготовит п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в Нём ищи твой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скорби жгучей взор твой уста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емняют тучи вид Христа крас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же, в царстве рая, горе позабы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взирая, будешь ты счастл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12Z</dcterms:modified>
  <cp:revision>12</cp:revision>
  <dc:subject>Slavic hymnal Гимны веры христиан, hymn 363</dc:subject>
  <dc:title>На Христа взирая</dc:title>
</cp:coreProperties>
</file>