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703-6A2B-43C1-8269-9EAF337B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634-1854-4ADC-BFB0-C7D28C74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ABE-E9BD-41F1-BA70-94614E2E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32D-ECCE-417E-8549-0E8E5CFC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962-5B37-4352-8401-CC4E0BB0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B39-3E5B-4774-9A3E-9144A561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B4F-A306-444B-8F34-89A887E1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5D2-3A71-4FD7-B900-01C352A5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0D5-9DBA-4A71-AA93-6E8F0C5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AAE-820A-49D0-89F1-CE4B7B0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D264-6F56-4F4A-9807-B4E3227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89A-42A8-4C58-91D2-F880E9B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C9D71-FE97-4BCB-A52C-DA0954D889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, though it is hidden from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You are there my heart is filled with pe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y should I fear when You go on before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oth night and day You set my heart at 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знаешь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хоть я его н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знанье это мне даёт по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чему тревожиться мне и страш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ень, и ночь, всегда томясь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know the way! The time of my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as planned before I even lived on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y heart is filled with wonder and el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You have loved and led me all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путь, Ты также знаешь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план давно уж для меня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я, Господь, Тебя серд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лости, заботы и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rd, You know all, the winds that blow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righten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storms of life Your orders still obe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even though my burdens may not light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till, I’m at peace, because You know the 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знаешь всё: откуда ветры ду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ю жизни укрощ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известно мне, куда 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спокоен, путь мой знаешь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2Z</dcterms:modified>
  <cp:revision>14</cp:revision>
  <dc:subject>Slavic hymnal Гимны веры христиан, hymn 617</dc:subject>
  <dc:title>You Know the Way / Ты знаешь путь</dc:title>
</cp:coreProperties>
</file>