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A397-8DC7-48A0-8D14-71338BF63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3C73-D102-469F-945D-E8E6AEA4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FB01-6528-4C6D-9D0A-501642735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8A8B-D87D-454C-AF61-F64332AC2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A650-0300-49AE-AD51-7F10AB09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563E-4E0F-4E36-A16E-955902FA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485F-8555-421D-9ED6-C13F65DA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5306-4AFD-45C8-B275-6E3CAE88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9F8B-35CB-429C-B335-2DF6E5ED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7B5A-8DD8-4510-8D79-AC02DFF9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ACD1-ADC2-4245-801E-919D9B0C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2B24-E759-48A4-ADB4-89A538F8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915FCC-0125-4EA2-AF9E-91FA5BD933E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царящий в вышнем све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и вечной Властели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яд веков, тысячеле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Тобой, как день од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 загадок год гряд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он весь в руках Т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и нам, Всемог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с Тобою каждый ми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3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Царь, царящий в вышн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аш век перед Тобо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летучая звез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а жизнь блеснёт пор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гаснет без сле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 загадок год гряд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он весь в руках Т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и нам, Всемог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с Тобою каждый ми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аш век перед Тобо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а жизнь, как лёгкий па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днявшись над землё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чезает в летний ж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 загадок год гряд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он весь в руках Т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и нам, Всемог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с Тобою каждый ми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а жизнь перед Тоб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рава, что лишь вз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час вянет под жар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сушающих з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 загадок год гряд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он весь в руках Т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и нам, Всемог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с Тобою каждый ми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едь бренность нашу знаеш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же нашей жизни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тысяч лет счита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ёшь бессмертья с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 загадок год гряд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он весь в руках Т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и нам, Всемог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с Тобою каждый ми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но Царь дружине вер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день битвы дарит 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улишь в любви безмер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сть нам за день невз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 загадок год гряд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он весь в руках Т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и нам, Всемог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с Тобою каждый ми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9:41Z</dcterms:modified>
  <cp:revision>12</cp:revision>
  <dc:subject>Slavic hymnal Гимны веры христиан, hymn 738</dc:subject>
  <dc:title>Царь, царящий в вышнем свете</dc:title>
</cp:coreProperties>
</file>