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DF6-8F43-4EE3-8B00-B79217CE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311-14C2-4139-B15C-A94B5B2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7CA-59F8-47F8-BA28-5B994558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351-407B-42B8-8948-025A20AD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058-E4F1-47C8-9D46-B1905EDF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CE1-498D-4439-9AF2-A8DE2950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B0E-A745-431A-97B9-3E510D10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967-9E89-4D33-A33D-CA5E3EEC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5CDF-7EEC-42AB-B153-DB318547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EF2-530D-447D-84ED-BAA35AC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52C-5B55-4D67-865D-405B07D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8ED-2C6E-4093-AD63-C8E2024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DCAA2-8B74-48BA-B25C-5D94512FA4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7:08Z</dcterms:modified>
  <cp:revision>13</cp:revision>
  <dc:subject>Slavic hymnal Гимны веры христиан, hymn 866</dc:subject>
  <dc:title>Христос — основа Церкви</dc:title>
</cp:coreProperties>
</file>