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6F3-8391-4EC3-B64E-1E958DC5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0CA-52E5-4EB7-8FDA-57E4F5F3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C887-BBC3-43CB-AD67-10C133B9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406-CFAC-4359-87E2-720BB7E1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DC97-EE0E-40DE-9B59-342014F1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876-82A6-4B0B-A0A0-65BEEDDB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88A-FF21-4FDD-AF7A-E6FDECAB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2CD-59C6-40FE-91EB-CEC18809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5635-A2D2-4E4D-B401-84815320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75C-2C61-4B0D-9417-9E2477B3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E5C-1DA0-4A08-BD0D-B7A5E3CB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7CE-8187-4E59-A5EE-381E8DE6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4C6D2-F377-46E4-ACA9-14E6C5265D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в небе Господа слав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достойную Богу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нгелы в н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ся с ангельским пением сл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оре искупленных, спас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Господу, Богу Един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Спасителю славу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 земле людей Церковь том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у стремится,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ениху в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ряди, Господи, вид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ста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Единому славу поёт, славу 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, прославленный, Царст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Христос Господь в небе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, в небе на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Господу, Богу Един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Спасителю, славу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вечная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слава, слава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8:09Z</dcterms:modified>
  <cp:revision>12</cp:revision>
  <dc:subject>Slavic hymnal Гимны веры христиан, hymn 805</dc:subject>
  <dc:title>Ангелы в небе Господа славят</dc:title>
</cp:coreProperties>
</file>