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040-AC7F-4563-80BD-14D1430A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E18-0BFF-4E14-88E9-5B3E73EC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0A0F-2531-41CE-91E2-5CA86448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406-F27C-4B03-9B27-24965184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47E-AFBA-49C7-9658-8069E5A2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241-E605-441F-BDEE-1E7B63D3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9DE0-A5D2-40FC-8727-8B64DFE7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31F-D077-4742-A0EB-BC77FB24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37A-C6FA-4487-AAB8-A0296EA6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8D9-7E09-4BC0-93B9-4662858E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D43-809F-4D41-A8B1-AF28CDE3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3C5-E992-4448-9EBD-E24A90DD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0783E-2E07-4CAF-A5EE-A739DBABEB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I feel discourag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the shadows 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my heart be lo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ong for heaven and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чем я так бессиле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я так бессил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страдаю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так печаль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утеше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is my por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onstant friend is 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со мной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happ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Let not your heart be troubled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ender word I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sting on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se my doubts and f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в искуш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темно, тем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замолкла пес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 умер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by the path He lead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one step I may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д на Иисус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возвращ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happ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ver I am temp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ver clouds a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ong gives place to sig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ope within me d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дах пусть ваш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не смущае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лышу глас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покоен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raw the closer to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care He sets m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, истина и жизнь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благ Он полн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ет ли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happ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because I’m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eye is on the sp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He wat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апою от сч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свободен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тиц небес пит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т и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48Z</dcterms:modified>
  <cp:revision>13</cp:revision>
  <dc:subject>Slavic hymnal Гимны веры христиан, hymn 701</dc:subject>
  <dc:title>His Eye Is On the Sparrow / Зачем я так бессилен?</dc:title>
</cp:coreProperties>
</file>