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7920-EBE7-42EF-AC9F-40FBF6EE8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51FD-6C0B-4730-BA46-D50EFF076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37F5-243F-4A84-B8C4-B0BF37CAF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B47C-2BFE-4D81-8EEE-CC0CE5244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42AE-03DC-46C5-A0FB-3C56A9ADE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B002-828F-4EC8-9F79-A51825A3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3D57-C07D-40E8-9A18-6BF5B172C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3A62-FE56-4259-96D2-12ADA314E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3A10-3E1B-43AC-9BCB-4330792E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6100-F1F9-4956-B66F-6D1B4F17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BC9B-A68D-4D9D-A45C-8EC088DF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89B1-B9A0-4F4B-A9CD-75C64F76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30F443-673F-4917-8C81-4CAD016FF10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, the mercy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glory of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You chose to redeem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forgive and rest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 call us Your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osen in H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e holy and blam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glory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914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Oh, the Mercy of G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praise of His glorious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praise of His glory and pow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Him be all glory, honour and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ever and ever and ever, a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, the richness of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depths of His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Him is redemp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forgiveness of s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called us as righteo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edestined in H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praise of His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cluded in Chr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praise of His glorious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praise of His glory and pow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Him be all glory, honour and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ever and ever and ever, a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, the glory of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xpressed in His S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image and lik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vealed to us a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plan of the 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pleted in Chri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we be pres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erfected in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praise of His glorious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praise of His glory and pow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Him be all glory, honour and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ever and ever and ever, a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5:13Z</dcterms:modified>
  <cp:revision>11</cp:revision>
  <dc:subject>The Source 2, song number 914</dc:subject>
  <dc:title>Oh, the Mercy of God</dc:title>
</cp:coreProperties>
</file>