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AA6-C07D-4B1C-A89D-0D07A189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79-B056-44A8-A298-86F0BBE4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1B5-C8EB-46B2-8DE8-6DCC3C76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991-7016-4BE6-A072-FC1FC287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FD3-93CC-4BFB-AC0C-E05CB7A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88C-C0D4-4E43-997E-16162A4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D87-DD2A-41D2-B28F-150AC41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0456-9F98-40B2-A008-DD81079E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DB7-AFC3-49DB-B719-4DDC42F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1E6-099B-4EF8-91C3-2D92815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DE6-31CF-4D72-A176-F19EFA4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293-D9BA-4699-BC5B-7273367F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DC4F4-D8F8-400D-B653-9CCC37EA0D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уж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волнами м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а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онец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би, дру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 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возь тьму сияет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ладью надей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вздым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мрака, г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 не страш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 держ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рассветае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и рассе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ава вблиз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вос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ждёт теб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истан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регу, к бере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би вес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дье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но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лей корабль разби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4:28Z</dcterms:modified>
  <cp:revision>12</cp:revision>
  <dc:subject>Slavic hymnal Гимны веры христиан, hymn 704</dc:subject>
  <dc:title>Сквозь тьму сияет свет</dc:title>
</cp:coreProperties>
</file>