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222E-61FC-4DF1-AEF5-12AE398F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153-876A-4AF0-A9A3-61046BBA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DFB-4028-4568-BDB9-0F19725D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BF0-05B1-4A4C-BBA3-355FB8C3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985-33F3-4A89-9462-82526933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587-D5E9-452D-9FA2-F00B5247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D067-1C87-4057-8566-8EEE143C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1CEE-8A99-4540-95A6-3B82AD9E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1FDD-8E4F-4653-9808-7679046D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ED3-DD1C-47BC-B531-3F4D06EC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5302-6ACF-4887-894F-B4BE29E2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2021-E947-4BB9-A9D4-3FFFD1D3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E469F-E046-483F-8273-D66EE3D4EB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час, как навеки спа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а земного бы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ух мой там в вечности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ут ли петь мне друз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бе! там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хода обилием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ебя, друг,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ств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тот час, как навеки спад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рю: собранья из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ли здесь в мире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ители вечных ут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чать меня выйдут с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бе! там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хода обилием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ебя, друг,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ств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ют пред мной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дивных небесных ка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я город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свете Господних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бе! там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хода обилием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ебя, друг,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ств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амень охватит м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, восхищеньем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браньи искупленных 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ю Творца и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бе! там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хода обилием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ебя, друг,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ств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6:50Z</dcterms:modified>
  <cp:revision>12</cp:revision>
  <dc:subject>Slavic hymnal Гимны веры христиан, hymn 656</dc:subject>
  <dc:title>В тот час, как навеки спадёт</dc:title>
</cp:coreProperties>
</file>