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348D-5AB9-4D8B-8F78-976FCB80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60B2-C3D7-4DC5-B954-993B09FC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6F21-0F2E-4909-9394-0B19C664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6420-C7C3-43A5-BF6C-351E7A8E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CF99-2F74-4DDA-B324-14D79885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C474-B2E2-48C8-9D61-F4A265C7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6A6D-C015-472A-9369-93762647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A0FE-D5CE-49A0-B935-9DF2FEB2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374C-A3E8-4BCE-B555-9A411E8E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47C9-42C9-47A1-AEB9-ADBEB3A4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34E8-DA6F-4D71-862B-D97617F5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D609-ECB1-4FED-A8B5-5940FD7A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8F4EB-A53C-49AD-9234-F9A8CCAEED2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tand amazed in the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the Nazare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onder how He could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inner, condemned, uncl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егда удивляться я долж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удивляться я долж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что нас возлюб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я был неправды исполн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ы кровь за нас про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 it was in the 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ayed: “Not My will, but Thin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d no tears for His own grief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sweat drops of blood for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т за нас в Гефсиман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ец, воля пусть Тво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претерпел Он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ранах жизн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pity angels behel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came from the world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comfort Him in the sor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bore for my soul th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ангел от Бога нисх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, чтобы подкреп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рьбе Гефсиманской сур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олжен был я стра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ook my sins and my sorr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made them His very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bore the burden to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uffered, and died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ith the ransomed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face I at last shall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joy through the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ing of His lov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на небо пре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Христа уз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что Он грешников лю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 я гимн с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6-11-06T11:18:41Z</dcterms:modified>
  <cp:revision>11</cp:revision>
  <dc:subject>The Source, song number 243 in Russian</dc:subject>
  <dc:title>Всегда удивляться я должен / I Stand Amazed in the Presence (My Saviour’s Love)</dc:title>
</cp:coreProperties>
</file>