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7CF-7D46-4CB6-841B-DD0F5E01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345-3D5D-4B57-ABEC-323E34C6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DF5-6752-4385-AEE4-95416E9A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37A-A313-4EE7-8951-4A27A21D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70C-7FC0-4A2A-8F8A-4EB914B0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9D7-F967-4F34-8582-150EDB0A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3D6-1E62-4564-B767-1C6CF462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4A4-E08B-4FCE-BD09-21676EE5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B44-8996-4E1F-9ACE-5B1A3FA3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20A-6D09-447B-A2C3-48FF261C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D79-66EC-4D27-8E7C-E1E6A645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D27-7726-4035-B29C-857498D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4B9EB-9317-40B8-A717-04C0E60C8B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 в отчиз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ьно,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ит источник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зрачный, как стек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небесах, в отчиз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ажити чуд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лавный пир там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хор неб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дивный, чу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жизни тру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ится дух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источник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01Z</dcterms:modified>
  <cp:revision>12</cp:revision>
  <dc:subject>Slavic hymnal Гимны веры христиан, hymn 670</dc:subject>
  <dc:title>На небесах, в отчизне</dc:title>
</cp:coreProperties>
</file>