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2EAF-1115-431F-B2A7-AADE44833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308D-1A4B-450B-A566-0748EC37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0BBE-B323-4A23-9955-B75EB3880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FAA5-63FF-4E43-B0D8-5B12C5DC1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4F90-BC1A-46CA-8FB4-FEC3A890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1FC1-BDAE-4925-8A32-9BC012BE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A169-77ED-467F-978B-0DD26A308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F630-C6A6-47C0-B69D-72D4F6D2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1265-B69C-4B24-92C9-FB94E736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6E66-4F35-4AED-A172-CF22CB6C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19DA-A35D-4E3B-B22C-13B27DA3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2778-97D9-49D5-90C1-DFA19B48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9AC48F-A191-4881-9309-534E09530FB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thy, You are worth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 of kings, Lord of lor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worth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thy, You are worth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 of kings, Lord of lor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071   Worthy, You Are Wort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, You are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 of kings, Lord of lor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hol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, You are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 of kings, Lord of lor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You are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 of kings, Lord of lor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You are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 of kings, Lord of lor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31:45Z</dcterms:modified>
  <cp:revision>11</cp:revision>
  <dc:subject>The Source 2, song number 1071</dc:subject>
  <dc:title>Worthy, You Are Worthy</dc:title>
</cp:coreProperties>
</file>