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826-5B81-4A1D-AA08-81AE2143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D9E-318B-461F-AB3E-E30B2B3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1DA-F7A7-4882-A059-61A18F16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846-F0E8-4563-AD59-1B050577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487-6E0C-46A9-A1ED-75FF553A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65F-7939-4C3B-BD78-4C330A20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B33-D362-47C5-8DA4-BF8421C1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9C2-0D67-4D72-9436-44860BD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C5E-787A-4F49-8425-7E9F545C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BD2-09C8-4001-AB42-46951FD5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FE0-5533-4677-B79B-F67A95A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233-952A-4526-A96D-EC0585C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68705-B8DB-461D-98C7-F89AE340808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енилась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обрёл дивный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скал много л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чудесно вся жиз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лужданьям кон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— мне добрый От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мне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потребных мн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сту день за д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яд скорбей и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ый путь не затм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грозны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а видит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лав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ивная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ьёт горячим клю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од чудный вой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охну от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ликованьем в ду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ираюс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в сердце Христос вошё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7:57Z</dcterms:modified>
  <cp:revision>12</cp:revision>
  <dc:subject>Slavic hymnal Гимны веры христиан, hymn 577</dc:subject>
  <dc:title>Как чудесно вся жизнь изменилась моя</dc:title>
</cp:coreProperties>
</file>