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173-7C33-48D5-AE0F-047CC2BA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73E-1B3B-4EB1-ABD3-A553BE96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A2A-5367-443F-9A9C-D72288A2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46D-8683-4258-8DDE-9ECE010E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484-FCDF-4A6D-99DA-92F98387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ADE6-73D7-4834-BC23-6978E664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BE2-9D32-4C22-BD2E-5D3BFBD5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A11-58BD-454D-B670-AF773F78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B60-B810-407F-B1B1-BB6B71C2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6D2-183F-4BC2-A8D6-BD79CA29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5AC-7E0A-4C45-8462-32610205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E655-7061-403B-BAE9-FF78F2F9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BC5BC-3751-4827-8A7C-B02A96A8BD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кали молний стр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 землю потряс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ылся тьмой мир це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ужасе дрож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тихий голос не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ал над со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 сил мятеж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еркали молний стре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гне ли испыт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учами у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: постоя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ко расста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узьями иль семь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дал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ли скорбь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ткнусь ли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моя опор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жет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радостей не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покрыто ть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утешенье слы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на Голгоф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ан Его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источник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для всех жи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сто нам гот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десь мне сладко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1:47Z</dcterms:modified>
  <cp:revision>13</cp:revision>
  <dc:subject>Slavic hymnal Гимны веры христиан, hymn 633</dc:subject>
  <dc:title>Сверкали молний стрелы</dc:title>
</cp:coreProperties>
</file>