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F1C-5AA6-4898-9C70-24720FC9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FDF-1296-4A88-9C55-4BBD8256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D37-1E66-4C60-99D6-FDE2E3E5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9AB9-2C50-49BF-BEDF-63580E8B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5E2-F060-4D35-AA1A-1849B3AD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1E3-9822-4288-979E-240848AF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DCD-7F70-467F-9A2A-3A666823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E1A-FC2D-418D-A54A-3A8E7C87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7B9-9CF0-44D5-9E9D-713AAB42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C9B-D76C-4E2E-8AB0-8F5913E9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9C9-3430-49DA-AE5C-3F23F571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3DC-DD98-44C7-A2F8-23B3D3DC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F8656-CBE6-4F58-8709-A16F9F1920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cret, in the quie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tillness You ar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secret, in the quiet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it only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айном ме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йном месте, в тихом месте 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не и покое д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йном месте, в тих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я жду, только Теб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ышать голос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коснутьс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идеть Твоё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am reaching for the highest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I might receive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essing onward, pushing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ndrance aside, out of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гаю лучшего в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граду получить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аю всё,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шает мне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знать Тебя хо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слышать голос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коснуться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идеть Твоё лиц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знать Тебя, Господ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54:59Z</dcterms:modified>
  <cp:revision>11</cp:revision>
  <dc:subject>The Source, song number 233 in Russian</dc:subject>
  <dc:title>В тайном месте / In the Secret</dc:title>
</cp:coreProperties>
</file>