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D15-7CAC-4B8A-87CF-69868364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1EE-B8CF-4D82-A7F9-77473D03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360-992D-4B03-84DE-C2C4C327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466-17E8-46CC-ADF1-55BD667B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4AD-1BFF-4076-8824-65FE2427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2C0-25F6-4C5E-A111-4EFD6E4D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8A5-89B2-40D2-BCFB-7CEB0EE8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6CF-A374-4673-B7E1-31957B39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6B0-82E9-45C6-874E-2D732DBE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A68-80FF-4D55-B3BB-2CCFDA0A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8419-0EB0-4219-9105-0CB5798B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05C2-0808-49C1-93CF-DA3FE253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ABDFF-A492-485D-83B0-058040E692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t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love surround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s me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2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o Be In Your Pres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rest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rushing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herish each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would I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his is my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37Z</dcterms:modified>
  <cp:revision>10</cp:revision>
  <dc:subject>The Source, song number 524</dc:subject>
  <dc:title>To Be In Your Presence (My Desire)</dc:title>
</cp:coreProperties>
</file>