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F7F-3B20-4E6B-9C9E-F28D6478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778-6B5F-4CDB-9FB4-0DF20BC7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D08-D432-434B-9074-FCDD24FE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4B0-82FF-4B77-ADC2-9BFBB6BE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859-8F10-428A-BEA5-E77D16BB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F5C-E32B-4E13-B44D-B3ACABB9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D10-23D9-4C77-ABB1-0BC5A44B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EC7-D660-4A61-9341-EDBC7ABD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581-254B-4442-8FA4-9AB8EC7F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0D7-55A3-4BDA-98EF-B9638C57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16A-ADB4-49A3-9A14-27F9EAC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BFC-C3A0-493F-B105-498829FE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53FC5-2840-4216-B21A-E3AB79355412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7   Love Unfa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ve unfa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vertaking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take m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nding peace aga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ea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all You 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ive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ell Your st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use I know that You’ve called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know that You’ve called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’ve lost myself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Your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n’t hide 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n’t hi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I believe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ould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nds of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 alone are the Son of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e world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God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16Z</dcterms:modified>
  <cp:revision>12</cp:revision>
  <dc:subject>The Source 3, song number 1427</dc:subject>
  <dc:title>Love Unfailing (To the Ends of the Earth)</dc:title>
</cp:coreProperties>
</file>