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5E2B-392C-4996-9971-E78D2E09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A4E7-04B4-43F9-964B-75373D5D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3B1B-D476-4C0A-BA23-532BE598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2BEF-C45F-4C19-A7AF-EDBA684A4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2DC1-DBD2-4078-B18B-FE3F93B3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9641-34BE-4DE7-8EA8-11672993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ED6E-998D-4CD7-BDA1-257C7213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9FB0-196F-452F-B63D-193D6E86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2004-D830-449C-B3AD-338A815D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982E-045B-48A9-A00E-96C9A6AA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DBC5-A072-4BFD-AE94-D8E60C54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FF3C-4865-4648-B8FD-524B70AB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A6E35-0D04-492B-9837-E0B2D3778A5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ного звёзд на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ит в бесчисленных луч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лучше звёзд всех крас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ственной любв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ственной любв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ветлее всех све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много звёзд на небес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торжествуй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ифлеемская звез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в пути тв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тебя в Отцовски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тебя в Отцовск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ветлее всех све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с тех пор 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сех очей теперь вид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е лишь она од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у сердца просветить силь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у сердца просветить силь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ветлее всех све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морем, сушью ночью,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горит она ог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ьёт с небес свой кротки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утешенье в мире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утешенье в мире б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ветлее всех све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ведёт меня к Хри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возь жизни мрак и темн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 неё хочу взи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й лишь в жизни довер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й лишь в жизни довер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ветлее всех све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8:16Z</dcterms:modified>
  <cp:revision>13</cp:revision>
  <dc:subject>Slavic hymnal Гимны веры христиан, hymn 471</dc:subject>
  <dc:title>Как много звёзд на небесах</dc:title>
</cp:coreProperties>
</file>