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F4CD-C859-47B4-9C4E-7ED687CCA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9BF1-5239-448F-AD34-C8C3FB202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3B51-85CE-4AD1-A848-5FAE0DFBB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76A2-F1C4-4B4F-A98F-6E0C2BF65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823A-78DC-466B-BE46-439884B82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ACD4-82EA-418F-912D-0168CC49B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EC01-FB00-47C9-B8C3-3F2C19C90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0A68-3C0C-46C8-9CFC-45DAA7554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7C96-23A5-46B8-9785-889FE6D3F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E5A5-81C8-4A3E-90CA-406067CA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BDD1-D953-4AC7-9FE8-A346AAE1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3C88-4829-4C9F-8F18-C6C043AA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79EC62-4CD6-4772-AD2A-034BABADD8C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как рвётся ду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греха и оби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калу, что 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ым светом го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окутала мг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немог я в борь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, Ты — ск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укроюсь в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2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, как рвётся душ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в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в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, Ты — ск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укроюсь в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изнуряющий з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диночества 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ситель пред 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вит сети не раз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 раз, и не д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душою слабе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, Ты — ск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укроюсь в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в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в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, Ты — ск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укроюсь в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как часто тесн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естоким враг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лишь Богом одн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иву в мире 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ря жизни прош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це ярче блести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, Ты — ск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покой и мой щ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в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в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, Ты — ск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укроюсь в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11-28T02:15:38Z</dcterms:modified>
  <cp:revision>13</cp:revision>
  <dc:subject>Slavic hymnal Гимны веры христиан, hymn 626</dc:subject>
  <dc:title>О, как рвётся душа</dc:title>
</cp:coreProperties>
</file>