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6DC-9AE0-4354-8010-88088633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899-B45B-4A12-90FF-FC0C37C7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788-F95C-4086-BC47-C654CC02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685-3689-4598-A530-5C266C03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F06-BEFB-42D5-A711-C9F28FC9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0B8-35B8-4D06-A80B-355B2949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11C-2953-4915-8C82-F85F16E8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D6B-4E7D-437B-B18F-48D45408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E20-C910-4F5C-909D-0EA1EB86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36A-B8DE-4B3E-8286-58ABD866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56B-BA4C-46A3-A7F3-5DC8C1C9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3B3-9341-4F4A-BC86-BFBE3ECE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D018E-B27D-4D8B-8035-E6F2A892BA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сть созн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овности жизни тво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сть жела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ных и радостных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ув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оровая ясность у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на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ртвящая душу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кайся, пока есть сознан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яв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ая гостья с кос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не закры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няя дверь пред т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иначе прид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в ворота сту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расно твой стук пронесё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будет никто отвеч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пасенью Господня труб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аче тебе угро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в непрощённых судь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ведь время на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молкнет небесная в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т приглашать переста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хочет нас к небу возн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, пока ещё ж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е приглашенья любв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ь же на Божьи призы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йся и вечно жи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01Z</dcterms:modified>
  <cp:revision>12</cp:revision>
  <dc:subject>Slavic hymnal Гимны веры христиан, hymn 375</dc:subject>
  <dc:title>Покайся, пока есть сознанье</dc:title>
</cp:coreProperties>
</file>