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B1A-E4A4-4C35-B728-9F0FAF58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4A2-5172-4248-94C6-83C9C31A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3B39-3E30-45B7-BF7C-BB922742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C5D-9165-4515-BAFA-43B6C363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5CA-64B0-4878-9174-6A416B57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017-89AD-467E-8F5C-022CC98A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F49-49CE-4663-B068-5E5062D1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E06-EEE9-4247-B625-C19817C1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999-54C4-4A27-8D42-B09406F0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09E-7BB8-46CB-A084-912318AB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751-48BC-4EEE-A831-21D83051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88A-939A-4DF7-AA5C-24A0835F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5E666-7254-4F70-A842-3B8518BDD7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ift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my soul,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1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Тебя и пою хв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ю хва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 ду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ake joy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hat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it be a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weet sound in You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, мой Ца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уш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удет рад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песн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36:02Z</dcterms:modified>
  <cp:revision>11</cp:revision>
  <dc:subject>The Source, song number 214 in Russian</dc:subject>
  <dc:title>Люблю Тебя и пою хвалу / I Love You, Lord, and I Lift My Voice</dc:title>
</cp:coreProperties>
</file>