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787-36F4-4514-BFAF-8B38F426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18B-BC77-4563-8EA8-E45197D1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3EA-2957-4566-BD5F-EEBA2622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ABC-0BF3-4D47-9FC8-6716B99D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AB7-A91B-40E7-8917-D8DFAFA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FEA-5771-4281-96DA-7C91BC9F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6CC-0D39-48BB-9B35-A207D15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1A37-25C1-43E6-BE1D-D523E3C9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817-3DE4-4C84-9079-8F91F7C0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B12-CBFC-4818-B182-0AC7B07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C6D-D99B-401A-BA2D-7DF289AA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F49-6944-455D-A15A-7855F296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61D92-1CB3-4F0C-8D4D-1AC76AF398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время: я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Божие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л я: «Всё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о мной падёт ска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рудился, рвенья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дом, пахал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дом размыл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а плодов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ло время: я, лик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душой смущ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дей на помощь 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работе обновл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овет не помог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ый и уны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пал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еден я, во мне нет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я не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ня достигл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к тебе так близок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илой, к помощ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 Мне ты поза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возьми Меня за ру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, много силы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труд, рассеяв м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ершу рукой Свое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я зов 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ся за рук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пошёл на то же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сплод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о, чудо! Зреет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ос дом на бере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ел мой громкий гол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я с Господом м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17Z</dcterms:modified>
  <cp:revision>12</cp:revision>
  <dc:subject>Slavic hymnal Гимны веры христиан, hymn 434</dc:subject>
  <dc:title>Было время: я, ликуя</dc:title>
</cp:coreProperties>
</file>