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594C-423E-401A-8863-7C9C34C6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A5D-2554-46F4-94C5-75DE1438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BF6F-E483-4FEA-811C-F249796E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3511-D202-4743-B6B4-DAC0AF96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CCD4-581A-4D30-868F-9513340B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DCE2-343B-44E1-8B24-0273EC01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4254-CAB7-4726-A8E4-991D9A4D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2094-9718-4139-BC01-60F1B0E2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7EC6-29D9-4B46-972F-1EC50967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C66E-03B4-476E-A703-E216CEEB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5C5C-0F66-4656-A777-C18B0A94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F56B-09C6-4A84-B4C9-9862F898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73BF0-42BA-4A7C-8777-805F0986177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горнем ущельи укро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изнурённый труд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 Христовой омо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, истомлённый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у теснит иску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ов твой услышит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— всемогущий Хран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ы, истомлённый грех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ы, истомлённый грех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8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В горнем ущельи укрой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жной и щедрой рук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предлагает нам да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 твой польётся рек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рахи исчезнут, как п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ушай! Господь приз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лянь! уже ночь наступ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же тебя не пуск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м предлагает Свой да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всем предлагает Свой д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ной защитой Он 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емя твоё понес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икогда не забу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ёзы с очей Сам от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дит твои Он скит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удалит воздых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ч прекратит и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слёзы с очей Сам отр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слёзы с очей Сам от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й приди к Иису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изнывай под грех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был до смерти послуше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ь Его верным ра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ет твоё Он мол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тебе мир и пр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вую жизнь и спас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ы, истомлённый гре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ты, истомлённый грехо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2:28Z</dcterms:modified>
  <cp:revision>12</cp:revision>
  <dc:subject>Slavic hymnal Гимны веры христиан, hymn 348</dc:subject>
  <dc:title>В горнем ущельи укройся</dc:title>
</cp:coreProperties>
</file>