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90A-79AF-496B-B684-F2ABC21F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A9D9-4B96-4E21-8794-7924446A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D71D-8AFE-49B4-9D20-B498BC5A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E24-BB05-4849-85D4-2B9A1DE8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F2A-EB41-4F2F-83A3-EAC9071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80D-583C-4F05-AE26-C786650E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65C-9150-4335-9D5A-30D8FBE8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4BD-5C99-42CA-8FBC-9726AE1A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366-9CEF-418F-B7CA-CD5711D1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CF6-F808-4874-B639-C2A8020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7A8-D3D0-4142-B092-B3633811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32D-75B7-46CA-8BDB-49FB1C1B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241CE-833E-4EC4-807C-830AB38993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03Z</dcterms:modified>
  <cp:revision>12</cp:revision>
  <dc:subject>Slavic hymnal Гимны веры христиан, hymn 685</dc:subject>
  <dc:title>Мы у берега земного</dc:title>
</cp:coreProperties>
</file>