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86A-FE4C-4204-9D72-4F4A3FF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63E-CFFC-4171-8308-48800B0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DFD-C154-48D0-A76F-065706D0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2BA-081C-447A-9F2C-0D055352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53F-F27C-4B98-8027-A8AEBC6A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2E9D-718D-47C5-A039-8D9B75D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343-B15B-4D8E-9018-C6C7AC67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03C-56AA-4374-A906-9D992458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FFB-9990-42E7-8FDA-659955FD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59E-F0FC-49D9-8AB8-3FE6216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DB0-EA4C-47D1-B056-E933845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6C1-AC27-4DEB-ACD8-1B76E632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E466-F2DA-4D78-9F00-C9F8D31F0F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лышу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м весел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ваю в прост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 ров земного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ибнул, огля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звучит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слышу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я бездне утоп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мысли я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еня и там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диноким был, н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л со мной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ведёшь средь тем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 Тобою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уду я див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ух мой к жизни воскре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енник был, Ты не за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редь тяжких у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греха освоб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дал душе (в уд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о том молюсь (Тебе молюс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целый мир Тебе воспе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паситель мой,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02Z</dcterms:modified>
  <cp:revision>12</cp:revision>
  <dc:subject>Slavic hymnal Гимны веры христиан, hymn 608</dc:subject>
  <dc:title>Когда я слышу о Христе</dc:title>
</cp:coreProperties>
</file>