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612-A550-4F2E-B186-3E56CF44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773-E16A-45D7-92FE-F8681B92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03F-54EE-4E7D-84AB-83912139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25F-C3BD-4375-8897-722D9478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608-3655-43CB-AD73-1E48A9BC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AB0-A311-445A-A5FD-513CB491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0E2-EF53-4A76-AEAF-C9E86147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C27-769C-4853-9602-A492454B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BBE-3158-4D46-BACE-15E080D8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D0C-94F1-406F-BE06-B3656D09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CD4-FDB9-4AF3-BC61-A2926C6D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792A-A75F-456C-8CA8-62A96CD6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22A2C-514E-48EB-8FAD-531D7A528E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soldiers of the cr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high His royal ban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ust not suffer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мкните к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ины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днимит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vict’ry unto vict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army shall He 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ev’ry foe is vanqu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hrist is Lord ind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за поб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Бог войс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Христа ни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umpet call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th to the mighty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His glor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ас на б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е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ас об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that are men, now serv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gainst unnumbered fo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courage rise with d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ength to strength op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страшит вас би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ужий гул и г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за нас сраз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счисленным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in His strength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rm of flesh will f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dare not trust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л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репость и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рный Вождь с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t on the Gospe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piece put on with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duty calls, or d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never wan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ч Слова обнаж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обеждайте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бодрствуя в моли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стойте на ча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 up, stand up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trife will not be 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day, the noise of batt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ext, the victor’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кните к Иису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битвы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все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that overcom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crown of life shall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th the King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reign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енец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ер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ет, чтоб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им во слав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8Z</dcterms:modified>
  <cp:revision>13</cp:revision>
  <dc:subject>Slavic hymnal Гимны веры христиан, hymn 498</dc:subject>
  <dc:title>Stand Up, Stand Up for Jesus / Примкните к Иисусу</dc:title>
</cp:coreProperties>
</file>