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51BF-6EEA-4C45-ACC6-ECBE01F7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2A9-4787-437D-A6B8-E7EFB73C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FE1E-BE29-4AA1-8C79-8558CFA8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FE7D-EBA9-4714-807C-C1C1E77E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C1D8-7843-4223-A22C-CEBBDBA6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17B-A277-4AAF-9E2F-6BCABD31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021-2988-4AA1-9485-BC0C7A8A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88D-85C1-4039-98FD-F2A256B4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1A75-F76D-471F-89C6-E6506778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72A6-CDC9-4F95-86B4-18C66AA5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3023-8FE5-426E-B786-395E1594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81D-F18E-4694-BAB4-88BC110E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412A1-AD03-46B5-8BC6-97712D437B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ет, никто во всей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ы верных не ли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плоть боится цепи тле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усть тюрьма её страш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ысли, тьмой порабощё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Бог любви свободу 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цепи ей, освобождён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ныне мир не откова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нет, никто во вс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ет, никто во всей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чести нашей не лиш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кай с враждою откров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па позором нас клейм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имем знамя правды в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злобу обовь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есть не в славе быстрот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торжестве любви най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ет, никто во всей всел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охитит богатств у н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а алтарь борьбы свящ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нас возьмут в жестоки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ебро, и что имеем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овесть чистой сохра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айной счастья овладе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ю мир обогат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3:09Z</dcterms:modified>
  <cp:revision>12</cp:revision>
  <dc:subject>Slavic hymnal Гимны веры христиан, hymn 551</dc:subject>
  <dc:title>О, нет, никто во всей вселенной</dc:title>
</cp:coreProperties>
</file>