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100-CAAA-4CD9-AA3F-CC5EBC06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72D-47DD-41CD-8D74-22DE92D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C5D-AE7D-4BF5-8A4E-FC62F0DB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FDA-A84C-4147-AE30-F57DB321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7557-7DFE-4EF3-9712-C2619FB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12A-878D-4289-8C63-AD022AAF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B53-EB9A-438F-A171-F962888F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595-A1B3-49F1-811B-846A1BB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4F0-A4B1-4A7D-8396-8BF22E76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65D-8438-4527-BB89-FAB184A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C29-CA2E-4F3E-AC15-8CFB64F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F18-FDD2-4C50-8D4D-E24C9A4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BDF0A-9E92-4547-AC1D-BE60253816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Friend we have i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ur sins and griefs to be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a privilege to car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peace we often forfe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needless pain we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because we do not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thing to God in pr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ve we trials and tempt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here trouble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ould never be discourag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we find a friend so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ill all our sorrows sh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knows our every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we weak and heavy-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umbered with a load of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Saviour, still our refu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 thy friends despise, forsake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it to the Lord in pr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arms He’ll take and shield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wilt find a solac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5Z</dcterms:modified>
  <cp:revision>13</cp:revision>
  <dc:subject>Slavic hymnal Гимны веры христиан, hymn 594</dc:subject>
  <dc:title>What a Friend We Have in Jesus / Что за Друга мы имеем</dc:title>
</cp:coreProperties>
</file>