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D1B-B06A-4CF1-9189-B0D8E6E6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DC49-B442-4E3B-9B56-D4A2A425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005-BC29-46F7-8018-A0482A81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DD1-A3A6-4E62-80DF-EADA9BA7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FEB-4065-4F3E-93A7-B3E874B5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420-B726-4492-BDF3-EE043E7B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3D7-E59C-4698-A8DC-C940AD4D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2F0-4A16-42D1-AC2A-A5B639E7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0F5-EFC5-4A94-9CFA-C83DEB81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4D2-1F96-4B9F-8CA3-4D7E6C6D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6E3-2ACC-4C66-9B01-1B272EA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BEF-C2CB-42FB-8BAA-3115C0B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D319B-7BD5-43B9-BB67-8816E8EC46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love and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daily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at His feet I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ldly pleasures all forsa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Jesus, take me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, Saviour,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eel the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ly know that Thou ar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,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give myself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Thy love and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blessing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Thee, my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rrend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Jesus I surrend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feel the sacre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joy of full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, to His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2Z</dcterms:modified>
  <cp:revision>12</cp:revision>
  <dc:subject>Slavic hymnal Гимны веры христиан, hymn 547</dc:subject>
  <dc:title>All to Jesus I Surrender / Всё Иисусу отдаю я</dc:title>
</cp:coreProperties>
</file>