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339-DF11-49A0-ABE6-BD481F5E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760-4956-4989-A542-691F02D5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289-0A13-4AA6-AFE7-027D5297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EBB-86D0-423F-B518-1D85F3DC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69D-A970-4B60-B6A0-E356ADC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53B2-BDD3-4ECF-ABE4-62C98E7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BA7-3A6A-4522-BABD-AE4B1F69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8F6-5923-4ECB-8BDF-DD85303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141-117C-4A73-932C-CDD139F1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758-2442-4566-80D2-1F85893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5005-C304-4135-A664-5A46256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A68-5912-4F4E-9A0D-DD5583FA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19244-8E1B-4201-A7D7-F3607EAFE1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но птицы пол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ыстрей челн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летает вперё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цветок пол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утру расцве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ж к вечеру в з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ёлтел и зав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а жизнь коро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нам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ишь солнце з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ает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а жизнь, словно зву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удар мол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жданный исп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на коро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думае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 чём,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скоро умр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ороток твой 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оться же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а пои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отраду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19:51Z</dcterms:modified>
  <cp:revision>12</cp:revision>
  <dc:subject>Slavic hymnal Гимны веры христиан, hymn 737</dc:subject>
  <dc:title>Наша жизнь коротка</dc:title>
</cp:coreProperties>
</file>