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F18-9C08-4C03-AC80-68322DF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EC5-5680-4A65-B709-15ED4FB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F54-422C-429B-9759-1BCAFD4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06C-482A-4AAC-A18F-C0025E77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E0A-3FEE-4A48-AC29-FC49ACA5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85C-D38C-4737-A7AB-DB53FBFD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D3F-D6F8-4A3D-BFAF-422CCCDE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31A-F49D-4734-B57E-8E6FA9F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580-3523-4B4F-81B8-5A342B2E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9BD-75BC-4946-BF6A-76A8989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317-0140-46CE-B4DE-1D68EABD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D21-6BDB-4CBA-BD18-93B378E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BE192-52BC-45E7-966E-8A6AD9D226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ам даро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 Нему да придёт и п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источник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ду живую Иисус да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обещал Он на небе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а нетленные даст Он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ые ризы Иисус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, венцы приготовил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й и славный день Он вве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х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исус даст, что не пр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любящим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ут Дух и Невест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! Даром! Дар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, кто жаждет, пусть пр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ду живую пусть п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, даром ль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живой вот л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льётся для вас,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22Z</dcterms:modified>
  <cp:revision>12</cp:revision>
  <dc:subject>Slavic hymnal Гимны веры христиан, hymn 301</dc:subject>
  <dc:title>Воду живую Иисус даёт</dc:title>
</cp:coreProperties>
</file>