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86F-8E76-4DF4-99CD-D4FBC756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436-F3C5-45BE-9CA2-8991440F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E2F5-451D-44EC-AD2B-26AEDE8B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39B5-540D-49DF-96BD-3C42922D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C554-6730-4ACC-92CB-75562B5D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7A2-9C01-46FF-B7EA-45961775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2E1F-26B0-49A8-B50C-E809865C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629-2D35-4390-9974-1A223DE0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C535-3D78-4B3A-A10A-79D9EA0B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1E3-AC1F-4348-BF0D-62CBC63B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7FAA-53AB-49A7-8AEB-36F9AAB9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E481-0E15-4A76-B2DF-25A933E3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D9C21-DD5C-4BF5-B238-916A5832002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є Той Сам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й Самий, Той Сам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є Той Самий для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ощає, Він спас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естить Духом, ісці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є Той Самий для ме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5   Христос є Той Сам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1:29Z</dcterms:modified>
  <cp:revision>12</cp:revision>
  <dc:subject>Slavic hymnal Гимны веры христиан, Ukrainian hymn 65</dc:subject>
  <dc:title>Христос є Той Самий</dc:title>
</cp:coreProperties>
</file>