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D21-D7D5-4D55-8451-A3A2285B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F4D-D570-446D-A2D8-904F8604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3A4B-6AE6-49CD-A453-702DC741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273-2169-47E4-93A6-AF94EC4B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255-73EC-4F54-B9E9-FD0CFBD1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3DE-21CC-47E0-9857-6916C135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7D8-6811-4077-B64D-CCD061A8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55E-3613-42DA-A3C6-DAC3D0FE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650-5A80-438B-BFD5-AC7A48AA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B6A-EE05-4540-AA41-E4A21E1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D5D-E961-4B4D-878C-73EC5BA0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3E6-2D3F-45DC-AB40-58D21B5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0E111-85E5-4F48-ABB6-D7F94C5F48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ure as Jesus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is strength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fear, anxiety wi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th faith o’er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жи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т дал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ужасы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я и тос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Shepher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heep He leadeth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leasant pastures gui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aters fresh an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вблиз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готов 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от муки и ог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п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the sunlight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rkness me o’ersh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Jesus through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guard me with His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умрак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толпой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редь невидимых сет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Он мой по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f my faith should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nemy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o the Saviour’s heart I’ll f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ind a reme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пути св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данно поскольз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руди Христа тотчас склон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люся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unto Him I loo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urden to Him t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Jesus loves me tender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ill my comfor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мне скорб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в к стопам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тов всегда я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4:59Z</dcterms:modified>
  <cp:revision>13</cp:revision>
  <dc:subject>Slavic hymnal Гимны веры христиан, hymn 461</dc:subject>
  <dc:title>As Sure As Jesus Lives / Спаситель мой живёт!</dc:title>
</cp:coreProperties>
</file>