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783-8D7C-4D01-B2A1-4075ADBE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CA3-4583-41BB-AED3-F6287B5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ECF-5CAF-4EC2-93DB-843E39DB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A57-AAB2-47A5-84AB-DF17370C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398-B7A6-4EAF-BE76-F8F0A86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942-8D5A-4CE2-8BEA-A099CCB7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0BE-5F08-42FF-B718-49595D0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B8F-DDA4-4B05-994D-9DBC3302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3A3-9FB6-4694-91E8-B60A8DFC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AC2-BE3F-43B5-8487-358B6AE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B91-EF52-470B-9080-863F1B8F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7BE-8BF3-4414-84E9-26C8E3E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0EB98-FFA9-4E9C-88D1-6082FA6E44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38Z</dcterms:modified>
  <cp:revision>13</cp:revision>
  <dc:subject>Slavic hymnal Гимны веры христиан, hymn 892</dc:subject>
  <dc:title>Почти уверен</dc:title>
</cp:coreProperties>
</file>