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7750-C50E-4F62-B897-9258137C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FF1-C74A-463F-A0DA-E0F051F2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4AFB-7EAA-404C-BC6A-BF3C11D0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BE05-639E-45A6-B424-EC69D0DA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7649-70DA-46D7-87F6-CDFDFC93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1FB7-6294-4D2A-AB75-B85391DE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C11B-0010-4105-8279-62E10581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A2E8-5FE1-446C-B40C-1D05B813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0296-0C0D-4FB4-A263-589A4467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5575-44B9-42C8-A645-FC383C18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549-0DBC-448D-808E-485737E1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0D75-1EEC-4764-ADB7-FC52548A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9ACD0-E155-4F7D-9D4D-DB036799BE6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the mountains and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river runs with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open up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the Healer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happy to be in the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daily lift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 will always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r love cam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2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ver the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the mountains and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river runs with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open up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the Healer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happy to be in the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daily lift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 will always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r love cam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I feel like d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foolishness,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when the world has see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will dance with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we’re dancing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9:07Z</dcterms:modified>
  <cp:revision>9</cp:revision>
  <dc:subject>The Source, song number 421</dc:subject>
  <dc:title>Over the Mountains and the Sea (I Could Sing of Your Love For Ever)</dc:title>
</cp:coreProperties>
</file>