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DB2-1177-495B-85B4-E957983F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47B-10E8-4F17-AE9B-60566E8D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63C-0393-4FA2-89AA-88A2D73E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F83-ACED-4BC1-9001-7716DBD6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851-272D-46B1-82D5-7F88800A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2A6-7CE7-4A11-8995-AA10BE5F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BA6-3F8B-40A7-A617-A7C30056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9FE-CAC4-4D3A-BCB4-8B84331E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91D-502E-43C8-9859-E6E9F722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82E-98E4-48D6-A4C9-8D3BB097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BA3-DDC3-4DB1-9522-709F6265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CBD-6694-4F6F-AE08-89A29FCA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390BF-0443-4CBB-8603-5CD73A8A855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! внемли отрадной в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мер за тебя Христ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е грехи и наказ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Он Сам понё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ди наших сог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 Его на смерть обрё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с, мёртвых в преступлень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новьями Он нар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2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руг! внемли отрад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, чтоб нас изб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ства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 и нам своб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ога ты давно остав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ёл по собственным пут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 вечности не дум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едаваяся страс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будись от сна и смер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зови скорей Хр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мирит тебя Он с Б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ью, текшей со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, чтоб нас изб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ства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 и нам своб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тебя спасти жел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т рабства су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ишь, как раб Христа,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жешь быть свободен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отдай Ему жел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рдце, душу и любов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ь, что ты спасён нав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рез Его святую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пришёл, чтоб нас изб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 господства суе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вратить и нам свобо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пеши к Нему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! о, прид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 к Нему и 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3:54Z</dcterms:modified>
  <cp:revision>12</cp:revision>
  <dc:subject>Slavic hymnal Гимны веры христиан, hymn 342</dc:subject>
  <dc:title>Друг! внемли отрадной вести</dc:title>
</cp:coreProperties>
</file>