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E17-99CD-4352-A8FE-0233CE36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3D4-EB2B-4A98-B5EB-35EE7772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56A-F080-46BE-81DF-C6D10E42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1D7-3C51-4FCF-A365-F5669B44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398-A261-4884-83F2-0A2DECEA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FCB-C57F-4E59-9216-0B7EA93D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EC4-DDDD-4D7D-9E91-18CDEBCB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B4C-F5F7-400F-AFCB-D96EA922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040-4324-4AC7-9F94-99F36B2E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6BB-AB89-4E93-B556-76400B3F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E37-5388-47F7-A500-1AE0879F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92E-C6BC-4AF7-8EF0-1B5C3690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DDE3E-C344-4982-8C1F-52C3A71AD6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сно Свій маяк Отець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им світлом засвітив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же нам вогонь небес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берігати доруч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0  Ясно Свій маяк Отець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ті хвилі, гріх буш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душу затоп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орожній сам бід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треба посві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оправ, мій брате, ни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сердечний каганец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лянь! на хвилях вітри буй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’ють друзів з кінця в кінец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же світло наше с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інь ласки ближнім лл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иху пристань направ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окою всіх ве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3:13Z</dcterms:modified>
  <cp:revision>12</cp:revision>
  <dc:subject>Slavic hymnal Гимны веры христиан, Ukrainian hymn 70</dc:subject>
  <dc:title>Ясно Свій маяк Отець наш</dc:title>
</cp:coreProperties>
</file>