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5</a:t>
            </a:r>
            <a:r>
              <a:rPr b="1" lang="ru-RU" sz="3600" spc="-1" strike="noStrike">
                <a:solidFill>
                  <a:srgbClr val="ffffff"/>
                </a:solidFill>
                <a:latin typeface="Verdana"/>
              </a:rPr>
              <a:t>	</a:t>
            </a:r>
            <a:r>
              <a:rPr b="1" lang="ru-RU" sz="3600" spc="-1" strike="noStrike">
                <a:solidFill>
                  <a:srgbClr val="ffffff"/>
                </a:solidFill>
                <a:latin typeface="Verdana"/>
              </a:rPr>
              <a:t>Я отдыхать на ночь ложус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отдыхать на ночь ложу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тишине ноч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и я руки предаю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тело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будь Хранитель верный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ереги от з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телу сон, душ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мысль с Тобой была.</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я по Твоей суд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ом вечным здесь ус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дух мой Ты прими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бесную страну.</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3:22Z</dcterms:modified>
  <cp:revision>3</cp:revision>
  <dc:subject>Slavic hymnal Гимны веры христиан, hymn 225</dc:subject>
  <dc:title>Я отдыхать на ночь ложусь</dc:title>
</cp:coreProperties>
</file>