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C87-05DF-4FF7-BD23-2D1B8E26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AEB-4B8A-4BC8-80DC-BEFEDD37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C79-B180-40C5-9BAE-08084D6B5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06E-03A8-422B-844E-A55723A7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FF4-733D-41E6-A41B-E4E0B6BA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7B7-5F49-431B-8FCB-8C5E2B14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9DA-C30F-4063-AAF1-B7E30017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CDC-81F9-426B-8BB9-9ED6D5DE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045-AF12-411E-AD51-FE945388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BEC-64BF-4A24-986D-6988052B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389-D730-401A-BAD5-D509EC3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153-AF7D-4895-A057-FAF6D29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B877A-BB6C-435F-8B55-83C3232DD0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ngry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know You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empty, but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does not run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5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ungry, I Com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alling on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all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all t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liv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, I ru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arms are open w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weary, but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ouch restores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alling on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all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all t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living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24Z</dcterms:modified>
  <cp:revision>11</cp:revision>
  <dc:subject>The Source 2, song number 753</dc:subject>
  <dc:title>Hungry, I Come to You (Falling On My Knees)</dc:title>
</cp:coreProperties>
</file>