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4785-CBFC-4FAF-A080-6080A08E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E118-322D-419E-A541-753C36A2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2FD6-606D-4ACE-9143-0F4BC643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E346-AA2D-431A-9667-15EB2BBC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5E36-E150-40C0-964E-AFDEC043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2534-712A-48A2-BC5D-7D50B38F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4AE1-5F25-4E4D-9832-50FB43AC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A23-007B-4EAE-8ADA-95E8C7CC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24A-1796-46F1-826C-1A80256E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9BDF-E8D1-46FC-A872-D0529970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4DF-B0FB-4FF9-B52E-6A15824B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9A8C-EBF1-4712-82A8-AD861B7A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377EA-02F0-4ACF-90EE-C7259DDEAF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shore of Jordan’s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xpectation we a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by faith we see the shi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our new and promised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у берега зем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у берега зе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а бурною ре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н берег жизни н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вечной и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the sun in radiant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ws the new Jerusale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gs of praises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precious, priceless g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еске солнца виден пыш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ятой Иерусал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и радости там слыш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язык неизъяс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saints their race have fini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ossed the Jordan with a pray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, too, shall cross that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y soon we’ll all b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уж многие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шли к тем берег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ядут часы благ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мы все будем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des of death engulf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beyond its deathly thr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es the kingdom of the ble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end of all our w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мрак смерти над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за далью непо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вечного пок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женства свет нас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live in expe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moment, when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receive us into His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He promised in His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 верою жи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Вождя чрез Иор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ам Свое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ёт нас в Хана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07Z</dcterms:modified>
  <cp:revision>14</cp:revision>
  <dc:subject>Slavic hymnal Гимны веры христиан, hymn 685</dc:subject>
  <dc:title>On the Shores of Jordan’s River / Мы у берега земного</dc:title>
</cp:coreProperties>
</file>