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DA7-B5DF-482D-9A69-8E27242F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624-2166-4F58-8E64-359F820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C9E-8BAC-48B3-A151-27B7CCD2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258-5A57-454C-8954-1B355556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30A-B949-4DE8-9568-902A2BD8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575-95D5-45A6-BB44-4FA536F0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2FF-D556-44C6-8365-8776EF1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3CA-3A53-4572-B7AA-455B0FD2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B46-4B49-4D8A-A559-D6C6B537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901-C2EF-483F-842C-602827E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AD1-157B-4B62-A10A-E8D2A45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09E-97F1-48EB-972D-699545B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1938B-77A5-4DBE-B937-E761A214C6E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тьме и грехе погибает на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озаряет, как солнце с выс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о тьме и гре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лазна нет в том, кто и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дивный свет избавляет от б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ь ослеплён и во тьме не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 Он зовёт, слуш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в солнце нужды в див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аде свя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свете Его будет вечно све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вету приди! Дар Божий пр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Он мне дал, скажу пред люд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ьше был слеп, теперь вижу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ю: Христос — свет ми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27Z</dcterms:modified>
  <cp:revision>12</cp:revision>
  <dc:subject>Slavic hymnal Гимны веры христиан, hymn 386</dc:subject>
  <dc:title>Во тьме и грехе погибает народ</dc:title>
</cp:coreProperties>
</file>