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F84-4433-455B-885F-922D559A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B19-BF30-4C4B-8BA5-3D4919E1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6C8-60A4-4214-B002-8D1C6F74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17E-BFCB-4946-A1AC-98DBCF1E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9CA-8A72-45F4-A1FE-78A4AD8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B92-F78F-45CB-9BAE-F1387ABC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F9E-0A92-4F97-B94A-F41A6D95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BF4-C956-457F-88C5-5450481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241-4D7C-4831-A714-B37E7B4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E56-F16F-4719-93B2-F280C95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11B-24D3-40F2-8205-F1038A0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E2A-31D3-40C8-BA10-770FF38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E5D2C-1A73-45A9-8806-9A36F5B02A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в я Ісуса, життя я не 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ами обнятий, у тьмі я блук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, як почув я Господ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дрися, душа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9   Не знав я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втомлюсь в житті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є спокою й душі в світі ц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ж ось чую, ллються небесні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”, то ві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і довіривсь, тепер з Ним жи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смертній долині, без страху я й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н не залишить!”, слова чую зн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, Він любить! Бог наш 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в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гріхах я бл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Спас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любить”, я зн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до нас Він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40:00Z</dcterms:modified>
  <cp:revision>12</cp:revision>
  <dc:subject>Slavic hymnal Гимны веры христиан, Ukrainian hymn 49</dc:subject>
  <dc:title>Не знав я Ісуса, життя я не знав</dc:title>
</cp:coreProperties>
</file>