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695C-54E2-4089-B4AD-1D8816F63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5D16-1DE9-40F4-A930-D499B0894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3549-808E-4D5B-8AD2-CEFFEE603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EE8D-5710-402D-94C4-9CC1346EF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6656-EA41-4E9D-80E4-0FE4DC54A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31BF-B54B-4A85-B148-EA1A59373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7E85-F6E4-43ED-BDFA-22D208AF7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3DBA-F914-4FAE-B0A7-0D53E1DDA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DCA4-AB7F-4071-A53D-C1BBBB682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2E74-AA68-44C0-9994-50276257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22DE-5099-49DF-96DF-BB094CEB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77D0-022B-433E-8D80-4DBF4A68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9F31FE-7344-40CE-B52C-12F612FE2F1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neath the cross of Je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fain would take my sta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hadow of a mighty R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in a weary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1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близи креста Христ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близи креста Христ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всегда пребы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от Скалы высокой т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отдых от борьб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home within the wilder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rest upon the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the burning of the noontide 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burden of the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путнику надёжный 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щита от невзго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от страданий отдох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т земных заб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afe and happy shel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refuge tried and sw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rysting place where Heaven’s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eaven’s justice me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лабым ободр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гнаннику прию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милость Божья в мир сош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тменила су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o the holy patri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wondrous dream was gi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seems my Saviour’s cross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ladder up to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ог Иакова в нуж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ом чудным ободр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смертью Агнца на кр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ход в небо нам откры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pon the cross of Je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ine eyes at times can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very dying form of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suffered there for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 кресте Христо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зрел я в свете 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дальца, Верного Отц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умер за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from my stricken heart with tea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wo wonders I conf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onders of redeeming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y unworthi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ой прильнувши ко крес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глубже позн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ви Господней полно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устоту м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take, O cross, thy sha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y abiding pla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sk no other sunshine th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unshine of His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ени креста Христ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буду до конц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надо мне иных лучей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свет Его ли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ntent to let the world go b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know no gain nor l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sinful self, my only sh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glory all the c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покидаю, не скор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всё здесь нипоч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ыжусь лишь самого с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юсь Его кре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3:56Z</dcterms:modified>
  <cp:revision>13</cp:revision>
  <dc:subject>Slavic hymnal Гимны веры христиан, hymn 415</dc:subject>
  <dc:title>Beneath the Cross of Jesus / Вблизи креста Христова</dc:title>
</cp:coreProperties>
</file>