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63E-63B5-4C1E-AD3F-C2C02E6D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56A-EE89-41B8-80FB-D8963B52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6E6-B180-4B8B-8CEF-D7B75537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DD6-5180-4442-A38A-EC48DCC5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F49-C151-43A7-83DA-45BB42C6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944-7057-412D-9EAA-8CC38655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908-93FD-48F0-B6A6-C028F9E7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5D3B-53D0-4785-BC58-09AD081C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CEC-DD83-42A0-80EE-F1FDA1EB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64A-3864-4F49-85A3-CFAA6AF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089-FC75-4C8F-96CA-D209994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F7A-9145-4BCE-9565-23BD7A7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D077C-E57C-41EF-94E2-460987E14B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ecious blood I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might’st ransome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ened from the d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 за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Свою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астырь и покров,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твой давший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ave, I gave My life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giv’n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жизнь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-circled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for earthl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and’rings sad and 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ного лет пров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ях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чность ты об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частья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eft, I left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left aught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ость дал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uffered much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thy tongue can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bitt’rest ag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cue thee from h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род золо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дужны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, за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Я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borne, I’ve borne it all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orn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л всё тебе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воздал ты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ave brought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from My hom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ardon and M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х муках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зае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, I bring rich gift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st thou brough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,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ем ты Мне воз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же жизн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оды посв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Ему слу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0Z</dcterms:modified>
  <cp:revision>13</cp:revision>
  <dc:subject>Slavic hymnal Гимны веры христиан, hymn 427</dc:subject>
  <dc:title>I Gave My Life for Thee / Я умер за тебя</dc:title>
</cp:coreProperties>
</file>