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49F1-70AC-45B8-83E6-E40923FC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3EEB-565C-4343-9086-70755860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D34D-3E41-4CED-96F9-28CFC786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22DD-DC8A-4621-A068-2B85EE0F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408D-68DE-4143-AD89-413331D7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B900-0084-483C-A89F-AFA4B332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63A5-3C3A-43AC-A377-53AA838A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6877-6DF6-4125-929F-EDBE74DA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8B98-5D2E-4E81-BC09-21571C7E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0BC1-7A92-49B1-95B6-BE175630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EE1C-94BD-4BC7-AC38-D39926C9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C3D0-6975-4414-B145-45DE27C8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1C5D6-DAAE-43A3-AD6D-DCABBBABACE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appy day that fixed my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e, my Saviour and my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l may this glowing heart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its raptures all ab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5   О, дивний 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ивний день, чудов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паситель в перший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 мною в заповіт вступ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оєм серце наді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rest, my long divided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xed on this blissful centre,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have I found a nobler p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heavenly pleasures fill my bre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ивний день, коли пізн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ею я любо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серце Господа прийн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асливий став на все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зі мною Він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Сам мене 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зі мною Він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Сам мене 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appy bond that seals my v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m who merits all my lo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cheerful anthems fill His Hou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o that sacred shrine I m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ивний день, коли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айшов мене в долині сліз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Він Пастир добрий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Його, я вже не св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зі мною Він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Сам мене 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Tis done, the great transaction’s d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my Lord’s and He is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rew me and I followed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armed to confess the voice di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ивний день, коли в любв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руку простягнув ме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мніви серця розіг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валу я Господу від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зі мною Він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Сам мене 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7:20Z</dcterms:modified>
  <cp:revision>14</cp:revision>
  <dc:subject>Slavic hymnal Гимны веры христиан, Ukrainian hymn 15</dc:subject>
  <dc:title>O Happy Day, That Fixed My Choice / О, дивний день, чудовий час</dc:title>
</cp:coreProperties>
</file>