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C11-E68B-46EF-A3A3-051D81F1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FF6-8B5A-46D9-A1E7-8E6AA0FB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809-6BC2-49DB-A8E7-8B028C7B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44B-02D9-4B8B-9790-05E77ECF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DAA-FC22-4D2E-B22D-0E2B86CD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D47-BEE1-487B-A184-6F35AE30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91D-DD99-45F5-88D2-545E4C96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E2D-4BF1-44FB-94F5-19B6D195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1A8-5090-424B-86B5-CFE94BAA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B8C-F2CD-4F74-9B3C-16CE65C6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0AD-A960-42D5-A13E-F0048C20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121-6A88-497F-876B-70B8B813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EB937-CD29-4109-B641-669788A64D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учно на сердце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е вижу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пустеет пред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ркнет, и меркнет, и мерк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ркнет её крас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ясно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ле всё мёртво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ем пустыня гля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, когда я, когда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в союзе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учно на сердце по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— сокровище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 с Ним — дороже вс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ы со мною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ыло б, мне было б, мне было 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ыло б на сердце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л бы Он близок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с Ним ничего не жел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ый любовь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ё бы, я всё бы, я всё 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ё бы за сор поч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06Z</dcterms:modified>
  <cp:revision>13</cp:revision>
  <dc:subject>Slavic hymnal Гимны веры христиан, hymn 504</dc:subject>
  <dc:title>Как скучно на сердце порой</dc:title>
</cp:coreProperties>
</file>