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10B-CA0B-41FB-B1BA-D92DA87E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2D8-7710-419F-AE92-1E0936B0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A05-1809-4C15-928F-65537E62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09C9-D182-4C6E-A909-E87008BB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9BE-9964-440A-80FD-CC48846A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9A1-7BDE-463E-8112-1C16AC89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03B6-5566-4AC5-A187-3213F9EB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E185-157B-411E-9D74-39DC5416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391-828B-4DF8-B83F-31CCCCB9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66B-8EFC-4CA5-8F87-DE15E7A7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F0B-3801-4420-9E73-FFE7FA3C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6B89-4F32-46B0-91C7-0471531B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F6B8C-0CFA-4861-8476-D20F1DA39D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ба верная, радость пол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чёт рекой, дух ликует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жба ве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ок жизни путь, счастьем ды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Отчий дом вижу с каждым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юсь врага, безопасен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мир души нахожу в т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3:44Z</dcterms:modified>
  <cp:revision>12</cp:revision>
  <dc:subject>Slavic hymnal Гимны веры христиан, hymn 625</dc:subject>
  <dc:title>Дружба верная</dc:title>
</cp:coreProperties>
</file>