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01D-F4CC-45C7-9B67-B7DAD9A1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F2FF-79E5-4CF7-B890-4516346B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923D-B8EC-4F2F-B22B-2F802EA2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EEF-D8F3-41BF-8587-F77C3D5C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882E-0995-4782-949F-16DA2E46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9BC3-9CCF-4FEE-B6D6-17450D30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CC48-F33B-4475-B3A7-F4C5876D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AD97-2DC8-46F8-A715-42E75839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2623-2778-47AB-B301-B90C2768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3783-0E16-4931-B1BC-D580FA9F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A102-9DAD-47E3-A1B1-632BCC39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87A-2EAC-4ACC-AE23-15B6D24F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A656C-06A1-42EA-8A38-FB4B986FDE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your best to the Mas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the strength of your y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w your soul’s fresh, glowing ard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the battle fo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ё посвяти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ости сил не ща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живою согре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has set the exam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auntless was He, young and b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your loyal devo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the best that you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стал нам приме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ед тобой вперед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надежду и вер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Него п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your best to the Mas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the strength of your y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ad in salvation’s full arm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in the battle fo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ми вместе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и Госпо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всту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your best to the Mas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first place in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first place in your serv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secrate every 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войдёт в твою гр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т всезрящего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ся скрывать что-ни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, and to you will be gi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His beloved Son 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atefully seeking to serve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the best that you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уй собою в смир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на тернистом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святое служ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Него п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your best to the Mas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the strength of your y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ad in salvation’s full arm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in the battle fo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ми вместе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и Госпо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всту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your best to the Mas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ught else is worthy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gave Himself for your rans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ave up His glory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дл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ердце радость н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несчастных сходи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чных, небесных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id down His life without murm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from sin’s ruin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your heart’s ador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Him the best that you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Свою полож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бречённых спас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ум, желанья и силы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Него п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your best to the Mas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of the strength of your y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ad in salvation’s full arm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in the battle fo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ми вместе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и Госпо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всту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48Z</dcterms:modified>
  <cp:revision>13</cp:revision>
  <dc:subject>Slavic hymnal Гимны веры христиан, hymn 549</dc:subject>
  <dc:title>Give of Your Best to the Master / Всё посвяти Иисусу</dc:title>
</cp:coreProperties>
</file>