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370-1AF2-4E20-AC54-78430F82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CC9-0794-4FDA-AF8D-0714FBF4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2E4-1A76-423B-8837-D89858EB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F48-402D-45FF-86BA-9037BB0F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120-9143-4D94-8DDA-7C51850C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B63-E330-40AC-AA69-DA0A3AA8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D89-3943-42B8-B3A0-C52D5711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52D-83EE-4C9F-87F6-4C10E1FD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C39-3E89-45D1-BE02-9FD1768F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B32-D22B-474F-9F9C-9A8BF2F0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606-F4F8-4ADA-B9E7-9A198B21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8E8-5F71-4E15-B183-C22E73C5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9F87E-2FA0-4F96-B350-F5AF8E8F56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 вести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асён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е грехи мои Ты с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спасенье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умер для греха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л бы лиш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ерю вести 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я Твой,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спасён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похи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ам, Господь,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я сл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сила —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искупленный я р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оддержи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десь меня хран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покой дар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ведёшь меня с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край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 дай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всегда мне только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л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Ты жизнь прерв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уж зн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обитель Сам введёш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радость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32Z</dcterms:modified>
  <cp:revision>12</cp:revision>
  <dc:subject>Slavic hymnal Гимны веры христиан, hymn 627</dc:subject>
  <dc:title>Я верю вести той</dc:title>
</cp:coreProperties>
</file>