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98B5-09E9-4AC5-8C43-724BC0CD6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3BCB-21D0-4FA3-A791-81C9A1811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91C9-8534-4DC2-A9D1-42A360F79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4EC0-C8F7-488D-A340-465B663A7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CC0C-D21E-4EE2-827E-8E1C497E5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2AEB-7892-4E9E-9E5C-1D3775FAE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8E7B-1A10-41A4-94DF-A91FB0B89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BCC6-1531-414A-8748-C7E09308E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5D13-AED5-46BC-A366-C4F785A82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D4E5-8837-41DB-82E5-AC116C25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F3E2-852D-4532-A064-AA7C96AE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79CD-1798-4F03-8D2B-81E111D3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74DA3B-B563-49F0-83A5-E8A98DBA710A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ive for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ll that I 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all that I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heart beats with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each day I wak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think of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297   I Live For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why I sing, You are why I l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ev’rything of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place at Your f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why I love, You are why I g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ev’rything of me belongs 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thing of me belongs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ive for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You are my Go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tr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all I nee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My soul, it lo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more of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why I sing, You are why I l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ev’rything of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place at Your f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why I love, You are why I g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ev’rything of me belongs to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thing of me belongs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4T06:14:01Z</dcterms:modified>
  <cp:revision>12</cp:revision>
  <dc:subject>The Source 3, song number 1297</dc:subject>
  <dc:title>I Live For You (U.R.Y.)</dc:title>
</cp:coreProperties>
</file>