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5E7-7B15-4B70-9C00-E1A22B3E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9C3-D33F-4C1D-9352-1206C392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469-8566-4887-A0EA-FB7F81DE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E34-02DF-476F-B693-02F41CA3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B4D-A055-42A6-B544-F004353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7BB-725E-46BE-9138-B8D6AADF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41E-0A57-41EB-AD92-9A03ECF1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AE8-E33A-4B21-B3E0-BEE6377D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B72-DB2D-4163-8205-A8D2B1C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127-FB9A-4101-A5CC-64B5E93B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4FA-5526-4FDB-B5EB-F2F09F6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670-7094-4C0A-A329-8824D85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B5108-517C-4D97-AD7A-76AA9CCBAAD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рат мой страждущий, зай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 всё Христу отк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гони прочь страх людс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л тебе Спаситель т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5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для плачущих 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опаздывай в пу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дых у кре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скорей най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скорбь в твоей груд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о к Спасителю пр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окой душе най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Ег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еззаботные! ско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таньте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вам дал в любви Сво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згляните, как струё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ьётся там поток жи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ой и свя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чная любовь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х под сень кр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каждого най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есто 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свершились чуде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м открылись неб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умолкнула гроз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хо у крес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06Z</dcterms:modified>
  <cp:revision>12</cp:revision>
  <dc:subject>Slavic hymnal Гимны веры христиан, hymn 345</dc:subject>
  <dc:title>Есть для плачущих земли</dc:title>
</cp:coreProperties>
</file>