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5</a:t>
            </a:r>
            <a:r>
              <a:rPr b="1" lang="ru-RU" sz="3600" spc="-1" strike="noStrike">
                <a:solidFill>
                  <a:srgbClr val="ffffff"/>
                </a:solidFill>
                <a:latin typeface="Verdana"/>
              </a:rPr>
              <a:t>	</a:t>
            </a:r>
            <a:r>
              <a:rPr b="1" lang="ru-RU" sz="3600" spc="-1" strike="noStrike">
                <a:solidFill>
                  <a:srgbClr val="ffffff"/>
                </a:solidFill>
                <a:latin typeface="Verdana"/>
              </a:rPr>
              <a:t>Великий Бог</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O Lord, my God, when I in awesome wond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Consider all the worlds Thy hands have mad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 see the stars, I hear the rolling thund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y pow’r throughout the universe displayed.</a:t>
            </a:r>
            <a:endParaRPr b="0" lang="en-US" sz="28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ликий Бог! Когда на мир смотр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ё, что Ты создал рукой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ех существ, кого, Свой свет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итаешь Ты с любовию Отца;</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55"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6.</a:t>
            </a:r>
            <a:r>
              <a:rPr b="0" lang="en-AU" sz="2800" spc="-1" strike="noStrike">
                <a:solidFill>
                  <a:srgbClr val="ffff00"/>
                </a:solidFill>
                <a:latin typeface="Verdana"/>
              </a:rPr>
              <a:t>	</a:t>
            </a:r>
            <a:r>
              <a:rPr b="0" lang="en-AU" sz="2800" spc="-1" strike="noStrike">
                <a:solidFill>
                  <a:srgbClr val="ffff00"/>
                </a:solidFill>
                <a:latin typeface="Verdana"/>
              </a:rPr>
              <a:t>And when I think that Go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is Son not spar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ent Him to die, I scarce can take it 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at on the cross my burden gladly bear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e bled and died to take away my sin.</a:t>
            </a:r>
            <a:endParaRPr b="0" lang="en-US" sz="2800" spc="-1" strike="noStrike">
              <a:solidFill>
                <a:srgbClr val="000000"/>
              </a:solidFill>
              <a:latin typeface="Verdana"/>
            </a:endParaRPr>
          </a:p>
        </p:txBody>
      </p:sp>
      <p:sp>
        <p:nvSpPr>
          <p:cNvPr id="57"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огда я вижу лик Христа смир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людям в мире этом был раб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 кресте Он умер, Царь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м прощенье приобрёл крестом;</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59"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Когда соблазн мне сердце угн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мертной скорбью дух мой удруч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н в любви ко мне главу склон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жной лаской заглушает стон;</a:t>
            </a: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6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8.</a:t>
            </a:r>
            <a:r>
              <a:rPr b="0" lang="en-AU" sz="2800" spc="-1" strike="noStrike">
                <a:solidFill>
                  <a:srgbClr val="ffff00"/>
                </a:solidFill>
                <a:latin typeface="Verdana"/>
              </a:rPr>
              <a:t>	</a:t>
            </a:r>
            <a:r>
              <a:rPr b="0" lang="en-AU" sz="2800" spc="-1" strike="noStrike">
                <a:solidFill>
                  <a:srgbClr val="ffff00"/>
                </a:solidFill>
                <a:latin typeface="Verdana"/>
              </a:rPr>
              <a:t>When Christ shall com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with shout of acclam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ake me home, what joy shall fill my he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I shall bow in humble adoratio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there proclaim, “My Go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how great Thou art!”</a:t>
            </a:r>
            <a:endParaRPr b="0" lang="en-US" sz="2800" spc="-1" strike="noStrike">
              <a:solidFill>
                <a:srgbClr val="000000"/>
              </a:solidFill>
              <a:latin typeface="Verdana"/>
            </a:endParaRPr>
          </a:p>
        </p:txBody>
      </p:sp>
      <p:sp>
        <p:nvSpPr>
          <p:cNvPr id="6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Когда Господь меня Сам приз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тит луч сияни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мой дух в смирении смолк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нав величье Бога своего.</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66"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
        <p:nvSpPr>
          <p:cNvPr id="6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4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When through the wood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and forest glades I wand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hear the birds sing sweetly in the tre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hen I look dow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	</a:t>
            </a:r>
            <a:r>
              <a:rPr b="0" lang="en-AU" sz="2800" spc="-1" strike="noStrike">
                <a:solidFill>
                  <a:srgbClr val="ffff00"/>
                </a:solidFill>
                <a:latin typeface="Verdana"/>
              </a:rPr>
              <a:t>from lofty mountain grandeu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nd hear the brook and feel the gentle breeze.</a:t>
            </a:r>
            <a:endParaRPr b="0" lang="en-US" sz="2800" spc="-1" strike="noStrike">
              <a:solidFill>
                <a:srgbClr val="000000"/>
              </a:solidFill>
              <a:latin typeface="Verdana"/>
            </a:endParaRPr>
          </a:p>
        </p:txBody>
      </p:sp>
      <p:sp>
        <p:nvSpPr>
          <p:cNvPr id="4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смотрю я к неб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 звёздам млеч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дивно светлые миры тек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солнце и луна в эфире веч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океане корабли, плыву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46"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весной природа расцв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ышу в дальней роще солов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ромат долины грудь вдых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ух ласкает звонкий шум ручья;</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49"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из туч навислых гром нес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очи тёмной молния блест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над почвой тощей дож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проль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уга мой ясный взор плени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2800" spc="-1" strike="noStrike">
                <a:solidFill>
                  <a:srgbClr val="ffff00"/>
                </a:solidFill>
                <a:latin typeface="Verdana"/>
              </a:rPr>
              <a:t>Refrai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en sings my soul, my Saviour God,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How great Thou art! How great Thou art!</a:t>
            </a:r>
            <a:endParaRPr b="0" lang="en-US" sz="2800" spc="-1" strike="noStrike">
              <a:solidFill>
                <a:srgbClr val="000000"/>
              </a:solidFill>
              <a:latin typeface="Verdana"/>
            </a:endParaRPr>
          </a:p>
        </p:txBody>
      </p:sp>
      <p:sp>
        <p:nvSpPr>
          <p:cNvPr id="5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оёт мой дух, Господ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ы велик, как Ты велик!</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читаю я повествов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ге, о Его делах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людей — живое достоянь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озлюбил, и спас от бед земных;</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3:54Z</dcterms:modified>
  <cp:revision>3</cp:revision>
  <dc:subject>Slavic hymnal Гимны веры христиан, hymn 35</dc:subject>
  <dc:title>How Great Thou Art / Великий Бог</dc:title>
</cp:coreProperties>
</file>