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6EBF-176C-4EC3-997F-CD4A24418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9F83-4295-48DE-B6B5-BC440D9F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C43A-9FD0-4E38-82A9-FF33C9D75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5C77-1872-4050-9616-91A42C48D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46D0-78BC-4565-AB4C-8C8B2823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2B73-EA26-434D-A7E2-8AA9CED0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721A-85B7-4FF3-B494-6427ECEE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EE7F-8421-44A5-8A22-93F4942B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9D23-F226-419C-B73A-3A7B450B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B53C-FA76-4E11-BBB3-BEC5CC61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64A1-4FE0-46D5-AFCF-A97FD831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F493-FF81-44D3-9CF1-89C12EDF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1A0FC-241C-4098-8F2C-0237F9E50FE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m have I in heaven but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thing on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desire beside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eart and my str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ny times they fa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there is one tr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always will prev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29   Whom Have I In Heav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the strength of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the strength of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the strength of my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y portion for 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2:56Z</dcterms:modified>
  <cp:revision>12</cp:revision>
  <dc:subject>The Source 3, song number 1629</dc:subject>
  <dc:title>Whom Have I In Heaven But You? (God Is the Strength of My Heart)</dc:title>
</cp:coreProperties>
</file>