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6163-B0E6-4218-BA90-49C7C03B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D68-CB9E-4802-9744-3236117B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872-ED48-4BDC-97BE-855127F8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08A-3024-43DA-84AA-E0DA7285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0B9-F22A-4002-8888-1AECDCA9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FE42-92CD-40BD-9807-55509904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D14-4516-4276-AAF4-B28FC06B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772-4D10-4D1D-8485-C26BE1D0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B27-EE61-4644-8FF7-2B82598A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D128-33AC-4A1F-AA15-CE108AB6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450-56A4-43DB-851F-EEFC3A6F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14FD-C7C9-477E-8E16-BB5AF8C0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45BBF-D300-4780-A8B8-6B3DD2666C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алеко, за рікою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рег вічного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ідем туди з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1   Недалеко, за рік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ікою сонц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овий Єрусал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и радісні лун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и дивні, незем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же многії свят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той берег перей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дуть хвилини дорогії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кнуть нас, щоб ми і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ч холодна над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далі світ сі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й Христа ― то Край сп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з Христом нов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з вірою ми ж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ки прийде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н нас проводж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ерез річку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0:16Z</dcterms:modified>
  <cp:revision>12</cp:revision>
  <dc:subject>Slavic hymnal Гимны веры христиан, Ukrainian hymn 91</dc:subject>
  <dc:title>Недалеко, за рікою</dc:title>
</cp:coreProperties>
</file>