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21D-8180-4F99-B2EE-80ABA695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2F6-8B05-4544-BA17-875CAB68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0AC-1312-4FFF-B4A9-37456EB4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AA6-A4DE-4670-A2D6-DB5C92FE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76D-A726-490C-8D08-F5BCEC56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BBA-BF20-42FA-9A6C-DC327877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532-6545-4DFB-98A1-4AD10A8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2A1-DFDD-492D-9F97-6F4FA58C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087-9D62-4105-A6C9-6863B6E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0FFB-6876-4F0A-B99D-AB30781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4B1F-8AE3-4A55-8FDA-0E38358D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C4D-6366-4586-8556-75ABAF55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E668C-8831-4B8B-9CF2-C122DD35990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ладенца дал нам вечный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ын дан от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свято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раменах 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Бог крепкий и Творец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целый на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тник, вечности О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ый в род и ро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ладенца дал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чество Он укреп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ела мира 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Он правдой у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стол Свой и завет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09:26Z</dcterms:modified>
  <cp:revision>14</cp:revision>
  <dc:subject>Slavic hymnal Гимны веры христиан, hymn 235</dc:subject>
  <dc:title>Младенца дал нам вечный Бог</dc:title>
</cp:coreProperties>
</file>