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59E-9974-4FBF-AC8F-72AEC890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CF6-AC1C-4313-8291-7C2FFB3C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2BE-F765-46FE-91A0-069258CA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CFA1-2B97-4527-8FF4-F2101247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0D5-A281-494B-B594-32AB43A0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4DE-45A7-476F-BFC3-5ABF2926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FAF-0B2B-468A-B415-28AAE63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777B-C291-4467-A41A-88712D0D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9D7-A0B5-4B37-95C7-20323BE2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AB4-431B-41E7-B218-CE7ECC5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91F-6B10-428C-831F-19297E2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314-A69F-4181-BBB6-2DDD912B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4913A-EBC0-4B3D-8699-BEF936C053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ros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riump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You bought our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pa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ealing river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20   Through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ind up wounds within our h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concile husbands and w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 the fathers’ hearts to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eak down walls of iso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cue those who live in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lonely find love in Your fam’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let the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church rise up as on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the streams in one ac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ng and old will stand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ne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our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flow, let it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ious God, we cry 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healing ri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4:57Z</dcterms:modified>
  <cp:revision>11</cp:revision>
  <dc:subject>The Source 2, song number 1020</dc:subject>
  <dc:title>Through the Cross (Healing River)</dc:title>
</cp:coreProperties>
</file>