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CBD9-1F54-499B-B185-2661BF79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4DE9-AB56-4C35-8B36-881BAA26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C36D-B688-4707-A93B-E0A38E3A3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D75B-A818-4FA0-81B7-A517A2ECA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D759-C59D-4C97-BEC5-079F3AAE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375F-9268-405B-A132-E6B80213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A404-ED05-4DF7-BCC4-24AEDCD7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07BB-FDB1-482E-9E30-56BC341C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00DF-541C-4412-B4C3-2FA3A3C7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4BA4-A311-45CC-A929-3476D349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F166-CE6B-4630-B2A1-FE91A471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3E59-76A7-4C6A-85E3-0C3994F6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7964A-AB49-4BDD-BAB6-242D47AB9E5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imes of refresh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n Your presen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greater bl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being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ul is restor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mind is renew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no greater joy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 being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64   Times of Refres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0:31Z</dcterms:modified>
  <cp:revision>12</cp:revision>
  <dc:subject>The Source 3, song number 1564</dc:subject>
  <dc:title>Times of Refreshing</dc:title>
</cp:coreProperties>
</file>