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38D-6414-4CB8-A23A-CE6B256F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786-9C0F-47C4-8EEB-093FE3E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CC0-33C3-422D-8583-D6EFC093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BCD-D54E-4AE9-B602-C9EF3451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ADC-66FB-48E8-990B-2B088216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AF9-E0BA-47EA-A532-562C9B46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A36-B8FE-459E-B7D4-027A92D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501-89B4-4E3D-82A3-9022DF17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187-DD19-4B28-B80B-1ABEE90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57C-542D-4F9A-9FE3-6D73442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8E7-F15F-46C6-894E-2494DA4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B89-D9AE-4CDD-9EAD-F98BEBA7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E3B07-2471-4816-90AD-735AB36E2B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 благодать избер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ердца слова воз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ой Спасителя примешь иль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ую тьму изберёшь или с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изывает: о, дай же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риста благодать изберё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ечный суд угрожа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ок путь жизни и тесны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и ты в царствие внидешь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Он обрёл тебе кровью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оспода крест понес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вечная жизнь: ожи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скитаний твоих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увещанья Свои прекра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вери Иисус к нам не вечно стуч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ую цепь ты порв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жизни придёшь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ешь ли в двери отверстые н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рдце твоём Ему будет ли хр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ерть за тобою спешит по след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реш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5:47Z</dcterms:modified>
  <cp:revision>12</cp:revision>
  <dc:subject>Slavic hymnal Гимны веры христиан, hymn 398</dc:subject>
  <dc:title>Христа благодать изберёшь ли?</dc:title>
</cp:coreProperties>
</file>