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461F-9319-44B5-989D-0C830C9B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5964-2211-4765-80D4-6C98F9A1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FB5A-1756-45A9-8F1E-F527A4BD4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FFF4-2166-4B97-8869-CC9EEDDB0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9CE7-9B4B-4D49-8BD9-5FDB31A5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F185-8E52-4174-8413-D919C089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C8B0-2D6B-473C-8536-72BD7ED5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8F5E-2926-402B-B9FE-F88C7C9B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A9A0-E660-41DC-931E-3FB78F85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3C87-39AD-431C-92AB-3FEECBD2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8E68-5D73-44FA-81DB-E9AB3941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BB83-04EA-4A57-8D7A-8EAAF4FB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8F048-7DF2-4C74-BDB7-7AF4C91D33E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our Father in he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s of His love in the book He has giv’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things in the Bible I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the dearest: that Jesus lov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Слове Своём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ове Своём Христос уч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я знал, как Он любит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е святой много вижу чуд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ех отраднее эта мне в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me, Jesus lov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eve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assurance I find sweetest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in Jesus, I know I am bless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tan, dismayed, from my soul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th fl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just tell him that Jesus lov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кий покой в упованьи най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, кто к Господу с верой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 в сердце его станет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 любовь Иисуса твер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me, Jesus lov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eve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me, Jesus lov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eve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’ I forget Him and wander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He doth love me wherever I st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ack to His dear loving arms would I f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remember that Jesus lov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свела Его с чистых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несла Его за нас на крес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, что любит Спаситель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что также люблю Его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me, Jesus lov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eve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if there’s only one song I can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n His beauty I see the great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shall my song in eternity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hat a wonder that Jesus loves m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биваюсь я с Его пу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ырь мой ищет овечки С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огам Его я вернуться спе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любовь за любовь принош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me, Jesus lov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eve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me, and I know I love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brought Him down my poor so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redee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it was love made Him die on the t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I am certain that Jesus loves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Его стану я пребы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Его сатану отгон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який грех убежит о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спомню я: Христос люби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me, Jesus lov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so glad that Jesus lov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loves eve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one should ask of me, how can I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Jesus, I know very we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Holy Spirit with mine doth ag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stantly witnessing Jesus lov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песнь прекрасная в сердце м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ё спою я на небе свя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увижу во слав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вторю: как Он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52Z</dcterms:modified>
  <cp:revision>14</cp:revision>
  <dc:subject>Slavic hymnal Гимны веры христиан, hymn 601</dc:subject>
  <dc:title>Jesus Loves Even Me / В Слове Своём Христос учит меня</dc:title>
</cp:coreProperties>
</file>