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F13-C90B-4B55-BFBD-919DAEE7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EAE-2C1E-4A24-AB69-78443541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95B-C32A-4517-B384-495C0623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C42-9912-4093-809B-8AC81BFF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87C-83CA-4DA6-9462-37CF9BF0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B59-5577-465B-B2FD-C06A429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2CD-44A1-415E-A8B2-99E4FE99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DE1-195A-4C7B-AF02-46D8E99D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7BD-E3BB-4F77-8063-2F4518BA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DD0-86D7-40BA-AEF6-6B3560F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A92-46D7-4CD9-93C6-4A65A55E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1D2-CF4C-4065-9687-6170403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FE9B7-EFD0-4DEB-B841-7C4E1009BBA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Jesus, I love Thee; I know Thou art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e all the follies of sin I r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gracious Redeemer, my Saviour art Th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и знаю — Ты 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обою спасён я от жизни пус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чтоб избавить, отдал Ты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, because Thou hast first loved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urchased my pardon on Calvary’s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love Thee for wearing the thorns on Th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но Ты первый меня возлюб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мне на Голгофе спасенье куп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умер за грешных, безмерно люб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love Thee in life, I will love The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praise Thee as long as Thou len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breat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say when the death dew lies 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жизни и в смерти хочу я люб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коле живу Твоё имя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даже в час смерти твердить про себ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ansions of glory and endless deli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ever adore Thee in heaven so b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ing with the glittering crown on my br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f ever I loved Thee, My Jesus, ’tis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бителях славы, в небесном кр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венцом на челе, в свете вечного д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торженно в сонме спасённых спо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юблю, мой Спаситель, люблю я Т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6Z</dcterms:modified>
  <cp:revision>14</cp:revision>
  <dc:subject>Slavic hymnal Гимны веры христиан, hymn 648</dc:subject>
  <dc:title>My Jesus, I Love Thee / Люблю, мой Спаситель</dc:title>
</cp:coreProperties>
</file>