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79D-B17E-40A5-A8AC-04FC216A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FA7-A95B-4768-A887-8CEAFBE6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083-E9F8-4A5F-A54D-C45CA018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B2F-35E1-4839-812F-6F6E472D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499-B9B3-473E-89FF-CA587531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077-C6AF-45D7-8273-BB63470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16F-DA49-485F-8516-F87C70AF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CCD-B808-4AD2-A40D-B3B07F0A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510-3B24-45D7-9399-433D71E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6D1-DF4A-4593-9CAC-B4470EE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D91-27DD-41E7-BD2D-6F4158F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AF7-EFE8-479B-A609-E9CCDA8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CC0B-743A-470B-8FC1-E870468B23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, небо и 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орже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юдям, ангелы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весть благ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 и земл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 Вифлееме, там в Вифле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рич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ая Дева, чистая Д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дила С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е Слово, Вечно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иняло т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греховной, во тьме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засвет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хвы с востока, волхвы с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и смирну, ладан и смир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лато прин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и Богу, Христу и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поклоним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озгласим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родился, Бог воплот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ликуют, небо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внимают, стадо оставл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удо возвещ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21Z</dcterms:modified>
  <cp:revision>13</cp:revision>
  <dc:subject>Slavic hymnal Гимны веры христиан, hymn 238</dc:subject>
  <dc:title>Небо и земля ныне торжествуют</dc:title>
</cp:coreProperties>
</file>