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E70-12D8-4D07-B287-893ED435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7B3-D728-437C-816B-ECFFE289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E1A-C8D4-4995-B822-550E428B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F67-B3CD-40C5-BB60-4E045E54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97B-EA9F-496F-B786-24586010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A6B-D8D2-49F5-ACBA-1D1E8185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CE0-016E-4978-96D3-173E70B2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15E-0122-479A-81F6-2FC80F92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D99-8A42-4AC4-BFDB-9A40F072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F3B-16CC-49E2-8408-FF405A25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722-25EA-41DD-909E-9521CAA5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095E-C940-40B3-B713-D714A04F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5B18F-7EB9-4D7B-AE7A-D114C49524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, мир Он всем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с Богом прими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роды вознес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ангелами съеди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ли ради нас с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ей небо и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сти ангельской вн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Христа — наш дол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 — Предвеч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 концу веков рожд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речистой Девы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плоти Сам Бог яв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 взяв раба, смир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людьми благов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Эмману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ю мира всех при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правды Ты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ля нас принёс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целенью всех воск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, оставил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упразднил держа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, чтоб нас под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ожденье свыше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15:22Z</dcterms:modified>
  <cp:revision>15</cp:revision>
  <dc:subject>Slavic hymnal Гимны веры христиан, hymn 227</dc:subject>
  <dc:title>Вести ангельской внемли</dc:title>
</cp:coreProperties>
</file>