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C2B95-276A-4E53-869D-C5E92EECD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A3D3F-8D40-4A42-93AE-A9D925F1D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0CB36-3FAC-4174-9190-32E19DEE5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FEC5E-6C67-475C-9A20-A1D94A2A6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8D232-754C-4D4C-BDB0-AA2D855B5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0D203-3F53-4DEF-895E-2FF93B5EA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A8475-A9F8-4B6D-A6FB-88CC942F4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EAF37-4456-4D23-B8A9-0727D149C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DF92D-7508-4385-91FF-D83EDF095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8B1EA-7F10-4534-BD6A-3AABEEDD9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FD352-482A-4BAF-85DF-7C4CAE759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9A56D-36C3-4959-BF8D-DC7B4CFB0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434A15-356A-4C3D-82D0-B4F0296FE875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hat a wonderful ch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n my life has been wrought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ince Jesus came into my heart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 have light in my soul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for which long I have sought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ince Jesus came into my hear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77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Как чудесно вся жизн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Как чудесно вся жизнь изменилась мо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Когда в сердце Христос вошёл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Я обрёл дивный свет, что искал много лет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Когда в сердце Христос вошё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914400"/>
            <a:ext cx="9144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28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ince Jesus came into my heart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ince Jesus came into my heart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Floods of joy o’er my so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like the sea billows roll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ince Jesus came into my hear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57200" y="41148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Когда в сердце Христос вошё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Когда в сердце Христос вошё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Радость дивная в нём бьёт горячим ключом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Когда в сердце Христос вошё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28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ince Jesus came into my heart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ince Jesus came into my heart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Floods of joy o’er my so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like the sea billows roll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ince Jesus came into my hear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Когда в сердце Христос вошё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Когда в сердце Христос вошё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Радость дивная в нём бьёт горячим ключом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Когда в сердце Христос вошё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 have ceased from my wand’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nd going astray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ince Jesus came into my hear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nd my sins, which were many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re all washed away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ince Jesus came into my hear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сем блужданьям конец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Бог — мне добрый Отец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Когда в сердце Христос вошёл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се грехи мне простил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дал потребных мне сил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Когда в сердце Христос вошё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28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ince Jesus came into my heart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ince Jesus came into my heart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Floods of joy o’er my so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like the sea billows roll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ince Jesus came into my hear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Когда в сердце Христос вошё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Когда в сердце Христос вошё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Радость дивная в нём бьёт горячим ключом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Когда в сердце Христос вошё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’m possessed of a ho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at is steadfast and sur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ince Jesus came into my hear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nd no dark clouds of doub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now my pathway obscur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ince Jesus came into my hear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 упованьи живом я расту день за днём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Когда в сердце Христос вошё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Ряд скорбей и обид светлый путь не затмит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Когда в сердце Христос вошё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28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ince Jesus came into my heart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ince Jesus came into my heart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Floods of joy o’er my so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like the sea billows roll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ince Jesus came into my hear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Когда в сердце Христос вошё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Когда в сердце Христос вошё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Радость дивная в нём бьёт горячим ключом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Когда в сердце Христос вошё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ere’s a light in the val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of death now for m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ince Jesus came into my heart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nd the gates of the City beyond I can se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ince Jesus came into my heart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Не погаснет мой с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пред лицом грозных бед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Когда в сердце Христос вошё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ера видит всегда вечной славы врат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Когда в сердце Христос вошё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57200" y="914400"/>
            <a:ext cx="9144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28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ince Jesus came into my heart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ince Jesus came into my heart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Floods of joy o’er my so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like the sea billows roll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ince Jesus came into my hear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41148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Когда в сердце Христос вошё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Когда в сердце Христос вошё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Радость дивная в нём бьёт горячим ключом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Когда в сердце Христос вошё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457200" y="914400"/>
            <a:ext cx="9144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5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 shall go there to dwell in that City, I know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ince Jesus came into my hear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nd I’m happy, so happy, as onward I go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ince Jesus came into my hear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 город чудный войду, отдохну от невзгод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Когда в сердце Христос вошё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С ликованьем в душе простираюсь вперёд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Когда в сердце Христос вошё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47:42Z</dcterms:modified>
  <cp:revision>13</cp:revision>
  <dc:subject>Slavic hymnal Гимны веры христиан, hymn 577</dc:subject>
  <dc:title>Since Jesus Came Into My Heart / Как чудесно вся жизнь изменилась моя</dc:title>
</cp:coreProperties>
</file>