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4FBB-556D-4520-A762-677A2CF2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1EF-8A90-49DA-A9D6-6A75BEC0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6967-966A-4EE9-B8C8-C9A60038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132C-95C0-4B7E-AB0B-75DB9151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F8F8-19F1-4803-A3FB-BF49C0D6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1D69-0C54-4CE3-8EAE-66C3F0F5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16C7-D8CD-4197-9C0A-780C2421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D18F-B688-4D09-B95D-CF3287C3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DDDF-FD0C-4451-976B-FBC595F0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527D-DCAB-4498-9D4E-0865CBFB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C5AD-589B-43F1-9109-A986DB63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9682-8AC8-4826-9F61-77F8477A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7817F-43B6-4744-A4A9-F86C521D046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ух Святой влечёт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реховного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им радость без ко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равде соблю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ух Святой вселяет в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мерную любов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огонь во вся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л во тьме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шь Дух Святой влеч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ух Святой несёт да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аждем мы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новую везде тв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сердцам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Дух Святой помог позн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ю благода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мы ждём, при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вь и освя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19:43Z</dcterms:modified>
  <cp:revision>12</cp:revision>
  <dc:subject>Slavic hymnal Гимны веры христиан, hymn 313</dc:subject>
  <dc:title>Лишь Дух Святой влечёт сердца</dc:title>
</cp:coreProperties>
</file>