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63D6-4CF6-446D-8932-1484BF187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73F9-9824-4523-8689-680B4BDA9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5400-F675-4404-A449-F5F7BF3FE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410C-575E-4F4D-BD44-CC7C64EE9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FDBF-BEE4-4E47-985F-69FA6DE2F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EDDD-0C3D-4085-9559-23B1391CF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135D-5FE8-45C2-AE07-2DA528049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F2BE-E92F-4B6A-BECA-CC169CF76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C61D-945D-4946-9520-AB11D4072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7C60-19A3-4D44-B791-33660555D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F0A5-57DE-45C9-B46D-DC867535D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68F1-50A7-46DA-8844-A49BCB337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87521C-3F8A-419C-ABB2-11F7A8F0567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попирал любовь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л чадом тьмы, рабом страст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надо мной была звезда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литвы матери мо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у к Отцу, иду до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ную жизнь начать скор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знаю: всюду шли за м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литвы матери мо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7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Я попирал любовь Хрис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тране родной, в чужом кра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разных бед, от злых люд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стерегали жизнь м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литвы матери мо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у к Отцу, иду до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ную жизнь начать скор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знаю: всюду шли за м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литвы матери мо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изгнал из сердца тьм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мне стал всего мил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привлекли меня к Не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литвы матери мо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у к Отцу, иду до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ную жизнь начать скор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знаю: всюду шли за м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литвы матери мо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39:25Z</dcterms:modified>
  <cp:revision>12</cp:revision>
  <dc:subject>Slavic hymnal Гимны веры христиан, hymn 777</dc:subject>
  <dc:title>Я попирал любовь Христа</dc:title>
</cp:coreProperties>
</file>