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164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2436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28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164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2436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9280" y="395280"/>
            <a:ext cx="89982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539640" y="395280"/>
            <a:ext cx="899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1440000"/>
                <a:tab algn="l" pos="2160720"/>
                <a:tab algn="l" pos="287964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9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т наш Избавител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"/>
          <p:cNvSpPr/>
          <p:nvPr/>
        </p:nvSpPr>
        <p:spPr>
          <a:xfrm>
            <a:off x="539640" y="82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a Redeemer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God’s own Son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Lamb of God, Messiah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 On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"/>
          <p:cNvSpPr/>
          <p:nvPr/>
        </p:nvSpPr>
        <p:spPr>
          <a:xfrm>
            <a:off x="539640" y="406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наш Избавитель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ий Сын Христос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Божий, Он — Мессия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й Он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82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O our Father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giving us Your Son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eaving Your Spirit til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rk on earth is don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406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о Отец наш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Сына Твоего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уха Святого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послал Его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82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my Redeemer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ame above all names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cious Lamb of God, Messiah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for sinners slai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406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, мой Спаситель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е всех имён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Божий, Он — Месс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людей казнён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9640" y="82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O our Father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giving us Your Son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eaving Your Spirit til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rk on earth is don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406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о Отец наш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Сына Твоего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уха Святого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послал Его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9640" y="82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I stand in glory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ee His fac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re I’ll serve my King for ever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at Holy Plac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406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уду в неб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зрю Его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сем сердцем я прославл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моего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82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, O our Father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giving us Your Son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eaving Your Spirit til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rk on earth is don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4068720"/>
            <a:ext cx="89996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о Отец наш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Сына Твоего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уха Святого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0720"/>
                <a:tab algn="l" pos="1440000"/>
                <a:tab algn="l" pos="2160720"/>
                <a:tab algn="r" pos="864072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послал Его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>
            <a:off x="9144000" y="6624720"/>
            <a:ext cx="53964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9T06:27:26Z</dcterms:created>
  <dc:creator>John Zaitseff</dc:creator>
  <dc:description>Graham Kendrick (compiler), The Source, Kevin Mayhew: Buxhall, Suffolk, England, 1998.  ISBN 9781840031201.</dc:description>
  <dc:language>en-US</dc:language>
  <cp:lastModifiedBy>John Zaitseff</cp:lastModifiedBy>
  <dcterms:modified xsi:type="dcterms:W3CDTF">2024-11-15T02:53:38Z</dcterms:modified>
  <cp:revision>4</cp:revision>
  <dc:subject>The Source, song number 492 in Russian</dc:subject>
  <dc:title>Вот наш Избавитель / There is a Redeemer</dc:title>
</cp:coreProperties>
</file>