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570-25A4-4629-9D5F-6E6983A5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FAE-7BEA-4488-8287-E8ED4520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B3D-4EC7-4AD4-96BA-86C7381B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84F-4CAD-4754-B453-EBA7570B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C02-52A9-412D-93EA-75DEF50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A8E-6D2D-47AE-91AF-74975EF0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1DE-FDBA-44AA-B6CE-70C1ED1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968-64E1-4DDE-8A86-FEB0B8D7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A3D-4EBA-4C89-AAB6-8029489D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0E2-5132-476C-AD84-A94E230E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DB9-B19F-4882-B0BA-03DAC71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639-ACDD-4F6D-910D-33F0F090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D957-720B-4730-BA5E-F308BDC04EE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ранней з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полдневной жа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как ляжет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уж кончен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еется семя на ранней за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торной троп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на голой ска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в колючих куст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паханных борозд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страданий и сл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мучительных грёз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позора, гре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 обид 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ердце бол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семя, хоть слёзы блест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вере до славной п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обирать уж начнут сно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будем пожинать?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ветлый иль сумрачный 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ется в силе иль слабост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рана здесь или там в небес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ая жатва ждёт впер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4:36Z</dcterms:modified>
  <cp:revision>12</cp:revision>
  <dc:subject>Slavic hymnal Гимны веры христиан, hymn 539</dc:subject>
  <dc:title>Сеется семя на ранней заре</dc:title>
</cp:coreProperties>
</file>