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2677-28A3-4489-9464-D9A25E451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5667-1657-40F6-A5ED-AA23FABC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9BD4-9276-409F-8998-C4CA423F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AD2C-55D3-4EB1-8914-FA222AC0A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887B-3470-4DA4-ABC5-AE3A6B04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7B80-D730-47BC-A638-006E5CDC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75B2-1503-40D1-9184-99CA60C3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6DEE-FB76-44FE-BF84-032B2CCE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F498-1F63-46F3-8CA0-BF395AEF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7995-BFF4-42F2-BA20-E980C891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07E0-68B6-4468-941F-81E3B086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8B9F-BC98-44D3-8B8C-F79BD273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900A2-C6F0-4A6C-AF97-B7AAEC664CC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Агнец Божий,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едший с высо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ей мольбе вн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мненья уд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лость мне п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у Т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Агнец Божий, 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полноты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в сердце силу в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царствуй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умер Ты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дай нам, обрат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еть во всяк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ог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 пути зем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да и скорбь кру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гом цар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в утро обр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ыданья прекр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позволь сой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ути до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смерти лё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уёт и принес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ец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,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мне в Твоей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мой от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к С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2:22Z</dcterms:modified>
  <cp:revision>12</cp:revision>
  <dc:subject>Slavic hymnal Гимны веры христиан, hymn 829</dc:subject>
  <dc:title>О Агнец Божий, Ты</dc:title>
</cp:coreProperties>
</file>