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63F-F197-463D-9CFF-B82E5982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DDB-CC4F-404C-8BA7-79AEAE9C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E8D-2F0E-47AC-8E29-EA4B04BD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2C5-8B67-4D3B-A313-7AD90B78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524-5F10-4251-8DDC-5AC84EC5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4DB4-4D9A-40AC-A57B-C1A41D0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49F-0F5F-4407-9D55-724DF2A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885-2DCD-4780-AC53-5F107620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1E8-178A-4F73-BCEF-22AA3481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6B0-879A-498F-9FBD-F4B277B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5B0-FB5C-4411-9734-67A84703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D22-4AFC-4722-A69D-A3657F5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1C20B-7892-4DD4-A868-124F9E8CC0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 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 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41Z</dcterms:modified>
  <cp:revision>13</cp:revision>
  <dc:subject>Slavic hymnal Гимны веры христиан, hymn 718</dc:subject>
  <dc:title>Если в бурях жизни</dc:title>
</cp:coreProperties>
</file>