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915-53B4-43AB-A458-3273E0EF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07B-6CB7-4CEE-97D4-F882350A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EF9-1F10-40D6-8764-B979DC16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68F-BD3B-4EF0-90AB-291E5DE8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EA7-6DDB-4BF0-B507-39535636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012-7F5E-440D-AA6D-8BEB6815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A57-1A15-4855-BBCF-02B4048D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03D-EED2-4A7B-AABB-F7B95294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A17-1952-4BEB-89AF-E21471A6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728-A37C-4BE5-BD75-4FA563A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C4D-08FB-4EAD-8CE1-E00A1337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8AD-235C-4236-A240-4F8C8AD4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A03E4-E684-41E5-BFFE-6860FAD65C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, страдалец, чашу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й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а Господня в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й, страдалец, чашу г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, укрывшись от нар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овых н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гонит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я даст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ссилен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 хотел у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зор твой Он расши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овняе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дорогой то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, не спе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крест неси поко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оли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емны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 прибл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х пес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3:35Z</dcterms:modified>
  <cp:revision>12</cp:revision>
  <dc:subject>Slavic hymnal Гимны веры христиан, hymn 711</dc:subject>
  <dc:title>Пей, страдалец, чашу горя</dc:title>
</cp:coreProperties>
</file>