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240-5CC0-4E04-822D-21B78720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F5A-FEA1-4F4B-BB01-F130F1D6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78A-C74B-497E-ACC4-7CB10394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6641-2AAE-4040-91FC-9C98667B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C2F-9940-401C-A7B6-1CFAAB36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07A7-7788-40DA-993C-CCD287F9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CB4-B9C3-43DC-81C8-28640A59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3B2-F1B3-45D3-B402-F75737DA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C3F4-A717-49EA-B1FF-490E25E1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569-AAB7-4089-B7EB-68660549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36E5-1235-49AA-A0AD-E39B7840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FC87-DCB6-482C-9E00-0463BC49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7C866-B186-40F5-B937-FFD9027BAB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ghtest and best of the sons of the m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awn on our darkness and lend us Thine ai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r of the East, the horizon ad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uide where our infant Redeemer is l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рче и луч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рче и лучше, чем солнце Восто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жья звезда, нашу тьму разго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х нас к Младенцу веди издалё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етом небес озаряй наши д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ld on His cradle the dewdrops are shin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w lies His head with the beasts of the st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gels adore Him in slumber recli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ker and Monarch and Saviour of a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ихо на поле роса трепет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ирно Младенец на сене леж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истое небо в ту ночь ликова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и Создатель Спасителем ст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y, shall we yield Him, in costly devo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dours of Edom and offerings div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ems of the mountain and pearls of the oce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rrh from the forest, or gold from the m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чем нам явиться пред всеми Желан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ерлы морей, ароматы луг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олото гор, драгоценные кам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ирру деревьев, — Он примет ли внов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Vainly we offer each ample obl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Vainly with gifts would His favour secu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cher by far is the heart’s ador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earer to God are the prayers of the po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дны пред Ним богачей приношен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— обладатель сокровищ земн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ит Он видеть сердец сокруш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ит Он слышать молитвы прост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ightest and best of the sons of the m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awn on our darkness and lend us Thine ai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r of the East, the horizon ad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uide where our infant Redeemer is l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рче всех звёзд, что горят на Восто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жья звезда, перед нами све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ерез долины, холмы и пот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с в Вифлеем к Иисусу ве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0:30Z</dcterms:modified>
  <cp:revision>13</cp:revision>
  <dc:subject>Slavic hymnal Гимны веры христиан, hymn 245</dc:subject>
  <dc:title>Brightest and Best of the Sons of the Morning / Ярче и лучше, чем солнце Востока</dc:title>
</cp:coreProperties>
</file>