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7810-95CE-444E-ADC0-76B0DDE89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07B8-B568-4BA3-BBD4-EBE56E11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EF53-3DEE-4280-BF4A-B98F5CE08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969C-709C-40B8-AE53-83CD7B4AF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E22F-A6D7-4D69-9BF3-DC97FD43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7FF4-142B-4EB2-ABA7-41C99A4B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FBB9-3B7F-40E2-BEBC-784C2722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1A2E-539B-4A21-8AAF-A6F41D27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7408-1031-4420-A656-8277290B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06D9-BC85-40C8-86D2-F4CB4D09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459F-8AC6-4611-BD13-818C0E25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B347-380F-4053-8EE7-3ED6075F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2E2A1-12B3-4B46-94D9-0A750CAC9F5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rue-hearted, whole-hearted, faithful and loya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King of our lives, by Thy grace we will b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Under the standard exalted and roya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rong in Thy strength we will battle for Th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рными сердц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ми сердцем, покорными сло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Твоими нам хочется бы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вду Твою сделать жизни осн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Твоею врагов побе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l out the watchword! Silence it ne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ng of our spirits, rejoicing and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l out the watchword! Loyal fore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our lives, by Thy grace we will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щайте, не умолка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ликуйте в Господнем тру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ы, как дети, верны до смер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да будем всегда и вез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rue-hearted, whole-hearted! Fullest alleg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ielding henceforth to our glorious K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Valiant endeavour and loving obe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reely and joyously now would we b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ми сердцем, отдавшими см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имеем, Владыке влады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м трудиться, творить Твоё д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чтоб славить мог всякий язы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l out the watchword! Silence it ne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ng of our spirits, rejoicing and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l out the watchword! Loyal fore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our lives, by Thy grace we will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щайте, не умолка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ликуйте в Господнем тру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ы, как дети, верны до смер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да будем всегда и вез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rue-hearted, whole-hearted, S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ll-glorio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ake Thy great power and reign there alo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ver our wills and affections victoriou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reely surrendered and wholly Thine 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ми сердцем, смиренными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и, станем, когда Ты войдёш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с воцаришься, излечишь неду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удалишь, самолюбье и лож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l out the watchword! Silence it ne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ng of our spirits, rejoicing and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l out the watchword! Loyal fore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our lives, by Thy grace we will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щайте, не умолка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ликуйте в Господнем тру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ы, как дети, верны до смер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да будем всегда и вез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13:43Z</dcterms:modified>
  <cp:revision>12</cp:revision>
  <dc:subject>Slavic hymnal Гимны веры христиан, hymn 874</dc:subject>
  <dc:title>True-hearted, Whole-hearted / Верными сердцем, покорными слову</dc:title>
</cp:coreProperties>
</file>