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0B9-0165-4237-A125-196DA1C8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F1D-CF6E-4033-89F9-0EF6CA6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D9E-BE31-4CA2-B597-D1046DA0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C32-2977-47AB-A75F-E559F69C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0E9-9254-4450-AB7B-52B339A4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910-9ACB-4C14-9332-350DEA84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EF9-6E2E-4194-ADC9-C3AA84CE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B2D-1EBD-47C2-A787-41787E0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1F13-1317-4281-8CE0-5AC92170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ECF-C466-4895-B6D1-BCC45C8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4E1-067D-4F8E-BECD-1EAD91C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EA0-117D-4D27-887E-7A6DEFA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28E9A-C19E-45C0-A3D8-C170F3E896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open Bible for the worl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this our glorious motto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’ry breeze its flag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scatter blessings rich and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’er it goes its golden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eaming as from an unveiled s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issipate the cloud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do the work that sin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shows to men the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radiant with forgiv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lost of Adam’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s sweet mercy from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ffers rest to weary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omforts those who sit in tea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all who faint, it strength imp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lds with hope th’ eternal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t Word of God! send forth thy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every land and every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all who wander in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led to God and heaven by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56Z</dcterms:modified>
  <cp:revision>13</cp:revision>
  <dc:subject>Slavic hymnal Гимны веры христиан, hymn 563</dc:subject>
  <dc:title>An Open Bible for the World / Открытой Библией везде</dc:title>
</cp:coreProperties>
</file>