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18D-6068-4798-B3D7-E20B2AB9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57C-CE88-4F7C-BC45-CD01C797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E98-85D0-4F7B-B50E-190FA90A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7C8-0C20-49B2-93F2-7D61D6E5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B7D-C6E1-4890-9E1C-BDB4D8A5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ABB-8DA0-46F3-93DF-E5347EAC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301-91DA-403A-B1EE-6040563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5CE-F2FC-4590-B38C-06BE248E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BDF-1E17-4EA0-92B8-A46E1746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01A-4CE4-4F26-A2ED-5C06FD0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8B3-DEC8-4560-BE27-F5583959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9E5-2C1C-444F-8879-5166431D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913A8-6C8A-4D0F-84B6-24080E081C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thank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among the peop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praises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ong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y steadfast love is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great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faithfulness, Thy faith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clo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Give Thanks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God, above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, let Thy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y glory be over all the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48Z</dcterms:modified>
  <cp:revision>11</cp:revision>
  <dc:subject>The Source 2, song number 817</dc:subject>
  <dc:title>I Will Give Thanks to Thee (Be Exalted)</dc:title>
</cp:coreProperties>
</file>