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AD8-D96E-49EC-8E44-C01DBB85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832-A7AF-4C12-93AF-B2CF4ACB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288-80E1-4284-970A-E538A092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D81-2AA4-483F-A9D7-EAFD4C16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5E2-2E32-4ABB-B360-303895A1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0C4-5DD5-42E6-9B75-6C30237B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AC0-1B59-4487-9506-5515D10A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EE5-D82B-4731-8D15-200C6152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736-B545-4DCB-8DB5-891B63A3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7B8-4AD3-4340-816C-D77BAC52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356-9711-4E0B-B775-8256AB5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672-7843-45EC-AF1E-29FDAFDE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C146B-2FEC-4DFF-B576-A7D3A3B143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cleanses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gives me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Your blood that took my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redeeming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shes me whiter than th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Jesus, God’s precious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Your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0Z</dcterms:modified>
  <cp:revision>10</cp:revision>
  <dc:subject>The Source, song number 250</dc:subject>
  <dc:title>It’s Your Blood</dc:title>
</cp:coreProperties>
</file>