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268-06C9-4E58-8AAF-EABA427D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16F5-F144-47CE-A825-15FF4EDE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BC1-90C2-4630-A7A0-8ECE4BE7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69B-A5BB-4816-9F87-1BBCA89A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CFA-636A-40A1-AF7A-11E99D68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F43-C263-4795-AB6A-D7D527B0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218-E69A-41FC-B7E4-02F7C0CC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E55-E698-4C62-9717-F6523F61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BD92-F73B-4B28-B471-82CD4DF1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563-AEC9-48F2-A8A7-822B31A2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885-4126-4B1F-922E-48AC5B80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86B9-82E3-4031-9F27-85F23B46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5D84C-CE45-43F5-AFD2-214EC17C91C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you believe what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s done in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you believe what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s done in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ved me, cleans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urned my life arou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t my feet upon the solid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you believe what the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s done in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55   Can You Belie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9:53Z</dcterms:modified>
  <cp:revision>12</cp:revision>
  <dc:subject>The Source 4, song number 1755</dc:subject>
  <dc:title>Can You Believe</dc:title>
</cp:coreProperties>
</file>