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86</a:t>
            </a:r>
            <a:r>
              <a:rPr b="1" lang="ru-RU" sz="3600" spc="-1" strike="noStrike">
                <a:solidFill>
                  <a:srgbClr val="ffffff"/>
                </a:solidFill>
                <a:latin typeface="Verdana"/>
              </a:rPr>
              <a:t>	</a:t>
            </a:r>
            <a:r>
              <a:rPr b="1" lang="ru-RU" sz="3600" spc="-1" strike="noStrike">
                <a:solidFill>
                  <a:srgbClr val="ffffff"/>
                </a:solidFill>
                <a:latin typeface="Verdana"/>
              </a:rPr>
              <a:t>Воины Христовы</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nward, Christian soldier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rching as to wa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 cross of Jes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ing on befor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ло в жаркий б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Христа го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ртвовать собой.</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Onward then, ye peopl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oin our happy thro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nd with ours your voice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e triumph song.</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Люди, поспеши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армию Христ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у посвятит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и уста.</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laud and honou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to Christ the K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s through countless age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en and angels sing.</a:t>
            </a:r>
            <a:endParaRPr b="0" lang="en-US" sz="3200" spc="-1" strike="noStrike">
              <a:solidFill>
                <a:srgbClr val="000000"/>
              </a:solidFill>
              <a:latin typeface="Verdana"/>
            </a:endParaRPr>
          </a:p>
        </p:txBody>
      </p:sp>
      <p:sp>
        <p:nvSpPr>
          <p:cNvPr id="6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ен и чуде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Иисуса тру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ы и люд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сть Ему поют.</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6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ward, Christian soldier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rching as to wa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 cross of Jes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ing on before!</a:t>
            </a:r>
            <a:endParaRPr b="0" lang="en-US" sz="3200" spc="-1" strike="noStrike">
              <a:solidFill>
                <a:srgbClr val="000000"/>
              </a:solidFill>
              <a:latin typeface="Verdana"/>
            </a:endParaRPr>
          </a:p>
        </p:txBody>
      </p:sp>
      <p:sp>
        <p:nvSpPr>
          <p:cNvPr id="6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впер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Его покр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обеда ждёт.</a:t>
            </a:r>
            <a:endParaRPr b="0" lang="en-US" sz="3200" spc="-1" strike="noStrike">
              <a:solidFill>
                <a:srgbClr val="000000"/>
              </a:solidFill>
              <a:latin typeface="Verdana"/>
            </a:endParaRPr>
          </a:p>
        </p:txBody>
      </p:sp>
      <p:sp>
        <p:nvSpPr>
          <p:cNvPr id="6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rist, the royal Maste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ads against the fo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ward into battl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e His banners go!</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ждь небесный с нам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мы побед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ьётся наше знам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жно вслед за Ни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ward, Christian soldier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rching as to wa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 cross of Jes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ing on befor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впер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Его покр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обеда жд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Like a mighty arm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oves the church of Go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others, we are tread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the saints have trod.</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полки отборны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ерковь Бога си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ступает стройн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Он чудно сли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are not divide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one body w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e in hope and doctrin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e in charity.</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Он повеле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едино в Н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ре и в учень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ужестве свято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ward, Christian soldier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rching as to wa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 cross of Jes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ing on befor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впер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Его покр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обеда ждёт.</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Crowns and thrones may perish,</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Kingdoms rise and wan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the church of Jes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nstant will remain.</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роны и корон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ют, словно л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Христова церков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переживёт.</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ates of hell can neve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Gainst that church prevail;</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 have Christ’s own promis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that cannot fail.</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д не превозможе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ранных Христ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но слово Бож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ен Он во всём.</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ward, Christian soldier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rching as to war,</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 cross of Jesus</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ing on before!</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ины Христовы,</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но вперёд!</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Его покров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обеда ждёт.</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5T02:47:34Z</dcterms:modified>
  <cp:revision>4</cp:revision>
  <dc:subject>Slavic hymnal Гимны веры христиан, hymn 486</dc:subject>
  <dc:title>Onward, Christian Soldiers / Воины Христовы</dc:title>
</cp:coreProperties>
</file>