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96F6-AC53-47F9-8936-E3551764D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248D-18F9-4252-8609-6C6E0376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B381-2654-4E71-9FF0-CF2C02A6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B8B4-9D70-47D0-8DC8-88FE2E8B6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C4D7-329E-4767-A2D9-F7C56D71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644E-5E70-4DDD-AF1B-7B3FCC28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B586-56B4-4954-876D-0E145AC9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CC0C-4C57-445D-9BB4-29E931DD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9922-44FA-41F4-B78F-03FF9293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B5D6-519C-4D8D-9890-1E020F6E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AB94-DDE9-4278-BCE9-FEA3E6E4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6AE6-4DDA-4F40-8657-19E7D641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6FDEE-43BD-4A56-BDF1-B1978933149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de me now under Your w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ver me within Your mighty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 oceans rise and thunders ro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oar with You above the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ther, You are King over the flo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be still and know You are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54   Hide Me 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nd rest, my soul, in Christ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w His power in quietness and tr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 oceans rise and thunders ro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oar with You above the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ther, You are King over the flo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be still and know You are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5:00Z</dcterms:modified>
  <cp:revision>12</cp:revision>
  <dc:subject>The Source 3, song number 1254</dc:subject>
  <dc:title>Hide Me Now (Still)</dc:title>
</cp:coreProperties>
</file>