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ED8-1E4F-4822-A81F-5D8CC442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78F-3526-4544-8A09-57ADFD6B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3BE-8593-4FF6-97A8-81A28E14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3BC-A386-4886-8F8C-8F217362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18E-ECDC-482B-8AE9-C9A5E124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5F6-9D54-4DF2-9EE8-1D0A35A4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FE0-EF66-42B9-A2E0-7DD56793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704-DD76-45BF-97E5-2AE61AAA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4A7-231A-475B-97E4-ACD3AE2F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F95-2524-4D9F-A0CF-0D02560C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1E7-1273-47BE-AA3E-515FC58A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FA7-318C-4CAC-9D1D-7B882775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FDB6F-D6BE-405D-843E-6BEAFF78204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, wayward sin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Him, He call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the source of every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will grant an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9  О, приди заблудший греш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заблудший греш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исус тебя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всяких благ спосп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у Он прол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ho long for inner clean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pray and His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r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 and re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our sins and all your bur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foot of the cross now le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hrist Who died on Cal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forgiveness now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ть, грех, сложи всё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одножия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дёт благ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, друг, от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ho long for inner clean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pray and His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r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 and re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the light has shone for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ir sins to the cross have b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rich and for the ne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salvation Christ has w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сияет уж для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кто грех слож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богатых и уб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пасенье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ho long for inner clean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pray and His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r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Jesus and re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3:05Z</dcterms:modified>
  <cp:revision>16</cp:revision>
  <dc:subject>Slavic hymnal Гимны веры христиан, hymn 369</dc:subject>
  <dc:title>Come to Jesus, Wayward Sinner / О, приди заблудший грешник</dc:title>
</cp:coreProperties>
</file>