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806C-8C14-460A-93F6-0F6BBB65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5A1D-E403-4FA7-9AAE-689E07BC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05E-5EF8-49E7-B2E8-A1D9E29A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2988-A9B3-4B77-AF2B-BA4EDFCB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6889-6640-40A6-B17F-D61BB806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81DD-EA5E-4978-B548-9AFD9114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4438-553A-4CF7-A202-5F49E3E8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F173-B737-4DFB-8483-CBC1F239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C685-33FF-4DF7-B5F4-F217B62B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5447-28F2-4818-BC0D-1CEAD365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18D5-6F7D-485C-B89D-D537C126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C9D0-3848-4914-A009-8B97D9AC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9F018-A7B0-4347-83F6-597F3EA8EED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ord has garments so wondrous f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rrh their texture fill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fragrance reached to this heart of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joy my being thr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итон бесшов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итон бесшовный Господь но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ирны аром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ой одежды меня пле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идти я р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t of the ivory pala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a world of w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His great, eternal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my Saviour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из чертога небе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нужды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к греш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life had also its sorrows s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loes had a p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I think of the cross He b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eyes with tear-drops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зведал страданий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ак алой горе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умер за Свой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лучший дать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t of the ivory pala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a world of w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His great, eternal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my Saviour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из чертога небе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нужды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к греш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garments too were in cassia dipp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ling in a touc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ch time my feet in some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slipp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ook me from its clu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одежд запах ка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ходится кру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ех болезней и слаб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альзам целебный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t of the ivory pala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a world of w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His great, eternal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my Saviour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из чертога небе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нужды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к греш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garments glorious He will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open wide the doo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enter my heav’nl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dwell for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ежде славной Господь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ем лишь 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Он Своих возьм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м с Ним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t of the ivory pala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a world of w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His great, eternal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de my Saviour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из чертога небе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нужды и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к греш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9:53Z</dcterms:modified>
  <cp:revision>12</cp:revision>
  <dc:subject>Slavic hymnal Гимны веры христиан, hymn 837</dc:subject>
  <dc:title>Ivory Palaces / Хитон бесшовный</dc:title>
</cp:coreProperties>
</file>