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98F6-C3DA-4FF8-9BE1-0AD7E248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6F3-96D0-4147-A6A6-5329656C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BC1-F3A2-4A75-8879-B573AF72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4CE-F537-4279-8AA2-8DC3D614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7B7-1639-4D1A-A360-790D22E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0E6-034B-4E70-A1B7-CEC56FDD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E6F-167B-4B13-9AE5-C13A4CD8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F19-C7EB-4341-A9A1-BD634D54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D8F-EC70-4B3E-AF46-F341E350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406-F1C6-4AE2-B872-0D87749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108-7A07-4A49-B24E-3871490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32A-2B14-42CC-BF1F-CB3DB457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81637-AE3E-4734-9BE9-2A9BD49F6A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ветлое око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уже с этого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ертвовал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желанье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мной данный об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, заключить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вой новый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и! видит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верши над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смерти для все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жизни воскресшей,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данной Тобой чист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членом был церк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амой кончины я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 верными свято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Вспоминанье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могуч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ты меня, о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я с радостью 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по долине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делай мен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рным в служеньи ра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не заснул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анным Тобою тр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24Z</dcterms:modified>
  <cp:revision>12</cp:revision>
  <dc:subject>Slavic hymnal Гимны веры христиан, hymn 475</dc:subject>
  <dc:title>О Господи! видит меня</dc:title>
</cp:coreProperties>
</file>