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8BE-1CC7-41E9-B471-AC9C4E59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EA9-55FB-4998-9BBD-E45364B1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D0FA-5F06-4C12-9981-63BD6CB3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06F-FEE9-41A0-A740-2FC2F451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62A-508A-4DCF-AAFC-55A65A9E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9F5-1992-4ABC-B0E4-0E53FA2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9FA-74EB-4E21-92CF-F956BAFF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8CF-4D5D-450D-A2C5-49C15293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850-D114-4CC2-B814-36923BF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38E-0F0B-4520-9256-3F02216E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C31-126C-45AB-8201-C970A46F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B8C-0AAC-43DC-8000-14F370B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D58AB-2182-4DD0-8577-0C565205DC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ere ninety and nine that safely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elter of the f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was out on the hill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off from the gates of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вяносто девять ов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вяносто девять овец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Пастырем в свой заг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на блуждает от них в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грозит ей со всех сто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ngels echoed around the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for the Lord brings back His ow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ангелы радостный гимн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Ликуйте, Господь отыскал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Господь отыскал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on the mountains wild and b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y from the tender Shepherd’s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нуть бедной придётся в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могучих и нежных р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ou hast here Thy ninety and n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y not enough fo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e Shepherd made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f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wandered away from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вяносто девять овечек зд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очно ль их Теб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 Пастыря сердце для каждой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оих не покинет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though the road be 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o to the desert to find My sheep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б ни встретил Я на Своё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овечку Мою найт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ne of the ransomed ever k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were the waters cro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dark was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passed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He found His sheep that was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пасённых никто не видал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 где Он овцу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 тьме ходил, как Он звал 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щельям и выступам ск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in the desert He heard its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 and helpless, and ready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ека услышал Он слабый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бедной на помощь явился в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ose blood d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rk out the mountain’s tra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ere shed for one who had 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hepherd could bring him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чему, Господь, на Твоём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мы свежей крови след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лилась Моя кровь, чтоб овцу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ликих страданий и б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hence are Thy hands so 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pierced tonight by many a th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 раны зачем на руках Твоих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нак верный, что Я возлюбил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 верный, что Я возлюбил Мои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all thro’ the mountains, thunder r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up from the rocky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ose a glad cry to the 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I have found my sheep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сподней любви вознесли хва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гоне был каждый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вук пенья дошёл до небесных в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обрый Пастырь нашёл овц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15Z</dcterms:modified>
  <cp:revision>13</cp:revision>
  <dc:subject>Slavic hymnal Гимны веры христиан, hymn 841</dc:subject>
  <dc:title>The Ninety and Nine / Девяносто девять овец пришли</dc:title>
</cp:coreProperties>
</file>