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DD6-BFDB-4BA7-81B3-D8C8F014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AAA-6A6C-403E-B1A7-D552F94F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B74-7041-4D0C-B007-A5E3AB19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616-B1BD-4A65-9C9C-047183B8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5BC-9BAB-4318-98E8-B0F7FD17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763-60C0-4577-856A-7F4111A0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3A90-1803-4222-8096-09EF68F6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680-3D80-44EB-9678-5AEA8462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4C7A-19F8-406A-A834-AD4C7833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A1B-394D-4FF7-A923-A8F97DA3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631-5533-4144-BFB2-8C247611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B22-FAD9-4547-9B1E-11DE78B8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3A3F9-2B78-42F8-9F6D-8F88FDAFA85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ой Библией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будем мы во всяки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слово правды о Хр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стичь могло широких м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крытой Библией вез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приходит правды л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ступает новый д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ьмы греха, сомнений ту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дское «я» уходит в т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ткрывается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любви безмерной и свят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ает дух, врачует пло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ует жизнь душе боль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лым — силу для тр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ым — покой сред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ежду с Богом жить всегда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ая Библия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оже сил, небе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скорей во все м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и людей из ночи б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познанью Господа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0:51Z</dcterms:modified>
  <cp:revision>12</cp:revision>
  <dc:subject>Slavic hymnal Гимны веры христиан, hymn 563</dc:subject>
  <dc:title>Открытой Библией везде</dc:title>
</cp:coreProperties>
</file>