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7BE-8A41-465A-808D-C85562EE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8FF-B038-4038-B591-5C37E019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86D-BCC8-4F24-80AB-06F06AAC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DF3-8572-4269-823F-7896B042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A2B-66B4-433F-AECE-59BD5EA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D86-747C-42D7-A5C5-C7AFB76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BF2-4B42-4392-AE89-D0107570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3A3-84EE-4880-B08F-31733978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80A-8D2E-48A2-9A2E-4E06055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C53-CD97-4A71-A4DA-867414F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A1D-0F03-4C83-8B45-775BD978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D81-A63D-4CBE-93F9-BC9183B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CADFF-F90F-42D0-AE40-6D973DF4E9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2:32Z</dcterms:modified>
  <cp:revision>12</cp:revision>
  <dc:subject>Slavic hymnal Гимны веры христиан, Ukrainian hymn 42</dc:subject>
  <dc:title>Precious Promise / Дорогий Завіт Ісуса</dc:title>
</cp:coreProperties>
</file>