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670-568E-4D6E-ADE6-8A1C0620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8AA-2E92-45B7-AACC-A9E57D6C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986-B99B-47CB-8EF8-FC7323A2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A1B-EB9D-4282-BB07-0D8A0989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FEC-B2FB-4F4E-B303-EE28ADCD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F84-BB30-4DE9-B4E5-2A85625A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B88-145C-4375-B733-4E48F990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4FB-A6F4-428F-B26E-394AA17E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AF5-66A5-4FE1-8EBB-25A6DCCF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800-4760-4E09-995B-FD3D35CD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B27-46D1-4D4F-955C-E1716B2F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232-4C23-47C8-95F2-A7F8C8DD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DECFB-DC82-4B0D-B65F-583A13F7869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Євангельську ми ві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Христом підемо в слі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єдиною сім’є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а Ним вперед, впере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1   За Євангельську ми ві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тьба іде кипу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землі по всіх місц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ріли хоч гріха пекучі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 прапор святий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 байдуже спогля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розп’ятого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Христос заповіда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у присвятить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й святість ― скарб від Бога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ронімо ревно вс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мине земна тривог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Христос прийде в крас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авду сіймо, свято жи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вітло понес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шу ми любов загрійм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праці щирість покаж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міло всі ми за Ісус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в одна сім’я, хо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щирим, одним ду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вперед, вперед за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31:53Z</dcterms:modified>
  <cp:revision>13</cp:revision>
  <dc:subject>Slavic hymnal Гимны веры христиан, Ukrainian hymn 21</dc:subject>
  <dc:title>За Євангельську ми віру</dc:title>
</cp:coreProperties>
</file>