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665-43A5-495B-8144-E9BA4B9F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67C-5914-493B-9878-3731AE6F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86B-D0C7-4BCA-8257-069F6C6E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A17-5222-4D10-91CA-76EB67FE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7B0-2163-4623-BDA8-533BA25B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618-5AB4-4C0F-8DD1-7D796C1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BEC-2FB0-4F0A-B3D3-70865D5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EF4-769D-4118-BE09-D885185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D17-FA72-44B3-ABE2-51646F7F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D3E-00B2-431C-82F3-3C823F3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C7B-193A-432A-9FE5-834B7EC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DFD-B3AF-4FDE-90F6-67C38BE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4AD9C-7F65-4F75-A799-55C0E54CB4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15Z</dcterms:modified>
  <cp:revision>12</cp:revision>
  <dc:subject>Slavic hymnal Гимны веры христиан, hymn 730</dc:subject>
  <dc:title>У Твоего стола, Господь</dc:title>
</cp:coreProperties>
</file>