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D36-1171-477E-A0D6-CFD6B78A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5D8-4A76-4219-8605-5A1B2821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E04-ECAC-4998-A6FB-99A6B4C4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492-26B3-4F64-BD7E-760A541F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3FD-7E37-43A6-9E4D-FF933096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881-CE84-4D26-A405-2EB0E844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892-EC8C-4970-B788-08EBBEAA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711-22C0-4C68-8590-17A1958B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566-0BC2-4D0D-AEAB-E889281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DDC-FA00-4F9E-9D15-5EF4F205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A8C-6BE5-4671-9DD1-C8229A36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829-CC14-485D-B8E7-89C8DA48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67C27-BD77-4F43-9C80-484CDF990A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we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bright angel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crystal tide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by the throne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6   Чи зустрінемось з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яті усі ж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окійн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чистії теч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argin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ing up its silver s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walk and worship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happy golden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ор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вічне там 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там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істім світлі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we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we every burden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our spirits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ovide a robe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ж нами і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в смертельний темний 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крови ці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 спасіння нам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e’ll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pilgrimage wi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happy hearts will q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melody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будем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шлях наш ми про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стрінемось з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ворця ми рай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8:59Z</dcterms:modified>
  <cp:revision>12</cp:revision>
  <dc:subject>Slavic hymnal Гимны веры христиан, Ukrainian hymn 66</dc:subject>
  <dc:title>Shall We Gather at the River? / Чи зустрінемось з тобою</dc:title>
</cp:coreProperties>
</file>