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F3A-0D10-4A51-9854-10B6CC1D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C1F-C553-4EB1-BF71-91B311EE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443-5F23-4A94-AEB7-08BA59CD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EE6-F162-4446-B6C2-28E8AD42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9EE-A6C9-4A7F-A114-7887CC99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5D1-903C-4813-91C4-7A4A8FA9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8A9-8422-442D-B672-42C64E8E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4B87-3EFB-4F90-9655-D4C82101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D80-325A-4A73-910B-01067F72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2E8-1B07-4150-8BD4-6F527352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CAA-B64D-4F49-A798-99DD4277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703-CDF1-417F-A26B-C2CB8298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93F56-463B-440E-BEBE-F36BDBDD72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take a dying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aise him up to life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heal a wounded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ake us white as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fill the empti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end our broken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8   What Can Take a Dying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restores our faith i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reveals the Father’s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lead the wayward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melt a heart of st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free the guilty o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ave and over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c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still a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’s still a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miracle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ose who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, awesome,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 holy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Lamb laid down Hi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ft us from the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ghty is the power of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11Z</dcterms:modified>
  <cp:revision>12</cp:revision>
  <dc:subject>The Source 4, song number 2128</dc:subject>
  <dc:title>What Can Take a Dying Man (Mighty Is the Power of the Cross)</dc:title>
</cp:coreProperties>
</file>