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A86-47D9-4CCA-BF9B-1C5E05A4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CFA-8953-4B7D-ABE7-47A3E065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CDD-6FD5-4EC6-9958-FF21602F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FA79-8CFD-4B10-8082-EB492715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389-F459-4670-97ED-2677287D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C86-9E3A-4124-B3FE-C9187D04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AB6-076F-49AB-AFB6-9B77E7FE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E9D4-D51D-4125-9BD0-C5F8316F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109-2D08-4431-BFBB-D469B5B0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4242-5109-4F74-B22A-05444A7D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308-BFD1-4595-858D-F2313786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561-063C-4176-B74B-BC7A20A7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BC4D3-F94F-4DBF-AC9A-27C2915040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основанье, стоит в род и 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е в Писаньи Бог людя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брого смертный добавит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дует сердце, рассеяло ть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! твой Пастырь с тобою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бре и в несчастьи, в тяжёлом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на чужбине, в темнице сыр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е покинет, пребудет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ит основ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ерез воды пошлю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и не на волны, гляди н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шным и твёрдым даю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я и скорби в добро превра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ерез пламя придётся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! только прямо, послушно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гненной печи, душой невр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олото выйдешь на радос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тарости видит Мой верны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т не покинут, кто Богом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шают на теле, теряют кра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ам их до цели святой дон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, что с рыданьем к Иисусу при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м на попранье служителям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ир негодует, пусть ад вос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икому Я не выдам е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5:02Z</dcterms:modified>
  <cp:revision>12</cp:revision>
  <dc:subject>Slavic hymnal Гимны веры христиан, hymn 850</dc:subject>
  <dc:title>Стоит основанье</dc:title>
</cp:coreProperties>
</file>