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093-D547-46FE-8ECE-83CC244D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CFC-6BAB-4F0A-94FE-B8A1B4A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97A-0EFE-473E-A1A3-FD874DC5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1C2-964D-4EFF-9E7C-7D7772FF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4CA1-5DA9-44B0-B472-073FB57C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61B-0DD3-45AB-91A9-2F3EC76D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945-0CA2-4397-8C80-A523B620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103-E2D0-4AAF-86D2-0048B7E3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089-487C-49D0-8445-DFD547D3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F7F-C12B-4262-B858-B59F737B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C3E-CF38-40E7-8558-57ABF659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505-62AE-42D4-9A3C-8898E1F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1E6AA-76CE-4112-8546-BCF336015C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aid aside Your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ve up everything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ffered at the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ose You had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all my guilt and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died and rose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oday You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eav’n and earth exa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Laid Aside Your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eally want to worship You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won my heart and I am Y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and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ov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ly one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ve Your life to set m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lift my voice to You in ado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24Z</dcterms:modified>
  <cp:revision>10</cp:revision>
  <dc:subject>The Source, song number 601</dc:subject>
  <dc:title>You Laid Aside Your Majesty (I Really Want to Worship You, My Lord)</dc:title>
</cp:coreProperties>
</file>