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F93-CDCC-4B2D-9200-BCE95D5F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68A-1617-4CE1-AD6F-958C8269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4DB-348D-48C4-9283-73F76EEB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BB2-D577-4777-92F3-973D676E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93F-00DB-4E84-AFD8-8055C2B0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F8C-7118-4150-A255-0B1C9CBF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E9D-6DB3-4CE4-AC45-A105E83C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D85-5982-4562-83BB-B0796096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DCD-CB5F-42F8-A7E4-C150D3B5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CF3-0E3E-4E16-AF10-E869CFEB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575-7286-4F21-A28D-90152F8E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448-D086-4A5F-8508-35C9113C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50F71-8414-4EC9-84C8-AC3187B3C4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eye is on th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hand it comfort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nds o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depths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mercy and strength b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93   Your Eye Is On the Sp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me to Your pur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ngels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may you draw al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love and grace de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rds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might, not by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Spiri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will run the 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I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let me live i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me to Your pur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ngels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may you draw all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love and grace de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rds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might, not by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Spiri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will run the 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I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let me live i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49Z</dcterms:modified>
  <cp:revision>11</cp:revision>
  <dc:subject>The Source 2, song number 1093</dc:subject>
  <dc:title>Your Eye Is On the Sparrow (I Will Run to You)</dc:title>
</cp:coreProperties>
</file>