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E08C-3A2F-41BB-B023-5FC55845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2FB0-A688-4D6A-A4BA-2C1D4AA3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67EE-0125-499B-B65E-F17EFEAE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3591-DA42-42DB-B79E-59B970B1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3FB9-BD9F-4D7D-AD9F-20660903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0D02-031F-41DA-96A2-69FAEF27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4EC5-D75B-4F17-9EF3-ECD7AFD2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1491-8D5D-40AC-80FA-A13B3B67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2299-574C-4155-84E3-FF41A111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56E2-F5C6-4227-B470-E11CF725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00C4-E2DE-46F2-A9E9-C257E35E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750C-5F53-4822-93B1-30B75812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32400-3A45-4DD4-A64A-28AEFDA31B2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енном море с волнами боро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я тяжко, смертельно уст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грозный вал мне навстречу нес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на подводный я камень поп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грянет буря… гроза разрази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плет мой чёлн, словно щепку пор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я со штормами должен сразитс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ёлн мой не раз заливает в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жизненном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устал я, а берег жел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ещё кажется так далек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, чтоб достигнуть при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ожда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переплыть нелегко, нелег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в борьбе со стихиею гроз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 не хватает, немеет рук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леденит под струёю мороз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и зов не идёт с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 мой брат и пловец утомл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аешь духом ты? Верь, ободр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ю силой в пути окрыл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ре житейском ты смело держ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о ты плыл, много с бурями б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лько преград на пути побед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авань близка уж, а ты утом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в тяжёлой борьбе опу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но тебе! О, я верю, что труд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забудь, Отчий глаз над то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я денно и нощно, Он чу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рит каждый миг твоей жизни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победителем! Брат, не сдавай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ты сможешь свободно вздохну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ёлн твой у цели… мужайся ж, мужай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вот немного и кончен твой пу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4:39Z</dcterms:modified>
  <cp:revision>15</cp:revision>
  <dc:subject>Slavic hymnal Гимны веры христиан, hymn 705</dc:subject>
  <dc:title>В жизненном море с волнами бороться</dc:title>
</cp:coreProperties>
</file>