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48</a:t>
            </a:r>
            <a:r>
              <a:rPr b="1" lang="ru-RU" sz="3600" spc="-1" strike="noStrike">
                <a:solidFill>
                  <a:srgbClr val="ffffff"/>
                </a:solidFill>
                <a:latin typeface="Verdana"/>
              </a:rPr>
              <a:t>	</a:t>
            </a:r>
            <a:r>
              <a:rPr b="1" lang="ru-RU" sz="3600" spc="-1" strike="noStrike">
                <a:solidFill>
                  <a:srgbClr val="ffffff"/>
                </a:solidFill>
                <a:latin typeface="Verdana"/>
              </a:rPr>
              <a:t>Весть об Иисусе скажи мн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есть об Иисусе скаж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расскажи про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повесть благ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у дороже вс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нгелов песнь повтор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о Его рождеств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у хваленье на н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и любовь на земл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ть об Иисусе скаж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расскажи про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повесть благ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у дороже всего.</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ак Он в пустыне пости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искушаем там б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претерпел, расскаж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за нас побе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без крова скитал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помогал в их нуж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людьми был отверж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бедности жил и в труд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ть об Иисусе скаж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расскажи про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повесть благ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у дороже всего.</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ак ко кресту пригвозди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на кресте умир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роб как Его положи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из гроба восст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ую повесть скаж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людей возлюб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ава вовеки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и мой грех искупил!</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ть об Иисусе скажи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расскажи про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ая повесть благ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у дороже всего.</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9-08T20:45:59Z</dcterms:modified>
  <cp:revision>3</cp:revision>
  <dc:subject>Slavic hymnal Гимны веры христиан, hymn 248</dc:subject>
  <dc:title>Весть об Иисусе скажи мне</dc:title>
</cp:coreProperties>
</file>