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C0DB-83F9-45AF-B163-420D76A5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06D-8868-4F56-8844-8643E071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FAE-D80A-4FC4-B60A-D2DBFF65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D07-E0A0-4F01-BDDD-D8A04E00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1504-5A53-477E-8432-4470E000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5A18-1384-43C9-B88A-96AEEE95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EAF3-369A-4558-AF75-D1E1BD5C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35F5-D738-431C-AD7D-0E1596D0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538-F4E4-4FA4-8BFE-5DCD1D1C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06D-CC6C-4EB4-9A15-11A17C76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944-85F9-4F14-B2C4-06C15516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46E-0EC6-4DC5-8850-6DBCA3F3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49653-962A-46EF-9455-A25445A7D7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ой Иисус меня!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етей к Себе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руки их бе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ит мой Иисус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любви и добр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адал Он на крес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еня Он кровь про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 Он меня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ень любит Он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 жаждою в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ят сердце ин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йду отраду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! Он вечно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го навек душ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никто не повре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зол Он со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3:20Z</dcterms:modified>
  <cp:revision>12</cp:revision>
  <dc:subject>Slavic hymnal Гимны веры христиан, hymn 869</dc:subject>
  <dc:title>Любит мой Иисус меня</dc:title>
</cp:coreProperties>
</file>