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68E0-C506-4033-B191-1ADBD58A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289B-3E91-48CD-8FD4-802331B0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68F3-43D6-4D10-B1A4-994CE68C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5881-1DDB-4B75-98C9-0F77DB96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91E8-09DC-4426-8009-59BA7DA2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DB58-00AB-47C6-A2D4-DFBE33C7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D66B-0B1D-4247-AE9E-1F896E47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D915-A9E5-4FA0-BFC7-5F3ACB0B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A316-001D-4800-B98B-470F60CE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7CF4-6924-4D05-88BE-80FAF995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8F5D-CEAC-44C5-887E-744129D9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D0A4-8235-42A9-BFE8-3ED647AD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911EE-0A19-4E46-91A8-E9BFB56BD24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за Друга мы име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Он к жизни пробу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мы счастием владе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источник вечны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как часто мы страд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 терпя напрасно т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просить мы забыв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дин помог Он 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за Друга мы име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шенье ль нас трево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ытки ль тяжки для кого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пусть из нас возло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ь свою всю на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дин среди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свет средь тьмы про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Христос Один мгнов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горе облег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ываем мы под зно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й жизни сует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лишь Ему откро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душе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нас друзья забы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ем Господу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ристос проявит в си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верный Друг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3:46Z</dcterms:modified>
  <cp:revision>12</cp:revision>
  <dc:subject>Slavic hymnal Гимны веры христиан, hymn 594</dc:subject>
  <dc:title>Что за Друга мы имеем</dc:title>
</cp:coreProperties>
</file>