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1D0-AF3D-40E7-8FA2-00CDBBE3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187-F474-47E3-825D-7E293CEC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DB3-61DF-4376-8836-D653C50E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847F-A405-4E26-9638-0CA7B645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590-2EB5-4A15-B93D-26FCA1DA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C5E-31BA-415E-B07C-C14A733A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ED5-0145-4744-9E8A-516E70D8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8E1-DAF4-4B95-94CA-A2496355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ECF-CBF5-4E7B-8484-04B7E03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F5F-9C66-4206-BDE1-232F7E6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233-69C8-4380-A406-463A6188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443-12AF-440C-9A07-FEEC1C80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54DDC-327E-47D4-BE12-75527BFFDD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69  Ты сделал первый ш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делал первый ш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крыл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делся в хруп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и во Хри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 не ждал, ч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дал услышать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ечно благодарен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за Твой крес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лагодарен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ришёл от уз спасти нас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29T06:21:14Z</dcterms:modified>
  <cp:revision>12</cp:revision>
  <dc:subject>The Source 4, song number 2169 in Russian</dc:subject>
  <dc:title>Ты сделал первый шаг / You Did Not Wait for Me (I’m Forever Grateful)</dc:title>
</cp:coreProperties>
</file>