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816B-1FCA-4216-87A5-6E4F88B3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C21-A863-4C2E-9B61-DE0F63FA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846-789D-4299-8D8C-84AAAA9B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C32-4CC3-4307-B0EE-6DBCD061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C2F-5145-4F2F-A179-9D6070BA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2E5-CF90-4727-A562-79DF9725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92B-2FDB-48AD-9C27-5FE9E12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362-9270-4EEF-89F0-48B2403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70C-1DCB-4854-A804-978CA1CF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810-C8AD-4B17-AA82-C94573D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139-3AA7-4418-83AE-F23FC08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FA5-5AE0-4F49-905F-1725E36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EFFF-F36D-4208-B24D-B4D734BA168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, Sovereign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ign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ptivat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stablish there Your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will b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Reign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28Z</dcterms:modified>
  <cp:revision>10</cp:revision>
  <dc:subject>The Source, song number 437</dc:subject>
  <dc:title>Reign In Me</dc:title>
</cp:coreProperties>
</file>