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FC4-14C4-4F5D-A9EE-1A63A99F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476-C01B-4FE2-A868-9A3DBD3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07D-40F7-4E4C-BA15-0E476FE1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296-014E-40E2-9192-AFC2BAB2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2AA-4F55-4292-8AC7-20BF3801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B5A-FF1D-4BF7-B0B8-54A2E08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260-C884-4C98-9E35-1B70154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71B-EEBA-4CDF-94A0-B4BADAB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D9C-B77F-4DD8-A8A4-E9390E7A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FD1-8B1E-4F40-AFE7-416DFF41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F35-4330-4C0B-85F9-30A7D4A2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0DC-BBDB-4364-9976-B5DB549A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820DF-614A-4752-8D41-E8ABBFB04AD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ошей греха и заб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воду её погрузите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отраду най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 водам живым поспеш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водам живым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ть вы покрыты ви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ас омое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облечёт бели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любви призы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, покайся и ве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ожью слову вним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т в отверстую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ы живые чуд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оживляют круго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раскается греш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о ликует о 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ропись! Можно ли жд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но ль спасеньем души риск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уки Господь простир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ого хочет при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43Z</dcterms:modified>
  <cp:revision>12</cp:revision>
  <dc:subject>Slavic hymnal Гимны веры христиан, hymn 356</dc:subject>
  <dc:title>К водам живым поспешите</dc:title>
</cp:coreProperties>
</file>