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A94-6E54-480F-A10E-B468E3F9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549-DEDA-46A0-A983-0AFA47AF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9AF-EE2F-49F0-B716-54152FDF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89B1-C4E0-4B86-8D4D-F83A7AFB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9C9-2A01-4963-A069-FCD391DB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34B-960B-4F57-86BF-7419F04C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84F-E0F0-4408-B6A8-22C3FFCE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0FD-DB61-47BA-B8EB-FCCD3E5B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99A-FBA3-4B5E-9720-332B344D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B6D-27D4-4E57-B034-D598339C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D8C-C617-4A29-8252-D02A769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551-8A21-4720-9568-2731D3F4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A48C3-DD7D-448A-A9CF-6A22C88A6A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call comes ri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 restless w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resc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re souls to s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ю с моря люди гром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с моря люди громко вопи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жите к берегу надёж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ve heard the Macedonian call to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golden offering at the cross we 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теперь доходит Македонски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вет! Дайте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роявить Хрис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pray that 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everywhere ab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 Christlike spirit everywhere be fou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оянною молитвой о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х Божий погибающих дост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not grow weary in the work of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us gather jewels for a crow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the light! Send the l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совершайте труд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Богом делайте дела с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Дайте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rom shore to sh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 light, the blessèd Gospel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it shine forever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и жизнь нес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свет! Евангельская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везде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2:39Z</dcterms:modified>
  <cp:revision>12</cp:revision>
  <dc:subject>Slavic hymnal Гимны веры христиан, hymn 887</dc:subject>
  <dc:title>Send the Light / Ночью с моря люди громко</dc:title>
</cp:coreProperties>
</file>