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2B89-99BA-42AF-8B2B-C9311263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32C2-E7D2-4665-86AB-522BA86B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FCFD-21A1-48ED-98A3-AB56C2FF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D0C2-2552-417F-9D16-E1EF9800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C471-3C22-49BF-BB37-A82BA026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0C34-B2E5-4AD3-84CF-28C61F2A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7573-5251-45C4-9B8B-D9D4298B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18E2-F541-467E-99A4-D7397265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53D6-8D52-46F8-BB05-C3CDA722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D86D-ABE0-43D4-9C5B-FA8AD097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4D6D-C33F-4C74-AEA8-074BC148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D998-7A9F-418B-9655-85F01E0D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DC752-D88A-4849-AC0A-15AB314E835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iftly all our days go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vanish without tr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soon as one day runs its cour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takes it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9   Як скоро дні біж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коро дні біжать впер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тихо по черзі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скоро наш Господь прий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брати нас домі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за часом, день за д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ми домів пі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мине послі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 Спас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all who knew and trusted Chri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iding in H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promised vict’ry o’er the gr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lessed peac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вірив, і надіяв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бував в Хри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го візьме Він в віч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будуть всі свя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за часом, день за д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ми домів пі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мине послі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 Спас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inal hour of life will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must leave this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enter my eternal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which I’ve yearned since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рийде й для мене те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слідний час жит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Господь візьме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ий дім Отц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за часом, день за д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ми домів пі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мине послі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 Спас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no doubts, for I bel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at the final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not fear nor be dismaye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Christ has made me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серця вірю, що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візьме в той д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той славний день прий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уду вічно з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за часом, день за д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ми домів пі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мине послі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 Спас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50:04Z</dcterms:modified>
  <cp:revision>12</cp:revision>
  <dc:subject>Slavic hymnal Гимны веры христиан, Ukrainian hymn 69</dc:subject>
  <dc:title>How Swiftly All Our Days Go By / Як скоро дні біжать вперед</dc:title>
</cp:coreProperties>
</file>