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83C47-AA62-4D47-947F-22C340B6C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51197-6936-47A0-990F-CA7EDD464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19C23-3349-42CB-B6C1-A71E14D53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390C9-DA57-4392-A87B-D8B32A327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D4586-922D-4C6C-93C4-07D37D0D3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3104B-A1D1-49B1-989B-615CF825F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F45D3-53BE-4525-A0AA-CEDA45D4F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24199-C192-4EE1-803B-019606F39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8AA3B-65F2-451D-B5A9-0647368C1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3291D-CE8B-4FAC-82ED-5EC96A050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7165C-8CF8-4B3F-B139-5DFE4D5C8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69326-0973-4379-BB0F-807FB2DB1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244E9D-E545-4AE4-93D0-BAC2BE64FBDB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nk you for saving m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at can I sa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are my everyth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will sing Your prai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shed Your blood for m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at can I sa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took my sin and sha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 sinner called by na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472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Thank You for Saving 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reat is the L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reat is the L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we know Your truth has set us fre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’ve set Your hope in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ercy and grace are mi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giv’n is my si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esus, my only hop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Saviour of the worl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reat is the Lord,” we cr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od, let Your kingdom co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r Word has let me s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nk You for saving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reat is the L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reat is the L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we know Your truth has set us fre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’ve set Your hope in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nk you for saving m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at can I sa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1-02-07T06:21:58Z</dcterms:modified>
  <cp:revision>10</cp:revision>
  <dc:subject>The Source, song number 472</dc:subject>
  <dc:title>Thank You for Saving Me</dc:title>
</cp:coreProperties>
</file>