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7DD-66F8-4249-8264-F7905A30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F95-A503-4E88-8F59-1635518D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69E-6678-4538-989D-E67029DE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6F6-D20D-44B7-956A-784B30DF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5B-00A9-4E2D-B17A-44CAC1E0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764-0059-49C2-9D90-3C10B02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584-7DAD-4D97-AE95-D39AF3F5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DDC-44D4-41A9-B6C8-96FF54FB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C51-CE8A-47E2-A0B5-F687C48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15F-35F5-4A23-9F50-2B435767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691-FD44-4CE3-885F-99E8C77E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850-3239-4DEF-AE82-010235B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408A5-74EA-495B-BA40-FB40F6B970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, we shall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be glad in it, and be gla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17   Ныне есть тот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, будем радост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ливы в нём,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 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shall rejoice and be glad in i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is the day,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что Господь 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и счастливы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есть тот день, ныне есть тот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18:12Z</dcterms:modified>
  <cp:revision>10</cp:revision>
  <dc:subject>The Source, song number 517 in Russian</dc:subject>
  <dc:title>This is the Day / Ныне есть тот день</dc:title>
</cp:coreProperties>
</file>