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DE1-D595-44FD-BF26-BC63FC3C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0693-7325-4071-B3D5-D57A13A2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402-C297-4EEB-9458-326527B8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C6D-AEEF-4C3D-8F33-B568478A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68C-61E3-46CD-A13D-0A56BAFC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900-BE7F-490B-8D93-CFA9EEB5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713-B0D3-4B0C-8CB1-8084138E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8BE-436F-4B2F-BDBE-DAFBBE29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9CD-27C6-4E50-A173-2467CAAE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AE7-C318-49FC-B53C-E4AA8DD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2A7-23D4-428D-9776-2D5CBA7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FB1-AEFD-4E0D-94EE-C4F521B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D3508-4DB1-48E3-B9B4-7449D6ED2C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б</a:t>
            </a:r>
            <a:r>
              <a:rPr b="0" lang="en-AU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Иисус,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исус,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нет подобных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мою жизнь, я вос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чьи Твоей дивн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приют, мой по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и сил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, всё, что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будет слав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и, земля, Господу тв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ество, сила и слава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растают, моря зашум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лиц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о делах Твоих р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люблю, буду в вере сто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Твоя бескон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мне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0:41Z</dcterms:modified>
  <cp:revision>17</cp:revision>
  <dc:subject>The Source, song number 367б in Russian</dc:subject>
  <dc:title>Мой Иисус, Спаситель / My Jesus, My Saviour (Shout to the Lord)</dc:title>
</cp:coreProperties>
</file>