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CF5C-25B7-4A4E-8F68-BC66FD1F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58ED-B730-48B0-9EF8-022F7A42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3002-BD80-48FF-B014-61B604FF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C551-0926-421B-8315-CC0D1A84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CDFD-2CC8-44C1-825F-63FD4EB3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3873-FC85-47AC-959B-659257B0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BB95-86AE-4DAD-BCF6-7C46D30B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CB1D-9458-4C34-BD49-72F88D66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1A3E-4942-43D1-B09C-BBD78B47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6E86-63C9-4434-ACA2-98EB17CF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780E-F2AA-4749-B08E-BBB1E4EB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0518-AEA3-4F32-9792-03F29F9D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6B79B-A1BF-4EC0-87C5-9348B1BEF2C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Lion of Jud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amb that was sl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scended to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rmore will reig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end of the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earth You recla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gather the nations befor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0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You’re the Lion of Jud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eyes of all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be fixed on the La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as cruc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ith wisdom and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justice He re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Father’s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angels will c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il the La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as slain for the worl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ule in pow’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earth will rep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all re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King of all k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Lord of all lord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a shield in our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 sword at our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a fire in our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cannot be den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Father has told 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se You have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nations that gather befor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ears of all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eed to hear of the La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as cruc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descended to 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t was raised up to re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Father’s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angels will c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il the La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as slain for the worl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ule in pow’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earth will rep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all re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King of all k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Lord of all lord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6:33Z</dcterms:modified>
  <cp:revision>12</cp:revision>
  <dc:subject>The Source, song number 606</dc:subject>
  <dc:title>You’re the Lion of Judah (Lion of Judah)</dc:title>
</cp:coreProperties>
</file>