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800A-F153-4FD5-A643-B94CBF9E9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146B-0BBD-45CB-A0AC-41BFC6D6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7FF9-B651-49DD-84BD-C00C25686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8163-56D2-44EA-A634-B3F2B10F1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156F-4C22-449E-8E04-EF2FB74B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F15D-9CD0-4A5D-A0DE-230589F6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0CB4-361B-47B9-BFEE-6D77CE01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5F3D-C6FF-42D0-B2F7-D7261DF0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B01D-4091-40C8-BE94-492AA402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6B50-CEFC-412A-B318-B1C5C172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031D-AFBA-4F09-B32D-A8E4316D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4717-EF33-4381-ADCB-04F988F3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386993-CA7F-4F67-8B17-FB212B4C295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e thanks to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God and K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 endures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He is good, He is above all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 endures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praise, sing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8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Give Thanks to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 mighty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outstretched a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 endures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life that’s been rebo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 endures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praise, sing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praise, sing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, God is faith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 God i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 God is with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,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rising to the setting su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 endures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e grace of God, we will carry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 endures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praise, sing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praise, sing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, God is faith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 God i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 God is with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,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0:54Z</dcterms:modified>
  <cp:revision>11</cp:revision>
  <dc:subject>The Source 2, song number 688</dc:subject>
  <dc:title>Give Thanks to the Lord (For Ever)</dc:title>
</cp:coreProperties>
</file>