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BE4-0877-4FED-BA3D-CF16D624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FE9-C4F1-4D90-B099-C3F2A0CA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663-8B6C-4552-89EA-3F1C2649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BF5-5CE1-40F0-A472-17B9EFCE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325-4C15-4C32-9CFC-1A70DB40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855-DEAB-47B2-9419-CA8FBB71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71C-031D-490F-A225-02A7B8C4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861-6444-4F96-BD8D-193D81F8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030-FDAD-4147-96A8-2C52688E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4FB-D63B-4A8E-8F71-B981D8E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4C6-B284-4F94-9509-25606F4F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BDD-9180-462F-B943-B717E23A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4F096-9A63-41CC-AF3B-88EF87EA0A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is daw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Father, let i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king or in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with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д новый наступ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наступ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е, уд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е иль ожид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жить сей год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progr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pr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resence all the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озн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ы здесь не од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ль в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нами во вс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serv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witness for Thy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of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olier work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 — год служ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д пригото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Ним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is daw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Father, let i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or else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year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д новый… Новый жреб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м дай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й земле иль в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только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6:15Z</dcterms:modified>
  <cp:revision>12</cp:revision>
  <dc:subject>Slavic hymnal Гимны веры христиан, hymn 894</dc:subject>
  <dc:title>Another Year Is Dawning / Год новый наступает</dc:title>
</cp:coreProperties>
</file>