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F49-F465-4E58-8596-4246DB4D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C65-C868-4DE9-8E52-652020F4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E7D-D1CB-466F-838E-7FCF9CFF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D57-C565-4FD0-BA76-83902C26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EC5-8539-45B1-B19E-3DBEB5A1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582-7C91-4572-929D-0C564AA1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313-D2F7-4784-9B73-4BC9813D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A3D-EBCC-4227-911F-FE6310FE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FB4-03B7-453F-8C65-FEB83B2C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316-D846-42E0-B919-7C0EA20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0FD-2E7C-4A7E-BAAF-96E0C343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F88-F1E1-4B83-9665-D09F643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B0C57-E685-429A-AEAA-8B20EC49FC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льки до Нього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є серце відч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повнить твоє серце до розл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Духом і вог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3   Він наповнить тво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40Z</dcterms:modified>
  <cp:revision>13</cp:revision>
  <dc:subject>Slavic hymnal Гимны веры христиан, Ukrainian hymn 113</dc:subject>
  <dc:title>Він наповнить твоє серце до розливу</dc:title>
</cp:coreProperties>
</file>