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952-73B1-463E-9259-83CFD966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1F1-D807-4C38-8ED3-6C21F1ED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BA0-A3A6-49EA-8B27-410C5128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194-7804-455A-A896-576C2581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66B-1081-411D-8DD8-1D6032CC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CA9-E593-4F06-8203-55E8AB24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AB4-87AA-4B2E-840F-49353C1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D6CB-1FBE-4EB1-9650-D05A36E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22D-AD7A-43FB-93DE-B7C7621C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91C-BE9A-47DF-B87B-2581682F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DE8-B46C-4E5B-8C34-9DF38D9B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2C2-E412-4BFF-9001-538383B8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DE4E6-67FB-4A93-A0C6-C9377CCFD6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highest of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depth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eation’s rev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97   От небесных выс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ебесных вы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 бездны гл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 твореньи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comparable, unchange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ee the depths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love m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ящий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ивши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olours of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fragrance of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’ry creatu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ong that it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exclai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сенних л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цветенья вес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воренье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ят Бога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лав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клоняясь хо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всей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зумителен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has told ev’ry lightning b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it shoul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r seen heavenly store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den with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вет молнии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ил сверк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ебесных хранилищ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т сне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imagine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ives source to its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conceals it to bring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oolness of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ne can fath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ворил Он нам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 ему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вечерней прохл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слав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ен, могуществ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клоняясь хот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всей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зумителен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-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ивительный, восхити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вел звёзды на неб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дал и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умительный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34:48Z</dcterms:modified>
  <cp:revision>11</cp:revision>
  <dc:subject>The Source 4, song number 1797 in Russian</dc:subject>
  <dc:title>От небесных высот (Ты изумительный Бог) / From the Highest of Heights (Indescribable)</dc:title>
</cp:coreProperties>
</file>