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29BA-C23D-4316-AF70-AD03BF58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CBA-DFA9-4F53-8B99-A2E27279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D4D-74FF-4D3A-99BC-34DDC325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EF4-3460-4C8E-85DC-7237B67A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037-5CD7-4D9F-B638-472A8ED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A4C-E8B4-4E12-BE3E-99CE371C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464-1942-4A7F-A490-5EE938C1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A6E-8430-49FF-8064-637B7F75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7C0-E659-4F2D-8E79-45BE834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89B-7552-46FB-83CD-0137891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CA0-84AF-4CB7-BFCB-04C395E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025-BEED-42A8-8E7E-04B54ED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9321-99CE-4ED9-9DB4-05C8AD0CC1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траху люди побледнею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ех унынья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умолкнут, занеме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ет землю тьма гус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нет солнце, месяц, звёз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оры встанут в море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раке буря зары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ёт нежд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стся с неба голос трубны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откроются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ящих в прахе непроб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удит слово вечной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нежданно суд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т горько плакать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ут песни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ло, страшно, жутко бу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01Z</dcterms:modified>
  <cp:revision>12</cp:revision>
  <dc:subject>Slavic hymnal Гимны веры христиан, hymn 322</dc:subject>
  <dc:title>Придёт нежданно судный день</dc:title>
</cp:coreProperties>
</file>