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A62-D59C-4B3E-9AB3-0E29AB45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1800-9B12-4CA4-8F7B-6455DD4F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5AF-9FDD-4AE7-9065-88F0E5D4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ABB-F0E2-4877-9051-9A579CE0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916-B6DC-4A83-BA6F-CB5121CC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25DA-3843-4D07-8A52-706F79FB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52D1-599E-4400-828F-1AFA70DC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6AF-E476-44BD-B95F-AEF5DF42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74C-7D1B-46BF-A0F8-75DE9273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496-BBDC-4248-BB9B-3B7DA69F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4D1-5F2B-4F93-BFA2-6C44C668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B312-CC75-4AAC-B2DD-D99F9ABE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348ED-04D7-44BD-A20D-A3DDB3B4E1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ling to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it mea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it’s the only hope ther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sav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ithout Your great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uld be forever l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ling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3   I Cling to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ling to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it mea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it’s the only hope ther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sav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ithout Your great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uld be forever l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ling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nding at the empty to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romises I have in You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alive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You said was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uffered, died and 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ring us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bring u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ling to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it mea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it’s the only hope ther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sav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without Your great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uld be forever los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 thankful heart I c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ling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befor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befor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behi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 befor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turning back, no turning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ling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8:43Z</dcterms:modified>
  <cp:revision>12</cp:revision>
  <dc:subject>The Source 4, song number 1883</dc:subject>
  <dc:title>I Cling to the Cross</dc:title>
</cp:coreProperties>
</file>