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5CC-991E-4E88-8A0D-CD89E80B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888-9239-44A9-AC98-E9EDC303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30D-A1AE-43C7-AFC8-50030539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1A0-DA37-4644-B70C-AF725D79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EDC-B357-429C-A6DE-A087D51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5E4-A68B-433C-8C6B-24E1A062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38F-3E28-479C-95FC-8F1F1D0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A7D-2550-404A-9ACE-147370D5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769-896E-4BFC-B3AE-14BE715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DCA-A776-4D59-95EF-2BC12AE6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EC8-BAB6-46B0-AF5E-2D3FEF0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778-5892-4717-B796-E28546E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DF467-9959-4ADB-9700-3B22A2FC57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м спа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навек приобрет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я Ему слу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во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о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елин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енья Совер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всё в руке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Христу в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ныне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 мой и мгно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волю,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ой! Бог Милост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меня Своим на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е вечности счастл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удел мне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й! Я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Тебе принад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ею 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 ногам Твоим кл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16Z</dcterms:modified>
  <cp:revision>12</cp:revision>
  <dc:subject>Slavic hymnal Гимны веры христиан, hymn 482</dc:subject>
  <dc:title>Я не свой! Христом спасённый</dc:title>
</cp:coreProperties>
</file>