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01E-7983-48BA-9F55-A22AB2E3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B48-0743-49CD-B37D-5C3C3FFD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4C2-8146-4696-855F-896BF016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17C-2B08-4CA6-AEF8-DF7C13EC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4F7-3CB4-48BC-8300-9B48077D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46F-805E-455C-B765-3401C3C6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D9E-AB0A-4D66-967A-CB3A060E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8EF-35DE-4612-8B2C-A8BC0A0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93C-68E7-454A-8AD3-AD53309E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F2D-9953-4BDE-83EC-65B7B68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DFF-B955-4AC5-8728-F29522BF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777-10DD-4D6A-8D7F-477F3A4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88CE-DC09-4230-8A23-5AB0F70AFE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pleading in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dear,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earth friends be f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ойном печ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кр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Он ом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has foun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others the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my loving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your Saviour, t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мир С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душу все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торый люд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онятен ум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pray that your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ring them to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yer will be answere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as answere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то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соблю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то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дарован и 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ak of that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Father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arp, crown, and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are waiting for you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принял Христос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м возве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теперь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ст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eace you poss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rest to be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praying that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ave them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ясь за дру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к Нему прибег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ашей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ей, Он вним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He is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enderness o’e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h, that my S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your Saviour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Его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даё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Он ва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ем б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Fa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pe for eter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and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Отец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й Промысл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ст бесконеч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кус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oon He will call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et Him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, oh, that He’d le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you with m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м меня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олотую об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я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мог вступ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a robe; ’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plendent in whit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aiting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ondering vie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а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меня там оде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не 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ловеческий гл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en I recei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hining in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friend, could I se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ceiving one,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й я предст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 том наде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если б в не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екли также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I am pray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pray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ас я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сь я за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1Z</dcterms:modified>
  <cp:revision>13</cp:revision>
  <dc:subject>Slavic hymnal Гимны веры христиан, hymn 624</dc:subject>
  <dc:title>I Am Praying For You / Спаситель о мне недостойном печётся</dc:title>
</cp:coreProperties>
</file>