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ACE8-39EF-4529-BACA-B5747785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ABC6-A5B5-4688-84C5-6E12F501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99BC-5CAE-4F2D-BC1D-ACAD95E1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FCE-125B-4E5E-BA7A-6422A697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436-2EF4-4B1E-9415-BE571496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F19F-6A4A-4D61-9B40-F010621C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EE2-B04B-4AB9-94D6-5FBB955C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BB26-FEFE-41F7-A1F8-5DF07A49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915-67C6-4653-B2F2-A384E40C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12E6-868E-4056-8853-341611FC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7860-848A-4CC2-9D89-0E674FA2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D0DB-6575-48E6-9369-17387509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32573-C58E-41C8-871A-A45EFEF1C8C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й, куди піду ще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мені шукать спас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знайде душа м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 для свого сумлі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різь по світі я сход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 радості шукал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астя світ не подар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ю ще сумніше ста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3   Ой, куди піду ще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людей більш не пі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вди, щастя в них шука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 мій, до Тебе 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з Тобою пробува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у Тебе Од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 утомленим спас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д горя я св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айду ще звільн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прийми, прийми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 правди і любов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гріховне все м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життя почати но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1:15Z</dcterms:modified>
  <cp:revision>14</cp:revision>
  <dc:subject>Slavic hymnal Гимны веры христиан, Ukrainian hymn 53</dc:subject>
  <dc:title>Ой, куди піду ще я</dc:title>
</cp:coreProperties>
</file>