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6A4-C460-4498-B351-B2A3A3B3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6BD-C165-4B8F-817F-CAADC3F7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FF5-B88A-49A3-B237-BCFE9707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CF4-03DC-4EF7-902A-FF664958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112-9F1E-4C11-9B6F-50D76231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607-6F14-49BF-AEFC-A5C8613D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D67-68BE-4E75-BB8A-6A266188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5CC-1FD4-432B-AC14-E3EEF562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31B-6B00-469C-9873-03365895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E1B-1D48-4035-AF29-29B52230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5D4-21F6-4136-AB62-A2480F3B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5F9-0985-43BF-8E6C-FCC13FA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0CFC2-B40F-4ED6-ADFD-E38A98A8F9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ome, Now Is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, the greatest treasure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, the greatest treasure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ingly we cho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urrender 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ingly our knees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ur hearts,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nd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just as you are before y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come,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00Z</dcterms:modified>
  <cp:revision>11</cp:revision>
  <dc:subject>The Source 2, song number 662</dc:subject>
  <dc:title>Come, Now Is the Time to Worship</dc:title>
</cp:coreProperties>
</file>