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B1E3-0808-434D-956B-EFE69E44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70D6-D38F-4D37-A81A-5B8722B7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2C17-ECDB-4E24-88C8-D894936E2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03DD-9EB4-4683-96C2-71163F828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623E-A9B2-41AD-994F-C10B6BF1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7FF2-E51B-41F0-A923-FE8AFD63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8649-EFF4-4814-A5AE-26FFDD35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7A47-0AE4-4D4E-86E1-84AE8BCE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C024-E04F-4252-B1CE-699B4756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70D6-0FBD-4DFB-8331-9A3FBFCB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53FE-F2C2-447D-A098-C479A787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3418-F79D-4B11-87FB-4152A38C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BDE5A-86BC-4124-9AB0-C952DA04041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se up, O men of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done with lesser th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heart and soul and mind and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erve the King of k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спрянь, Христов народ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Христов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 смелей гл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разум, волю, сердце,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посвя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se up, O men of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kingdom tarries l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ng in the day of brother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nd the night of w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Христов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я уже вз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братства смело возвещ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йся силы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se up. O men of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hurch for you doth wa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 strength unequal to her task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se up, and make her gre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Христов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церковь мир гля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труд ей предсто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место в ней займ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high the cross of Chri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ead where His feet have tr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brothers of the Son of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se up, O men of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 подвиги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иди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козни, хитрости вра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Христом мы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18Z</dcterms:modified>
  <cp:revision>13</cp:revision>
  <dc:subject>Slavic hymnal Гимны веры христиан, hymn 524</dc:subject>
  <dc:title>Rise Up, O Men of God / Воспрянь, Христов народ!</dc:title>
</cp:coreProperties>
</file>