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826-AED1-4CE7-BF7C-D8D4098C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196-B69A-43B4-A4B8-D5F7960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371-19FB-4AA2-89EE-B4F1EA7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EDC-B8D4-483A-A923-34A656DD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2E8-6DEE-4ABE-96B3-FD110CE6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2C2-2537-4215-AD41-A475385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437D-27EE-47A5-A3F9-988149C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CC4-8499-4262-8297-6AC05380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0D4-0AFF-4784-827E-3D8BAAC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A6C-6E1B-49EA-A831-5FCAB89E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0DD-E204-4705-AF42-700BCBF9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4B6-18E1-4E9E-A9EB-C9061825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16548-21D3-49FB-917E-41FA60AE26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динокий, забытый, чужой челов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ропщи на суровую долю свою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мотри на бездомных, больных и калек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великую в мире страдальцев сем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ждый с горем знаком, своё бремя нес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проходит вздыхая, иль тайно скор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, барахтаясь в тине житейских забо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юдям времени нет посмотреть на т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окий, забытый, чуж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яжело, тяжело одинокому 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ещё тяжелее не верить в люд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мыкаться в себе, втихомолку туж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асаться врагов и бояться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, забытый людьми, не забудь же о Т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тебя призывает в небесный Свой д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бодрись, не ропщи, молчаливо страда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лишь Богу в тиши свою скорбь излив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испытаниях земных доверяйс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скорбями тебя приближает к Се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гоняет из сердца неверия ть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 Христом даёт мир и в житейской борь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06Z</dcterms:modified>
  <cp:revision>13</cp:revision>
  <dc:subject>Slavic hymnal Гимны веры христиан, hymn 709</dc:subject>
  <dc:title>Одинокий, забытый, чужой человек</dc:title>
</cp:coreProperties>
</file>