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6FF-E99F-4FCC-B901-847F2FFC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55F-51E7-46B3-B242-3FA3B5BB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F76-3DCB-4A73-AFA7-A587B1AE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B89-E303-4714-B878-C231BED6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FBD-94EA-458F-A026-63A3520D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F217-6CBD-49DE-9AF2-85B1A61D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B07-FDCD-4E24-A7B0-6F6D9906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7E8-4760-4FE2-825E-C0D79832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049-FA32-49F9-A653-FDFA17DC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7D7-47DD-4B97-AD7F-C0D75685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EF5-E5C1-4741-9766-AEAAFC6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B9B-1F64-4DBE-8DF2-DC4971EF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BC197-E728-444F-885C-5EBF194559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 when I am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treasure that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 as a precious jew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o give up I’d be a foo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1   You Are My 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21Z</dcterms:modified>
  <cp:revision>11</cp:revision>
  <dc:subject>The Source 2, song number 1081</dc:subject>
  <dc:title>You Are My Strength When I Am Weak (You Are My All In All)</dc:title>
</cp:coreProperties>
</file>