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164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24360" y="111564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28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164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24360" y="4198680"/>
            <a:ext cx="289728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9280" y="395280"/>
            <a:ext cx="899820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160" y="419868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160" y="1115640"/>
            <a:ext cx="439092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4198680"/>
            <a:ext cx="8998200" cy="28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95280"/>
            <a:ext cx="899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115640"/>
            <a:ext cx="8998200" cy="59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Bef>
                <a:spcPts val="1412"/>
              </a:spcBef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1412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9640" y="395280"/>
            <a:ext cx="899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1440000"/>
                <a:tab algn="l" pos="2158920"/>
                <a:tab algn="l" pos="287964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I Will Serve Yo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"/>
          <p:cNvSpPr/>
          <p:nvPr/>
        </p:nvSpPr>
        <p:spPr>
          <a:xfrm>
            <a:off x="539640" y="828720"/>
            <a:ext cx="89996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erve You because I love You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given life to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nothing before You found m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given life to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rtaches, broken pieces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uined lives are why You died on Calv’r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ouch was what I longed for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2000"/>
              </a:lnSpc>
              <a:tabLst>
                <a:tab algn="l" pos="0"/>
                <a:tab algn="l" pos="719280"/>
                <a:tab algn="l" pos="1440000"/>
                <a:tab algn="l" pos="2158920"/>
                <a:tab algn="r" pos="863928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given life to m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"/>
          <p:cNvSpPr/>
          <p:nvPr/>
        </p:nvSpPr>
        <p:spPr>
          <a:xfrm>
            <a:off x="9144000" y="6624720"/>
            <a:ext cx="53964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2:30:00Z</dcterms:created>
  <dc:creator>John Zaitseff</dc:creator>
  <dc:description/>
  <dc:language>en-US</dc:language>
  <cp:lastModifiedBy>John Zaitseff</cp:lastModifiedBy>
  <dcterms:modified xsi:type="dcterms:W3CDTF">2018-07-13T06:25:27Z</dcterms:modified>
  <cp:revision>3</cp:revision>
  <dc:subject/>
  <dc:title>I Will Serve You</dc:title>
</cp:coreProperties>
</file>