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75863" cy="75628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B41-18CB-4222-82E1-00539E18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D11-A6F4-4030-A996-A15574A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7E5-938B-4058-86A7-2BB22347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DFB-BA7E-49F1-9635-30717414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A55-5006-4994-95B5-E5E46F2D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6D6-6D78-4BE8-A681-AF4F1B45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C4F-8E28-41DD-91CD-C7A64F8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27F-CE16-4561-AAF1-19009EE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423-1C61-4A6A-B4A5-CB011917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0A8-AE55-4AB9-A2CF-A24283BA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A75-B11E-4D0B-8BC7-CCF3E8F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AC7-C69A-4F18-8B15-96640D6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C639D-6839-48B7-8312-899538B69C99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5240" y="6745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144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e Holy of holi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hrough the blood of the Lam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worship You on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I enter to honour “I A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Lord, I worship You, I worship Yo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Verdana"/>
              </a:rPr>
              <a:t>For Your name is holy, holy, L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685800"/>
                <a:tab algn="l" pos="13716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1282   I Enter the Holy of Ho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6:39:35Z</dcterms:created>
  <dc:creator>John Zaitseff</dc:creator>
  <dc:description>Barry Hart and Jonathan Bugden (compilers), The Source 3, Kevin Mayhew: Buxhall, Suffolk, England, 2005.  ISBN 9781844173327.
</dc:description>
  <cp:keywords>lyrics words praise worship songs</cp:keywords>
  <dc:language>en-US</dc:language>
  <cp:lastModifiedBy>John Zaitseff</cp:lastModifiedBy>
  <dcterms:modified xsi:type="dcterms:W3CDTF">2010-12-18T08:44:54Z</dcterms:modified>
  <cp:revision>11</cp:revision>
  <dc:subject>The Source 3, song number 1282</dc:subject>
  <dc:title>I Enter the Holy of Holies (For Your Name is Holy)</dc:title>
</cp:coreProperties>
</file>