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568-EBD3-4B39-AE32-1E0984F9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AAA-B2C7-452F-80F9-6FA32EC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C6D-7276-4E45-9200-E25A3339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490-6922-45EC-A8E4-8E254923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E76-BEBB-4703-A6AB-7855EAB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581-44FE-4930-87EA-241F7554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33AE-C67B-4CDE-8CDF-77CB9FB8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1E8-8919-405D-9ED2-6A712CBD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8761-E1DF-49D5-ADAA-EDC4DEF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BD9-4A0D-425F-B9C0-45ADF2F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356-0E0C-4696-88E0-93676F8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451-B1B8-4EFF-B5FD-7CF83BFF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EC9C5-9922-4088-8A12-8CD6EF552B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8:26Z</dcterms:modified>
  <cp:revision>12</cp:revision>
  <dc:subject>Slavic hymnal Гимны веры христиан, hymn 826</dc:subject>
  <dc:title>Скажи, Господь, чтоб передать</dc:title>
</cp:coreProperties>
</file>