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C40-399B-4FE5-8404-A995827D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F9F-4131-4111-ACE0-4AB1CBAB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A62C-AD97-4A3A-ADF8-8706D87F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9EC-7A73-4A7F-90B1-3CE98ED3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34D-23F4-477A-A4D7-C6F02A82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B1E-54A0-446B-9E79-A5564C65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361-7539-401F-9C98-32DE446D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30A-2264-48C7-A968-1E97811D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18C-AD52-43F1-B492-98479688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3B4-2FB2-4AF9-8778-AB3487BF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C89-5DE8-43EA-89A1-3A38610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29B-8FFB-4C7B-846F-2B0C050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58502-1254-4553-B3B6-BF018ECAE10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602   We Will Seek You 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praise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ncense, O Lord, to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ay our worship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fragrance, O Lord,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eek You first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hear our voic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ly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late in the nigh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ill sing Your prai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You the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fering our live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holy sacrif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37Z</dcterms:modified>
  <cp:revision>12</cp:revision>
  <dc:subject>The Source 3, song number 1602</dc:subject>
  <dc:title>We Will Seek You First, Lord (O Lord, To You)</dc:title>
</cp:coreProperties>
</file>