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76A-5906-461F-A29B-29BE010B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A405-046B-48C2-B23C-C6E1905C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B3D-2AB2-4FF7-B0DD-C6F0A2BE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456-8444-44F2-A2CE-91F8CA6C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01D-D3D9-4788-BBC7-1B7EE3FF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8D5D-F127-42CB-A5C2-36B35E69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20D-53CA-4B47-9909-C5CB1B1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8DA-1AB1-4D7C-B7A2-9A20443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EAD-3932-4301-BC53-16553F38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167-932B-4A9A-A930-4BC6A761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216-9598-4F36-9684-FC4826E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C04-1486-462F-B72F-5DE726F0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23244-B11F-453E-A547-BF9DA002148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eace on earth and mercy mi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od and sinners reconcil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22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и ангельской вн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, мир Он всем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с Богом прими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yful, all ye nations, r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oin the triumph of the sk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ngelic hosts procl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 is born in Bethlehe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вознес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ангелами съеди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ясли ради нас со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Чей небо и пре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by highest heav’n ad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Christ, the everlasting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ate in time behold Him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fspring of a virgin’s wo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ть Христа — наш дол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 — Предвечный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 концу веков рожд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пречистой Девы О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Veiled in flesh the Godhea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’ incarnate De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Pleased as man with men to d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our Emmanu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плоти Сам Бог яв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з взяв раба, смири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ть с людьми благов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Эмману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heav’n born Prince of Pea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il the Sun of Righteousne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ght and life to all He br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Ris’n with healing in His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язю мира всех при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правды Ты и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для нас принёс с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целенью всех воск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ild He lays His glory b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hat man no more may d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raise the sons of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orn to give them second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оставил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и упразднил держа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ился, чтоб нас под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рожденье свыше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ark! the herald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lory to the newborn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ангельской внем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родился всей з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2-29T07:36:23Z</dcterms:modified>
  <cp:revision>18</cp:revision>
  <dc:subject>Slavic hymnal Гимны веры христиан, hymn 227</dc:subject>
  <dc:title>Hark! The Herald Angels Sing / Вести ангельской внемли</dc:title>
</cp:coreProperties>
</file>