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E46-6577-4E64-A8EA-FF589D22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8D7-B53A-4CC6-8B5F-6C9DBD58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77A-0D51-4DC3-A50B-0C69F4D2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248E-531C-4FC2-9413-01B1729D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B7F-0EE3-4BAB-AB8C-3AFF73D2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A30-D3D4-441F-BC1E-8722AA25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C14-60D8-4DCA-85CA-855618C2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992-8A0A-4E77-B46D-0F3EFFE2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2FF-5BE0-45DF-80DC-AE487308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778-5B1B-4D6B-B7E9-6590A118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827-1CCF-4E26-8550-4EFAB807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21C-9505-4CA5-982A-27F2712B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2ECA9-9BD3-4C54-8F03-C29C7458EF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корбь, ни смерть нам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утешень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прощенье, мир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жденье от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осторженно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3:44:25Z</dcterms:modified>
  <cp:revision>12</cp:revision>
  <dc:subject>Slavic hymnal Гимны веры христиан, hymn 854</dc:subject>
  <dc:title>Есть место сладкой тишины</dc:title>
</cp:coreProperties>
</file>