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358-E24B-4BAB-92D0-0031356F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D5A-5441-44FE-9222-56013AA0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76A-FAC4-4BB8-A3BE-75D41627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3DE-9108-45B9-8922-61B82BE2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F574-4C8B-4C38-8AE7-A384A43E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C43-4009-4E21-B15C-E537A49E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B1D-0177-48B2-B1DC-81415C5E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45A-D72A-4A35-97E4-60DCEBFF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7D7-9D90-447D-86E1-50D1FCDE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F30-4E4D-41DE-8AB6-4DB0CEBB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F95-467D-4CAE-9897-413D5375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8CF-5527-4AD2-B2ED-D8B179CE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F74B1-C959-4BBF-900B-E20A8AAE5B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after darkness, gain after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ngth after weakness, crown after cr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after bitter, hope after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 after wandering, praise after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осле но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осле ночи, свет после ть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ь после зноя, блеск после мг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после смерти, песнь после сл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aves after sowing, sun after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t after mystery, peace after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after sorrow, calm after b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after weariness, sweet rest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за горем, луч за дож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 после жатвы, пир за тру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за борьбою, явь после грё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after distant, gleam after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fter loneliness, life after to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fter long agony, rapture of bli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ght was the pathway, leading t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китанья — милост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траданья — слава в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сть покоя — после угро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что дарует верным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2Z</dcterms:modified>
  <cp:revision>13</cp:revision>
  <dc:subject>Slavic hymnal Гимны веры христиан, hymn 488</dc:subject>
  <dc:title>Light After Darkness / День после ночи</dc:title>
</cp:coreProperties>
</file>