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F01-924C-43A3-860B-C1CECD59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24A-62D7-4C0B-9028-9D93EF7B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345-271A-48DE-9FBD-17721729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D62-1CC1-4461-B8BF-8B601FC1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175-375D-42DB-A715-43AA04E6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4C8-8071-468B-A8C4-975A199D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37E-DAF2-49C1-ACB9-4F553C52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640-A0C4-4B2F-98E9-8F655B36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5DD-D010-4A6C-8990-325F09B0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31F-E9C9-4C45-BEB5-785B012D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8BC-2CFE-4CDB-A447-8476B94B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B6E-FDFE-494A-BD73-CCA5CDF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8A258-22B1-4E71-8E66-5E4046B35A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-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ways fill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ongs of delive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ever I am afr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I am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rength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0   You Are My Hid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55Z</dcterms:modified>
  <cp:revision>11</cp:revision>
  <dc:subject>The Source 2, song number 1080</dc:subject>
  <dc:title>You Are My Hiding Place</dc:title>
</cp:coreProperties>
</file>