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36EC-4528-4D8E-A4F8-30E06BB06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0F47-C01B-4DAA-A2F2-1535F2A0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49D6-F4BA-4864-957C-DD0FD00C7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5476-6FB9-4530-953F-089F24A2F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F18C-6BA2-4ED3-8864-59950B7A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77DF-0E1A-40B1-8574-8ED9F7D2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F645-24C5-4578-B2E2-82E1062A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86D3-ABC9-4991-82C4-A1B60D5F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5B5A-92A9-4B7F-ACE5-8CBBCE80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400C-EA6A-4376-BB5A-EA20B082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74A2-451F-4599-B7E9-CF8656CB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B233-B67A-4002-AA1C-86BDE728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73CA3-C324-4C17-8982-782550F2049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shall be showers of bless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the promise of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shall be seasons refres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t from the Saviour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2  Буде дощ благослове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дощ благослов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біцяний по любв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шники знайдуть спасі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Христовій святій кров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wers of bles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wers of blessing we ne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y drops ’round us are f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for the showers we pl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слов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ині нам, Боже, зі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ми щиро всі прос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ом Святим нас спов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shall be showers of bless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, reviving ag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 hills and the valley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und of abundance of r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дощ благослов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а Святого з неб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шле Господь нам хрещ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мари надходять у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wers of bles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wers of blessing we ne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y drops ’round us are f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for the showers we pl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слов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ині нам, Боже, зі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ми щиро всі прос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ом Святим нас спов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shall be showers of bless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m upon us, O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nt to us now a refres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and now honour Thy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дощ благослов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скорійш нам зі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 нам нове відродження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щ благодатний зі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wers of bles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wers of blessing we ne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y drops ’round us are f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for the showers we pl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слов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ині нам, Боже, зі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ми щиро всі прос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ом Святим нас спов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shall be showers of bless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that today they might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, as to God we’re confes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, as on Jesus we ca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дощ благослов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шли нам, Боже, теп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ині шукаєм прощ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чуй нас, просим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wers of bles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wers of blessing we ne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y drops ’round us are f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for the showers we pl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слов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ині нам, Боже, зі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ми щиро всі прос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ом Святим нас спов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7:29Z</dcterms:modified>
  <cp:revision>12</cp:revision>
  <dc:subject>Slavic hymnal Гимны веры христиан, Ukrainian hymn 92</dc:subject>
  <dc:title>There Shall Be Showers of Blessing / Буде дощ благословення</dc:title>
</cp:coreProperties>
</file>