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7022-500E-420F-BDCE-384BCE5C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F87-FCA9-4B45-9854-3CE96CA1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E18-26F0-468E-8768-0D522841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68D-C154-47E0-A746-6089A414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7A6-C623-43A7-9B82-1C4DF9BC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004-DBE0-41CC-9C72-092DC93F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EE1-1AAA-4B36-8469-8B4C87C7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FEC-5D14-46B9-AEB8-D6FAC1AA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47E-FAC2-4522-ACA4-EFB1D1FC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312-A2F8-4875-A5D2-61F123BE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956-3294-4CEC-8480-E26B3303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D0F-DA0E-4ED9-9EF5-C76E83CF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D5DA3-073D-494E-9F58-6604E9FB61A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roubled heart, there is a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the reach of toil and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ome where changes never co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ould not fain be resting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чудны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где горя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насилий и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царствует там жизнь и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чудесном и свя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O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when bowed down beneath the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eav’n allowed, thine earthly l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up! thou’lt reach that blest abo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ю родном нет мук, нет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страданий жизне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могил и нет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для истинных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O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 on, nor deem, tho’ sore it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sigh unheard, one prayer forgo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of rest will dawn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трудись, в надежде ж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ведёт нас в край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погибшим весть н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Иисусе ест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meekly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O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ait, and murmu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кротко жди и не ропщ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жди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ропота кротко ж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29Z</dcterms:modified>
  <cp:revision>13</cp:revision>
  <dc:subject>Slavic hymnal Гимны веры христиан, hymn 674</dc:subject>
  <dc:title>Wait and Murmur Not / О, чудный край, где горя нет</dc:title>
</cp:coreProperties>
</file>