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BF80-E22F-43CD-97B6-1BA0EF343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7147-7655-40BB-B543-95B34F06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358C-CABA-475A-B641-1836EF4C6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2E75-A360-4B21-9CE8-842B93330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4027-1CB7-4944-9694-A81F960C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1E97-92FF-4957-85ED-F82CD379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B8B1-22C2-4734-9126-53EFA714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2F5D-0619-4D4C-8C81-95A40161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3D0D-2EAC-4194-BC17-0CE04289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BE9F-CA73-4CCE-B41A-FB499678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C879-BF11-4C72-8637-1F32A8AA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5E41-C3F5-49A8-98C4-067442A7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9785D-5EE6-47F4-A024-48EE722A84D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кните к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ины кр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днимите зн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шего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за побе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ет Бог войс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ов Христа низло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х к Его но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мкните к Иису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кните к Иисус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ас на бой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оружье в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ам вас обл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е страшит вас би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ружий гул и г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за нас сраз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есчисленным вра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кните к Иисус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те всл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крепость и защи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Верный Вождь с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ч Слова обн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побеждайте ст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бодрствуя в молит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стойте на ча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кните к Иисус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битвы проле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оро день поб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все оз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енец гото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му, кто верен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очет, чтоб нав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Ним во славе 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1:55Z</dcterms:modified>
  <cp:revision>12</cp:revision>
  <dc:subject>Slavic hymnal Гимны веры христиан, hymn 498</dc:subject>
  <dc:title>Примкните к Иисусу</dc:title>
</cp:coreProperties>
</file>