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3456-8E7B-436C-BA8A-8B70D0369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0249-53C0-440D-B66A-C494EBF2B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44AD-9F5F-4B45-A1D9-70903FCE9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CD50-7517-4447-84E4-234213B36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F3AC-622E-4983-BD18-B27882E65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3398-E8EA-4AB6-881D-76136B531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DD49-95CF-46A5-AE7A-45627A0B2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640A-5849-4FF4-8815-701A07986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C23D-1F09-4715-9A39-754F8D02D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1ECF-2D31-40F2-B4ED-604EA61B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6E66-8DFE-44E3-B309-C92BBA1F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615C-4C72-43D8-B80A-196498F2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0A3096-2B44-4A15-8A44-9572F33D091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re love (more love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re power (more power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re of You in my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re love (more love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re power (more power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re of You in my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359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ore Love, More P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worship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ll of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worship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ll of my mi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worship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ll of my streng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 are my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re love (more love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re power (more power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re of You in my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re love (more love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re power (more power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re of You in my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worship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ll of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worship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ll of my mi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worship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ll of my streng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 are my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seek Your 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ll of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seek Your 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ll of my mi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seek Your 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ll of my streng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 are my L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my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4T06:00:55Z</dcterms:modified>
  <cp:revision>11</cp:revision>
  <dc:subject>The Source, song number 359</dc:subject>
  <dc:title>More Love, More Power</dc:title>
</cp:coreProperties>
</file>