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31E4-B42F-457A-A48F-09638FFD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6A0-7D60-4A8B-83FC-1B08A407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164C-8566-4B57-8121-909BDC9E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8CB-0AE3-41E5-A054-691B44F1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7A8A-A831-4600-B291-41740B61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E3A2-ECA4-4311-B034-87F5C279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A2D-B292-4B18-8A03-6AC3C10F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5BE-F2A7-4991-A1F1-04060249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AAD-9952-435C-AF1B-5091B2CD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10DC-AC6F-42C6-B996-F7A9324C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82A-9532-4B7F-8A76-42718576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626-0DE5-4796-BE53-4827F523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ACAAD-442A-4D4F-809F-56255D4CC7E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the light of Your love is shi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midst of the darkness, shi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Light of the World, shine upon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us free by the truth You now bring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 on me, shine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9440"/>
            <a:ext cx="9280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любви Тв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любви Твоей свет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ит огнём среди тьмы и мра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— свет мира, сияет над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ным словом Он освобож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й во мне, сияй в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, Jesus,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this land with the Father’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aze, Spirit, bla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our hearts on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й, Иисус, сия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ою Отца наполни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лай, Дух, пыл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игай огнём серд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, river,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od the nations with grace and mer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forth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and let there b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уись, река, стру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лей народы благодат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лово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 будет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685800"/>
            <a:ext cx="98488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come to Your awesome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shadows into Your radia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blood I may enter Your bright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arch me, try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nsume all my dar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 on me, shine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ё присутствие прихож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еперь светом весь заль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кровь я Твою засия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ытай меня, тьму удаля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й во мне, сияй в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, Jesus,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this land with the Father’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aze, Spirit, bla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our hearts on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й, Иисус, сия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ою Отца наполни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лай, Дух, пыл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игай огнём серд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, river,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od the nations with grace and mer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forth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and let there b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уись, река, стру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лей народы благодат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лово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 будет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914400"/>
            <a:ext cx="1005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we gaze on Your kingly bright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our faces display Your lik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 changing from glory to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rrored here may our lives tell Your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 on me, shine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ём сияньи, Господь, пребыв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цом открытым Тебя отраж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лавы Твоей меняемся в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м Тобою сиять мы жел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й во мне, сияй в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ine, Jesus,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ll this land with the Father’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aze, Spirit, bla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t our hearts on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й, Иисус, сия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ою Отца наполни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лай, Дух, пыл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жигай огнём серд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, river,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od the nations with grace and mer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end forth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and let there b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114800"/>
            <a:ext cx="9280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уись, река, стру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лей народы благодат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лово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 будет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2:24Z</dcterms:modified>
  <cp:revision>13</cp:revision>
  <dc:subject>The Source, song number 335 in Russian</dc:subject>
  <dc:title>Господь, любви Твоей свет сияет / Lord, the Light of Your Love (Shine, Jesus, Shine)</dc:title>
</cp:coreProperties>
</file>