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B3D-9FFD-4499-9049-D166E494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053-806B-4688-B947-5D7FD21B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2F66-49EE-4BFB-B3E5-98ECD120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D5A-6555-4D15-95D5-89FEA2D1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955-AB05-4004-80CD-98B841E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171-D66B-433B-99F8-C968C851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F24-12F7-4C25-98EB-F7AF044D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B17-31FA-4C21-A27D-017B4C57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8F9-9189-4811-BFC4-51406B3C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BB7-016F-4A1F-B7B8-8F0DEEF0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CC6-63BE-40C4-853A-61C5AB35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D6C-BA65-4D6F-88A1-409EABD4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E101F-A3FE-4DCE-A54C-293101C20B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яносто девять овец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Пастырем в свой заг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на блуждает от ни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грозит ей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уть бедной придётся в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вяносто девять 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вяносто девять овечек зд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очно ль их Теб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 Пастыря сердце для каждой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их не покинет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б ни встретил Я на Своё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пасённых никто не видал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 где Он овцу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 тьме ходил, как Он звал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щельям и выступам с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ека услышал Он слабый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ему, Господь, на Твоё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мы свежей крови сле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лилась Моя кровь, чтоб ов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ликих страданий и б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 раны зачем на руках Твоих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нак верный, что Я возлюбил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верный, что Я возлюбил Мо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ней любви вознесли хв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гоне был каждый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 пенья дошёл до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обрый Пастырь нашёл овц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ангелы радостный гимн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Ликуйте, Господь отыскал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Господь отыскал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4:50Z</dcterms:modified>
  <cp:revision>13</cp:revision>
  <dc:subject>Slavic hymnal Гимны веры христиан, hymn 841</dc:subject>
  <dc:title>Девяносто девять овец пришли</dc:title>
</cp:coreProperties>
</file>