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162-A853-4FA4-9BB3-5775A4FD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486-515A-4104-9F0C-15EEAD29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D9B-03F1-4470-B709-871EF493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A4F-A703-4733-86C7-DA1A3DF7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3B4-1B2B-46DE-8A57-35DFA39F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FC9-1E94-4ED3-B774-1266C7FE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A76-D138-4D27-A78B-CF3B1AFB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9A7-8888-4904-BA99-CA66065B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EB96-DEC3-47EE-B64F-AE10C342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F25-89B0-4B2B-9AD3-552E4F0A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C77-4505-4CFE-8B6F-AE434B46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3B5-705C-416C-A290-B7FDC064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EAFB8-31B5-4CDE-80C0-E637A6992A1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страдающи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мерно Ты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рабов греха стра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кровь и слёзы 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ы ли плакал пред тол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лимовых сын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 высоко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воне их 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, страдающи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ни, сёла,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верия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на подвиги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ьного зо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то бы мне источник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, горя то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день и ночь за свой на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лакал бы с моль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7:18Z</dcterms:modified>
  <cp:revision>12</cp:revision>
  <dc:subject>Slavic hymnal Гимны веры христиан, hymn 789</dc:subject>
  <dc:title>Христос, страдающих людей</dc:title>
</cp:coreProperties>
</file>