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038-8942-45CD-8228-3DC22DCE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84E-695B-4524-AD27-E3C4362E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5EC-0981-420E-9E0A-FD4DAE14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95D-60EB-4272-B40E-ED7F725F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583-CCF6-4B6F-91C1-71B05F24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669-33E2-45FE-A209-8DDA08A3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4AD-BAD6-45D9-A7A7-DC39B2DC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41F-161A-4E49-B8FE-8B9117E2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782-1E32-4C0C-8576-44E83DB5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228-8935-4019-BEF2-7CA39A73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788-2E0F-4A68-A16B-A831D315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005-47DD-496E-A82D-C99D4099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25100-035A-4E43-AFEB-70C7476BAFB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side of the river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saints, all immortal and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robed in their garments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чизна моя в небе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й стремится и рвёт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ятые в бессмертны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труится живая ре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ink of the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kindred and friends are a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way from my sorrow and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fly to the land of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меня ждёт в небес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товит обител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мирный на злачных лу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светлом, блажен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is now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end of my journey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dear to my heart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atching and waiting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мне быть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мой зем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не встретятся в райских вр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, что верою жил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re, over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oon be at home over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изна моя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2Z</dcterms:modified>
  <cp:revision>13</cp:revision>
  <dc:subject>Slavic hymnal Гимны веры христиан, hymn 692</dc:subject>
  <dc:title>The Home Over There / Отчизна моя в небесах</dc:title>
</cp:coreProperties>
</file>