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39</a:t>
            </a:r>
            <a:r>
              <a:rPr b="1" lang="ru-RU" sz="3600" spc="-1" strike="noStrike">
                <a:solidFill>
                  <a:srgbClr val="ffffff"/>
                </a:solidFill>
                <a:latin typeface="Verdana"/>
              </a:rPr>
              <a:t>	</a:t>
            </a:r>
            <a:r>
              <a:rPr b="1" lang="ru-RU" sz="3600" spc="-1" strike="noStrike">
                <a:solidFill>
                  <a:srgbClr val="ffffff"/>
                </a:solidFill>
                <a:latin typeface="Verdana"/>
              </a:rPr>
              <a:t>Ближе, Господь, к Теб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en though it be a cro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raiseth m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я б крестом пришлос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яться мне;</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all my song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to The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но одно лишь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ough like the wander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un gone d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arkness be ove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rest a ston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пустыне странник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очь тем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дых на камне л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ёт глав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t in my dreams I’d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to The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ердце и во с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hen, with my waking thought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right with Thy prai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t of my stony grief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thel I’ll rais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пробудясь от сн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восп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хвалой, Христо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ч заменю.</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 by my woes to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to The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корби отрада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Or if, on joyful w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leaving the sk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un, moon and stars forgo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pward I fly,</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огда земную жизн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конч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о славу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ведёшь меня,</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all my song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my God, to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arer to The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ая радость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Господь,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иже к Тебе.</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0:09:54Z</dcterms:modified>
  <cp:revision>3</cp:revision>
  <dc:subject>Slavic hymnal Гимны веры христиан, hymn 139</dc:subject>
  <dc:title>Nearer, My God, to Thee / Ближе, Господь, к Тебе</dc:title>
</cp:coreProperties>
</file>