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720-64F2-47FF-8C00-801B8C8B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3CE-77A4-48FB-A39F-7908B336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B31-263A-4B09-91C1-15F7214C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DE4-17F0-4A0E-89E5-F24A0F90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A0A-AA09-489B-8905-316A9F3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02F-B81A-4B4C-AEA9-F28BF334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283-9BED-4A56-B59B-39689506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ED1-E635-4FBA-9FF1-45FD141F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4DF-1E76-4F0C-87BE-040C96F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CC2-629B-407F-97F6-4B4553A5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83E-778C-4691-A766-552016B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D83-3A16-452C-A186-4655E33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D9609-9FD1-4D4B-864C-3EFD4BB6B7E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84   К Тебе, Господь, прихож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Господь, при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рность свою при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то Ты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, чем Ты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ьму из жизни заб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ом правды Своей восси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мои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болезни мои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так бла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и 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слов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лагодарю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5:20Z</dcterms:modified>
  <cp:revision>11</cp:revision>
  <dc:subject>The Source 4, song number 1884 in Russian</dc:subject>
  <dc:title>К Тебе, Господь, прихожу (Я благодарю Тебя) / I Come Before You Today (Thank You, Lord)</dc:title>
</cp:coreProperties>
</file>