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2AA-30D7-4798-8A0D-5DFFA578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184-988F-4419-9042-51A90390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D76-5E9B-415E-A4F0-7FF23546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DC8-E396-463C-82D6-CF66E25C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31A-6094-42F2-A7FB-3BAC722D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A85-71D2-4E1B-A151-3D67939D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A22-3010-4306-ACF0-58EAEF29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A6B-4D0F-4BF6-9E44-C875942B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B50-FA2C-41D6-958B-63A52318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6C19-BCE3-44E9-8F0C-4302D02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1A3-375D-4E94-98B5-1AF7743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BAEA-0A76-4D3A-8498-5555DDBF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191FE-3AB0-4F25-A226-DA2D4AF5E6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много світла нам відкр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научила любити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ілька вже тисяч літ вона прож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нас вона учить про закон св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9   Біблія много світла 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01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ного пророцтв у Біблії міст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и вчать про все напер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ільки в ній мудрості для нас відкрит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озволь нам розуміти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іблія вірну путь нам відкрив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всіх вона вчить, як по ній і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 хто її на довгий час лишає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й скоро зблудить з вірної пу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, християни, Біблію чит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х побіждайте, двигайтесь впере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аших близьких із неї навч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 нам заплату скоро прине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же, даруй нам знати Твоє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сповістити Божу правду всі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 наступає царство вже Христо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день заплати буде для усі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5:18Z</dcterms:modified>
  <cp:revision>13</cp:revision>
  <dc:subject>Slavic hymnal Гимны веры христиан, Ukrainian hymn 9</dc:subject>
  <dc:title>Біблія много світла нам відкрила</dc:title>
</cp:coreProperties>
</file>