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800-0D49-46FC-B9E8-2E0B0CA7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0FD-186F-4299-9C33-B1E20C0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5F6-3142-4F54-A69F-8D4427B9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1A0-8C7A-4685-88F5-3FB0F0E1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463-1913-40C8-B89E-8ABF95F7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D17-7A58-41CC-9E25-22A155F9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1C1-1EF2-46F9-93AE-8C1FD678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B01-2F01-4F2B-BE66-F1F4DDD8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ECB-A624-41F9-97DD-BF9F893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755-7D94-461B-B51E-C3C6958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6AA-2CB6-44D6-813C-53B73BDD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4B9-2386-47E1-BB37-F5CD2B8F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DF6D3-D2CC-45C1-A95F-8C3DBA79659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ьи ангелы ле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когда-то в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родился нам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жьи ангелы, лет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ухи, оставьте стад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тьм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: Бог пришёл к на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блестит небе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дрецы, довольно зн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ли не без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пришёл давно Жел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видна Его звез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е, несли вы б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тарались побор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онец настало врем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пришёл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по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Царю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4:54Z</dcterms:modified>
  <cp:revision>14</cp:revision>
  <dc:subject>Slavic hymnal Гимны веры христиан, hymn 228</dc:subject>
  <dc:title>Божьи ангелы, летите</dc:title>
</cp:coreProperties>
</file>