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60C-DA97-4C31-B9BC-EA420C09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5D61-5FF7-4C9D-AA48-2325E697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1550-7365-451C-B0B9-2FEA7363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1A38-EDF5-42AF-95C8-4AB9856B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31C7-5A1B-495D-93D4-C6EB8B40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519-B857-4C3D-9464-2B745330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074-E684-4EEF-8B5A-43773B49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30B9-D9FB-4BA6-A1D0-4F2E4383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A05-1E95-4351-AAB5-0F673B3C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37E-F275-4216-8D94-E191C16A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0658-3137-4B08-A038-DDB7F4C5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ADAB-9338-4F22-B490-CE554A66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CDD20-6848-4484-B37A-F5FAF5A90F4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я пришёл утром в с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шина. День будет погож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ачалом дня свет проник в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ся мне Сын Бож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со мной, говорит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ывает меня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сторгов тех, что даёт О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 переда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дин я пришёл утром в с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ворит Он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ают песни зем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удесный гимн о Его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мне и в пусты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со мной, говорит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ывает меня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сторгов тех, что даёт О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 переда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ы остаться в с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царит покой безмят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 труду зовёт и чрез шум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лышен голос н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со мной, говорит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ывает меня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сторгов тех, что даёт О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 переда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3:21Z</dcterms:modified>
  <cp:revision>12</cp:revision>
  <dc:subject>Slavic hymnal Гимны веры христиан, hymn 848</dc:subject>
  <dc:title>Один я пришёл утром в сад</dc:title>
</cp:coreProperties>
</file>