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E4D-86D2-4B64-B48C-CE5D5A3F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2D0-ABE4-43FE-B281-F80993B8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536C-E172-40E8-AFD1-B6C0809A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C518-2A4A-4A6C-8FDA-88D45E90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3623-E343-4B1D-8E00-4A4A7F71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82C-3A65-41B8-ADB6-EC09F954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AA49-15FE-4196-8C85-2B83EBCE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4436-C18B-490D-8DC2-1D341C1D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496-B08C-4B85-9761-F9F16933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D55-2BB6-4449-85FF-11A6A842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783-4764-4484-8599-D1289AEA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DB3-2771-468B-8FB6-4D997321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BEFCD-35A0-4359-91C5-597601CD1B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was but a little ch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well I recol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 would grieve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my folly and negle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забуду детских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забуду детских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атери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чинял не мало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лей и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ay and night she prayed to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me in His c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, tell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! (I’ll be ther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ила к Богу день и но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не открылся С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nswer to her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essage,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b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’s joys with her to sh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tell my darling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 (I’ll be the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a message cam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bade me quickly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I would see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Saviour took her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жды весть ко мне приш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ать при смерти леж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ись домой, пока жи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и слезу с лан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omised her, before she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aven to prep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, tell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! (I’ll be ther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ал ей слово верным 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ься к небес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nswer to her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essage,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b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’s joys with her to sh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tell my darling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 (I’ll be the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that she has gone to Heav’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iss her tender c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, tell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! (I’ll be ther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ушла… хотел бы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асть к её рук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nswer to her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essage,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b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’s joys with her to sh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tell my darling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 (I’ll be the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I was often way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was always kind and g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patient, gentle, l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acted rough and ru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воевольничал не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сто был в б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мня всех моих прок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чь спешила м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hildhood griefs and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would gladly with me sh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, tell my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! (I’ll be ther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се трудности мо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ила попол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nswer to her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message, blessèd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b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Господь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ущим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other I’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’s joys with her to sh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tell my darling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 (I’ll be the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мат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с ней в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скажи 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буду там (буду та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became a prodig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ft the old roof-t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 almost broke her loving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ourning afte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удный сын, покинув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шёл я в край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ную мать покрыл сты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ачем и то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4:18Z</dcterms:modified>
  <cp:revision>13</cp:revision>
  <dc:subject>Slavic hymnal Гимны веры христиан, hymn 803</dc:subject>
  <dc:title>Tell Mother I’ll Be There / Я не забуду детских лет</dc:title>
</cp:coreProperties>
</file>