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04A-7A61-4069-928B-FCA67913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8250-DA6E-445C-B920-E990EC35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231-D59B-483A-ACB5-F1A899AD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D48-5953-4009-A6B7-311FB8DB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7B1-7865-41EF-8F18-F8BD2560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D22-9F7F-4558-8288-44E8E4A0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2EA-1D20-4A32-B456-C5E551DB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ADE-4881-47D0-A540-33360AAE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FC8-AA65-40A1-8810-C118A1F6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F56-AD7B-499D-8820-E97C79D9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BC6-97EE-495D-A222-61BB37D7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4DE-3ECD-46D9-B122-69001FB0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5866C-E6E5-471A-B406-8F276BF3DD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уждаюсь в Тебе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елаю всегда быть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Господь мой, любимый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ованье моё и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ду Тебя, люблю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рудно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, Хран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могу д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нуждаюсь в Те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щенья душа моя жаж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ть желает противного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борьба и борьба, о, когда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остигну небесных двер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ду Тебя, люблю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рудно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, Хран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могу д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гда в этой жизни уны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рьбы утомится душ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ойди ко мне ближе, мой Пасты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с Тобою так жить хорош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ду Тебя, люблю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рудно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, Хран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могу д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елись Ты во мне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руй чувствованья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ерным я был Твой служ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же ко мне и жи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жду Тебя, люблю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трудно на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, Хран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могу д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1:56Z</dcterms:modified>
  <cp:revision>13</cp:revision>
  <dc:subject>Slavic hymnal Гимны веры христиан, hymn 797</dc:subject>
  <dc:title>Я нуждаюсь в Тебе, мой Спаситель</dc:title>
</cp:coreProperties>
</file>