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015-3EEB-4BF2-B17D-2003391E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937-8FC9-489F-A387-0AA23825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14B-303B-4B4F-B330-E2CF03B3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B19-E96E-49D0-A4A2-84314809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B93-31CD-408D-AC3D-093084B3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129-D351-478A-AEBF-6815EE9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A43-BB13-4C6C-B9AE-327E87E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7D8-748E-4809-B1D0-E6265E74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C5D-9631-494A-891F-CE69A1FD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D8C-7EE7-4719-85C0-D828BC7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087-4B77-49C7-B030-EE38886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4A7-70D9-435D-B9E4-841A9A5B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1790A-C17B-490A-B88B-5E3BB065E5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et the Weak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10Z</dcterms:modified>
  <cp:revision>10</cp:revision>
  <dc:subject>The Source 2, song number 862</dc:subject>
  <dc:title>Let the Weak Say “I Am Strong” (What the Lord Has Done in Me)</dc:title>
</cp:coreProperties>
</file>