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7B3-30AA-4E35-B476-DA404407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8D0-B462-4964-B6E5-B909EE4A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1CC-3781-40EC-B96C-F5DBE98C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E3E-F72B-49A6-982A-48AD8C6C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EAA-C1C5-47A5-A535-E64F0BA9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014-87B8-4E9A-8B20-CFD75E7E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A9B-7DAD-43DD-8021-011FF8F0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30D-DEC8-4BBC-864C-72CDD3D7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D81-629C-4E8E-A743-49B48063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EF8-2739-4318-822D-0AFAA4DE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F28-1BBD-4861-8953-A7B45C90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A44-519B-4180-ADCB-800A2D40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C1D59-96B2-4A06-A6CD-02C17E9D43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deep the Father’s lov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vast beyond all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He should give His only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make a wretch His tr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велика любовь От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явлена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Сына Он отдал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шных в искуп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w great the pain of searing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Father turns His fac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wounds which mar the Chose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ring many sons to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лубока вся боль бы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смотреть не мож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раны на руках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 славе, вечной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hold the Man upon a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sin upon His should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hamed, I hear my mocking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all out among the sco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, Сын Божий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взвалил на пл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жусь, но слышу голос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других насме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s my sin that held Him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 was accomplish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ying breath has brought m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know that it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привёл Его на кре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и всё — сверши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вздох Христа мне 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ительн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ill not boast in an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 gifts, no pow’r, no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I will boast in Jesus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death and resur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м хвалиться не хо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дростью, ни си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иться буду лишь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жертвою М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y should I gain from His re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cannot give an ans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this I know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unds have paid my ran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что Он дал награду м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у меня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о всем сердцем вер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рех искуплен жер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8:56:01Z</dcterms:modified>
  <cp:revision>12</cp:revision>
  <dc:subject>The Source, song number 185 in Russian</dc:subject>
  <dc:title>Как велика любовь Отца / How Deep the Father’s Love for Us</dc:title>
</cp:coreProperties>
</file>