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6F0E-0B62-47FA-B084-60DC9619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B18-642D-426B-8FFA-2827B172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CD7-A619-428D-A406-B9339F84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86A-7335-4CE7-AA4A-8626EEB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D24-8E6D-440C-9434-466A768B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4A2-AE15-4EAF-BB7D-4403A9E3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686-99AE-471F-9474-8777ACA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3C0-097C-4D91-AFDE-9AB086F0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7DB-5338-4EE7-8743-497D2C39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5C9-8768-4FBA-8059-20E1481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34D-BFB1-4742-9619-311A3BCE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62B-4693-4B37-92C0-72CD1CF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6F059-6E22-4220-900F-9BD743DD4D8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ove to sing Y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’re in my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so glad You came to sav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Lift Your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me from heaven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ow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arth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debt to p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lift Your name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0:32:33Z</dcterms:modified>
  <cp:revision>10</cp:revision>
  <dc:subject>The Source, song number 330</dc:subject>
  <dc:title>Lord, I Lift Your Name on High (You Came from Heaven to Earth)</dc:title>
</cp:coreProperties>
</file>