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3AE-A212-4FA9-B0FF-BE2D8686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C86-8469-4940-92B5-DE7B56C0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8E6-BA33-4CED-A96A-ED81C3DB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E32-7787-431A-BC2E-E66A1564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1C9-2C34-48DE-B0D2-728CC49E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ACC-8664-42D1-A956-3DC47EB6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A6F-BE8C-45DE-8D59-A36CDA08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157-46BA-40F6-B34F-63C00CD5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9B7-0621-460C-B4D0-BB9FB169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F67-9396-4344-90D5-C986FF10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2D55-AF22-4259-8D75-192E959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6BC-55B4-40E6-BEA4-015EC22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DE35A-15D0-49BF-B9DE-868C9D2DD4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ене повій, на мене по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Дух Святий, молю по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ене повій, на мене по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Дух Святий, молю по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4   На мене пові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0:23Z</dcterms:modified>
  <cp:revision>12</cp:revision>
  <dc:subject>Slavic hymnal Гимны веры христиан, Ukrainian hymn 64</dc:subject>
  <dc:title>На мене повій</dc:title>
</cp:coreProperties>
</file>