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7404-9E04-44D7-A0B3-1ACF6E2C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C507-ECC5-4788-B7F5-CCC8C04B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37DB-8796-47D2-A5AF-8F92F928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55D4-7A43-4B4F-B08E-100B34C2D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4338-FDCB-45F2-AEFB-02C5E1A9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B6B1-7AC6-43BD-B879-DB5DEF2F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3A27-1FCA-43B1-B2D3-F8F8B563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CDB7-9637-4225-82A5-B623FE03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5799-2DE5-445C-9A6C-42CE4662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7DF8-6792-437C-B85A-E69E2C0D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1298-BB61-41B3-BB35-34EF1BEE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87C2-4BA4-4FD8-8E47-AE167568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42A97-140D-429E-9C0C-8332299E725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oul, are you weary and troub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light in the darkness you s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light for a look at the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fe more abundant and fr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уша, ты в борь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, ты в борьбе и томл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итве смиренно склон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Иисусе найдёшь подкреп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овую радость и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urn your eyes upo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full in His wonderful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things of earth will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angely d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light of His glory and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гляди на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ше, славне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емные скорби рассе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ом свете сиянья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death into life everl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assed, and we follow Him the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us sin no more hath dom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ore than conqu’rors we 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смерть Он вошёл в Свою с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нам идти сужде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х Он в борьбе не оста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а победил Он дав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urn your eyes upo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full in His wonderful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things of earth will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angely d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light of His glory and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гляди на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ше, славне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емные скорби рассе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ом свете сиянья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word shall not fail you He promis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lieve Him, and all will be we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go to a world that is d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perfect salvation to te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держит Своё обещ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сердцем Ему доверя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ущим в нужде и страд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мир возвещ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urn your eyes upo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full in His wonderful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things of earth will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angely d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light of His glory and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гляди на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ше, славне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емные скорби рассе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ом свете сиянья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2:06Z</dcterms:modified>
  <cp:revision>12</cp:revision>
  <dc:subject>Slavic hymnal Гимны веры христиан, hymn 886</dc:subject>
  <dc:title>Turn Your Eyes Upon Jesus / Душа, ты в борьбе и томленьи</dc:title>
</cp:coreProperties>
</file>