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F06F2-44F7-4272-820A-B895C90B1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3C6B0-2905-4C03-BED5-831F4362D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7E00E-CACF-4BA9-9019-ED5623241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D9432-1A78-478E-8D9C-B7F608469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74734-ABA7-461E-8BEC-27D80D699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96758-262D-49D2-B96B-2CEB9BE26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AA914-2F57-4387-963B-F122C9605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6B044-E927-463D-B65E-A7BAE5447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9AC00-8D39-4DE6-88A0-C647BFD01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71003-E46F-4776-A8DA-F17221AF2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22501-B061-429B-BE4B-8B9C2315C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43C60-236A-4E91-A88F-55646A1A8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D91D81-335F-48BB-AF43-73CB5E2D6A52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at child is this, who laid to res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n Mary’s lap is sleep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om angels greet with anthems swee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ile shepherds watch are keep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00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Что за Дитя в хлеву чужом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за Дитя в хлеву чуж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ария охраняет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бесный хор поёт о Нё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пастухи внимаю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is, this is Christ the K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om shepherds guard and angels sing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aste, haste to bring Him lau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Babe, the Son of Ma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й есть Христос Господ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шедший в мир с небес высо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нам Всевышним да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ь, Сын Мар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y lies He in such mean estat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re ox and ass are feed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ood Christian, fear; for sinners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silent Word is plea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чем же в яслях Он леж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овцам корм давал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всякий мог у ног Е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ожить свои печал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ails, spear, shall pierce Him thro’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cross be borne, for me, for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ail, hail the Word made fles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Babe, the Son of Ma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й есть Христос Господ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шедший в мир с небес высо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нам Всевышним да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ь, Сын Мар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o bring Him incense, gold and myrrh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e peasant, king, to own H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King of kings, salvation bring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loving hearts enthrone H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му в дар золото, лада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мирну принеси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— Царь царей, пред Ним скор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верь сердца отвори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aise, raise the song on hig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virgin sings her lullab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oy, joy for Christ is bor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Babe, the Son of Ma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й есть Христос Господ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шедший в мир с небес высо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нам Всевышним да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ь, Сын Мар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2-29T07:43:13Z</dcterms:modified>
  <cp:revision>16</cp:revision>
  <dc:subject>Slavic hymnal Гимны веры христиан, hymn 800</dc:subject>
  <dc:title>What Child Is This? / Что за Дитя в хлеву чужом?</dc:title>
</cp:coreProperties>
</file>