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AC4-CEED-445B-81EA-AFF89B5E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384-E188-410E-A4A8-10943A3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389-6C0B-4629-BBC3-CCB6184C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564-03E4-4D1C-A789-2A5C84D7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36A-55DF-4405-A105-927E9406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F66-83BC-4477-883C-24B20FD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8BB-6C51-465A-A50D-2B2FC16B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111-93FD-4EE3-93EA-FA553583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315-AB87-4855-A89C-5C4C3D06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579-AB7E-460F-921A-E0C6F9A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AAF-E41B-4438-8568-37901093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8E3-B08C-4293-B9BA-967C7DE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22302-A89E-44CD-93CE-FA32CBA0C9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нуясь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ребудем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нь ниспа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туч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будет ни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еза на о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ремя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традае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утраты нам ж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 горесть, печ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ю радость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сё нам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блаженство да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м, кто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общеньи с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 ноги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скажет —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кажет — сне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9:17Z</dcterms:modified>
  <cp:revision>12</cp:revision>
  <dc:subject>Slavic hymnal Гимны веры христиан, hymn 647</dc:subject>
  <dc:title>Когда мы со Христом</dc:title>
</cp:coreProperties>
</file>