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903-7D85-4581-95F8-87318576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08D-1DAB-4731-95A9-BEB92DF2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182-D351-4A73-B2F9-D6A9ED79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7CE-6A57-44D5-B21B-062D1BB7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71A-DDCF-4DBE-9A75-C0550CC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663-ECAB-4AD0-84FB-900E658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2D1-09D7-413D-8AFB-D7F2363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BB8-F291-441E-9B04-8A9DD1C7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507-EF23-4416-ADE3-060684D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357-3D83-4FD5-A20C-889614F7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5F0-2F2B-450E-AAB3-A3988124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C7B-1458-4213-9E26-36D118D3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E7CFC-D518-4180-B164-9EAF265E20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нам сияет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ё верою всякий в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 ведёт в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искупленный вер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дали нам сияет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ебес, дал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и печал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оют, восхваля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вством радостной, чист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есчисленный сонм те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Духа объяты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Христову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ясь пред Его алт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28Z</dcterms:modified>
  <cp:revision>12</cp:revision>
  <dc:subject>Slavic hymnal Гимны веры христиан, hymn 691</dc:subject>
  <dc:title>Издали нам сияет страна</dc:title>
</cp:coreProperties>
</file>