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9A6E-33FF-4DF6-8B80-3616A46A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F39-0C59-47A2-A14B-2849A49E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1F64-0B72-4EDA-9241-8F023FBA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B58-4485-4EEF-B969-3E89D077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9D8-CE8E-4EBD-A929-015CBAA1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B54-CAED-4D42-9F0B-D4535F56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222-75AE-40E8-B2B0-91848785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4DBB-5631-45F4-9EDF-9C6B3A6C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6DCE-1F31-430E-9B1C-7DD425E2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70B6-6911-44AA-B7FD-07E1BB51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1B9-0FE4-42BE-AC02-FD587ED9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E66-D66E-45C3-B363-5E5B5BFE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BA00D-3DAD-409D-A723-BA8EC9D4B75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у Иордана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ижу чрез стру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анаанские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умы все мо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ою у Иордана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поля вдали г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ый вечный д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ожий Сын в любви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яв ночи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могу в тот край в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росветлеть душ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вижу лик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а, чтоб мир на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чистою надеждой пол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 бежать отс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страшен гул шумящих вол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достичь я цел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5:31Z</dcterms:modified>
  <cp:revision>12</cp:revision>
  <dc:subject>Slavic hymnal Гимны веры христиан, hymn 677</dc:subject>
  <dc:title>Стою у Иордана я</dc:title>
</cp:coreProperties>
</file>