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9280" y="39528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6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Have Decided to Follow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79280" y="828720"/>
            <a:ext cx="972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9280" y="828720"/>
            <a:ext cx="98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I have decided to follo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, no turning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828720"/>
            <a:ext cx="972036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none go with me, I still will follo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8:24Z</dcterms:created>
  <dc:creator>John Zaitseff</dc:creator>
  <dc:description>Graham Kendrick (compiler), The Source 2, Kevin Mayhew: Buxhall, Suffolk, England, 2001.  ISBN 9781840037241.</dc:description>
  <dc:language>en-US</dc:language>
  <cp:lastModifiedBy>John Zaitseff</cp:lastModifiedBy>
  <dcterms:modified xsi:type="dcterms:W3CDTF">2024-11-14T22:37:54Z</dcterms:modified>
  <cp:revision>4</cp:revision>
  <dc:subject>The Source 2, song number 766</dc:subject>
  <dc:title>I Have Decided to Follow Jesus</dc:title>
</cp:coreProperties>
</file>