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499-FEF1-40EF-B5E8-6899C870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313-5521-44B2-8A21-58025C5D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328E-95AC-4F53-A0A4-DD46F0A6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950-A2D4-41DA-B726-B3D1471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C11-3331-4290-A20D-9085D731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BE4-E924-4911-81E7-C1CF82CB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A4F-69EE-4152-9F5B-E4A37A0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975-A8B0-47B2-84F5-E7B81EE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3BF-4844-4AB8-8418-AB633B8F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E66-AAA4-44C0-9CA5-E8A9270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51C-5656-4982-A10A-EFBC572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CF4-EC08-4C13-B03F-F7859582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D70B3-CEDB-4D8E-A1F4-1C5517A0A7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Child of hope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a Son is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shall the tribes of earth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, all the hosts of Heav’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shall be the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more ador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ful, the Counsell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and mighty Lor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ow’r, increasing, still shall sp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ign no end sha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ice shall guard Hi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abound below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0:37Z</dcterms:modified>
  <cp:revision>14</cp:revision>
  <dc:subject>Slavic hymnal Гимны веры христиан, hymn 235</dc:subject>
  <dc:title>To Us a Child of Hope is Born / Младенца дал нам вечный Бог</dc:title>
</cp:coreProperties>
</file>