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36B-94A3-46EF-BCDD-CD733BAF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5A1-AFE9-4FBC-8346-C3CBFE13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441-A482-492A-88DC-10DCB083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89B-0261-489E-87A6-CC4B3716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859-C164-413A-8D4E-21628ABA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33C-91EB-4A5B-8F61-C4DD4C30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713-09CF-4FE3-8B70-2F745709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9F3-5E1F-4BCA-91D1-8894968B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28C-F6FA-442B-9EE6-9A2E5987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284-443B-43D5-9F3C-91E3AA92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F77-A3B2-496B-AB09-E05101D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B2F-1172-4FC0-A33F-2A584BAC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4B292-038D-4D22-B02B-465BA7CBCC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Иерусалимских 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л Иисусу детский х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перь детей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т петь хвалу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Иерусалимских г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ат н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Его ученью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дить Его пут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наш Господь во вс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матери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те дружно голо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еслась среди жи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«осанны»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, пой, пой! о, юный хор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нну, и осан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й Царю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08Z</dcterms:modified>
  <cp:revision>12</cp:revision>
  <dc:subject>Slavic hymnal Гимны веры христиан, hymn 758</dc:subject>
  <dc:title>У Иерусалимских гор</dc:title>
</cp:coreProperties>
</file>