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59E-9E73-48DC-9EA4-0F6B7D67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BE6-419B-4502-A7FC-48182F49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E8D-048E-4EC4-BDFA-8D6AF052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C74-33D7-4DB4-B204-251CFD96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2D-A3EE-44B3-BFFD-33E07B5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E6B-91E1-43AD-A44E-89FC02A7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C49-751B-4149-8AF2-48E6DB5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943-7E7A-444A-A2E5-3A90E99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454-5155-4B9F-8C0D-F27CD460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22F-ED07-43D0-A042-2B793CD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B1E-8A86-475B-8AF6-69EC5C5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9C4-3F20-408B-A3D7-9B31B23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9C7A4-9D22-4A4A-9426-2621D872F1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calm, all is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und yon virgin mother and chi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y infant, so tender and mi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leep in heavenly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epherds quake at the 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es stream from heaven af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ly hosts sing “Allelu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the Saviour is born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lent night, holy n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love’s pu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adiant beams from Thy holy f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the dawn of redeeming g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Lord, at Thy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0:08Z</dcterms:modified>
  <cp:revision>14</cp:revision>
  <dc:subject>Slavic hymnal Гимны веры христиан, hymn 244</dc:subject>
  <dc:title>Silent Night (Stille Nacht) / Тихая ночь</dc:title>
</cp:coreProperties>
</file>