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088-C7AD-481B-9300-221D1105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7AC-B70A-4F9F-94F3-1EB2CF07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FDB-3E3E-46F8-878B-35E11706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F2E-F454-4588-991D-024E9C77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232-B554-43DC-98C9-CBED7C4F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963-0698-40EC-889D-58C9C77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FF0-5C8A-4999-9A76-7EEDE518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772-7D01-4C90-BBB4-76B5DD6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6A5-4549-442A-9E88-AB13E03E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535-4185-4F78-AEEF-45F9B013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071F-97E9-4907-B283-94BCC5CD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A6D-0D8A-476B-AD3B-C9DDFAF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26C85-B9AD-41C6-B287-5D35909F42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irit, oh, sin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ercy doth m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rt, so long harde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sin to repr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м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ечный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рех обл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ist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longer de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gracious entrea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end with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не проти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Дух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child of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in service c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filled with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comfort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тва насле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грешных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ся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ом ц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grieve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Teacher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Jesus, Th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glorified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горч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же да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filed is the te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beauty laid 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God’s holy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mbers faint g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опоро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 крас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ь же Госпо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ыпан зо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love yet rekind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lame may be fan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quench not the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is a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новь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зажиг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уж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уга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3Z</dcterms:modified>
  <cp:revision>13</cp:revision>
  <dc:subject>Slavic hymnal Гимны веры христиан, hymn 306</dc:subject>
  <dc:title>The Holy Spirit / О грешник! чтоб в сердце</dc:title>
</cp:coreProperties>
</file>