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9D3-3E95-4511-9B84-60223CCA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835E-D77C-4800-9CB0-690AFFFA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3BF6-7C4B-446C-B9E2-FEA98670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110-44E0-4843-BC85-9210CF39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7940-0278-4226-AEA8-6346F857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C695-512B-446A-AF91-328957FE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4FE6-F729-481F-A6D8-91F90C86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BA1-86FD-4D9A-B36A-0D2693B5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68F0-6698-43F4-B722-CE756394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17A6-1A18-4480-B169-363D158E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31E-6B2B-4983-A054-D2E647AF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9778-9777-4DAB-A850-334357A2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6E707-018C-4D52-B496-614076C725A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Скажіть мені, браття і сес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уди ви зібрались і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аміння лежать на дороз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ерен колючий росте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демо ми в царство Христо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чного щастя кра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ізь темряву чорної ноч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бачим світ Божого дня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4   Скажіть мені, брат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трохи, і шлях ми прой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рідного дому вві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в Свою радість нас прий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чне ми щастя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Як дуже бажав би я з 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алеку дорогу пі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думка одна лиш тривож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наю, де сили знайти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слухаєм Боже ве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уха Святого д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наші серця підкріпля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ил в боротьбі подає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трохи, і шлях ми прой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рідного дому вві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в Свою радість нас прий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чне ми щастя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О, браття, тепер я лиш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се, що у світі я м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ені в всім допом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сюди і вам помагав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раді твойого баж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спішно нам руку под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азом підемо в єднан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чудовий Божественний рай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 трохи, і шлях ми прой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рідного дому вві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в Свою радість нас прийм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чне ми щастя зна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8:09Z</dcterms:modified>
  <cp:revision>12</cp:revision>
  <dc:subject>Slavic hymnal Гимны веры христиан, Ukrainian hymn 44</dc:subject>
  <dc:title>Скажіть мені, браття і сестри</dc:title>
</cp:coreProperties>
</file>