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F5E0-8148-4807-986A-C593818F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A043-DDF7-47F5-9A81-31F9A3FD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BD3B-6087-4C72-B7EA-9F34BCFC0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75F2-89F3-4308-B899-DAE353580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AD84-C7B5-40C4-81E6-D1C431B6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A7CC-A0DA-452B-A955-1FCDF1C9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0227-1589-4E8C-AD22-0B424836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810D-36B0-4EF7-B6C2-B8000F55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AD54-F83A-40C1-8AEE-B69E68CC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EE82-BBAB-4004-8C00-23693F0D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0C0E-9789-4F34-AE84-04400594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FE32-1BEE-4528-9EAB-D1FA4E38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06502-3506-4737-9562-6361D819D25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o the Lord, the Almigh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ing of cre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my soul, prais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 is thy health and salv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а славь ты, мой ду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славь ты, мой д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хваляй Всеблаго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 песнопеньем Ц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огущего Бо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ye who h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to His temple draw n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in me in glad ador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 ты Твор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 ты Его без кон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дарует так м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o the Lord, Who o’er all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wondrously reigne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lters thee under His w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so gently sustaine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славь ты! Он муд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итель всел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целям Своим нас веду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езёй сокров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 Thou not s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all thy longing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nted in what He ordaine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ёл по пути, где скор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ёл ты, тревогой смущё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o the Lord! O let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s in me adore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at hath life and br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now with praises before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славь ты! Кто див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так устрои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до сих пор всё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ранил, и покои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und from His people ag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adly for aye we adore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ам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мерти спас, воз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благой удосто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o the Lord, Who d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sper thy work and defend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ly His goodness and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daily attend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славь ты, мой д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молкни хвал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е тебя уто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я струё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nder a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e Almighty can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with His love He befriend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ге лишь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без Него в мире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ия, мира, пок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4:30Z</dcterms:modified>
  <cp:revision>13</cp:revision>
  <dc:subject>Slavic hymnal Гимны веры христиан, hymn 807</dc:subject>
  <dc:title>Praise Ye the Lord, the Almighty / Господа славь ты, мой дух</dc:title>
</cp:coreProperties>
</file>