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BBFF8-20B7-4456-BB76-036D3F56855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64794-5865-4973-B29D-C7995D5EA84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598BF-63F0-446F-806C-5944D228F81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1B95-593D-4E55-9775-A1D667F562E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8DFFC-FF2C-44CB-B45C-39EB66439B2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BE1-45D5-433E-9041-FC7A30BD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05F-0B83-4122-AECB-356F628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3EA-D055-4634-8D26-EAD8E418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CAE-2AA0-4193-91AC-37B6093C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626-F9DC-4C6B-97E5-20366067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4A6-02ED-4819-8E1E-9222F9F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086-9E1C-415F-845D-7DF5356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FF7-DFF4-4A6A-A41F-9A2168AA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4BC-8594-4D8C-9724-9CF5640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7E3-21FF-4BE6-936B-865ECCB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8CE-8C01-4938-A874-10D62B68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4E4-896C-4FD2-9295-114F9E1A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36D23-E5E8-418A-95D4-A8F9847289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1:14Z</dcterms:modified>
  <cp:revision>13</cp:revision>
  <dc:subject>Slavic hymnal Гимны веры христиан, hymn 668</dc:subject>
  <dc:title>Мы все войдём в Отцовский дом</dc:title>
</cp:coreProperties>
</file>