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693-E4F9-4446-878C-63C32370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DE8-2345-4770-812A-25BEDCCC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1F7-E3B5-4014-B810-C2520F37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102-8017-4D49-81BF-A952CB70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881-DB96-41F5-B566-1240247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334-1564-4FEA-9BBD-41FB2E0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021-1667-45FB-BF44-A47F76A3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D13-55DF-4520-A1A2-2C22649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94C-393E-42CC-803C-503A54C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141-D7F6-4253-BD10-AB93A35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F7C-3728-43EC-8B98-EAC588C3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F68-BE95-48BB-9E22-268751C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29CDF-6E8A-4CE5-82FD-0B81F284BD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Есть чертог наслажденья для малых дете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ам Спаситель туда их приня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ебесною радостью их осия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еко от греха и скорб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чертог наслажд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ети ангелам вторят спасённой душ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авя жертвенный подвиг Хрис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Агнец Божий, избавивший их от грехов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л им видеть Свой образ жив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их в доме Отца Своего водвори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лебом жизни питает их С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ет уж голода их искуплённым сердц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навеки его утоли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 поит их спасительной, чистой вод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их водит по дивным луга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кружает дарами, любовью свя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 внимает их детским уст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готовлен для малых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ам уста их полны непрестанной хвало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Чудный Божий чертог для дет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31Z</dcterms:modified>
  <cp:revision>13</cp:revision>
  <dc:subject>Slavic hymnal Гимны веры христиан, hymn 767</dc:subject>
  <dc:title>Есть чертог наслажденья</dc:title>
</cp:coreProperties>
</file>