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75</a:t>
            </a:r>
            <a:r>
              <a:rPr b="1" lang="ru-RU" sz="3600" spc="-1" strike="noStrike">
                <a:solidFill>
                  <a:srgbClr val="ffffff"/>
                </a:solidFill>
                <a:latin typeface="Verdana"/>
              </a:rPr>
              <a:t>	</a:t>
            </a:r>
            <a:r>
              <a:rPr b="1" lang="ru-RU" sz="3600" spc="-1" strike="noStrike">
                <a:solidFill>
                  <a:srgbClr val="ffffff"/>
                </a:solidFill>
                <a:latin typeface="Verdana"/>
              </a:rPr>
              <a:t>Полный скорби и томлень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олный скорби и томл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вятых обильных слё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т, Иисус в уединен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уки чистые вознё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ерти близится мгнов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т с лица Его беж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молитвы вдохнов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трашный час Его крепит.</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о в мольбе за мир пороч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час страданья Сво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Один во тьме полноч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же спутники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ят они, а Он с люб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ихо молится за н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ливаясь потом, кров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зовёт друзей Своих:</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ы не спите до рассве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зок, близок смертны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ольётся кровь заве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 Моя, друзья, за в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т неверною поход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ж предатель сам 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дёт его Спаситель кротк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шаги его встаёт.</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Друг ты Мой!» — сказал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тебя ко Мне влеч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словом: «Радуйся, Уч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лобзаньем преда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пли гнева раздаю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ерти требуют о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ики грозные несу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хотим Его, распни!»</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На кресте почил казнё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 Господь и наш Твор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неслися бури, сто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 конца земли в кон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друг открылися могил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Голгофа потрясла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завеса Божьей сил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храме вся разодралась.</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21:37:45Z</dcterms:modified>
  <cp:revision>3</cp:revision>
  <dc:subject>Slavic hymnal Гимны веры христиан, hymn 275</dc:subject>
  <dc:title>Полный скорби и томленья</dc:title>
</cp:coreProperties>
</file>