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232-D0AE-43AA-9F29-59A74475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C2A-F8E6-4328-96C1-E16D29B8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25A-0AA3-4C2C-BB99-02AC9076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495-0ABD-4B9C-A24A-712E8B87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258-D194-4370-9374-5BF3DEF8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3806-C016-4540-8108-54818C9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BEB-5D1B-4DF6-9554-38D28D51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A13-A11E-4CCF-AB2F-60AE7138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3E1-34C0-4D4F-A5B3-45C1887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01D-2FB5-478A-BFA3-84D2410E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B5C-43E8-4912-A0B5-424EEF2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1EF4-B07E-4D90-B462-B2F1D9A4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D9F25-2D84-4F4E-BD64-647CF67817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те, дивную розу нашёл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в юности жизни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л, на розу меня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сюду последовать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йте, дивную розу нашё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 Павел великий го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асоты этой розы не ч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после стал розы служ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многих к Христу прив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роза — Христо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ороже всего для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ставил святую об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грех мой Он отдал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душою и сердцем я слав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за Сарона выше вс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04Z</dcterms:modified>
  <cp:revision>12</cp:revision>
  <dc:subject>Slavic hymnal Гимны веры христиан, hymn 782</dc:subject>
  <dc:title>Знайте, дивную розу нашёл я</dc:title>
</cp:coreProperties>
</file>