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321-3A61-4BCD-810F-5067E7EF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B31-EB05-434F-80E0-EB729A64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B81-24A6-4431-AD64-B125B0AB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843-4BCC-4168-AACA-C350A476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2F7-647E-4D65-A214-7EBF9CB5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B00-B1F5-4A2C-B843-A178974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472-6D9A-4857-9586-64B1B81A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97A-8F7C-4759-9148-91CF05A3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3F0-BCFA-4DBA-9CB5-EE0B1856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DA9-F43E-4923-9F8A-65F0618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E00-8DC9-46BC-8466-386F3F7D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DD8-4448-4AD3-9395-16D1AEB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57E10-CB16-4A74-B55B-83E27F18B5B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Младен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с весел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скорее к Нему в Вифле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го творе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Младе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хоры, пойте с ликовань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е силы, звучите хва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о веки, слава в вышних Б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е, с моли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Тебе прихо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честь и славу от сердца 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 явилось во пло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поклониться Госпо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1:41Z</dcterms:modified>
  <cp:revision>13</cp:revision>
  <dc:subject>Slavic hymnal Гимны веры христиан, hymn 242</dc:subject>
  <dc:title>Придите к Младенцу, верные с весельем</dc:title>
</cp:coreProperties>
</file>