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0DC-CA0E-424D-94E6-E0BB86E2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D21-EDA1-4393-8CA9-D1598863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2B9-0FF4-41BD-92AF-987004B1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7BF-5D41-4FC9-B943-B6999B8C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942-4CCD-432B-A963-9C93C11F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E80-D615-4F24-8845-8B69C4A4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EDD-E03E-4813-8D1C-43B85A5A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FEE-581A-4B29-9F8B-45E200EB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4AB-6838-40A7-91E5-777211C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D55-1EBF-41CB-9341-FC423BB2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EAF-927B-45EC-BBC3-82E4D98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92A-AB27-4DBA-8796-AE5D734D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949A7-833F-44FE-9F96-1D71B355EB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speak to me that I may s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ving echoes of Thy t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ou has sought, so let me s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erring children lost and 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и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б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я речи мог друг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скал, дай мне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х по путям зем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ad me, Lord, that I may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ndering and the wavering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eed me, Lord, that I may f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ungering ones with manna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, чтоб я в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вёрдых любящей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ми меня, чтоб я корм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дных манно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trengthen me, that while I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on the rock, and stro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ay stretch out a loving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restlers with the trouble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укрепи меня, чтоб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репко на Скалу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мощь гибнущим да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звал укрыться под Тво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each me, Lord, that I may 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ecious things Thou dost im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ng my words, that they may 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dden depths of many a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, Господь, чтоб мне п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заветов ши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дай крылья, чтоб дости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ец замкнутых глуб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ive Thine own sweet res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ay speak with soothing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ord in season, as from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eary ones in needful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мне чудный Твой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покоить мог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ушам, скованным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тником был сл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ill me with Thy fullness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my very heart over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kindling thought and glowing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love to tell, Thy praise to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аполни так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в избытке полила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, светом для людей г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во мне зажг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use me, Lord, use eve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s Thou wilt, and when, and 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Thy blessèd face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rest, Thy joy, Thy glory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треби, Господь,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когда и 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 прославил 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г служить Тебе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4:04Z</dcterms:modified>
  <cp:revision>12</cp:revision>
  <dc:subject>Slavic hymnal Гимны веры христиан, hymn 826</dc:subject>
  <dc:title>Lord, Speak to Me / Скажи, Господь, чтоб передать</dc:title>
</cp:coreProperties>
</file>