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B99B-1175-4DDB-B197-DCEF3DF9D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1925-1C4A-41B3-99B9-CF4BA473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67E5-5973-435B-BF34-06FFA15A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B232-A471-49D9-9EEB-E24D44F35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F22D-4AB9-4901-AECE-810760A3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A07C-AAC6-4C4B-813E-DB14C667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DF48-5965-40E8-BB7E-9EAB7F98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B0F4-A3A8-448C-9F2E-39CEA246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3D0C-D67E-498B-A861-D97D01E9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9C35-BAC5-4303-ADF2-4F8BA033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36E5-B427-451B-8D7F-D42410E4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C0FE-E251-4389-B93D-58C712CB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5AF0E-5F73-447C-96C4-BF7E7E29B4D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еко, далеко, далеко,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за гранью небес голуб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так нежно, прекра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так мило, лег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лаждаться в общеньи свя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9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алеко, дале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убоко, глубоко, глубоко, глубо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ечтаю о родине 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т слёз, ни трево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покойно, лег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отрадный мой дом дорог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очу, я хочу, я хочу, я хоч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быть в том блаженном к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и час придёт т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получ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ё место в блаженном кра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2:29Z</dcterms:modified>
  <cp:revision>13</cp:revision>
  <dc:subject>Slavic hymnal Гимны веры христиан, hymn 696</dc:subject>
  <dc:title>Далеко, далеко</dc:title>
</cp:coreProperties>
</file>