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9888-329E-4DB1-878A-5C99A662E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3EA9-AD8B-4724-873A-774205F9F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06C5-319B-4560-8C1A-5E6BFDDAD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0CCF-CA13-43E6-930B-29EF1D5AE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FA41-98BA-48B5-AC57-AE72C518B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463D-EAED-4338-8CF8-C726B3D31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26CE-28B7-4B29-BF38-1CFD0A3E7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AF7B-FC29-4C23-852E-662005D95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485D-D1CC-495F-BC57-3F658E261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805D-3F71-4CCB-942F-23E539AFF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B4ED-AB4F-40E1-BF21-6CA8E0590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D2B6-72BF-46C7-BD5B-F3ADD23D0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502D11-B5A2-4391-AE17-3F86BAC09A7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орогії хвилини Господь нам посл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и побачили сестер, браті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 Ісус з нами буде, як в слові сказ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ай лине з сердець Йому спі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м приємно зустріти й побачити в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страждання й земну сує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е забути в єднанні святому на ч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радість відчути свя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75   Дорогії хвилин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6012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починемо тут, на Сіон ми ід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зьмем сили нові в Отц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почивши за Господом далі пійд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 в світі лиш гріх без кінц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існо, дружно єднаймось довко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чі в небо ясне підійме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вперед, все вперед під захистом щи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 Господом сміло пійде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0T06:45:19Z</dcterms:modified>
  <cp:revision>13</cp:revision>
  <dc:subject>Slavic hymnal Гимны веры христиан, Ukrainian hymn 75</dc:subject>
  <dc:title>Дорогії хвилини Господь нам послав</dc:title>
</cp:coreProperties>
</file>