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1B6-608E-4A85-A7F5-3B85DACE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8FE-FAD8-4594-8178-ABD01C3B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4F0-72D2-4E19-A350-21269EB4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6BF-E248-45E6-A532-AD956C01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B52-102E-437B-8D3C-68A0C588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C44-6FAE-40A1-8C26-D3945F01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7B1-2E10-4104-A2C4-5D33750B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D75-EE3A-4044-994B-730DBC83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8A0-B661-41CE-9A29-4B281F92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9FC-2C94-4F27-ADE3-915AFBEE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895-2CA7-44CA-95ED-3F74C091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BE3-7D82-4D9D-98D9-0BE5F36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D3B1B-1811-46AE-9ACC-6E72A53BF8E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как река, теч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естанно всё вперё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каждым днём ясней пред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является с гроз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ремя, как река, те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еня Свое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ведёт в борьбу со ть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инуты утом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ёт мне укрепл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я в пути зем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ия во всё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е в сердце яд о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лить наш враг лука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, когда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ляют вдруг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нений ряд су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дут за Божь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верю всей душ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 мною, Бог со м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42Z</dcterms:modified>
  <cp:revision>12</cp:revision>
  <dc:subject>Slavic hymnal Гимны веры христиан, hymn 733</dc:subject>
  <dc:title>Время, как река, течёт</dc:title>
</cp:coreProperties>
</file>