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F172-00AB-4A65-9E46-38334D4F4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36D1-763F-4E96-862A-F554BB30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AEE0-FB94-44E5-B91B-E8EE40E8F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55E4-7411-4910-9360-C1AFA55EE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5315-5782-4AD4-99C1-43A71E1E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64B7-2215-4E0B-8DA2-7CE1FE29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8710-BFA4-4979-9671-A246DA43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0D76-09D9-4B87-874D-64B934C3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4F10-19E8-4713-88A6-FC8C87A8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0471-B32B-4763-99ED-ADC0FBCC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E62F-0F95-4B94-AE16-CD341A37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2DBA-E0DB-4EC9-8231-C141E5A2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30FC8-5554-415A-B072-6977454D0BA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for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You were fors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accep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ere condem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alive and we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Spirit is withi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You died and ros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722   And I’m Forgi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azing love, how can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, my King, would die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azing love, I know it’s tr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t’s my joy to honou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ll I do, I honou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You are my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azing love, how can i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, my King, would die for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azing love, I know it’s tr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it’s my joy to honou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ll I do, I honou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04T06:25:11Z</dcterms:modified>
  <cp:revision>12</cp:revision>
  <dc:subject>The Source 4, song number 1722</dc:subject>
  <dc:title>And I’m Forgiven (You Are My King)</dc:title>
</cp:coreProperties>
</file>