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7D98-5ED6-4444-B094-A0E98EAD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6993-18C1-4C47-9AA8-94785A38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F86E-2B7C-4D49-A24D-CF8B9B26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44C9-F592-4610-8EED-BCEF74B7F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A180-A69C-4F40-9159-3D5B97DF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9804-6263-4740-9ADA-3EB1FC16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9488-297F-49B6-81FF-B90A7023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1BF0-0EF1-44E2-900B-B74EF7DC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2B31-9105-4865-8243-E8D86315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58EA-4113-445A-ABB1-5B6CF546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C2D1-38A4-44D1-A04D-07C768BB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A269-6A25-4859-8627-54EE4546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9AD79-903C-4B07-820E-852352A3D75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He may lead me I will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have learned to trust Him s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remember ’twas fo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He was slain on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уда б меня Он ни повё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меня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у без страха и сты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чтоб меня спа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hall lead me night and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hall lead me all the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the truest friend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remember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нём, и ночью за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у везде Его пут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любовь Его по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I delight in His comm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to be led by His dear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divine will is sweet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owed by blood-stained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внимать Его сло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чтоб Он меня держ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ас приблизить к небе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hall lead me night and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hall lead me all the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the truest friend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remember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нём, и ночью за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у везде Его пут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любовь Его по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ward I go, nor doubt nor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with Christ, my Saviour, n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some day that I shall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Friend of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е страшусь я нич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испытаний, ни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бы во славе зреть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hall lead me night and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hall lead me all the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the truest friend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remember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нём, и ночью за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у везде Его пут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любовь Его по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по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44Z</dcterms:modified>
  <cp:revision>14</cp:revision>
  <dc:subject>Slavic hymnal Гимны веры христиан, hymn 513</dc:subject>
  <dc:title>Where He May Lead Me, I Will Go / Куда б меня Он ни повёл</dc:title>
</cp:coreProperties>
</file>