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EACC-8E88-4AB7-ADE6-35AA4841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31D9-FD5A-465C-98E0-1C6BB3A4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F3D7-59AF-4669-BAA9-4BA8BA16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D7E3-E66C-457A-ADA6-4EA5BA07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C2AE-5621-49F6-A989-402284CA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29F6-0612-4B4E-9451-A2D249B8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B593-BDBA-4ADA-8FF2-DF1AAFE0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262A-CDAA-4A1A-B377-83CAB427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398D-F410-4A1D-B174-450AC8AA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EE8A-7D3A-4708-94A3-9BF6C49A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78ED-0130-4B15-A132-91ABD795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2572-F36A-42F7-8482-B480867F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819C2-CC65-4835-A2A8-2CED302D3EA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look into Your holi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gaze into Your loveli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all things that sur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ome shadows in the light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7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When I Look In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’ve found the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reaching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my will becomes enthrall’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all things that sur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ome shadows in the light of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eason I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eason I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6:58Z</dcterms:modified>
  <cp:revision>9</cp:revision>
  <dc:subject>The Source, song number 571</dc:subject>
  <dc:title>When I Look Into Your Holiness</dc:title>
</cp:coreProperties>
</file>