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B58-6BF3-4FFC-8409-BBF86832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153-23E2-41C4-9553-3EED4F73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11C-62A6-4B32-9602-092CCD25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F2D-74BC-470E-A1B1-57F02D06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899-D2B6-4A87-AEC1-BB4A02AE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97E-5612-4CE0-9E0D-751D4CBC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1AB-0A9A-4364-825A-51DCBDEB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3B6-D5B2-4632-BA78-05758E71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B9C-4D5B-4A61-BB4B-04E02F8E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4C6-BB73-43A7-9962-FB31D7AC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0C9-E9EE-4637-9AA7-EDD2C7C9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82D-D702-4535-AA90-CC338142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71735-5DD3-49C8-9DD9-423B94A73A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kingdom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se of Thine abo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our blest Redeemer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4   Люблю Господні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Господні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там Хрис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куплени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Church, O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walls before The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as the apple of Thine ey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ven on Th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лю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 церкву ― храм жи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боронить Дух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оря ― буре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tears sha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prayers asc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my cares and toils be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oils and care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церкву я м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х її ді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люблен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my highest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ize her heavenly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weet communion, solemn v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hymns of love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, брат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віку бути в 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помогти в порі сум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а нести ї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as Thy truth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Zion shall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ightest glories earth can y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er bliss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Господа ми 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ю, вірю, що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 пе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8:00Z</dcterms:modified>
  <cp:revision>13</cp:revision>
  <dc:subject>Slavic hymnal Гимны веры христиан, Ukrainian hymn 14</dc:subject>
  <dc:title>I Love Thy Kingdom, Lord / Люблю Господній дім</dc:title>
</cp:coreProperties>
</file>