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5A2C-B959-4E96-8F23-D58A8EF4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4D5-D1B7-4127-A858-F738CF1F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860-A563-44CB-88F3-AF4EEE93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FAC-11F0-453E-84A0-B9A786E5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430-DB25-410A-93EA-2E64810B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B67-CB0C-4E42-ADA1-EB67B002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551-9C03-487F-8E30-7DDFE5D3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5E77-674D-4B3B-AFFC-28E514BB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EC8E-C04B-4605-9A08-BFDC89F9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3CA-AA0D-4D91-92D3-56D2FF90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F77-0E3C-46F5-B250-46B0ED65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C95-7998-4972-B9DB-07CE47A0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873FB-D24F-4BBF-8FC7-3242007396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cred Head, now wou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grief and shame weighed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scornfully surro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rns, Thine only cr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древо вознес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о 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 Твой 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 изну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на кресте по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lips have often f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words of truth and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Spirit oft hath l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venly joys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ть ли в мире пес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е б мог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ть Врача болез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pale Thou art with angui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ore abuse and scor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does that visage langu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once was bright as mor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 в венце тернов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расота Тв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ольбой и жарки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взыва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ou, my Lord, hast suff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all for sinners’ g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, mine was the transgre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ne the deadly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чьим вз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решный потря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дручён позо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уган, истом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here I fall, my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I deserve Thy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on me with Thy fav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ouchsafe to me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то на истяз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ю посягн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ей Твоих си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мрачить дерзну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urden in Thy Pa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ou hast born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t was my trans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brought this woe o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яд мучений ц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ытки страшный гн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х проступков д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х пороков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st me down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ath were my rightful l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mercy, I implore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er, spurn me no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ою сокруш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пред То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казни заслуж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лжен над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language shall I b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ank Thee, dear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is Thy dying s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ity without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руд Твой и страдань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жертва за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умер за соз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зван к жизни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ake me Thine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ould I fainting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et me never, n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live my love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ято осуж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лажена в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м иск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моя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hepherd, now recei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uardian, own me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blessings Thou didst gi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urce of gifts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ушой стра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 Твой я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целяюсь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3:41Z</dcterms:modified>
  <cp:revision>12</cp:revision>
  <dc:subject>Slavic hymnal Гимны веры христиан, hymn 867</dc:subject>
  <dc:title>O Sacred Head, Now Wounded / На древо вознесённый</dc:title>
</cp:coreProperties>
</file>