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347-5D56-4915-910B-542BF91A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DA6-2BEA-4BD8-9C32-273AB92B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64C-1925-4353-952B-9EE94BC1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188-BE68-4721-ACEB-41634657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58F-E8C6-4CD9-BC61-6878E1F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62F-E5A5-4ECF-B9D9-D5DD8E48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298-9962-4C63-9EAE-B477C009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56D-01AC-490C-889E-1D3325A8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52C-EB8D-4494-9001-FBC9D9CA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BA3-0E0F-442A-B53E-3107FA9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987-3A57-4E57-A519-C360FD12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0F7-B22A-477A-8B66-5214E3C4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2A5BE-9B10-416E-8EFD-0CA70465EC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ною рекою льётся Божий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ревозмогая, разливаясь вши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уже он полон, всё ж течёт пол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убже проникает и живит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6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авною рек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10058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, сокрытых в мощных Божиих рук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ельстит лукавый, не настигнет вра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оснутся сердца ни печаль, ни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соблазн неправды и ни тень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или горе свыше сужде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по силам Господом д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Богу верим, то войдём в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ен Бог для тех, кто верует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я в Иисуса и приняв приз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шёл блаженство и навек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6:57Z</dcterms:modified>
  <cp:revision>12</cp:revision>
  <dc:subject>Slavic hymnal Гимны веры христиан, hymn 600</dc:subject>
  <dc:title>Славною рекою</dc:title>
</cp:coreProperties>
</file>