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C68-1789-49F9-B5F7-B9559C42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66C-2A74-453D-807F-8909EB55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20C-CF4D-441D-9365-85BF93AA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158-A6F6-42CE-B24A-71A14AC8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50E-CB6B-4C43-9846-D3A0B034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C04-E2D9-4313-80D8-D38A66AF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320-6AAD-44A3-9413-979FFCBD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DD3-ADBD-40CD-AB5A-7109867C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413-FD87-4DA1-B075-EAF01BFC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200-0985-45AE-B7E9-3768B208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9AB-6BB0-4D0B-B137-48D2732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371-95E2-47FA-B1F4-EF647DC6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6FDE8-04F1-404B-AA0D-2F40B0167E7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слушать об Од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петь о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ятней песен по вес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учит то имя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 я слушать об Од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вив чудный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ходил на землю умер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мог жизнь им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, что Б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нас в любви сберё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иной смерти ли п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ристом не пропа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имя говорит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яжкий крест со мной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к небесам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40Z</dcterms:modified>
  <cp:revision>12</cp:revision>
  <dc:subject>Slavic hymnal Гимны веры христиан, hymn 605</dc:subject>
  <dc:title>Люблю я слушать об Одном</dc:title>
</cp:coreProperties>
</file>