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5408-234A-4E37-B504-C571770E3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5078-E470-48F8-8D70-749C89EE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D448-9BC7-46C6-BA7B-F2057DDE9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DECB-5F0C-464B-B834-0A27F570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BF16-21F7-47ED-B6C0-7F9718F9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8888-DDC2-4E02-8702-1A82239D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80FF-F861-4CA9-9C48-E223A2F0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91A9-EE79-4E49-BE1C-3FC9FBED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177F-1AA7-44E5-B3A8-C75361B2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2C97-FD90-4E7E-BDBF-B1EAAD74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DBA0-79A2-416E-8580-E5F58246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AEE4-F694-497C-9F12-73FD0AA3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F7A82-BAAA-4DD5-95F8-4B023B61F1C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have heard so many so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istened to a thousand tongu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But there is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at sounds above them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ather’s song, the Father’s l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sung it ove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for eter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t’s written on my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962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90   I Have Heard So Many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Verdana"/>
              </a:rPr>
              <a:t>C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ven’s perfect melod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Creator’s sympho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You are singing over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ather’s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Heaven’s perfect myster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King of Love has sent for m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And now You’re singing over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r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The Father’s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1-02-09T11:34:46Z</dcterms:modified>
  <cp:revision>12</cp:revision>
  <dc:subject>The Source 3, song number 1290</dc:subject>
  <dc:title>I Have Heard So Many Songs (The Father’s Song)</dc:title>
</cp:coreProperties>
</file>