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95</a:t>
            </a:r>
            <a:r>
              <a:rPr b="1" lang="ru-RU" sz="3600" spc="-1" strike="noStrike">
                <a:solidFill>
                  <a:srgbClr val="ffffff"/>
                </a:solidFill>
                <a:latin typeface="Verdana"/>
              </a:rPr>
              <a:t>	</a:t>
            </a:r>
            <a:r>
              <a:rPr b="1" lang="ru-RU" sz="3600" spc="-1" strike="noStrike">
                <a:solidFill>
                  <a:srgbClr val="ffffff"/>
                </a:solidFill>
                <a:latin typeface="Verdana"/>
              </a:rPr>
              <a:t>Ты — помощь мне, Господ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Ты — помощь мне,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всякий ч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мир дарует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нежный глас.</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моё стрем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який час с нуж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моё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пок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ы — помощь мне,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будь вблиз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искушенья влас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отраз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моё стрем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який час с нуж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моё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поко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ы — помощь мне,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еди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ди, вселись и С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й свет про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моё стрем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який час с нуж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моё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поко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ы — помощь мне,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ной управля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ак Ты обещ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оставля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моё стрем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який час с нуж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моё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поко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Ты — помощь мне,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Царь, мой Б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силой я Тво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превозмо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моё стрем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який час с нуж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моё спас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покой.</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5:48:36Z</dcterms:modified>
  <cp:revision>3</cp:revision>
  <dc:subject>Slavic hymnal Гимны веры христиан, hymn 195</dc:subject>
  <dc:title>Ты — помощь мне, Господь</dc:title>
</cp:coreProperties>
</file>