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868-9377-4710-8053-8D8CC07B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147-4DBD-425B-B9B5-F7B00AC3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C0DE-D512-4A0F-9DCF-D1D210CD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638-A747-4857-BF18-31CDB9E8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5D8-9B33-4780-8409-5AD2775E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A781-BAB9-4465-A1E4-0C3CAE19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6D6-05D7-4BF9-A819-3DA3A4D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6D8-38EB-42E6-8287-BF54397E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4E2-DE3A-42E0-BF4A-25D7FEB8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A4B-1FCA-48E4-AAF8-9FD0895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8D0-10E0-4207-ACE3-EEA6282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2A5-C07D-4C0D-8331-71049D1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2D160-7889-429E-9C31-94591692885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 and precious sil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be as gold, pur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ребро и золо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нутри меня зажги ого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ake m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urify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leanse me from my sin, deep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сть меня с внутри и осв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чищ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 мои грехи, все г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finer’s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’s one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огонь, очищай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hoose to b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apart for You, my Mas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eady to do Your w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ыть святым, вер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единым с Тобой, Господи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свер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37Z</dcterms:modified>
  <cp:revision>12</cp:revision>
  <dc:subject>The Source, song number 436 in Russian</dc:subject>
  <dc:title>Сердце очищай / Purify My Heart (Refiner’s Fire)</dc:title>
</cp:coreProperties>
</file>