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0E5-B540-4CC3-AA54-C3C41D54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703-C0D0-41F5-AEE8-4E83A8DC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B16-FB47-4DC5-975F-398F3BE1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1DF-7BBE-4945-8345-FD12351F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348-A8E8-4CBD-8046-319FE2EA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7BD-E2CC-4E9D-A929-00692E1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E56-4D61-4391-88DD-2A087CAF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1FA-24C9-431B-8D2E-D1984A97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1DB-3DC1-489A-88FB-1E1F11DC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D8C-18B2-4276-91D1-7009CC02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7E8-6FFB-4E47-BB60-B1189E78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2BD-A11C-4A99-B0C7-7C6B7602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5992D-6D14-4192-8375-F114027266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просьбы, слыша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вствуя нужду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под Отцовский 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ся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а  Слыша просьбы, слыша 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ело душ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тань во тьме блуж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ёт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тщетно ты ис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шному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, Он да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ердцу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ткрой перед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я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 и будь с Его детьм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Он твоим во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спе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купителю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14Z</dcterms:modified>
  <cp:revision>12</cp:revision>
  <dc:subject>Slavic hymnal Гимны веры христиан, hymn 335 (as amended)</dc:subject>
  <dc:title>Слыша просьбы, слыша зов</dc:title>
</cp:coreProperties>
</file>