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8FA-A085-4CCC-9A51-819390F7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348-F081-4514-A136-94F6E054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6FA-10B6-43AD-A608-A1DFF653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FF9-78A9-43DE-823E-6BB85C60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9B5-308E-47DA-AB0D-D20638E3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549-93A5-433C-ABBF-398CC16D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668-50A4-4399-ACAB-6181B6D9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249-B325-4716-AEEE-933114B1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731-7F68-42CE-AB40-F732328D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4A2-340D-474A-82B7-440556EF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675-5D79-44DC-BCFA-5BCBF3C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E39-02C9-4D47-88BE-DD1895E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D1CE1-03D9-4A87-AA1C-2EB5E3A315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ce is all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en Your eyes are on this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please light the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once burned bright and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place the lamp of my firs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burns with holy f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ord, You’r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na take You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hine it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first help me just to live it,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I’m doing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never seek a cr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reward is giving glor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ce is all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en Your eyes are on this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35Z</dcterms:modified>
  <cp:revision>10</cp:revision>
  <dc:subject>The Source, song number 401</dc:subject>
  <dc:title>O Lord, You’re Beautiful</dc:title>
</cp:coreProperties>
</file>