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30C1-2829-4B29-8818-9B39E02E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2172-7088-45EF-A731-FE1328D2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C3B8-2F5C-4E62-93B6-15AAEC701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33C3-5F0F-4FCD-ADE7-E2C055BE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F87E-4E9B-41ED-B32B-320DD01E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6707-5AEE-4D12-80B4-EED5BFA6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A668-F1B4-47C5-A59F-356AF073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2147-3FA4-4679-BB7F-F79BB4BB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B8F3-7F00-4C82-A06D-D9FEE369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BFB7-EFF2-46A2-8CDC-7CA6FE7D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934B-BDB9-46FD-82FF-4B38F836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E7AD-0EC6-4E92-B2B8-5DA066A2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405C9B-473D-443D-8CDE-B669072DEEA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― Избавитель м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― Твой удел и достоянь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риобрёл меня С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ею кровью и страдань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, любящий Иисус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 всегда со мн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! Ты — Избав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― мой Учитель Всебла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― ученик Твой маловер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ставляешь разум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Твоей святой, безмер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, любящий Иисус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 всегда со мн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― Пастырь верный, сильный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я ― овца Господня ста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я тернистою троп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разрушаешь все прегра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, любящий Иисус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 всегда со мн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― милосердный мо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я ― дитя Твоё наве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дал мне жизнь, как Твой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бя явил Ты в челове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, любящий Иисус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 всегда со мн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― всё во всём, вся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я ― ничто, я ― прах могил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ам Ты жертвою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двиг меня и дал мне си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, любящий Иисус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 всегда со мн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― свет, а я ― светильник Тв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озарит Твоё сия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ьму Египта, мрак зем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примет мир Твои дая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, любящий Иисус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ю вечен мой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 всегда со мн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9:44Z</dcterms:modified>
  <cp:revision>12</cp:revision>
  <dc:subject>Slavic hymnal Гимны веры христиан, hymn 467</dc:subject>
  <dc:title>Господь! Ты — Избавитель мой</dc:title>
</cp:coreProperties>
</file>