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4B8-A975-41E3-B000-EF77E0FC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BB1-B24D-4947-9B81-4B3C2A1A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5E3-14A3-4ADF-8535-8DB775E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90D-6528-458F-A704-2218148B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BD0-D8C7-4D16-8D18-E532B5D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F73-69EF-4625-8834-2236BA0B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C141-4A55-4567-BB20-05720B57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611-C81B-40E5-97D4-B366DD0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0F9-287F-4185-93F1-FC22167C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34E-242B-45EB-8A2E-3D48F1E3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FCA-9935-4D8E-A950-2BED95C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8FE-4D81-4787-814D-E176BC7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ACEB7-3F51-428F-A6E3-150B8E2F0C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благосло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сть благую в 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ждому влож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Хочет всех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 за грех н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стра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кресением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у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дишь ли в пусты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шь пут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таких Иисус приш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ыскать, сп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лив, кто Спасит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отда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Его возлюб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хвалу возд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 (впусти)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 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хоть мра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Иисус хр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рак земной небес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верь открой широ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на распах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лнышко с небес впус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5:54Z</dcterms:modified>
  <cp:revision>13</cp:revision>
  <dc:subject>Slavic hymnal Гимны веры христиан, hymn 397</dc:subject>
  <dc:title>Хочет всех людей Господь благословить</dc:title>
</cp:coreProperties>
</file>