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2</a:t>
            </a:r>
            <a:r>
              <a:rPr b="1" lang="ru-RU" sz="3600" spc="-1" strike="noStrike">
                <a:solidFill>
                  <a:srgbClr val="ffffff"/>
                </a:solidFill>
                <a:latin typeface="Verdana"/>
              </a:rPr>
              <a:t>	</a:t>
            </a:r>
            <a:r>
              <a:rPr b="1" lang="ru-RU" sz="3600" spc="-1" strike="noStrike">
                <a:solidFill>
                  <a:srgbClr val="ffffff"/>
                </a:solidFill>
                <a:latin typeface="Verdana"/>
              </a:rPr>
              <a:t>О Иисус, достоин Ты</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Иисус, достои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ы, чести на зем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у, честь от нас принят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сердца полн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пою Тебе вез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петь Тебе всегда везд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орви от мир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ебе дай размыш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ляй нас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я лишь прославля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из праха нас соз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удный мир к Себе приз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удный мир Ты нас к Себе приз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кровью нас ом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все грехи прост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все грехи Ты нам прости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орви от мир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ебе дай размыш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ляй нас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я лишь прославля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призвал нас всех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янул милостью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янул милостью Своей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стив грехи впо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хранишь нас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хранишь нас всякий час в Себ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орви от мир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Тебе дай размыш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ляй нас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я лишь прославлять!</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4:47Z</dcterms:modified>
  <cp:revision>3</cp:revision>
  <dc:subject>Slavic hymnal Гимны веры христиан, hymn 102</dc:subject>
  <dc:title>О Иисус, достоин Ты</dc:title>
</cp:coreProperties>
</file>