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3FE-50A7-4EA9-BDC8-E29EAB41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DDA-8707-4A86-894D-DB46ECE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E6C-9895-4CB1-9234-8AFE42B4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98D-DF60-4239-93EE-96CE20A2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BAF-889C-42D0-B15C-8CD1BFD4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71B-D9A6-46B5-BB41-2D0AEDF0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29D-C720-4A71-8EF2-667EDDD3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B9A-B22E-4E22-8D43-F4F9073F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01B-61F6-46D3-A236-45C1EEA3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54E-B001-486C-B51E-749D7D9B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3D7-0519-45AE-8A98-326B8AB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A31-0CE3-410D-8D2D-D9166FB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75E3D-EC57-4A29-BA96-720CE11F65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make Your face to shine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lift me up, I’m cleansed and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ияет на мне лицо Тво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ет на мне лицо Твоё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л меня и вверх вознёс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 and strength each day I f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giveness, hope, I know i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мир в Тебе найду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ие, надежды луч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ountains fall I’ll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er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n Your heart of hearts I’ll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at my soul knows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адёт гор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твёрдо я сто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держишь Ты рукой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знает душ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47:10Z</dcterms:modified>
  <cp:revision>12</cp:revision>
  <dc:subject>The Source, song number 604 in Russian</dc:subject>
  <dc:title>Сияет на мне лицо Твоё (Это знает душа моя) / You Make Your Face to Shine on Me (And That My Soul Knows Very Well)</dc:title>
</cp:coreProperties>
</file>