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753-6129-4C0A-A043-A3E12113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EC6-1C5D-4FAE-9792-60FC96CC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0C3-897E-4046-95B3-65BC77F3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910-4D0F-461F-927D-2F715DEC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E5B-E489-45B0-B95C-2F8248CA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B1C-B34E-4DF3-90EC-5D070BC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C2DE-BD04-45AB-B657-9BB26B76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AD8-EA98-4D13-8C21-0639E8F3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2A63-54AF-4ED7-B115-FAF9E089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E44-994A-430C-A753-01B98DD8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9E90-F3D8-48D3-B112-8FE8E7DA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F4A-F90F-425A-B13A-890B894D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EBD81-BCC5-4F09-B4EF-E91BF90762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ke me a capti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then I shall b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orce me to render up my s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shall conqueror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ени, Господь,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боду я вой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ставь меня отдать мой меч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озмогу враж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лени, Господь,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 sink in life’s al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by myself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mprison me within Thine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strong shall be m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енье мне гроз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сам сто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и объятья заклю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силу дай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heart is weak and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 Master f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has no spring of action 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varies with the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зяин нужен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ердцем упр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мужества ни сил в нём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еры со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freely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wrought its ch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nslave it with Thy matchles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deathless it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 делу по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него во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оковы налож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владеет др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power is faint and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I have learned to s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needed fire to g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wants the breeze to ner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не в службе 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Твой нужен, чтоб пыл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ря мне ну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cannot drive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Until itself be dri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s flag can only be unfur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Thou shalt breathe from heav’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могу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не вод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ною знамя распу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ществом Тво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y will is not my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ill Thou hast made it Th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it would reach a monarch’s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must its crown resig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ля не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делавшись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б на царский трон взош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ечься нужно 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t only stands unb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mid the clashing str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hen on Thy bosom it has le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found in Thee it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 ей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стоит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прильнёт к Твое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изнь найдёт в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8:16Z</dcterms:modified>
  <cp:revision>12</cp:revision>
  <dc:subject>Slavic hymnal Гимны веры христиан, hymn 899</dc:subject>
  <dc:title>Make Me a Captive, Lord / Плени, Господь, меня</dc:title>
</cp:coreProperties>
</file>