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37</a:t>
            </a:r>
            <a:r>
              <a:rPr b="1" lang="ru-RU" sz="3600" spc="-1" strike="noStrike">
                <a:solidFill>
                  <a:srgbClr val="ffffff"/>
                </a:solidFill>
                <a:latin typeface="Verdana"/>
              </a:rPr>
              <a:t>	</a:t>
            </a:r>
            <a:r>
              <a:rPr b="1" lang="ru-RU" sz="3600" spc="-1" strike="noStrike">
                <a:solidFill>
                  <a:srgbClr val="ffffff"/>
                </a:solidFill>
                <a:latin typeface="Verdana"/>
              </a:rPr>
              <a:t>Боже, да будет воля Твоя</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оже, да будет воля Тв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им сосудом сделай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перестроил волю м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ред Тобою с верой ст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Боже, да будет воля Тв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верь, исследуй всего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нега белее меня о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руй смиренье, пошли поко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оже, да будет воля Тв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орби отвсюду сердце язвя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ёрдость и силу Ты мне пош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 помилуй, Царь всей зем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Боже, да будет воля Тв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знают люди сущность быт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е так жаждет Духа вдвой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видел каждый Бога во мне.</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11:03:10Z</dcterms:modified>
  <cp:revision>3</cp:revision>
  <dc:subject>Slavic hymnal Гимны веры христиан, hymn 137</dc:subject>
  <dc:title>Боже, да будет воля Твоя</dc:title>
</cp:coreProperties>
</file>