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B94-5EEC-455B-B43C-39D74316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D4A-4425-4D24-A0C5-BE679B27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AF2-DA8A-41B0-99F3-044CB043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DCA-3AD2-4249-9EAD-225EFA8E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4A02-9664-4ADB-82FE-DBB0904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F24-8583-4ACC-90EF-3A5E5210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DA4-BB40-4C77-B131-D97B603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637-E1B9-4B37-AF34-9FC05D73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BE9-212D-479E-A07A-77B181D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568-C447-424D-921F-99B8F52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2CC-09FB-4FED-A53E-AC1A7A1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BDD-7F3E-411A-BD28-E36CE1B3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2EF33-570B-4DBC-8FBD-F7E33BBA27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Господне семя с раннею зарё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и в знойный полдень, не боясь жа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даст жатвы время, сбора урож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й на солнцепёке, сей в тенистом ме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напрасны будут верности тру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Господней воле день придёт чудес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лачем отправляясь на поля Христ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ом ободримся, мы там не о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нчатся рыданья, день увидим но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0Z</dcterms:modified>
  <cp:revision>14</cp:revision>
  <dc:subject>Slavic hymnal Гимны веры христиан, hymn 540</dc:subject>
  <dc:title>Bringing in the Sheaves / Сей Господне семя</dc:title>
</cp:coreProperties>
</file>