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A72-C6D9-428C-8A0A-02A65177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CB1-33F0-4287-A8D7-B5B0F963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42D-4CB5-4AC0-A828-81D2D79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00A-9BBD-498B-9F9B-477781B2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4DB-814E-49E4-840E-D372D013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793-610F-4BD2-8DB5-6B9B1B82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BE6-B563-4A11-BFCB-0C30D4E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582-A8F0-4603-9CB2-218C0A1C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ABE-3960-47B3-B15A-EEFAE2E4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AF9-692B-4A59-8487-267E81A9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3A4-5417-4847-8B60-31D4D34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51A-5087-4A83-9600-0678186A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B17E9-8BEC-4A6C-AEFC-56028CC8C5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oor of salvation now stands open w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beckons; oh, what you will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hesitation, proceed right ins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lay could be fatal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Jesus to earth very soon may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usher in eter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m will all reign who His call did not sp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out Jesus, where will you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Спаситель наш скоро пр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ённых Он всех в Своё царство возьм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now before Him: He will pardon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guilt will be all washed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r body and soul by His grace He’ll ren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’s calling—receive Him to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кайся пред Ним, Он сейчас всё прос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Christ as your Saviour b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life everlasting recei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eav’n will be waiting your eternal h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say to Him: “Jesus, I com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29Z</dcterms:modified>
  <cp:revision>14</cp:revision>
  <dc:subject>Slavic hymnal Гимны веры христиан, hymn 333</dc:subject>
  <dc:title>The Door of Salvation Now Stands Open Wide / Войдите, друзья, все в отверстую дверь</dc:title>
</cp:coreProperties>
</file>