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B0A0-C1F6-4D70-B15E-035752E88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C3B4-6CB8-4175-A4F6-0163FD49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E0E3-8466-4D00-A21B-5AFF93236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1E3F-8F0D-4538-82E7-22E1D28E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4C36-A152-4ECE-AB92-97D486E4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C565-2B08-4A0E-AC9F-FB32DBE8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4DF7-5EEB-41D0-A023-02BC8956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D699-B288-4965-B074-D48D1491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EC55-3085-49CE-817A-61BD8E7A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3936-57C2-4BA0-BECD-51FAB467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D5F3-1546-478D-A95C-104B1E6C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723C-AC20-4F58-87AD-5B429209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34339-7976-43E5-A17F-CD54346B85D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ужого к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блуждал ду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 зов, встава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з чуж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страны голод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дом иди р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радости свободно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ось путь грешной во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разбит борь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ез сил от бо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тебе запр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ежь дверь, ты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зор Мой полн приве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далё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приди дом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мою грязь поро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 на гру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 перед тоб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, обилье всюд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живи в надежд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любви свя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изок, как и преж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 Мой! Сын 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ествуй, странник, в край с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родине свят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блуждал так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 дом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1:32Z</dcterms:modified>
  <cp:revision>12</cp:revision>
  <dc:subject>Slavic hymnal Гимны веры христиан, hymn 353</dc:subject>
  <dc:title>Из чужого края</dc:title>
</cp:coreProperties>
</file>