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79280" y="39528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440000"/>
                <a:tab algn="l" pos="21607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66a   I Have Decided to Follow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179280" y="828720"/>
            <a:ext cx="98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9280" y="828720"/>
            <a:ext cx="97203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you decide now to follow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you decide now to follow Jesu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you decide now to follow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06:28:24Z</dcterms:created>
  <dc:creator>John Zaitseff</dc:creator>
  <dc:description>Graham Kendrick (compiler), The Source 2, Kevin Mayhew: Buxhall, Suffolk, England, 2001.  ISBN 9781840037241.</dc:description>
  <dc:language>en-US</dc:language>
  <cp:lastModifiedBy>John Zaitseff</cp:lastModifiedBy>
  <dcterms:modified xsi:type="dcterms:W3CDTF">2024-11-14T22:39:42Z</dcterms:modified>
  <cp:revision>4</cp:revision>
  <dc:subject>The Source 2, song number 766a</dc:subject>
  <dc:title>I Have Decided to Follow Jesus</dc:title>
</cp:coreProperties>
</file>