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0AC-1112-4513-ACF4-A434206B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E87-C1AE-4860-89BF-6D40A256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CA3-2BE2-4651-9B30-D2F10227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637-CAAB-4052-917C-5A311D09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D1D-18B0-476F-834B-BD79D3AF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F12-4C19-49F5-8C22-0E9F40B5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0A9-DE68-471D-BC84-503E54B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778-C66D-409D-93AF-C88BD725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7D4-48FB-4C09-AF1D-624093EB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E47-2529-4D6F-B4B7-5D869A4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762-ED7B-4835-B1B3-9C1BF3AE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0C4-8C9F-4900-B022-964A111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8C80F-66C0-46F6-AEF7-5BF6B09E75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y blood and righteous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eauty are, my glorious dr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dst flaming worlds, in these ar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shall I lift up my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ва праве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праведность и кровь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а лучшая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кой осмелимся пред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ожий суд в конц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shall I stand in Thy great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o aught to my charge shall 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y absolved through these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sin and fear, from guilt and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ий, страшный,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анет обвинять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, помилован, прощ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веч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Thy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, at the mercy sea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doth for sinners p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e’en for my soul, was 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я верю, кров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чистилище ви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ликой силой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грешник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believe were sinner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sands upon the ocean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for all a ransom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a full atonement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столько грешных, как пе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ерегах земн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традал за всех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крови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1:00Z</dcterms:modified>
  <cp:revision>12</cp:revision>
  <dc:subject>Slavic hymnal Гимны веры христиан, hymn 884</dc:subject>
  <dc:title>Jesus, Thy Blood and Righteousness / Христова праведность и кровь</dc:title>
</cp:coreProperties>
</file>