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2231-A00C-4E84-8F7B-753AB500F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6543-F9F1-4EBC-8963-F415CB29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1A7D-C059-4EB3-9BDC-176FEE0C7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9143-875F-41DC-A8E6-0616766A2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4B64-CA98-4708-A72D-78450397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2633-3419-49A8-8242-2B78CC43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EB0F-A9E9-4C5D-B0F8-9B576745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BDF1-61F1-46DC-A9E4-EA29DD4E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B704-B82A-4EAE-B518-6DE3AFD9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FB7F-2086-43E3-9A29-4D0613C9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9406-3D67-4F7A-909F-B5CC8C84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0A75-D6E1-44C5-BD9A-C20652C4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5B07E-F22D-486D-9108-BE33792C4A9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колько душ блужд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Бога далек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мрачных скал, средь тер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гибнуть им долж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Пастыря блужд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асность им гроз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и идут, не зн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мерть кругом ц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сколько душ блужда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ёмте искать заблудш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к Иисусу возврат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будет ли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ный день сказ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сюда пришёл с мои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жертвы не страши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ё готов ид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тех овец заблуд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ибели спа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указать пойдёт 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правды, дом От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кто утеш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битые серд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ёмте искать заблудш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к Иисусу возврат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будет ли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ный день сказ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сюда пришёл с мои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восторг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встрече Госпо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кажешь: «Добрый Пасты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вечка найд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луши она блужд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мучена в бе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взял её больну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шу, бери к Себ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ёмте искать заблудш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к Иисусу возврат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будет ли 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ный день сказ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Я сюда пришёл с мои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0:22Z</dcterms:modified>
  <cp:revision>12</cp:revision>
  <dc:subject>Slavic hymnal Гимны веры христиан, hymn 535</dc:subject>
  <dc:title>О, сколько душ блуждают</dc:title>
</cp:coreProperties>
</file>