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7DF-B3E1-43D8-A464-3716FBCF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B10-74D0-431E-9FB8-6DF88965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420-26FF-415B-88DE-C2962ABD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68E-4258-405C-8965-444E37AA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E56-6D01-43AC-B21B-8A677236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336-FDE8-4334-80AA-848D8255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EF3-BD0D-45FF-9C4C-9A04349F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A4D-A74B-4623-A3BE-CAD0AA54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007-9E5F-4D16-91BE-9F11EC99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F52-870E-43EB-B9BA-3B9DC6D2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A74-2E59-4C90-8164-9B80C342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109-3102-4745-8CA7-91ADE034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9B976-B0CB-4E80-A3C7-9319B1DD5C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! ободрись, дни протек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! ободрись, пусть все вним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чался после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г зовёт к труду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! ободр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, брат, Христа за радость наш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, брат, Христа за скорби чаш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Царь небесный к нам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блаженство Он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ободрись! Лета проходя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! молись, враги подход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ин, стой ты на ча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ечом Божественным в рук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брат, смотри! Уж день све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о, хвали! Господь с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детей на вечный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т слава, радость,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ечность уж совсем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5:12Z</dcterms:modified>
  <cp:revision>12</cp:revision>
  <dc:subject>Slavic hymnal Гимны веры христиан, hymn 707</dc:subject>
  <dc:title>Брат! ободрись, дни протекают</dc:title>
</cp:coreProperties>
</file>