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E15-213B-4A24-B2FB-D24FBF4C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6CC-AFFB-4379-B3A6-202CB1C7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F44-95C6-42AE-B853-1A64342A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77ED-28FF-4077-BA77-D8E1713E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4DE-9F87-40B0-9950-ABE8E59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AAF-8F51-45F9-A81C-DA51F54C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3B5-F46E-4C51-A066-5D5B2818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317-AD72-452B-B561-79E9596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7B52-426A-457E-B896-BDF23815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264-A707-479C-8413-63F94DC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5C8-D946-4046-85A1-5CE0E418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F42-A592-4802-9FD3-EBF5694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87F1A-16F1-4712-85EB-6C1B2BE325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з не видит им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ут колосья золо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 усердного жн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а   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знойный полдень вышли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к вечеру на н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ать жнецов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ый труженик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ни ячмень, пшеницу, рож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а кончится, на от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ь вечную войд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шли делателей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озревшие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обрали всё, что 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10Z</dcterms:modified>
  <cp:revision>12</cp:revision>
  <dc:subject>Slavic hymnal Гимны веры христиан, hymn 784 (as amended)</dc:subject>
  <dc:title>Здесь и там поля белеют</dc:title>
</cp:coreProperties>
</file>