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9BD-079F-41CC-AF9A-A2D7D96D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2E0-D4C9-4151-8D19-29A104F8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EA3-92B1-4A2A-86E0-A307F2E3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6BC-FD06-4B70-A14E-A406B21D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A46-8115-4CAF-925D-4A4521D9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F0E-61F7-421F-AC30-AB45A3C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EB5-8663-461C-900F-9B2F6C44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4FF-745C-4581-A996-2F381BD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AB8-BFDC-47E2-B642-A4D5FE94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F7F-F3A1-4F7E-9611-95B3590D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3F7-5ED4-458A-8883-2238134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DCA-C645-42D3-83D2-2EC8DCD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DB361-2A17-4742-8AC9-C749085F41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y God’s wond’rou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hath made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why, unworthy, Christ in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deemed me for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лагодат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чему спасенья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от вечных 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is saving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 He did im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how believing in Hi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rought peace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мой Бог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ы слух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та вера мир 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ему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how the Spirit m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vincing men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vealing Jesus through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ng faith in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как Дух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мне путь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даёт Христос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всех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at of good or 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be reserv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weary ways or golden d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His face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что в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о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меня к род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хочет д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“I know whom I have belie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m persuaded that He is 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keep that which I’ve commit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Him against that da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not when my Lord may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night or noonday fai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r if I’ll walk the vale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meet Him in the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времени, н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как: чрез смерть, иль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день Он по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58Z</dcterms:modified>
  <cp:revision>13</cp:revision>
  <dc:subject>Slavic hymnal Гимны веры христиан, hymn 585</dc:subject>
  <dc:title>I Know Whom I Have Believed / Не знаю, почему открыт</dc:title>
</cp:coreProperties>
</file>