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573-2D49-4EEC-A02A-A118F167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353-E8BC-4C4F-9A9F-91202E3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0B9-2D18-42F2-B782-E8246977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867-B631-4FA0-A163-30172F66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4E2-34B6-40E5-8236-9FFCF95E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099-4E0B-47CA-8756-3ED1110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3D6-389B-4A9A-82BB-22FD758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17B-20B6-401A-A590-49CE626C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F7D-CABC-4FCA-A934-6656939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B6E-FAAD-454D-A751-0027B64C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F43-032E-4A61-9679-16EAEA74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633-E453-4018-A809-BD9A88C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6142-E1A9-4407-9FA5-B71C17E4AB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день, коли труба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х святих згромадить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 прозірною рікою, як кришта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весільну, там вечер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ере Ісус на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6   В день, коли тр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вістить всім ангел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нема вже більш ча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дем підхоплені у неб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нас всіх Ісус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дягне в славу нас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е, що тайне і закр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ой день виявиться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Господь буде судити всі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війдіть” Він скаже пра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радість Пана свойого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при звуках гуслів стрій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ф небесних, золот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імн побіди в день спасіння виклик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сню Агнця і Мойс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співаєм в зборі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бавлення звістить труб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лос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а ж то зустріч дивна буде т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9:14Z</dcterms:modified>
  <cp:revision>13</cp:revision>
  <dc:subject>Slavic hymnal Гимны веры христиан, Ukrainian hymn 16</dc:subject>
  <dc:title>В день, коли труба Господня</dc:title>
</cp:coreProperties>
</file>