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B30-27BE-4E87-B3CB-666285AA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72D-DCB5-4525-BCD8-F2F8B728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05-A41C-4CF2-9D6E-CDBDCCCD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1A2-A7B5-4AA0-A339-F4462D5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4AF-2581-4D32-BE84-1EC78B5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8C8-2C28-4DA3-A2E2-B188BA5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D5A-735A-4254-95B7-F208B190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DC2-CEE7-434A-BA56-FBA9312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F8D-F172-40D4-8E92-200FD02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669-23D8-4AE2-A5CE-EB4406B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060-4C25-46A6-BDD4-7696091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48F-9F70-4169-A052-2FF3595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68E83-6F0D-4E80-914A-79F874FEC9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а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одиноким в світі бу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не знав, томив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и мене Сам від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радість дав душі мої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 Тобі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5:01Z</dcterms:modified>
  <cp:revision>12</cp:revision>
  <dc:subject>Slavic hymnal Гимны веры христиан, Ukrainian hymn 71а</dc:subject>
  <dc:title>Коли я чую про Христа</dc:title>
</cp:coreProperties>
</file>