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6B0-308F-4224-8BC5-6CE1CFCC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659-5059-4A07-AE4F-8F147D09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0B5-D849-478D-9EC0-3F7BC985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0C9-28D2-4F51-8C5E-1E93881C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348-535B-4A4E-BFA7-05DF3D3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299-263B-40EA-B305-29FC32CF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F3B-CD66-4678-BEE1-8BAD8C2D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356-F079-484C-B429-19A60C3A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4B9-C0F7-42FD-854A-F319826B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416-4FB3-4FD8-B521-C2E9CA10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FB3-B323-4ED7-81A4-61C54B2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DCB-9BBD-4F3F-BDA3-8E406D19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40928-7176-4BD1-A506-27F7259181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вжди разом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є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хвалюся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 з І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ший, як день перед 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4   Кожний день з І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50Z</dcterms:modified>
  <cp:revision>12</cp:revision>
  <dc:subject>Slavic hymnal Гимны веры христиан, Ukrainian hymn 114</dc:subject>
  <dc:title>Кожний день з Ісусом</dc:title>
</cp:coreProperties>
</file>