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82B-0EC8-4E5E-83BF-473F8D20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6CA-6919-4A8F-BA9F-A2C9995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A47-FFD1-4197-94F0-EF9654FF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691-FC57-460B-9E3E-2B2B48D2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2A0-D59F-47BF-AF1D-A92A4F76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104-AA2A-477E-A4E8-6A9A51FE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C0A-AF56-45F6-9DD5-10DD2728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86E-48A0-4D19-9B1B-9D23A8A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535-3F33-43C8-A4D4-A879BEF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ACD-9203-409C-B80F-1DB8103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2D3-67C4-4841-8AFE-304752D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9D5-45B0-4E74-8828-8B60DB6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4BCBC-23C8-4680-B542-1C2AB4A75E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rock, He’s my for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my deliverer, in Him will I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the name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Praise the Name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22Z</dcterms:modified>
  <cp:revision>10</cp:revision>
  <dc:subject>The Source, song number 435</dc:subject>
  <dc:title>Praise the Name of Jesus</dc:title>
</cp:coreProperties>
</file>