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E61-1BB7-422D-BDE6-17BCC9EC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8B5C-2358-4DFC-B86B-AFC405CF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507-E2B5-4E3B-8816-021F21E5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B19-E60C-41F2-88CB-CB986A0A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062-030B-431C-AAA4-05E0EA7F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61F-5C14-4C78-97C3-B4E52DAB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9DF-4DD3-4F1F-8657-AD9E034C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638-1FB7-4089-A82F-2D1D795B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5D6-A8AF-4865-A06A-6EE7216B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616-2F1F-454A-958A-0313A8A6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93F-F48A-4533-8482-C86F9361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F24-1456-477B-9B3F-B06F276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F9A3D-5E9C-4CA0-8AF3-D25464D083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ol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milk and honey bl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neath thy contemp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k heart and voice op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ерусалим пре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прекрас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боре чи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 зарёю яс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 и дивен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is all thy splend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ucified thy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laud and ben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ransomed people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гнём сия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жиих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рко отраж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г Ег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, O I know n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s await u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radiancy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bliss beyond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локом и мё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ильно над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щим нар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оглаш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stand, those halls of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jubilant with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 with many an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martyr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труд Царя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лн дворцов од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земля мо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литок золо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ince is ever in t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light is se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astures of the blessè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decked in glorious sh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як, в тебе приня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нется пыш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амый и бога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ный из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life is here our por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ef sorrow, short lived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fe that knows no e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earless life, i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род, где не зн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кладбищ, ни гро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ышно расцвет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ды живы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appy retribu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rt toil, eternal r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ortals and for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mansion with the bl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ород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бури и трево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приют серд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гото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rusalem the glo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of the el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dear and futu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eager hearts exp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ерусалим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лёз не льют ра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вражды хол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бедных жертв борьб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now by faith I se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here thy walls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e my thoughts are kind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ive, and pant, and yea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их стенах нап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льётся братьев кров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бе царит все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one, O only mans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aradise of jo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ears are ever banis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miles have no al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чный город ми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краше стен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грани из сап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камней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37Z</dcterms:modified>
  <cp:revision>13</cp:revision>
  <dc:subject>Slavic hymnal Гимны веры христиан, hymn 666</dc:subject>
  <dc:title>Jerusalem the Golden / Иерусалим прекрасный</dc:title>
</cp:coreProperties>
</file>