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5B6-CAF5-4874-A27F-A9D0121C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C90-DED3-4BD7-99F0-E98E45BC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77C-82D6-46A4-BB54-C1A6E7E8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C23-26A1-4BCE-9AF2-43EE83A2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E82-F8D1-4838-AA2D-30B26B9F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4F8-11F5-4652-8313-866280CC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662F-0FD0-459E-9EB7-9BA99E57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8B4-DE5A-4DC8-9931-F3D18E01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1A9-17B1-48B4-A0AC-E8B12A64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8DF-7DC3-4BC4-8AF4-6B67DCC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416-5895-452E-885E-D5F84C00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AA3-8B97-4025-9C90-36DE4C6B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42AD4-C66F-4933-A14C-5B12AB0B0B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битве ль сердце изнемог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ть тернистый душу устраш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олнце ль туча грозная скрыв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итве ль сердце изнемог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горестью душа тесн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 Христу тотчас пусть устремит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 Его тогда в неё всел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дрым будь: тем бремя облегчит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другого сердце укрепитс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бкий духом лишь борьбы страши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рен будь всегда, не отступ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 Христом иди, не уныв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 Него надежду возлага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 нами Бог! Вперёд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оть и труден путь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нить мы долж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в Господа святой мы облеч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ажем, идя в жаркий бой, Богом веде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перёд, вперёд, к побед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0:07Z</dcterms:modified>
  <cp:revision>13</cp:revision>
  <dc:subject>Slavic hymnal Гимны веры христиан, hymn 508</dc:subject>
  <dc:title>В битве ль сердце изнемогает</dc:title>
</cp:coreProperties>
</file>