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A75-E841-4DB4-A7A3-F4BAAE57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4F7-496B-4B37-9AF2-09D21C82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EAC-E79A-4EAF-9888-7E0496BC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074-D77C-4D8C-B05D-E12F8B1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58D-6C94-4ED3-B6B9-605CC567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35A-1DDE-4900-9B53-327E2A14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FA0-40B3-4C6C-895B-A4D8C2C5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901-FF72-4590-9CD9-C5A564B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A4F-1ADE-4B8D-954C-7A08A218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8D5-FBBA-479C-8432-1E876A4B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FF3-1BCF-400A-834B-E64EADB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4C5-E91C-4598-8FA1-A2DB030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4CF0-E24C-45C1-9AF6-69EF2B52BF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раздаётся ещ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грешник беспечный, что медл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сё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к Иисусу спасенье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ожидает Его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оследний призы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на собранье Дух Божий прив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ты для души исцеленье нашё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проповедь, пенье — зовёт О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прид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ждёт Он тебя, но ты медлишь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ранье окончено, стало тем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мерли звуки призыва д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в сердце Спаситель стучится и ждё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 же Ему, или скоро у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любишь ты жизнь, удаляйся от з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юз со Христом заключи навсе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а сегодня принять поспе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у последнему чутко вн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ледний призыв прозвучал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же сегодня принять зов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24Z</dcterms:modified>
  <cp:revision>12</cp:revision>
  <dc:subject>Slavic hymnal Гимны веры христиан, hymn 373</dc:subject>
  <dc:title>Последний призыв</dc:title>
</cp:coreProperties>
</file>