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82A7-5704-4EA1-9EC1-FA6C0597F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711C-C7C2-44BF-9654-8EF5D19F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0653-E159-4CF1-B517-B9A79D6C4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03F3-EBC8-4942-BECE-DCA5A8C2C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CFC6-2958-4826-916B-5E975E22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19C0-8ED8-414D-B5C2-68FAF7EA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883B-B892-4DB5-A6DE-27766383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E7D1-1087-4893-A390-A46A5358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1814-E7FD-4C2F-AE39-4868C26B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0F43-77E9-4DF9-B875-7C182279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6C73-C0AB-409E-9CAE-F3B5E679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C8BD-761F-4553-A39F-BA9D6962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C7902-45B4-4889-87A1-F193F8B6794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seen the lightning flas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heard the thunder ro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felt sin’s breakers das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ch almost conquered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веркали молний стре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ркали молний стре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ом землю потряс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ылся тьмой мир цел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ужасе дрожал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all around me is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thly joys all fl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aviour whispers His prom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to leave me al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радостей не ви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ё покрыто ть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 утешенье слыш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сегда везде с тоб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omised never to lea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ll claim me for His 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omised never to lea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to leave me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died on Calvary’s moun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e they piercèd His 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e He opened that foun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imson, cleansing t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умер на Голгоф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ан Его с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чёт источник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чёт для всех жив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e He waiteth in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ated upon His thr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omised never to lea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to leave me al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сто нам гото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славе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здесь мне сладко сло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сегда везде с тоб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omised never to lea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ll claim me for His 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omised never to lea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to leave me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heard the voice of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idding me still to fight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omised never to lea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to leave me al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тихий голос неж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лышал над соб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бойся сил мятеж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егда везде с тоб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omised never to lea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ll claim me for His 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omised never to lea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to leave me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rld’s fierce winds are blow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mptation sharp and k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a peace in kn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aviour stands between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гне ли испыта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учами у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рю: постоя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 Господ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stands to shield me from d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my friends are all g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omised never to lea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to leave me al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тяжко расстав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рузьями иль семь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дал обеща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сегда везде с тобой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omised never to lea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ll claim me for His 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, never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omised never to lea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to leave me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од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не забы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всегда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езде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n affliction’s val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tread the road of c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aviour helps me ca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oss so heavy to b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ли скорбь и г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откнусь ли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— моя опор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жет крест 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0:31Z</dcterms:modified>
  <cp:revision>14</cp:revision>
  <dc:subject>Slavic hymnal Гимны веры христиан, hymn 633</dc:subject>
  <dc:title>Never Alone / Сверкали молний стрелы</dc:title>
</cp:coreProperties>
</file>