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BE9-5403-417B-A136-3F5BB1B1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A45-1750-46F3-B5E7-7CB650A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708-A37E-4A53-90B3-C01F3854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89F-2E7A-493A-B793-F9F77117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DD9-17F0-41EE-85D7-521FC51C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4C7-843F-4B45-BF87-050B5F87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507-E719-44F2-95F2-F9FD29B6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37C-5818-4166-AD37-896678D4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28B-A73D-4109-8534-75195900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3DD-9CF8-4412-9F69-C9DE6E8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AA4-7A9D-467B-A248-1DD311D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15B-84F1-4D02-BE07-DBCFBCF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D1FC9-C16F-436C-B6BE-277E03891CA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руках я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’tis the voice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e in a song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field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jasper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есть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я спас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ёт меня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даст мне место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corroding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from the world’s tempt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cannot harm m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от всех з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ы иск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в сердц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the blight of sorr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 from my doubts and f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a few more t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меня не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а от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для Него готов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ься и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heart’s dear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di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on the Rock of Ag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my trust shall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Него лиш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а вся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let me wait with pat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the night is o’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it till I see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on the golden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ро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ла пройдёт, как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ле этой но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ечн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the arm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on His gentle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by His love o’ersha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ly my soul shall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 Его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покой мне да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ей ко мне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5Z</dcterms:modified>
  <cp:revision>13</cp:revision>
  <dc:subject>Slavic hymnal Гимны веры христиан, hymn 643</dc:subject>
  <dc:title>Safe in the Arms of Jesus / В руках я Иисуса</dc:title>
</cp:coreProperties>
</file>