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36A-8499-4BDA-9190-1297637F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7A5-AD38-46B1-975F-B208A238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C1E-F1D7-4F2D-AE6C-EA8DCE67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EED-FDDE-4463-A545-CF284C5C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0D8-6E78-45C6-B170-CB168D55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01C-94B3-4F9F-B663-9E34FFC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6A4-1727-4C38-9C4B-65D269C6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3DC-33B7-4DDA-9CA3-92ECE889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BBC-29D0-4FA7-A017-1DFCA5A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706-F243-4FCB-B26E-C1A722E3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7E7-E09A-4EC5-9950-FB75947C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E78-ED03-41F7-9F5D-9427AA7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A4C10-CD43-4EF2-88AA-D81F08F509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moments we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rejoicing, as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in the name of our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mised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ent with us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our hearts beat with His in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pleasan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to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tting out the world’s tumult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rewarding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sit at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untold blessings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vel-weary, we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is haven of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lax where God’s waters still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renewed and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Spirit refre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way with rejoicing we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close-knit comm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hrist as our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ued with God’s power from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кол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thwa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y Him will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God all our needs will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2:18Z</dcterms:modified>
  <cp:revision>12</cp:revision>
  <dc:subject>Slavic hymnal Гимны веры христиан, Ukrainian hymn 75</dc:subject>
  <dc:title>Precious Moments We Share / Дорогії хвилини Господь нам послав</dc:title>
</cp:coreProperties>
</file>