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231-D4AB-4D9D-997D-83641819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EB0-936D-460B-A2B5-2058F55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CF3-E145-4EAC-ADC2-7665F051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608-84A7-421E-968E-F41DAEA5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36C-1161-4ED2-9881-DBEF488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805-2B46-4333-ACBE-D64156B8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6E3-D6A4-4DA1-B7FA-B39740B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837-BC94-480B-B6DF-005A067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EB2-4307-41E8-A8C5-2B186AD2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96C-7C72-4916-BAE6-02D9619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B67-97AC-4389-A497-6288E3B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A00-FBD6-48B8-B04B-9A2EE72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27709-1569-474B-835D-4E8DF1EC34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3:53Z</dcterms:modified>
  <cp:revision>12</cp:revision>
  <dc:subject>Slavic hymnal Гимны веры христиан, hymn 490</dc:subject>
  <dc:title>За Евангельскую веру</dc:title>
</cp:coreProperties>
</file>