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3FE-0558-4ED8-8F86-7659186A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CB99-4BC9-4759-BE66-14618DF3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1F1-13DE-47D8-9B16-7F820577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86A-BADF-469E-A860-93CF0F58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179-EFC4-45A0-9600-788C225D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A47-F624-4019-B870-B5F2ACDB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783-99E3-494F-9EA2-5C4CDDCB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882-673C-47C9-B811-AB6D7C3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EC7-6601-40F7-B47E-1FB0E0E9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215-AB5C-4C94-9FA6-D45D35C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A30-A53F-4220-AA74-43C3174B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540-2FC3-40C8-8E7F-408A750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F1425-1453-4471-A36B-BBEC173B674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highest of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depths of the se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ion’s rev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aje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colours of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fragrance of sp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u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ong that it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exclai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97   From the Highest of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has told ev’ry lightning bo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t should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seen heavenly store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den with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magine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s source to its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conceals it to bring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oolness of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ne can fath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powerful, untameab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estruck, we fall to our kn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humbly proclai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describable, uncontain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placed the stars in the sk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know them by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comparable, unchangea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ee the depths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ove me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mazing,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3T09:22:06Z</dcterms:modified>
  <cp:revision>12</cp:revision>
  <dc:subject>The Source 4, song number 1797</dc:subject>
  <dc:title>From the Highest of Heights (Indescribable)</dc:title>
</cp:coreProperties>
</file>