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F5C-D164-436B-831C-F593E080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90C-8D80-4F5A-AA01-C2A95A72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74A-B305-49C8-9045-AB8F8F16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B0F-4890-4A23-BEDA-9E89FB73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BFF-1C9B-4CA1-909E-A76892F3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B6D-0E09-48C6-8E3F-B39B50FF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B28-48F1-49C5-A8BE-A597B6FF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1ED-56B8-44FB-A6F4-896A4E5B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492-3ADB-4ECE-A6B3-998B740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7E6-2C29-4D7C-94A0-DFC1D01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3D6-FC6F-4235-BABA-3C54C5C8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69E-35B8-4E39-94FA-EFF755E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97AC5-2EDA-4A7F-9264-F35E68BFEC1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бедился я в Божьих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прийти к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ух неотвязно мне в сердце твер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м мою бедную душу мут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егодня не время, ведь ты не го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правься, очистись, себя приготов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чти убед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я верить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 отдаться 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ово Его приглашает ме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бойся, о грешник, приму Я теб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ныне открыта спасения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заблудший, иди же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решился, но поздно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закрыта мне райская д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приговор уж готов роко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ти уж открылася бездна пред м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же, друг бедный, иди же сейч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близок конец и последний тво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11Z</dcterms:modified>
  <cp:revision>12</cp:revision>
  <dc:subject>Slavic hymnal Гимны веры христиан, hymn 374</dc:subject>
  <dc:title>Почти убедился</dc:title>
</cp:coreProperties>
</file>