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1C9-5491-4665-8666-D333C661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397-2D22-4C5D-9771-598CE2B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A73-4AE0-49A5-9B96-5E8A39F8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3D6-0610-45FF-A201-E2A9CCB1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ED47-419A-46DE-A4F7-C2FEB179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4A8-987B-4FFA-94F1-A1DB65A3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00E-0194-463F-AF1F-4784A75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94B-7C5F-4848-8808-E960050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B58-CCFF-49B4-9B51-2161C52C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1D6-F5B9-4E53-988A-C5D23D2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9B6-90E8-4553-87CE-87207503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B0F-7C4C-44B7-A3C9-408B3A0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2598D-B13A-401C-8184-29F88832AE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мой Иису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я утешен и Им веселюс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а наследье хочет Он 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же приятно Им обла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ёрдо я вер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 час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я отдался, дитя я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полняет сердце м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ахожу я хлеб и пить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ёрдо я верю: сильной ру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рает Свой кров надо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 ни случилось, радостен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о мною Пастырь и Д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и полный мир и п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находит в союзе с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, чтоб Тебе я сердце отд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 умалялся, Ты б возр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я буду петь с торж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исусе дивном м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03Z</dcterms:modified>
  <cp:revision>12</cp:revision>
  <dc:subject>Slavic hymnal Гимны веры христиан, hymn 593</dc:subject>
  <dc:title>Твёрдо я верю</dc:title>
</cp:coreProperties>
</file>