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690-4C32-4C0C-A063-02B7C665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76D-0F78-4DFE-9D38-B36443CB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090-4127-4520-B6E8-57E2A422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BC8-D8DF-46E4-BEEC-61426D99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0B7-41C7-46F7-A21A-AC0D7AD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ED0-F9E9-4BA4-B274-A4C07FE9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282-A108-4CD9-B1D1-A56CF2B8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291-28E3-4326-A938-2A98056E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30B-166A-4574-8466-5407D3FA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46B-287C-4BCF-849B-BE07985F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C24-246A-43CC-86C6-36C15CEB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6E1-54F9-4AEE-AFE1-77E8522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DE9FA-1808-47C6-8AB3-8FEBB0AFEA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mighty fortress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bulwark never fai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lper He amid the f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mortal ills prevai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ердыня наша — вечны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ердыня наша —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ила и защ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ед Он выйти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ша жизнь сокры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till our ancient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th seek to work us wo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craft and power are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armed with cruel h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is not His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древний враг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ибелью гроз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е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лишь для вр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ире всех страш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 we in our own strength conf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triving would be lo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not the right man on 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n of God’s own choo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ка грозного вр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долеем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шь может,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вать его цеп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st ask who that may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, it is H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Sabaoth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ge to ag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must win the ba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н? звучит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есть и гря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от же в род и род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 this world with devil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ld threaten to undo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not fear, for God hath w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uth to triumph throug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раги голодным ль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инут на съ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будет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ст нам избав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nce of darkness gr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emble not for him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age we can end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lo, his doom is 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little word shall fell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ь тьмы рычит, как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его гн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рать нас хоче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ам он обреч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чную погиб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ord above all earthly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hanks to them, abide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irit and the gifts are 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Him who with us sid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уст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будет с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поддержит, укре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вными да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goods and kindre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ortal life also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ody they may ki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truth abideth st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лишат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на кривых пу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беды, смерть и мр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м Господь даст ц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6:26Z</dcterms:modified>
  <cp:revision>12</cp:revision>
  <dc:subject>Slavic hymnal Гимны веры христиан, hymn 849</dc:subject>
  <dc:title>A Mighty Fortress is Our God / Твердыня наша — вечный Бог</dc:title>
</cp:coreProperties>
</file>