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1DFA-A9F0-41DB-9B97-81E0574D8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100C-527D-4B4E-8D82-3E4442B3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42C8-3C70-4249-8F64-46ECBB73C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CB1D-DF40-4484-BB79-B2D1175B6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FB33-C9F4-47E6-A998-06C9EFE4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34ED-0F8C-4D61-9EE4-43CD0C9C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D961-28D0-42D3-B2E7-1391E6AE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6FCF-4C62-4EF6-A543-EF8CEBD0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5E43-DE2E-41CF-BD47-649268EC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A972-CC32-443E-9AA4-9FA712C4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42AC-E4F5-454C-9B84-6978D6DC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93A0-D4AB-4C1E-904C-3AFDB89A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F2E4B-577E-44B4-BA87-6C98D8B2817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и там поля беле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рагоценнейшим пло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нивы золоте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налитые зер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Господь, Тебя мы мол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ылай жнецов в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пшеницу собир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жатва не пр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8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десь и там поля беле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ли же их вперёд с рассве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полдневную жа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аботать знойным ле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ужить Христу Цар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Господь, Тебя мы мол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ылай жнецов в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пшеницу собир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жатва не пр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для Бога рад труд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тву с поля собир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с нивы возврат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радостью объ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Господь, Тебя мы мол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ылай жнецов в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пшеницу собир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жатва не пр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8:33Z</dcterms:modified>
  <cp:revision>12</cp:revision>
  <dc:subject>Slavic hymnal Гимны веры христиан, hymn 784</dc:subject>
  <dc:title>Здесь и там поля белеют</dc:title>
</cp:coreProperties>
</file>