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D1B-AD9A-4F2C-9723-4DFDE73F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17F-D973-45FD-976B-081429DB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508-0E6E-46E1-A694-EACB8951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CDE-A6D4-4A28-9511-DC093E91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118-4A66-4C94-BA03-45DCB19C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A8F-D59F-4EC1-9786-3BD2CB0D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D6D-7B41-4C78-996C-9C6BAE6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92D-F13C-47B0-8ACC-DBF7E44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D24-5C7C-4D92-BD1E-18AD0FA7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61D-C765-423B-AF62-C213961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62F-F13E-4EC2-9AB7-BBF488C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B45-AE97-417E-8962-0A39DAE5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285DC-8E74-4A12-8FCE-CD82004761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в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кров Свою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ажданням на хре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Я відкуп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від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0   За тебе Я вми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землі про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корботах та жур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и у неб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щастя дать тоб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радість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бо залиш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ю Я зійш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грішних полю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ти тебе прийш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ій Я дав тобі,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що ти дав Мен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Я уми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корбному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Я волю 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вої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бе Я страждав, стражд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дяка де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руже дорог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у життя від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Він ― Спаситель тв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хвалу склад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― Пастир і Любов,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лив за гріх твій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2:16Z</dcterms:modified>
  <cp:revision>14</cp:revision>
  <dc:subject>Slavic hymnal Гимны веры христиан, Ukrainian hymn 30</dc:subject>
  <dc:title>За тебе Я вмирав</dc:title>
</cp:coreProperties>
</file>