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7272-B5BF-44CE-992B-A620180B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E9AC-2107-49CF-93A6-3406FAB6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045A-CACA-4BEF-AFFC-6EA72EDC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7AE-F24B-420A-A7DA-F773DB7E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DA47-DA11-40BF-A4F4-8D4DD795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275F-6D9F-49DF-8E95-8365E1FA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9648-D41B-4A9C-AEBD-0681CDDB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6F8A-D159-4A0A-8A90-BA5BF960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5F42-2F7E-4849-A130-41C148AF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8FB-DEF7-4E8B-A5F5-ECF6E861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7A1-9EC7-4998-924E-A3795E79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5B1F-35AB-4F4D-83B9-B2B6EFF5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77490-9924-414B-99B7-3DE4C2F45C7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Son, man’s Messi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hangs on the t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2   Зійдім на Голгоф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у жертву віддав там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finished! My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mit I to Thee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ied that from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might ever be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вершилось! Я Дух Мій Тобі віддаю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нас Він пожертвував душу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Word He proclai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led the sick and the l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d raised to lif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imself now is sl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сія лиш правди людей науч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дужих зціляв, за що так постраж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, how He s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cruel agon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там всі муки терпить до кін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ter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soul that belie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cries out, “I thirst!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negar He rece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агне, ― а оцет Йому подаю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 Його уст води живії теч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give them! They know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y do to 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в любові благає Тво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’s haste, you and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ur names may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ose be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raised up His pray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ти їм, не знають, що чинять Мені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ва молитва знялась від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voice onc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 to heav’n raises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чуєм Ісуса слова до Отц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Father, why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forsaken by The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brother, that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 receive you and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оже Мій! нащо Мене залишив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любі друзі, то за вас Він терпі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se words of our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be heard by you and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вже ж не зворушаться наші серц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7:57Z</dcterms:modified>
  <cp:revision>14</cp:revision>
  <dc:subject>Slavic hymnal Гимны веры христиан, Ukrainian hymn 22</dc:subject>
  <dc:title>Come, Let’s Ascend Mount Calvary / Зайдім на Голгофу, друзі!</dc:title>
</cp:coreProperties>
</file>