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FE4-115A-4257-B384-3A298756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C61-1FEE-44FF-BFFF-A8DD7038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341-FB09-45AA-94A3-1AA31215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623-92D0-4940-B311-03807E5E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B16-3F72-432E-8E1D-125BB023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99E-2E67-4A6B-8CE9-26F6803C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813-A543-48DE-8F41-FF0364DD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8CC-31FF-4AFE-A48D-3E40BB1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D70-E619-4D13-B562-1011814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A3E-F38D-43BD-BDDD-4EA4119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D0F-2553-4359-A5B2-B7731C6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190A-63BC-4D67-ADD6-C74A09E4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9373F-F956-4764-8135-3BEE5B1BE0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s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the loving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t me Jesus, wh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 of sin and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in bondage, by sin ensl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God loves me, for 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Himself He g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, bor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will praise Thee, Thou Lov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 will praise Thee, while life shall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08Z</dcterms:modified>
  <cp:revision>12</cp:revision>
  <dc:subject>Slavic hymnal Гимны веры христиан, Ukrainian hymn 78</dc:subject>
  <dc:title>I Know God Loves Me / Бог є любов, о велике щастя!</dc:title>
</cp:coreProperties>
</file>