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581-AE4B-4A0E-A565-43C7779A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D37-6617-4433-AE5B-841F985F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0AB-E937-488D-A959-8AA3FE8D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E77-4E5A-4E77-B4F6-393D5802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E5A-D29C-45DA-A95C-A7AC7DB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32D-1427-4374-9336-0880F25E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AB4-A926-4A8F-BC74-3CE4729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C7E-D483-4F4F-B7F2-B12DAAE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347-B494-437B-9D73-F23F0B2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F07-00D6-4C88-94E5-9308B30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066-19F6-43F4-B838-2ABC9ACE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F08-C86D-4756-94C1-56ACB34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C11B5-96B3-4E90-937F-03F55E3596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ещё поко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же правдой успею пож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молод, хочу весе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не о чём больше ту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спею принять по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ю жизнь впереди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получу оправ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веки расстанусь с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успею ещё покор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в мире теперь наслажд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у прихоти, прелестей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учить я успею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за сделанный грех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т юноша бедный, несча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шибся он в мыслях сво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месяц и случай оп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ментально беднягу пост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смерть у ног уж стоя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лел, а твердил всё боль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успею во что бы ни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уляю, пока молод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еряет больной свои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олиться Творцу уж не 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обрушился край у мог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вил: «Поздно…» — и жить пере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48Z</dcterms:modified>
  <cp:revision>12</cp:revision>
  <dc:subject>Slavic hymnal Гимны веры христиан, hymn 774</dc:subject>
  <dc:title>Я успею ещё покориться</dc:title>
</cp:coreProperties>
</file>