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9D5E-8968-4E2A-9A6D-E8EF749BD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E158-AAF7-453F-B498-4DEE0523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C941-49C9-48F7-8D77-A089078A7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66D3-9E7E-400B-A337-529FC7C4B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EF55-668B-4357-80FC-71EA7242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5111-99A0-467C-B707-1C8A1616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0823-86E1-4A64-AFE1-37955263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80A9-F90F-440A-A1FD-DAC701E2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CEFD-F13A-4CA8-808B-76F32166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EFDA-6476-4248-BF68-8C247352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592C-2423-483B-B967-8E980E41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31AE-2BC0-4F46-A090-D43CC354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77C4E-28B7-45D4-B84B-3D264F85F44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a pilgrim, and I’m a strang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tarry, I can tarry but a n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not detain me, for I am 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here the fountains are ever flo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8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этом мире я толь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я только стран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долго, мне не долго быть в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огом окончу путь мой далё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, где блаженства льются пото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a pilgrim, and I’m a stran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tarry, I can tarry but a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я только стран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долго, мне не долго быть в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the city to which I journe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Redeemer, my Redeemer is its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no sorrow nor any sig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any tears there, nor any d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й отчизне, куда стремл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Спаситель, мой Спаситель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печали, нет воздых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недугов, нет умиран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a pilgrim, and I’m a stran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tarry, I can tarry but a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я только стран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долго, мне не долго быть в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the glory is ever shin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my longing heart, my longing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the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n this country so dark and dr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ng have wandered forlorn and we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ивном свете там всё лик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ня в тот дивный, дивный к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этом мире тёмно и жут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томился, нет мне прию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a pilgrim, and I’m a stran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tarry, I can tarry but a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я только стран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долго, мне не долго быть в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3:10Z</dcterms:modified>
  <cp:revision>14</cp:revision>
  <dc:subject>Slavic hymnal Гимны веры христиан, hymn 680</dc:subject>
  <dc:title>I’m a Pilgrim and I’m a Stranger / В этом мире я только странник</dc:title>
</cp:coreProperties>
</file>