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9A81-201C-44D4-A3A5-9A359A4C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CC85-07C7-43F5-B1E3-EE976316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3DE6-183B-427F-AAAA-02A287585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A8F3-0DCA-4AC2-853D-34C34AAF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C725-DC07-4E62-9223-6420176F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C209-1AF7-4F2C-A389-888F3026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BF81-B1CD-4D87-BEAC-45A50655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E83E-4295-4574-A824-A4EAB4C6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46DF-6889-4139-A2D9-3041AFEF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364C-0AA8-4E97-BCCB-30052D7D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6AF8-CF71-443B-88EF-E48F0A80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1D29-EDD5-4DC7-BE58-E10CD2A3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ADA51-5AA8-4448-BF96-3DADB2E2545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heav’nly armour we’ll enter the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attle belongs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weapon that’s fashio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gainst us will st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attle belongs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sing glory,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wer and strength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sing glory,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wer and strength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2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n Heavenly Arm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power of dar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s like a f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attle belongs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ll raise up a stand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of His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attle belongs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sing glory,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wer and strength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sing glory,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wer and strength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r enemy p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hard, do not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attle belongs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courage, my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redemption is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attle belongs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sing glory,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wer and strength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sing glory,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wer and strength to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2:04Z</dcterms:modified>
  <cp:revision>10</cp:revision>
  <dc:subject>The Source, song number 228</dc:subject>
  <dc:title>In Heavenly Armour (The Battle Belongs to the Lord)</dc:title>
</cp:coreProperties>
</file>