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4BF-1C6B-4919-B22F-6EAE22AA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944-75D7-4347-BA4E-0D12D2E4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14C-0B1F-48CB-A58A-08113F19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0D5-25B6-4B78-92A8-416D553A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910-71F5-4207-8433-94A29A38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47C-72CF-44D2-8459-BCA13BF6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65B-3AC3-499D-AF48-3452F7E8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71A-5030-44B3-AB6F-E35AE37E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93F-00F9-477C-87F4-19770A29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A6F-6DC1-4DFC-900C-69887469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81A-F75F-459C-91AA-215FEAD6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8EB-6707-4665-A6B3-2639C4C9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928F0-69F4-44C7-A718-8D8DE2DCA1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hrough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o worship You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enter to honour “I A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82   Вхожу во Святое Свят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 во Святое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, чтоб Ему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жу, чтобы видеть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яюсь Тебе, поклоняюсь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лоняюсь Тебе, поклоняюс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Твоё свято, свято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Твоё свято, свято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7:29:40Z</dcterms:modified>
  <cp:revision>11</cp:revision>
  <dc:subject>The Source 3, song number 1282 in Russian</dc:subject>
  <dc:title>Вхожу во Святое Святых / I Enter the Holy of Holies (For Your Name is Holy)</dc:title>
</cp:coreProperties>
</file>