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F342-5353-4C7E-8D18-E43D9C8E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868-54BB-4B3D-BFCD-FFDCA420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BBC4-2952-40AA-9C00-62AA2157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5FA0-1C4F-4986-8DD5-89A9D5E4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5BF8-D46D-4E48-A719-F8DA1353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D494-447F-4D94-8764-ED06D7FE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72E-194B-4768-A181-19F2A582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EFA2-7258-445A-8088-6EDE7233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E8F1-CB14-4AE7-BB3D-F1B4AF16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3A70-D170-497D-8F13-2FD90484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CDF7-89FD-43E5-AB5D-8BD42D25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95DC-9697-4FEC-9E45-BA695530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743FE-6995-4C5B-BEFE-E55757981A3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Jordan’s stormy banks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st a wishful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Canaan’s fair and happ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y possessions 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ою у Иордана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у Иордана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ижу чрез стру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анаанские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умы все мо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o will come and go with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all those wide extended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s one eternal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God the Son forever re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catters night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поля вдали г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ый вечный де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ожий Сын в любви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яв ночи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o will come and go with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chilling winds nor pois’nous b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reach that healthful sho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ckness and sorrow, pain and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felt and feared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могу в тот край в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росветлеть душ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вижу лик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а, чтоб мир на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o will come and go with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hall I reach that happy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e forever b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shall see my Father’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His bosom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чистою надеждой пол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 бежать отс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страшен гул шумящих вол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достичь я цел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o will come and go with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bound for the Promised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ём мы, друзья, в краю р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е берега, где нет з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Моисея воспоём, близок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исусом вечно будем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53Z</dcterms:modified>
  <cp:revision>13</cp:revision>
  <dc:subject>Slavic hymnal Гимны веры христиан, hymn 677</dc:subject>
  <dc:title>On Jordan’s Stormy Banks / Стою у Иордана я</dc:title>
</cp:coreProperties>
</file>