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88F-68C2-44A6-8E99-C4A47FA5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E9E-2CED-44EA-A392-EA18E4B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A66-E28B-4360-A6BD-EB250E70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836-7F72-45CA-85E1-80D9A039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E39D-E7D7-43E0-98BB-5968FC1F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443-E6BE-4EE7-9166-B9CB6841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F07-AD42-4008-9494-D2409D02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AB5-1380-481D-AE96-8AFAD3E5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AE8-4BCB-4D4B-A245-C9961C41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84D-97C2-438C-8FF0-3DBDBC3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3C2-094F-4376-8247-92CD003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5D9-9D2D-415B-BD2C-2618A017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DCE1F-3111-456B-9EA7-47BCAB5592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are not for rich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ither silver nor go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make sure of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uld enter the f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2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хочу не бо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не бо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азны сереб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ень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pages so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me,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й спасён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же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ницах свящ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Т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my sins they are ma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the sand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y blood, O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ufficient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много пор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еску у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рек и по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Иисуса силь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y promise is writ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bright letters that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your sins be as scarl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make them like snow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 правды нам д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заряет нас все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Грех, как пурпур багря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лю Я, как сне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! that beautiful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mansion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its glorified be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ure garments of whi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 дивный, прекр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в дворцах веч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любовью согл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в белом о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evil thing com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espoil what is fai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angels are watc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my name’s written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уш яды не трав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безвестно сердц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ангелы славя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page white and f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book of Thy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name written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ажи, Бог мой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вечн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писан ли 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28Z</dcterms:modified>
  <cp:revision>13</cp:revision>
  <dc:subject>Slavic hymnal Гимны веры христиан, hymn 620</dc:subject>
  <dc:title>Is My Name Written There? / Я хочу не богатства</dc:title>
</cp:coreProperties>
</file>