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2A5-0C5D-4CA7-85C4-D4A75C93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AA1-2FE9-46A8-A846-5FBC2425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DC5-FD62-486B-AE0B-FD58081F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3ED-4E61-4E70-8C39-D5504DA2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62A-F139-43C5-AA52-40988F8A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9B2-42B9-44FC-97C3-848837DC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A2DC-8452-459B-B61D-0F2BCBD0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AE0-4D6B-404C-BB4C-3379CDAE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0A6-4B47-4901-9B6B-C973C6E8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3D9-E816-49C0-B6F2-66D21A37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A61-F966-463D-9E1A-DDAAD46C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B4D-80DF-49D1-B894-787FDAE7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44CC9-1573-484C-9420-55E3AE54E2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у пісню співаю я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колись не зн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мої гріхи з мене з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0   Солодку пісню спів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удну і дивну любов не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, що є су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тоді в душі співаю вс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у спільність ми має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зик не роз’яс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е щастя нам є з Ни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же, прийди до Нього теп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учений та сум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ш співати в Його любв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 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47Z</dcterms:modified>
  <cp:revision>12</cp:revision>
  <dc:subject>Slavic hymnal Гимны веры христиан, Ukrainian hymn 90</dc:subject>
  <dc:title>Солодку пісню співаю я</dc:title>
</cp:coreProperties>
</file>