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0AB-9E50-4FE0-A215-BBAAEE0A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B4D-3F48-460A-BA3C-C3D5D73E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5E9-9FD6-44A1-A7C4-9B2B46B5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4DF-587D-4901-A32D-427AF64E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4F40-2076-4F51-A6DA-9354288F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E72-052F-4DA1-94E2-B0722328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926-A9D6-4DD1-BCD0-2D339C2D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B96-4CC1-451C-8146-C919ED6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3F1-7151-465A-9912-ACE386F7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8E1-4A35-4486-AFF2-C9B50AC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A34-7943-4B12-957C-11C42EF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8F5-9FC7-4492-B902-B2C128D7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800D0-AAA7-4AE2-A72C-A6A0ADFE10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1:54Z</dcterms:modified>
  <cp:revision>12</cp:revision>
  <dc:subject>Slavic hymnal Гимны веры христиан, Ukrainian hymn 70</dc:subject>
  <dc:title>Let the Lower Lights Be Burning / Ясно Свій маяк Отець наш</dc:title>
</cp:coreProperties>
</file>