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20</a:t>
            </a:r>
            <a:r>
              <a:rPr b="1" lang="ru-RU" sz="3600" spc="-1" strike="noStrike">
                <a:solidFill>
                  <a:srgbClr val="ffffff"/>
                </a:solidFill>
                <a:latin typeface="Verdana"/>
              </a:rPr>
              <a:t>	</a:t>
            </a:r>
            <a:r>
              <a:rPr b="1" lang="ru-RU" sz="3600" spc="-1" strike="noStrike">
                <a:solidFill>
                  <a:srgbClr val="ffffff"/>
                </a:solidFill>
                <a:latin typeface="Verdana"/>
              </a:rPr>
              <a:t>С надеждой на Теб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 надеждой на Тебя,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труд дневной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укрепи мне дух и пл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олезному тру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Сам благослови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щник будь в труд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й Ты мне в теченье 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обою быть везд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ставь, чтоб для Тебя мог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ердцем и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всё в жертву принос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дано мне Тобой!</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52:32Z</dcterms:modified>
  <cp:revision>3</cp:revision>
  <dc:subject>Slavic hymnal Гимны веры христиан, hymn 220</dc:subject>
  <dc:title>С надеждой на Тебя, Господь</dc:title>
</cp:coreProperties>
</file>