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D50-0A6A-4040-ACD5-E939B552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7B9-99FF-4C40-BA08-7FCBF9D5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877-6094-4054-88CC-3E7A6C66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15F-6C88-4A89-BCFB-C8B7FAA0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708-E942-4015-AF9F-19A35210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A13-0DBE-4B3B-8297-8F02ED5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AC5-CCAF-4A5C-A017-00810DB2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281-58D1-4164-960D-11F0FA14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1AA-CD8E-4F9B-9119-AEAD6690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85D-89AE-4BEA-910D-3E3DF47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B27-75BD-46CC-A929-09DC3397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7A2-08A1-4875-9057-5CF68176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03923-1E3B-4CF3-8995-9CB2AB1911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м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возврат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знаки твер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концу мир стрем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коре при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й день заг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ем, ког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дям дал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знали спас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в сердце суд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Свои откр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мир от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Иисуса я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сь и труд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юдай Божье сл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ьник заж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гда будь готов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а за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рожат все осн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и мол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дёт в обл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 славе небе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знаем 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30Z</dcterms:modified>
  <cp:revision>12</cp:revision>
  <dc:subject>Slavic hymnal Гимны веры христиан, hymn 320</dc:subject>
  <dc:title>Не знаем, когда</dc:title>
</cp:coreProperties>
</file>