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2689-DBE8-4A3E-B946-46FF4370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BF7D-AC81-45CD-A701-FCC2992E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6CA7-D625-49B0-A8AF-59F7CDA2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BBB0-D1A8-44B2-BE7D-75A9A271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FD43-E325-4DE3-BC8C-98D9CA00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19DC-A9E9-4E43-AE34-D945760E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FF1E-9DBC-4F59-B020-77BEF72C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2A3E-16ED-4698-B093-228EA2F7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CF49-6A71-45FC-A7A0-7B9820C0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1699-C5F1-420A-A0F3-01AF8141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3509-8470-4F54-AB07-82796FD5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FFEF-7CC6-4EDE-A139-05C84ED2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120CC-1A5A-4C27-9D13-AC0BA335759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roubles assail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angers affr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friends should all fail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oes all uni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ужда ли больш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да ли больш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трудностей ря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 ль измен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и ли грозят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one thing secures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ever bet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romise assures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will provid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в жизни сур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да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щенное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смотрит Господ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irds, without g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storehouse, are f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m let us learn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God for our b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птиц нет амба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есни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малый и ста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р с них бер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saints what is f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ne’er be den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long as ’tis writ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will provid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ержит Всевыш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ьную пл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жду и пищ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мотрит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Satan assails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top up our p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ourage all fails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triumph by fa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ску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путь омра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ужас охва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вера тверд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cannot take from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oft he has tr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heart-cheering pro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will provid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сум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ых побор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им ясне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смотрит Господ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trength of ou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 goodness we cla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, since we hav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Saviour’s great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ами ничтож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т в нас доб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лости Божь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шла нам за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our strong t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afety we h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is our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will provid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орбях и сомнен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бед и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утеше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смотрит Господ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4:00Z</dcterms:modified>
  <cp:revision>13</cp:revision>
  <dc:subject>Slavic hymnal Гимны веры христиан, hymn 873</dc:subject>
  <dc:title>Though Troubles Assail Us / Нужда ли большая</dc:title>
</cp:coreProperties>
</file>