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0FB-4D52-434B-B0BA-C5F5E560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1A9-DBDB-435A-90F7-67E1E640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BAD-7BFA-4377-8B9D-5FC12E09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215-06A2-45BA-A21C-C89C7FBB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704-912C-4EEC-B46E-3FB38BEA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46E-316D-4956-B3DB-30551F0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632-394A-4837-A577-170B235F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A14-B437-414D-8827-D95B4435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EAF-D641-4F7E-BBE0-AEA3AEB0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E28-924D-48AC-BF03-DA348160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14AF-8016-43A0-A32B-8C160D4A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0DA4-128A-4D96-A9D2-BF00B45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760E0-0870-4F31-9330-F31B7054BB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сладко мн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и радость в Нём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Ег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имя слад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м сладко имя 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, мир даёт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Божией по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лов, чтоб выразить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в пламенной хв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12Z</dcterms:modified>
  <cp:revision>12</cp:revision>
  <dc:subject>Slavic hymnal Гимны веры христиан, hymn 607</dc:subject>
  <dc:title>Иисуса имя сладко мне</dc:title>
</cp:coreProperties>
</file>