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7AC-9C53-439F-927B-E6AAD70A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A60-07D8-496E-9FD5-E7828C4F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B85-910D-4537-822F-D8674001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AA4-8496-462F-B08A-DDFCE3EF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CAE-6E35-4A6B-8502-B42BC46A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9F5-6971-4CC1-A922-BB27CD54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FE7-AC41-4933-A116-2E09E67D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D92-FF94-4365-9340-C6FB5C1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97E-8D36-4593-AE89-B1CE677F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82E-A95C-4896-9B37-DD0EE2C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51A-6391-4478-A8A8-C415239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25C-4343-4DDC-8E85-75C23A0D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51159-F572-43AA-B327-0F9AC1E18B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шение Пет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ный грех Он не вме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енье у ко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простил! Да, Он прос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прельщённы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Господа греш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к Нему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янья смолкнул ст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милован, прощ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мой палач —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царит С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грозного меч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у призрака с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ия св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ена И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л! Да, Он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т запада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души Он уда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кров небес об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ангелы,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хоры Божьи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 Господь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29Z</dcterms:modified>
  <cp:revision>12</cp:revision>
  <dc:subject>Slavic hymnal Гимны веры христиан, hymn 606</dc:subject>
  <dc:title>Он простил! Да, Он простил</dc:title>
</cp:coreProperties>
</file>