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C01-E006-4A99-9D29-D9FFFC62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365-D2A6-41EF-93F4-906A50D1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EF6-217C-425C-884E-132D0B3A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39F-829E-4D02-92D2-C84CB3AF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890-D79A-41C6-840D-AA166C0A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796-413B-4A17-8D4F-14FCDCEC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1EC-DD41-4A75-A419-CC07A54E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A98-CC51-4706-98CC-C26432A4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78F-03B7-4FD7-BDA7-D42C7C01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252-50EF-4AD4-9361-A2B37BC3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601-0C39-47C0-A139-B2242FC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8FA-161F-46F7-9AB8-DB083ACA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9BBD8-F5A7-421A-BF35-0E4FA2EDF19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рогий Завіт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Він вірним обіця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2   Дорогий Завіт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орог тебе зво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шляху, що ти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ам’ятай, що Він го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ерце перест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повати на Христ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чуй з вірою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ні життя кінча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остання хвиля й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 й тоді звучать слова 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Я, пове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шляху з землі до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еду тебе Я Сам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7:18Z</dcterms:modified>
  <cp:revision>12</cp:revision>
  <dc:subject>Slavic hymnal Гимны веры христиан, Ukrainian hymn 42</dc:subject>
  <dc:title>Дорогий Завіт Ісуса</dc:title>
</cp:coreProperties>
</file>