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AD7-C59B-40D1-AC0D-9421D867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9B7-D369-474F-9362-7E81AE12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7ED-A6A0-4EC0-946D-783EA90F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314-E693-42F4-8CA7-2F03D841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B93-040B-48A2-8745-EEE151BB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7A8-01F0-4CE3-80AC-88BDAFBB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812-0794-4369-8DE2-963CF3DB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5EA-A5EA-4BE4-9D88-84DCBCE4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5E5-633A-42B8-9B85-B21FEB2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D82-853A-4D0C-AD7B-60EF3A8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B20-4E48-4510-AE02-D86EBD6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016-A2A2-4340-A1EA-27858C5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BC674-062F-4916-BBC1-75C80D0ABF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comes to my heart one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lad and a joyous ref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it again an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сердце лишь песня 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лишь песня о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дости льётся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, как живая во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Christ on the cros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bt by His death was all p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other foundation is l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л мир страданье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лг мой Себя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миру лекарство от слё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Jesus as Lord I had crown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th this peace did ab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 the rich blessing I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Иисуса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р в изобильи мне 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ре любви ощу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esus for peace I ab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keep close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thing but peace doth be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пребыва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рибегает ду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ир я вкуша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, peace, sweet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nderful gift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wonderful, wonderful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peace, the gift of God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2Z</dcterms:modified>
  <cp:revision>14</cp:revision>
  <dc:subject>Slavic hymnal Гимны веры христиан, hymn 582</dc:subject>
  <dc:title>Sweet Peace, the Gift of God’s Love / На сердце лишь песня одна</dc:title>
</cp:coreProperties>
</file>