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FA8-C128-465A-B757-98FAB246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24C-420E-417A-9495-AAA62F8F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C78-71CF-45AE-A916-61854190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0AE-8DA6-4E07-83C9-70A577D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F94-A2EF-4D63-B84C-A21DCB04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A76-D6CA-487D-991D-5DC3677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D84-73BB-469E-B212-BCAE0E66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AB8-536A-4641-B1D1-5B98CC5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CBD-1829-40F8-A3EE-6EB32A63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B47-A10F-41CA-A9E1-685933E1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D0BB-1CF6-4F58-9BE7-17E36FFE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29F-7EE7-4929-BA23-56D6547D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4248-89AE-408F-B957-A07CF1C415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3   Слово, Слово Бо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испуга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бился я с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режде Ты со м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х уходит проч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рядом Ты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шь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за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вят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рдце напол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веди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воем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юбовью до кон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, Слово Божие даст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ет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4:06Z</dcterms:modified>
  <cp:revision>11</cp:revision>
  <dc:subject>The Source 3, song number 1563 in Russian</dc:subject>
  <dc:title>Слово, Слово Божие / Thy Word is a Lamp Unto My Feet</dc:title>
</cp:coreProperties>
</file>