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BDE-F171-48AB-89FD-669C9801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875-BC8E-4FAD-8105-0723059F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97B-395A-4F82-B3E2-426C8616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081B-D762-49B1-A792-84DCF01B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C60A-BDCD-474F-9E30-28F1BE53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7D54-9FBC-451C-A5EB-A4520195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4534-C388-41CA-9E80-55136D32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ACC-A237-41E5-9E23-3E436CDE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D81C-C685-4273-8E1D-F06F23C3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3F5A-8394-4CD9-92E4-917F0007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F9F6-815A-49FB-A2FF-0955ACA9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D17E-5BB3-4A87-A654-BD1C7340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98B20-2524-4848-8561-F353104E350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name of Jesus with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 of sorrow and of w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ill joy and comfort giv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hen where’er you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3а   Призови Христа, о греш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ови Христа, о греш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счастный чело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к тебе поспеш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й мир пошлёт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name of Jesus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shield from every sn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emptations ’round you g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that holy name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призови Хрис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итя отца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го свято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огибели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 precious Name of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t thrills our souls with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is loving arms recei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is songs our tongues emplo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 им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сердцу мое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т зла лишь им креп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ходя земную ть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name of Jesus bo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lling prostrate at His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, we’ll gladly crow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our journey is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ри имени Христ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желанный мы па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небе славном, н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гласим Его ц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Христос даёт серд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у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42Z</dcterms:modified>
  <cp:revision>13</cp:revision>
  <dc:subject>Slavic hymnal Гимны веры христиан, hymn 713 (as amended)</dc:subject>
  <dc:title>Take the Name of Jesus With You (Precious Name) / Призови Христа, о грешный</dc:title>
</cp:coreProperties>
</file>