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AFF1-13AE-4FC7-8CBA-64FD48D0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B84-7B34-44DA-B480-E7673D97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91AB-964F-496F-9B95-14309D8D9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A0BC-D817-4540-AEEF-23E7735A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6EDB-5CC4-40ED-BCE2-6740A4E0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B968-8B6B-42F1-B84E-9C9B62FA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EBE3-6841-4260-845B-7CE746B8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D5CF-72C8-49F8-A285-144AE0EA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A8D6-7F47-4EC8-B431-C9CB876D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90B2-2701-4E01-A656-2E7A87ED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C3FF-9A24-4806-BB04-FB401424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099D-659A-4B52-BD2B-6ACE59B1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C8A6D-5C86-4EF0-939E-9E6453175CF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lift Your name on hig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love to sing Your prai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so glad You’re in my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so glad You came to save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зношу Тебя,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ошу Тебя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ю Тебя в пес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 я, что Ты — мо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ви, Отец чудес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came from heaven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how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earth to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debt to p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на землю с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по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путь продолжил н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рез забр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cross to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the grave to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lift Your name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креста в царство ть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оттуда оп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а, чтоб нам си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10:32:59Z</dcterms:modified>
  <cp:revision>11</cp:revision>
  <dc:subject>The Source, song number 330 in Russian</dc:subject>
  <dc:title>Возношу Тебя, Господь / Lord, I Lift Your Name on High (You Came from Heaven to Earth)</dc:title>
</cp:coreProperties>
</file>