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CDF-7EB6-4DA1-B277-A4FB8E34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0DF-615F-45D0-A029-47BCFEBA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12E-DDD3-4366-9218-7F2B8529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5D9-DD34-4F4A-BC7B-C8627AB8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851-8C96-420E-82EE-F9955062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B80-57DB-4FEA-8A1E-C1C769CF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996-F4F6-4E70-89FD-A80F193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0D4-3157-4D17-9D11-D511B706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A59-AFF3-431F-9C05-187ADAC1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1DF-2C30-4437-A5CD-765FC53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D20-091F-4D02-B655-9953285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045-BE40-443B-BD5C-06C5EC3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A25FE-2363-4F2A-90EF-E8D637FC88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03Z</dcterms:modified>
  <cp:revision>13</cp:revision>
  <dc:subject>Slavic hymnal Гимны веры христиан, hymn 825</dc:subject>
  <dc:title>День прошёл</dc:title>
</cp:coreProperties>
</file>