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8BF-2395-4014-8428-A907F042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92F-9357-4E60-9E52-82BA7EBD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C67-B389-49F6-8ABB-963E7494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844-8F45-4C53-8AE7-4CBCDBBC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7AC-E2C5-4BD0-9925-89688994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766-07E9-4E16-9F0B-B64B61EC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4C2-5E05-4FD0-8C60-DB3A5833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468-4BC5-452F-A43E-16E17F8B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F0B-9DF9-4330-BABB-627943B3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B2B-74D2-4708-8984-013AEF7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B28-FBF6-47BE-93A8-9E372A2B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D84-A07E-4E56-9E9C-944938B9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F181B-102B-46D4-8F1E-FA469F65C1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итель стражд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одно,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байдуже стоїш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кров проли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7   Чи тобі все од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на Голгоф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уми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провин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ебе Він уз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обі все од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кого ж Він вмира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и думав про 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гріхи Він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лагав ти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упитель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в Царство теб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евжеж в своє сер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ймеш Й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ближається вічніс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умай про 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уді, знай, ніх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ступит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ануть всі перед бі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столом Христ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ж тоді ти сховає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чисті ді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18Z</dcterms:modified>
  <cp:revision>12</cp:revision>
  <dc:subject>Slavic hymnal Гимны веры христиан, Ukrainian hymn 77</dc:subject>
  <dc:title>Чи тобі все одно?</dc:title>
</cp:coreProperties>
</file>