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B36-7835-408F-8E02-2C400494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D5F-C8F7-42ED-822B-5D9343DD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35E-C242-47DA-B732-2B307A69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870-F32F-463A-BC34-EA090C22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03A-D8E7-46AA-92DF-20BCD8D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DA0-E343-4227-A6D1-4C44F889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1A4-E448-4FCD-AC3A-0C41AE5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3E1-3769-480B-9F1D-19669B40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0EB-E69A-40D8-B643-63F2C03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6E2-CB87-4755-BF69-5CD99555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0A5-09AC-4378-AE71-344E39F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D98-AE40-4A97-8E8B-C3BFE16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DA22C-7F7F-4628-AD12-22BD0F6B87A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шь на пороге ты в ве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тебя счастье: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мир так красив и так ма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будто цветы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змей, укрываясь цвет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их жало своё прита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овок, чарует грех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оишь на пороге 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ему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 бы красивым был гр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веты, о, цветы, не рви их, не р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льше и дальше 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зья так прекрасны пор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адки слова их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часто горячей слез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оешь ресницы тво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сли друзья искуш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ти, где не будет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розами путь устил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отвечай только: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друг, лучший друг Иис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оре твоё и радость пойм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с Ним, куда Он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твоё сердце напол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ой Дух и дивный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в мир с оружием ве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всё зло побе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если хоть капля сомн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ится в душе у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громко в ответ всем муче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ажи: здесь побед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рьба со грехом тяж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мненья так трудно прогн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олько борьба к победе ве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оин Христов, твёрдо с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7:57Z</dcterms:modified>
  <cp:revision>12</cp:revision>
  <dc:subject>Slavic hymnal Гимны веры христиан, hymn 389</dc:subject>
  <dc:title>Стоишь на пороге ты в вечность</dc:title>
</cp:coreProperties>
</file>