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7BD-8219-48A5-B73E-190FAA3A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E68-1F60-4538-9D69-8FBA7CEE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2F9-8605-4E42-9BDB-05275FC0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D7C-1ADE-443D-BC4B-9B5EDB80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91D-6BF4-4F97-91C9-FE002AF2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E51-87A5-475E-855A-A063C689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CDF-625E-4651-87D1-8CAAFE8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0A8-6230-4D14-9A74-ED56C37F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981-BAF4-4DFF-82D4-2EB0F47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B2D-8180-41AD-A1E9-F96AC51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C8A-645F-447A-A92B-0D460AF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A49-11C4-441C-858D-931615D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B0A0E-E59F-4E1F-BE48-83548F2F3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горе Моей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йте, бейте вы трево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лицом у все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близок день Госпо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погибнет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 в небе заг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будится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трубите вы тру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род сильный и свобо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рождённый в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имя — Христиан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од знаменем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 мудрости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новите разум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путям правды хо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га сво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осстанет от вос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ж желанный, Сам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а Ним пойдут на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, Боже, Тво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05Z</dcterms:modified>
  <cp:revision>12</cp:revision>
  <dc:subject>Slavic hymnal Гимны веры христиан, hymn 536</dc:subject>
  <dc:title>О, трубите вы трубою</dc:title>
</cp:coreProperties>
</file>