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76</a:t>
            </a:r>
            <a:r>
              <a:rPr b="1" lang="ru-RU" sz="3600" spc="-1" strike="noStrike">
                <a:solidFill>
                  <a:srgbClr val="ffffff"/>
                </a:solidFill>
                <a:latin typeface="Verdana"/>
              </a:rPr>
              <a:t>	</a:t>
            </a:r>
            <a:r>
              <a:rPr b="1" lang="ru-RU" sz="3600" spc="-1" strike="noStrike">
                <a:solidFill>
                  <a:srgbClr val="ffffff"/>
                </a:solidFill>
                <a:latin typeface="Verdana"/>
              </a:rPr>
              <a:t>Посмотри же, мой друг</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Посмотри же, мой дру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страдальца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за грех твой Он муки понё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смотри на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пронзённую гру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смотри на терновый вено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осмотри на Н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Он свис со кре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смотри на те раны и кр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тебя на кре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моляя От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прощенье просил за враг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очему же, мой дру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отрёкся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е хочешь поближе прий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ль боишься скорб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ль стыдишься люд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не хочешь креста понес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За тебя на крес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 Господь умир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спеши и прими благод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сь твой грех на С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бровольно Он взя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небесное царство нам д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Так приди же, мой дру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к Нему поскор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тебе не погибнуть во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бо поздно уж буд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последний тот де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трубою вострубят с небе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2 раза)</a:t>
            </a:r>
            <a:endParaRPr b="0" lang="en-US" sz="3200" spc="-1" strike="noStrike">
              <a:solidFill>
                <a:srgbClr val="000000"/>
              </a:solidFill>
              <a:latin typeface="Verdana"/>
            </a:endParaRPr>
          </a:p>
        </p:txBody>
      </p:sp>
      <p:sp>
        <p:nvSpPr>
          <p:cNvPr id="44"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8-19T21:38:10Z</dcterms:modified>
  <cp:revision>3</cp:revision>
  <dc:subject>Slavic hymnal Гимны веры христиан, hymn 276</dc:subject>
  <dc:title>Посмотри же, мой друг</dc:title>
</cp:coreProperties>
</file>