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613-9A5C-49C7-A723-F523A4AF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195-7DC2-4FBD-9FD4-C4833785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BEA-EC9F-4248-B076-3C3AFFBB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B71-62DD-40E1-8E33-B212B2B8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64F-556A-4B3A-88CB-4945D93E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5FF-C6E4-4B68-B505-72F557CB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D5F-8189-4AF0-AFDE-B8635EC2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18C-93BA-41D8-A66C-7AADD3C8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E61-C520-40EE-BAB6-9451D38C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8BB-850B-430D-9707-1FCD23C3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CA2-B622-4909-ABD2-B5CB6A27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DA9-EF97-4137-BAFB-4D388A78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47092-8EDC-43E3-B3B1-B6FF027B71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астырям ночью голос прозвуч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станьте, не бойтесь, Бог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вить не страш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ад Давидов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Христос рождён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пастырям ноч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ях Младенец в пеленах ле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м Господень ангел пред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пали на коле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илися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Спаситель от греха 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обещан от начала л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цари, про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ждали, а убо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ся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говеньем станем перед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спасенья Он даёт Сво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чистую все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любовью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8:13Z</dcterms:modified>
  <cp:revision>13</cp:revision>
  <dc:subject>Slavic hymnal Гимны веры христиан, hymn 233</dc:subject>
  <dc:title>К пастырям ночью голос прозвучал</dc:title>
</cp:coreProperties>
</file>