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224-7F4C-4C6F-8C4E-B654A049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A64-DB71-4753-AF41-1CE52E0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1F1-DD33-4CF4-9B8B-F2D78F1B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187-BE1A-4351-B59E-210F03A8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41B-FCF4-42E4-8BAD-38F6A4C0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4CF-DB40-4AC8-89B1-E0497252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63C-3C35-4FB4-AD7C-E4CC5CC5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26C-8E45-429D-921A-44070C61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262-BE65-4ABB-86AF-EDACA9E5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2B7-D3EB-4539-BC8F-50FC808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2C0-951A-418F-83CF-148A9FB4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23A-FDDD-48E6-AE06-4DDAD1A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90267-63DB-4AC5-B866-793039F48B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8   By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cious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umbly bow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y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heaven’s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the redee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sav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have fre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we can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holy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love You forga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pow’r You have raised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, preciou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06Z</dcterms:modified>
  <cp:revision>13</cp:revision>
  <dc:subject>The Source 3, song number 1158</dc:subject>
  <dc:title>By Your Blood (Come to the Table)</dc:title>
</cp:coreProperties>
</file>