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5A9-94EC-48E9-BCFB-F199E1FC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5A6-A66D-4C98-9ED3-2F4C7A4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7FD-BDD2-43BD-AA5B-34F36125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681-7AD4-44CB-A9DE-B08528AB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94C-E07A-41EC-9B0B-FE8727B5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9CD-BF98-4636-9AEB-77962959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4C1-804F-4064-928F-AE1870FE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BFE-40CF-4D65-A91D-B3E9B7B2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EA1-375F-4F7F-B36C-D921937F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6FB-542A-4F83-BD26-D515C17E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160-0B64-43B1-829E-1CD5217B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D13-A000-4F7C-A70A-E1C845D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B14E6-EFF5-44FB-A74E-BA06EAF47D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еять ут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ять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день и к зак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а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жат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сеять ут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ную ль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о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ли то во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и дожд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устраш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 мы жа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о слез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ять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грудь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ышит тяже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час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вся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4:04Z</dcterms:modified>
  <cp:revision>13</cp:revision>
  <dc:subject>Slavic hymnal Гимны веры христиан, hymn 521</dc:subject>
  <dc:title>Будем сеять утром</dc:title>
</cp:coreProperties>
</file>