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ED5-5C21-4B61-BC3D-D2B29944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C55-8B19-4AE9-8ADE-30095472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25F-484E-47EC-9840-EF1F3485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23C4-FC91-4D39-B51E-D1724B53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433-04CB-4CEA-81A5-A916AE8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D84-5BAB-469C-A4E7-99310396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7FC-CF27-4602-8BCC-1425FFEC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E44-F7BD-4139-BB76-A03A85D3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3F0-2925-48A8-BCED-B1DB2AAB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275-6B79-455B-A2DA-B116C2F3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208-F979-4BA5-BEFC-222F5AB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0EF-44A2-4151-AA29-553B0E42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DA39E-FCED-4A5A-A716-74CD7E173D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яті усі ж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покійн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ди чистії теч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6   Чи зустрінемось з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орою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вічне там сі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там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істім світлі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ж нами і рі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в смертельний темний р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крови ці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 спасіння нам відкр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будем над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шлях наш ми про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стрінемось з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Творця ми рай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устрінемось з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світла і прекрасна є рі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стойно там ми хвал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2:59Z</dcterms:modified>
  <cp:revision>12</cp:revision>
  <dc:subject>Slavic hymnal Гимны веры христиан, Ukrainian hymn 66</dc:subject>
  <dc:title>Чи зустрінемось з тобою</dc:title>
</cp:coreProperties>
</file>