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921-D183-4094-BB2E-ECA00E78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C9B-7E00-4666-A0C5-688E6EC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EBD-6DBE-4AB5-B2F3-A8B97019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67C-1160-4099-A9B7-4AB4475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721-BBB5-4299-8C1F-2C1C5988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347-FE49-4DC9-B649-8A36B76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59B-2E62-41C1-A5AB-D313ECCD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4997-3889-4B35-A6C7-39019FE5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D0B-F726-4D13-890F-A7588529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CFD-F1B3-4BF9-9509-9457253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A6E-6995-47A7-B016-25361E10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E22-7FCF-4C96-ABD9-AC4FCA2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55D7A-C273-41F8-B53D-D97D65C1F4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паситель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взыв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ь мольб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Твоих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ужду слагаю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печаль свою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 Спаситель 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Тво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ла, по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а мне: «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вечной рад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ь застав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зажгла в груд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жным голос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зал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 бурь в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один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буд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 тобой идт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ты, скор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лачешь 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борьбы и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у 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ажу т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й кровавый сле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обессил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тьмы и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лонись пред Мной в моль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уть твой оза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не пал в 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ы дам тебе.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ак сл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оей больной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мир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оёт Теб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37Z</dcterms:modified>
  <cp:revision>12</cp:revision>
  <dc:subject>Slavic hymnal Гимны веры христиан, hymn 799</dc:subject>
  <dc:title>Господь Спаситель мой</dc:title>
</cp:coreProperties>
</file>