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ACE-D040-48F6-B30A-0C080178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51F-1CEA-47EF-B80C-E66BD8F8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B91-23D6-408C-8A22-C9B5FDE2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4BD-03FA-424E-8712-56FDBE7F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945-A0B5-4C36-9CC2-AE2C3380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A3F-E0AE-43E4-9E59-0A3EEC9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73E-7E65-41B9-8EB7-6512F5F5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E5E-8AAE-44E2-89DD-91FD5E2E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37C-D3E2-4BA2-B3DD-F497910E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55E-89F6-4D80-8B91-24A4DE94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1EB-5B8E-4D48-8CE1-23627B7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DC2-B9BB-426C-A4CD-17F233F0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59BF5-CA00-409D-AA68-2FC898D2B6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м на небе, за облак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новой уж н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родные где будут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песни славы там у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ом небесный, где быть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я, чтоб вечно 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Бога я вечно сл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вете чудном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дом на н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3080" y="914400"/>
            <a:ext cx="9486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бурю с моря моряк стре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чалить в гавань, чтоб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рвусь я сердцем в жилище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тдых ждёт всех свершивших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о будет в том вечном до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Друга душ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за грех наш у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рил нас с Отцом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914400"/>
            <a:ext cx="9486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горьких слёз лить не 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славу мы будем п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луки, скорби, болезнь за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м больше нужды тер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4-05T20:12:36Z</dcterms:modified>
  <cp:revision>12</cp:revision>
  <dc:subject>Slavic hymnal Гимны веры христиан, hymn 903</dc:subject>
  <dc:title>Мой дом на небе, за облаками</dc:title>
</cp:coreProperties>
</file>