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CAB-2E0E-47B7-9750-D396A2E4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8DD-A9E1-4E1A-81F1-3D33505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847D-35B3-491C-BCC3-0581E772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2E7-6A19-435B-9397-0E4A6638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A9E-6724-42D3-B1B6-80FCE2A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3B4-31E5-42D0-BCE7-BD965DEB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DDB-CED0-4013-BE95-BC6EDA0C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FD9-0D82-4F66-8B17-A12E7724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B95-4918-4F0B-BCF6-33622E0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C80-752D-46EF-943A-9648935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A16-C71C-4378-8436-56B9FE1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3E2-E495-4241-B962-E88DC7F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D4E98-CCB5-42D8-B16F-DB9C179DB01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, мій Спа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чуй мій голос те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війди в моє Ти сер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йде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7   Не минай мене, мій Спа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престолу милосер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ай мені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 колінах, в скрусі сер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ру відна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на Тебе поклада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 м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лишай мене нік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моїм житт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 є джерелом спо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сякого до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веди мене ру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ямо в неб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! Спа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шу я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до інших Ти приход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минай ме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24:36Z</dcterms:modified>
  <cp:revision>13</cp:revision>
  <dc:subject>Slavic hymnal Гимны веры христиан, Ukrainian hymn 7</dc:subject>
  <dc:title>Не минай мене, мій Спасе</dc:title>
</cp:coreProperties>
</file>