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9A12-7145-4881-AEB9-46688ADE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99E0-3046-420B-A258-168C6419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9443-7B98-4A5A-AAA5-AA176278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847C-7258-4AB7-8252-23A71288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1C87-25B9-42D4-88FB-39702403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0927-D5E3-4AB2-9D0A-7F6AE9E8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CE9B-26B2-41F7-A30A-E206B1D2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4093-ADCE-4B74-8EDF-716C27AC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D124-0E83-42CA-8BDD-BC70BB6B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0572-8857-4F36-B3C4-FD672D41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3224-F85B-418B-B16B-8A09A2B5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696A-8871-4194-9B5A-51E124BB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0567E-C646-4C77-B460-F3BA37A9EE2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в этой бурной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ердцу даст по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жаждущих напо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ительной вод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лишь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лишь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лишь Один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ит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Ах, в этой бурной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корбью удруч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всех сторон враг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защитит, утеш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жизненном пу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лишь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лишь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лишь Один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ит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грех меня терз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шусь я пред враг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 — избав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ти мне где и в 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лишь Од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лишь Од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лишь Одном,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ты найд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2:26Z</dcterms:modified>
  <cp:revision>13</cp:revision>
  <dc:subject>Slavic hymnal Гимны веры христиан, hymn 330</dc:subject>
  <dc:title>Ах, в этой бурной жизни</dc:title>
</cp:coreProperties>
</file>