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2264-1345-4896-A9DC-F8558A1EE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FA27-D93E-4220-A2B9-88299618A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6468-86EC-44ED-B2F2-7D7DF8B0C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2BC6-425C-4952-A3D3-79E01FA8E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1B84-7231-447C-968B-793A72E7E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0E67-5150-4748-8C73-5712082D0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1C19-95C0-48BE-B8D8-DF0A232B0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224D-9D7B-48E9-9365-9C1BCBB4F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5F35-BB4F-41FB-86CC-CAF252F69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C5EE-5DF6-4500-A9D2-7606021ED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7BF2-66D5-458A-B420-6FEF951DA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7DDB-7AB7-4DFE-B729-A2B2C2DE2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74FED1-ACDB-4BD7-9E71-73A3998B548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лос Духа Святого звучи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рішні, всі до Ісуса прийдіть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руже, Він кличе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йди (кличе Він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йди (кличе Він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йди скоріш! Христос дасть спокі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88   Голос Духа Свято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Розкіш світу тебе обман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Спаситель все кличе тебе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ому ж до Ісуса не йдеш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йди (кличе Він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йди (кличе Він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йди скоріш! Христос дасть спокі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 за тебе Син Божий вмир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р спасіння тобі обіця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зьми ж дар Ісуса тепер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йди (кличе Він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йди (кличе Він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йди скоріш! Христос дасть спокі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06:59:14Z</dcterms:modified>
  <cp:revision>12</cp:revision>
  <dc:subject>Slavic hymnal Гимны веры христиан, Ukrainian hymn 88</dc:subject>
  <dc:title>Голос Духа Святого звучить</dc:title>
</cp:coreProperties>
</file>