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23A-59E6-4F61-A4EB-8BC28974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C6F-D566-4C42-8B6D-82103A12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CBC-0CF0-4A51-A860-6F220C55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EDD-1B4A-4692-9F19-B8A399A0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614-4B1B-493F-AA10-2FA76F71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8A5-CAD9-4308-B422-75B40E33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A1E-BEE9-4764-B5BC-1121C791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40C-5B86-4F7A-9C1E-C24C2F59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4F7-4477-4977-8901-D43EFC00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BF4-F3AD-482F-B595-0CF7243F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ADA-CD71-45EE-ACAD-8B08F486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33A-EBFB-4A9C-B74E-5353043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45D60-F9C8-4A2C-B210-4982F94CD9B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ly One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ow before Him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reverence and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m no sin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stand on holy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resenc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ly One is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7   Be Still, For the Presenc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glory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shining all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burns with holy f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plendour He is cr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awesome is the s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radiant King of lig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glory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shining all a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ower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oving in this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comes to cleanse and he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inister His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work too hard for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faith receive from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still, for the power of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moving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5:58Z</dcterms:modified>
  <cp:revision>10</cp:revision>
  <dc:subject>The Source, song number 47</dc:subject>
  <dc:title>Be Still, For the Presence of the Lord</dc:title>
</cp:coreProperties>
</file>