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0</a:t>
            </a:r>
            <a:r>
              <a:rPr b="1" lang="ru-RU" sz="3600" spc="-1" strike="noStrike">
                <a:solidFill>
                  <a:srgbClr val="ffffff"/>
                </a:solidFill>
                <a:latin typeface="Verdana"/>
              </a:rPr>
              <a:t>	</a:t>
            </a:r>
            <a:r>
              <a:rPr b="1" lang="ru-RU" sz="3600" spc="-1" strike="noStrike">
                <a:solidFill>
                  <a:srgbClr val="ffffff"/>
                </a:solidFill>
                <a:latin typeface="Verdana"/>
              </a:rPr>
              <a:t>Ближе, всё ближе</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Nearer, still nearer, close to Thy he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Draw me, my Saviour, so precious Thou 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Fold me, O fold me close to Thy brea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helter me safe in that “Haven of Re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helter me safe in that “Haven of Rest.”</a:t>
            </a:r>
            <a:endParaRPr b="0" lang="en-US" sz="28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иже, всё ближе, Бо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скорбью меня привлек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ном шатре мой дух укрыв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давай мне в житейской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давай мне в житейской борьб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Nearer, still nearer, nothing I br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aught as an offering to Jesus, my K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Only my sinful, now contrite he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rant me the cleansing Thy blood doth impar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rant me the cleansing Thy blood doth impart.</a:t>
            </a:r>
            <a:endParaRPr b="0" lang="en-US" sz="28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иже, всё ближе, нет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у меня, чтобы дал Тебе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шное сердце — часть лишь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Кровью омой Ты 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и! Кровью омой Ты его!</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Nearer, still nearer, Lord, to be Thin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in, with its follies I gladly resig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 of its pleasures, pomp and its prid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ive me but Jesus, my Lord crucified,</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ive me but Jesus, my Lord crucified.</a:t>
            </a:r>
            <a:endParaRPr b="0" lang="en-US" sz="28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лиже, всё ближе ныне го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ргнуть помехи к общенью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и мира, прелесть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обольщения жизни зе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обольщения жизни земн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4.</a:t>
            </a:r>
            <a:r>
              <a:rPr b="0" lang="en-AU" sz="2800" spc="-1" strike="noStrike">
                <a:solidFill>
                  <a:srgbClr val="ffff00"/>
                </a:solidFill>
                <a:latin typeface="Verdana"/>
              </a:rPr>
              <a:t>	</a:t>
            </a:r>
            <a:r>
              <a:rPr b="0" lang="en-AU" sz="2800" spc="-1" strike="noStrike">
                <a:solidFill>
                  <a:srgbClr val="ffff00"/>
                </a:solidFill>
                <a:latin typeface="Verdana"/>
              </a:rPr>
              <a:t>Nearer, still nearer, while life shall la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t>
            </a:r>
            <a:r>
              <a:rPr b="0" lang="en-AU" sz="2800" spc="-1" strike="noStrike">
                <a:solidFill>
                  <a:srgbClr val="ffff00"/>
                </a:solidFill>
                <a:latin typeface="Verdana"/>
              </a:rPr>
              <a:t>Til safe in glory my anchor is cast;</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hrough endless ages, ever to b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earer, my Saviour, still nearer to Thee,</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Nearer, my Saviour, still nearer to Thee.</a:t>
            </a:r>
            <a:endParaRPr b="0" lang="en-US" sz="28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иже, всё ближе, сердцем пол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ргнувши «я» и «своё» цели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жду явленья славы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Ты сделался мне всё в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Ты сделался мне всё во всём.</a:t>
            </a:r>
            <a:endParaRPr b="0" lang="en-US" sz="3200" spc="-1" strike="noStrike">
              <a:solidFill>
                <a:srgbClr val="000000"/>
              </a:solidFill>
              <a:latin typeface="Verdana"/>
            </a:endParaRPr>
          </a:p>
        </p:txBody>
      </p:sp>
      <p:sp>
        <p:nvSpPr>
          <p:cNvPr id="4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7:04Z</dcterms:modified>
  <cp:revision>3</cp:revision>
  <dc:subject>Slavic hymnal Гимны веры христиан, hymn 140</dc:subject>
  <dc:title>Nearer, Still Nearer / Ближе, всё ближе, Боже, к Тебе</dc:title>
</cp:coreProperties>
</file>