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6A6-5889-491C-9474-DC966A08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8F4-4A47-4B54-93BA-B2E92A6D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5A7-0A09-405C-8192-DEA7860C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8D4-0A85-4E21-8A5C-05E834D8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D81-08A9-416E-B82A-000CEB71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B69-7FAB-4848-A83C-AB52F108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0F1-7454-48C3-B2E2-72AD809B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D26-8677-428A-8DB4-43C3B0F2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287-69B6-4736-98A5-A662EE79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5CC-FE2A-41F7-92CA-B0901E82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62C-D167-4166-A5BA-673BEB40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813-3CE0-4093-AEB4-DD3C4367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1E79D-5BAD-4ADF-80E6-A545E183E8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man woe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идите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е, скорб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the vacan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 of triumph 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им здесь и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смелей, друж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oundless love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hall this tongue of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ond’ring mortals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tchless grace div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подходящ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ным рас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же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, a child of h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ld in His image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женных ра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у подн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Christian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joyful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аждый, кто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, long night is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orning breaks at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shed the dreadful w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ury of the b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и ть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рылася тюрьм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а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’er the golden h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advances f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рдца и 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свет и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ly Ghost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’s promis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pread the tidings ’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ver man is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forter has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the great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ling in His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ev’ry captive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ull deliverance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Царь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ительный баль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для все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45Z</dcterms:modified>
  <cp:revision>13</cp:revision>
  <dc:subject>Slavic hymnal Гимны веры христиан, hymn 305</dc:subject>
  <dc:title>The Comforter Has Come (O Spread the Tidings ’Round) / Несите эту весть</dc:title>
</cp:coreProperties>
</file>