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C18C-B5E1-4AC6-826F-D1D52A53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883C-407F-4BB1-8DA3-F902D68A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AB88-A2B6-44E8-AD60-B1F6FB58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CF47-71BB-4297-8D69-ADC6EB3B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EA96-BC11-4B43-936D-39005F72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1072-8960-4EBA-9802-422C098A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6BA4-115D-4113-B323-54545FCE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4810-0842-445E-B020-3D97A329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4C00-6E97-445D-AEAE-2A16BEFD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A520-4B53-4AF0-9967-5E351AFA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3E67-529B-4B63-B7F8-39578DA7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98CF-8E39-40A8-801B-49C50E0E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61962-C461-473F-9589-31A691A3D65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rship You, Almight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rship You, O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s what I love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еред Тобой склоняюсь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Тобой склоня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огущи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ут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у Твоих н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give You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are my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orship You, Almight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ы ве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Тебе подобно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Тобой склоняюсь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любов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11-26T21:35:18Z</dcterms:modified>
  <cp:revision>11</cp:revision>
  <dc:subject>The Source, song number 271 in Russian</dc:subject>
  <dc:title>Перед Тобой склоняюсь я / I Worship You, Almighty God</dc:title>
</cp:coreProperties>
</file>