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5DC-683D-4845-979F-DE039756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9DB-245F-4A04-BFF6-FB7BD96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0E02-8757-4FB5-A955-D04A0F93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586-9592-4B8D-9626-1E8A922D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BADC-C148-4765-9C45-2A1357F4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A97-9D2D-44A6-9E0C-ABD48194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AE4-F3A3-4C42-96B5-E628E27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C14-BE0C-4307-8975-9E962BDC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7E1-D449-4874-9E96-D1CDADD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8AA-5EC0-4615-A969-34E1505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254-2A54-469D-9358-8CEC9D7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168C-A6B6-4F6C-AA10-963EEBB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76388-2CBD-4D65-A68B-E091B8E802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as! and did my Saviour bl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id my Sovereign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uld He devote that sacred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inners such as 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я возве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ше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еленья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щь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body slain, sweet Jesus, T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athed in its own bloo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the firm mark of wrath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Soul in anguish 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ыжусь провозгла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Бог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 меня, дал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might the sun in darkness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hut his glories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Christ, the mighty Maker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an the creature’s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не стыжусь нос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честье за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 незнающих прост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кресту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might I hide my blushing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His dear cross app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solve my heart in thankfu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elt my eyes to t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ст Он постыдиться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на Н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оставит на вой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6202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cross, at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first saw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burden of my heart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there by faith I received my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I am happy all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, близ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й ожив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Христа навек от тьмы проз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Него спасенья свет уви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навек я счастлив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drops of grief can ne’er rep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bt of love I 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, Lord, I give my self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all that I can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, что мне Он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вёрже, чем креме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бережёт по славн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Ему от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53:46Z</dcterms:modified>
  <cp:revision>13</cp:revision>
  <dc:subject>Slavic hymnal Гимны веры христиан, hymn 628</dc:subject>
  <dc:title>Alas! and Did My Saviour Bleed? (At the Cross) / Я не стыжуся возвещать</dc:title>
</cp:coreProperties>
</file>