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138-7C8A-44A7-AD51-69A1ADDF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430-4D8F-4CC7-9F94-D28FC45F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488-C544-412E-A9D2-EF420BCE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765-5331-442D-A468-883641D9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A8D-5039-45D7-A217-780775D0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628-1354-46E8-8433-BD76B28B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BDB-8CEF-4F93-BD85-0FA29304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860-E676-42F9-A540-AC70B856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979-33A0-4946-BC72-2B851148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865-041E-4C76-B0D8-2A61A868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028-FD3E-46E4-92CC-83FEA9FA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F6A-1BA6-4FC2-B48C-DBF44D3C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3AB6A-474F-40FE-A0CD-62E7CDA1FA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lets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a   Just Let Me Say (revis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earth should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tremble and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thes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say: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have fou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broken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depths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56Z</dcterms:modified>
  <cp:revision>13</cp:revision>
  <dc:subject>The Source 2, song number 850 (as amended)</dc:subject>
  <dc:title>Just Let Me Say (revised)</dc:title>
</cp:coreProperties>
</file>