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210F-5BCB-46DF-A6B7-34F492A2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1B96-ADC2-4297-8293-3921B7FB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94EF-FE17-4709-8F3D-5E7907E3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FA7C-C7FF-4221-BDAE-45DD9E14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B00E-60E2-4B37-B67A-9D8FF712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06C1-B12A-44C9-89F7-8B9CFDC5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68EC-954B-4DB3-BE2D-3EBCEBB7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F972-F79E-478E-AFE9-51DF9214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95DA-97D9-4345-8BA8-5686A9B2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D2F3-063B-41A8-BB9B-6B9BD68D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41F2-A1F8-44CA-B573-BAB74EE9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2A5A-0444-4AD1-83F8-F8149C5D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BD184-4E35-4E84-8C2D-AB7BC295BA2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шует житейское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ною страстью кип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круг — слёзы, вопли и г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изнывает, бол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оремся, силы теря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им: поможет нам Б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ихую пристань узн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пристань — небесный черт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ушует житейское м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шует житейское мор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но, непроглядно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со скорбью во вз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: кто враг мой, кто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оремся, силы теря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им: поможет нам Б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ихую пристань узн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пристань — небесный черт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шует житейское мор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як… а на нём огон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адья наша с бурею сп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ь маяка нас прив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оремся, силы теря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им: поможет нам Б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ихую пристань узн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пристань — небесный черт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шует житейское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ирепо и грозно шум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раком не видно просто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асностью море гроз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оремся, силы теря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им: поможет нам Б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ихую пристань узн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пристань — небесный черт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5:58Z</dcterms:modified>
  <cp:revision>12</cp:revision>
  <dc:subject>Slavic hymnal Гимны веры христиан, hymn 512</dc:subject>
  <dc:title>Бушует житейское море</dc:title>
</cp:coreProperties>
</file>