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1972-4B3A-4776-A82C-CD832CC9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0907-1F92-4B38-94AA-2155C87C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DEE5-18DF-4E5E-BF1F-97550365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A384-52CE-4D1E-B497-35D3D8A6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FFB-A022-42A6-B30F-A19535D2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716B-FDEE-4FC4-A085-4121AB62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5AF-FC64-4B02-9FFE-874AFB72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7486-067E-4204-8BF2-718DFD95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C462-CAC6-418A-B02E-3F9EC68B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465C-4EEC-4D74-BC68-3C1B0BC4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F57-BA15-4CFC-83D0-B81F0E94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7D7-6606-41A2-BDBC-464B8D56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D87CF-A652-40D9-9854-45F33296147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without one pl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at Thy blood was sh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Thou bidst me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9а   Таков, как есм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без дел, без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вши с радостью Твой з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верою в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and waiting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id my soul of one dark bl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 whose blood can clea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sp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не смея ж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то меня мог оправ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познавши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though tossed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many a conflict, many a doub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ghtings and fears within, witho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для всех чуж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мненьях, страхе и боль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итый бурею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poor, wretched, bl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ght, riches, healing of the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a, all I need, in Thee to f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увидел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любовь Тв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Отец, моя сем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Thou wilt rece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t welcome, pardon, cleanse, r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Thy promise I beli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путём ж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проложенным, прям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навеки быть Т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иду, и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4:27Z</dcterms:modified>
  <cp:revision>13</cp:revision>
  <dc:subject>Slavic hymnal Гимны веры христиан, hymn 479 (as amended)</dc:subject>
  <dc:title>Just As I Am / Таков, как есмь</dc:title>
</cp:coreProperties>
</file>