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4CD-7E72-43B7-A877-945DE506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F44-4486-48B5-AC67-68DC9B2D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F23-C7E6-441E-BB7B-9CDD28E0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014-9AB0-447B-A954-F912FBFB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853-C9E5-45BA-9416-33EE3CCD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AF9-ED33-496F-93C6-31961D8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487-C4B9-4ECC-ADEC-F39FE347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A5B-AF80-4C81-BE9F-0E9A8659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C27-00B3-41FE-918A-83C64246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1C4-96A1-4EDB-9139-28992A1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D0B-19CD-4B96-8EF4-61E8D83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468-46DB-4571-AD6D-FD518D2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D7563-E177-485B-A26D-532991F0E8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6:50Z</dcterms:modified>
  <cp:revision>12</cp:revision>
  <dc:subject>Slavic hymnal Гимны веры христиан, hymn 436</dc:subject>
  <dc:title>Венец терновый возложил</dc:title>
</cp:coreProperties>
</file>