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744-C38D-49BD-890C-68448948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119-60B6-462B-8C53-DE08098F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DB5-9C9F-4E1F-84FD-9478B3B4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978-14BD-4FC6-8DFF-75C24F92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E1F-7A43-4FBA-9078-BA5E6A3E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D1E-A295-49F1-954D-45651F1B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17B-DD08-460E-83FF-49AF4CE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9CB-D1F0-4BB8-ADFC-FDD5B4EB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628-0ECF-4202-AA93-9609F5D4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772-F36B-452D-AB09-935614A1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0C5-81F8-4563-9767-8E7106EA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18A-FD5B-45F6-9FB7-6C94DAEE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35184-3A9F-463C-BE99-BF29B1087F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познавшие радость спас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омыт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не видите наши муч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забыли заветы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ьме беспросветной весь мир утоп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сячи гибнут в нерав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ламени адском вся внутренность 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жальтесь, придите! зовём в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вы, познавшие рад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крывают лохмотья пор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щи, убоги, мы помощи 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услышим мы голос пр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спасенье и мир обрет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де угарном больного весе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ламене жгучем безбожных ре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ше отравы мы ищем заб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м мы, где вы? спасайте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ы, о, где вы, носители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чертога и вечного 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ас зовём и не слышим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ы уснули, молчанье хра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11Z</dcterms:modified>
  <cp:revision>12</cp:revision>
  <dc:subject>Slavic hymnal Гимны веры христиан, hymn 527</dc:subject>
  <dc:title>Где вы, познавшие радость спасенья?</dc:title>
</cp:coreProperties>
</file>