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843-ADC6-4CFE-A360-1658362A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0D0-2362-4A17-AE34-12DCAF95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A9C-34DF-4D00-B36C-714C6BF2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1AC-02F3-4829-A14F-07A5ADEA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EC7-5EC0-478A-9A61-AF597615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B2A-E44E-4F50-A936-1961D075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EA2-2BC2-4A48-B643-95D14B33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284-1E25-4A5B-9F58-574C585B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710-C327-4A39-A979-61507F7E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8CA-A86E-4C55-8BA5-A4E6BEC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2DD-69BC-48E7-883C-27BE953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5F1-7E53-4E8E-8823-F6A23E91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15918-20EE-41B0-8DDE-C89CCE2106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blood He has save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pow’r He has rai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1   To God Be th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32:29Z</dcterms:modified>
  <cp:revision>11</cp:revision>
  <dc:subject>The Source 2, song number 1021</dc:subject>
  <dc:title>To God Be the Glory (My Tribute)</dc:title>
</cp:coreProperties>
</file>