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4FD-A573-4402-910A-3B775D28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AA3-0C9A-4936-A67D-5AFF85D5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6FA-54CD-4708-94CA-90C33E21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AEF-417E-4D06-BDAB-CFDA20B2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322-2201-4495-B889-1443A0B9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22D5-3150-43C0-ADFD-F444E180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08D-D926-473B-8AC9-3710A8EF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C96-5732-4C1C-A9C9-905EE579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ACB-2058-4F50-AE35-6205FF65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CAF0-47BA-4EA3-9252-98DAFAC1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41E-2295-4429-907D-03FF6216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B720-BEAD-4EA7-834A-16A3E67A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A0373-4B96-402D-AB65-855BD640221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ghter than the brightest st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er than the purest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ing us with courage a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ollow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98   You S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fear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made the heave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be afr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 put the stars in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los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know how great You 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y should I giv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Your plans are full of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is world we will have troub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 have overcome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ghter than the brightest st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er than the purest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ing us with courage a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follow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4:58Z</dcterms:modified>
  <cp:revision>12</cp:revision>
  <dc:subject>The Source 3, song number 1698</dc:subject>
  <dc:title>You Shine (Why Should I Fear Man?)</dc:title>
</cp:coreProperties>
</file>