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241-DC66-4F11-ADF3-308B3A05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0915-16D9-4946-A843-10614474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765-FEFA-4256-8D3C-FE4716D7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D34-9DCF-43C4-846E-3C57F5B6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15A-75FC-4FD3-B770-6A30E1C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CD6-E03E-4400-A382-7A2D437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651-08BF-4EF6-A71F-615797FC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B40-A4D6-4FBB-BE2D-73789DF6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DA7-62C7-45AF-BB39-204C82C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CE4B-9B30-45C7-B077-2DF64E9A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A68-4092-4FA4-A4CD-0F4E50D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6A3-DC7A-4A62-A338-692FA3E6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D3AB2-57F9-497B-AC0B-E7C01C0BD4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lendour of the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d in majest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the earth rej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earth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raps Himself in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arkness tries to h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rembles at His 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3   The Splendour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ge to age He st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ime is in His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od-head, Three-in-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Spirit, 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on and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of all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will 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will see how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is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39Z</dcterms:modified>
  <cp:revision>15</cp:revision>
  <dc:subject>The Source 4, song number 2073</dc:subject>
  <dc:title>The Splendour of the King (How Great Is Our God)</dc:title>
</cp:coreProperties>
</file>