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E0C-3147-497C-AF0C-666C7A09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0B6-6D7F-4927-B576-E79774AE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187-C40B-474F-A016-8EA4D30F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485-6C07-4AC4-8B3B-C725B073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DFC-1F34-4092-ABEA-8DC2E76B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20A-C1D4-4171-8F68-272084BD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FE6-44DB-4ED6-816A-1193FDC9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880-8359-445D-8861-67172694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63B-E82A-4ADC-AF5E-C2A468D7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95A-F0BE-4F7E-AE0F-8F2ED3FC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68E-9144-4EED-BE79-CC991F04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564-6899-47B5-B341-EEF76F5E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65BAC-0158-4974-A070-2CD4ACEC73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тро юности прекра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радостной рас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отим на призыв вла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ять Христа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утро юности прекра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Нём благовест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 милости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грешным возвес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м же силы,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душ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ая жизни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трудом любв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руда на Божьей н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всё от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ем же ле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ток день, не будем сп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23Z</dcterms:modified>
  <cp:revision>12</cp:revision>
  <dc:subject>Slavic hymnal Гимны веры христиан, hymn 526</dc:subject>
  <dc:title>В утро юности прекрасной</dc:title>
</cp:coreProperties>
</file>