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53A-12AF-4310-9F05-B67A6870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366-92AE-434C-AA79-9ED604B9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BFD-90A2-467E-A810-4C059E0F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C05-2B2D-4C6F-A5F1-1C1519F9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1DBD-4C8C-491A-BF6A-C05EFB19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B2E-2710-48BA-BC5C-921DAB99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420-434C-4088-B970-1CD876DB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B62-C83C-4FCC-851D-34E397F0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7C6-72B8-467F-8928-651ACA4A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021-9D63-4DB9-9FD9-44923236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5222-770B-4E29-B502-90689A5B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124-0692-4066-9648-B521DF6D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740CB-46F2-42AD-AB9B-E75E1A7EAE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 от сна, друг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в полуночи же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е шествует побе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смертными судить жи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грядёт, и всех проб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шная Его труб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удья тогда осу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енивого ра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8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обудись от 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блажен, кого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руде Его на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бессмертную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етлой радости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регись же постоя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а, душа, и бодра 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лночный, в час нежд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овут тебя на с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радивые вздрем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кудел у них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 то несчастны 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тались вне д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, о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жги светильник т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грядёт в венце побе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, Кто властен на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9:24Z</dcterms:modified>
  <cp:revision>12</cp:revision>
  <dc:subject>Slavic hymnal Гимны веры христиан, hymn 380</dc:subject>
  <dc:title>Пробудись от сна, друг бедный</dc:title>
</cp:coreProperties>
</file>