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4FF-C20D-4B18-801A-817C9ACB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9B9-C217-4C06-B24F-6C00410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D46-0576-4842-88C7-B4EE330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2A7-DD9F-4925-8428-DA008198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F80-1430-4CF5-B304-6ABB5105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709-EA88-4461-AD03-61E7188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597-A241-4AD4-9832-5C5C853B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08A-AAEE-4243-8547-05024C90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48A-C9AD-4F42-891F-A685EAD5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544-545A-4A81-A92E-3822B8F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577-F233-4879-A4A0-9AE4D62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4B2-2843-421E-8E7E-73CE00E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3795-450E-4A6F-9331-4BCD685B68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the Father’s lov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vast beyond all measu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should give His only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a wretch His trea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reat the pain of searing l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 turns His face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ounds which mar the Chose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ng many sons to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w Deep the Father’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the Man upon a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in upon His should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hamed, I hear my mocking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 out among the scoff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was my sin that held Him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it was accomplish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ying breath has brought m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it is fin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boast in anyt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ifts, no pow’r, no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boast in Jesus Chri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death and resur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ain from His rew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give an ans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is I know with all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unds have paid my rans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42Z</dcterms:modified>
  <cp:revision>10</cp:revision>
  <dc:subject>The Source, song number 185</dc:subject>
  <dc:title>How Deep the Father’s Love for Us</dc:title>
</cp:coreProperties>
</file>