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973-71DA-4062-BCFE-7B4C2F69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6BC-2AC8-49D3-81C5-4DBB475B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658-78F9-4D8B-9187-1B14D311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ACF-76EE-4CBD-B44B-D2F78D24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678-ECA8-4D2A-A68F-86303254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59B-514C-4E2C-9D3E-723D838E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BA6-1EEE-4136-90C8-0364DE2B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918-86A4-4486-AD91-5B9C8D71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1BB-B014-457F-B1AE-417EB50F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F90-132B-48BB-A15F-E2B2BF7F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50B-FF55-4F89-8CF5-AF6C1403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49F-4168-43A9-A3C7-7CAE099C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B8910-443E-4AFA-8D4F-ACC404210E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worship His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Jesus be glory, honour and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kingdom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s from His throne unto His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anthem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4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ajesty, Worship His Maje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exalt, lift up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gnify, come glor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Jesus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jesty, worship His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who died, now glor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all 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04Z</dcterms:modified>
  <cp:revision>12</cp:revision>
  <dc:subject>The Source, song number 346</dc:subject>
  <dc:title>Majesty, Worship His Majesty</dc:title>
</cp:coreProperties>
</file>