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9DD5-BC45-4074-88A7-05CCCFB4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B605-0874-48C0-AE74-6C4D1EEB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6BA5-BBC2-4295-B6F2-A36D6B6D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1DCF-BCC4-4392-BEF0-269A98AB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534A-447B-41A7-83DB-30B3AABC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861A-FB73-4442-AEF7-11F4F56A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C8C6-7DD0-4D2A-ACCF-354A5CC7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BDD3-D4F6-4480-84EE-E429AE50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EAEF-12A7-469D-9116-3B8D0DB1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102F-7CF8-4C76-9291-2357C95C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62E1-1A05-4464-9015-79E9B3F0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4AEF-E20F-4DCF-A97A-B3027B18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2BDCD-4CBE-4B80-8A33-098566B5FD7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рна стремится к пото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току живительных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жаждет душа моя к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сто вопрос зада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огда же приду и явлю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й дом, как покорный слуга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з я слезами залью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рьких насмешек вра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серна стрем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рна стремится к пото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току живительных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жаждет душа моя к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мира греха и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лачу в тоске и томл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поминаю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екогда с радостным п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пою мы шли в Бож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моя, что унывае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еды над мною пр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 верой доныне взыв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ладыке небес и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рна стремится к пото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току живительных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жаждет душа моя к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мира греха и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ём явит Господь Свою мил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очью — хвала зазвуч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Богу правды и си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За что я Тобою забыт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моя, что унывае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й ожидать и терп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ога ещё буду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ю буду я 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рна стремится к пото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току живительных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жаждет душа моя к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мира греха и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3:48Z</dcterms:modified>
  <cp:revision>12</cp:revision>
  <dc:subject>Slavic hymnal Гимны веры христиан, hymn 448</dc:subject>
  <dc:title>Как серна стремится к потоку</dc:title>
</cp:coreProperties>
</file>