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E106-26D5-4BEB-8354-69F5EFEF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C37-30E5-4741-9445-F0E5B77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E8E-1A86-4EEC-B9C6-DE641B06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6FA-A635-4556-A547-D2F8EF34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871-A1A0-4A1C-AC5E-5AB9226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3EC-7569-4A45-855C-8949A32A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C80-7745-487F-AD0C-7DA2E3BC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C5B-B65A-4F2A-92FA-69B6E35B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0C6-A6A5-4556-BA28-894B3615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2BE-8F54-4C75-9960-ADD4B99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342-CA97-4B27-B2F1-A6C2657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2E9-112E-4475-8E2C-34C8CC4B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9B44B-57DF-45A6-BFE5-99B4C10FA4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ust I go, and empty han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y dear Redeemer m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day of service gi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no trophy at His 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п один в руках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t death I shrink or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aviour saves me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meet Him empty ha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 of that now clouds my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ночь мне не страш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устым пред Ним яв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так страш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years in sinning was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I but recall the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give them t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s will I’d gladly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 мне года бы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но было возвра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и радостью, и счаст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о б Господ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 saints, arouse, be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and work while yet ’t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night of death o’ertak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e for souls while still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дитесь, дети Бож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ходит, ночь близ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ка не поздно, д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ербуйте д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go, and empty hande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meet my Saviour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one soul with which to gree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empty handed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тел бы я бесплод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ону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одну хотел бы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7Z</dcterms:modified>
  <cp:revision>13</cp:revision>
  <dc:subject>Slavic hymnal Гимны веры христиан, hymn 532</dc:subject>
  <dc:title>Must I Go, and Empty-Handed? / Не хотел бы я бесплодным</dc:title>
</cp:coreProperties>
</file>