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046-83DE-4783-9F90-B2584C4B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F51-6373-437B-89E6-92AABACF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559-91EF-4B74-A2A2-A9453285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B34B-32AA-4236-9440-5552E0AA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2EE-943B-4538-9FD1-E423785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3C2-57EE-4ECC-883B-51B3FFAC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3E7-FF8A-42CE-82B7-DF36E26A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B92-49F8-48E0-AF3E-F1AD5622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8FC-8019-4C55-B97A-739FB48D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47B-6A24-42C6-8AD1-765A7D8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0CE-B14A-4F3F-BE60-10E8F3B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566-FA99-4AF0-ABEC-578EAC2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1B2F3-4F68-40C4-BF5E-331B01CC18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4:16Z</dcterms:modified>
  <cp:revision>13</cp:revision>
  <dc:subject>Slavic hymnal Гимны веры христиан, hymn 721</dc:subject>
  <dc:title>О дивный день! о дивный час</dc:title>
</cp:coreProperties>
</file>