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99F9-D73D-4452-97AE-BA511B3D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6DA-0769-4FAE-827B-DF566781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FD4E-50C3-46DF-A971-783E33CF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7FAD-BCB9-472C-8BBD-D2F2E2BA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4FDD-E908-44C0-8FBC-FF356458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2B62-9F14-497E-83A3-FBF9EC1E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73F4-AF6D-443C-B19E-A5C3CA50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0E15-2A14-48D4-A0C2-C1243091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99F-AA70-4694-986A-D2738053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CCF-A7EE-465B-8BB9-DC337DF9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9660-3E6A-4016-B99E-D75FDC97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291A-6B51-429C-8FE5-CD2F8A7C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CF00E-D1C4-4902-8742-D9437AF59C7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ittle town of Bethle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till we see thee l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thy deep and dreamless sl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ilent stars go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малый город Вифл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алый город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ал спокойным с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ождался нов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змолвии ноч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in thy dark streets shin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verlasting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s and fears of all the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met in thee to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езапно тьму рассе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, дивный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 Тот, Кого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л много, много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Christ is born of 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athered all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mortals sleep the angels k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watch of wondering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ёл Христос в долину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небо нас прив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царство зла с небес приш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вангельская в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morning star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claim the holy bi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aises sing to God the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eace to men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вёзды, весть о Чу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вдаль и в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 песнь Тому, Кто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сем дару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ilently, how silent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ndrous gift is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God imparts to human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essings of His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 ночной дар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устился к нам 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ским сердцам Господ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ы в тиши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ear may hear H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in this world of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eek souls will receive Him sti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r Christ enters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лышно и незри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шума, бурь 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ым ждать Его принят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ся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ly child of Bethle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scend to us, we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st out our sin and enter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born in u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ий Сын, нас не поки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в любви С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згони и в наши д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сь в сердца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ear the Christmas ange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reat glad tidings t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come to us, abide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Lord, Emmanu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ёт о Боге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сейчас, вселися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Э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8:28Z</dcterms:modified>
  <cp:revision>13</cp:revision>
  <dc:subject>Slavic hymnal Гимны веры христиан, hymn 239</dc:subject>
  <dc:title>O Little Town of Bethlehem / О, малый город Вифлеем</dc:title>
</cp:coreProperties>
</file>