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92B-F98B-4ADA-B94C-D4A13965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C49-A88D-4102-AB91-B28A563E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E1F-267B-4BB1-94E2-8FFDFFC3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BC2-A906-4BA1-9E06-3A577A29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3BE-1B8A-43E1-A45D-E61DADEE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886-E2E4-4843-B40A-33AA4E49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3B5-B3AA-4298-AB32-6B40721B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3F7-ABA7-41DA-9F07-99AF6741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843-8A4F-4CCB-869C-2BF09839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4D0-4B73-46A8-AA6B-749954DE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CEDF-BB18-4AAD-B3B8-3BFB1CE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CE4-7CB6-46FB-8E8D-CCF49B0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DCE88-80B5-4062-862D-10B20CC13D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!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, hallelujah!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 ца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ей и Господь госп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аллилуйя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князь Ты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аллилуйя!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7:15Z</dcterms:modified>
  <cp:revision>11</cp:revision>
  <dc:subject>The Source, song number 307 in Russian</dc:subject>
  <dc:title>Царь царей / King of Kings</dc:title>
</cp:coreProperties>
</file>