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08E-E6F8-4F44-8EA8-C2B0BFA0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D84-FB24-4F35-B017-B7350D57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0C2-4047-46AC-8842-D4018581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16C-7960-4C9F-8445-BB343B75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ADC-549B-4A6F-9651-3B19E638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C25-F8DC-4E85-9189-D55403F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743-08E3-4E28-98E8-A743FDF7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C04-012F-41C5-90B2-7DA56551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379-B0E2-4B0B-9CE1-4C2E004C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0AD-0726-4EC5-B7D4-E2C7E98E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43D-6C26-434E-8EEC-438834B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E5F-1675-4871-B518-5D590B9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0DB2E-8A34-4B20-B3D0-2F01230852D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правды нар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ления ж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мноте и грехе погиб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еликий Христос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принё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ёт мир от края до кр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Жаждет правды на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олезнь исце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сть греха сокру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толит все земные стра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це братской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плавит ме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я радости сменит рыдан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ьям, сёстрам при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несут Христов с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отдали за счастье нар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ю юность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ш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ли во имя своб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зовите на п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е всем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нывающим слово отра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воскре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лазурных неб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орил всем «взыскующим град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 Божие в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зиждем, труд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 будет раба, господ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лишь братство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ремите ж силь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все да будут еди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29Z</dcterms:modified>
  <cp:revision>12</cp:revision>
  <dc:subject>Slavic hymnal Гимны веры христиан, hymn 550</dc:subject>
  <dc:title>Жаждет правды народ</dc:title>
</cp:coreProperties>
</file>