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871-F262-422D-9AE6-DE190586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3E6-FC93-41DD-B7F5-6D93F17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822-6913-404A-AE98-DBB5C7F6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D47-1980-44BF-AA9E-92E111F5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CCF-60F3-49AD-818F-94D781A2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D85-4780-4314-927A-B32AA214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4A0-9D7D-4502-9DCF-EFE46487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01A-992F-49EE-B308-F54EB7AC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26C-9C9F-414B-AB3D-198DCC49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2BA-5F82-47FD-AB3C-C216083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EEE-F622-44D2-9C0E-F93C1A3B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4A6-9870-4A0C-AA12-9E8EB6F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1E33D-E1E2-4239-823B-79C9D28BC0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16Z</dcterms:modified>
  <cp:revision>12</cp:revision>
  <dc:subject>Slavic hymnal Гимны веры христиан, Ukrainian hymn 116</dc:subject>
  <dc:title>Jesus, Name Above All Names / Ісус ― ім’я найвище</dc:title>
</cp:coreProperties>
</file>