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2ADF-3C3C-47BA-9521-25241807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6561-4355-45CE-A0B9-89A502A6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681B-7A3A-4EAC-9FDE-3AAF2739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C3E4-DFA5-4C5B-BC1D-AEC08701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68B7-F462-4F06-A9F0-26108A36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8C96-28C9-4E71-A2E5-0866A255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C2C3-6407-4AE2-9FE8-A6BE30B3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3AC5-A40D-4A3E-89BF-0B155B47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61BA-DDE2-416F-BE89-6C506455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867C-925C-44C2-80A5-EAB79405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79F-3780-4829-B30E-FF3D2CC0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79D8-0CC1-4962-B336-73DE5119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A8B05-6465-47A6-8BDE-B32AB00F301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Church, arise, and put your armour 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the call of Christ our Cap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now the weak can say that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e 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trength that God has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shield of faith and belt of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tand against the devil’s l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 army bold, whose battle-cry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aching out to those in dar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03   O Church, A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call to war, to love the captive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o rage against the capto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ith the sword that m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unded wh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fight with faith and val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faced with trials on ev’ry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know the outcome is sec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hrist will have the p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hich He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 inheritance of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see the cross, where lov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rcy m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Son of God is strick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n see His foes lie crushed ben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Conqueror has ris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the stone is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hrist emerges from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vict’ry march continues till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eye and heart shall se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Spirit, come, put strength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str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grace for ev’ry hur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e may run with faith to win the p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 servant good and faith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saints of old still line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telling triumphs of His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ear their calls, and hunger for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with Christ we stand in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2-03-05T10:19:09Z</dcterms:modified>
  <cp:revision>12</cp:revision>
  <dc:subject>The Source 4, song number 2003</dc:subject>
  <dc:title>O Church, Arise</dc:title>
</cp:coreProperties>
</file>