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2</a:t>
            </a:r>
            <a:r>
              <a:rPr b="1" lang="ru-RU" sz="3600" spc="-1" strike="noStrike">
                <a:solidFill>
                  <a:srgbClr val="ffffff"/>
                </a:solidFill>
                <a:latin typeface="Verdana"/>
              </a:rPr>
              <a:t>	</a:t>
            </a:r>
            <a:r>
              <a:rPr b="1" lang="ru-RU" sz="3600" spc="-1" strike="noStrike">
                <a:solidFill>
                  <a:srgbClr val="ffffff"/>
                </a:solidFill>
                <a:latin typeface="Verdana"/>
              </a:rPr>
              <a:t>День мира и веселья</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O day of rest and gladnes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 day of joy and ligh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 balm of care and sadnes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st beautiful, most bright:</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День мира и весел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ень света и теп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ень сил восстановленья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ука Творца дала.</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n Thee, the high and lowl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rough ages joined in tun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ing holy, holy, hol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the great God Triune.</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атый и убог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чёный и прос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славят вечно Бог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всякий дар благой.</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Today on weary nation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heavenly manna fall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holy convocation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silver trumpet calls,</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В сей день Господь наро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бесный хлеб да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вангелье повсю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дей к Христу зовёт;</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ere Gospel light is glow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ith pure and radiant beam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living water flow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ith soul-refreshing streams.</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вучат слова пророк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ипит духовный тру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ивой воды пото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иссохший мир текут.</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New graces ever gain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rom this our day of res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e reach the rest remain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spirits of the blessed.</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Благословений мно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ходим в день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образ дня ино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войдём в покой,</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Holy Ghost be praise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Father, and to So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church her voice upraise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Thee, blessed Three in One.</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мы со святым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вившись пред Христ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у Отцу и Сын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Духу вознесём.</a:t>
            </a:r>
            <a:endParaRPr b="0" lang="en-US" sz="3200" spc="-1" strike="noStrike">
              <a:solidFill>
                <a:srgbClr val="000000"/>
              </a:solidFill>
              <a:latin typeface="Verdana"/>
            </a:endParaRPr>
          </a:p>
        </p:txBody>
      </p:sp>
      <p:sp>
        <p:nvSpPr>
          <p:cNvPr id="5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26T03:09:49Z</dcterms:modified>
  <cp:revision>3</cp:revision>
  <dc:subject>Slavic hymnal Гимны веры христиан, hymn 22</dc:subject>
  <dc:title>O Day of Rest and Gladness / День мира и веселья</dc:title>
</cp:coreProperties>
</file>