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20</a:t>
            </a:r>
            <a:r>
              <a:rPr b="1" lang="ru-RU" sz="3600" spc="-1" strike="noStrike">
                <a:solidFill>
                  <a:srgbClr val="ffffff"/>
                </a:solidFill>
                <a:latin typeface="Verdana"/>
              </a:rPr>
              <a:t>	</a:t>
            </a:r>
            <a:r>
              <a:rPr b="1" lang="ru-RU" sz="3600" spc="-1" strike="noStrike">
                <a:solidFill>
                  <a:srgbClr val="ffffff"/>
                </a:solidFill>
                <a:latin typeface="Verdana"/>
              </a:rPr>
              <a:t>Ходи во свете</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Walk in the light: so shalt thou k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at fellowship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Spirit only can best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reigns in light ab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Ходи во свете! то найд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щенье Божьих сл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истины прогонит лож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ст мир и свет вокруг.</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Walk in the light: and thou shalt fi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heart made truly Hi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dwells in cloudless light enshrin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Whom no darkness is.</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Ходи во свете! будь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тупи с Христом в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дивным светом окруж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ём тьмы и мрака не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Walk in the light: and thou shalt 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y darkness passed a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cause that light hath on thee sh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which is perfect day.</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ди во свете! тьму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сподень свет изгн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инят в избранных сем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чадом света ста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Walk in the light: and e’en the tomb</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 fearful shade shall w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shall chase away its gloo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Christ has conquered ther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Ходи во свете! тёмный гроб</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я не устраш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ос Воскрес! Кто с Ним жи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всё с Ним победи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Walk in the light: and thine shall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 path, though thorny, brigh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God, by grace, shall dwell in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od Himself is light.</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Ходи во свете! и в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радостью о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Бог желает жить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Бог — предвечный свет.</a:t>
            </a:r>
            <a:endParaRPr b="0" lang="en-US" sz="3200" spc="-1" strike="noStrike">
              <a:solidFill>
                <a:srgbClr val="000000"/>
              </a:solidFill>
              <a:latin typeface="Verdana"/>
            </a:endParaRPr>
          </a:p>
        </p:txBody>
      </p:sp>
      <p:sp>
        <p:nvSpPr>
          <p:cNvPr id="4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8:40:50Z</dcterms:modified>
  <cp:revision>3</cp:revision>
  <dc:subject>Slavic hymnal Гимны веры христиан, hymn 120</dc:subject>
  <dc:title>Walk in the Light / Ходи во свете</dc:title>
</cp:coreProperties>
</file>