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943-E19C-403A-A56E-0001CAF3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D32-C607-4814-ADA3-F8AE5100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8AA-D6E2-473D-9C2A-3AC3CDDC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478-1800-498B-9AFB-5E603A28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916-AFA9-4E96-B6BA-59CA1E2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3A9-3AC7-498F-AE94-6EAD0C83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2AE-5E6D-4732-8F5C-A033F457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736-C4CC-4D8F-B9DE-5210A0F7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597-2811-421F-B02D-604A7AED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D1B-2112-4CBF-84AB-A50DD65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CCC-993F-4DCB-BE94-9E9ECD3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16D-11A6-465E-AC7C-6CA2FE5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D6013-8F6F-4095-8E93-172D854602E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наш верный, Дух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сегда Ты близок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ди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по жизнен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 голос мы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ой радостью в гру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тник слабый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ждь наш вер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изкий, верны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гда готов помоч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ь Своих Ты 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скать на ощупь в н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уря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лабнет под нуж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ень пройдёт тру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лышим сладкий з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бо, как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ерёмся мы с мол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я в мощь крови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оток нас про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: «Путник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ду тебя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8:39Z</dcterms:modified>
  <cp:revision>13</cp:revision>
  <dc:subject>Slavic hymnal Гимны веры христиан, hymn 302</dc:subject>
  <dc:title>Вождь наш верный, Дух Святой</dc:title>
</cp:coreProperties>
</file>