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AB24-778C-43C0-9496-AC8150F18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8B44-522D-488E-AA27-D8A8842B3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05B7-49CE-45AF-82FB-770A104AA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EA89-5DF0-48D3-B2B6-215F12A6D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8C17-6DE4-4C7E-AEF8-16308C72F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0688-C4DF-4517-B5AB-0FA7E0011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536F-EA3A-4E0B-A7E9-2B891DFBF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C7CA-E6C6-4016-9279-56897B00D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EA56-314A-4B8E-B909-E5CF348BF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0F1D-C32B-4560-B4B5-2538B9B0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5E8E-8D23-431C-B288-30DFCC59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C040-570F-4A50-ADF3-B69E21C5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70D783-D9CF-45CA-8A77-9083C0C0CE4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ам’ятай про Бога завж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руже мій, не забува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Життям, словом і діл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ого в світі прославля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собі все так говориш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лодий, то весели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коли вже постаріє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ді кайся і молись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63  Пам’ятай про Бога завж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нещасний, ти не знає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яку пору ти помре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же, завтра вже не встане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Жити більше не буде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же, завтра побудую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ріб сосновий вже тоб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земля навік покри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воє тіло в глибин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душа? Душа заги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, загине назавжд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ізно каятися бу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ий друже, вже тоді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реба всі гріхи лиши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рішнику, це пам’ята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спіши Христа прийня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е життя Йому відд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ам’ятай о тім, мій дру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молодих твоїх літ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славляй Христа І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Житимеш з Ним в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40:45Z</dcterms:modified>
  <cp:revision>12</cp:revision>
  <dc:subject>Slavic hymnal Гимны веры христиан, Ukrainian hymn 63</dc:subject>
  <dc:title>Пам’ятай про Бога завжди</dc:title>
</cp:coreProperties>
</file>