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4250-05B6-47EE-B402-F9489F20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543-233B-4CD4-A277-E0A15DDF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19E-2F87-4B30-811A-959FA7D6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C4EF-3151-4EB8-BA14-0518491B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AB2-B3AD-42F1-AD39-A150EF35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895-F5F5-49FD-B0A8-7F55FCD8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D393-66D6-4221-B6D1-E3BB5664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E2F8-D6A4-47B0-AF48-B0C7F836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D66D-4B41-4501-8A1A-80F41AA3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70C-7960-4C5A-93CA-BE1C3607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80F-4F16-4B06-9C6B-6787B5AA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4D1F-BD03-4B41-8402-8C653875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6EB01-4984-45EF-A192-605E6FE09DE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глаза мои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ел небесных тайн л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ключ Твой мне вр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 свободу вышел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О, да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ю мне Твою откр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глаза, пошли Тво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крой глаза мо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лух, чтоб слыша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голы истины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звуках вечной правды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ет шум земных ре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Явись мне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у вечную 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лух к Твоим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уста мои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мог правду возвещ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ердце, чтоб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лась потоко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Приди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илы мне 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ердце, будь в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5:49Z</dcterms:modified>
  <cp:revision>12</cp:revision>
  <dc:subject>Slavic hymnal Гимны веры христиан, hymn 839</dc:subject>
  <dc:title>Открой глаза мои</dc:title>
</cp:coreProperties>
</file>