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711-7039-4109-91A4-E7868B97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8AC-01B1-41BD-90AF-7358B29D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6A0-52D1-4E7B-978B-8ABDF19D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C3F-3645-418E-948D-2414A4C5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9AB-29B7-4C7E-B2D3-36CD7B97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55B-EF58-40DD-9E7A-FF624800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9B7-7233-4DB1-A9A3-53B9AA7D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0FD-0936-4A37-8D55-E3A7ADA1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997-50D9-4FEC-96F9-07CF6895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156-3940-4C26-8342-A52D0903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A8A-89BD-496E-BCA8-993E11AE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017-F9F9-49B0-BDED-F59B99D1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96F95-CF8F-4B5E-ACFE-F8710EDC6F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од реки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ерег зеленью о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л Саронски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 колодца Сих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с Христом м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ижу часто я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алиле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я душа нашла по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алилее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алиле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ижу часто я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алиле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репоясан, я бе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аву полу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Он хочет награ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ного сл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корби верю я в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 Ему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пешу у ног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мо греха с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мо греха сл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мо греха с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пешу у ног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мо греха с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путь, каким Он 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ать Отца зак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за Ним, путь не тяж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, так как любит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буду я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сей душой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траха я смогу вступ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чный дом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чный дом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чный дом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траха я смогу вступ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чный дом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7:57Z</dcterms:modified>
  <cp:revision>12</cp:revision>
  <dc:subject>Slavic hymnal Гимны веры христиан, hymn 651</dc:subject>
  <dc:title>Моя душа нашла покой</dc:title>
</cp:coreProperties>
</file>