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82</a:t>
            </a:r>
            <a:r>
              <a:rPr b="1" lang="ru-RU" sz="3600" spc="-1" strike="noStrike">
                <a:solidFill>
                  <a:srgbClr val="ffffff"/>
                </a:solidFill>
                <a:latin typeface="Verdana"/>
              </a:rPr>
              <a:t>	</a:t>
            </a:r>
            <a:r>
              <a:rPr b="1" lang="ru-RU" sz="3600" spc="-1" strike="noStrike">
                <a:solidFill>
                  <a:srgbClr val="ffffff"/>
                </a:solidFill>
                <a:latin typeface="Verdana"/>
              </a:rPr>
              <a:t>Благодарные сердца</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Come, ye thankful people, co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Raise the song of harvest ho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is safely gathered 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re the winter storms begin.</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лагодарные серд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спешите в дом От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рожай cвезли с по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о прихода зимних дне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od, our Maker, doth provid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our wants to be suppli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e to God’s own temple, co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Raise the song of harvest home.</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 начало всех начал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м всё нужное посл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спешите в Божий д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нести хвалы псалом!</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All the world is God’s own fiel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ruit unto His praise to yiel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eat and tares together sow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Unto joy or sorrow grown;</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Мир весь — поле, что дав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у плод принесть долж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левел и пшеница ту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ядом издавна растут,</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irst the blade and then the ea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n the full corn shall appea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ord of harvest, grant that w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holesome grain and pure may be.</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ерва зелень, позже — пл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к идёт из рода в ро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молим об одн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делай добрым нас зерном!</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For the Lord our God shall co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shall take His harvest ho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rom His field shall in that d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offences purge away;</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Наш Господь опять пр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атву с поля собер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соблазны удал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й желанный возвратит.</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ive His angels charge at la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the fire the tares to ca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the fruitful ears to sto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His garner evermore.</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ст Он ангелам приказ</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жечь все плевелы огн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А пшеницу в тот же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нести в небесный дом.</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Even so, Lord, quickly co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Thy final harvest ho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ather, Thou, Thy people 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ree from sorrow, free from sin;</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Ей, гряди, Господь, гря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ерковь молит, церковь ж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й народ освобо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греха и от забот.</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re forever purifie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Thy presence to abid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ome, with all Thine angels, co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Raise the glorious harvest home.</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новлённые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чно будем жить с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Боже, поспеш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мире жатву соверши!</a:t>
            </a:r>
            <a:endParaRPr b="0" lang="en-US" sz="3200" spc="-1" strike="noStrike">
              <a:solidFill>
                <a:srgbClr val="000000"/>
              </a:solidFill>
              <a:latin typeface="Verdana"/>
            </a:endParaRPr>
          </a:p>
        </p:txBody>
      </p:sp>
      <p:sp>
        <p:nvSpPr>
          <p:cNvPr id="5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0T10:30:24Z</dcterms:modified>
  <cp:revision>3</cp:revision>
  <dc:subject>Slavic hymnal Гимны веры христиан, hymn 82</dc:subject>
  <dc:title>Come, Ye Thankful People, Come / Благодарные сердца</dc:title>
</cp:coreProperties>
</file>