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C4F9-6CDE-42C3-9A78-F08E978D4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A84E-941E-4AB4-9E4D-573CD8EDD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3FD5-C661-45ED-926F-A9F02DF50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DAD1-44B7-409A-B6D6-30DFC29C1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0B9B-E8E9-4F58-AB77-5A538E20A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BA16-190E-4033-A824-D90EC150B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3015-395A-4870-88A8-3702C7BB8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7739-BE17-4A60-8EEC-6D5547EA2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CCDF-773B-4CBC-8A66-FFDE3D5A3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FEE6-E9DE-41FA-AEF9-8BD581764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71E7-FCAE-4C28-808A-06E9BAB23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7E5B-82B9-447F-B5CB-4F29BD5FB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9FF444-EE6A-4967-BBFA-9475BE9F2F6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the st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the builders rejec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rock of refu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my pride is brok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sure foun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the sand is sin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we are built up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ke living st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654   You Are the St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s no one else lik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s no one like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s no one else lik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n of Man and Son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n of Man and Son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from the cr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to the depths descend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host of hell consp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make You capti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ev’ry chain of s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death You’ve brok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re triumphed o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Your mighty po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s no one else lik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s no one like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s no one else lik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n of Man and Son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n of Man and Son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nt to r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race You’ve set befor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n to sh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suff’ring of the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I might 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prize for which You called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be with You, Son of Ma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Son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be with You, Son of Ma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Son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n from the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to the heights ascend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You are se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t Your Father’s right h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ever pl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e souls You’ve captur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ever wat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You call us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s no one else lik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s no one like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s no one else lik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n of Man and Son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n of Man and Son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n of Man and Son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15T05:52:06Z</dcterms:modified>
  <cp:revision>12</cp:revision>
  <dc:subject>The Source 3, song number 1654</dc:subject>
  <dc:title>You Are the Stone (No One Like You, Lord)</dc:title>
</cp:coreProperties>
</file>