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858-37D3-4646-B830-5988D0E0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DE0-1F60-489A-AD65-86273CF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A13-92A3-410E-AF79-1A8AEE87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FCD-EC9B-450B-93FC-C1687FEB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596-26B4-4A2F-B042-69230BE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CB6-2555-49A3-8D64-738947F7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FA2-0145-4B70-94A6-25345EFA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7D9-C41F-464B-90DF-62B509CA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787-6B13-4139-AF47-BD703608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E9B-47ED-4C4F-B532-8B0B686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CF1-A750-428E-BA0A-B1CFC80C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8F1-D916-4401-B738-DF1253AA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7F7D0-8612-43E2-8AFD-9F37B64975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Спаситель,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ною смертью жизнь нам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кровью смоет св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ме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ты ни был — смело при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есчастных примет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о Христовой прильнёт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д недалёко, все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там награда верная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мог укрыться в ранах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ая жертва! Дар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Господня! Масса щед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чуждался кро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гнев Божий мим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Агнца кр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а вам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жу тот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йду, Я пройду мимо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9-08-17T21:36:46Z</dcterms:modified>
  <cp:revision>14</cp:revision>
  <dc:subject>Slavic hymnal Гимны веры христиан, hymn 282</dc:subject>
  <dc:title>Умер Спаситель, умер за всех</dc:title>
</cp:coreProperties>
</file>