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08C-D641-45C9-A162-84033536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B6E-FDB8-4909-962C-4569B765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653-B2E1-44E8-BFC7-83DFB00B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389-40DD-4365-963C-8AA1C5F6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0AA-C484-4109-ADE2-E3A85FF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B03-A082-48E4-A223-8207C8BD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BB1-3F3A-4041-8CE1-530772AE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E9C-5197-477D-88B5-8D905270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031-4E58-4740-8666-D1EC681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219-2D2B-469C-9C02-E3B311A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78F-D0ED-4C2B-8D0E-8C9B0A2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62-8F30-4475-A11C-2535182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624D5-3929-40A3-98C1-9415EB8A10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od be the glory, great things He has d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oved He the world that He gave us His 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yielded His life an atonement for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pened the life gate that all may go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ристу лине слава, Бог нас оправд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ак світ полюбив Він, що Сина нам 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кров’ю Своєю гріхи нам ом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сім нам двері життя навік відкр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perfect redemption, the purchase of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every believer the promise of G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vilest offender who truly belie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moment from Jesus a pardon rece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ощення дарується Богом т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то вірить у смерть і спасіння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йгірший грішник, як вірить Й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Омитий, спасенний у крові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taught 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eat things He has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reat our rejoicing through Jesus the S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purer, and higher, and greater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wonder, our transport, when Jesus we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г нас викупив і нам мир дарува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радість по вірі в Ісуса нам да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Коли Він візьме нас до Свого Отц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ді ми всі разом прославим Х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earth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, prais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eople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the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Jesus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Him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29Z</dcterms:modified>
  <cp:revision>12</cp:revision>
  <dc:subject>Slavic hymnal Гимны веры христиан, Ukrainian hymn 67</dc:subject>
  <dc:title>To God Be the Glory / Христу лине слава, Бог нас оправдав</dc:title>
</cp:coreProperties>
</file>