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244-6DCD-4019-93FC-5A920B59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0E0-1F9B-47B0-B0C8-0DE1BEF3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ACE-84AE-4919-9E6A-935DF75E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9E2-147D-4D2F-80DB-DCE74A23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E5C-2452-4BD8-93DE-8432556C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3BC-6997-42E9-A197-C12D2425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724-7223-4A8A-876A-F7B4FD16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152-B10D-42BC-8A4F-707A3DD7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9D8-0EE6-4572-8E70-365512CC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B208-85DA-4050-8855-DE5CDFA6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A5E-AB8E-4B72-9678-6B42656D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F88-EF8F-4921-B6AE-0B27AEE0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03B40-C642-4C2E-90EA-255C2048F1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0   Він обм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sins He forg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ed away, rolled away,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burdens of my heart rolled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гріхи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, що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8:37Z</dcterms:modified>
  <cp:revision>12</cp:revision>
  <dc:subject>Slavic hymnal Гимны веры христиан, Ukrainian hymn 100</dc:subject>
  <dc:title>Rolled Away / Він обмив</dc:title>
</cp:coreProperties>
</file>