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D2F-C0A3-4A7D-A3A8-D6518ACA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BE8-D6B1-4ECC-BB49-7A0DD862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006-41A8-4FF8-8E71-49E71818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FC52-4F98-4858-A37A-AFEC502D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7DA-A1B5-48DD-B649-FD46EAE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981-7EA9-4F26-8EC8-5B8C2E6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57C-2CCC-4E13-893C-688DFE64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E61-006C-4EAC-9288-E2E6A873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550-D2DA-4BAB-A62A-5A7A9E9C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47D-F655-4AE6-8C8F-68A039F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170-37B8-43D4-8C6E-8E7B728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B00-DE8E-4D4A-BBA9-D46359FC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766FF-A911-4D54-BB49-428270EE9A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am saved from s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peace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alk with Jesus day by d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 His hand so str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lds me all day l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with Him I will not go ast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 греха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 греха я спас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Божий мир водворё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покой мне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с души всякий гн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Many passed me b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eding not my c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ut the Saviour heard and rescued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as lost and bl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 was so ki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He touched my eyes and now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купил Он ме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ой принял то 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неизменной 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хранитель д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promise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 shall end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, I will be with thee all the way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ough foes ass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still prevai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I know He helps me watch and p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, как радостн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со мною вез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ажду вечно хва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у служ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hold me with His mighty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temptation He will help me st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will hold me with His might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ерую я в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 я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ына Божия ве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0Z</dcterms:modified>
  <cp:revision>14</cp:revision>
  <dc:subject>Slavic hymnal Гимны веры христиан, hymn 612</dc:subject>
  <dc:title>His Mighty Hand (I Am Saved From My Sin) / От греха я спасён</dc:title>
</cp:coreProperties>
</file>