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3B7-F5C4-4EC0-83D4-5AD5360B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C47-82DF-4002-AB30-3FEBF36D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A2F-EAA9-492D-8EC1-BD497F9D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E38-D9E1-4A7A-9C5E-87DDC8B5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3D2-C8EB-4E24-B9AA-CB320C1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6F9-3F0F-4D47-98E5-39DD6013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132-3714-49E6-B5F5-4F15A50A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A40-3F80-4F4C-9728-460DE5F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830-C46F-4017-87D5-F98BE8AC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22B-CC70-47B0-8EC2-B813422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6A1-29F1-4EB1-936C-08B92AC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615-6F3D-4476-8FD8-07C25D9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C5EC-57FF-4F4B-B723-7AAAB613D0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urn your eyes up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ok full in His wonder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things of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grow strangely d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light of His glory and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, гляди на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гляди на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ыше, славне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емные скорби рассе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ивном свете сиянь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7:36Z</dcterms:modified>
  <cp:revision>11</cp:revision>
  <dc:subject>The Source, song number 533 in Russian</dc:subject>
  <dc:title>Друг, гляди на Иисуса / Turn Your Eyes Upon Jesus</dc:title>
</cp:coreProperties>
</file>