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417-66FA-4870-9811-15D712F6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428-9830-4D8D-B313-49F63A8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EFC-CF03-4E52-9A57-E647CED7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D2C-CB9E-426F-8B6D-99B36520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0E8-DDA6-42A4-B7D1-5E4A23F9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6A5-B817-4D92-88E2-ECD4376C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C07A-2B39-4040-9854-EC0CAE2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9B7-0114-415D-A731-19355F40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F29-43C4-4039-804A-F62BC2D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973-9513-456E-AD0E-DC8D03AE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951-E58F-4304-93CF-293AB20E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D6-3139-495D-9344-E9D1949E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50AB5-2881-4028-8566-F6CAF22FF0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homes be filled with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streets be filled with j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njustice bow to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people turn to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y Our Homes Be Fil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 light shine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lk before the cr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whol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 o’er the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mountain to the vall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ises ris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to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inging fill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01Z</dcterms:modified>
  <cp:revision>11</cp:revision>
  <dc:subject>The Source 2, song number 886</dc:subject>
  <dc:title>May Our Homes Be Filled (Hear Our Praises)</dc:title>
</cp:coreProperties>
</file>