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7293-2526-4CD7-B282-62816214D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535A-170E-4825-BBB6-49337173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AACE-F8F7-43DD-9D6D-1592C1DFF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0C5B-563A-4F86-8A01-53BBAD6AD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D95D-A0F1-4675-A106-26D41C87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A27F-57DF-4915-9B5B-0345283F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97B1-DE5B-466B-9117-48F8B75B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C7F2-CAB8-4434-857C-37C05BA5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253D-942B-498C-9BC1-D7E44FB3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93E6-ADC1-417C-885C-2EADA4FF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D931-C0C8-47B4-9B92-A9908B28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9127-1F02-40F1-A752-91EC3970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51A00-0537-4519-8D47-7885D1CA23D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те о славе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, средь земного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нас она полна чуд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? Но к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нас она полна чуд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спойте о славе небе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шись в Христовой кро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ждём только зова ту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частливы в Божьей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? Но к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частливы в Божьей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изваны к Агнцу на бра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в восторге ту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ом же нас холод и мра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? Но к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ом же нас холод и мра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жественном слове стру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льётся живая в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ключ средь пустыни сух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? Но к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ключ средь пустыни сух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нас Бог окруж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хочет от нас Он пл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мере полученных си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? Но к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мере полученных си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но от мысли 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скоре минует нуж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ый увидим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? Но к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ый увидим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же нам будет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7:40Z</dcterms:modified>
  <cp:revision>12</cp:revision>
  <dc:subject>Slavic hymnal Гимны веры христиан, hymn 663</dc:subject>
  <dc:title>Воспойте о славе небес</dc:title>
</cp:coreProperties>
</file>