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78D-91E3-44E0-B477-59B1B58C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2EB-D59B-430F-B3CA-C558249C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5C2-8FB8-42D0-94F9-6751645F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630-F6DB-4580-9C4B-934A0CCF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FD3-37AD-4437-B9AB-D3D9B3BB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2E7-9FD0-4AEF-A8BA-DB87165A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5DE-F9F8-4997-8C23-5A0D5D25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ABE-98BB-492D-BCB2-842E1C27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5A1-6F53-4722-A565-872892B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BFE-1737-44F3-9EBD-C6E94CCE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FEB-242A-4287-9D3D-23C038F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542-7E9B-4A9C-B3F0-71B1E48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45829-200B-41BF-8641-B3F5741A75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Above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8:26:27Z</dcterms:modified>
  <cp:revision>10</cp:revision>
  <dc:subject>The Source 2, song number 611</dc:subject>
  <dc:title>Above All</dc:title>
</cp:coreProperties>
</file>