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A47-438D-455C-A487-A139CCC4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45C-B9B2-4386-9C38-115E7E1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BDD-7F09-4A3E-8704-C6E022E5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6D7-8456-4483-89C2-1651E61A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4D1-33EF-4E6B-B3F7-6294768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DE6-D102-400E-8DF7-5A529D47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8CC6-EDCA-4724-BD20-D9901785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CC3-FFBA-474D-811A-B6EBC4B6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F1B-283E-4757-9981-70D4A2E3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746-F8F3-439F-A9D8-51F47F5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A68-5544-4B0E-A0EB-F1EE7FC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5E1-31EB-4B57-866A-5EB5D38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793D1-1E90-4B7F-B91A-4BDC7B8FF3E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заблудший, к Отц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вдали от От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ьма греха без кон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риди, сын заблудш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пеши в дом От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верных скор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дают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вно в доме От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р всерадостный в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 Иисусом Хрис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как благ твой От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нежный,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ещает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заблудши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! друг,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36Z</dcterms:modified>
  <cp:revision>12</cp:revision>
  <dc:subject>Slavic hymnal Гимны веры христиан, hymn 377</dc:subject>
  <dc:title>Приди! Приди, сын заблудший</dc:title>
</cp:coreProperties>
</file>