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7E4-08B0-493C-8838-5ACB5185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78D-7419-473D-B28C-E3739202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904-CA58-4B23-8712-67802D93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A06-A6D9-4D6D-89E1-EBD4080E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E01-69DD-423C-9C2C-44E389B9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2CA-8D13-4553-927D-44662533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F9A-9F26-420F-9AC5-8191E6D5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AC7-EC6E-4031-B564-4BADC14C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9DD-8A65-4757-9C1E-78F40A0C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304-C789-4F24-98C9-FAB77BF7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9B9-AC91-45C0-8612-76AF054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B01-39F8-440B-86C9-F14BDEE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BB0FF-A425-4D12-81B4-01D8C3D800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never ret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closed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walk the p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run th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Never Be the 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ll like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ak like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ow like mighty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 and ag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p away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rn away the ch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et a flame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higher heigh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deeper s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ever You need to 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do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glory of God fills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ever be the sam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19Z</dcterms:modified>
  <cp:revision>10</cp:revision>
  <dc:subject>The Source, song number 264</dc:subject>
  <dc:title>I Will Never Be the Same Again</dc:title>
</cp:coreProperties>
</file>