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0C4-8C7D-44F2-BF59-0E540A47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238-8B21-4472-8C85-FE1C4D6A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378-563D-42D0-9312-99AD1887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92E-E230-4314-AF45-1021A5C8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CEA-F864-4D5E-A06A-70C8E77F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FC9-B38D-4BDB-9D46-D2F3C3C3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241-3377-44E2-BC23-581825E5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A4B-0BDF-42C0-9BC9-9B41737E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B27-4006-444D-8F3D-CE777DB6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9DF-7C02-4ED3-8BEF-373BC31E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178-9436-4562-988A-2B968C05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9DC-FD37-471E-8219-92A6F668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203E7-79E9-4E59-9EDE-87440A9ECC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очами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чет Он точило гне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полнил грешный 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ый меч Его свер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жает ложь и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истина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ижу я очами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герях Его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ымящихся к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и Ему воздви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угах, в глуши ле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истины ч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огнях и фонар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ден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звук всех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отступ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илище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язаны пред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, душа, всегда го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торжеств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Иуд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сило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еображае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, чтоб спас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мы должны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2:55Z</dcterms:modified>
  <cp:revision>12</cp:revision>
  <dc:subject>Slavic hymnal Гимны веры христиан, hymn 890</dc:subject>
  <dc:title>Вижу я очами веры</dc:title>
</cp:coreProperties>
</file>