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1</a:t>
            </a:r>
            <a:r>
              <a:rPr b="1" lang="ru-RU" sz="3600" spc="-1" strike="noStrike">
                <a:solidFill>
                  <a:srgbClr val="ffffff"/>
                </a:solidFill>
                <a:latin typeface="Verdana"/>
              </a:rPr>
              <a:t>	</a:t>
            </a:r>
            <a:r>
              <a:rPr b="1" lang="ru-RU" sz="3600" spc="-1" strike="noStrike">
                <a:solidFill>
                  <a:srgbClr val="ffffff"/>
                </a:solidFill>
                <a:latin typeface="Verdana"/>
              </a:rPr>
              <a:t>На трудной жизненной тропе</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My God, my Father, while I str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r from my home on life’s rough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each me from my heart to s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На трудной жизненной троп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Спаситель, силы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зать безропотно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sing upon a happier sh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5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му, Кто дух навек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each me from my heart to s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зать безропотно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ough Thou hast called me to resig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at most I prized, it ne’er was m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have but yielded what was T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И если Ты захочешь вз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не больней всего отдать,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мне радостно сказ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have but yielded what was Thi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дай мне радостно сказ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hould grief or sickness waste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life in premature dec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Father, still I strive to s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дёт ли средь страданий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ишь Ты моей опорой 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всегда, Господь, пре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Father, still I strive to s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всегда, Господь, пре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Renew my will from day to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lend it with Thine and take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that now makes it hard to s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сю волю покори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иренье дай и силу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каждый говорит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will be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that now makes it hard to s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каждый говорит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Then, when on earth I breathe no m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prayer, oft mixed with tears bef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sing upon a happier sh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hy will be done.”</a:t>
            </a:r>
            <a:endParaRPr b="0" lang="en-US" sz="3200" spc="-1" strike="noStrike">
              <a:solidFill>
                <a:srgbClr val="000000"/>
              </a:solidFill>
              <a:latin typeface="Verdana"/>
            </a:endParaRPr>
          </a:p>
        </p:txBody>
      </p:sp>
      <p:sp>
        <p:nvSpPr>
          <p:cNvPr id="5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Когда ж придёт последн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шепчет мой усталы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му, Кто дух навеки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хочешь Ты.»</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5:03Z</dcterms:modified>
  <cp:revision>3</cp:revision>
  <dc:subject>Slavic hymnal Гимны веры христиан, hymn 171</dc:subject>
  <dc:title>“Thy Will Be Done!” / На трудной жизненной тропе</dc:title>
</cp:coreProperties>
</file>