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CF11-3965-4324-8BD3-ECF70C4F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9646-309B-4370-95C0-CAF9C26A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8EB3-C92B-4058-863C-B0A7EF22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E007-0875-4D63-A89D-4B693C0F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0BB1-E360-43C9-804E-FAE04E4A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B4CA-97AF-4E1C-BB1D-A07800F2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3BA1-EA89-46DE-9515-4E988D84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931F-1924-4B56-9347-939A9E87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42F4-D199-436F-BC58-7FE9890D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8275-543F-46A9-A97F-40225122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D703-FE4D-4A38-8645-1849E711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764C-E3A3-426C-BE4B-B11DC550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417EB-6E6E-4A4A-B6DD-C1F02669002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may be at morn, when the day is awa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sunlight through dark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shadow is bre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Jesus will come in the fullness of gl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receive from the world “His ow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ыть может зарё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ыть может зарёй, когда утро начнё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солнечный луч сквозь туманы пробьё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дёт Иисус в полноте Своей сл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брать от земли Сво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Lord Jesus, how l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long ere we shout the glad s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returneth! Halleluja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llelujah! 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llelujah! 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доколе Господ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оспоём мы тот гим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Он грядёт к нам, Аллилуйя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may be at midday, it may be at twili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may be, perchan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the blackness of mid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ll burst into light in the blaze of His glor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Jesus receives “His ow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ыть может и в полдень, иль в час полуно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незапно увидят Его наши о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будет идти к нам с источником све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 взять от земли Сво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Lord Jesus, how l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long ere we shout the glad s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returneth! Halleluja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llelujah! 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llelujah! 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доколе Господ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оспоём мы тот гим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Он грядёт к нам, Аллилуйя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ile its hosts cry Hosann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rom heaven desce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glorified saints and the angels atte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grace on His brow, like a halo of glor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ll Jesus receive “His ow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воинства Божии, с неба спуская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души спасённых, с Грядущим сливая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вместе Ему воспоют песнь хвалень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 взял Он с земли Сво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Lord Jesus, how l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long ere we shout the glad s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returneth! Halleluja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llelujah! 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llelujah! 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доколе Господ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оспоём мы тот гим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Он грядёт к нам, Аллилуйя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h, joy! oh, delight! should we go without dy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 sickness, no sadness, no dread and no cry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aught up through the clou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our Lord into glor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Jesus receives “His ow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радость туда перейти без страдан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ез боли недуга, без мук умирань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ыть с Господом в славу Его восхищённы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уда Он возьмёт Сво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Lord Jesus, how l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long ere we shout the glad s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returneth! Halleluja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llelujah! 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allelujah! 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доколе Господ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оспоём мы тот гим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Он грядёт к нам, Аллилуйя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35Z</dcterms:modified>
  <cp:revision>13</cp:revision>
  <dc:subject>Slavic hymnal Гимны веры христиан, hymn 315</dc:subject>
  <dc:title>Christ Returneth (It May Be At Morn) / Быть может зарёй</dc:title>
</cp:coreProperties>
</file>