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056-3B7D-49DE-85E0-DC97C7DA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2892-A131-4B33-B509-DFAC33DF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0FA6-41AA-4EBC-8268-88087FBF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390-FF44-47AE-8179-D870E7AC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EAE-3C32-47A3-9BE0-CC1AA2A1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186-8E5D-4DFB-8E6F-74FC1068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86A-9846-4489-8876-6D7CE914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A5F-D9C9-40FF-8D1D-59125EFC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A4B-7403-4184-AA90-05BF3452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332-D713-44CA-B323-7F664359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CFD-3605-47C5-9FFC-536D7AE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813-933C-4437-8061-F65E28C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9B408-377A-4068-AA61-600703A4F38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все, кто пла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се дни живёт в тос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о Мне залог удач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епость лишь в Моей ру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придите все, кто пла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, кто от жа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нывает в лютый 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, кто однаж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ыл изранен сата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лько горя вы терпе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вас долго грех терз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те к светлой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сильте пере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абывши день вчераш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те все Моим слов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м со Мной не будет страш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ны Я обмою в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обижены, несчаст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терзает сата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крылья безопас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м под ними тиш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росли бурьяном нив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од людской живёт, гре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на призы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кликнется ду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не терпит зла, насил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желает обр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под 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безотрадного пу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7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2-04-16T23:53:27Z</dcterms:modified>
  <cp:revision>13</cp:revision>
  <dc:subject>Slavic hymnal Гимны веры христиан, hymn 368</dc:subject>
  <dc:title>О, придите все, кто плачет</dc:title>
</cp:coreProperties>
</file>