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FB72-15F0-4755-B151-6BDE6ED16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3E82-96DD-4485-91ED-D28A5227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5FC7-34BF-40AC-B55B-5EE2BE461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F6B2-E071-4290-B615-D6346ACF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F654-541D-4BBB-92F2-EDD7565B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AAF7-44C6-4671-BADA-D7952C46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9B3F-C3C8-4F06-8EE2-9127D1D3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607D-CA39-4EE0-A463-8C5A135D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D843-A194-4E89-9E14-52ED5EF4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B6A4-9127-437A-98B5-9A92BEA9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43D6-CFFB-447C-852E-72CF8881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1DDA-8F77-41F0-9DCA-1D9C6635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3611F-6B0B-492E-BA32-92CA347F6C6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Єдиний лікар є для нас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аскавий наш Спасит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ранами Своїми сп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х вірних ― наш Збав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скарб мені Ти д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й тіло врят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хвалу Тобі спі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Господь ―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4   Єдиний лікар є для н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сі гріхи мої прост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Лікар, мій Збав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ім Отця мені відкрив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, наш Примир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скарб мені Ти д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й тіло врят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хвалу Тобі спі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Господь ―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рагну щиро все люб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, мій Відкуп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воє ім’я люблю хва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едвічний Цар,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скарб мені Ти д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й тіло врят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хвалу Тобі спі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Господь ―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дуг невиліковний тв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ізціляє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могутність зрозумі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ірним помагає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скарб мені Ти д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й тіло врят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хвалу Тобі спі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Господь ―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лавмо, браття, всі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ов Його безмірн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славить серце і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ню милість див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скарб мені Ти д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й тіло врят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хвалу Тобі спі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Господь ―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3:49Z</dcterms:modified>
  <cp:revision>12</cp:revision>
  <dc:subject>Slavic hymnal Гимны веры христиан, Ukrainian hymn 74</dc:subject>
  <dc:title>Єдиний лікар є для нас</dc:title>
</cp:coreProperties>
</file>