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7560-4A21-4E3D-8AF3-2AD494763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B0AA-FB8E-44AD-A07B-956B1229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2397-FB38-4831-9644-D1F0E862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D620-BFF1-4D4F-935E-3AB449F4A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EA14-4A7C-4678-83F8-B3513CDE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180F-05E0-44A5-B654-D573A40C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6C88-4E20-4FDA-A449-9035EA3F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BC2B-07E3-400E-9292-BE03480F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0499-EF55-4EAA-9AFE-DBAD3990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510E-B3F4-4D3F-9025-368B3D28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3A53-7253-4644-B219-94EDB377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2D12-90C3-460A-97A1-883C54CA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F0F0A-C934-4EED-9E7D-CDC4DE0D358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not why God’s wond’rous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e He hath made kn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why, unworthy, Christ in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deemed me for His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8   Не знаю, чому Бог мен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ю, чому Бог ме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рив Свою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бо чому Спаситель м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лив за мене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“I know whom I have belie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m persuaded that He is 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eep that which I’ve commit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Him against that 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знаю, в Кого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що мене з Христом не розлуч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і насліддя вр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ень, коли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not how this saving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e He did im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how believing in His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ought peace within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ю, як Бог дав ме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іння дар прий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ила Його Слова я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є нам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“I know whom I have belie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m persuaded that He is 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eep that which I’ve commit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Him against that 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знаю, в Кого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що мене з Христом не розлуч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і насліддя вр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ень, коли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not how the Spirit mo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vincing men of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vealing Jesus through the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eating faith in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ю я, як Дух Св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ронить в вірі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ідкриває нам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Божественних слов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“I know whom I have belie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m persuaded that He is 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eep that which I’ve commit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Him against that 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знаю, в Кого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що мене з Христом не розлуч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і насліддя вр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ень, коли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not when my Lord may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night or noonday fa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if I’ll walk the vale with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meet Him in the 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ю я часу, ні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Господь прийде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через смерть, чи Сам 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ой день Він забе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“I know whom I have belie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m persuaded that He is 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eep that which I’ve commit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Him against that 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знаю, в Кого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що мене з Христом не розлуч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і насліддя вр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ень, коли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4:15Z</dcterms:modified>
  <cp:revision>12</cp:revision>
  <dc:subject>Slavic hymnal Гимны веры христиан, Ukrainian hymn 48</dc:subject>
  <dc:title>I Know Whom I Have Believed / Не знаю, чому Бог мені</dc:title>
</cp:coreProperties>
</file>