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A31-C27F-4539-B10E-2D7CE74C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F2A-237F-465B-A6A4-315D8DFB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E1C-42D4-4ADB-BEA9-E27148BD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829-0C85-4310-AEE0-9ADBAB1B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67F-D9AA-4306-A480-D8DE8667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29D-5707-4D7F-8718-AD6CD297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B41-8A9F-403A-8191-5BF3CC20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8889-1059-4647-8075-FBD07D8C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69D-5400-4470-9453-14D9E4A7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F57-79A3-4E7D-B020-5FB4F81A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36A-02E2-4965-8F48-658BDCBE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96B-E505-42C4-BC9A-F6A0CE0A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BA554-ECF7-4DB9-8222-C03F740D2E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ердце лишь песня од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дости льётся 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, как живая вол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сердце лишь песня од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л мир страданье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долг мой Себя Он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в миру лекарство от слё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я Иисуса позн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р в изобильи мне д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оре любви ощущ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пребываю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рибегает дух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мир я вкушаю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,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подарок с небе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адостный, сладостны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, мир — дар Божь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5:45Z</dcterms:modified>
  <cp:revision>12</cp:revision>
  <dc:subject>Slavic hymnal Гимны веры христиан, hymn 582</dc:subject>
  <dc:title>На сердце лишь песня одна</dc:title>
</cp:coreProperties>
</file>