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873-1AF3-40A1-B6AF-7D7650F3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EA6-18BB-4FC7-87C8-272A3CFA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AE4-2B3F-4E30-8BCE-93FCE041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65A-70A4-4F93-9936-3CCC0818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D7D-94ED-47EB-A77D-E27DC509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D21-672C-4A2E-AD4B-2D80DA1D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694-DF14-474C-9B7F-134D4455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A91-4221-4122-BCDD-020F067B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1BE-976C-482A-B4DD-CE179D75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911-8834-4AF6-BAA8-27A285E2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E2BC-F1C6-4C57-AED7-6AFD2BE2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DE9-C5C9-40B6-AA93-415252CB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094C4-D6C2-4AD3-A576-1E33B8D644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где же жнецы, чтоб теперь со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полей, злом богатых, — добра сноп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пами любви надо труд свер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тени ночной класть нельзя серп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53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где же жне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те колосья среди тра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шеницу средь плевел найдёте в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росьте колосьев, что у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их в житницу прин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колос созрел и к земле пон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жатвы великой мир скоро ж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ников мало, а труд вели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же нельзя, ведь всё пропа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ите же, люди, свои серп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ите с обильным зерном сноп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итесь до встречи Царя-Г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житницу Божью войдёте 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жнецы, где? Кто, кто гот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 праздник житницы при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с нами в неё н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осья мира с полей грех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1:00:50Z</dcterms:modified>
  <cp:revision>12</cp:revision>
  <dc:subject>Slavic hymnal Гимны веры христиан, hymn 534</dc:subject>
  <dc:title>О, где же жнецы?</dc:title>
</cp:coreProperties>
</file>