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F90C-95BB-4AF4-95EA-490413CF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C808-FBDF-43D9-8A96-356F4EFB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AFB5-E462-499C-A574-30094050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7A80-B709-465E-8F1D-747C5927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EC5D-F441-4960-BB39-1DC0D3EF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D7DA-9D1E-42C4-8550-920820F7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D493-CABE-422C-BC1E-7CCC1113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D267-7802-4678-A96A-D1E1C1C6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073D-893D-44A2-8071-7636E7FC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FD68-8970-49CE-884A-CB872A8B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F76E-37DC-44BB-83A7-3723B344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6BEB-715D-42F2-A459-D8ABFFF4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7C38E-9888-420A-ADCA-0C374707D33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ь, Спаситель, увижу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аве небес, в славе небе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мешь меня Ты,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Твой чудес, в мир Твой чуде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искушений на это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аблуждений в губительной мг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жидаю свободы и бл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, на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оро ль, Спасител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, мой Спаситель, угодно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й управляй, мной управл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е иль страшной житейской борь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ь мне дай, помощь мне 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в сомненья свои не вп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надежды своей не тер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 Святого в меня излив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укрепляй! Им укрепл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а земле я ещё нахож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й я чужой, ей я чуж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к небесному миру стрем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у покой, жажду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моё да ликует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не смолкает хвала ник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любить я хочу лишь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ды Царя, правды Ц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ь наступит кончин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не прервёт, жизнь мне прерв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лаженства удел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ь придёт, скоро ль при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ж не буду душою стра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прославлю Христа благо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хвалить я любви полнот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Христу! Слава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9:29Z</dcterms:modified>
  <cp:revision>16</cp:revision>
  <dc:subject>Slavic hymnal Гимны веры христиан, hymn 477</dc:subject>
  <dc:title>Скоро ль, Спаситель, увижу Тебя?</dc:title>
</cp:coreProperties>
</file>