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FD9-0E08-4AD6-8F38-59908596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AE5-4246-48DB-8689-B1DFD8AE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754-AB09-45A7-9010-69784E00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880-C670-4D45-8F15-0737D7C9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8B4-4DFC-4F0B-B321-02F92B4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0D2-6F39-4BD0-814B-0B2AB1DF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34D-3C91-4879-9037-7D730F93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2A6-0366-4446-BB3D-2D7D613F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E90-D564-4EFA-9828-E7D0E857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1DC-6463-4566-99C7-785DFCD6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30B-1162-4AAD-BB89-9046C8C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5A8-35B3-4F28-8CB1-FEF8578B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EEEB6-6558-4C33-9C6B-4FE75BB2EE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, поверь мне, настанет друг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с любит Господь, не за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ты на Господа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чаще молися в ти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тихнет на сердце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тоскуй ты, душа дорог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, что Христос,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ради страдал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 твой благ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тобою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щайся в тяжёлые 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бремя не ропщут 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жизни бывают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ейся на милость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волны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страшно и грозно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ты! С любовью во вз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бя твой Спаситель гля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нашей Он Са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щиту Он нам по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т Он нам то, что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к радости, к счастью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традать здесь осталось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к последне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нас Спасител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тань тихая нас ожи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страшной и грозной там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солнца Христос там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сияет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родина наш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вечный, блажен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1:54Z</dcterms:modified>
  <cp:revision>13</cp:revision>
  <dc:subject>Slavic hymnal Гимны веры христиан, hymn 717</dc:subject>
  <dc:title>Не тоскуй ты, душа дорогая</dc:title>
</cp:coreProperties>
</file>