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D6E-7FF1-48C8-9E00-E53E78E9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A6D-373D-4D26-85C0-F3531987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2CE-AF46-4A7E-938A-9473F59D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7BF-6E0A-4EDB-96E3-C33B7C3F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A98-C945-4B2D-A6E2-868AFE29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B10-DB9B-40EA-931A-00B87678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598-1AD6-4A12-800A-F273B673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39D-7E66-491E-BA89-55CE539E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567-03B8-4148-97F4-A29B2225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8B9-8891-4F00-84C0-93DE19E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80C-EAE1-4990-B9AB-E8C6BBD2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D33-9380-4696-91F2-6471B56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7D4B7-3C75-4EA0-B45B-52D9992717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несущий крест тяжё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блегчу твой тесный, узк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озвращу потерян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целю надорванную гр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печальный, одино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скать отраду у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любовью, лаской и при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грею и утешу 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 ко М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, израненный незри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ученный, истерзанный грех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альзамом драгоценным уврач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хую скорбь больной души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без страха, без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— Я дам теб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о Мне — Я дам тебе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дам душе твоей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26Z</dcterms:modified>
  <cp:revision>12</cp:revision>
  <dc:subject>Slavic hymnal Гимны веры христиан, hymn 792</dc:subject>
  <dc:title>Приди ко Мне</dc:title>
</cp:coreProperties>
</file>