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F4D-AD1C-41EC-899F-3D385D51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149-BE80-4ED4-9BD5-DB85D242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144-BE0F-4D1E-A0EA-CA0D1987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54B-B871-430A-97AC-33321630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4ED-19A3-4083-B68D-865B502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A44-074E-45AF-BBBC-DA7F427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684-EABA-47D5-99EB-217B803A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2B3-E743-4D3E-BEDF-A587E2B7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90F-F891-4C6B-88AD-05985C3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E56-5A56-4445-A4A3-E8CFE61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63B-3CF6-428F-B323-B65DBC01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C2E-6327-4A3F-ACE1-C077864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BB7ED-BD1F-4AA4-AFF3-586D2C7A2A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санна, честь и сл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idst accept their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ept the praise we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all good deligh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good and graciou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ышал песни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теперь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мир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the King of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David’s royal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the Lord’s name com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and Blessed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иля на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а Царь и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щий в имя Бож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рны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mpany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praising The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ortal men and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ed make re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у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ит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eople of the Hebr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lms before Thee w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praise and prayer and anth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e we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с ветвями, с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тречу шла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мся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before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ang their hymns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now high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melody w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еред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ла дар при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небес си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валу и 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glory, laud,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, Redeemer,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om the lip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sweet hosanna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, честь и с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 тот день звуч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истых детских у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5:15Z</dcterms:modified>
  <cp:revision>12</cp:revision>
  <dc:subject>Slavic hymnal Гимны веры христиан, hymn 891</dc:subject>
  <dc:title>All Glory, Laud, and Honour / Осанна, честь и слава</dc:title>
</cp:coreProperties>
</file>