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E0B-266B-49A8-A8E9-C7E6BDA5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C1E-E243-4BA9-9CA8-0AB179CE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ADF-752C-469E-B81F-BF649D54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5AA-4545-4B56-8160-8EE45A77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ECC-FB23-420A-950A-2C9284E2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50F-F9AD-4920-9A4F-DE14F816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BEE-5DB6-42A7-8270-F05A4FD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466-E41D-4F32-93A4-EB7FB647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D78-C286-4D48-81EE-9470BB8A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E2A-1AD3-49E7-A972-ED4705FA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ADA-BA26-4ADD-B30F-FCF89E72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738-8A0E-4A3B-820E-140ACDF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605B4-1E09-4481-BB88-53CFB4AC61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кров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ст ей здесь ми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и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сулить этот мир у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а, где зло не коснётс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нет, нет — он нам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мире неб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ол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сыщет здесь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с надеж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га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ил Он 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ящий в сияньи для нас, как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ров ли родной и обитель се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а, да, да, то — кров р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о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 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ечно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ётся душа пред Тобой предсто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ю любви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и, жди, скоро время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орнее место тебя Он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, душа, близ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на к 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дол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ты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ись до конца, будь верна и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трудной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там у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ждёт претерпе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здес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25Z</dcterms:modified>
  <cp:revision>12</cp:revision>
  <dc:subject>Slavic hymnal Гимны веры христиан, hymn 664</dc:subject>
  <dc:title>Где сыщет здесь в мире</dc:title>
</cp:coreProperties>
</file>