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61C-FD9B-4D21-9F2C-542C7294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C2D-460F-43EF-B3F5-C0F802DC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C41-45A8-4F4F-9B86-F56A83E6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0F6-F088-4B80-B486-328E7A15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CA6-65C6-4440-A035-BA0315C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61D-C0E4-4255-8126-F4485D2E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2B0-8802-45D9-ADC3-4208008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A42-C8E5-47ED-AEA3-E15B24B4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00A-C4BB-4187-8A2E-3AB566C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275-AD09-4C4F-939E-7940A4C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43A-17D8-451F-9C97-90368A03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68E-C052-4CD1-A424-3ED5F5E1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BC881-E5B1-4DC2-A401-E55C9E4F06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на зло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и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ешь к Иисус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шь ты в Нё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 на прекрас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как вет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х ты множе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е вз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итвой луч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би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д языка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пчет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ощряй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клев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храняй в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 пу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 прекр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, друг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уй, как милос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ящих в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на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27Z</dcterms:modified>
  <cp:revision>12</cp:revision>
  <dc:subject>Slavic hymnal Гимны веры христиан, hymn 515</dc:subject>
  <dc:title>Взглянь на прекрасное в жизни</dc:title>
</cp:coreProperties>
</file>