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40694-14D7-41DD-91CE-DD65ADCCF3B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BB8A2-2B1C-414A-8537-BCDAFC764C5E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70228-C79A-4DCB-898F-7B1C63B90AE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A71EC-1956-43E1-82A2-AA6F61E51CF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F0166-491D-4EC5-91EB-F001792F9BB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0B803-C590-4467-A345-24B43C816D3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1409A-6CF4-4930-A65B-B4BA006BD45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1C701-AC80-4B04-A44B-F9564D8D433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C9894-8F93-42B4-A886-8ACF9BAA3BC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2040" cy="4008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A71-1763-4E4F-8459-EC485027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D22-40A6-43C9-A0AD-040B280C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F78-25DD-4344-A362-1C463BCA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F25-9F3A-4227-A44B-09167A7B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161-08FD-4D75-BC31-D2A6B453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90A-9E9E-4C8B-9938-C8B59430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DF3-8F74-4E5F-8002-30253090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13D-54F8-4F67-8344-80C5F1F7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ECD-0A1E-4171-BD3F-2816CBE0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4DD-E18A-482C-8803-DC72BE5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672-9FC2-4D1E-9A4C-382A740E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2DC-D437-40E2-9021-6A07F32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9796E-94A8-40B5-8C4E-59665D9793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, no more to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o sin and s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more to wear the brow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се войд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в Отцовск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 ж скорей, пора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ся, грех и гор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eary feet awaits a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ondrous pave and gold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arts that ache, the angels w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tory, sweet and ol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ет нам отрадн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ина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небес среди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 восторг вл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who sleep, and those who w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e portals na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ansions rise beyond the skies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ной борьбе наш щит —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— сила и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Отцом нам вечн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дём мы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joyful song! Oh, ransomed th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in no more shall s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King to see, and, oh,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m at hom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чный дом! В тебе 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тревог не зна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тот, кто в дом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там ожид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(we’re going hom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going home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войдём (в Отцовский д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может быть, уж вско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1-10T19:22:34Z</dcterms:modified>
  <cp:revision>13</cp:revision>
  <dc:subject>Slavic hymnal Гимны веры христиан, hymn 668</dc:subject>
  <dc:title>We’re Going Home Tomorrow / Мы все войдём в Отцовский дом</dc:title>
</cp:coreProperties>
</file>