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A29-E2DF-4D0B-B1C7-8C8C6933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969-678B-4E05-BCD6-29ACA4AE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1C6-6D8D-42A0-8616-BD76CDCF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BCA-A000-4A71-A0A6-9196CF52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BFD-700C-459E-B1DB-D7886B70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6B3-4FCE-4E9C-AF32-D5DA4F6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78D-C980-4ACB-B229-DD63C791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712-1E3A-4DD5-9939-0EEC3257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017-9337-4E71-95DC-047AF8CA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F64-A27F-4514-8DAA-4DF3C319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6F4-2E0E-4A18-B1B7-14BBB1D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CA0-1FC3-4FEA-BE0A-A62E1E52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8DB92-07AF-413B-8DED-11BF8FDFE6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м пламенем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сердцу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одвиг жертвы и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 моя во мне г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ы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во веки 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ю обитель я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кину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в вечности, 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я см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достойной, не в слез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ам отрёшь слез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 сильней, огонь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всё грешное в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двиг веры вдох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3:02Z</dcterms:modified>
  <cp:revision>13</cp:revision>
  <dc:subject>Slavic hymnal Гимны веры христиан, hymn 810</dc:subject>
  <dc:title>Душа моя во мне горит</dc:title>
</cp:coreProperties>
</file>