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7FA-CD17-4F28-A862-0B8D1CBA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8BE-62C3-4EA0-82A8-4FE391C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242-CE59-4215-BE68-72485DA6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E84-65C5-42FB-8526-9B2BED5B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01A-CAD7-485C-987B-7D7BB051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7EB-9E98-413B-91C8-C21F539A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AFA-82D9-4869-84CD-7E518ED9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9B2-5847-439C-A462-B0DE5FF6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FF5-B464-4517-A33E-9ED03F83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FC22-C89D-42D6-9B25-6268060A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808-53F6-4FA2-BEBC-E7B30C9D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383-2451-4B15-BB55-B61FC75F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D6A3A-6343-409C-A488-FC2F843F692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03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Father, We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,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orship and ad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fy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36Z</dcterms:modified>
  <cp:revision>10</cp:revision>
  <dc:subject>The Source, song number 103</dc:subject>
  <dc:title>Father, We Love You (Glorify Your Name)</dc:title>
</cp:coreProperties>
</file>