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68B-E6E8-47F7-A48F-4352FA21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155-6763-44F0-B5C1-5792A63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655-DFED-4B10-A26D-9DA6B380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2ED-E1F4-456F-B483-6A42B697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A13-F5E9-474A-937F-5C8DCBE7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D68-D1AA-48B1-86FC-EC951E1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098-83E8-4E0C-9314-E507CCF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D34-0B19-4F74-8110-97EBEE6A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F3F-0E25-4EA8-8919-C21D908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AB0-F4F1-4A9A-BF46-76DB4FC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0CE-8D47-4767-BB81-953D227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BB5-4717-4A2F-86EA-829E5DD1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CFAF8-9DF3-4AAA-9C08-AB85EC3D50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y, earth-bound heaven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plan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light that breaks m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falls like a dove to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is Grace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ov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deserved, this gloriou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on, this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, this death, this victory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 has flowed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race that is mine finds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perfect and so pure, this God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lorious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arth to heaven, death to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future assured and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love 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and the glory of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, the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02Z</dcterms:modified>
  <cp:revision>10</cp:revision>
  <dc:subject>The Source, song number 512</dc:subject>
  <dc:title>This Grace Is Mine (The Power and the Glory)</dc:title>
</cp:coreProperties>
</file>