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157-6047-401A-B64B-45B8251D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FE8-D51A-4114-B9DB-6343B4C0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982-85E5-4679-9839-85101462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94B-F2FE-4495-8CE6-A31BD7C0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DF7-1EEC-4D62-B207-6A9FF91D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0A3-26FD-47A9-855C-BF146100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4EC-D88D-4900-B07C-C216C8D4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F17-8AFC-4220-9215-BEBDAC10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2A3-57B5-49C3-A216-7EBB80D2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5C5-E7AF-4E99-8572-AFFC0124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702-98E9-4144-96FF-AD83DFC7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B5A-CC92-4FF5-B64B-DCD0ECAF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2DE12-9687-48D6-AA58-BF60450788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те, люди, на Слово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ещё ныне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ведь скоро закрыться мож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об этом твер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т люди: «Слово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ернётся к н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люди не взывай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ирайте, люди, на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 Амоса звучат так я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написал на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юди горько стонать все бу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аждой томим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т люди: «Слово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ернётся к н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люди не взывай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Господню искать все бу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аждущий ище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акроет от них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огут найти уж 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т люди: «Слово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ернётся к н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люди не взывай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дить все будут от моря к мо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ово Господне на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ны будут мученье,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сь уж не смогут 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т люди: «Слово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ернётся к н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люди не взывай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ответит уж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2:30Z</dcterms:modified>
  <cp:revision>13</cp:revision>
  <dc:subject>Slavic hymnal Гимны веры христиан, hymn 412</dc:subject>
  <dc:title>Взирайте, люди, на Слово Божье</dc:title>
</cp:coreProperties>
</file>