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06</a:t>
            </a:r>
            <a:r>
              <a:rPr b="1" lang="ru-RU" sz="3600" spc="-1" strike="noStrike">
                <a:solidFill>
                  <a:srgbClr val="ffffff"/>
                </a:solidFill>
                <a:latin typeface="Verdana"/>
              </a:rPr>
              <a:t>	</a:t>
            </a:r>
            <a:r>
              <a:rPr b="1" lang="ru-RU" sz="3600" spc="-1" strike="noStrike">
                <a:solidFill>
                  <a:srgbClr val="ffffff"/>
                </a:solidFill>
                <a:latin typeface="Verdana"/>
              </a:rPr>
              <a:t>Оживляет весть Господня</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 how sweet the glorious messag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mple faith may cla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terday, today, for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the same.</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живляет вест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щих и кал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ho gave His healing virtu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a woman’s touc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e faith that claims His fullnes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will give as much.</a:t>
            </a:r>
            <a:endParaRPr b="0" lang="en-US" sz="3200" spc="-1" strike="noStrike">
              <a:solidFill>
                <a:srgbClr val="000000"/>
              </a:solidFill>
              <a:latin typeface="Verdana"/>
            </a:endParaRPr>
          </a:p>
        </p:txBody>
      </p:sp>
      <p:sp>
        <p:nvSpPr>
          <p:cNvPr id="5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рипал к Его одежд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илу получ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пришёл к Нему с надеждой,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ой тварью стал.</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terday, today, for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the s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6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6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As of old He walked to Emma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m to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 through all life’s way He walketh</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ver near our side.</a:t>
            </a:r>
            <a:endParaRPr b="0" lang="en-US" sz="3200" spc="-1" strike="noStrike">
              <a:solidFill>
                <a:srgbClr val="000000"/>
              </a:solidFill>
              <a:latin typeface="Verdana"/>
            </a:endParaRPr>
          </a:p>
        </p:txBody>
      </p:sp>
      <p:sp>
        <p:nvSpPr>
          <p:cNvPr id="6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Как с печальными друзья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Шёл Он в Еммау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дёт незримо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 Господь Иисус.</a:t>
            </a: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oon again we shall behold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sten, Lord, the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will still be this same Jes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He went away.</a:t>
            </a:r>
            <a:endParaRPr b="0" lang="en-US" sz="3200" spc="-1" strike="noStrike">
              <a:solidFill>
                <a:srgbClr val="000000"/>
              </a:solidFill>
              <a:latin typeface="Verdana"/>
            </a:endParaRPr>
          </a:p>
        </p:txBody>
      </p:sp>
      <p:sp>
        <p:nvSpPr>
          <p:cNvPr id="6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ень придёт — Его увид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н был и е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ерпенье, за оби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ст нам жизнь и честь.</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terday, today, for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the s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6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6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7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
        <p:nvSpPr>
          <p:cNvPr id="7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He loves to save the sinf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al the sick and l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eer the mourner, still the tempe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ит грешных и спас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гоняет ть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и жизни усмиряет,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terday, today, for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the s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He, who was the Friend of sinn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eks the lost one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ner, come, and at His footstoo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nitently bow.</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руг отверженных и греш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щет и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приди к Нему поспеш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рехах скорбя.</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Who said, “I’ll not condemn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 and sin no m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peaks to thee that word of pard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s in days of yor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то сказал: «Не осуж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льше не гре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оворит теперь: «Прощ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твоей души.</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Yesterday, today, for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is the s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исус вчера, сег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т же и вове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любовь Господ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стареет, не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may change, but Jesus,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to His nam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йдёт, Иисус пребуд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хвала Ему!</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Oft on earth He healed the suffer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y His mighty han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till our sicknesses and sorrow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 at His command.</a:t>
            </a:r>
            <a:endParaRPr b="0" lang="en-US" sz="3200" spc="-1" strike="noStrike">
              <a:solidFill>
                <a:srgbClr val="000000"/>
              </a:solidFill>
              <a:latin typeface="Verdana"/>
            </a:endParaRPr>
          </a:p>
        </p:txBody>
      </p:sp>
      <p:sp>
        <p:nvSpPr>
          <p:cNvPr id="5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сцелял Он прокажё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м давал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заменит наши сто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ю святой.</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00:08:57Z</dcterms:modified>
  <cp:revision>3</cp:revision>
  <dc:subject>Slavic hymnal Гимны веры христиан, hymn 106</dc:subject>
  <dc:title>Yesterday, Today, Forever / Оживляет весть Господня</dc:title>
</cp:coreProperties>
</file>