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DAB-658B-45C9-AC34-4B7DF1BA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A13-004D-49F6-AFF8-286F238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0A92-F7CE-4F9A-9C65-1F89E5BE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B97-6E5E-4724-80EE-000B6CE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EDA-F3C2-4582-91A9-B03BD618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8D2-4B29-417C-8E57-BCC08AC1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523-F54B-4B9B-AD4C-3BE22213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6AC-5E02-4517-AAD3-00539A9A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E55-E303-4D77-B4DD-25F575E2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C82-0CF8-43CA-ACAF-CC3FC54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166-0866-4AB9-99CB-5246EEAF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365-111A-4760-83DC-E064073D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A2998-D052-44B1-B6EA-DBA9C7AFB5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Lord is on thy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patiently the cross of grief or p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ave to thy God to order and prov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ev’ry change He faithful will r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best, thy heavenl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thorny ways leads to a joyful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уныв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всегда с тоб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и свой крест, в страданьях не роп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руках Творца и ты и жребий т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ерен нам. Общенья с Ним 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чрез тьму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лучший друг, к блаженству нас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y God doth under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guide the future as He has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hope, thy confidence let nothing shak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now mysterious shall be brigh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the waves and winds sti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voice Who ruled them while He dwelt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Господь руков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ядущим так, как прошлым упра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лишь верь! Ничто да не смут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й час поймёшь зачем ты здесь 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и буре и волн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ажет Он — настанет ти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! The hour is hast’n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shall be forever with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disappointment, grief and fear are g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rrow forgot, love’s purest joys re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still, my soul; when change and tears are pa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safe and blessed we shall meet at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уж близок славный ча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Христом мы будем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святой отрёт нам слёзы с гла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чезнет скорбь, забота и нуж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нывай! земное всё пр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ах нас дом Отцовский ж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37Z</dcterms:modified>
  <cp:revision>12</cp:revision>
  <dc:subject>Slavic hymnal Гимны веры христиан, hymn 860</dc:subject>
  <dc:title>Be Still, My Soul / Не унывай! Господь всегда с тобой</dc:title>
</cp:coreProperties>
</file>