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42BD-5DD6-42B9-947D-858197CA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F0C-83A1-4D37-97E7-ED01B13F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18EA-57F4-44D4-8111-0C464E04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1AD2-2EB3-4EA9-A69D-8744B829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09D-6CA7-496A-AE66-23C55AC7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B0A-F168-48B5-BFD4-31A9130A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35A7-6FB7-4BDC-B26F-22700860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439-B6E4-42E6-993C-FFA3FC8F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74A-FFB6-4850-B843-8357905C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0F4-7B3E-4428-BDFD-418FB299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34B3-BEA0-4846-9B2C-CEC132DB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0A3-F803-461A-A193-2807A5D5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0B801-7D49-47F5-B42F-BCFDAAAD22E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частлив я ныне в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и не выразить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согрешень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лёк моё сердце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ская кровь очистила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ак счастлив я ны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у приношу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делался другом м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ньше блуждал в беззако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ыне Им в правде во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ская кровь очистила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частлив, Иисус —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на из Его я ов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дан Святой Дух Утеш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Бог — мой Небесный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ская кровь очистила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, брат мой грешный, несчас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емли Его гласу любв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 и тебе Он дать счаст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с верой взор обра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гофская кровь очистила вн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в Нём я счастлив в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8:09Z</dcterms:modified>
  <cp:revision>12</cp:revision>
  <dc:subject>Slavic hymnal Гимны веры христиан, hymn 576</dc:subject>
  <dc:title>Как счастлив я ныне в Иисусе</dc:title>
</cp:coreProperties>
</file>