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D454-C318-4762-B6DD-4B8BB5C2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C45D-03B4-47EE-BDDB-2B8A9221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1A27-2BEE-413F-B3D6-54772875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78A2-01F1-44C9-B86F-A2E2099C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497E-1BF8-4483-9094-8794F886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6911-4247-4A4C-8032-A8C1878E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55F0-ED41-4E19-A880-D82D9847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C3BF-B626-4189-AD98-77D1D492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42FA-A45A-42E5-A9F4-B600FB1F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7C64-8934-40B9-8EE5-46930AF9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421F-728F-4590-830D-AD5B916E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CB31-ADF4-43D1-B4EF-052FEA84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A0E0B-7DFF-4766-A905-68011E938CF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eavens shall dec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lory of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creation b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coming of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eye shall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heart will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knee shall b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tongue conf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8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e Heavens Shall Decl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 the coming of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eavens shall dec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lory of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creation b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coming of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eye shall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heart will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knee shall b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tongue conf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 the coming of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, worthy, worth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 the coming of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0:00Z</dcterms:modified>
  <cp:revision>10</cp:revision>
  <dc:subject>The Source, song number 480</dc:subject>
  <dc:title>The Heavens Shall Declare</dc:title>
</cp:coreProperties>
</file>