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9979-2D5D-465C-B18E-ABAF999F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61CE-482A-4188-B704-21A582B6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B967-3875-41C3-8BFF-16D3CC3F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92B7-5E4F-4D31-B19A-4207E260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3524-8681-4312-BD23-1F8FE4F0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FBC4-C5FE-4FF0-8171-6E6DC26A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645D-B039-4483-801E-C66749AC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16B6-B9C4-43B2-B15E-B706488C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99A9-7D5A-4829-9C2E-A179E9DC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970A-CE0E-4A51-82D1-B88897DB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885F-A13E-4D22-A546-4288ED51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A51B-7E34-4262-948F-0107A27E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05013-EB48-4FBE-97A9-45D1F8B59E8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oly,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oly,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You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oly,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oly,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You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77   You Are H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sing Your praises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eper in lov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n Your cou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I’m close to Your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found where I be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8:13Z</dcterms:modified>
  <cp:revision>11</cp:revision>
  <dc:subject>The Source 2, song number 1077</dc:subject>
  <dc:title>You Are Holy</dc:title>
</cp:coreProperties>
</file>