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C06-89DB-4DB3-9487-25FAE368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CDE-EFA0-4804-87CE-DEA23A94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AF9-7247-4EE6-864B-FADDBD9C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467-F8BD-44C5-AC44-917805BB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141-96C7-462A-A1F0-D8591EF0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18B-0C2B-4DE6-BAE5-709F85E9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C59-0D00-47CB-845D-72E03B94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0AB-C983-4A11-9133-F8CF2A1E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D5B-3A98-471E-A465-B2C960B8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B4B-9E3B-422A-B827-94326EA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13E-5894-4F8F-97C0-07C45454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2A3-C5A3-4726-A94B-6E12DB7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38D70-5B67-4B2A-BA79-745396A9A9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Ask and you will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ever you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Pray, and I’ll hear from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heal your la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Your glory will fi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water th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 “Lift up your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arvest is here, the kingdom is her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9   You 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, “Ask and I’ll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tions to yo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at’s the cry of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stant shores and the island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ght as it rises o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I ask for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I ask for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08:40:27Z</dcterms:modified>
  <cp:revision>11</cp:revision>
  <dc:subject>The Source 2, song number 1099</dc:subject>
  <dc:title>You Said</dc:title>
</cp:coreProperties>
</file>