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963-C858-4B4E-89F6-9C01B6A3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C39-F07E-4934-8A3D-8765D4A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11D-AB22-4440-9362-6A66261F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412-106B-48F0-8C71-6088280F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D15-2856-46D6-A21B-39C2A7F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8BE-9B8C-4D52-B3B8-A283D29D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7EC-4536-485A-B8BD-7B440A3B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063-60B5-4721-8FD6-B4BD5C3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6C3-30B1-448B-87EA-2750047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7BF-BC5E-4FFA-ADB0-2DC6ACF9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93B-C642-4BAE-994A-852C3B2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8F2-2A0D-4302-A8D2-FBCDBE9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CC181-296F-4E07-92F8-653027815D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ambitions, hopes and pl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urrender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All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’s on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ll that I a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all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an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 hop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26Z</dcterms:modified>
  <cp:revision>11</cp:revision>
  <dc:subject>The Source 2, song number 825</dc:subject>
  <dc:title>Jesus, All For Jesus</dc:title>
</cp:coreProperties>
</file>