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BDD-B245-4DF4-AB56-6B4F5813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09F-E9BD-4FCE-8116-32D72168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845-0F75-4E4C-82D9-F8FA5DD8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717-DD6B-4B66-BB83-B7305665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33F-2B03-44FA-8987-AF170B9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5CF-4972-4D98-922E-7E5D14EC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F04-673E-4E9C-96B9-AA71B08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EC0-3A68-470F-96FB-37D7647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CD3-E63A-47C5-8A68-4EDF3A8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B5A-6128-4864-B8EB-5A56AAA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F46-F93D-4570-A0C1-63211FF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ADF-7F8F-463E-B13D-53B236E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7EE87-5D68-4EEF-BBE4-535E49168D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8:50Z</dcterms:modified>
  <cp:revision>12</cp:revision>
  <dc:subject>Slavic hymnal Гимны веры христиан, hymn 469</dc:subject>
  <dc:title>Иисуса глас я услыхал</dc:title>
</cp:coreProperties>
</file>