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139D-2C44-4588-93CC-B7B68760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C9A-DCD7-45D7-8F83-49531876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697-132E-480B-89FD-CB4739D4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176-006C-44B1-A9FA-E70EEEBB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ACB-92AD-48C3-9341-3B37A49C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568-1EA9-4CBF-958E-61673B23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8A70-9A3C-4575-99DA-48DBC3E9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002-0712-43AF-9E6D-75DA85F8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133-7F5E-4A73-8EE9-8F3A6D62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FF0-8738-4D11-97F8-2B25527D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35D-EBBB-486A-A0D2-99FDF520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20F-43FB-4327-934F-83557201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E5400-FC67-4A49-9A3E-B529EE7806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итель моя у потоков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там не блекнут от зн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ое царство лучей золо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совершенной, пок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душой в надежде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, где нет зла, ни стр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ы, Господь, идти за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чизну чрез тьму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битель моя у потоков жив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та сердцу дорож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я отдохну от бор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есто мне есть у Царя мо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земных иску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нчится путь, нет бури в ду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ере победу мне дал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женных толпой, как радостн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 вечную славу призвал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ей там увижу, их смерть уне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на земле разлуч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тонов и спали оковы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би там радость смен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вятом пред Господом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мы в песне воспря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гнцу, что смертью смерть побе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славу и честь не преста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8:32Z</dcterms:modified>
  <cp:revision>13</cp:revision>
  <dc:subject>Slavic hymnal Гимны веры христиан, hymn 673</dc:subject>
  <dc:title>Обитель моя у потоков живых</dc:title>
</cp:coreProperties>
</file>