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A375-B6B7-45D9-85AA-1A35B932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3B3-89C6-484D-B2D4-7ED92204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0124-F1B4-4B74-B123-CFF7103A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A525-4DDC-4A88-8B75-DE4A3E40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774F-B8CB-4B3D-9612-674DE164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6792-7704-4A10-905D-5B7B01AB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94E-ED8E-4673-A542-F0E4C715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537-AE30-462F-96C0-771EC2D1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C06-6D90-4B95-8527-C099DECB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573C-AE01-4F56-8D33-B6641833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C68E-2C54-4290-B7BC-B13B6912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ED1-29D4-47E1-BE18-D3264C77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C6AF6-0557-4D9B-9C5C-2958A81D287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ay not be on the mountain’s he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over the stormy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ay not be at the battle’s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Lord will have need of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может, не на верш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, не на вершину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дальний путь чрез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бой опасный, лицом к вра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ёшь Ты, Господь,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if by a still, small voice He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aths I do not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answer, dear Lord, with m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You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here You want me to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сли Ты тихо призов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чуждую мне троп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чу, Господь, руку взяв Тв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 я пой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here You want me to go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mountain, or plain, or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ay what You want me to say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what You want m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 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 то я скажу.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rhaps today there are lov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ch Jesus would have me spea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ay be now, in the paths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wand’rer whom I should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хочет слова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чрез меня 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ую душу с пути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к Себе при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Saviour, if You will be my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dark and rugged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voice shall echo the message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ay what You want me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веди лишь Ты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корбь, тесноту и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сть я ту чудную повтор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 то я ска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here You want me to go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mountain, or plain, or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ay what You want me to say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what You want m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 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 то я скажу.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surely somewhere a lowly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earth’s harvest fields so w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 may labour through life’s short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Jesus, the Cruc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тся где нибудь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енное мест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есть работа мне для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пятого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, trusting my all unto Your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You always love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do Your will with a heart sinc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what You want m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те Твоей предав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Ты любишь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служить буду я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go where You want me to go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’er mountain, or plain, or se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ay what You want me to say, dear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be what You want me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 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 то я скажу.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ем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04Z</dcterms:modified>
  <cp:revision>13</cp:revision>
  <dc:subject>Slavic hymnal Гимны веры христиан, hymn 556</dc:subject>
  <dc:title>It May Not Be On the Mountain’s Height (I’ll Go Where You Want Me to Go) / Быть может, не на вершину гор</dc:title>
</cp:coreProperties>
</file>