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1</a:t>
            </a:r>
            <a:r>
              <a:rPr b="1" lang="ru-RU" sz="3600" spc="-1" strike="noStrike">
                <a:solidFill>
                  <a:srgbClr val="ffffff"/>
                </a:solidFill>
                <a:latin typeface="Verdana"/>
              </a:rPr>
              <a:t>	</a:t>
            </a:r>
            <a:r>
              <a:rPr b="1" lang="ru-RU" sz="3600" spc="-1" strike="noStrike">
                <a:solidFill>
                  <a:srgbClr val="ffffff"/>
                </a:solidFill>
                <a:latin typeface="Verdana"/>
              </a:rPr>
              <a:t>Боже мой! видишь Ты</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мой! види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как тяжко я страд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ы, средства и друзья уш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Тобой в молитве простира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сцели! исцели! исцел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оже мой! Нет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Твоим благодеянья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Своей ру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би, слёзы, боль и нарекан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покой! успокой! успок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ой Господь! за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традавший на Голгоф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и воплю Твоего слу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Тебе послушным и покорн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помоги! помог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душа! Я за грех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и тщету зем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шу горечи испил до д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тебе победу Я дарую,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верна! будь верна! будь верна!»</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Господь! Дай слу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Тебе нелицемер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хоть часть любви Твоей пости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осил Тебе любовь и веру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ждый миг! каждый миг! каждый миг!</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3:45Z</dcterms:modified>
  <cp:revision>3</cp:revision>
  <dc:subject>Slavic hymnal Гимны веры христиан, hymn 141</dc:subject>
  <dc:title>Боже мой! видишь Ты</dc:title>
</cp:coreProperties>
</file>