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884-F27D-493A-A8EC-10E0FF1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31D-853A-47E9-B8BB-0902E7FB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B24-89B6-466E-AD7F-4265CA2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484-6322-4D5A-A44C-B89CDCD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1B-A7FF-4DEE-89E5-DF2BFCA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F13-6B33-4046-9F94-A0B7D59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E76-E6BC-4638-8F1D-4046C4F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625-6D73-43F7-874A-7792BCB9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5E6-B346-491E-BD38-B50B699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ABD-399A-4B8C-87AF-D43F1C4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5A9-FFA6-4309-930B-62DF9326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A85-6198-4674-A552-9E621FB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E7EC6-054D-4BC1-9827-D59B5FDDDA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,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flowers are bloo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sweet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 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lking in His footsteps till the crown b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лед за Христом хочу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цветы не вянут, где источники в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, куда б Он ни повёл, пойду за Ним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уя за Ним, не буду я в сты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with my Saviour I would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he storms are sw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dark waters f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His hand to lead me I will never, never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nger cannot fright me if my Lord is 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хочу идти всегда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ки ли бушуют, ураган ли ревёт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Его покровом ничего я не бо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я безопасен, где Господь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wn in the valley or upon the mountain st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ose beside my Saviour would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 kee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lead me safely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He has tr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p to where they gather on the hill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лед за Христом пойду чрез горы и мо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го надежда и в Нём радость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, утешитель в скорби и слез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ведёт Он в чудный дом на неб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, everywhere,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llow! follow! I would follow Jes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 He leads me I would follow 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6576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етний зной, в тьме ноч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лько бы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мело всюду за Христом пойду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сё знает, Он ведёт путём Св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2:46Z</dcterms:modified>
  <cp:revision>12</cp:revision>
  <dc:subject>Slavic hymnal Гимны веры христиан, hymn 842</dc:subject>
  <dc:title>Follow On / Вслед за Христом хочу идти</dc:title>
</cp:coreProperties>
</file>