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8508-B389-420D-88C1-7AF339E9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B11A-8D91-4F75-8D80-9EB37B34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A396-3318-4C82-881F-90443151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634-E30C-4574-9E33-A22FE033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3E91-79BB-4129-9FB1-B5DBF574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0288-1916-472C-B2B2-881BBC68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D83A-CFED-434C-B2C2-A8572432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87AE-D03C-4860-ACF3-7FA3644D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109B-9A51-42FA-B349-768D1EC6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C48F-64E5-4845-9B01-EAF2A9EC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B062-E671-45D8-81DB-D98E9840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6BEA-D1AD-4A9D-AC31-B3EF2836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CBA6A-75BA-4ADB-AE97-36EADDCDE2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salvation b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death on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souls of people c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gladly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 Евангельскую ве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Евангельскую ве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а мы пост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я Его приме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вперёд, вперёд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ercely, on the battle rag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grows dim—the end seems nig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attle of the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 keep Thy banner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рок бой и страшно пл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леблются м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ымите выше зн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 world of cold in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from Thee turn a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 to reveal the differ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e for Thee, what e’er bet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жизни равнодуш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пренебреж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им единодуш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Его святой зак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Fortress Faith,” as Zion’s daugh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, Jesus, to protec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 give our foes no quar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worldly lures re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ость веры, дщерь Сио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дружно защищ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ружьем Геде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жью силу отраж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e fam’ly undivi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y people of desti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hearts by Thee uni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e will follow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й, радостной сем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дин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сердцем и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us in our oblig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faithful to the 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e bound’ries of Thy King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pow’r we may ext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г правды, труд сур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мело совер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шатры любви Христ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в мире расшир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54Z</dcterms:modified>
  <cp:revision>13</cp:revision>
  <dc:subject>Slavic hymnal Гимны веры христиан, hymn 490</dc:subject>
  <dc:title>Tidings of Salvation Bringing / За Евангельскую веру</dc:title>
</cp:coreProperties>
</file>