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60F-C66D-4008-922D-DAD4518E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B40-09B8-4D30-B014-978D2F17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3386-37C6-457D-B110-F5C9D3F2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5FD-8B43-415D-8F50-5EE922C7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201-BABC-46EF-A8A8-778890FA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809-8A1F-4CC7-AAEB-269C803E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2A9-2175-4799-A136-83698AE4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AD4-8499-4B38-9AFC-8987844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328-2D93-4FB5-B144-EBCFC338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5DA-23A4-4FC6-B69E-2BFEED2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228-1B11-4AB9-91D5-BBAF3C3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9ED-856B-4FDB-AFDD-09D7B71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A0384-4673-414E-A5C6-781434105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учейку спешит ол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я стремлюсь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ову жизн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печальный утеш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хожу я в книге кн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отрадный по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ёт любим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тропинкою лес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га побеж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, души нед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ердце услаж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ю усталый ду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смело отр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ра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исуса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пасённый Им сл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путь я ос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он во тьме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ля сердца облегч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шу скорби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ня Господне слов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вечного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слитка золо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е клада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18Z</dcterms:modified>
  <cp:revision>12</cp:revision>
  <dc:subject>Slavic hymnal Гимны веры христиан, hymn 492</dc:subject>
  <dc:title>Как тропинкою лесною</dc:title>
</cp:coreProperties>
</file>