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613E-8313-4212-B87B-746E4CF1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0649-B4CB-4B64-874C-C7303136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3ACB-D18C-4F14-BFFB-3C37698A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484F-6D3A-4C1F-92E6-A882E21D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E17C-D38A-401A-A6F3-E9930FEA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BF8D-9EA9-4A29-B1D9-2B45A1E0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B0BF-FC3F-4A0A-9137-62870ED2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4D8D-BD6D-4591-92C9-903AABD2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88CF-759F-4220-B005-C478E74B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7539-DF85-41FE-8C0D-B49D293B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B8A5-6E47-4049-B99E-399FB2BD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FF00-FC57-476C-B686-5E8E6664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1FF25-4894-4C44-A9D5-96F83A2601F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make me lie down in green pastur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make me wanting for noth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fill my hu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honey from Your sweet, sweet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et me worship befor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can love and adore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hephe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Jesus, You are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71   You Make Me Lie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5:48Z</dcterms:modified>
  <cp:revision>11</cp:revision>
  <dc:subject>The Source 3, song number 1671</dc:subject>
  <dc:title>You Make Me Lie Down in Green Pastures</dc:title>
</cp:coreProperties>
</file>