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AC8-EDA9-44C3-8830-54F7E6F9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437-E14D-4D18-9EDA-769653D1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3B8-78C3-4A22-9FF3-0A6B07D6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A68-22E2-40B5-A347-356BEDA5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5A7-C212-4BCC-A5D1-5C6F7DCA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E82-B2AC-437F-A224-D674B9AC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75F-270F-4084-8A97-2B1CDE1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919-3257-46BC-A1A7-E519180A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8E5-7D65-42E8-988D-89711AC0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1B4-9A3F-4AFD-8C08-C4D279A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6F4-4A8B-4548-A498-1279E1E7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CA3-51C4-4BBD-B565-B35D7193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A10C1-3677-4E16-B691-10E59D52CE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 и пой, пусть льётся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ой пламенной ре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згласи освобожд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ённым жизненной тюрь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традальцу ут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щай усталому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о Божье ― исц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корбящему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стань и п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м в сумрак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лодушным пред бор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и надежду на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у в голос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во все концы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, кто мыслит, всем ж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ты с песней вдохн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 любви, грядущий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13Z</dcterms:modified>
  <cp:revision>12</cp:revision>
  <dc:subject>Slavic hymnal Гимны веры христиан, hymn 466</dc:subject>
  <dc:title>Восстань и пой</dc:title>
</cp:coreProperties>
</file>