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BEE-E97A-4F9B-B911-8B3C1A8D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FE2-B4F2-4E8B-9E60-5FC31CE3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213-2F84-4C68-90A9-098E499F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529-0F99-40CF-B25D-39BEE26F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01EB-D153-4C00-AB78-06EA14F0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909-74D9-4A70-93A2-7BE4E542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2B6-22BD-4429-B134-380792DD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632-3015-4377-B4F8-F020C176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379-3C12-42EF-B62D-31BA8E0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5DF-BB26-4FF6-ADC0-E5A058BD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E42-F223-45C2-9968-C4EC34A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270-D267-4035-AD12-E5EC5EF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4ADF6-7959-4285-998B-76443ACFE9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greater by 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ny love that I have ever kn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has captured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91  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will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no safe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close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will never grow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sing with You and I s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has never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reater love than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sacrifice, no greater g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just keep loving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ho could ask for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that seek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s and keeps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, no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place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’t reac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to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never e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 reache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surrounded by Your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minded of Your mercy 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reaches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4:54Z</dcterms:modified>
  <cp:revision>12</cp:revision>
  <dc:subject>The Source 4, song number 2191</dc:subject>
  <dc:title>Your Love</dc:title>
</cp:coreProperties>
</file>