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C59-90C9-4053-8950-744AE89B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7BF-45AE-4E5B-9B01-F176C810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891-B6CA-47B1-BAA6-C3AB3CBD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D61-974C-4347-9EE5-A7B98666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A2D-534A-4CDF-947E-72D730F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CF9-5991-40B1-BF69-69B5C5D5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3CE-6D44-4302-BBFF-0116EAB8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391-BF7A-4387-BA91-903118E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18D-3967-424B-AF7C-677349D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A12-7FDE-4560-A366-C43BFA2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7EC-BE2D-4F40-9B36-FEA5A4EA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F0C-FAEF-44A3-849C-D75AEF05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9A2B1-913E-43A2-BA3C-2EE7A86E87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re going to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’ve promis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You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ll that has carried me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8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or All That You’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l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ting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g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just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atefully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25Z</dcterms:modified>
  <cp:revision>10</cp:revision>
  <dc:subject>The Source, song number 108</dc:subject>
  <dc:title>For All That You’ve Done (Thank You, Lord)</dc:title>
</cp:coreProperties>
</file>