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C35-5A6E-4D64-8DA1-27EEEF59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773-1127-4041-A30D-37A9D161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D71-3F77-4D65-944F-605EE5A8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FD6-D752-409F-9CCB-F9A48E4D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E1C-8F1A-4910-9EBF-E6C3FF0D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3BD-4F42-4FCC-A53D-6DA555E7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E47-E65E-47C7-8BF6-5FBC1FC3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13D-19D3-4B12-A2F6-2F250B71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8CF-5C8E-431E-9848-E9BEB3F5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7FC-649C-4074-B7D5-925B6F9F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B46-9E9A-47EB-B47D-E10958DC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C02-AAE8-456C-888E-EE1DFED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2BF21-2B4A-4F9E-8CC0-D472C2FD02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престанно п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мудрость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лишь об од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и учить и п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жизнь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всяк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музыки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усталым тиш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от о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всякую в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ая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Him, ye deaf, His praise, ye du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osened tongue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blind, behold your Saviour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p, ye lame, for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ой, внимай! Немой, хва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тесь все у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пой, прозри и сла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у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29Z</dcterms:modified>
  <cp:revision>12</cp:revision>
  <dc:subject>Slavic hymnal Гимны веры христиан, hymn 872</dc:subject>
  <dc:title>O for a Thousand Tongues to Sing / О, если б сотни уст иметь</dc:title>
</cp:coreProperties>
</file>