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F4C-50B8-4E88-8133-7B160DDD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AFE-A067-41F5-B1A7-08E7D89D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F99-33E5-4078-81D8-A1AFCE60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580-B0B1-4969-B25A-5C68B2A4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661-1B30-4301-94E5-46C4E98E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A91-61CB-4088-8508-41A30419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E8E-E6AB-4231-B00A-4AAE033B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329-2588-478F-9CE5-5971846F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D72-446A-4BE9-AB7E-6317F04C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85B-C2B3-423B-9A6B-8BDEB8AC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815-56F5-4F64-B46F-5111F35D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669-7046-4315-913B-467413A5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FB051-00B8-43B5-902F-7B8A0BD09C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ye pure in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, and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festal banner wav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of Christ y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двластны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angel choi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saints of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 out the strains of joy and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rapture, noblest m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ввер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на земл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восторженн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ются в хва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 youth and snow-crowned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men and maidens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high your free, exultant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ndrous praises sp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росток и стар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ица и силач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как наш Бог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ает пл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on through life’s long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chanting as y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youth to age, by night and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ladness and in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нья ро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ть и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юности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статке и в ну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(rejoice), rejoice (rejoic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ликуй (лику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и пой псал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on, ye pure in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give thanks and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ious banner wav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of Christ y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Христов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ветом меж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о знамя подн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тремись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3:14Z</dcterms:modified>
  <cp:revision>12</cp:revision>
  <dc:subject>Slavic hymnal Гимны веры христиан, hymn 888</dc:subject>
  <dc:title>Rejoice, Ye Pure in Heart / Ликуй, Христов народ!</dc:title>
</cp:coreProperties>
</file>