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9885-AE2B-4318-A947-1D48E514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A28-ECC9-4004-B800-BF24EFE0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E0E-3322-4D4C-B2CA-A3E6B463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1180-8958-41A3-8165-5810B82B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88C-91AB-4CC2-BE46-900E94B0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8A4-82EC-4669-8E34-D2B54B05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3638-A447-436D-92FF-1C7B9B92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D0B-0383-4035-A939-90783974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51E-5590-41BE-828F-9B6B0351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8D4-1452-44E7-80EF-62C9DF55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3AA-EB3E-40F2-87B5-13A3413D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894E-DE0B-4C0D-8CF5-F9CE5E7B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0A95F-1E1E-4561-BF91-592E2DB9C4D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Господне с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ннею зарё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и в знойный пол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ясь жа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ст жатвы врем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а урож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й Господне с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на солнцепё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в тенистом м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напрасны буд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сти тру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Господней в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придёт чуд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лачем отправляя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оля Христо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ом ободрим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там не о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чатся ры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увидим нов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несём снопы, понесём сно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адостью великой понесём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7T00:12:00Z</dcterms:modified>
  <cp:revision>13</cp:revision>
  <dc:subject>Slavic hymnal Гимны веры христиан, hymn 540</dc:subject>
  <dc:title>Сей Господне семя</dc:title>
</cp:coreProperties>
</file>