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4EF-CD50-42CB-B8FB-B3FEB85D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DC5-C243-4258-9023-4E50DB80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54D-977D-4D65-937E-D68F48B1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7A1-B383-4EE5-8790-E25511A5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CDA-25EB-4169-B24D-BE90ED4B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499-1128-41EE-B7E2-C54AE87B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F97-E4DD-42AE-B23B-7028E0BF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E2C-AD07-4C6E-B321-4BC4AF98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54D-88AA-48E4-8BDB-65CF8BBA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FDD-AA0E-4FD8-A657-56CCD3F6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FEE-6947-4EA8-B166-DF90257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9AD0-CB67-48D4-A692-ED7EEFEC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CAFA0-FF11-4EFD-AA42-C714A9B0F2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Боже, Тобой я из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Твой тернистый,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же людьми я, не знавш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бирь за любовь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ёлые цепи на ноги од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свой звон по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чудны и дивны слов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авду я должен тер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Боже, мой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жу за решёткой, так тяжко и бо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мыслях моих лишь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ди забыли великого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т законов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юди, вы — братья, познайте же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законы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ужья, и пушки, и все пулемё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перекуйте вы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ужны нам гордости, мести оруж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ужны плуги да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ышли на нивы Христовы вс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полагали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ивы Христовы давно уж пос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до нам Бога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ыслал жнецов на поля и на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ать, собирать и 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00Z</dcterms:modified>
  <cp:revision>13</cp:revision>
  <dc:subject>Slavic hymnal Гимны веры христиан, hymn 517</dc:subject>
  <dc:title>О Боже, мой Боже, Тобой я избранный</dc:title>
</cp:coreProperties>
</file>