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33D-09BF-4D90-A93B-032D6A1D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C08-A246-4A7C-B5AE-1FE3C59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550-6060-47E2-833B-3033E14F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E5F-A523-426F-AFCD-1FD4B728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145-29B8-442F-86F3-98B1307D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499-1EFF-43C7-B3AB-D8DECFE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D0E-C93B-4B14-8660-2B1E47B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D0BF-D509-4F3D-9477-4A46A927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6D1-78F4-440E-A4BD-F12ECD29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85C-1C29-49DE-B88C-416F221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D05-333E-4DA8-9182-36B7D18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A14-AED4-47ED-96ED-57BB7DB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7751-04C8-47BA-84B6-6BF84C4440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яслям бедным прибежали паст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Младенцем ликовали, как мог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яслям бедным прибеж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 светлый их на поле посе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ждённом в Вифлееме возве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ь Жизнедавцу всей з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чистым Богу славу возне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лся в Том Младенце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родился, чтоб избавить все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 вышних Бог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мир Бог да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7:53Z</dcterms:modified>
  <cp:revision>13</cp:revision>
  <dc:subject>Slavic hymnal Гимны веры христиан, hymn 234</dc:subject>
  <dc:title>К яслям бедным прибежали пастухи</dc:title>
</cp:coreProperties>
</file>