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545-468C-4D94-9D9D-E3EC187C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C99-9C13-483B-8A55-9B5F144B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D0E-90EE-4A70-ACB1-C326D723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D38-1A2F-48AD-90CC-259B9388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147-95D0-48D5-AF69-136C9250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85A-9730-4ADF-AB47-5D8ECF88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440-B4BA-4F26-9482-470B7BD2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B36-B46F-4DD1-8EBE-18C11AC8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47B-6310-4B9A-9D9D-CDF66407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6BC-008D-4326-90BF-AD65FFEB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38F-BCC8-4547-8503-EAE9E38F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5CB-C2A0-4241-B59C-ABF6E27C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0E1FC-A09C-4A29-AC55-18A1466B62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storms of life are ra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mpests wild on sea and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eek a place of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God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ть и буря жизни сто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и буря жизни с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яют мн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даже всё пото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ит рука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emies may strive to inj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 all his arts emplo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turn what seems to harm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everlasting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раг меня пу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ибелью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 меня сп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зла меня хран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He may send some afflic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ut make me long for ho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n love and not in 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His chastenings will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ли мне Он испыт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благо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утит меня стра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, while here the cross I’m be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eting storms and billows w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for my soul is ca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can harm His Father’s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розят мне горе, бе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моя ск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ржу я с Ним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олками тьмы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He will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no harm can e’er bet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hide me, safely h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hadow of Hi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еня Ты охраня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Твоей рукой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бовью окруж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0Z</dcterms:modified>
  <cp:revision>13</cp:revision>
  <dc:subject>Slavic hymnal Гимны веры христиан, hymn 619</dc:subject>
  <dc:title>He Will Hide Me / Хоть и буря жизни стонет</dc:title>
</cp:coreProperties>
</file>