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995-A2CD-4CC8-8DCD-AC22114C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142B-BB20-4C32-9F85-291BA895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B68-CE67-41CB-9C37-B23AC983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DC5-BAFA-4B52-8DFA-F8E5DD2B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C71-7111-4F31-88DA-B5FA74F3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C93-95B3-48BE-B16E-EE2E3BDF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01B-CDDB-483B-8F0B-EABE7DB6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CC1-6C1F-445C-A3BE-483DF14E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2BD-514F-49EB-9706-73FD55C8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D13-53E5-4AAE-B344-5D60E3A5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C34-0A61-41E6-97F6-ACC6E1E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4E3-9EF1-4FF5-B498-B8B656BA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17FA4-2160-4B39-9920-8B2FEA0D79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pow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k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created th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1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выше с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цар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земных богат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is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 ways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er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fore the world b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мудр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путей людск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дыка все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kingdo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thr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has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сол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х пл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всех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ие видел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reasur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’s no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easure what You’re w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небом и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ее, чем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ruc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id behind the ston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ved to d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ected and al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нёс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распят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етий день воскр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r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ampled on the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the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ought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оптанный в п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же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ё прост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ыше вс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 2, Kevin Mayhew: Buxhall, Suffolk, England, 2001.  ISBN 9781840037241.
</dc:description>
  <cp:keywords>lyrics words praise worship songs</cp:keywords>
  <dc:language>en-US</dc:language>
  <cp:lastModifiedBy>John Zaitseff</cp:lastModifiedBy>
  <dcterms:modified xsi:type="dcterms:W3CDTF">2011-02-01T14:51:02Z</dcterms:modified>
  <cp:revision>11</cp:revision>
  <dc:subject>The Source 2, song number 611 in Russian</dc:subject>
  <dc:title>Превыше силы, превыше царств / Above All</dc:title>
</cp:coreProperties>
</file>