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4CA-89B4-469A-BCC9-040EB53E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42E3-274B-4F0C-9EA1-AAA9470D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DDA-9E03-43F8-91A9-34E8500D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E120-2A90-4694-8FE6-F87190AB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B51-4AC9-474F-8C9C-66294BB6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8D3-EE25-4751-BF21-586E3870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B75-089E-4FAA-B233-4A1432DB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8F7-0CE6-41E0-B9ED-614CE24E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169-FC02-4575-B074-48BA272B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EDE-606C-426A-92C6-599B7B37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109-5A95-43C0-97CD-C431D07C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A60-3634-436B-AD7C-B7A8541B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EEC18-F940-48F1-B39B-C12C7CC4BF8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регов далёких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даётся зов всем н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, придите на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у в истине служи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 берегов далёких ст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ог живой неведом н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жим мы земным бог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свет про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тьмы освободить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друг! Вот призыв т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асеньи вопи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илён и ты здо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откликнись же на з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же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правьтесь за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 открыть любовь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держителя Твор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, пойдём скор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людям тёмным в край 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естить им путь спас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ощай, мой дом род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9:43Z</dcterms:modified>
  <cp:revision>12</cp:revision>
  <dc:subject>Slavic hymnal Гимны веры христиан, hymn 538</dc:subject>
  <dc:title>С берегов далёких стран</dc:title>
</cp:coreProperties>
</file>