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CBA-182A-4A78-9781-23D16C6E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AC8-F71C-4517-A8CC-1D45D317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AF9-7DB2-4026-878E-3DCC138C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52E-3047-402B-AE40-5578DE58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7A0-9408-474B-BB11-D623FC71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BEA-8685-4F79-BDE1-F3703118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C22C-2CF6-4640-B1AB-1456BB73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9B2-59C3-44FD-A628-D18ED898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0C1-70DB-4A85-99D3-84903E43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FEF-DBC2-47B3-B077-A0624E89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048-44DD-4C55-82D6-E5C93641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C778-DD8D-48EA-8BDE-A4AABBC7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D0754-CE3B-4841-BA43-54E2837209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 fields are tee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waves of ripened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ir gold i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sunny slope and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а   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видит им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колосья золо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 усердного жн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forth with morn’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in the noontide’s gl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’s last rays are gl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them gather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ойный полдень вышли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к вечеру на н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ать жнец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m thy Lord is s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now the sheaves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ward then at evening w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come with joy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труженик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и ячмень, пшеницу, рож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кончится, на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вечную во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9Z</dcterms:modified>
  <cp:revision>13</cp:revision>
  <dc:subject>Slavic hymnal Гимны веры христиан, hymn 784 (as amended)</dc:subject>
  <dc:title>Far and Near the Fields Are Teeming / Здесь и там поля белеют</dc:title>
</cp:coreProperties>
</file>