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05B3-0864-4456-9801-7D2530AEB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3511-78AB-4236-BC15-289949AB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BC07-3226-4901-9771-57AABDFDC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1D44-989B-44BC-9519-C741BEA27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3277-22C5-4950-A606-69E63BC6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21FA-54CB-41A0-B400-2C98E79A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FCDA-4B3A-4C3C-8587-8E5C2F45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C7F7-7F03-4DB3-AEE0-06F1E42B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07B6-3085-48D3-BA94-BF71E4E2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D8AA-1E2C-4CAC-8AB2-D0F31C8F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1681-027C-407E-BCF8-5F666FBD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4856-19DC-4877-90C5-55B8F7E1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FB92E-83A8-4313-ADDA-1E83E1951DE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the light of Your love is shin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midst of the darkness, shin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Light of the World, shine upon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us free by the truth You now bring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 on me, shine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3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Lord, the Light of Your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, Jesus, 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this land with the Father’s glo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aze, Spirit, blaz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our hearts on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ow, river,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ood the nations with grace and merc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nd forth Your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and let there be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come to Your awesome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shadows into Your radian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blood I may enter Your bright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arch me, try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nsume all my dark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 on me, shine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, Jesus, 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this land with the Father’s glo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aze, Spirit, blaz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our hearts on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ow, river,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ood the nations with grace and merc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nd forth Your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and let there be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gaze on Your kingly bright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our faces display Your like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 changing from glory to glo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irrored here may our lives tell Your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 on me, shine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, Jesus, 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this land with the Father’s glo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aze, Spirit, blaz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our hearts on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ow, river,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ood the nations with grace and merc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nd forth Your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and let there be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4-06-04T06:03:44Z</dcterms:modified>
  <cp:revision>12</cp:revision>
  <dc:subject>The Source, song number 335</dc:subject>
  <dc:title>Lord, the Light of Your Love (Shine, Jesus, Shine)</dc:title>
</cp:coreProperties>
</file>