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6E9-C2AB-4FCB-9BA3-C260E2C6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ABA-34EF-4972-8EE4-1D3CCD29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9F8-3B06-4719-88EF-F976FBA5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9DF-3849-4FC3-853B-59253350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B76-DECC-495C-A01D-2D90DE3A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376-04B2-49A7-83F9-11D9B20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056-15C2-40A9-89C1-6040E232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60B-4801-48D9-BBEF-81D8DAB5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AEB-3A1D-4619-A6A5-61832537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24D-FF09-4700-B970-96627F4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E27-B83A-4FD4-8645-F69BF0D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CF-CC97-4EA4-8B66-C93DFDD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5B780-96CC-49CC-A8F1-EED2ED2B80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39Z</dcterms:modified>
  <cp:revision>12</cp:revision>
  <dc:subject>Slavic hymnal Гимны веры христиан, Ukrainian hymn 106</dc:subject>
  <dc:title>God Is So Good / Бог добрий є!</dc:title>
</cp:coreProperties>
</file>