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719A-5515-48FD-8F5C-8FEEF08E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A435-5B4B-44FF-93F2-48422968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D615-C0AF-4E48-AE4D-830A4017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D8F7-AEBD-48D6-930F-28BC4C97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08F-F71F-45D0-9EE2-AB3EDB9A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349A-9454-4E99-B75B-47557217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B6CA-C0E4-459A-9935-A269A0EA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CD5C-189B-4187-9046-E429CC5A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67D-5642-4B37-8332-4E4B2DFD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A41C-46C5-4AF0-96B7-B620F9AC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17F9-850F-4E45-A7DF-422AAFE0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B406-322F-4BE4-809A-3896FD62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A2E42-E791-428A-B826-52E015B4333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ови Христа на помощ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грешный челов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тебе Он мир и рад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ибнешь ты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зови Христа на помощ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призови Хрис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итя зовёт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искушений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проси сил у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о имя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ляет нам серд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радости и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даёт Его р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2:57Z</dcterms:modified>
  <cp:revision>12</cp:revision>
  <dc:subject>Slavic hymnal Гимны веры христиан, hymn 713</dc:subject>
  <dc:title>Призови Христа на помощь</dc:title>
</cp:coreProperties>
</file>