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814-66F4-4C72-9A61-51594F5E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3FA-77D0-4F9E-A271-C62949C8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04C-A198-4D3B-A417-94C99C48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2BF-67C0-4589-B129-A62F7E87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FE8-D5BB-47A9-AFA2-99D64980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805-C6C2-4BCD-8C74-49532400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1B9-4F4B-40F5-B57B-19750D99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83F-F723-4151-9766-917102DA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9F8-A605-4ED1-8F53-6BCA03A1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A27-7D94-468C-AD6B-07C8C90D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468-CC53-4447-A559-00C804E0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536-4F32-4F6E-B163-20B35382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8D99C-C283-437C-9B98-45BCC2BAD0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ternal Father, strong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se arm hath bound the restless w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id’st the mighty ocean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own appointed limits kee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ержись промыслом свят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рощаешь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послушен оке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ывущих по морю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! Whose voice the waters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ushed their raging at Thy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alkedst on the foaming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lm amidst its rage didst slee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Ты ― Бог долин и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оторые бег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 наши с давних п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егчают всякий труд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щих, едущ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st Holy Spirit! Who didst br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haos dark and r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id its angry tumult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, for wild confusion, pe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Ты над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лубь, крылья прост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вет не гаснет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удрость избранным давал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ear us when we cry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in peril o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деснице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ящих в воздухе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inity of love and pow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fam’ly shield in danger’s h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rock and tempest, fire and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tect us wheresoev’r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жизнь и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людей от вся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им разума и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радостно спеш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evermore shall rise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 hymns of praise from land an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з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, в воздухе,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4:30Z</dcterms:modified>
  <cp:revision>12</cp:revision>
  <dc:subject>Slavic hymnal Гимны веры христиан, hymn 875</dc:subject>
  <dc:title>Eternal Father, Strong to Save / Отец Небесный, только Ты</dc:title>
</cp:coreProperties>
</file>