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CED-63FA-41C1-947F-9858EB28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4BA-998F-4084-A055-13F250C5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351-9C6A-4BE8-B640-E43228ED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C0A-F952-48DF-B878-C86CC5A4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B14-CB55-4AC4-BEF2-8CB39EE0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627-ADAB-4F01-9B53-BD7695FD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09C-ACE0-4D9C-9476-567594E7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494-C33F-4706-977A-99FD5055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CC0-E19A-4270-8DD7-919E8A6E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72B-FDD5-4CC7-A0E0-F0250C8E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54A6-1E2E-4AA7-B4C0-585D7171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2B4-B9B5-4025-96C1-CEBF4FE8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699EC-8ABB-42F2-9BDB-0846CC5C5F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words long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our walk in thi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resound with God’s own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267   Есть святы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святые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ранит мир в ве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Бога звуч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любви нам 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ords of life, words of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us strength, help us cop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where’er we ro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cient words will guide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 жизни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адежду д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ют на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й дом к Отцу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cient words, ever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nging me, changing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come with ope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вучат т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да и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вая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ры в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words of our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nded down to this 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me to us through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eed the faithful words of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ют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 жертв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мыт от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ерит в Госп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words long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our walk in this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resound with God’s own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 святые с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ранит мир в ве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Бога звуч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любви нам 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cient words, ever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anging me, changing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ave come with open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let the ancient words im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вучат т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да и 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вая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ры в Господ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4-06-04T09:09:05Z</dcterms:modified>
  <cp:revision>11</cp:revision>
  <dc:subject>The Source 3, song number 1267 in Russian</dc:subject>
  <dc:title>Есть святые слова / Holy Words Long Preserved (Ancient Words)</dc:title>
</cp:coreProperties>
</file>