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D8C-DD6D-498F-BA8E-292E57CE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1C4-E2B5-4858-99B6-3575AFD4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86B-3828-4F3F-A817-CE2D105B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3E3-EE6A-44C0-A243-85BA178E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CE4-3A3C-442C-9638-E384B1AB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F2A-8051-4259-9C75-B05715EA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096-44C2-443A-8C93-5494A53D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E7B-8CC8-4B9D-946F-1F53AF1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100-B1C9-4BCA-9BC8-E7DC3140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323-177A-4D70-8478-BD19B1DE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35C-A711-47B0-8642-61C60835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402-52B3-4948-93F7-DC37BBD4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B4420-F450-4336-9688-1D00809BEA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рвётся жизни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ая смолкнет пес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 буду там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ах горних я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порвётся жизни 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азрушится се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ещё не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ю, в небе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о место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станет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земной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уст Христа приняв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 покой Его в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веры пуст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бодрствовать и ж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верным со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истова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04Z</dcterms:modified>
  <cp:revision>12</cp:revision>
  <dc:subject>Slavic hymnal Гимны веры христиан, hymn 693</dc:subject>
  <dc:title>Когда порвётся жизни нить</dc:title>
</cp:coreProperties>
</file>