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3D3-9C1F-4830-B724-047CFC5D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24F-B409-49C2-B2E4-72E7C75B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B71-5A64-46AF-81D2-76DE11E2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F2E-62A3-4942-94B4-AC7DB221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6A4-F49E-4B6D-AD86-2FDDF9F3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371-7796-4925-83D5-E53ED27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1B5-FD1A-40D0-9154-646A117A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62B-DA1A-4E9F-911C-5EFF1F1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618-89A5-48E9-BF29-9C4F4B27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C6F-0FEB-4FDB-ACC4-2C08977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F20-0818-49BE-A1A7-36EB87B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861-D90C-4060-BD35-6531F6EA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DC8F4-B0B2-4989-9C4A-522D4C80A18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the shadows are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gh seems the path to the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, sometimes how the sw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empests down over the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вает, сгущается т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сгущается т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ым становится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корби души и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амень, ложатся на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metimes how long seems the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metimes how weary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iling in life’s dust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ock’s blessed shadow,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вает: так тян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ло и кости бол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ует душу и вз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лы благодатная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near to the Rock let me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blessings or sorrows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climbing the mountain wa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ing the shadowy v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к небесной С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адость и скорби м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хожу ль на высоты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ду ль одиноко во мг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n to the Rock let me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Rock that is higher than 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пре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б я хотел улет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ы Творца м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29Z</dcterms:modified>
  <cp:revision>12</cp:revision>
  <dc:subject>Slavic hymnal Гимны веры христиан, hymn 844</dc:subject>
  <dc:title>The Rock That Is Higher Than I / Бывает, сгущается тьма</dc:title>
</cp:coreProperties>
</file>