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D79-572F-419D-ADDD-776C18CC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26A-1B43-4330-B91F-674C4A04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91B-C48C-4C06-89F1-FA3AA20C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6A1-80B6-482B-85EC-63E1FCA4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5A2-156A-43A8-A678-7C927342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95B-BFEA-46A2-9F53-723DCBAE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C9B-19D9-40B6-B885-23C04C34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1C0-F239-4166-8DF2-7406D4F5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531-3B72-41D6-B83A-D800FBD4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A33-509B-405E-B31E-0BB4143A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6DF-CEEC-43EB-990C-D6D0189B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E1D-5E0E-4BE2-8F82-23B1B3BC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30C2B-FCAF-446D-8A96-AB2CBE1347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мой Пастырь, я ни в 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у знать нуж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лачных пажитях па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близи живой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крепляет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 путь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мне любовь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ра и до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— мой Пасты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ли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боюся з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ю Ты; рука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з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готовил пищу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ду моих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ил на голову 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клад Свои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любовь и 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т за мною в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ме Божьем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у в неб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3:46Z</dcterms:modified>
  <cp:revision>12</cp:revision>
  <dc:subject>Slavic hymnal Гимны веры христиан, hymn 834</dc:subject>
  <dc:title>Господь — мой Пастырь</dc:title>
</cp:coreProperties>
</file>