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3388-3663-4FEB-AE2E-E7FFFDB0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FFA-A469-4F69-B7BE-1BEE8444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2CE-A4B0-4011-85A1-B8219B74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C55-2690-4A64-9C83-14B13B14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B13-2EE5-43ED-B7BA-0121A3A9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EC5-ADD8-41E0-8554-F7043126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7E6-896F-4F81-A8F8-0835765E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ADE-C622-42B0-BF9E-02E3AD51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AA5-B6CF-42D1-92C3-39EAC971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A12-39A5-460B-BD1A-48D496A1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925-C49F-47E5-9637-16D924BF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4829-2CCC-45B1-B957-948B23D6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A2B9E-EEFD-4255-980C-C25C519ED9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е ввійди, в серце вві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, наш Господь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 тепер, відкрив я дв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и, наш Господь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9   В серце ввій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45Z</dcterms:modified>
  <cp:revision>12</cp:revision>
  <dc:subject>Slavic hymnal Гимны веры христиан, Ukrainian hymn 109</dc:subject>
  <dc:title>В серце ввійди</dc:title>
</cp:coreProperties>
</file>