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FD96-529A-40C0-BD1F-678A25E4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1E83-0EEC-4552-BA68-9CE7B963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5091-2290-4640-8DAF-1B7618B0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81BF-9EDA-47E3-AE13-D636CFF0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15A2-D29C-4E8B-A87D-AB254B99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89D4-2A95-4436-9194-31E82831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EA7-6CF0-4438-9D62-86C12EAF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74E-0468-42C8-8090-68438594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8D21-EA35-4500-93DB-A3588637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26C1-9D77-4A9D-9F3B-C67BCA09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7F46-63BE-4848-A6E8-703CE737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4FD-3EA1-4C78-A716-95045ED6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A10D6-6980-4FA1-A3E9-590761C258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победить, о желаешь ли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сила в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 свободу Христову в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х побед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шь ли гор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сть умерт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Христос весь твой грех уд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шь ли снега белее ты бы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Иисуса всё может ом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очешь ли верно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сила в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, устами Иисуса хва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1:40Z</dcterms:modified>
  <cp:revision>12</cp:revision>
  <dc:subject>Slavic hymnal Гимны веры христиан, hymn 416</dc:subject>
  <dc:title>Грех победить, о, желаешь ли ты?</dc:title>
</cp:coreProperties>
</file>