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E81-DFD6-4499-8427-A865B935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B25-EC50-4F50-AEE1-B8114677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E6D-823F-4141-9DAE-8D1C0B73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EEC-D34B-494E-B114-6AADBAB9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267-40DE-4262-9DFD-422040C7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88A-D415-4A43-B1B1-6BAE1827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A55-69C5-42FD-A671-137F58AD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24B-EBA7-4EDC-B519-797D3BD8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391-6810-4D51-9A5D-BD875F9B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B42-A21B-4F2A-9B09-4ECC4AB3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ED6-FB09-4930-AC3C-5B72B44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77B-950C-4FD7-94C8-04723590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11DCF-07FA-4731-8BD8-88AC51F299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3   О, благай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лагай Христа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м часом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е будь байду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спі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 пок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итя Його пр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Він тебе безм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загибелі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t thrills our souls with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loving arms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songs our tongues empl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ерце утіш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 ім’я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лиш підкріп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е від зл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будуть зустрі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го Царя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 будуть прославл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ворця святи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5:49Z</dcterms:modified>
  <cp:revision>15</cp:revision>
  <dc:subject>Slavic hymnal Гимны веры христиан, Ukrainian hymn 13</dc:subject>
  <dc:title>Take the Name of Jesus With You (Precious Name) / О, благай Христа, мій друже</dc:title>
</cp:coreProperties>
</file>