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CF4F-9AB1-4D98-9AB4-97EEFDF1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248B-F2FA-4B9B-8FA2-E071E3B5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6596-9C40-4468-9998-818B9C95D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00F0-F6D6-4F20-AD65-72411C7B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E993-B98E-4523-BA15-14682779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C11F-A74E-444E-A706-4CEFA660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E380-332B-442F-904C-C53EFF41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E907-4FE7-4D22-B383-201CFE31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3282-E8DB-41B1-94B7-4420590A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71B2-002E-4B38-91D3-63B6C066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5F43-2272-4B73-AAD4-EE8A902A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E7E1-FE7A-41D2-B101-B96601BE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24F4A-FAE3-4690-8B6A-7ED08431CD5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йте вы, все свят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и рвутся силы зл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светильники поправь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я встречай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! Вот, Он 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, идёт со сла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могучею держа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! Да, Он 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дрствуйте вы, все свят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щание Христ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торяется всем сн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ссон белый, венец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Своим сей Царь держа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! Вот, Он 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, идёт со сла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могучею держа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! Да, Он 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а мира упад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все силы пропад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 землю посе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прийти к нам обещ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! Вот, Он 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, идёт со сла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могучею держа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! Да, Он 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и! Христос в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одатай защищ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зайтесь, коль возмо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 то всем будет поз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! Вот, Он 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, идёт со сла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могучею держа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! Да, Он 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2:14Z</dcterms:modified>
  <cp:revision>13</cp:revision>
  <dc:subject>Slavic hymnal Гимны веры христиан, hymn 319</dc:subject>
  <dc:title>Бодрствуйте вы, все святые</dc:title>
</cp:coreProperties>
</file>