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F2C-A34B-40E7-A3A6-4CA06A27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7EE-E35A-4DA5-BFA4-729F6B1D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D41-34FF-4F61-9A1B-46E62BB7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4124-F2C0-4B61-AFD7-8D9F48D4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591-B570-4EBD-ACDC-D5229ABB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90E1-792E-43CD-B156-3ED57322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3902-1CC4-405F-8BD4-4FE0D772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A8C5-3949-401C-BF4B-67FE7A6B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54BB-AE4E-4F61-9443-C5630628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CF09-A706-40ED-9A5F-80AFD569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375-BA20-4D80-A766-F72AF55E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D4D4-FFF7-4EFC-8A32-643D09C3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348C9-1465-4FFA-BA37-87F4F74FE39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я ли в воинстве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сю жизнь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хочу ль я скорбь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радостно де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капли крови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оз ли мне ж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от, хотят чрез ров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ль в страхе отста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я ли в воинстве Хрис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а ли нет перед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лышу ль зов к борь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мир красивой суе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анит меня к с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кто хочет побе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должен в бой всту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бой иду! Христос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слабый — с Ним ге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49Z</dcterms:modified>
  <cp:revision>12</cp:revision>
  <dc:subject>Slavic hymnal Гимны веры христиан, hymn 456</dc:subject>
  <dc:title>Не я ли в воинстве Христа?</dc:title>
</cp:coreProperties>
</file>