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DD2-1BB9-47FE-817F-71C495C6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649-E2BE-4C0B-8AB6-EAEA95A7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765-B97D-496B-A848-249E35EB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48E-1AF0-4904-B49F-12C2AB30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842-FFEF-453C-9AAE-BB429B32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809-4D4A-4E60-91CB-B9F62841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E10-DEE2-4CEF-B5A5-FE0C50AB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187-CF98-4569-999D-E4D9B708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AAA-059E-4904-B827-D439FD12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D8C-732D-488C-A54F-6A55D247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728A-068E-4183-B2BF-20C2AEAB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1F8-D13B-4DBC-BD21-BC4086CB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5D7B6-1C0B-4EBC-8525-4B87AE16C1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 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reated us in your lik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 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n honour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tand and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lift our hands 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and who is and i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our hands 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compare with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49   Who Is There Like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 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reated us for Your pl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 O G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appointed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Your very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lift our hands 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and who is and i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our hands 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an compare with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46Z</dcterms:modified>
  <cp:revision>12</cp:revision>
  <dc:subject>The Source 4, song number 2149</dc:subject>
  <dc:title>Who Is There Like You?</dc:title>
</cp:coreProperties>
</file>