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920-A5A9-4983-98F0-C4DEB9A0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AF-A61A-453F-B4B8-9A41E773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712-0249-4A57-8DA1-D31AE654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C43-899A-4E44-8A56-E69578B1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93B-204B-4F16-B8AB-2F0AC855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2CC-56E7-43E8-9116-B5979A4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8C7-E611-426C-B251-09E0730D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A55-2EBD-4BD7-93DF-8DB90D0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B47-A219-4A6D-AD99-EFBFF536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BA8-73DB-4835-9CF8-4B44B94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B05-946E-4506-BCF7-091ADDB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5D0-EE26-4C03-8857-33A542C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9BE71-7D81-4B39-A00C-B9D09329257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11Z</dcterms:modified>
  <cp:revision>13</cp:revision>
  <dc:subject>Slavic hymnal Гимны веры христиан, hymn 622</dc:subject>
  <dc:title>Сладко верить в Иисуса</dc:title>
</cp:coreProperties>
</file>