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AF4-97D0-4890-A329-CFA8312E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502-5C9E-4571-A91D-59045424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882-63A7-4C0C-9B36-4B08C7B3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5F0-86D6-49FE-9B8E-6C6C98C8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1B80-DB35-4F1C-96D7-C79D1048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D37-E7D1-42C0-9BB9-B3D0BE61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0102-C87E-4DC6-A79C-62CA91A7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434-FDB3-40FB-9E06-9C788DDF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5D0-CA15-4EB4-BBDC-F7015E53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D88-C5AE-4A78-A84C-EF39673F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E10-BCD3-4ABC-9AC3-EA4564C9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F18-C50B-426E-A78F-96339052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BC789-82B4-4B74-B8B0-0E40D49E20D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тесь, братья, и в песнях дух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и честь воссылайте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нашёл всех в оковах грехов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явил к нам любви полн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ен в Своей благодати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храняет нас в жизни зем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оздвигнет святую об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арит нам венец зол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уйтесь, брат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, братья, тяжёлый наш жреб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мы в мире строптивом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ст покой нам блаженный на н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крепит нас в тернистом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4:10Z</dcterms:modified>
  <cp:revision>12</cp:revision>
  <dc:subject>Slavic hymnal Гимны веры христиан, hymn 609</dc:subject>
  <dc:title>Радуйтесь, братья, и в песнях духовных</dc:title>
</cp:coreProperties>
</file>