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975-2812-49BA-B96E-D8320FD1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F6D-CC88-4596-A379-44FF3F86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490-44EA-4901-A890-E570F26D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5A1-5A67-41F0-9A83-06A98C01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D0E-2357-4247-8B6B-B30E38E0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F32-D10D-4DD2-8230-642E33D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113-288D-4220-AC87-895B4EF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DC2-8DC1-4679-B8CC-E81643E3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644-5D2B-4162-96C0-1593EF4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92B-EAC3-41EB-9C7A-4A0A79B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F45-F5AC-42A5-99CE-475019D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4B3-02D1-424D-BCA0-24AD868F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DF877-1BCB-47A8-925B-DB75E5552C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6:44Z</dcterms:modified>
  <cp:revision>12</cp:revision>
  <dc:subject>Slavic hymnal Гимны веры христиан, hymn 478</dc:subject>
  <dc:title>Спаситель, обещал я</dc:title>
</cp:coreProperties>
</file>