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8BC-55BE-4433-B8FE-1D8BE389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1CC-BEE5-45D3-8030-5D5976F9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08E-4FF0-44F1-9BE5-2D317EA0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E3F-8B4B-4B1E-9F05-EA0F115E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F1B-6386-4253-9FF6-028D5D65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714-BB90-48F3-8615-7E11DD5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67A-D6D9-4100-BCD0-CD568D49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295-FE4D-470A-8A30-5309D461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0D2-3AF0-40E9-A419-A8B7A1B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1F8-4266-40AF-96B8-B592CAA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56B-2F8D-4D65-8394-F6BF304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B26-9D8D-4EF2-BFD5-5ADE14AF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799AA-0DC3-4B12-AD0B-B52670734B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гор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огорченье ты встретишь в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дях утешенья тебе не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лезах умиленья и в тайне д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сокрушенье излей ты в ти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любящий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жидае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наешь, как властно спасенье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ём ежечасно петь будут у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ьцев так много под гнётом скорб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утехой от Бога спеши к ним ск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им с любовью о дивном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ывшем их кровью на скорбном кр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08Z</dcterms:modified>
  <cp:revision>14</cp:revision>
  <dc:subject>Slavic hymnal Гимны веры христиан, hymn 450</dc:subject>
  <dc:title>Go Bury Thy Sorrows / Когда огорченье ты встретишь в пути</dc:title>
</cp:coreProperties>
</file>