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4DF-DDE2-4A79-A25F-57246E7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89F-14D9-4DAC-9ABD-CB6DBE22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D8B-4F87-417D-A973-4F6337E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454-A6F6-4684-8014-AF1388A9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F40-6199-4ADC-9B29-5D6AFC91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139-9929-4F22-B92D-6EC8747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159-0080-49EE-BA17-63A6C2D8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AB0-3010-4AC6-96B5-0C5714FF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8FC-1F24-4336-99FB-F5649089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946-0675-42D7-A29B-F5E4FD0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356-02E7-47D7-A7F3-23C9824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820-B701-49A2-8753-CD81DE0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02B2-3AF4-4414-A7CA-C0071C0795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радість, радість буд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земний залишим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дем в Божий ра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сте там дерево жит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ам побачим ми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оміннях слави не зем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ийме там Сво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1   О, радість, радість бу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Шляхом вузьким нам треба 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в небеса прий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по ньому не під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край вічних мук при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ж зійдем на шлях вузь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живемо час тяж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, в небесах перед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війдемо в рідний д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с воскрес і щезнув ж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, ось, в величн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х, світли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виглядає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рте, стомлені, сум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 вічні радості кра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 тяжко, журно в світі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те спасіння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ть там, радість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що за радіс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нним буде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яйві сонм святих стої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них хвала Христу зву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 співати будем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покличе С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41Z</dcterms:modified>
  <cp:revision>13</cp:revision>
  <dc:subject>Slavic hymnal Гимны веры христиан, Ukrainian hymn 31</dc:subject>
  <dc:title>О, радість, радість буде там</dc:title>
</cp:coreProperties>
</file>