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D45-FBC3-4DDC-88F4-441BB0E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B17-12B5-4AEE-B2DD-AF58F0D1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F55-BF8E-453E-BCE9-C929535A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0C3-73CE-4386-8112-6C159A09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A67-FDA2-46D6-8266-BCEBB971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10B-D07C-412E-B9E5-11BE4B1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CC3-A2F1-4DFF-86DF-006E2881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E9F-19D4-4FE3-9642-F7DB2D3D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7B6-93CD-400F-A36C-6A69E5D1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828-81C5-453A-954A-AAD35E2A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4C9-C8B7-43CB-9AEE-E2E1C5D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E2B-DA2A-40AA-9019-9B269877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4B7BB-DDA0-47DD-A097-207FDAE7E2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out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has made a w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de a w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lives inside of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ruth is life to all who h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who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2   Your Love Reaches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, death is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can stand against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, we will ris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s and feet to all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e to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for You, live Your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ill be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serve Your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rve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salvation flow as Your people pr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ong for more, long for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20Z</dcterms:modified>
  <cp:revision>12</cp:revision>
  <dc:subject>The Source 4, song number 2192</dc:subject>
  <dc:title>Your Love Reaches Out to Me (Kingdom Come)</dc:title>
</cp:coreProperties>
</file>