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90F-1B0F-43B7-80D3-67A06958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C57-D904-4BE1-9BDB-F2477E13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441-A622-47D3-A5EC-36CC3851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351-788E-46A5-AD2C-A522D2E1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DC3-7BF4-41FE-B04F-6EBF7EC8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0C0-6B11-4A2B-A6FF-2588C161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4BF-1D54-47DC-80F1-9971A3F8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1DA-491E-4937-848A-B4865D25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2A0-4600-4653-8FD9-1CAB332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752-AEAA-4FA7-AC89-91E6E2E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5DF-C44B-4CFC-BD0A-AF87AAA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926A-2270-4BF0-96E2-407C601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C50F-F3C6-405C-A5A4-B2CB42C62DE8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our God we shall do valia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 is He who will tread down our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ll sing and shout His vic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hrist is King! 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Christ is King! Christ is King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has won the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et His people fr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word has slain the enem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earth shall stand and see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repeat from start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62   Through Our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7:13Z</dcterms:modified>
  <cp:revision>12</cp:revision>
  <dc:subject>The Source 3, song number 1562</dc:subject>
  <dc:title>Through Our God (Victory Song)</dc:title>
</cp:coreProperties>
</file>