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C41-5448-4401-A475-D4C3282A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5CA-4F1F-4914-B561-D469F674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A1C-C853-46EB-BB0E-F8AC90D7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1F1-DA52-4382-8365-61F44301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B004-D73F-43E9-8D9A-4B6618C5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1C8-029F-45A5-89D7-BE795271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5CB-AEAB-4768-ADED-7F7C903D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8CC-16F0-4A45-AC0C-835D8156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7C2-083D-48CD-9BA2-56AC52F0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D10-9D9E-4BD5-8E25-D5908959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F19-2E46-44E1-B95E-4E6DE2E5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159-E673-4936-A97D-F5A114EE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E5F10-B7AD-4D9E-BFBA-D9485F974F4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and anointed One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sen and exalted One,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name is like honey on my li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like water to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ord is a lamp unto m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love You, I lov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first part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8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6:01Z</dcterms:modified>
  <cp:revision>10</cp:revision>
  <dc:subject>The Source, song number 286</dc:subject>
  <dc:title>Jesus, Jesus, Holy and Annointed One (Holy and Annointed One)</dc:title>
</cp:coreProperties>
</file>