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2AF-B11A-4987-84FA-BEB2DBBF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434-4DE3-4DF7-8A68-564E5B18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60C-DAE1-4EB0-9D96-411C393F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D4DA-EE5B-4431-9849-96DFA632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CC0-EA64-4FA4-B722-788AE2C3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7F0-2EAE-498E-B69C-F7AA3549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661-36CB-4778-9C57-04EE498D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F86-2F7F-4C2F-AACC-77B325CD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C0B-98BC-433D-A92E-48FB7D12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7C4-771E-4142-8EC9-5453527D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304-8179-485E-8033-75D3ECE6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F1B-8A00-4EA6-A5FA-34F122CF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90BA9-73CB-4E9F-9EC3-12EB47553C5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God in hea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ere am I on eart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let my words be f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am so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tand in awe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’ll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let my words be f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am so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43   You Are God In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implest of all love-so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bring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ll let my words be f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am so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tand in awe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’ll stand in aw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let my words be fe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am so in love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30Z</dcterms:modified>
  <cp:revision>12</cp:revision>
  <dc:subject>The Source 3, song number 1643</dc:subject>
  <dc:title>You Are God In Heaven (Let My Words Be Few)</dc:title>
</cp:coreProperties>
</file>