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8091-E1C7-428D-B607-4FFD5D4D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549F-9920-40A9-BBF1-8E698D89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D653-42D7-4ACF-A885-B0D51FF9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F9E4-8400-440A-B26F-78D87A2E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A903-4295-46F6-8073-02B63522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1DB-63B8-4638-B2A9-65B66BE8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726-95E8-4AE5-BC7F-C077E546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173-BCC7-4D93-A2C4-36638C8D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FFDF-552F-4766-B3C6-18C1E3DF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01A0-12B1-45C6-A72E-D8EB32E4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EED2-2487-4334-A0BA-16BD1EA0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839-32D5-448C-9122-285EBE5A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51FC8-6A53-480B-AD2B-0675F6ACAA8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щоб не було б то через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щоб не було б то через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а моя була би проп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щоб не було б то через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а моя була би проп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щоб не було б то через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7   Як щоб не було б 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2:16Z</dcterms:modified>
  <cp:revision>13</cp:revision>
  <dc:subject>Slavic hymnal Гимны веры христиан, Ukrainian hymn 97</dc:subject>
  <dc:title>Як щоб не було б то</dc:title>
</cp:coreProperties>
</file>