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E56-0377-4C01-A66C-A9271813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1E2-DC76-462E-A7FB-0A3BE86F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692A-355C-4AD8-B1C3-BB567215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AD9-E1A6-4B59-B3FB-EE0BB1DF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52F-ABF5-42E0-A44F-2640F3AE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02A-AFA3-4A42-9A8A-CA3D7A19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396-3E54-469E-AFC4-9D43CF23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A7E-D6BE-4D38-AF81-4E044C97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9B4-CEAB-4EA6-BA57-D9290889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714-757F-471F-AF02-59481455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1C5-AB3D-4D79-8B2A-E587096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E20-685B-417C-B330-8ED51939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CE7F3-65CE-40A3-9E37-91322DEDA3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вечное Христ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ю к нам при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разил греха нап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ал с Собой нам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пасенье вечное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ас грешных возлюб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бя не пощади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кресте в предсмертный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ца молил о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жизнь нам, мёртвым, пода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еял мрак и ть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нам Своё вруч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звать других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е Слово — меч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воды жив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о порок и грех каз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у мир 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е смущайся,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 Христа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17Z</dcterms:modified>
  <cp:revision>12</cp:revision>
  <dc:subject>Slavic hymnal Гимны веры христиан, hymn 387</dc:subject>
  <dc:title>Спасенье вечное Христос</dc:title>
</cp:coreProperties>
</file>