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226D-DDC8-4474-A85B-0F0007193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842E-497D-4047-93A2-92AF76C4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16E0-16EB-444B-9496-B6982F88B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2172-4496-4B3D-B8DF-5D1744091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B09A-4D5E-48A5-904A-FE22E322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2E60-39A2-4D06-94AF-902940D3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B4FB-6DBA-4875-9483-24ABE081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7E11-DC65-4EE5-B2E2-9E0ECB58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B2B0-531B-4D59-95E2-A66B1B9C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BC94-9E7E-45E6-8215-36E6BCE0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5A45-B573-46C8-9652-4DECE306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8F8B-BA62-4279-B53B-F5E2B27E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2D973-5635-4BC5-A207-67B7632A077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ожьих слов не пропуск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акрывай от света гл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а не ожесточ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удь спасён — приди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завтра может не блес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лнце не освети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пора! О, мудрым бу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удь спасён — приди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, Божьих слов не пропуск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может мир нас наград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нём нет отрад — он полн за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чни ж как христианин 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удь спасён — приди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завтра может не блес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лнце не освети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пора! О, мудрым бу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удь спасён — приди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не хочет тех изг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с Ним вступил в общенье ра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хочет в них Свой труд нач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удь спасён — приди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завтра может не блесн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олнце не осветит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перь пора! О, мудрым буд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будь спасён — приди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9:46Z</dcterms:modified>
  <cp:revision>13</cp:revision>
  <dc:subject>Slavic hymnal Гимны веры христиан, hymn 367</dc:subject>
  <dc:title>О, Божьих слов не пропускай</dc:title>
</cp:coreProperties>
</file>