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D21-2EFB-4D26-9355-4BF56F2C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3F2-7626-4FBA-BFB3-2F25C29D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DC5-3601-4105-9AAA-6F414B78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CB0-7C05-41C7-B278-CC773D45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6B6-3F4E-4354-B490-DCEDBCE3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4E3D-7BE4-40A9-AB64-4C55A8AA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173-842D-464C-B38D-FA415EE3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0B3-3A0E-4BEC-A0CA-ADE5EAE8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7CE-BA42-400B-8EF3-A1E3AD51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441-1A74-4ADF-9CBD-7C03510F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F3D-787A-4F12-B879-CBA3ED6E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68F4-222C-429F-9FDF-E978B226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BA425-71D9-4379-A612-25C9767DFBE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et there be glory and hon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rais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 to Jes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Glory and honour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401   Let There Be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7:36Z</dcterms:modified>
  <cp:revision>12</cp:revision>
  <dc:subject>The Source 3, song number 1401</dc:subject>
  <dc:title>Let There Be Glory and Honour and Praises</dc:title>
</cp:coreProperties>
</file>