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00D6-C323-4DDE-BCFB-0BA5245F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2BC-DDEE-4A5E-B1F0-9A8786EE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8B6C-7AD9-4E87-AB89-4148DA78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729-B336-4B55-A1FF-FFF8C17E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DCF-41A0-4AD1-A02E-A2790DBB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593-2442-43A0-A1EA-E44BE203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2A0-29B4-4E07-9D3F-867EBF1F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56D-0011-4B76-9D81-F7373052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266-DADE-49EA-9D07-6CA747BE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FED-AB0A-4096-93ED-618B2134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56DA-5605-4C5F-9805-4F6B7671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835-0BCD-4275-AB2A-A8218ABF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99AA8-3B24-4E3D-8D7E-3D35079F4D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ину мне может см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что может исце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вину мне может смы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чиститься, гля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кровь одну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прощенья нахо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крови святой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искупит дух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добро моих заслуг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надежду мне дар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святость мне не щ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09Z</dcterms:modified>
  <cp:revision>12</cp:revision>
  <dc:subject>Slavic hymnal Гимны веры христиан, hymn 425</dc:subject>
  <dc:title>Что вину мне может смыть?</dc:title>
</cp:coreProperties>
</file>