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70</a:t>
            </a:r>
            <a:r>
              <a:rPr b="1" lang="ru-RU" sz="3600" spc="-1" strike="noStrike">
                <a:solidFill>
                  <a:srgbClr val="ffffff"/>
                </a:solidFill>
                <a:latin typeface="Verdana"/>
              </a:rPr>
              <a:t>	</a:t>
            </a:r>
            <a:r>
              <a:rPr b="1" lang="ru-RU" sz="3600" spc="-1" strike="noStrike">
                <a:solidFill>
                  <a:srgbClr val="ffffff"/>
                </a:solidFill>
                <a:latin typeface="Verdana"/>
              </a:rPr>
              <a:t>Знаешь ли ручей, что бежит</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Знаешь ли ручей, что беж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 креста, где умер 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наешь ли Того, Кто дар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куп от страданий и слё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как пурпур грех мой плот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вина горы тяж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Христа стекает стру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й я сделан снега беле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забытый вечным Отц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Свою Христос пролив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кресте с терновым венц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напрасно Он постра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как пурпур грех мой плот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вина горы тяж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Христа стекает стру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й я сделан снега беле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Я пришёл на призыв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источник жизни м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спасенья вся полно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 я сделан снега б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как пурпур грех мой плот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вина горы тяж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Христа стекает стру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й я сделан снега беле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лабый и усталый мой д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а, счастья долго иск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к овце заблудшей паст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Господь пришёл и мир 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как пурпур грех мой плот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вина горы тяж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Христа стекает стру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й я сделан снега беле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Духом я люблю созерц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 креста текущий руч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ьётся в нём для всех благод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 я сделан снега б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как пурпур грех мой плотс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вина горы тяж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 Христа стекает стру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й я сделан снега белей.</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21:35:55Z</dcterms:modified>
  <cp:revision>3</cp:revision>
  <dc:subject>Slavic hymnal Гимны веры христиан, hymn 270</dc:subject>
  <dc:title>Знаешь ли ручей, что бежит</dc:title>
</cp:coreProperties>
</file>