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BE3-FDC5-4A7D-AEA5-57F1F59A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B68-52A9-448B-9CE9-69710CA8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126-ED65-4C4C-BEC5-9FA219B3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6F4-8D2F-47FA-80F5-CFF2207A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007-0D29-43E8-A1B7-D6C04839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470-5AF6-49D1-B494-0539AB27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FE7-BAE2-437A-B83C-979026DD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03F-6089-4780-B243-8E41C17C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7E4-C541-4822-82CA-17C48C28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2C7-AC98-4B79-9454-1C943D18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D6D-CD19-4D76-9A1D-CA167A60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85C-956F-4143-A8A0-9BFA9493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29DAC-3E7E-442B-A3C3-14DC13325C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 каждое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мне силу для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Божьим открове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«изменчивой судьб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ьё сердце любит беспреде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нам лучше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радость отмеряет 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— сред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за дн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о мне Спаситель бли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вной милостью на каждый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заботы прогоняет сра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оветник дивный для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рука Всевышнего при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ормилец и Покров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 как дни, так будет ваша си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е дал О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 всяком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Тебе, Господь,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твёрдо все обетов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ходим в Слове мы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встречая труд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их из рук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дти, поднявши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й стране, гд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58Z</dcterms:modified>
  <cp:revision>12</cp:revision>
  <dc:subject>Slavic hymnal Гимны веры христиан, hymn 863</dc:subject>
  <dc:title>День за днём</dc:title>
</cp:coreProperties>
</file>