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BC7-AEA4-47DE-9DCE-EF6E5118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DF4-1E83-4426-A7C2-D22E3582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A0B-26A6-4A51-90D2-9066E3E0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6D8-ADD0-4235-80E2-8434A895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50B-A0AF-4270-A86C-A870B99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4502-C3DC-4A23-BDFC-96F8DD24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5B4-54D6-4898-8CE9-488AEA25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4F0-0967-4E11-B3D5-B5C74BC7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E28-645F-4445-8D8E-638B62B2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0A9-3B6E-4751-B179-1E0234BE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FB5-7CF0-40E6-ABE7-48884C84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8CF-96C4-4BAB-BBC6-FE4A54D3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F3953-B0DC-4F3E-A966-3C02FFE1B7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ого затро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холодных дивно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святой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 песни мы 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лодно мы вста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ас нет радости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нья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ух Святой, спусти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лго будем прозяб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ть с неба ветер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ой любви в нас не в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ж — так ве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 Святой, спустися к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чувства обн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 излей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ашу —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30Z</dcterms:modified>
  <cp:revision>12</cp:revision>
  <dc:subject>Slavic hymnal Гимны веры христиан, hymn 311</dc:subject>
  <dc:title>О Дух Святой, спустися к нам</dc:title>
</cp:coreProperties>
</file>