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B43-A212-41FB-B0B3-D1736FDD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331-CEC4-4BE7-A3AC-FAF4312D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B31-85F9-4E6F-BC84-DBCAB37E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6BC-46F6-49B0-9EB1-1BA443C4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5C4-2F19-4449-9A1B-007AE7ED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5AA-5FBB-4BB3-96D1-0611DD69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534-46A3-4FA4-B6CB-51465B96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D49-5EC9-427F-8B14-97730CB6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AAF-2D72-4A23-8444-3E52B086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3E8-D2AC-4BBE-BE1F-A9C838D9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EAE-B019-4836-83D6-0360C09F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9AB-B5FC-4C26-A18B-4F064BF4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2F07C-F8B7-4C75-A9E3-DF3ACE28E2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ится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ё кругом поёт пса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ом любв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изда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ассивах гор, в красе оз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на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ня вся 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блюдать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еск зарниц и пенье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ят Ему хв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реньи виден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уг небес и луг и л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Его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за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 мире зло везде вош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у Суд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не кончен 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— радость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3:08Z</dcterms:modified>
  <cp:revision>12</cp:revision>
  <dc:subject>Slavic hymnal Гимны веры христиан, hymn 832</dc:subject>
  <dc:title>Господня вся земля</dc:title>
</cp:coreProperties>
</file>