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139-3385-48D5-ACDE-30AB47E2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59C-AA60-4C41-9465-6C84F967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A2D1-E416-4E1A-8D3B-233D3D18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2B6-CEBD-43FF-805F-32F16478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C05E-8EDD-4C9C-946D-2148EC75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984-FE15-440B-82C2-830D6B33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07C-D845-4EEC-A708-8A42EDD3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793-8ECC-4774-ABCB-C8F732A4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F6D-416C-4E9B-952C-EC68FDB3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506-3384-41F4-A893-396D33F7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910-11A4-4952-85A0-BD410636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2160-7315-4294-A178-DCAA5E39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A2A7A-D5E1-4339-A2F4-74383EE0E4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ather in heaven, how we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 lift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y Your kingdom be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our pr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Your people declare Your mighty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6   Отец небесный, мы с любов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небесный, мы с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ё Тебя благодар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, Сына Твоего омыты к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в благоговении ст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be the Lord God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was and is and i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èd be the Lord God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reigns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семогущему Б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, Он есть и вновь гря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Всемогущему Б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веки век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3-28T05:24:18Z</dcterms:modified>
  <cp:revision>13</cp:revision>
  <dc:subject>The Source, song number 96 in Russian</dc:subject>
  <dc:title>Отец небесный, мы с любовью / Father in Heaven, How We Love You (Blessed Be the Lord God Almighty)</dc:title>
</cp:coreProperties>
</file>