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75AA-68D6-4FB4-B6F5-910FB76A6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40E2-4544-42A8-8618-4ABF7AAC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AEBA-EDC9-4097-A570-E2B39B17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51BA-EAAB-4F22-ADE6-86C8F576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17BA-0DD3-43E5-A75C-05A232F4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1451-9DC4-425B-A43F-A7D1EF64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281C-34E5-4549-AE3D-7B7CCA10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F42C-DC4A-4972-8565-F834F17B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AE7A-D1C4-4225-BFA4-F69FC1C6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7289-2453-4F58-A8B8-8EDF2B81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D46F-A2A5-4D91-A98D-BBBEE349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A665-C9A8-4C50-9720-E08F585D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1EBAB-EBBD-4EFD-B498-7ECD34C118F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Друг одинок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, немощных люд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 наш может стать далёк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Иисус нам всех вер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Друг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раду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нас, хранит, спас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с нами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 — Друг одинок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бессильных креп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ываемся мы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хранит нас в искушень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победу над вра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Друг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раду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нас, хранит, спас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с нами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Помощник скоры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храняет Свой нар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хе, в скорби, в лютом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енье нам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Друг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раду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нас, хранит, спас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с нами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Путево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пустыни и л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ю, в бурю, в тёмных дебр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т наши голо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Друг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раду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нас, хранит, спас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с нами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нас, грешных, прин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мир наш от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остил, дал Своё имя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народ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Друг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раду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нас, хранит, спас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с нами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49:55Z</dcterms:modified>
  <cp:revision>12</cp:revision>
  <dc:subject>Slavic hymnal Гимны веры христиан, hymn 883</dc:subject>
  <dc:title>Иисус — Друг одиноких</dc:title>
</cp:coreProperties>
</file>