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C10A-C47D-4211-B034-B3688EF4E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E261-E56B-460F-8263-2F6317ED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9AFF-A34E-4A44-A39A-9B843C7E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15CE-3684-4396-A5D6-D005E7456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6DBA-C7B0-4A01-BDD0-F8D2873C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4B58-90EA-4537-8BF0-282E08C8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4C4D-5A36-4EE2-8B49-C0FDBE89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6484-C0E4-47E1-880A-CECBA76D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FFA7-F07F-4DDB-B4FC-209CCB86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9392-ABFB-44A0-9C16-C2569D2B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46DC-F956-48E0-90FC-D3440A22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42C3-A51F-45DE-ADAD-CEF9321B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0870A-E1BA-43B2-B292-C7767E1099F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ейское м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шует вол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радость и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перед 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радость и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перед 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029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3а   Житейское море бушу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руч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узн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ожет случ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втра с ним 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ожет случ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втра с ним ста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годня ты ве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ю дово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здале хоре пес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завтра ты бо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здале хоре пес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завтра ты бол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может быть зав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рая могил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ёт безвозвра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чая с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ёт безвозвра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чая си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оре житей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на за вол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ются ча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нашей ладь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ются ча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нашей ладьё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2:16Z</dcterms:modified>
  <cp:revision>13</cp:revision>
  <dc:subject>Slavic hymnal Гимны веры христиан, hymn 773 (as amended)</dc:subject>
  <dc:title>Житейское море бушует волнами</dc:title>
</cp:coreProperties>
</file>