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10C-4379-4528-A808-F707CF28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0CD-1719-477E-B994-1E3E0DCD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824-A639-4F49-B503-DA6E15B3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B79-0E60-4A02-8B83-781FA7CE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D4D-4C11-49C3-9EFA-9A1019DE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DBE3-C741-438D-BD26-E50BF01A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49C-DC04-4398-9481-6B63B3DD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4DB-DC6D-4CD3-B45F-B57864EB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370-C764-4C76-AD1A-83B3CFC6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C0C-87CB-4660-ABAB-82E8A343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63D-746A-4FD0-8A07-C8CF5B68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2E7-D0BE-4DB6-9C17-F23EB887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A51B9-8FB6-4080-9D9B-DDD00AB2E09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 a new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,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, a new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g unto the Lord, all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God is great and greatly to be pra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d is great and greatly to be prais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 Cho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508   Sing Unto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9:53Z</dcterms:modified>
  <cp:revision>12</cp:revision>
  <dc:subject>The Source 3, song number 1508</dc:subject>
  <dc:title>Sing Unto the Lord</dc:title>
</cp:coreProperties>
</file>