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A7A-6DE5-4CBC-B58C-49FE5498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371-7A54-41BF-96F7-77BB598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513-3E4C-4986-ACC2-8BF606A0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6A0-BDD9-47AE-ADCE-2C4457BA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303-2F45-41AE-88A3-C7E4A4D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1EDE-4624-4130-84B7-DC04B90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75D-4E52-4008-A97F-76C3D1F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904-C84F-4BF6-A7DB-FF7E14A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2A7-76EF-4687-A96A-48F5608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B14-6B9E-42B6-9B52-C563C6B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86A-E195-4AE4-A3EE-CE470275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035-C61E-47D1-A8FA-46451A0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C6869-9DBE-41D0-AE7E-ACEECF2A9B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о бушує життєвеє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илі мій човен гойдають і б’ю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мертній тривозі, в великому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молюся, ― не дай пото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лянься на мене, спаси і помилу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днів моїх ранніх зі злом я бор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ше боротись не маю вже си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помилуй! ― благаю, мо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5   Сумно бушу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иху пристань, де Твої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став спокійно човен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ря бурхливого шляхо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веди швидше, мій Боже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8:07Z</dcterms:modified>
  <cp:revision>12</cp:revision>
  <dc:subject>Slavic hymnal Гимны веры христиан, Ukrainian hymn 85</dc:subject>
  <dc:title>Сумно бушує життєвеє море</dc:title>
</cp:coreProperties>
</file>