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1B2-30A0-418E-8550-98B646CD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43B-242A-42D6-942E-58B4F2D5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371-CC3B-4241-9959-E1C8D862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21A-9063-4A64-99CA-ACB5BC3E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7E4-A261-4D19-BEFA-16B2BE1B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7A55-0E9D-4844-810A-371824CC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D593-6EA6-4F2E-8BB8-F969E772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B6D-5614-4621-993D-828ECCA1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8DE-E2D4-4943-BBD6-4BD1EFE1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7D9-87AD-408F-862A-BCB539C4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853-BE17-48AF-BDBA-CB5CCB70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136-96A6-423C-9466-5310F1EB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26BE1-C9FB-41C8-A831-9FF27EDDE55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tand amazed in the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Jesus the Nazare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nder how He could lov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inner, condemned, un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4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Stand Amaz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e it was in the g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rayed: “Not My will, but Thin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d no tears for His own grie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sweat drops of blood fo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pity angels beheld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me from the world of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omfort Him in the sor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ore for my soul th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ook my sins and my sorr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made them His very ow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ore the burden to Calv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uffered, and died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with the ransomed in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face I at last shall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will be my joy through the 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ing of His lov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Ref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 shall ever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, how marvellous! O, how wonder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y Saviour’s love for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5-06-01T02:22:52Z</dcterms:modified>
  <cp:revision>11</cp:revision>
  <dc:subject>The Source, song number 243</dc:subject>
  <dc:title>I Stand Amazed in the Presence (My Saviour’s Love)</dc:title>
</cp:coreProperties>
</file>