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2B9A-82D2-4370-9711-6FA0EB35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E2C0-EB34-47D0-AC6A-743FE5F0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9670-4E0C-4065-B3DE-C0C93707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7190-0A83-40E0-8E25-9397BC4C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8851-D62A-424D-9949-6B2ADBC7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5059-C692-4661-B9FF-3F4A650A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0577-AF92-4B8D-9D00-215AE128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E145-4CFD-4512-AC62-531D1277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C662-51BD-4042-8692-209D0A42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97F-0E3C-4CFD-95BA-96FD079B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6408-7EA0-4A0B-96B0-3DB2F557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3569-2E14-4FD4-A3EE-746E9D66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522BC-1B86-4AF3-A5F1-350D04F7EAA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Jesus I knew not I did not know lif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pent all my days in contention and str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I heard a voice which all trouble surmou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loves you, He loves you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sweetly it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9   Не знав я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в я Ісуса, життя я не 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ами обнятий, у тьмі я блук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ось, як почув я Господні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, Він любить! бодрися, душа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in I was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now I am sa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s you, He loves you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ly it s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ріхах я бл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Спас знайш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”, я зна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 нас Він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I am depressed by life’s trou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r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where my spirit finds solace and song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is message from heaven in echo resou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loves you, He loves you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sweetly it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втомлюсь в житті цім земн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є спокою й душі в світі ц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ось чую, ллються небесні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, Він любить!”, то ві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in I was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now I am sa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s you, He loves you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ly it s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ріхах я бл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Спас знайш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”, я зна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 нас Він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trusted in Jesus, I now live in Hi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go through the valley—the pathway is d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He never leaves me, His grace still abound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loves you, He loves you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sweetly it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ві довіривсь, тепер з Ним жи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 смертній долині, без страху я й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н не залишить!”, слова чую зн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, Він любить! Бог наш 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в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in I was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now I am sa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s you, He loves you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ly it s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ріхах я бл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Спас знайш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”, я зна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 нас Він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4:39Z</dcterms:modified>
  <cp:revision>12</cp:revision>
  <dc:subject>Slavic hymnal Гимны веры христиан, Ukrainian hymn 49</dc:subject>
  <dc:title>When Jesus I Knew Not / Не знав я Ісуса, життя я не знав</dc:title>
</cp:coreProperties>
</file>