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2ED-3B05-4FEB-8C3A-618053C1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1A9-47AC-4C2A-B226-B2241489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F76-11FF-41B6-8EE5-E468CF7E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E0B-0414-4387-8AC9-F0C2DFE0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35E-45D8-426F-B409-8E719DF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D98-F099-4427-B8F6-23524813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1A6-130E-4F47-B839-9D88553D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963-4536-4932-BFD6-88AE3889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C26-A4D8-4768-880F-279A9029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852-797C-4575-9EA4-B249E04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C14-4E47-43D2-ADF4-35F1DB4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C55-ABE9-4DD0-8689-36AC9328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30149-EBEA-490A-8521-C78BD149BB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oubt not thy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has decl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remaineth no more to b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nce in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world He appea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mpleted the work He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ake with rejo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Jesus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everlasting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 with as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never cans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Jesus, thy righteousness,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ook, sinner,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nd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Who was nailed to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was H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earer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 Jesus thy guilt was not l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y from His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d the sin-cleansing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is dying thy debt has no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ло твоё 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not thy 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pentance or pray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blood, that atones for the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Him, then, who she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ayest at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eight of iniquitie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! look! Look and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for a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ucified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life at this moment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 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0Z</dcterms:modified>
  <cp:revision>13</cp:revision>
  <dc:subject>Slavic hymnal Гимны веры христиан, hymn 360</dc:subject>
  <dc:title>There Is Life for a Look / Кто поднимет свой взор на Христа</dc:title>
</cp:coreProperties>
</file>