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466-5EAF-4033-B99C-F1FFD2E2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ACE-775A-43BB-982C-CA07A0D8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FE5-18D9-412F-80CA-5144D56D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EEE-E8B0-42E4-91AD-A71CAE6D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E76-2A8B-4AC9-88F1-779B5FB1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3B2-EAD8-4B83-B02B-EC989B01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8BB-992D-433D-BDDB-44B7F0D0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DEC-E189-4209-A460-647F3F88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673-8083-4503-88BC-36B4AC12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AFD-E3F8-4F01-AC89-97EBC6F0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9870-81C6-46BA-9CB8-F6099B26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EFC-6ECA-40F8-A9D7-0E83B44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825B5-4AF2-455F-A69E-4F54DF084A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нгольську пісню спас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сім пісням ти волі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гові в небі хвал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дям спокій на земл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2   Повість скажи про Іс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постив Він у пуст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рога як перемі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ні пережив невесел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Гонений був від усі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безпритульний, голо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помагав у нуж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 збагатив Він наро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ам же був бідний то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на хресті розіп’я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ін на ньому вмир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Як в домовину покл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як воскрес Він і вст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кажи з напоми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Що Спас тому це роб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грішну бідну люд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н над життя полюб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вість скажи про І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нам Й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істка та в Божому ду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сім найдорожча всь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9T02:26:15Z</dcterms:modified>
  <cp:revision>14</cp:revision>
  <dc:subject>Slavic hymnal Гимны веры христиан, Ukrainian hymn 2</dc:subject>
  <dc:title>Повість скажи про Ісуса</dc:title>
</cp:coreProperties>
</file>