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201F-8058-49D1-802E-CFFEA4C7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54D-DCA2-4A4D-A63A-AE1C56B4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06D0-241E-46AE-B37C-7F7F989F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86C-4210-402B-896A-03DB6FB0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1601-F82B-4C13-91B0-B78CBFA4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20D-9BF6-41CD-B1DC-901E9A8F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D5E-7CE9-48CC-B445-52A50397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6DD-9674-4F23-A503-9BF729FA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CEF1-6F76-47B5-9AF0-48D4703B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DC5-F423-4DF9-9E02-55C42F1D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9D8D-7DC8-4E0E-AA0D-80F3CCBE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9849-5B4F-41A0-9725-DF7B2305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D515A-95AC-4710-9BD9-01E40647FB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Never will I forget, nor forsake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for you and for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flood and the fire I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by your side I will b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   Не покину Я вас, не забу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Не покину Я вас, не забуду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Бог каже тобі і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о вас турбуватися 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тражданнях тяжких н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’Mid the trials of life that assail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n weakness you stand ’for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strong to defend; I’ll not fail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defeat unto vict’ry you’ll go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в праці Я вам помаг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силу і міць пода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годину сердечної вт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в душу бадьорість вли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I’ll be watching in tenderness o’e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mother does over her chi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alk your life’s pathway bef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elding you when life’s tempest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d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окину Я вас, не заб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атько, і мати, й рі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речуться від вас, то Я 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ідним Батьком для вас з т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Should your mother and father fors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ever be right at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y haven of rest I will 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presence you’ll ever ab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жно буду Я вас догля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як мати маленьке ди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усякого зла захищ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вадить у вічн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I will comfort the heart that is lon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catter the darkness of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heart that has known tr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in Me find the source of deligh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амотнєє серце розва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і думи Я геть відже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озбите життя Я полад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засмучений в вас підкріп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Never will I forget, nor forsake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for you and for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flood and the fire I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by your side I will b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окину Я вас, не заб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віт вас забуде, 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гом вашим як був, так і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незмінна є вірність Моя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4:00Z</dcterms:modified>
  <cp:revision>14</cp:revision>
  <dc:subject>Slavic hymnal Гимны веры христиан, Ukrainian hymn 4</dc:subject>
  <dc:title>Never Will I Forget / Не покину Я вас, не забуду</dc:title>
</cp:coreProperties>
</file>