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C7F4-B375-42DF-990E-0D3AD206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E5F-4F13-485E-B648-A69B8979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D8B-B2BB-472E-BA9E-5022CA02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4BA-A785-4868-8CD7-978D0583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305-23EA-427F-B7F9-C05D50F9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42E-C4DE-4B5D-ADDD-7FDC3AF7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8E6-FA0B-4673-B888-014F8108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874-87D7-416B-8A43-28E178FE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122-622D-419F-B5AC-3C315FF5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F57-9DEF-4ABF-9044-76FE04E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5EA-F36F-4CC4-AD6F-A4F7299E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696-62E0-49AD-9184-DD08EB01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476F2-710F-4E04-8ACC-0CA9C7998C4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athered as Your famil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You and pro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ithfulness and mer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1   We’re Here to B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to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ther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celebrate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praise You for Your bles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s no other reason why we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to glorify Your 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re worthy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we offer up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a living sacrif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ly, accept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give You ev’rything we a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ing our hearts and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for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38Z</dcterms:modified>
  <cp:revision>12</cp:revision>
  <dc:subject>The Source 3, song number 1591</dc:subject>
  <dc:title>We’re Here to Bless Your Name (We Give You Glory)</dc:title>
</cp:coreProperties>
</file>