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4C8-0DC1-4D12-B096-28924CBA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D1CD-E928-4681-B4B4-3806F283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EE2-55ED-4415-9409-6693195F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44C-7F7B-4BEF-A231-E473D29A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9EB-5621-463D-AE74-C10C544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022-E1D3-4696-8ADB-129F45F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3E7-14F4-45A3-BE93-E5E0FBC5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E19-CDC4-4C59-B046-CAFF963A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ECB4-FF7C-4254-A681-535D7C3D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F0F-D489-42D6-B009-43BAC7FA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532-B78D-485C-A722-4942EDDF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988-7977-403D-81A4-51A096C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07B66-5CAB-48EE-B119-A587A89B62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Ісусом жити раді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адісно, радіс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с веде в небесни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чудовий світлий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3   З Ісусом жити раді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д смерти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купив,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ловом правди відрод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Він відрод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ятого Духа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ослав, Він посл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ухом Він мене хрест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ерце ожив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буду Бога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лавлять, прослав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радість ту вели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лість вічн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го всім серцем я 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, я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своє я від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ому я від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Ісус Спас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вічно будеш мій найкращий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9-22T21:54:31Z</dcterms:modified>
  <cp:revision>13</cp:revision>
  <dc:subject>Slavic hymnal Гимны веры христиан, Ukrainian hymn 23</dc:subject>
  <dc:title>З Ісусом жити радісно!</dc:title>
</cp:coreProperties>
</file>