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F846-F46A-4606-9EF6-5EFE09B0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8712-4D75-4AFA-B3F6-3A5ECB9A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B663-B035-4CD9-AD37-A773F0F9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D59-B15B-4452-BC11-FD35A5C7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6710-0F23-4591-9F2B-D1F9209C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7F8-1D57-4DBB-8552-74FED921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35A7-A075-46FB-A11E-27FAA9C6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BAB-3749-4AC9-AB34-A653835D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B80D-B45D-4605-9550-4907C67F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61A3-DA6F-42CB-B795-BEEB3DBC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7200-00CC-46FE-9E6E-24EE8A6E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A541-79B0-47E6-982C-FBE8DEF5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E2B55-0C37-461A-B371-582ED99CA3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идите в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ье, скорбь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каждый, кто жи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гом вос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сите эту в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 ночи ть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к горит зар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крылася тюрьм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а п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ердца и 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свет и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ий Царь ц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учах любви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лительный бальз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для все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им здесь и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смелей, друж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ивна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подходящ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ертным рас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жет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женных раб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ысоту подня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бещ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эту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где люди е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Божий к нам при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7:15Z</dcterms:modified>
  <cp:revision>12</cp:revision>
  <dc:subject>Slavic hymnal Гимны веры христиан, hymn 305</dc:subject>
  <dc:title>Несите эту весть</dc:title>
</cp:coreProperties>
</file>