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B09-A75E-446C-B8D8-B9AD372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699-962E-449D-B2F3-9D10B9E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99F-DBA1-4001-B5A4-0799507A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C8C-3F13-4FF4-B820-3FF3B0A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6AB-61A1-4445-99DA-A2E71BD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9BF-B62C-4A1B-8888-6811BDD9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E12-530A-4ECD-9502-F4A3D32B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F9B-2A8A-4768-8CBC-7F8CF2E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BDE-81B3-4C8D-98CB-A5D13CE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644-300E-4BC1-B212-BB5662E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F2B-2827-4D55-A5A2-05F9FD06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78A-FE86-453D-B33F-18FD4304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4E9A-0354-4871-8854-A252BA4C56B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671   Водишь к лугам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шь к лугам Ты зелё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боюсь зла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, как мё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олил мой голод, дал мн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едстою пред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сней любви, с хвал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ы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Иисус, Ты мой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8:16Z</dcterms:modified>
  <cp:revision>9</cp:revision>
  <dc:subject>The Source 3, song number 1671 in Russian</dc:subject>
  <dc:title>Водишь к лугам Ты зелёным / You Make Me Lie Down in Green Pastures</dc:title>
</cp:coreProperties>
</file>