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ED72-241F-47B3-82C1-3A9993118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8FE6-0B3C-4564-AB44-1BAD06082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9370-227A-4381-A00C-1C7172160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C288-8A41-4D5F-A28B-68D28EB81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AE56-BE07-4C59-9CBC-C907AEB38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3CC5-B6C8-4349-91CF-2D95822F9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8976-566E-473D-8D83-E80625A25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93CE-9F05-4DCC-8BF5-14C76EFE8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89EA-0B3A-4551-B066-22B7B1F0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2008-CE67-4745-BA9C-8BF9B6FF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5075-5C36-4253-B29F-56F7D974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C44E-D147-455B-9957-C2BCDB1B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B1C1F5-FC89-43AF-BBFC-2F7BA1B1DAA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огу теперь п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ло в небо гляд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тупила в душе тиш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ьма сомнений уш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даётся хва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Христа искупила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2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могу теперь пе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л Он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л и хранит в свете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ебесном раю эту песню спо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Христа искупила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иву со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орюся с грех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трашусь лютой битвы ог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даёт благо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и зло побежд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Христа искупила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л Он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л и хранит в свете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ебесном раю эту песню спо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Христа искупила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и хлеб Он да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пути береж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ешает, Собой ос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ч недугов мо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лад сокровищ живых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Христа искупила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л Он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л и хранит в свете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ебесном раю эту песню спо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Христа искупила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встречу гроз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Иисуса гля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надежда и крепость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г живёт в темно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окрыт во Христ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Христа искупила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л Он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л и хранит в свете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ебесном раю эту песню спо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Христа искупила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30:17Z</dcterms:modified>
  <cp:revision>12</cp:revision>
  <dc:subject>Slavic hymnal Гимны веры христиан, hymn 420</dc:subject>
  <dc:title>Я могу теперь петь</dc:title>
</cp:coreProperties>
</file>