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49A-A167-494B-9B34-5C886879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F4E-AB58-4BBC-B451-3C30CC09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541-C19A-4A67-BB01-26B88563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D40-47EB-4EE2-B86F-8FD37D44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18B-7EE5-4FC1-9100-859A855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58A3-7891-4488-80B6-D863461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ACB-DFDE-4EC9-8572-B2BA5037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2FF-57BB-4236-A914-DC087CBF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11F-2E8E-4445-BFE9-0E1121D5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CAB-1A0C-4786-89B3-15F7288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90B-A244-4EAF-98B7-291E9801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F08-2571-43EE-80FE-ED3BB293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E9B9C-E851-4FF7-A823-1A4D64DDE2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ndered far away fro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s of sin too long I’ve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дали от Бога я блуж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я блуж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но все силы расточ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wasted many precious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repent with bitte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без Бога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рех мой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ired of sin and stray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m coming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rust Thy love, believe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Бога тяжк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теперь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home,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ine arm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’m coming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домой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куплен, тепер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иду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29Z</dcterms:modified>
  <cp:revision>13</cp:revision>
  <dc:subject>Slavic hymnal Гимны веры христиан, hymn 432</dc:subject>
  <dc:title>Lord, I’m Coming Home / Вдали от Бога я блуждал</dc:title>
</cp:coreProperties>
</file>