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84F-B280-44EF-9AB4-1E3B51C8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503-DC2E-4D69-BC0A-771F181A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A1F-812F-4267-AC01-B2E5036A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4B5-F32A-4190-944C-E8D49C08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903-F302-4122-B038-F7053D4B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3C1-F9CC-4AB2-9499-3FD27E47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6BE-6787-49A6-BB49-5D79DA56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0EF8-EA6B-4C21-AAED-A48CB101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040-12F3-47F1-9100-62D5D16E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392-32BA-4338-A5B3-2FBE01B4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179-F0B1-4926-935C-DFF4007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F21-763B-44B7-BD74-4A14AE49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479B2-11C2-471B-8CF6-C1AF747A0D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ержись промыслом свят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рощаешь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ослушен оке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ывущих по морю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Ты ― Бог долин и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оторые бе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 наши с давних 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егчают всякий труд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щих, едущ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Ты над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лубь, крылья прост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вет не гаснет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удрость избранным дава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ящих в воздух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жизнь и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людей от вся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им разума 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радостно спеш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з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, в воздухе,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26Z</dcterms:modified>
  <cp:revision>12</cp:revision>
  <dc:subject>Slavic hymnal Гимны веры христиан, hymn 875</dc:subject>
  <dc:title>Отец Небесный, только Ты</dc:title>
</cp:coreProperties>
</file>