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08A-3CFC-4167-8A4E-C9606447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13B-2E03-4A8D-AF4B-9E21D350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2DA-039A-4AD7-8D8E-090462A1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383-155D-43DD-BF42-36396598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0DE-07FD-44E0-A1BC-887A5C92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A1A-0F83-4BAE-94D0-EB843265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1CF-F7D6-4994-9F91-3C32366D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A3F3-1E88-44DF-8E4F-4DC4479F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292-BB00-4B1B-9FC2-C8D67F8D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CC2B-41AD-46B3-BF50-D08A6532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71C-DFD1-4889-B4E6-2C5CB5EA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C5D-7611-4D38-8F03-262DE2D1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92FC6-DC88-4262-93B2-D9A0836C2C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man woe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3   О, скрізь розголосі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тільки є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є щ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the vacant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g of triumph 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хай труба зву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голос чути скріз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oundless love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hall this tongue of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ond’ring mortals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atchless grace div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а це люб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нас Спас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нас спасти з грі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ти нам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, a child of h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ld in His image s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лава Бог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н спас і ме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Christian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 the joyful s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, хто спа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ю новину не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, long night is 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orning breaks at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shed the dreadful w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ury of the b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ч темна вже м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ння Зоря зій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ьму розганяє вж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ічний наст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’er the golden h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advances f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ство гріхи лиш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ходить до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the great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ling in His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ev’ry captive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ull deliverance b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скоро Цар ца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е з небес дол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и забрати нас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тих, котрих Він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8:22Z</dcterms:modified>
  <cp:revision>12</cp:revision>
  <dc:subject>Slavic hymnal Гимны веры христиан, Ukrainian hymn 93</dc:subject>
  <dc:title>The Comforter Has Come (O Spread the Tidings ’Round) / О, скрізь розголосіть</dc:title>
</cp:coreProperties>
</file>