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B48-8DEA-4C39-9EC0-FCDA97FD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498-F791-42B7-8EC2-63416783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3F8-D5E8-43A6-9A60-A02121BE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39E-49D2-4872-8FB7-ADDC25D5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D72-4154-435B-B5C1-1581B275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8BC-E91B-42AA-894C-FC8B9AE9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D63-04DB-4A57-87C7-E59756D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097-3A09-410F-B35B-6B99AF0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86D-4BE1-4FEC-BB07-EC223B0B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CB0-FB11-44AD-8B4C-0CFD425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FFA-6D84-436A-A4F6-975F415E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072-994F-4788-90BE-D487790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C50D9-D628-482F-9C6E-E7321CC7F51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исус, имя всех вы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114800"/>
            <a:ext cx="948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имя всех вы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, Славный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мануил, Бог вечно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вободитель, вечно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2:40Z</dcterms:modified>
  <cp:revision>10</cp:revision>
  <dc:subject>The Source, song number 291 in Russian</dc:subject>
  <dc:title>Иисус, имя всех выше / Jesus, Name Above All Names</dc:title>
</cp:coreProperties>
</file>