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FCE-E04D-40C8-AA2A-A80D8A91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B60-3452-4EF2-9231-5AF3B016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BB9-E5C9-45D3-8193-B460D2F1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B07-9560-469B-A86B-EA15666D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5DE-155D-45CF-8A07-25CAAED7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85A-ADAB-4246-AAA5-23A5746E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F79-3A04-485B-AA58-41D37E06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3BC-14E1-4BF6-9611-7F62E4BC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CFF-7E39-445B-9493-286FCEC2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833-2A1D-4E10-AB55-17B35A2A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A77-DDD6-42A3-A5EF-5E002083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FA1-0A45-426F-88E9-E07F0587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8C0FB-0000-4422-8CB6-9C62380A635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lay my life down at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turn to You, and You are alway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n troubled times it’s You I se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put You first, that’s all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umble all I am, all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5   I Lay My Life Dow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2.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always, always t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Ev’ryhow and ev’rywhe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r grace abounds so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ithin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will never ever chan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esterday, today the sa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ever, till for ever meets no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×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the wa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truth and the li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 live by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t by sight for You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We’re living all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AU" sz="3200" spc="-1" strike="noStrike">
                <a:solidFill>
                  <a:srgbClr val="ffffff"/>
                </a:solidFill>
                <a:latin typeface="Verdana"/>
              </a:rPr>
              <a:t>(repe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(Here we g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One way, Jesu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’re the only one that I could liv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4T06:14:18Z</dcterms:modified>
  <cp:revision>12</cp:revision>
  <dc:subject>The Source 3, song number 1295</dc:subject>
  <dc:title>I Lay My Life Down At Your Feet (One Way)</dc:title>
</cp:coreProperties>
</file>