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6E6-8D87-4FB8-826D-1FC342AC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C21-6D44-4AF7-B98B-634EFDB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C03-AB11-4885-B6E0-56C99405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1AB-8789-4895-89C0-3522BC10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C19-8932-4790-9B31-B7AC9BC4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9CA-F253-4DA1-B239-20F7052F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111-BF5D-4EEC-8869-3DFA2302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0F6-F756-47F2-8AE8-AABCC8A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17F9-F289-4CAA-AAEF-A4B3BD8F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859-7A6B-45BD-AD7E-D4F4271A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61D-4E88-4BEF-AC12-98EEB1B6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887-5379-4C82-B88A-52B64C28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A8A73-C5CC-4D89-B2C8-106108EBA4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ve you been to Jesus for the cleansing po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fully trusting in His grace this h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познал ли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знал ли благодати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ешься ли ты во всём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lking daily by the Saviour’s s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 you rest each moment in the Cruc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 ли идёшь Его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ешь ли в общеньи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ridegroom come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robes be wh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your soul be ready for the mansions br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янья светлые храни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ённые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лен ли ты жить среди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3080" y="914400"/>
            <a:ext cx="973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y aside the garments that are stained with 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 washed in the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fountain flowing for the soul uncl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be washed in the blood of the Lam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ожи всё, что запятнано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ым будь кр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источник для живущих в мире 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soul-cleansing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r garments spo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they white as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you washed in the blood of the La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ли грех, всяки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творною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л ли ризы белые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мыт ли ты кровью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0:31Z</dcterms:modified>
  <cp:revision>14</cp:revision>
  <dc:subject>Slavic hymnal Гимны веры христиан, hymn 428</dc:subject>
  <dc:title>Are You Washed in the Blood? / Ты познал ли благодати полноту</dc:title>
</cp:coreProperties>
</file>