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BA8-5501-481F-8B38-405AE363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33C-AA5E-4A15-A33E-99BC493A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380D-A3EE-4EF9-A101-8A340B05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3BAA-658F-4D76-83FB-E332074A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E39A-CC3E-4863-B4D3-23DD5E44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BAF5-B817-450F-933B-39B4ECB6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0C7D-D470-4093-8DB1-B8830B73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3F14-A606-44F3-8A33-CBEA305F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5DF-DD0C-4E62-89CA-48AB6211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1A05-9094-4857-8269-262CDF7D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8A6B-CABA-49D5-B560-31D103CD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FD6-806E-4810-8B0F-09EF25CE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E500C-AC76-4B0D-870C-15BA22746DF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ed me to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saw Your face of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at place of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opened up my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lieve Your sweet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’d been so bl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that I’m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all-forgiv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every road leads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69   You Led Me to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keep me nea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 You’ve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teach me of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 You’ve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’s an empty to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ells me of Your resur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life i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tone lies rolled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hing but those folded grave-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r body 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that I’m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 risen child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every road leads to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keep me near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 You’ve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viour, teach me of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forget the love You’ve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1:53Z</dcterms:modified>
  <cp:revision>12</cp:revision>
  <dc:subject>The Source 3, song number 1669</dc:subject>
  <dc:title>You Led Me to the Cross (Jesus, Keep Me Near the Cross)</dc:title>
</cp:coreProperties>
</file>