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292-4335-4C0E-ADAB-475B8D67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A5E-6277-4EE4-84B5-04AE28E6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5AF0-F512-48D2-B49C-24720D12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57F6-EB1D-4D98-BC7C-015C4389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962-D4CF-48EC-910D-508AF105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03E-6031-43D4-988A-AD56D1D3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FA3-33EF-45FE-AA65-0D3D5B75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036-D91F-4218-8875-7719F7CD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F00-28FA-410F-BC95-6838271E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13A-B1A5-4294-A2C3-0B90783A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00A-9A19-4064-AF85-50B3E482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5F3-20FA-4B9D-ABB7-7C27C469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A7603-E1E7-476B-892A-B840CB8FC0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ing now th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blood-ransomed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soul there is peace,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l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могу теперь п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гу теперь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 небо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ила в душе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sickness there’s heal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poverty, weal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ч недугов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д сокровищ живы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, I’m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me and keeps me jus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with the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the throne in th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orm and the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midst of the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uts in my hand vict’ry’s pal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тречу гроз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Иисуса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дежда и крепост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coming all fo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ord I rep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живёт в темн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о Хрис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, I’m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me and keeps me jus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with the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the throne in th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free from all doub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in the sh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сомнений у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ётся хв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, I’m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me and keeps me jus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with the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the throne in th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I know I’m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ord, and I str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blood with the sin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uld dam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со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рюся с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лютой битвы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I walk in th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trength for the f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зло побежд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, I’m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 me and keeps me jus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и хранит в свет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join with the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the throne in th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redeemed by the blood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м р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ю с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искупил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grace for the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help by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healing and comforting bal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хлеб Он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ути береж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ет, Собой ос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48Z</dcterms:modified>
  <cp:revision>13</cp:revision>
  <dc:subject>Slavic hymnal Гимны веры христиан, hymn 420</dc:subject>
  <dc:title>I’m Redeemed / Я могу теперь петь</dc:title>
</cp:coreProperties>
</file>