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F5A-6BDD-4F9A-A300-6C190FB8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154-BEBA-43AC-8695-569A7B0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038-7023-4828-B6E7-40E3A46B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0C2-BEC5-4FB1-BBB9-2CE03E42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0C5-2CC6-4957-B3E3-65BAC78B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FC5-E2FE-48BD-90CB-AE403FEE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D54-879B-4358-AF88-D58BDFC7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317-43EF-4809-A0B9-6B88635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A08-0D84-4DE3-A921-07E320FD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FAB-9DBA-49E8-BE4B-9A6F306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D1B-534E-4F2F-B6CA-2D56533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316-68DB-484B-B9A9-477B732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DBFCA-C4C8-4115-864C-B58FAB33E7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имо до церкв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гонь Святого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н непогасне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6   Належимо до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Святого Духа, що ді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еркві ц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ті дорогії, що діяли ко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и в інших мов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оздоровл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лежать лиш до Церк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’ятидесятниц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2:00Z</dcterms:modified>
  <cp:revision>14</cp:revision>
  <dc:subject>Slavic hymnal Гимны веры христиан, Ukrainian hymn 96</dc:subject>
  <dc:title>Належимо до церкви П’ятидесятниці</dc:title>
</cp:coreProperties>
</file>