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D55-F9B8-4950-86E9-AF104A7E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8B9-9388-467E-B57D-40F3D487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A40-225A-43AA-A37B-E77B7163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3AA8-2B6E-4BEA-BAF9-DBD03C4E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92D-EF0B-4751-A43E-269CAAD2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DA8-7F8A-4D18-8D8F-FD0A104C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919-8F44-479A-878F-0D72F412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0077-B389-4EA7-941D-0CE899AD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CA4-E994-442B-83F6-8319E62D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8435-908E-4D14-8903-211A17F2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3D6-8F33-4968-8670-013A4737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4B0-8C8C-434E-AB00-9D7FEF3A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C7D3A-A014-4315-AED0-8D530D0819C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а кресте стекала кр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муках умирав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явил Свою 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лпе, Его предавш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всех врагов, за пал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носил молен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стом любви, крестом скорб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овершил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ам на кресте стекала кр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, грешники, к Хр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д крестом скло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исповедав нище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ристе обогатит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ами, сердцем и у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пасителю взыв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уповании жи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та ожида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омневайтесь в добр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а всего творен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в истине, ни в полн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ова служен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ва кровь омыть силь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чистоту п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ойдёт от вас в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запад от вос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3:22Z</dcterms:modified>
  <cp:revision>12</cp:revision>
  <dc:subject>Slavic hymnal Гимны веры христиан, hymn 407</dc:subject>
  <dc:title>Там на кресте стекала кровь</dc:title>
</cp:coreProperties>
</file>