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339-1147-46B3-92D5-60227EE9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5F2-4260-4634-B3FF-3E505884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589-80AD-4039-BE8C-FD61FE3A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BBF-9834-44CB-880A-7667F213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61C-0E55-432B-AED5-93505647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AAA-3378-47CD-85B3-84A1F5F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ED2-9924-4F44-B1F3-78E98AFA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9E3-0F76-4222-AE32-B29E4174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B11-4A57-4A6D-9629-1E8883F2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417-B762-4311-A2A1-E88FA41C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055-8484-4A91-8009-35640E3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8C4-6E1A-45E7-A3B8-CEBF2704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4E7C4-F86C-472E-BF25-61991F04E5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shers of men, fishers of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, if you fol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you fisher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ollow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41Z</dcterms:modified>
  <cp:revision>12</cp:revision>
  <dc:subject>Slavic hymnal Гимны веры христиан, Ukrainian hymn 47</dc:subject>
  <dc:title>I Will Make You Fishers of Men / Я зроблю вас ловцями людей</dc:title>
</cp:coreProperties>
</file>