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7A0-7EC3-4FD8-B7A1-F954991B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A08C-0D40-4C2B-BFFB-69B5D4E1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11A-8DB7-40A5-B6D5-85B326C7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C04-9262-452E-A698-5AA1CE2C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E07-8611-41C4-B8F0-9BE11280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986-7F8E-4590-81E1-0A9DAA30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126-B3D9-43F1-A796-0CDE7DCB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CDF-4757-4F15-8A50-ECE9BC61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2DE-98B6-478F-938B-58FC078E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3FB-88A3-4B44-8C8A-8288232F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34B-6C46-4CF8-979A-475C31A3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92A-98A3-4151-A80D-FEC1E301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3E21B-A04A-43A5-B828-71BC20D3EE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тов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руки, ноги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о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дти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ю 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внешне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ьмы и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ваем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го бо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к Тому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жизн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ем ох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евой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имы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ругов блуж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к чи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ы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ю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и ум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ярма п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вши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ли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адёт ли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ш 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каждый ш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Христовым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и во мр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ем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ши тварью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7:23Z</dcterms:modified>
  <cp:revision>12</cp:revision>
  <dc:subject>Slavic hymnal Гимны веры христиан, hymn 877</dc:subject>
  <dc:title>Кто из вас Господень?</dc:title>
</cp:coreProperties>
</file>