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F63-31EC-4FFA-967E-D10CF157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0C5-6D64-4A7A-BCFB-9D6D81A4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B90-56A0-4B68-A0F1-55E4979F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AA3-5CE8-4B1B-A896-9E1C2D9A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D10-05D9-4621-80D7-146626E0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85A-5C8D-4384-879E-2841A243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63A-197C-4D2A-BE47-8E0F0848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0B8-B369-4DA5-B999-890A85B7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A4D-D45C-44DE-A2B5-EE7F149D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8A2-92FD-4848-B606-554D2634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739-CA1F-47AF-A39D-BBE104A8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044-D4AF-44D7-B4D9-D9BDDAE7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88122-9377-4584-BC6D-D7CD7536BE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 возрадуйтесь, друзь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 Своими нас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смертные о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ваши Он пор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честь и царственно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о Христе на небе сужде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ь Его, за смерть и за стра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оно Христом обрет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том возрадуйт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ам о чём в виду врагов хвали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Христом — ничем, ничем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 Нём здесь на земле продл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бурь, средь волн, чтоб в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и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ите, все земные наслажд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е вы тщеславье лишь с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познала уто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Христа; вам части нет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с той радостью сравн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с вручил Спасителю От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могучих мы храни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стырь знает нас — Свои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воли Бога не падёт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й волос с нашей гол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Отца небесного при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 дары Его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ог за нас, кто проти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тадо малое,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ец дать царство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 Христом врагов ты поб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облака свидетелей пред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жидают встретить со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украсит славными венц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Иисус, — во след за Ним п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6:33Z</dcterms:modified>
  <cp:revision>12</cp:revision>
  <dc:subject>Slavic hymnal Гимны веры христиан, hymn 296</dc:subject>
  <dc:title>О том возрадуйтесь, друзья Христовы</dc:title>
</cp:coreProperties>
</file>