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537E-D02F-4329-81BE-96FF0CA1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2823-05E3-47B1-9F8D-5A7D4E67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F099-64F1-4667-ABA6-DD75F537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B421-EA3B-41E8-B7C9-76D9CF61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5826-3A34-401F-8437-8531B033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73F2-C1F7-45A3-9047-BD9E0910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2C31-E6B8-4E19-A865-E40B88C7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6CE2-2964-4E81-93C0-D7C768C4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711C-42CF-46D0-BBA4-18B54138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6CC5-08A1-4571-A8FC-8E24732E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AA1A-AA75-4C9F-867B-AB4C4F8E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8BA8-F2B9-438E-8593-93BFCC5F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B71C8-09F1-4B39-B14E-4D735736E3D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 ль постичь любовь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т Его крови свят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ль Он умер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был Ему чуж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― побед зал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за меня страдал Сам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― побед зал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за меня страдал Сам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гу ль постичь люб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айна, глубже всяких тай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винный злыми умерщв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я согрешивших 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ом Небесным утвер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да знают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и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да знают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и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л в небе Свой престо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к грешникам с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ичижил, смирил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ёл на казнь, нас возлю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светле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греха нашл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светле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греха нашл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в темнице изны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цепями скован бы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ебесный свет посл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овы крепкие раз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милости я стал дру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лся, встал, иду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милости я стал дру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лся, встал, иду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осужденья, не страш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за меня свершил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мой Спаситель и Г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жизнь дают Е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в пути, а, на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ст мне золотой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в пути, а, на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ст мне золотой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9:11Z</dcterms:modified>
  <cp:revision>13</cp:revision>
  <dc:subject>Slavic hymnal Гимны веры христиан, hymn 881</dc:subject>
  <dc:title>Могу ль постичь любовь Христа?</dc:title>
</cp:coreProperties>
</file>