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9381-10DD-4892-BF3F-50618627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A435-95A7-4784-8351-83449699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B774-E1C9-49E1-9EB4-CDC312F8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1BF2-BEB4-4C21-B9EE-D436CA1D3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AF32-29F6-4F72-84F9-446403E7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1A9D-B83D-46C2-87F3-D854FE1F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99F1-FAD6-41D5-86F3-09ECC43E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014D-4ED2-41B3-85FD-07C8387E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4BD6-A641-42A4-BE9D-DA391064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A5AD-8146-494E-985D-0AAD8464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5DFE-2A33-4D88-8F0C-C4CEFBB4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F4EB-9552-4473-96D5-9AD0D008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EC176-D474-4523-B45A-BD497D03BF6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, I want to se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, I want to se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2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pen the Eyes of My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You high and lifted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ing in the light of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ur out Your pow’r and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ing holy, holy,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, I want to se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, I want to se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You high and lifted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ing in the light of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ur out Your pow’r and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ing holy, holy,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, I want to se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the eyes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, I want to se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8:46Z</dcterms:modified>
  <cp:revision>11</cp:revision>
  <dc:subject>The Source 2, song number 926</dc:subject>
  <dc:title>Open the Eyes of My Heart</dc:title>
</cp:coreProperties>
</file>