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F16-E24D-4BE3-BE23-193E9F6C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4FF-3069-4B6C-AAE0-1552AD92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C57-9481-481D-808A-D1D2DCBB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C70-E52A-4108-8C2B-B2F871EB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BAE-08BC-4F46-8D79-BF5A2A66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68C-ED22-485B-BDF5-CD1D3E85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27A-72F4-41FA-8B16-92454B91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E07-863F-4991-B2CE-D7BD2607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2CD-37BF-4BA8-94E7-E56926E8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B02-972F-4224-8B09-4D0312C9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19D-2808-4190-98F4-0D8708C4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8634-3575-459F-BC1F-7D6B1FB7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CB3FF-EF74-4091-ADFC-C669420A4BF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here because of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part of Your great pla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have come to seek Your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t the wonders of Your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es, we need Your tou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You’ve given us so muc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just want to 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’ve done for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90  We’re Here Because of G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 bless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 and Lord of lor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 give You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that we a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cleanse our hearts with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ll us with desire for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Your presence in 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’ve made a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Your great l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our hearts are filled with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that You ha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re is none lik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faithful and so tr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we just want to 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ll You’ve brought u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 bless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kings and Lord of lor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ve come to give You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one that we ad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cleanse our hearts with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ill us with desire for You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Your presence in 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4:48Z</dcterms:modified>
  <cp:revision>12</cp:revision>
  <dc:subject>The Source 3, song number 1590</dc:subject>
  <dc:title>We’re Here Because of Grace (We’ve Come to Bless Your Name)</dc:title>
</cp:coreProperties>
</file>