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B71-61B7-4CAB-A572-E180F049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357-2DD3-4136-8BB2-727C8AA9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CAE-2A14-4F4B-B60C-B20720AE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757-DE24-4203-B3B7-2A8878E7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0552-EE11-4832-B278-87A58094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B31-4BD0-45E0-8468-51BC9EFE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250-3A82-457D-9D2D-FC058A3D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91B-A19B-462F-BBB3-7590BCB5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30B-05E0-4472-8790-28C45D32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B07-33FF-4C03-B904-46EFF7F3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CDB-1674-458B-AE1A-870D6828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6D7-7900-47D5-B21D-3808A376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264BF-6937-46B2-A73B-B8AC07F670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the silver cord will br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no more as now shall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O the joy when I shall w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in the palace of the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порвётся жизни 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орвётся жизни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ая смолкнет песн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чно буду там хва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ах горних я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my earthly house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tell how soon ’twill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I know: my All in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s now a place in heav’n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азрушится се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ещё не знаю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наю, в небе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о место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when fades the golden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e rosy-tinted w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blessed Lord will say, “Well don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enter into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станет солнца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 земной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уст Христа приняв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в покой Его в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day till then I’ll watch and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amp all trimmed and burning br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when my Saviour ope’s the ga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ul to Him may take its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 веры пуст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бодрствовать и ж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 верным со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истова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see Him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ell the story—saved b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, Христом я искуп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лостью Его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0Z</dcterms:modified>
  <cp:revision>14</cp:revision>
  <dc:subject>Slavic hymnal Гимны веры христиан, hymn 693</dc:subject>
  <dc:title>Saved By Grace / Когда порвётся жизни нить</dc:title>
</cp:coreProperties>
</file>