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2F3D-817A-4903-81FF-6472218DF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E32B-0253-4869-B8EC-32FF3FA1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4F21-7265-4830-B2E9-AC6D12CC0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5D03-87C2-40F9-B3ED-DBEC00B38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E1B7-38C7-45DA-AB0E-32667262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A39C-AFEE-423D-98AE-740A509A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4D2B-AE51-4788-8BDB-3695177A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D8E7-A23E-4802-AF6F-DD666F3C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0273-CE10-487C-B031-E5529663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803D-EE09-45FC-A2ED-32B87686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CF6A-C38D-409E-8FD5-63EB08A7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D183-1022-428D-A5BC-19D1374C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85DA7-3D8A-4A26-BEBE-4624B4090FA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пко люблю я, Иисус,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дороже Ты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но припал я к груди свят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ир нашёл я, там мой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люблю я крепко Теб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дороже Ты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8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репко люблю я, Иису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пко люблю я, Иисус,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пче же дружбы нет, как Тв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 состраданья, миром све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мой Отец, Твоё я ди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люблю я крепко Теб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дороже Ты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едь простишь мне, если споткнус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утешенье; гимн мой — Иису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Искупитель — Друг незем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же к Тебе Сам сделай дух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люблю я крепко Теб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дороже Ты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Твой люблю я сердцем, ум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мой смирился: будь мне Цар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Твой люблю я, вечно Ты —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иль смерти духом я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люблю я крепко Теб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дороже Ты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7:48Z</dcterms:modified>
  <cp:revision>12</cp:revision>
  <dc:subject>Slavic hymnal Гимны веры христиан, hymn 785</dc:subject>
  <dc:title>Крепко люблю я, Иисус, Тебя</dc:title>
</cp:coreProperties>
</file>