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3AF-98AC-40DA-8952-6317B3A2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3AF-437C-4FED-99C9-FA79A9DE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92C-212D-487F-BC49-9501C079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07C-7C17-4D37-BC0B-F344E3AA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724-5144-4173-8F0E-FFFAD855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AFE-FD44-4919-A885-50E6C6BF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A87-D7A8-4C10-A111-F32ECE41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705-352C-45D0-A028-9D2EBE67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4D0-9525-4487-9E53-2374A5CE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11A-2C9D-4301-954C-E9453B79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04A-DA1A-44B0-BCFE-8F616432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052-82FE-443F-8CFB-EA356E96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63A09-0EF3-47B4-AE12-270BD680CDA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cross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price You p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ring all my sin and sh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love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ave amazing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is lov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nk You for the nail-pierced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hed me in Your cleansing fl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w all I know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orgiveness and emb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094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23   Thank You For the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ated on the th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rown You now with many cro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eign victor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igh and lifted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Son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Darling of heaven, cru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rthy is the Lam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3:49Z</dcterms:modified>
  <cp:revision>12</cp:revision>
  <dc:subject>The Source 3, song number 1523</dc:subject>
  <dc:title>Thank You For the Cross (Worthy is the Lamb)</dc:title>
</cp:coreProperties>
</file>