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2BC-715C-4B9E-BB1D-8BA12DF5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C41-67F1-462C-99F3-11F13ED2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609-6D3B-4B52-89A2-D3F17B90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1F8-B0C3-45F3-B544-A84DAA4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8BF-75DE-4C92-AA2C-4F2D2215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553-2F9F-4BF1-8717-2910C20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412-8846-43F9-AE25-B63ABA6C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BA9-427F-445A-BDF0-5231BAF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461-D583-40E6-864B-23CC441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7D2-E38A-4047-9D1E-DBF1A623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0A5-AAA0-4B80-9138-2569BBF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DED-944C-44DE-B5E7-4C990E8A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E5AD-D584-4ACF-9EBA-2694FDEFA1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! Тобой, как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ился обл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жаждало, прос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арок,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оленья были тще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как прежде, бе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, как Друг заве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мной загов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ятой! Тобой, как сил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един с Отцом и Сы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воей души Т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будет властели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ь иль ты, земной горд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я в раская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мирясь, молись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вой Царь, прид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 тобою облад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груди зажёгся пл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 я, трепетом дыш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стаял в сердце кам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ася ду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о себя всец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, от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Царём души и т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верди в них власть Сво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л я в те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Вечное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снял венок муч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радостей кольц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ех пор Он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, как Друг, в беде лих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чали подкреп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тешитель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читель, наст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истин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ранитель, изб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н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ой наступ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ходит в тот же ми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дух мой испол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бед Его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1:06Z</dcterms:modified>
  <cp:revision>13</cp:revision>
  <dc:subject>Slavic hymnal Гимны веры христиан, hymn 303</dc:subject>
  <dc:title>Дух Святой! Тобой, как силой</dc:title>
</cp:coreProperties>
</file>