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0E5-637F-4398-9B4D-137ED067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A9C-6C5D-46F6-B541-EE9337E0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56D-68C6-4567-8016-8F2E3801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58A-7376-4AB8-8D0A-3EBF3651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843-C1FB-499B-A43D-CE8168B2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8EB-3EE8-4968-A9F1-CE9DEDDC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7AD-93E2-435E-BE17-27A65843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9CC-259A-40E5-AC48-16F84CFE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459-BCA8-425A-8E3C-6BB88632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A7A-B337-45A8-8361-3F933B83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33D-492F-4BD3-9884-FE0CCDE9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C11-0A24-40C2-9EEA-10ED6DDD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88EB8-A26F-4691-8FE6-92BF26322EB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наєш, Боже, моє баж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литву чуеш Ти 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єш серця мого страж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гіркі сльози л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знаєш, Боже, що я баж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слави, скарбів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щирим серцем Тебе кох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моїх весняних юних дн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4   Ти знаєш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ує серце моє по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устах моїх немає слі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, самотній, скорблю душе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овкає мій весняний с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не знає, усім байд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душею лину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то спитає, і хто по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умна душа м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й світ чужий вже мені зробив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, зі мною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слабнуть сили і я втоми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е далека моя пу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я й далі йду за Тоб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ітер стогне, буре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хай сердито шумить пор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боюсь, бо Ти Бог м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30Z</dcterms:modified>
  <cp:revision>12</cp:revision>
  <dc:subject>Slavic hymnal Гимны веры христиан, Ukrainian hymn 54</dc:subject>
  <dc:title>Ти знаєш, Боже, моє бажання</dc:title>
</cp:coreProperties>
</file>