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917-AE6F-463B-B1D8-C4F7DB5D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BB8-B2D3-4CB2-A8A3-AF8D8C83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287-053C-46F5-96DD-64DC184C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245E-8715-4414-BBA5-E62A37EE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40B-47DA-45F1-BB20-23C6258E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F1A-38DB-46E6-9C1F-21885315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704-025F-4A50-9BC7-0B179E7C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FC1-9C83-4CAE-85A1-F98F2834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C67-6E89-4170-8254-CB0ED0BF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6D9-71B9-406F-8FCA-EA958FF7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4ECF-ECB7-497C-BD83-FDA36FE6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B89-8303-4283-9BD9-DB96FDE8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02BC0-0AA6-4201-A29B-EF18DA512E3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там и 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 ждёт больш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доме сделать для нас ую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много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бёнок всё лома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терпит душой за нас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икто не зн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жизнь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овно проте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асто плачет в мольбе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 уроков т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юный ум пленя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ь добро, ненавидеть грех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 тревоги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акой вперёд вз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ясь за сына иль дочь сво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много слё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нько проли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удном сыне, что в грех погряз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всех ещ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Бог в двери р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де-то молится горяч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знает, как та мол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сердце сокруш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тцу приводит страстей раба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олько мать род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15Z</dcterms:modified>
  <cp:revision>12</cp:revision>
  <dc:subject>Slavic hymnal Гимны веры христиан, hymn 778</dc:subject>
  <dc:title>Никто не знает, как там и тут</dc:title>
</cp:coreProperties>
</file>