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667-2A4D-4309-B3F7-2BA58465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DF7-0768-4D9C-BCDE-47F724A9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1B6-3F5D-4B00-B328-ED773F20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6B8-2776-4C92-9929-830F9685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5E3-E00E-424F-B342-7CCE2BCD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395-1630-4B76-879A-79E65852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494-F129-488D-B6EE-5569B67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C3F-C9E4-42A5-BC40-5C73DE23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E30-23D2-48D5-A017-64C765E2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843-575B-40AD-A4A8-6B397FDD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0B6-08CA-40FB-A341-F89B8801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79B-0E36-4FA4-8514-5C0B2929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F9113-4974-4E12-A672-B5E35FDDC0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етки, идите, идите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щеру и к яслям спешите жив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акую святую и дивную 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 Сын Божий, чтоб люд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как в яслях Спаситель л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те, как свет Его чудный г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Младенец прекрасен и м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ей и приятнее ангельски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етки, идите, идите скор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жит Он, ах, детки, в соломе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я, Иосиф с любовью гля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и пастухи поклониться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р ангелов славу воспели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24:31Z</dcterms:modified>
  <cp:revision>14</cp:revision>
  <dc:subject>Slavic hymnal Гимны веры христиан, hymn 754</dc:subject>
  <dc:title>О детки, идите, идите скорей</dc:title>
</cp:coreProperties>
</file>