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4CBA-E36C-4B37-9766-3C0EAC7EA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378A-0CA7-4CF9-96FF-21E57982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A7F8-34F1-46B4-BAF9-C56F2E096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E6AC-9005-4333-9C1F-D79935E55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3AA7-9E65-491F-AB50-BCE4D0CE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9A24-DA68-4B4E-AB15-462F77EF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D201-6092-4507-A763-9984FC9F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2F78-F0E2-40A3-8800-D5B62279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B120-4B82-4CF1-A720-E76EF949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58C4-C762-44D6-B3B6-243D9E7B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F3AC-E474-42FB-820E-69372D4A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4A2A-87EA-4358-805C-5406FCB8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E598F-50A9-49B5-B11E-56948CF9E81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lood that Jesus shed for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ay back on Calv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lood that gives me str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day to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will never lose its pow’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97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he Blood that Jesus Sh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reaches to the highest mount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flows to the lowest vall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lood that gives me str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day to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will never lose its pow’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soothes my dou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alms my f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t dries all my tea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lood that gives me str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day to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will never lose its pow’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reaches to the highest mount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flows to the lowest vall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lood that gives me str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day to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will never lose its pow’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2-05-01T01:35:51Z</dcterms:modified>
  <cp:revision>11</cp:revision>
  <dc:subject>The Source 2, song number 972</dc:subject>
  <dc:title>The Blood that Jesus Shed for Me (The Blood Will Never Lose Its Power)</dc:title>
</cp:coreProperties>
</file>