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1BE4-0BE9-4538-B9E7-31CD0BEA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9F7-E86A-4E67-B2D7-1467AC26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AAD-3AFF-4CE1-9F75-C089033A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70E-E52A-416E-9EB1-42D43A74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71C-8663-4145-AEE6-54105F4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848F-C36C-43D5-8E39-580AF07B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8FF-C5D3-4E16-BA1B-5FAB9AD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0E5-3A7F-4EA1-BB11-5EBD19E7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E3B-4C40-4285-B3F0-D68C079C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0B0-7A72-44BF-91CB-33BA1C78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FF8-4590-44ED-A16E-EE28056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36A-40BC-4185-BF93-032CE07D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25E0F-C785-4BB6-AE9A-1337A0DEA2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там? Кто там?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дверей стоит прохож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ирён, и велич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Царь, это Сын Бож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, тихо постуч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тучит! Стучит! Отвор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учит! Стучит! Христос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йди! Пойди! Всё Он 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округ замка об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ющ неправды, словно се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углу сердечном впил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рудно двери отп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Стучит! Христос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! Скорей! Иль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онзённою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й Спаситель всё ст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 любовью за т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ый взор Его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06Z</dcterms:modified>
  <cp:revision>12</cp:revision>
  <dc:subject>Slavic hymnal Гимны веры христиан, hymn 388</dc:subject>
  <dc:title>Стучит! Стучит! Отвори!</dc:title>
</cp:coreProperties>
</file>