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F6A1-97FB-463E-9093-25979081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E81-CD5C-42C4-A155-F22A976A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0AD-32FF-40C5-B917-999E579C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C91-224D-4113-BA94-BA426FA3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37D-50C9-4820-BA63-A37DFF69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8FF-AC8C-48BD-9BDF-DAF8B499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09A-EF93-4E93-B860-3FF540F0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697-B745-4C53-8891-F2CBD305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E04-D4C0-4EB0-BD87-D679142D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8B9-88A5-40CE-B69F-27088D09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4B5-096C-43D2-BD52-7D73FFF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532-58AB-4817-AD22-C1E4FAF8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91B67-78E1-4F96-A685-0C1E7FF1A3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lt me, moul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, us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the liv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afresh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pirit of the Living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16Z</dcterms:modified>
  <cp:revision>10</cp:revision>
  <dc:subject>The Source, song number 462</dc:subject>
  <dc:title>Spirit of the Living God</dc:title>
</cp:coreProperties>
</file>