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2B31-3083-49B2-9EDF-E2EEBF407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F0AD-9C44-4706-A0DD-5BC8ED90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4D64-DA9D-474D-8C94-E7E77F17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6A26-99B9-4FAA-93B9-E8B8D96EA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B547-960A-4FB6-AF0A-851BCB47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9B41-63F5-434F-AAD2-0CA8D841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CE9E-4875-4CEC-9C5E-2C334BDD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2F9C-7994-43AB-BF3C-BC42797C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C073-D155-4B1F-AB8D-FC6537A0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7AF6-2887-441E-913B-563387EC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C481-22E0-4489-A7A9-6853F395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985C-D5C3-4033-AA52-FD790E31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A02E1-FE95-4FAD-8B4C-58B57415456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we pray and while we pl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you see your soul’s deep ne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our Father calls you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you not, my brother, c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час молит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молитвы, в час про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твоей нужды боль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приятный, в час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ли, брат, дом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have wandered far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risk another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turn from God your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day accept His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еко ты заблуд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Христа в путях зем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 Он примир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, мой друг, вн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world you’ve failed to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ught of peace for troubled mi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Christ, on Him belie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 and joy you shall rece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айдёшь ты утеш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решном мире сём, брат м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Иисусе в день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обретёшь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Christ, confession mak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Christ, and pardon tak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in Him from 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keep you all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прийти к Нему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зыщи прощ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с небес об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твой искуп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now? Why not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not come to Jes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11-28T02:21:04Z</dcterms:modified>
  <cp:revision>13</cp:revision>
  <dc:subject>Slavic hymnal Гимны веры христиан, hymn 335</dc:subject>
  <dc:title>Why Not Now? / В час молитвы, в час прощенья</dc:title>
</cp:coreProperties>
</file>