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FC0-7C38-4961-B4D1-E13985DD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C06-DDD3-4C03-8375-0A97D688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4F2-FCED-4734-B570-77068822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203-CEFB-48A3-AD1A-E8BF6DE0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D41C-93E8-4962-912A-D9C3E4C3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93D-8AD4-4FCC-9B84-D7370644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F366-537B-471C-8856-0113AF7C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E7A-14B3-4EE2-B299-FCD4E8EB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93A4-CFCA-4E0B-9A3B-9211866E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B563-795D-4384-8E19-14023A28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424-EB62-4927-8A3B-E57E6503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D10-5907-4998-8E9D-5489C260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26231-D0CF-404D-AE1E-7A75A7A768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благости, полный рад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ый день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рехом том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Христос родил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ющим всем день торж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лный благ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благости, полный рад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ый день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небес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и чуде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ют всем день торж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благости, полный радо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ный день Рожд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дан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Примиритель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йтесь, настал день торжест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2:08Z</dcterms:modified>
  <cp:revision>13</cp:revision>
  <dc:subject>Slavic hymnal Гимны веры христиан, hymn 241</dc:subject>
  <dc:title>Полный благости, полный радости</dc:title>
</cp:coreProperties>
</file>