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964-5052-41DA-9A87-CE48F63D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E42-3333-4D20-A95C-D6AE4F4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463-D7D3-44FD-814B-E47C2DA8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58F-24E3-4C7E-9B22-5F3A1740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4BF-C7E6-4D84-8EE2-1451EE9B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B33-C4F2-49CB-84C7-8563C563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92D-DA13-4432-A9D1-56B66F2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6FD-04B8-4AB9-B73C-58D12A3F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47C-E786-47D8-8718-9A3153D8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4E3-FA45-4037-97CF-0510CBBB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33D-6BA4-467B-85E0-6A3E047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B5E-2690-4A55-B4A8-2942384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5BE9C-0238-42F9-ACB6-E261C54F02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гибающим правду с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пробудите уснувших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дям блуждаю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искупления всем поне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оляйте к Иисусу при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спасения славьте, хвал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несчастный мог счастье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страдающем, в скор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ик Дух Божий лишь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сияющим слуга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о том на земле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уждение тяжкого д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ть к бесконечному счастью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слаждение в жизни недол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тешенье без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28Z</dcterms:modified>
  <cp:revision>12</cp:revision>
  <dc:subject>Slavic hymnal Гимны веры христиан, hymn 531</dc:subject>
  <dc:title>Людям блуждающим</dc:title>
</cp:coreProperties>
</file>