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6C3-FEDB-4497-BF47-34DF4F1E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6DB-F314-4630-A3DE-114A8380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BE4-9492-4616-A186-5059D59E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9B8-0FEF-4807-8EDE-6C1CE4E6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B79-D293-4815-8654-84C1568A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13C-6358-486E-8BD8-FE0BD984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4DA-BEDA-4798-B1C1-1A7CC16E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3ED-12ED-4054-A8CC-C1BC680F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5C0-8120-43B6-BC59-8BF5EF77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7FD-D448-411E-8577-AFF0D001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C51-14C9-471E-B179-5BB6D7D3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99B-D9A5-426E-A0BA-B6FBE8D6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8A74B-E5BA-4882-9DAB-CFA0F4E979F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lovely is Your dwelling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 Almigh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longs and even faint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re my heart is satisf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Your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ing beneath the shadow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w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w Lovely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ousands els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I ask and I would see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r beau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ind You in th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dw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ousands els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and flesh cry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, the living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’s water for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tasted and I’ve s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once again to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draw near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draw near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hou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tter is one day in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ousands else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11Z</dcterms:modified>
  <cp:revision>10</cp:revision>
  <dc:subject>The Source, song number 188</dc:subject>
  <dc:title>How Lovely Is Your Dwelling Place (Better Is One Day)</dc:title>
</cp:coreProperties>
</file>