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A3B-9FA7-4413-81BE-CD391843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0CF-695C-4AAD-BFC7-D257A6D6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C1D-C19E-4270-9A82-8316C03D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E99-C937-4570-80D7-7463EC7E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4E5-F31F-433A-A0A5-B787C02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64C-1C68-4604-A816-EFC3F7AE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AF5-E59C-4094-BDFD-329BE6BD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D37-21A0-4C92-A2C9-2520598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D08-8F67-4079-B820-7FBA4647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300-5567-40E1-9F96-5EE07954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00A-44A2-4B6E-A787-7118CD2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3F5-AAAC-482D-85DF-FC63842F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27549-054E-497D-8256-D1F30509B8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мне, братья и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ы хотите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овник колючий и остр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мни, и тьма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утники в рай Хана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ого счастья расц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сумрак и вихрь ураг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идим спаситель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те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чень хотелось бы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лёкий отправить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страшусь пред скорбя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где сил почерп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ушаем Божье в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осылает С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даёт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чит, и лечит не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Я решился ост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мире и с вами п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, Бог может на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го святое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ствуем сердца р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но нам руки да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месте пойдём в еди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славный, обещанны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лго, и путь мы сверш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 к воротам род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имет Господь нас в Свой го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м блаженствова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40:30Z</dcterms:modified>
  <cp:revision>12</cp:revision>
  <dc:subject>Slavic hymnal Гимны веры христиан, hymn 460</dc:subject>
  <dc:title>Скажите мне, братья и сёстры</dc:title>
</cp:coreProperties>
</file>