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849A-DDFC-4263-8EB9-5E9DD3CF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02F9-86FF-4298-8CE2-AC624B38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2080-DD72-4FD8-8F7F-6DBEA828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07A1-09FA-47A4-A379-4588213A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7404-36F4-406D-B2AF-7CD9A6C2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B47F-BB52-4807-A61F-6DC2E669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D0D6-2351-4A47-847A-1B86ECDF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BA05-6941-4C97-9E16-561A3981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2E16-BB03-4003-96B2-63E85FFC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BB64-FB7D-408A-9B50-43C38D23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8577-7894-41F8-AE91-0CCFCF97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C81A-7D5F-4D00-ACE8-0D94030F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84204-ABA6-49DB-B847-5C9365A6FA7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еня хочет сдел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меркнущим лу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ветит словом и де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сех людей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 меня хочет сдел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вою мне даст си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, как Он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ей великих и м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ть, как Он здесь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еня в этом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лого со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ёт благодать без 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Свой по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ым лучом для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быть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ить Ему в жизни э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—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4:49Z</dcterms:modified>
  <cp:revision>12</cp:revision>
  <dc:subject>Slavic hymnal Гимны веры христиан, hymn 896</dc:subject>
  <dc:title>Господь меня хочет сделать</dc:title>
</cp:coreProperties>
</file>