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FCDF-24AD-4A81-8B4F-0A6237070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39EC-CD5A-4B2D-AD4C-45AE580E0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BD9C-6100-40B5-A59B-A6E8CBC70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ACA7-D134-49DA-A68B-8D7A2D7A8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326D-5BB9-4AE4-A767-495332DC0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1D63-C648-4BE8-B38B-B90479A21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7EA3-EB5F-4137-873A-2B94D719B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3152-32C2-4FA3-AC31-7CE23E4EB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7FE2-53F1-4BC9-8D80-58E6A1B74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D538-ABBF-447F-BC29-D636585C6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54C5-BBA8-42FD-9BEA-D08B7118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9A48-7518-48AF-84AE-1B473C4A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E22EB2-F0CE-43D3-AA01-FF9F99506D0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благай Христа, мій дру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жним часом дорож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, молись, не будь байдуж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 Спасителя спіш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дає, всім серц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ут надію, раді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дає, всім серц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ут надію, раді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3   О, благай Хри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 Христа прийди покір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дитя Його прос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оче Він тебе безмір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 загибелі сп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дає, всім серц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ут надію, раді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дає, всім серц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ут надію, раді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сус серце утішає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люблю ім’я Й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мене лиш підкріпля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тереже від зла всь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дає, всім серц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ут надію, раді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дає, всім серц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ут надію, раді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ні будуть зустріч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чного Царя з неб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риста будуть прославля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Творця святих чуде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дає, всім серц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ут надію, раді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дає, всім серц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ут надію, радість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28:47Z</dcterms:modified>
  <cp:revision>14</cp:revision>
  <dc:subject>Slavic hymnal Гимны веры христиан, Ukrainian hymn 13</dc:subject>
  <dc:title>О, благай Христа, мій друже</dc:title>
</cp:coreProperties>
</file>