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B44-716A-4C92-8C86-43925283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69C-0F99-4BB4-B193-D9E2BAD6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B5F9-C755-466C-AC1C-F746B86F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68C-3C15-4DA7-8F11-50D642AD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1BC-7E73-4C0F-A26B-4FB36C1A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3FE-1C00-408C-BEAB-9B3DE1A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55F-CAEF-4ED2-B2CA-C11B1D11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6B6-2336-4B57-A65B-939A5581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E97-BEFC-4888-8406-C9D4664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F59-46BB-41A5-95A7-546528CA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BBF-D43A-45FC-9B39-C1A291D2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A88-C719-4EB3-9765-7BCA41A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D5AB7-ECFC-4A84-8DA3-3BADE2EE9F5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звучит длинный ряд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стоит выше всяких сл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ам петь ангел бы го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Эта весть зву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важней всех других ве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а весть нужна для жив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весть неси для твои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изни весть передать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попавших в грех, для больной душ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одряй сердца, наставляй в тиш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сохрани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лик — и укрепи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беда кругом, вспомни лишь о т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 Бог велик — и Он спасё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27Z</dcterms:modified>
  <cp:revision>12</cp:revision>
  <dc:subject>Slavic hymnal Гимны веры христиан, hymn 565</dc:subject>
  <dc:title>Эта весть звучит</dc:title>
</cp:coreProperties>
</file>