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D22-DF6A-42CD-BEB1-471ADDAF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675-F149-4539-A33B-7C99C4CB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A6F-73EF-49F5-B606-B2583582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7AA-DBD7-4067-BF30-DB5A21BF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7F5B-3B62-4BD9-BAB5-B334EB7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205-179D-444F-892B-5072DF6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C696-BCAE-4DD6-9A84-90B9340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2E4-90EF-4142-8253-519740B1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716-C4A9-410E-92D6-B39D2D37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F1D-8413-4432-B568-7EC261B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8B1F-1CA2-47BB-9E1A-6907CD88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5EB-C921-45B7-BADE-95A51DE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8ED7-07F7-4B02-8CD5-2CBD28A76B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 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 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 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 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 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 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 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 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 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 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 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 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 мне в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 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 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 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 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 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 как моей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 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05Z</dcterms:modified>
  <cp:revision>12</cp:revision>
  <dc:subject>Slavic hymnal Гимны веры христиан, hymn 624</dc:subject>
  <dc:title>Спаситель о мне недостойном печётся</dc:title>
</cp:coreProperties>
</file>