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2AC-7535-44CF-9F6E-40BC9B01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CEB-F642-47F4-9144-FC4E8572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977-1DBE-4168-9C96-5ECD6BBA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64A-CA10-4C6F-9B4F-29A2EA04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42B-E72E-42E3-937E-E88ECE06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508-2A11-469E-BB01-E370489E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BE6-B657-43EA-AB1B-A673233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24A-2306-4B4A-B0BF-7BA1222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675-A23A-4C42-8A54-283526AA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16B-F854-46DB-9936-2D999D76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5FA-15BF-41E2-A0FE-5D04BDB5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9025-8BDC-431A-A4BE-FA732B1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3492E-8C89-4F2D-B87D-F66B1ED8AF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немощен, наг, утомлён и уб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руден Мой путь и да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итаюсь Я по миру беден и нищ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уся у многих жили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ася, у двери твоей 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глас Мой услы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дверь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кто Меня призовёт,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ому Я войду и того возлюбл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ечерю с ним разд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лаб, изнемог ты в труде и борьб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Я силы прибавлю те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лачешь, последние слёзы с о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тру Я рукою М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уду в печали тебя утеш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яду с тобой вечер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ася, у двери твоей Я стою; 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пусти Меня в келью сво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30Z</dcterms:modified>
  <cp:revision>13</cp:revision>
  <dc:subject>Slavic hymnal Гимны веры христиан, hymn 391</dc:subject>
  <dc:title>Стучася, у двери твоей Я стою</dc:title>
</cp:coreProperties>
</file>