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D20-9760-4B8A-AF2D-1DDE2203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362-24E6-49E2-BB46-EF6241A5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4F5-6225-4CBE-B8F3-AF96B8CC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6D2-7544-4D25-B63B-CC9D3014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DC7-0404-4F91-A9D8-D8170F50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8E8-2587-4F75-AA89-CA225915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CD9-3FE5-428B-9D4F-7A2FB6DE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613-106C-4BDF-AF2A-8D45683E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988-2F60-4F79-9A45-60A3844B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583-A57D-4B26-A053-D9BDD9F6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CC2-F98C-4FC3-963D-2D11C031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A97-6DF0-4309-8094-A9024A0D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96E28-79EC-4F07-9D63-9DC8FB9AA97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I walk 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hadow of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erfect love is casting out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when I’m caught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torms of thi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turn back; I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80   Even Though I Wal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ear no ev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God is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f my God i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can see a light that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heart that holds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glorious light beyond all comp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ill be an end to these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until that day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live to know You here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fear no ev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y God is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f my God is wit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then shall I f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can see a light that is 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heart that holds 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will be an end to these troub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until that day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 will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I will prais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rough the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high and ev’ry 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no, You never let g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never let go of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I walk through the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hadow of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erfect love is casting out f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n when I’m caught in the mid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storms of this lif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turn back; I know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47Z</dcterms:modified>
  <cp:revision>12</cp:revision>
  <dc:subject>The Source 4, song number 1780</dc:subject>
  <dc:title>Even Though I Walk Through the Valley (You Never Let Go)</dc:title>
</cp:coreProperties>
</file>