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0AB-C2C2-4204-A1BD-9CA2F00D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328-2A5D-4ED4-A504-16453548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B8C-D0C5-421D-9C21-F6393369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7A01-629B-4ED8-8713-46E710A5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FE0-599F-4A18-89D7-90774758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9E9-AA54-44CA-9766-F87BDCC9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362-293E-42D0-AA10-CA21473E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7F9-0DC7-420F-B472-C9DBA185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DECB-A7B8-4BB9-95BA-58C05AA2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FDC-1C77-4C91-B3BC-3EC0C9FA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DC6-BA9E-4416-B993-73724613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94D-DD12-4689-8ADD-2FBC9019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88B1F-F12F-4D5B-AF3C-56FF3E0EC5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 Христос ли я и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оин ли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яться ль мне встречать враж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ыдится ль мне 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а Христом ли я и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ль на небо понес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укете пышных 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другие в бой и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ьют потоки слё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ов не вижу ль пред с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руду ль призыва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е спешит ли суе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мить Господень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бедить, иду я в б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, дай мн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ерно всё перено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л всегда с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Бог нам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венец, даст ве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нетленный дас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кончим бит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м даст ве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вом Иерусали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6:06Z</dcterms:modified>
  <cp:revision>12</cp:revision>
  <dc:subject>Slavic hymnal Гимны веры христиан, hymn 793</dc:subject>
  <dc:title>Не за Христом ли я иду?</dc:title>
</cp:coreProperties>
</file>