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E00A-B1BA-4E25-88E5-5844745E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1843-37C8-4A00-B1F1-28BB0ADD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40B-C356-4901-8B17-8C0F3532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A28-EC36-4FE5-B92E-2C9D7C19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767A-E9CF-4DB0-A25E-7A2CE2DC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2179-0C3C-4155-9A78-3EB8B679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3C00-5F80-43FE-9B10-BE76BA15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0E7C-53D9-4A01-973C-546079EE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F193-FD05-48BE-AA3F-39791714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B3D6-3B5C-45C8-B21E-5156B22F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2370-3707-4EB9-8396-CDC812E9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2FDC-CE63-4263-AA1B-9DF26FC5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4341A-1365-484F-B578-0CD62698B72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зачем ушёл вда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! Господь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ы не слышишь з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, Спаситель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встречу т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ту мольб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82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3а  Друг мой, зачем ушёл вдал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, заблудший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уждающий душ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нешь ты на ве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 скорей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встречу т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ту мольб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любовь за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много, много 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дёт Господь от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дёт, тебя всё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встречу т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ту мольб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чно будет гол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Его зву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может зов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еки замол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встречу т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 (вспомни ту мольб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6:30Z</dcterms:modified>
  <cp:revision>14</cp:revision>
  <dc:subject>Slavic hymnal Гимны веры христиан, hymn 413а</dc:subject>
  <dc:title>Друг мой, зачем ушёл вдаль?</dc:title>
</cp:coreProperties>
</file>