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1B8-53CE-4CBB-875C-F1B99BF8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CED-4C2C-46BF-88E6-267A2E54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873-EEA8-408B-B47D-21126ECA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E47F-6DEF-41C7-9229-B33D88F2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EA6-D00F-4DC2-BB00-44FAE6F7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F20-180C-45F6-80B4-ED1AE281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DD2-942A-4789-8900-D131A85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70E-2F5A-47DB-B025-62DF8523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1C1-665E-4C44-8914-86B969A0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58C8-09E4-4BE4-A88A-479FC08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DB6-0FE0-43B3-80A4-5B871058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BC0-DBC1-45F7-B69E-C94B881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E6595-6498-4B79-A400-B516B477AA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л последний час разл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с вами должны 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сердца в скорбях и в м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ы мучительной пол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так отрадно было с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ы счастливые де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иться Божьи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же, ближе к Нему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стал последний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немного здесь 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ернистою троп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 — блаженство, Царств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отрёт слезу с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рощайте, братья, сёст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ас утешит Сам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назначил нам свид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ечной радости быть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38Z</dcterms:modified>
  <cp:revision>12</cp:revision>
  <dc:subject>Slavic hymnal Гимны веры христиан, hymn 749</dc:subject>
  <dc:title>Настал последний час разлуки</dc:title>
</cp:coreProperties>
</file>