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B44-D8E6-4659-B124-92B66CE1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60D-BBA4-4AB8-A90D-9FC8C696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1FD-7106-421A-89E7-CF6E627B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8EB-FCC6-488A-B699-3A8C7188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CA2-B331-4848-9A12-1ACDFE2A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703-2D6F-4026-8F6E-325D3F3B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3D9-FA6E-4EFA-BAB6-98C3303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385-1ACC-4F87-BA33-5E5CCBE9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E04-DB0E-437E-94FE-8621BD06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356-0E82-4E8B-A9BB-C261EE3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906-0E5D-4C94-AE48-F44ADF35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4BD-F22E-4D48-91FD-44CFC8D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77C8E-A354-469A-8075-C14AFAF7869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! I am resting, 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joy of what Thou 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finding out the grea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y loving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bid me gaze upon Th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beauty fills my so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, by Thy transforming p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ou hast made me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4   Jesus! I Am 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great Thy loving-kin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Vaster, broader than the s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 how marvellous Thy good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avished all on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, I rest in Thee, Bel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what wealth of grace is Th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now Thy certainty of pro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have made it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mply trusting The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behold Thee as Thou 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hy love so pure, so changel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my hea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atisfies its deepest long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eets, supplies its every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mpasseth me round with blessing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ne is love inde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er lift Thy face upon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I work and wait for Th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Resting ’neath Thy smile, Lord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arth’s dark shadows fl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rightness of my Father’s glo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unshine of my Father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Keep me ever trusting, res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ll me with Thy g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9:57Z</dcterms:modified>
  <cp:revision>13</cp:revision>
  <dc:subject>The Source 3, song number 1364</dc:subject>
  <dc:title>Jesus! I Am Resting, Resting</dc:title>
</cp:coreProperties>
</file>