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381-16C8-4EFA-95EE-1ED17DFD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2A3-C744-49E4-B7D5-D4DD09B1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619-D6C0-4B25-80B7-BCEE114B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04A-8BA3-4490-BDB5-F85C2642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EC3-9BDA-47BC-B959-B0F7BCF2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521-F2BA-4801-AC9C-ED0CC372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81F-0CDC-41BB-A056-5915D008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546-0589-4D9C-A8E4-821924E3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AD7-A126-4C38-8CBD-D7F3F729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C69-3BBC-4AF9-AD0C-032D4F1F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44E-8165-41D9-91C9-8AF6649F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B62-4B44-43C4-9C69-912CF702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85B43-4BAD-4030-93AD-6DA4DB0A03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, скажите Христовым друзь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Он из гроба и нет Его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мый Учитель придёт к ним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адовать их и в любви наст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те, скаж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, несите ту весть и Пет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рижды отрёкся пред Ним поут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тонет теперь от печали и слё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из мёртвых воспрянул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ы малодушно Ему изме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осужденья тебя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рех твой простил и навеки за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ть тебе к жизни блаженный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серафимов, любимцев Твор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беспечальных безгреш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Он, чтоб греш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ных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ели славу Его алт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: Сын Б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мёртвых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те всем смерт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20Z</dcterms:modified>
  <cp:revision>12</cp:revision>
  <dc:subject>Slavic hymnal Гимны веры христиан, hymn 290</dc:subject>
  <dc:title>Идите, скажите Христовым друзьям</dc:title>
</cp:coreProperties>
</file>