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1142-B076-4EF0-8E1E-01859245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F2C-242F-4954-A24D-76EC95D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D9C-7B32-4C4B-8FC8-D3450CD6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0ED-5C41-4D81-ACFF-5785A634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FA5-9985-4DD5-B892-77B1C4A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2B8-1E9D-4F7E-A25A-51738707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6EB-D0DD-43F7-A696-343F5AFB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99B-9AC7-4C72-8927-357F9961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33C-DEFF-4F65-89EA-4DA955E7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0FB-36DA-449D-8360-C7993BCF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BE5-0DBF-4272-8610-AD13307D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A2F-2D88-49E6-A143-BC0924C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A3BAD-2D33-4542-9E23-DBFCD62E02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faith that will not shrin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pressed by ev’ry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tremble on the br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y earthly wo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ра, стойкая в борь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ждая враж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боишься ни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горя, н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ill not murmur nor com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chastening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e hour of grief or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lean upon its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ешь и не ропще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крест нес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ибольшей тес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ободе нас ве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aith that shines more bright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empests rage with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in danger knows n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darkness feels no dou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шь ярче и пол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евог и см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ых дней в сердца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аешь славный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give us such a faith as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whate’er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taste e’en here the hallowed bli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 eternal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веру нам по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вято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ще видеть из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7:21Z</dcterms:modified>
  <cp:revision>12</cp:revision>
  <dc:subject>Slavic hymnal Гимны веры христиан, hymn 851</dc:subject>
  <dc:title>O For a Faith that Will Not Shrink / О вера, стойкая в борьбе</dc:title>
</cp:coreProperties>
</file>