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96</a:t>
            </a:r>
            <a:r>
              <a:rPr b="1" lang="ru-RU" sz="3600" spc="-1" strike="noStrike">
                <a:solidFill>
                  <a:srgbClr val="ffffff"/>
                </a:solidFill>
                <a:latin typeface="Verdana"/>
              </a:rPr>
              <a:t>	</a:t>
            </a:r>
            <a:r>
              <a:rPr b="1" lang="ru-RU" sz="3600" spc="-1" strike="noStrike">
                <a:solidFill>
                  <a:srgbClr val="ffffff"/>
                </a:solidFill>
                <a:latin typeface="Verdana"/>
              </a:rPr>
              <a:t>Подними меня, Спаситель</a:t>
            </a:r>
            <a:endParaRPr b="0" lang="en-US" sz="3600" spc="-1" strike="noStrike">
              <a:solidFill>
                <a:srgbClr val="000000"/>
              </a:solidFill>
              <a:latin typeface="Verdana"/>
            </a:endParaRPr>
          </a:p>
        </p:txBody>
      </p:sp>
      <p:sp>
        <p:nvSpPr>
          <p:cNvPr id="3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Raise me, Jesus, to Thy bosom,</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rom this world of sin and woe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et me feel Thine arms around 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n my soul may know repose.</a:t>
            </a:r>
            <a:endParaRPr b="0" lang="en-US" sz="3200" spc="-1" strike="noStrike">
              <a:solidFill>
                <a:srgbClr val="000000"/>
              </a:solidFill>
              <a:latin typeface="Verdana"/>
            </a:endParaRPr>
          </a:p>
        </p:txBody>
      </p:sp>
      <p:sp>
        <p:nvSpPr>
          <p:cNvPr id="4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Подними меня, Спас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приблизь к Твоей груд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могучею десниц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этом мире огради.</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 am weary with my burde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I come to Thee for res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Kneeling at Thy feet, I pray The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ift me, Jesus, to Thy breast.</a:t>
            </a:r>
            <a:endParaRPr b="0" lang="en-US" sz="3200" spc="-1" strike="noStrike">
              <a:solidFill>
                <a:srgbClr val="000000"/>
              </a:solidFill>
              <a:latin typeface="Verdana"/>
            </a:endParaRPr>
          </a:p>
        </p:txBody>
      </p:sp>
      <p:sp>
        <p:nvSpPr>
          <p:cNvPr id="4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под бременем стена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знемог в земной борь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 коленях умоля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дними меня к Себе!</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Raise me, Jesus, to Thy bosom,</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rom this world of sin and woe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et me feel Thine arms around 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n my soul may know repose.</a:t>
            </a:r>
            <a:endParaRPr b="0" lang="en-US" sz="3200" spc="-1" strike="noStrike">
              <a:solidFill>
                <a:srgbClr val="000000"/>
              </a:solidFill>
              <a:latin typeface="Verdana"/>
            </a:endParaRPr>
          </a:p>
        </p:txBody>
      </p:sp>
      <p:sp>
        <p:nvSpPr>
          <p:cNvPr id="4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дними меня, Спас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горний мир из тьмы скорб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 груди Твоей защи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покой душе моей.</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Raise me, Jesus, to Thy bosom,</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or my heart is slave to fea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at will vanish as a shadow,</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hen it feels Thy presence near.</a:t>
            </a:r>
            <a:endParaRPr b="0" lang="en-US" sz="3200" spc="-1" strike="noStrike">
              <a:solidFill>
                <a:srgbClr val="000000"/>
              </a:solidFill>
              <a:latin typeface="Verdana"/>
            </a:endParaRPr>
          </a:p>
        </p:txBody>
      </p:sp>
      <p:sp>
        <p:nvSpPr>
          <p:cNvPr id="4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Подними меня, Спас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 греховной пусто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ердце страхов не увид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сли близко будешь Ты.</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n my anguish deign to hear 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ll my sin and grief confes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y the promise Thou hast give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ift me, Jesus, to Thy breast.</a:t>
            </a:r>
            <a:endParaRPr b="0" lang="en-US" sz="3200" spc="-1" strike="noStrike">
              <a:solidFill>
                <a:srgbClr val="000000"/>
              </a:solidFill>
              <a:latin typeface="Verdana"/>
            </a:endParaRPr>
          </a:p>
        </p:txBody>
      </p:sp>
      <p:sp>
        <p:nvSpPr>
          <p:cNvPr id="48"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т скорбям границ и кра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открыл мой грех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бещанье выполня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дними меня к Себе.</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Raise me, Jesus, to Thy bosom,</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rom this world of sin and woe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et me feel Thine arms around 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n my soul may know repose.</a:t>
            </a:r>
            <a:endParaRPr b="0" lang="en-US" sz="3200" spc="-1" strike="noStrike">
              <a:solidFill>
                <a:srgbClr val="000000"/>
              </a:solidFill>
              <a:latin typeface="Verdana"/>
            </a:endParaRPr>
          </a:p>
        </p:txBody>
      </p:sp>
      <p:sp>
        <p:nvSpPr>
          <p:cNvPr id="5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дними меня, Спас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горний мир из тьмы скорб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 груди Твоей защи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покой душе моей.</a:t>
            </a:r>
            <a:endParaRPr b="0" lang="en-US" sz="3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Raise me, Jesus, to Thy bosom,</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ear a contrite spirit’s pray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Raise me from the sin around 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Ere I yield me to despair.</a:t>
            </a:r>
            <a:endParaRPr b="0" lang="en-US" sz="3200" spc="-1" strike="noStrike">
              <a:solidFill>
                <a:srgbClr val="000000"/>
              </a:solidFill>
              <a:latin typeface="Verdana"/>
            </a:endParaRPr>
          </a:p>
        </p:txBody>
      </p:sp>
      <p:sp>
        <p:nvSpPr>
          <p:cNvPr id="5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Подними меня, Спас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рассей душевный мра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кажи Твою мне милос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не тешился мой враг.</a:t>
            </a:r>
            <a:endParaRPr b="0" lang="en-US" sz="3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h, I feel that Thou wilt hear 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will give me holy res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Now I feel Thy glory near 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ift me, Jesus, to Thy breast.</a:t>
            </a:r>
            <a:endParaRPr b="0" lang="en-US" sz="3200" spc="-1" strike="noStrike">
              <a:solidFill>
                <a:srgbClr val="000000"/>
              </a:solidFill>
              <a:latin typeface="Verdana"/>
            </a:endParaRPr>
          </a:p>
        </p:txBody>
      </p:sp>
      <p:sp>
        <p:nvSpPr>
          <p:cNvPr id="5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ишь в Тебе успоко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немлешь Ты моей моль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 мой Бог, моё спас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дними меня к Себе.</a:t>
            </a:r>
            <a:endParaRPr b="0" lang="en-US" sz="32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Raise me, Jesus, to Thy bosom,</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rom this world of sin and woe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et me feel Thine arms around 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n my soul may know repose.</a:t>
            </a:r>
            <a:endParaRPr b="0" lang="en-US" sz="3200" spc="-1" strike="noStrike">
              <a:solidFill>
                <a:srgbClr val="000000"/>
              </a:solidFill>
              <a:latin typeface="Verdana"/>
            </a:endParaRPr>
          </a:p>
        </p:txBody>
      </p:sp>
      <p:sp>
        <p:nvSpPr>
          <p:cNvPr id="5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дними меня, Спас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горний мир из тьмы скорб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 груди Твоей защит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покой душе моей.</a:t>
            </a:r>
            <a:endParaRPr b="0" lang="en-US" sz="3200" spc="-1" strike="noStrike">
              <a:solidFill>
                <a:srgbClr val="000000"/>
              </a:solidFill>
              <a:latin typeface="Verdana"/>
            </a:endParaRPr>
          </a:p>
        </p:txBody>
      </p:sp>
      <p:sp>
        <p:nvSpPr>
          <p:cNvPr id="57"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28T05:52:12Z</dcterms:modified>
  <cp:revision>3</cp:revision>
  <dc:subject>Slavic hymnal Гимны веры христиан, hymn 196</dc:subject>
  <dc:title>Raise Me, Jesus / Подними меня, Спаситель</dc:title>
</cp:coreProperties>
</file>