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E5B-E405-48BD-A081-B487009B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07E-7A3E-4176-86AB-EA0BE905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B7F-3438-44BF-8718-D934F447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78C-4229-4F87-9F79-A69FDEFF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6C9-6C6A-4227-8996-FBE494CD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CBF-D992-4E75-A950-871F4506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8990-1576-4C24-B134-E2725EDA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809-120F-4F65-9180-714BB06D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64F6-238D-4245-AF70-09FBC48D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596-3F48-4D40-844B-286C0EA2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DDD-ECE4-49C8-8E12-BA187160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898-00A4-4FA0-ADE1-1338EDAF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F9085-78BF-432C-90EE-C9B1664372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источни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оявлял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моих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так очи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касалася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земная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вей, Дух Божий, вн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этом мире з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всегда везде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ть Твоим ог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й, Дух Божий,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и я не 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и там во век ве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просла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36Z</dcterms:modified>
  <cp:revision>12</cp:revision>
  <dc:subject>Slavic hymnal Гимны веры христиан, hymn 312</dc:subject>
  <dc:title>Повей, Дух Божий, вновь</dc:title>
</cp:coreProperties>
</file>