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875B6-766B-4208-AF19-9CAF9D143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0DBA1-54B4-4340-BF52-B27E813AE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27671-8E04-4CCF-BF05-39E5675AB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509D2-31A6-43F1-B81F-FD28257B1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010AC-F16C-42B4-B2F7-233988A15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901B7-4C78-4E4E-A68D-AB0B4A295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2BA7D-8CF4-4F21-AB53-34BAC93DD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F66A5-F443-4ACD-917F-EF9FAF9E2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64891-90BA-42B4-B1B9-A31336F71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4798C-1EF3-4A7E-B6FA-7B4A28B81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91A01-FE9F-475F-B787-ADDC178C9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3AFF8-DA2A-4017-9FC3-84936906F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EF1B72-5D5F-4C2A-A310-65D16CD42B18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бесный Друг — любовь Е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выше для меня всего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роже всей любви зем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ь, — знаю, что Он м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наю, Он мой, Друг дорог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гда вблизи, живёт со м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венчан славой незем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чудно знать, Господь — Он м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86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Небесный Дру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мой — за грех мой кровь проли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душу спас, освобод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ста наполнил мне хвал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ю Ему, Господь — Он м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наю, Он мой, Друг дорог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гда вблизи, живёт со м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венчан славой незем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чудно знать, Господь — Он м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мой, Он близок мне всегд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разлучимся никогд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вязи живой, как ветвь с лоз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буду в Нём, — знаю, Он м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наю, Он мой, Друг дорог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гда вблизи, живёт со м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венчан славой незем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чудно знать, Господь — Он м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станет день, в небесный д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йду и буду со Христ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увижу Лик свят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скликну: «О Господь, Ты — мой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наю, Он мой, Друг дорог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гда вблизи, живёт со м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венчан славой незем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чудно знать, Господь — Он м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1:26:37Z</dcterms:modified>
  <cp:revision>12</cp:revision>
  <dc:subject>Slavic hymnal Гимны веры христиан, hymn 586</dc:subject>
  <dc:title>Небесный Друг</dc:title>
</cp:coreProperties>
</file>