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7C5-C091-4618-997A-B3ECA57F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4ED-8924-4285-A5B1-05EE140E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AB6-EF1D-495D-A532-0FD1CA74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BDA-99C7-4390-9933-E2D19B05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20D-5AF0-4D9E-AACF-E7B66401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5FE-A2AF-429B-BA30-E5D0029B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08F-F486-403F-81BF-68C61C9C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1C7-773A-44AB-987F-7B68A85C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0B4-83E1-4D80-A28A-0BBB5938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D0E-F75F-4D07-BBA2-39A12505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5F2-91FB-466B-963A-71133BB6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B46-66D7-4C05-BB9F-C76CA10F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E8D07-ECBA-4C53-AEC1-BCA12D0EBD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rength wi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it upon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wait upon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wait upon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, You reign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hope, our strong deliv’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54   Strength Will 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everlast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verlasting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not faint, You won’t grow we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defender of th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mfort those in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us up on wings like ea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rength will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it upon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wait upon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wait upon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, You reign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hope, our strong deliv’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everlast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verlasting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not faint, You won’t grow we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defender of th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mfort those in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us up on wings like ea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God, You reign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hope, our strong deliv’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everlasting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verlasting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not faint, You won’t grow we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defender of th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mfort those in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us up on wings like ea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3:33Z</dcterms:modified>
  <cp:revision>12</cp:revision>
  <dc:subject>The Source 4, song number 2054</dc:subject>
  <dc:title>Strength Will Rise As We Wait (Everlasting God)</dc:title>
</cp:coreProperties>
</file>