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C00-40AA-4A83-9C91-4EE4D106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874-B0AB-4FFF-A742-C169B79C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6C47-650D-4256-892C-2F47EE4A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6D7-B513-40CF-A5F8-BC6E3A91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265-D1EC-4432-ABFC-E512DDBC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F7B-D60F-4509-BBB8-4BEA1E2B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D50-CE7A-47D2-9919-3603708C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0C7-3AFB-45CD-B091-E729E030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10C-D0D0-46EE-87B2-DA565AE2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70E0-7FC0-4241-9C99-17A87545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6FB-5332-464C-9490-EC7A73B1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D07-EE9D-413B-812C-27C7C94F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C8AE7-E1FD-4F1D-85A7-46C7F026234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ы богатства я дости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ёд, и хлеб в моих ру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ане той вечный день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очи мрак навек заб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аны богатства я дости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мой ид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мне даёт с С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рукой ведёт Он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край богатства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ревья в той стране цве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аромат повсюду ль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зде журчит волной в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не вяну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терок, лаская слу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с высот чудесный зв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— песня ангелов свят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щих счастье душ людс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чудный край, приют сер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я на горе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ю я вдаль седых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м в лучах блестит дворе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ижу берег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неба и свой дом род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31:33Z</dcterms:modified>
  <cp:revision>13</cp:revision>
  <dc:subject>Slavic hymnal Гимны веры христиан, hymn 592</dc:subject>
  <dc:title>Страны богатства я достиг</dc:title>
</cp:coreProperties>
</file>