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5634-7588-4852-9ECC-72E3B95D8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FC0B-C119-4FD1-8651-86646B34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DDA4-4C6B-43C2-8FED-C7346449E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87A2-6380-41D2-BD1B-FA5A666D8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D15B-273F-4986-B158-6C76BBEC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1C1C-A5DF-4FD0-861C-598C0AB2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5ADB-5379-44AD-9D7A-5292B92F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87B8-4979-487F-9F50-AD35493E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EA65-87D6-41DE-BA10-F97C13EB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2175-7D4C-412B-9BFE-E231EF09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4B7A-8E90-42B0-8B29-EFA26F02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823D-7FA8-4F5A-8B73-30459EDA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FCF50-A942-4F83-9B73-5A3B5BA0137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crowned with many crow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rule all things in righte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crowned with many crow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pholding all things by Your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rule in power and reign in gl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Lord of heaven and ear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Lord of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Lord of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9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You Are Crow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9:35Z</dcterms:modified>
  <cp:revision>10</cp:revision>
  <dc:subject>The Source, song number 590</dc:subject>
  <dc:title>You Are Crowned With Many Crowns</dc:title>
</cp:coreProperties>
</file>