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B08A-308F-4707-8DCF-FAE2E0B2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7454-E154-4718-A75E-79409A2A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9654-96E0-407A-A3CA-87BDEA6E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C613-D481-420A-80DA-1CD38C47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933-1FBC-42CC-93F6-AFCEA1C3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97CB-0622-412C-B91A-11B0AD00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CB0B-EB3D-4BCC-BF8E-57473DC4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8355-AAA4-460B-8741-58C28003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5DEB-13CD-4A9A-A7B9-4B99C398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43E8-1993-4535-9CBE-1F4A5DC0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71D5-79E5-4F44-A9B3-EFAF6643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B083-2D29-439E-8548-7FC37FB9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9395A-9831-4A57-9EB1-FE04A4CF8B8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way in a man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crib for a b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ittle Lord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aid down His sweet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tars in the bright 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oked down where He 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ittle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leep on the h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36   Away in a M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attle are low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aby awak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little Lord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crying He m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thee, Lord Jes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ok down from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tay by my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il morning is n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near me, Lord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sk Thee to st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ose by me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ove me, I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 all the dear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y tender c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it us for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ive with The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5:35Z</dcterms:modified>
  <cp:revision>10</cp:revision>
  <dc:subject>The Source, song number 36</dc:subject>
  <dc:title>Away in a Manger</dc:title>
</cp:coreProperties>
</file>