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067-EF17-4407-8373-D5BC3DEC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E2E-ACB2-4CFC-9486-9AD9CA02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D74-FB6F-4290-BD3B-5B5AA818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D51-717E-4F97-8CA9-8352606B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283A-AAB5-4C3A-830E-315A446C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5AD-41B2-4DB7-B257-268E2608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857-62DA-453F-BC3A-E51FC268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D4CF-C7A0-4CD2-8FB8-E59E7A31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BF3-8F4F-4B3C-BEA7-8486EF0D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215-DFFE-4651-84F9-4B5D9A71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02B-7A5F-4AA8-88FB-E8F1A0B1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617-11FF-4C9B-83E5-D733748B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6E2BD-DCFE-474A-9FBD-0607F976AE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, хто радість да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журбі благ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, щастя у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я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е від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вжди захис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 Нього не мож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віті 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1   Хто, хто радість да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у жити з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Господом мої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тражданням відкуп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в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е Спас ус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корше прий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елику рад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ерце прийня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ій друже, вста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Христа прий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, щастя й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ьому й ти знай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0T06:41:16Z</dcterms:modified>
  <cp:revision>12</cp:revision>
  <dc:subject>Slavic hymnal Гимны веры христиан, Ukrainian hymn 61</dc:subject>
  <dc:title>Хто, хто радість дасть?</dc:title>
</cp:coreProperties>
</file>