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8C84-CDD1-4FC1-BDA4-C0C983C7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2CF-6273-4AA2-8625-83B70ED8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175-A9D8-47B8-A7AF-28770835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F46-C0BA-4ECE-B398-99FAE10C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A06-A8CF-4E9F-BB11-41707C51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867-B43A-4D39-8FB8-3F7B45FD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827-16C0-42FF-9E31-B8A704F3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765-E9AC-4CB4-A91D-6666A6CD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432-2382-433D-A9C5-06C2C041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9FC-CA1B-4754-93D8-5E41639F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9DC-74E6-4680-A3CA-196DD6DB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7F7-1CA3-439E-ADB8-C300C1A8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C18D2-0A0B-4FF0-9AAC-9180E3B057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страдалец,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ает мир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о возне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а Меня взглянь!» — молвит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зглянь, страд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ы нищ, грехом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отбросив страх и сты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, кто был врагом плен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а Меня взглянь, будь спасён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луждал ты долго,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ртви свой слабый ду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тец дом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 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ни был, пуст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Господь твой 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! Всё ж близок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, не уми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, 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1:46Z</dcterms:modified>
  <cp:revision>13</cp:revision>
  <dc:subject>Slavic hymnal Гимны веры христиан, hymn 334</dc:subject>
  <dc:title>Взглянь, страдалец, на Христа</dc:title>
</cp:coreProperties>
</file>