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8F1-AC0B-4978-9E5B-DCFC1299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C7F-0095-4308-AED9-C6202671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F15-9ABF-4E8F-9661-7D359535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639-2725-45D4-A43C-922EBC64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494-A572-4D2F-812B-FCAA3D9B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984-31A9-4805-82F1-FEB8B762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B076-5E02-49F6-A533-1E7CB59B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35D-2514-4FBF-B9AE-9C2208E7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2AA-DF55-4FD8-A314-B78D7E60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14A-EFA5-4530-B764-B5A9EC48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E5A-C90E-47D0-A5DB-EC5D2DB6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BCB-4076-474E-B3BF-9E136FE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300CF-86BB-4B8A-AF18-B08529CB40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, достойний 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 й честі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 й честі на землі від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ід серця повн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піваю все Тоб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сюди славити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9   О, Ісус, достойний 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життя нам дарув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м правди осі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р небесний у серця посл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ою за нас про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всі гріхи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всі гріхи Ти нам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гріхи мої про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ю милість прояв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ою милість проявив д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хорониш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ішаєш Духом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авди утішаєш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рони у світі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з Тобою пробу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й нас в кожн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Тебе лиш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1:53Z</dcterms:modified>
  <cp:revision>13</cp:revision>
  <dc:subject>Slavic hymnal Гимны веры христиан, Ukrainian hymn 29</dc:subject>
  <dc:title>О, Ісус, достойний Ти</dc:title>
</cp:coreProperties>
</file>