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8F3-F061-4F38-866E-27D178CD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ADF-9DA3-4D66-A2F9-659453E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E36-C7C1-47DB-AC3E-CDD520E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B2C-0CD7-4E02-BBB2-5DEB640C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DF1-77E8-4461-A2B9-BD15BDA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3DF-8209-47BC-A99F-FA6CD095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AB9-CD99-40AD-A19D-46176850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226-F614-4986-AF92-4101047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03F-C467-4CEC-B708-8DDC2A95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7AE-A937-4687-B0E0-EDD43B18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8CD-2E0A-4B86-8375-1C04497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88B-1F73-4BED-8F98-7A1817C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33B6-59B5-45F7-BA6F-75313BED2E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00Z</dcterms:modified>
  <cp:revision>13</cp:revision>
  <dc:subject>Slavic hymnal Гимны веры христиан, hymn 459</dc:subject>
  <dc:title>Слышу призыв Иисуса</dc:title>
</cp:coreProperties>
</file>