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4A6D-9E53-4787-8930-6D720BF6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E96E-AE4C-45FC-BAAD-CE4337E9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33BA-BD31-409C-AF0B-BDEE99D8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E15E-FABA-4F3C-802E-504C52CB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84C1-D58B-45A3-8E11-1662EB43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7062-23A1-4715-B6CF-F8EB40EF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A583-B377-4A02-A785-58907224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7246-34CA-45D0-AEFB-B5F40065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B6C1-0030-41EE-842D-A4DBD1AE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3D8B-2CE9-47BC-A25F-06D86479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5406-B4C7-416E-8B0E-C5694FDD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B0F6-800E-4F38-90B2-80EDEC92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FB7DE-12DA-4528-BEFE-08C0F0742DB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look into Your holi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gaze into Your loveli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all things that sur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ome shadows in the light of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Твою взираю святость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вою взираю святост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вою взираю я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ём свете всё мерк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ле не ман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’ve found the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reaching You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my will becomes enthrall’d in Your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all things that sur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ome shadows in the light of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я в Тебе нашёл, 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воля стала волей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ём свете всё мерк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ле не ман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rship You, I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reason I live is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rship You, I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reason I live is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лю Тебя, славлю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 для того, чтоб хвалить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лю Тебя, славлю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у для того, чтоб хвалить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17:54Z</dcterms:modified>
  <cp:revision>11</cp:revision>
  <dc:subject>The Source, song number 571 in Russian</dc:subject>
  <dc:title>На Твою взираю святость я / When I Look Into Your Holiness</dc:title>
</cp:coreProperties>
</file>