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4</a:t>
            </a:r>
            <a:r>
              <a:rPr b="1" lang="ru-RU" sz="3600" spc="-1" strike="noStrike">
                <a:solidFill>
                  <a:srgbClr val="ffffff"/>
                </a:solidFill>
                <a:latin typeface="Verdana"/>
              </a:rPr>
              <a:t>	</a:t>
            </a:r>
            <a:r>
              <a:rPr b="1" lang="ru-RU" sz="3600" spc="-1" strike="noStrike">
                <a:solidFill>
                  <a:srgbClr val="ffffff"/>
                </a:solidFill>
                <a:latin typeface="Verdana"/>
              </a:rPr>
              <a:t>Молись в день</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Молись в день радужного счаст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ед трудным подвигом молис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олись, когда грозит несчаст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огда смущаешься, молис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Молись, когда обиду сносиш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огда в опасности, молис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олись, когда за милых просиш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а злого недруга молись!</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Молись, когда слабеют сил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огда возносишься, молис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олись у дорогой могил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а жизнь рождённую молис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Молись в минуту искуше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оль победил себя, молис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олись в печальное мгнове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 Бог простил тебя, молись!</a:t>
            </a:r>
            <a:endParaRPr b="0" lang="en-US" sz="3200" spc="-1" strike="noStrike">
              <a:solidFill>
                <a:srgbClr val="000000"/>
              </a:solidFill>
              <a:latin typeface="Verdana"/>
            </a:endParaRPr>
          </a:p>
        </p:txBody>
      </p:sp>
      <p:sp>
        <p:nvSpPr>
          <p:cNvPr id="41"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25T22:22:42Z</dcterms:modified>
  <cp:revision>3</cp:revision>
  <dc:subject>Slavic hymnal Гимны веры христиан, hymn 14</dc:subject>
  <dc:title>Молись в день радужного счастья</dc:title>
</cp:coreProperties>
</file>