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C41-8108-4406-A307-08503A7F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E01-74C4-4420-A1A1-E506562E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99A-3941-4D23-9A07-21392FEC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1BD-E7B4-42A9-8DAF-2E1F164A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68A-909B-41B0-9D75-C59CD20A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C8D-4402-4161-97CC-A6AE3C74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5F0-EA2D-4953-85AE-5F77CA58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3BB-816B-4C68-88A1-F1AB7F94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D96-D277-41A4-99E3-5AA3124B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E86-552A-45F6-B896-2732C12F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A4F-3DDA-48CA-8C78-964CAD56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75F2-D9D7-432F-A07E-201028C8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74299-F593-4049-A777-42F7AA5499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немножко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лось ещё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зким тернистым троп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ремя Христа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елит Сам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силы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ься! С Ним крест на С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лгофы не трудно 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лько немножко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немного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лось трудиться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кроемся вдаль от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лаве пре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57Z</dcterms:modified>
  <cp:revision>12</cp:revision>
  <dc:subject>Slavic hymnal Гимны веры христиан, hymn 502</dc:subject>
  <dc:title>Только немножко нам</dc:title>
</cp:coreProperties>
</file>