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C643-55BA-4807-BE30-45856FE03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B6A2-BEAD-4199-9C1B-EE0D36438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3E8B-F9E2-4DE7-92BD-84C020FA6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845B-BED3-4B99-8069-BD813EAC8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2DD6-D93D-463A-BD5E-7822C8AF3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FC44-6377-417E-BDF5-C2A1E3557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64B2-C605-40C4-A553-F64491957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735C-6420-406A-86E9-C8798AB52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9892-5DBA-46BC-B3F5-9A9DCE680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9F74-1BA2-47CA-87C0-A08B7ED5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F2BB-6FA7-4D91-BBC2-3917D0DC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7101-2599-4C7E-B970-1E4760E5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0B4A38-F025-4D69-99A8-64C4C871EBC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ыней греховной, 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еправды гнетущий обма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к отчизне иду незе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кровавым следам христи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й родной, незе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обманов мирской суе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иду и при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закатному Солнцу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7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устыней греховной, зем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мнеет вечерняя мг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ится тяжкий и скорбный мой п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е гаснет надежда мо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отчизне моей отдох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й родной, незе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обманов мирской суе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иду и при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закатному Солнцу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ём же смелей за Хри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угаясь людского су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кончится путь наш 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сияют Сиона вра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й родной, незе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обманов мирской суе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иду и при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закатному Солнцу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рукою С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отрёт пот и слёзы с ли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мы встретим родных и друз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блаженство и жизнь без ко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й родной, незе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обманов мирской суе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иду и при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закатному Солнцу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55:56Z</dcterms:modified>
  <cp:revision>12</cp:revision>
  <dc:subject>Slavic hymnal Гимны веры христиан, hymn 675</dc:subject>
  <dc:title>Пустыней греховной, земной</dc:title>
</cp:coreProperties>
</file>