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6EEE-DBAC-4427-91DB-FB5CB4AB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E102-E0F3-41B9-B786-8ED93523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12D5-BB81-4CE6-BC39-A90AAB84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4D9E-18F1-437F-AECD-F896FAFE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8B34-1ACD-4EF3-9DCC-6852FE43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EBF3-BA62-4FD6-A99E-81FF70D1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36D1-7566-40C5-B38E-79A52C8C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6EE1-9686-4C6F-9179-0F7042A8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8128-C5C7-43CE-B032-8FD13A51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67EA-8F4E-4D26-B7FA-60CC68F6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3489-928B-4995-8BFE-2A386197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0EE2-18C6-43E0-A987-51895A6A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4BAC8-77F5-425A-9412-52CE0A4B331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тало сердце, ноют н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мучились на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ы не знаете доро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ой вам надобно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тупите на дорогу ве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злым не ходите на сов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ите всех людей без ме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раем станет этот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стало сердце, ноют ног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коле вам кривить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иться: «Господи, прост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сердцем, дышащим вражд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ой Каина ид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итайте с верой книгу Божь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е сил в ней почерп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покажет в бездорож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пасенью узкий, верны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8:57:00Z</dcterms:modified>
  <cp:revision>12</cp:revision>
  <dc:subject>Slavic hymnal Гимны веры христиан, hymn 395</dc:subject>
  <dc:title>Устало сердце, ноют ноги</dc:title>
</cp:coreProperties>
</file>