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CBBF-5D92-4E39-B4F8-0DB625E85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F623-B306-49C1-88EF-D0BC0CBC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237A-669D-41F3-8D29-146F13419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04D6-1471-4892-9F79-E01FABA30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7D4C-2FFE-4551-8518-F75615D8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A7B3-0421-4231-B8B3-0B3CEB65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D566-3EDE-4809-8295-7F1710B2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AE16-EAD4-4C5F-AA4A-2C6EFFF4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AC77-479F-48ED-AA2B-3840D093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947D-5C89-4662-B2C3-7B2833FA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DFF9-81CA-4E6F-B990-926CB48F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8090-FEAA-44DF-BB74-E55686CE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813E5-E7E4-484B-8EEF-D3961B0F865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меня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у без страха и сты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чтоб меня спа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Голгофе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нём, и ночью за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у везде Его пут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любовь Его по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Голгофе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1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уда б меня Он ни повё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внимать Его сло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, чтоб Он меня держ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ас приблизить к небе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Голгофе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нём, и ночью за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у везде Его пут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любовь Его по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Голгофе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е страшусь я нич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испытаний, ни тр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бы во славе зреть 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а Голгофе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нём, и ночью за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у везде Его пут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любовь Его по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Голгофе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5:45Z</dcterms:modified>
  <cp:revision>13</cp:revision>
  <dc:subject>Slavic hymnal Гимны веры христиан, hymn 513</dc:subject>
  <dc:title>Куда б меня Он ни повёл</dc:title>
</cp:coreProperties>
</file>