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0BE-71B0-4A58-90A1-EC23A6A3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D61-DA70-4E2C-B867-547AA1FD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85E-9434-4AB2-A7F7-9F6FB954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89D-0DF1-46D7-94F6-4D813105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347-44AF-4037-805F-2FE22349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0F5-A8FC-4D1B-81CE-05465EF2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81A-36B8-4AEA-B163-8E3AC9CA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4EE-EB84-4755-9F84-FAD14F7A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53E-E205-4C60-8955-F5A69EA8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4C4-9641-497E-9466-EC66246A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DCF-BDAB-42FF-9FD8-9CDBAC2A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1A8-BD00-4E5A-A322-F3DB3D1A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77ADF-D0F8-4BCD-B035-3FD442FE88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все ве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лику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 вс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торжеству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Царь вам рождён!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ют в хва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ыне все верные в ми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од с вой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ей уби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же Млад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ипет вступ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 Млад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был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Он пос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 мир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рожд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ивое твор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нцом на че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был указ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звезд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удре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лись с мольб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д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ецы прине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ли, Младенец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неба,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род услыш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арском рожд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замыс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ть преступл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йно Млад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ить захот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рож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ать повел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лава в вышних Б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 земл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ам родился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ю Иоси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ал веле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Ирод заду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ть уби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зу возьми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а и 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гстве не мед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иска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2:08Z</dcterms:modified>
  <cp:revision>14</cp:revision>
  <dc:subject>Slavic hymnal Гимны веры христиан, hymn 236</dc:subject>
  <dc:title>Ныне все верные в мире ликуют</dc:title>
</cp:coreProperties>
</file>