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D48-C116-4C91-8785-0B0AF1E7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C5F-B9CD-4308-A814-30D025C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965-79FE-46EA-B0B8-E1A0E3EA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0F6-0F28-491D-91CA-E772D274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7BD-4E9E-43C3-8DDD-9F400F9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7DE-774C-4FF2-B044-1061304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802-BAAA-47B7-85C0-E3C35143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CF8-C6E5-4405-8B88-17A67137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4B0-BC51-49E7-A682-B8DCD909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33D-F853-4A7D-BCE4-53772F93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B07-BB38-4A05-9404-FFA9FE8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3D7-D157-41FE-842C-556F7A2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D4A0E-CB89-4B93-B4CC-1309D38380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2   Чрез Христа мы поб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Христа мы победит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Он, который поразил вра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, воскликни с торжеств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ш Царь!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Бог — наш Царь! 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победу о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ловом победил враг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ся земля воспой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повторить с нача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00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3:37Z</dcterms:modified>
  <cp:revision>12</cp:revision>
  <dc:subject>The Source 3, song number 1562 in Russian</dc:subject>
  <dc:title>Чрез Христа мы победители / Through Our God (Victory Song)</dc:title>
</cp:coreProperties>
</file>