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6845-222C-4F2C-B817-A25B0915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1434-013C-4C84-B472-BEF020E7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D561-9299-4E7F-8F38-FE16888A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08CC-07FE-45D8-82F6-9CBF8FFC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8AAA-8BC2-49CF-9FE9-4418B390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BBD8-F96C-4D07-8479-4F50C18E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53BE-4813-4E23-98D6-E9D89CC3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C1C9-B417-4B97-9673-478D8449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E6E7-D82E-4EB4-AEE8-4D03BFA7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87C3-1812-4AC3-B694-A999B9BA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1AED-BF90-4028-8CE6-087B2FDA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B224-3F25-441E-9198-9C5AAFB2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A614A-2EAD-4C70-B7BA-871202A9C0C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e with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st falls the event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rkness deepe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with me abi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ебудь со м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вет сменился мгл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устеет тьма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s death’s s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, grave, thy vic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riumph still, if Th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e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мерти жа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д, где ужас тв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о всё, — лиш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Thou Thy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fore my closing ey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 through the gloom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int me to the sk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едсмертн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 Свой у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ездою утрен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тьмы го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’s morning break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arth’s vain shadows fl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life, in death, O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e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еет не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ю зар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и смерти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other hel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l and comforts f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of the help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abide with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лиш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оры я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лот бессильных,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ift to its c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bbs out life’s littl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’s joys grow dim; 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es pass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жизни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откий утеч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нет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ое и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ange and de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ll around I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, who changest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e with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песни счаст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звук пус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неизменный, 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not in terro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King of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kind and good,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ling in Thy w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 царским обл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при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 сострад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ым и в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ars for all wo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eart for every plea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Friend of sinner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us bide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сц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 с С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олнца луч, так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need Thy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passing h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but Thy grac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il the tempter’s po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бе нуждаю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час, мо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скус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ревоз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, like Thyself, 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and stay can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cloud and sunshin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e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ветл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лачной по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оводя, хра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fear no foe,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e at hand to bl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lls have no weight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ars no bitter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ен вр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Ты, Господь, вблиз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не тес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я то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52:11Z</dcterms:modified>
  <cp:revision>12</cp:revision>
  <dc:subject>Slavic hymnal Гимны веры христиан, hymn 823</dc:subject>
  <dc:title>Abide With Me / Пребудь со мной</dc:title>
</cp:coreProperties>
</file>