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2FA-4ECC-4E06-8F6F-FBC8C848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540-F25F-4AF1-BC9F-F8398D22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2F6-53D7-4338-9F21-8A31A1FF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8A1-8132-4809-946B-223413D5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DBB-78D6-4F74-8202-1C49BE8B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49B-E2BB-4EBA-A9A4-D9606CCB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18E-43F6-4077-A42C-8563DA12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D84-F985-44F0-8F78-11A4C7EF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704-84EC-43BC-9B63-58000FF1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28B-56AE-4B69-B9EB-20F9EA08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F78-E8D9-49A1-A059-DE01F47E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D6D-216B-45F7-A8CC-DCA349F2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CAF99-9B71-4256-8099-7797A04BEA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дрей на жизненном пути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Божию в работе мы на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бодрей на жизне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станут нам я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полнит сердце всё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Божию научимся тв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взоры к небу возн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49Z</dcterms:modified>
  <cp:revision>12</cp:revision>
  <dc:subject>Slavic hymnal Гимны веры христиан, hymn 453</dc:subject>
  <dc:title>Мы бодрей на жизненном пути пойдём</dc:title>
</cp:coreProperties>
</file>