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917EB-089A-4C74-BAA7-F9C8793BD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99344-EF00-4BD1-8BA8-0CD3406FD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7B473-79ED-43F9-9AAB-87BA76C15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41EF1-5432-49B6-9AEF-2E397A254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76659-DC94-4DA1-A87B-7BEF548B0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456C8-A93B-4B1F-9FF2-BC2A142E0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CB2DE-8AC6-4E9C-A823-147E7CA0C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89A03-1268-4488-B771-C8FC9C47F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F634A-1D73-45E4-86B6-01FDC626F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9E4B3-FDA6-4239-BA58-AF7DEF572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AFE78-5BB2-4A23-805A-776F43D7B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680A8-DAAB-4C5D-836C-B59C3A62D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ECB65B-7613-474D-A5EF-242F263C43D2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ыть может зарё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утро начнёт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олнечный лу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возь туманы пробьёт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ёт Иису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полноте Своей слав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брать от земли Свои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15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Быть может зарё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доколе Господ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воспоём мы тот гимн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Он грядёт к нам, Аллилуйя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лилуйя, амин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лилуйя, амин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ыть может и в полден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ль в час полуноч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незапно увидя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го наши оч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будет ид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нам с источником све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взять от земли Свои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доколе Господ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воспоём мы тот гимн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Он грядёт к нам, Аллилуйя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лилуйя, амин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лилуйя, амин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оинства Божи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неба спускаяс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души спасённы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Грядущим сливаяс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 вместе Ем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споют песнь хвален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взял Он с земли Свои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доколе Господ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воспоём мы тот гимн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Он грядёт к нам, Аллилуйя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лилуйя, амин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лилуйя, амин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радость ту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ерейти без страдани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ез боли недуг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ез мук умиран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ыть с Господом в слав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го восхищённы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уда Он возьмёт Свои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доколе Господ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воспоём мы тот гимн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Он грядёт к нам, Аллилуйя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лилуйя, амин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лилуйя, амин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7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4-16T23:52:55Z</dcterms:modified>
  <cp:revision>13</cp:revision>
  <dc:subject>Slavic hymnal Гимны веры христиан, hymn 315</dc:subject>
  <dc:title>Быть может зарёй</dc:title>
</cp:coreProperties>
</file>