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EE25-9431-400E-B44A-D9E64C91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2232-B758-4EB1-8DC7-BA62E0BF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81E9-C8A2-41D8-9921-2CCFAEF0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F2D3-5D6D-45CF-AD2D-33C9E9F9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F9F-F937-4491-9046-B550A0DD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C16-6E66-423B-BA08-C15F101F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2D37-E32A-41FB-827C-DD0DD893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372-EECC-4485-8944-27E04A79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6E64-F930-46FE-80A1-8F473270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BA82-B410-459E-8527-044522A6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FD52-5527-48E0-90C2-D4320BC4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7B9-A837-4EB5-BA79-29C24E78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E840D-8B9C-4C0A-B8CF-2A88F88FD2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a thousand tongues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reat Redeemer’s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lories of my God and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triumphs of His gra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! жаждет п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! жаждет петь мой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Твоих засл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петь, мольбу тв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сил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racious Master and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sist me to procl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pread through all the earth abro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nours of Th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моги мне возвес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мени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сть Твою распрост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людей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! The name that charms our f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bids our sorrows c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music in the sinner’s 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life, and health, and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имя гонит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из плача п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дкий звон звучит в сердц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нам радость,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reaks the pow’r of cancelled s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sets the prisoner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lood can make the foulest cle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lood avail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крушаешь власть грех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шь от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вь Твоя, Господь,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вает грех люд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50Z</dcterms:modified>
  <cp:revision>13</cp:revision>
  <dc:subject>Slavic hymnal Гимны веры христиан, hymn 591</dc:subject>
  <dc:title>O for a Thousand Tongues to Sing / Спаситель! жаждет петь мой дух</dc:title>
</cp:coreProperties>
</file>