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331-22EA-43A7-B162-60EBE345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500-9F42-4805-B8BB-A81CC22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F73-AF02-4244-9BCD-3140C7D8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183-686A-49F0-AD9A-63AE34A0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D25-5CEE-4C30-AC11-FB42ADB8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8F6-2391-4BDC-952D-BE0BB020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E95-DB15-47D0-A8FB-216B5610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CB1-AA29-4ABC-B753-4419F4F3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A82-8582-4CC7-A3F7-D8EFFF35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217-0889-4133-B157-F386461B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572-FEDC-4F6D-B365-137B3049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93E-F5AE-43DB-ABDF-845ACC5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26574-9519-4BC7-9C8E-A8FC858E46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 есть славить Госп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ть имени Твоему, Всевыш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утром милость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ину Твою в но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лаго есть славить Госп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, Ты защит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Бог, Ты — твердыня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землёй небеса, вы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Твоя вовек ве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ожу мои очи к гор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ношу мои руки к не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знал, что Господь мой ве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илость Его над всей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Господь, 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озвеселил душу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, Господь, Тебе хвалу 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Твои велики, мо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ой Твор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5:23Z</dcterms:modified>
  <cp:revision>12</cp:revision>
  <dc:subject>Slavic hymnal Гимны веры христиан, hymn 796</dc:subject>
  <dc:title>Благо есть славить Господа</dc:title>
</cp:coreProperties>
</file>