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A8BC-D32F-4DF9-BFDF-1337B670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3ED1-F078-4D7F-9834-F20DCEA2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8B9-5289-435F-A396-D78EE4E1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F9E8-9C50-4DC3-A636-F3AC37C6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ABAB-C0CF-4BF9-87CE-E4355746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2989-1059-4E8E-A26C-ABE5C04B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B227-2D5F-4085-8DA8-7FD07C3C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937E-27E2-4245-B56B-153F0890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688F-97E8-4E8A-B072-F2DF41EC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767E-0483-4278-B5F6-C06249F1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A558-3ADC-42E5-9BE3-6C7B6BF9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9B05-3D86-498A-A56B-D2065497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C2528-EA12-407C-94AA-1F6C3E4E309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Спаситель придёт оп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 любви Он придёт соз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рковь Свою к Себе возьм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, спасённый Им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но мгновенье собер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неба Спаситель прид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Он нам 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престол вз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Он Свой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мия главу Христос сокру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бы то Бог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и и горести прекра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бы то Бог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ёртвых поднимет зо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ут к Нему на обл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их будет вел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Он нам 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престол вз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Он Свой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ми Богу пусть нас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придёт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нывайте среди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Он придёт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дрожит, шумят 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горит з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 и жди с небес Цар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Его сей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Он нам 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престол вз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Он Свой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9:21Z</dcterms:modified>
  <cp:revision>12</cp:revision>
  <dc:subject>Slavic hymnal Гимны веры христиан, hymn 323</dc:subject>
  <dc:title>С неба Спаситель придёт опять</dc:title>
</cp:coreProperties>
</file>