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6B90-8AE3-475D-BE96-B272B9D0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6ED-86AB-4387-AB04-E15438B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887-7750-4260-915A-DEA85427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A3E-7E77-4EC1-8E3E-3A4F1156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CE7-7ACF-44E0-8E1F-136B788C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0F5-ED28-4DBC-BB37-0B03C151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8D2E-65E4-4D5D-8CD8-3FD70757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19A-A7E5-431A-B897-D61350CC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21F-9B40-42AE-89D6-FB6CB110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D5E-AADC-4B5C-8218-1E80C22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843-F7AF-435F-BC0E-02DD32CC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9BB-ABB0-409D-8018-93B01B0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3E3E4-B58D-43C9-9483-9858970F2D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Боже могут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Утішитель, Дух правди 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юди присутній і Всевидюч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 тут між нами, нас просві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скарбе ласк многих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, Своїх діток, не забув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йди, вселися в серцях уб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нас, щастя нам 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2   Отче небес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тче небесний, збав нас від скве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чистотою душу вкрас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Твоя ласка радість нам вер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із неволі, Боже, спас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8-08-02T00:58:04Z</dcterms:modified>
  <cp:revision>14</cp:revision>
  <dc:subject>Slavic hymnal Гимны веры христиан, Ukrainian hymn 32</dc:subject>
  <dc:title>Отче небесний, Боже могутній</dc:title>
</cp:coreProperties>
</file>