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CB8-7C05-4109-A6FF-F4427819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E30-B4E8-475B-83F3-A2DB1029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8F7-69CF-4789-8615-EABBC46C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832E-9B95-4E69-8A1A-D36C0DC0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5FF-5FD3-4926-A5BE-6E191091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A40-C92E-4580-BD3B-FB7EB637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56D-7087-446B-8E84-F64B28CF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410-056B-42E8-A010-C7EC7F68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836-C2F0-4D4D-9F81-6F228294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F72-29AA-4A28-BF46-0617B816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C09-CEB7-473B-B81E-A9E1591C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2DE-D3B6-47F9-ADB2-30D96987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5E959-0714-4003-BE99-5C6700BC31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е Антиох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гласит о том расск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ианами свя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лися в первый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городе Антиох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ратстве общности им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первых христиан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ец для покол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енной жизни пл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ерти, верой озар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огня тяжёлых р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увидел изум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сть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зематах и пеще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атакомбах разны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ям явлена в прим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йкость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ши дни, дни искуш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же путь Тобой нам д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силу вдохнов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о сердце, одну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имеет Божий ст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ласим моря и с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первых христи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ез нас откро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йну первых христиан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ь любви неизреч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великий оке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м дал, Господь, 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 первых христи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нам в жизни и служ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ть высокий са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2:41Z</dcterms:modified>
  <cp:revision>13</cp:revision>
  <dc:subject>Slavic hymnal Гимны веры христиан, hymn 769</dc:subject>
  <dc:title>В городе Антиохии</dc:title>
</cp:coreProperties>
</file>