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09DD-B0D4-4088-B848-B68E45B8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C23-45B2-486B-B703-A010D1C6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D5D-2139-45D2-B72C-5F538721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EBE-6EF1-4D63-91EF-1017E85B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60B-3515-46CB-9CAC-4422EB59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3C0-9C16-4CAA-B7B7-A3887C7F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55C-9168-4B59-AD1F-B70ADA3E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687A-0041-494A-B96D-6C55035A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23C-17B2-4F21-A78F-55A400C6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B07E-5D6E-47FB-9478-428E0440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B27-46F9-49C4-978B-F156E392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9BB7-760A-42BE-A2DD-494A651F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BCB9D-1CC3-4594-8463-FEDC5947CF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ся мир! Господь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, ликуй пред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скорей Царя ца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новый гим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новый гим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новый, новый гим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уйся мир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ся мир! Христос при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ерквах поют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я, сады, леса, хол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торят с торже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торят с торже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торят, вторят с торже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грех не ослеплял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ерны не рос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знь даёт, снимает гн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 концах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 концах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, во всех концах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ёс Он мир и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 могли по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ог велик и справед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с Он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с Он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с, как нас Он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3:08Z</dcterms:modified>
  <cp:revision>13</cp:revision>
  <dc:subject>Slavic hymnal Гимны веры христиан, hymn 243</dc:subject>
  <dc:title>Радуйся мир! Господь грядёт</dc:title>
</cp:coreProperties>
</file>