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E07-5A3C-450A-A5CE-ADC71186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231-7D79-45DF-9ACC-B5CAD1B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1B5-B76A-4ADE-A6D1-53AB6CD8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D9F-5786-496D-A684-53D54E4B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0E8-8FC2-4EC4-9B16-04335298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6A0-9119-4B56-899C-F850320F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5EE-9BDA-4BA0-AFE7-A2B2D073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A73-A560-45DC-9EA5-8AF17040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843-2FF6-4C9E-BC7D-E9D979BD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CE1-86E3-4EDC-AB4C-E352DAA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AB8-8E6F-40FA-AB8D-93E648B3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0E2-5D6A-46EE-A328-A977F1E2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20855-9707-4B4A-AAF0-A4DB427D8B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ountain’s top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e sacred herald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news to Zion b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, long in hostile l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лой мира облеч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мира обле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ник радостный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, Сион плен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отрады Он 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ing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mself shall loose th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й плен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ебя от уз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Thy night been long and mourn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riends unfaithful pr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thy foes been proud and scorn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sighs and tears unm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ь вокруг темн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и друзей у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па врагов густ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ёт их лег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thy mou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 still is well bel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Бог ещё Си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, thy God, will now rest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appears th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foes shall flee bef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their boasts and triumphs 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й, Бог тебя восста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всех твоих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бедою просл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блаженства при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deliv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Zion’s King will surely s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иона Сам пошл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shall now att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arfare now is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thy Saviour will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thine at l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вои болезни, 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лечит Сам впол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путь твой долгий, б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градит тебя вдвой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d in everlasting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кнут в вечной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48Z</dcterms:modified>
  <cp:revision>13</cp:revision>
  <dc:subject>Slavic hymnal Гимны веры христиан, hymn 511</dc:subject>
  <dc:title>On the Mountain’s Top Appearing / Силой мира облечённый</dc:title>
</cp:coreProperties>
</file>