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152-D6E4-45EA-A915-1769A489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350-B51B-4277-9948-65BEDD1B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967-A81E-44B1-BBCB-5F666CAA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55A-69BB-46C9-B6A8-E04DE20F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5CC-1CA4-4EEA-8110-71836BDF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4BA-CBDF-487F-AA34-01BD5F3B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8BC-C205-458F-8F64-93F22F10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650-7A60-45C2-85A9-5F36FCFA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077-83A5-4379-B073-1531CCA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3F6-0168-4530-ACB5-B1FADA6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7F8-B590-4914-B096-87927C69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E62-F508-4B84-B513-29C496E0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19705-B939-4937-BDBC-35F15650F5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8:31Z</dcterms:modified>
  <cp:revision>12</cp:revision>
  <dc:subject>Slavic hymnal Гимны веры христиан, hymn 873</dc:subject>
  <dc:title>Нужда ли большая</dc:title>
</cp:coreProperties>
</file>