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A5E5-6833-4FFC-9933-B07D1E6F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CE2-325B-4F27-B5D6-AAE12A61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C31-A093-4316-8BB7-5D77B841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EBC-3199-4EF7-82B2-54C038D5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B13-0704-4E1D-8B63-FAD43377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891-AF17-483B-9BD5-ABD11D85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559-C4E7-4EA9-9D91-F4C9CEAC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BCA-45FF-48C6-96D3-1A5A57A0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7D1-F3EB-476F-A494-6C9EA9B7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B23-6C28-4CD8-BA14-525A7A2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F7C-C682-43D7-B2CD-A1F7D218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0E2-2578-4BE7-8CB8-C51ED6B8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F243A-7D0A-45EF-A5EB-845C3AAE2B4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далеко вже видно то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го вірні лиш люди ввійд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Спаситель веде у Свій 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й відкуплений і вірний лю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8   Там далеко вже ви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у славі, в небесній кра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чудова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Творця там ус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дкуплені кров’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є зібрання спасенних вс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 Духом обняті в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 співають піс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Троном Його пресвя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Він нас вв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ійний і рідний наш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15Z</dcterms:modified>
  <cp:revision>12</cp:revision>
  <dc:subject>Slavic hymnal Гимны веры христиан, Ukrainian hymn 68</dc:subject>
  <dc:title>Там далеко вже видно той край</dc:title>
</cp:coreProperties>
</file>