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456-B1D2-463D-B6DD-605FAAC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443-256F-417A-A9DA-F4868EC7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435-C6CD-4782-9E8F-DACA588A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D7D-E5F2-433F-A836-B0951C09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4BB-4CD8-4F8C-9C81-99B44E3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D6C-DA07-429D-BBF7-A7CF7CD0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85A-2BC0-4C46-927B-3D32B33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377-C2A1-4805-8154-EB2B59C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9FA-575C-45CF-814A-17805E7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3A1-B93C-43EF-B313-91E5256A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748-B47C-4905-99E5-1CF4187E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BD6-F5F1-46E5-9C6C-5712CFC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88D09-9703-4CDB-88F6-F3E074BE6F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м мог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вечный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рех обл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не проти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дли при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может Дух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замол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грешник! чтоб в серд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тва наследн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грешных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нися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ом ц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я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горч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же дар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храм опоро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ерк крас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тарь же Госпо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ыпан зо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вновь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зажиг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уж 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уга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6:55Z</dcterms:modified>
  <cp:revision>12</cp:revision>
  <dc:subject>Slavic hymnal Гимны веры христиан, hymn 306</dc:subject>
  <dc:title>О грешник! чтоб в сердце</dc:title>
</cp:coreProperties>
</file>