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E0F-9011-43F3-AE63-41C92871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BB3-7F26-476E-B09D-045978F1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36A-D60A-475B-B4A4-C18A4B57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FF1-285E-4269-8067-78089022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F8B-6A4C-44BA-8E8E-4F18B3F0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DB2-5724-47CE-A11B-2769C3F6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C7E-5231-4747-996C-999896C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77B-081C-460E-8F3E-DB4AE403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6F7-4FC0-435D-93CC-63B9E0E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970-A40E-4996-A982-98AEF6A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CD9E-9783-4CAA-840D-6D6E6B1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AD1-06D7-4A95-B298-704CF5E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A013-71EF-421F-BEAA-75966677B4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God so loved the wor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ave His only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die on Calvary’s t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sin to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 day He’s coming ba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lory that will 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His love to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полюбив Бог світ, що Сина дав С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Умер Він на хресті, з гріхів щоб нас сп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, радість буде нам, як з’явиться Він з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28Z</dcterms:modified>
  <cp:revision>12</cp:revision>
  <dc:subject>Slavic hymnal Гимны веры христиан, Ukrainian hymn 72</dc:subject>
  <dc:title>For God So Loved the World / Так полюбив Бог світ</dc:title>
</cp:coreProperties>
</file>