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510-8ADA-4E2C-B9EF-76845FDF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294-B6CE-4CC0-8AA2-32802841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D5A-D884-4163-8385-8D100D6B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DD0-792E-4CA0-8E7B-AA515EB7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223-E6B2-48FE-8608-211A8518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408-3DD3-4419-9126-B50BA8C2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A4B-13F9-478A-9572-B82EBADA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CEA-80F7-4A45-B607-5CF53135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18E-81F8-4D2F-B76E-49084D86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457-3ED4-4BF5-A38C-DD64D1D5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D54-99C6-434C-97B7-C49CCA5A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AB9-B95A-4E6D-82A6-4C73110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73CEA-B245-4D6B-82EF-83619FF6390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’ve for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ds that You have spo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mises that burned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have now grown di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doubting heart I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aths of earthly wisdo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give me for my unbelie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new the fir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32   Jesus, I’ve Forgot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ilt an al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 worship things of m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aken jour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ave drawn me far from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now I am ret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mercies ever flow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ardon my transgress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love You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longed to know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tender merc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river of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flowing without 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bow my heart befo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goodness of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forever sh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beacon in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have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have mercy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01Z</dcterms:modified>
  <cp:revision>12</cp:revision>
  <dc:subject>The Source 4, song number 1932</dc:subject>
  <dc:title>Jesus, I’ve Forgotten (Lord, Have Mercy)</dc:title>
</cp:coreProperties>
</file>