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1D4-C105-47F4-90D3-28986782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7E5-BDB6-4B30-80E3-41C5FFC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DB5-0E96-4627-9E8A-DFF15A7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4D6-AAE0-4D2D-BCD5-2936D1C7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558-29B2-4F26-979D-8AACF68E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01A-1025-43A6-87A0-379DCDB9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0BB-7DDA-42A5-A267-544DB92C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861-F1EB-480D-B19F-497DB72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DB0-5075-4A9C-A531-576B845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4FC-649E-4899-B4EE-DD81B42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EE1-7E4F-4896-A5AF-4635010C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4BB-144B-449E-AEAD-05122AA0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0B753-E243-41FB-B53E-CC180226FF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essing on the upwar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w heights I’m gaining eve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as I’m on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емлюсь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вперёд прямым пут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подвигаясь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Тому, Кто жизнь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 силы мне достичь высо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has no desir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oubts arise and fears dism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ome may dwell where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rayer, my aim is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есен мой земно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учит страх, сомненья жг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корбь близка, а грех гне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стремлюсь достичь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live abo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Satan’s darts at me ar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faith has caught the joyfu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 of saints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к небу я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цепь тяжёлую вла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ой слышу песн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м поют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cale the utmost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tch a gleam of glory br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till I’ll pray ’til heaven I’ve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ead me on to higher groun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ья славы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вперёд, молюсь Хрис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осподь, веди на высот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lift me up and let m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on heaven’s table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igher plain than I have 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plant my feet on higher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ьмы ночной в сиянь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зь меня к С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высота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8:19Z</dcterms:modified>
  <cp:revision>12</cp:revision>
  <dc:subject>Slavic hymnal Гимны веры христиан, hymn 853</dc:subject>
  <dc:title>Higher Ground (I’m Pressing On the Upward Way) / Стремлюсь вперёд</dc:title>
</cp:coreProperties>
</file>