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F0F0-2AC2-4AF4-8670-0CAC8A65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CF5D-5BDA-4B7D-A931-D81BBD90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2D38-9106-420D-83FB-8C98C6E9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0F06-1B30-4E38-BF0F-C551FC75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7A01-88BD-4FA3-B068-E2B96F0E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71AC-9762-4DCE-935D-FEB65A31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6AE9-02BC-4697-8945-563FF6C1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12C8-5D95-46D4-8B19-0BE4B0E9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2BF6-2FC8-49DF-9A82-588E759F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D470-7732-46E3-88AA-4A9E4F70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B6CF-BD4A-487D-A4DD-D2A33D49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1019-D427-459F-A49D-3B4945F2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38A2E-C3BD-4A92-ADCE-43458440DC3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a gate that stands aj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rough its portals gle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radiance from the cross af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aviour’s love revea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верста дверь для н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верь для нас од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возь неё си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Спасителя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рай всех приглаш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pth of mercy!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gate was left ajar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! (For me!) For me! (For m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 left ajar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дверь всеблагост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также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(меня), меня (мен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gate ajar stands free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seek through it salva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rich and poor, the great and sm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every tribe and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проходят дверью 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рай войти жел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ый, знатный и прос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приз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pth of mercy!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gate was left ajar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! (For me!) For me! (For m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 left ajar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дверь всеблагост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также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(меня), меня (мен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ss onward, then, though foes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mercy’s gate is op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ccept the cross, and win the cr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’s everlasting to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то чрез эту дверь в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Спаситель прим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мир душе своей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Отец обним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pth of mercy!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gate was left ajar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! (For me!) For me! (For m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 left ajar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дверь всеблагост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также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(меня), меня (мен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river’s brink we’ll 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that here is 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ear the crown of life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ove Him more in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врат святых отчизны 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крест земной он сло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небесный золо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Господь возло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pth of mercy!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gate was left ajar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! (For me!) For me! (For m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 left ajar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дверь всеблагост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также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(меня), меня (мен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51Z</dcterms:modified>
  <cp:revision>13</cp:revision>
  <dc:subject>Slavic hymnal Гимны веры христиан, hymn 371</dc:subject>
  <dc:title>The Gate Ajar For Me / Отверста дверь для нас одна</dc:title>
</cp:coreProperties>
</file>