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965-FDC9-4FBE-883B-9B3B3D2F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E18-3473-446F-91DF-F3538A4A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277-85B7-46B8-953A-C162FAA2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912-94AA-4C22-9DE6-D2755E9C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8F3-7683-45CD-BADA-5EBE7802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EC3-8029-4792-96AA-D278E3C9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296-2B79-4DFF-81DD-0C83ABCE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B7B6-6C48-490E-9107-DD1C9A1B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3C08-11A0-461B-BB36-8BD12A24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188-8184-4B9F-B37F-67EFD05A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091-AB8F-48D3-9F7B-F3C81E22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BA3-4BFE-468B-92D7-E48299C3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D60C1-E570-40AB-8313-3AFF7440E0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assurance, Jesus is m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hat a foretaste of glory div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ir of salvation, purchase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of His Spirit, washed in His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о я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утешен и Им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а наследье хочет Он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приятно Им обла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submission, perfect del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isions of rapture now burst at my s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descending bring from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es of mercy, whispers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 час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отдался, дитя 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яет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хожу я хлеб и пить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fect submission, all is 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in my Saviour am happy and ble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ching and waiting, looking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ed with His goodness, lost in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ильно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рает Свой кров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случилось, радостен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о мною Пастыр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и полный мир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находит в союзе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Тебе я сердце от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умалялся, Ты б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my story, this is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ing my Saviour all the day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7Z</dcterms:modified>
  <cp:revision>13</cp:revision>
  <dc:subject>Slavic hymnal Гимны веры христиан, hymn 593</dc:subject>
  <dc:title>Blessed Assurance / Твёрдо я верю</dc:title>
</cp:coreProperties>
</file>