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68D-2B5D-4438-9161-FFBB02EC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9741-C02A-4EA0-92AC-07A0044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8BA-EF1D-4A22-827D-14E2CF91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550-D904-410D-9F10-42DF6FE5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B69-7C79-4D38-822D-5C96B7A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C44-7269-49CB-AC31-AD301137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D6A-335E-4C98-9500-9444FEEE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E79-A3EF-4A8D-9788-2D3CE39C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E71-1ADB-4A66-B1EC-71E942A6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2C8-E136-48D0-B2E1-61A7E29B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3A1-624E-4E53-8AD8-5E696798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474-43AB-4B02-9B9D-E733B78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A6E9B-2AB8-4728-8F6C-FBB580222A6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crib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our God, the Roc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k is 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His ways are just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of faithfulnes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out in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and upright is He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5   Ascribe Grea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0-12-18T08:15:45Z</dcterms:modified>
  <cp:revision>10</cp:revision>
  <dc:subject>The Source, song number 25</dc:subject>
  <dc:title>Ascribe Greatness</dc:title>
</cp:coreProperties>
</file>