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A6B-3079-4133-9955-80A32E20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D55-4AE9-40FE-B751-46EF0D02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BED-DF11-4B4A-A36C-F0D9DF17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FC5-D66C-4F36-A643-DFA3041D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B12-C856-4355-9054-60499B7B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DBA-CF43-49BD-B372-4A9DEB2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4A4-0E07-4D23-8819-C0D04BD9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12A-5233-46C9-9C78-05E7624D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C28-17EB-4BE8-90B0-656C875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41A-492B-4601-91EF-09C47C8E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E82-E50E-4612-83EA-2B4F981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A94-D904-4A74-BFA7-AE5E1097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2C8E1-CFCF-4FEA-B6BB-CA097677EA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5:22Z</dcterms:modified>
  <cp:revision>12</cp:revision>
  <dc:subject>Slavic hymnal Гимны веры христиан, hymn 872</dc:subject>
  <dc:title>О, если б сотни уст иметь</dc:title>
</cp:coreProperties>
</file>