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AB7-16A2-40D2-8CD8-DBAAAAAC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7EA-A85E-4043-A561-594949F5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BA8-749D-4B43-91E0-DDBDD47A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12B-4292-4FDF-8CC9-F3D58B1E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F078-167D-4F70-A064-1F18665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D31-C6A2-4912-A7CE-739935AC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983-741C-45E9-B35A-6A41E60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DD6-8C27-4ADD-819F-2F6699A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3ED-476B-4704-9814-CD0A6D4B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D61-4A72-4979-98FB-A420952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6E8-1FFD-43B0-BD43-D831456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6EA-3CBD-4963-8404-20B156A9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F356A-C256-4CEF-BCFC-235E257D85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греховно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авда, гон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неволя и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мире грехов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злослов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жда, раз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оеволье в дел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любв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аж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о успешности — к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устно, коль в на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х затем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е, коль ближний нам —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етерпевши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спас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ая радость в серд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сми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дворят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9:54Z</dcterms:modified>
  <cp:revision>12</cp:revision>
  <dc:subject>Slavic hymnal Гимны веры христиан, hymn 775</dc:subject>
  <dc:title>В мире греховном</dc:title>
</cp:coreProperties>
</file>