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E3C-1EA8-4608-B2FB-48E242B0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2FF-0852-4975-8FD6-67379F75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57C-D3A4-48E3-90B6-5D92345A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81E-7CF0-452F-81EA-604F782A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B3F-368B-43BB-80FF-1915CCC6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D04-0D0B-4A4B-8CF8-AC5AAF2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EB8-A59B-4BFB-9B8B-6C46DC3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38B-CF33-44DF-A601-47DB2AB3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85F-8FA2-4A6C-A5FA-A9BDE566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792-1EDA-431A-9B56-35331DE2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DB5-1F6A-40BB-BD95-427215C7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96C-0723-43B5-968A-3C3AD9BA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4A356-C5CD-4F3F-BE85-60AE7E3123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amb upon Hi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how the heavenly anthem d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usic but its ow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славьте, все,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, все,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шёл Он на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ликую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чудесный х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ke, my soul, and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died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il Him as thy matchless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all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душа, и п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спас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Искупитель дивный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Царь твой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His hands and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 wounds, yet visible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eauty glor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ы глубоких 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на небе сохра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ля жизни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angel in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fully bear that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downward bends his wondering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mysteries so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еет сераф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деть на Бога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ет голову пред Т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ами в тел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riumphed o’er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rose victorious to the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He came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мерть побе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ть людей от всех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рука си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ies now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and ros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eternal life to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s that death may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хвала и ч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― и жив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, чтоб нам жизнь прин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, чтоб смерть поп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wn Him the Lord of hea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ith the Father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ith the Spirit through Him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yonder gloriou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 Царя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ого с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Он Духа, чтоб при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01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ail, Redeemer, hai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u hast di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aise and glory shall not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out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чную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щедротам нет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 во 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5:03Z</dcterms:modified>
  <cp:revision>12</cp:revision>
  <dc:subject>Slavic hymnal Гимны веры христиан, hymn 808</dc:subject>
  <dc:title>Crown Him With Many Crowns / Прославьте, все, Христа</dc:title>
</cp:coreProperties>
</file>