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DB5F-DC72-4428-8D6A-E2729196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D6E-6A50-43AE-ADAA-95DE0AEB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74B-33F8-47BE-A103-03C51BBC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B3C-3E8A-4C60-B81A-37BAEE4C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817-D3DD-4FE4-A153-B2E8802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A3E-CFDF-4127-836A-E957F40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28C-8D03-4369-94E0-E86D0D1A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C33-FC84-4BF3-AD4B-A010C55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426-619E-428E-A46C-2C0E600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C33-CB52-4946-B592-32945C5D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C39-872F-4505-A3E2-B260955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AA4-B444-4ACF-8CF3-46997D0E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F6FCD-B3F0-4F49-9817-BB35438549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at I had a thousand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ith a thousand tongues could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in Whom the earth rej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oes all things wisely and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сотни уст име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тни нежных голос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лубины сердечной пе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ил бы Творца ми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сонме ангело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будем чудно каждый м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rn amid their choir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hallelujahs to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teful heart would then be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what God has don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есней песню я бы п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Бог мне дал в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ll you pow’rs that God impl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nd silence keep no m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forth the strength that God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noblest work is to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голос мой был слы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ят солнца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дух взносился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ётом дней, с теченьем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oul and body, join to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felt joy our Maker’s pra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сегда для Бога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миг благод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orest leaves so green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dance for joy in summer 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eadow grasses bright and sl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low’rs so wond’rous sweet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езграничную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открыл небес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все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 to show God’s prais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e now make His glory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ньем, смертью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место дал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creatures that have breath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rong the earth, the sea,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join with me my heart’s dev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me to raise His praises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еть я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может петь яз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хвалить хочу я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т речи не отвы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utmost pow’rs can ne’er a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clare the wonders of God’s m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умолкнет голос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каждый вздох Теб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о Боже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нескладну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небесах полней и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хваленье во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ather, deign Thou, I beseec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sten to my earthly l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nobler strain in Heav’n shall reach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ith angels hymn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50:25Z</dcterms:modified>
  <cp:revision>13</cp:revision>
  <dc:subject>Slavic hymnal Гимны веры христиан, hymn 820</dc:subject>
  <dc:title>O That I Had a Thousand Voices / О, если б сотни уст имел я</dc:title>
</cp:coreProperties>
</file>