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E0A-55AF-4B8C-BC33-9E2F54CC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206-C582-476E-B12E-5D829C2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CD5-4F84-4456-A63B-17EF5287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9765-EC5D-485D-A2B8-9D6ADD9A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468-A23D-422E-8106-1E9F481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F7B-4214-4447-9684-397DDA16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551-136E-4F40-A574-3C14C148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3EE-0505-49E5-BA12-47867D87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412-6DC3-4239-B122-B6D2170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2BE-C459-4E7B-9250-F820439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1D1-B9F4-4019-A878-32D9E2A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011-5E4F-41E6-94B4-E68C0AE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F637-1A23-4908-8E93-4B6E1C5F7B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31:15Z</dcterms:modified>
  <cp:revision>13</cp:revision>
  <dc:subject>Slavic hymnal Гимны веры христиан, hymn 827</dc:subject>
  <dc:title>Сердце моё, о Боже, испытай</dc:title>
</cp:coreProperties>
</file>