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0A8-1C2E-45BD-B703-F2C33BC3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2A4-9762-4542-8E5F-AA6388C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E77-D95E-4DBD-8311-66B25ABE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24C-A14E-4C23-83B4-015DAB75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229-6E55-425F-8F2C-86790AAB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1AF-E604-489D-8284-44D567F4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621-C0CB-492F-834A-E392495C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E1B-F92E-4655-A642-5E8E6B1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18A-237D-4573-8509-DF29EB1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0CF-295E-4CE4-8B3B-7CE5329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18D-EC66-4D2E-828F-9937337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197-3654-4A28-95D8-1606450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2EC4-54F5-442B-9988-496DD7628B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Thou fount of every bles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ne my heart to sing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s of mercy, never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for songs of loudest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some melodious sonn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g by flaming tongu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mount! I’m fixed upon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 of God’s unchang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raise my Ebenez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ther by Thy help I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hope, by Thy goo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to arriv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ought me when a str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from the fold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to rescue me from d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erposed His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grace how great a deb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I’m constrained 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y grace, Lord, like a f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nd my wand’ring heart to Th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wander, Lord, I fee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ne to leave the God I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’s my heart, Lord, take and sea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 it for Thy court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7:29Z</dcterms:modified>
  <cp:revision>14</cp:revision>
  <dc:subject>Slavic hymnal Гимны веры христиан, hymn 304</dc:subject>
  <dc:title>Come, Thou Fount of Every Blessing / Дух Святой, Дух благодати</dc:title>
</cp:coreProperties>
</file>