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198B-054F-4649-9E98-5CFFC7BA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D16-2A85-498D-9E1D-3294C812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E9C1-B0AC-4572-A0AF-E37C903F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052D-2F5A-4A19-88F7-049EC595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71D-535B-43B0-971E-C95DBBFB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216C-80E5-422B-9324-DF602CA7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F66-67E5-4777-AF18-E38D980D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C14-9AC8-4DE8-A85F-01E4FE0F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0478-4A6B-49E1-BB31-0D25C76F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F39-A129-4FE0-9D5D-9D6C730C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43F-367D-4630-AFC5-5D06D93A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30D-2F4D-4316-8060-05595379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4784E-98C4-4648-AD91-01D9B19953C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Христом хочу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веты не вя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источники в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, 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за Ним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я за Ним, не буду я в сты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лед за Христом хочу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Христом хочу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ки ли бушуют, ураган ли ревё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покровом ничего я не бо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я безопасен, где Господь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Христом пойду чр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ы и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надежда и в Нём радост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хранитель, утеш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и и сле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Он в чудный дом на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4:30Z</dcterms:modified>
  <cp:revision>13</cp:revision>
  <dc:subject>Slavic hymnal Гимны веры христиан, hymn 842</dc:subject>
  <dc:title>Вслед за Христом хочу идти</dc:title>
</cp:coreProperties>
</file>