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B1CE-7D2C-4F1D-86CE-2BA8920B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BD34-B5F2-4DC2-BD3D-05EAFCE9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AFFA-4FB3-4D6A-843B-9744F70E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0A7-8113-41C3-BAB3-478869AC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526A-AD4A-4529-B3D7-DF9E7E4B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059-4921-40AB-A28A-0B9BCF36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6B59-E022-4C55-AA7A-D949ADD6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C799-9F8B-4C10-B309-FCDBC20A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0A6-9D63-4F77-9A91-2C1E41F7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7F44-9995-4AB0-B33E-0D5BC794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BC7A-F121-4874-80D9-9F09B53B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F9CC-AD4B-40C9-A232-531E456C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70842-87AA-49CF-B14C-76BF4D9DAB6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злодеев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рево вознес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страданья, м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м мы нанес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авый пот стру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рьбе с Его че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л Он труд, Ему хва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л Иосиф т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нял Его с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рёб без страха, см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аду своём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олнце лишь блесну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больше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казал: «Да будет све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ёй на гроб яви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, жёны с 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я туда, смутила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л там ангел 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йдите, всем скаж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Он воскр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вечную принёс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 тут в волн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, скорбя душ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видит в изумле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тоит пред 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Ему в восторг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Раввуни!» — гов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щать о Нём спе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ой Он смерть попр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сил вос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м окруж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нас к вечной жизни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19:38Z</dcterms:modified>
  <cp:revision>13</cp:revision>
  <dc:subject>Slavic hymnal Гимны веры христиан, hymn 295</dc:subject>
  <dc:title>Он жив! Он жив!</dc:title>
</cp:coreProperties>
</file>