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3977-2CD2-4C7A-8E5B-8F421489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5261-6EDF-4FD4-B3DB-1136A6B2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DD8B-F116-47CC-BA61-6817D0B4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BAFF-35B1-4455-BAE1-4CC03E83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B49D-4538-4B3F-A389-F8473186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0AFC-B0AA-481C-AF59-7CAB3B23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EA3D-69AB-4BA7-AE95-FB5C9A4C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C6E2-6F4E-44E5-9889-E790F22D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06CA-B1E9-4463-93DF-61E371C5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95DD-86E5-4538-9AA5-65DB088E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C0F0-99D4-48E2-B4E5-FB6A6597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64FC-2849-49C3-A67C-B187BA8C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D6866-8B44-4852-85D3-4E6F00A6C95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удивляться я долж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что нас возлюб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я был неправды исполн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ы кровь за нас про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9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егда удивляться я долж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т за нас в Гефсимань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ец, воля пусть Тво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претерпел Он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ранах жизн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ангел от Бога нисх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, чтобы подкреп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рьбе Гефсиманской сур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олжен был я стра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на небо пре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Христа уз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что Он грешников лю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 я гимн с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11-06T11:20:26Z</dcterms:modified>
  <cp:revision>12</cp:revision>
  <dc:subject>Slavic hymnal Гимны веры христиан, hymn 904</dc:subject>
  <dc:title>Всегда удивляться я должен</dc:title>
</cp:coreProperties>
</file>