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21-8BA9-4200-AEAA-4C3E4D09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337-C2BF-4837-AB66-D0450802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487-A873-49E3-9355-650E30E0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98D8-06ED-4796-B291-23C77347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C31-C314-45D2-90AE-1544AA2F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EB7-6103-460C-B961-914E2DD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D24-6547-4518-BC18-BB3BE77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12C-8D38-4BF4-B8E6-7641039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11E-6512-4802-B0B9-829F5F6D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C63-65A6-4910-B702-6E75307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0E-C63B-4C03-95D5-922B425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B56-F072-43F8-B75F-AF77AAE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993F8-194E-4C7F-AB2D-64F0C015BD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Make Your Fa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13Z</dcterms:modified>
  <cp:revision>10</cp:revision>
  <dc:subject>The Source, song number 604</dc:subject>
  <dc:title>You Make Your Face to Shine on Me (And That My Soul Knows Very Well)</dc:title>
</cp:coreProperties>
</file>