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0B4-8823-404D-94AC-43D5FECC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03F-AEBB-45FE-A352-CB3376B1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130-9C2F-4613-AA82-F8D5025D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24A-E6DE-4C2C-B404-5CBAB90D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0EA-5BA7-4BA0-8DF3-385C58F6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9B5-978C-4CB4-8702-AF82F000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864-81BB-4385-BBB8-B0F7452C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363-6AA1-455D-8D6C-804CCDAF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635-FF13-4267-914A-1B9732BE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AD6-86A9-4502-B4C9-B6DE1848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5AA-E204-4BF5-84BD-8C4A804E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37B-A772-4D11-A377-4FD86935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46BF5-4CF1-4D1E-80C2-500824C8F4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 my Saviour lead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ve I to ask be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I doubt His tender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ro’ life has been my gu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Господь всегда со мн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большего ж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ваться не дерз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мне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ly peace, divinest comfo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by faith in Him to dw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know, whate’er befall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oeth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наполнил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свет рассеял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ось, я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ё ко благу твое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 my Saviour lead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eers each winding path I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s me grace for ev’ry tri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eds me with the living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ет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небесных удосто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my weary steps may fa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ul athirst may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shing from the Rock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a spring of joy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ога порой споткн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ываю оди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алы Высокой 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и по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 my Saviour lead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the fullness of His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rest to me is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Father’s hous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а блаженства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н успок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spirit, clothed immort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ngs its flight to realms of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y song thro’ endless 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ed me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живой из царства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тся в край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т Христу хва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был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2:35Z</dcterms:modified>
  <cp:revision>13</cp:revision>
  <dc:subject>Slavic hymnal Гимны веры христиан, hymn 865</dc:subject>
  <dc:title>All the Way My Saviour Leads Me / Мой Господь всегда со мною</dc:title>
</cp:coreProperties>
</file>