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AADC-36D8-4B70-B903-34BC1842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687B-EBDA-49D4-96A9-E6015BF6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402D-97BC-428E-9F07-E78EF670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7C31-A6B0-4FD9-A840-EA9AFE15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67D5-BAB1-46CF-8A66-D2647689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3062-C366-4B41-A236-69335F06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FBC7-A8FF-4D1B-91CF-36FB553D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31A-6BC7-4169-A676-DED9CA54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1122-88B6-4CE9-8994-DF870452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9D0-3CE5-4AB2-A9E6-CEF35FC1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59C-A321-4999-AA9F-ADC3C384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CAF-8BFD-4252-AE6C-A1336272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F2D97-655A-4E0D-89B6-43101C2C193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by grace can we 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by grace can we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by our human endeav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presence You call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 us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presence You draw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by Your grace we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by Your grace we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0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nly By G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f You mark our transgress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ould st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s to Your grace we are clean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f You mark our transgress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ould st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s to Your grace we are clean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by grace can we 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by grace can we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by our human endeav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by the blood of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presence You call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 us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presence You draw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by Your grace we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by Your grace we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2:49Z</dcterms:modified>
  <cp:revision>10</cp:revision>
  <dc:subject>The Source, song number 408</dc:subject>
  <dc:title>Only By Grace</dc:title>
</cp:coreProperties>
</file>