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912-18E1-40C2-84A2-AD6BF2F7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C77-3D2E-4585-B266-43FD55F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944-90C5-4AED-BA08-844879B5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02E-D967-4BD3-9086-4AA7F411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57DB-6087-472E-90FB-23A8E3AF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B03-9CC1-4121-9930-F0BDD0F2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EBA-C9DF-404F-BD28-B98C6638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2F4-48DD-4FAD-8684-E2714CE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761-86F0-4FF5-988E-C40F6F2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70A-7F10-40EB-8769-F75C903A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C55-CA22-49C0-AC4C-C532C97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8A5-0572-46E1-B1BC-3DDAB6F3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14A7B-8410-452F-80B5-E62D9D17AB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 Ца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упинно хай звучить Йому хв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а Богу в небі, вже зійшла з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8   Вірю я в обітниці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Йому х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боюсь я буйних бур гріха і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зі мною милість Божа лиш бу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живу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знаю Його моїм усім є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 правиці хочу бути я з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, бо в них кріплю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тю Божою завжди хва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буде за радість, як я з Ним стріну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 в обітниці Христа, я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,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ую в обітниці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57Z</dcterms:modified>
  <cp:revision>14</cp:revision>
  <dc:subject>Slavic hymnal Гимны веры христиан, Ukrainian hymn 38</dc:subject>
  <dc:title>Вірю я в обітниці Христа Царя</dc:title>
</cp:coreProperties>
</file>