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CDB-8CB5-4A8B-9D74-C58ECDCC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6BA4-2117-4308-AA2A-1E8EA653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7E88-164A-49F1-A9BD-45DB8D93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F13-42F5-44CA-8C43-B06BD9AF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BA0-30EF-4EF2-BAA4-736A3E27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E5B-3267-48CB-B734-E80D0EB6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72A-C1A1-488E-97B2-B41DFF80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068-FA1E-46E6-87A7-3ECF0386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3FD-2982-4DD3-BF99-15104536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B1B-B16C-49AF-B833-F236216D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0770-CCDF-42D8-B2F8-38F18D9E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7D9-8596-4D42-8D8E-12EC6125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8FE7A-DF24-4288-8D41-7B33413AED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God, we sing Your might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which supported still we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opening year Your mercy sh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ercy crowns it ’til its cl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ликий Бог, рукой С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, руко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с хранил от юных д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и в наступивши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яких бедствий и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day, by night, at home, abr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are we guarded by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incessant bounty f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unerring counsel 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, вблизи, мы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й лишь благостью жив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сылаешь снег и дож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леб насущный нам да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grateful hearts the past we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uture, all to us unkn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to Thy guardian care comm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eaceful leave before Thy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прошлое благодар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то пред нами — знаешь 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гаем всё к ногам Тво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ы, планы и меч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cenes exalted or depre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our joy, and You our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oodness all our hopes shall 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dored through all our changing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дачах, в счастье иль в б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наша радость и пок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яешь Ты в сты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, кто льнёт к Тебе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42Z</dcterms:modified>
  <cp:revision>13</cp:revision>
  <dc:subject>Slavic hymnal Гимны веры христиан, hymn 731</dc:subject>
  <dc:title>Great God, We Sing Your Mighty Hand / Великий Бог, рукой Своей</dc:title>
</cp:coreProperties>
</file>