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3BD8-27C6-4D6C-B0BA-7D1E71FF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40D4-8BFA-4467-ADF5-41F0FD2A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F51F-CCE6-4730-A4CD-5D2D5EF2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704E-9703-4BE1-B658-526712C4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AE83-BBEF-44DD-9D3F-21682BE2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6F6B-765A-4103-BB4C-0A8FAE29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485C-FE41-48DA-83B0-CC6011DE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B55E-ACCC-4D2D-B5E2-9BA6004C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978-7898-42DD-A7E2-C4DDC2D9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0BE1-1381-4F8D-827B-8EFC80E6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B95C-1A1F-4FAF-8412-013DA031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DE47-A3EF-4821-A0DE-7CE2FBC0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7123C-7B07-4DE0-889F-0A366702D1B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ободы! Цепи т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разбей в людских сердц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чтоб Дух усыно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растал в Твоих детя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, что в день Пятидеся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апостолов со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отой даров бога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твори в нас Свой престо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ух свободы! Цепи тле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Утешитель! Скорбящ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ение пош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Твой труд творящ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ать сынов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дары нам врачева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пророческих реч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что больше всех дая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дар любви Тво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 верных излива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на благод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нас церковь созид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ней хочешь мир объ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! В любви Отца и Сы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ви церкви ожи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сольются все в еди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ом подвиге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11:58Z</dcterms:modified>
  <cp:revision>12</cp:revision>
  <dc:subject>Slavic hymnal Гимны веры христиан, hymn 299</dc:subject>
  <dc:title>Дух свободы! Цепи тленья</dc:title>
</cp:coreProperties>
</file>