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25F-5A5D-475D-B5C6-2E1BB68C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EFA-3F87-4613-8E7B-285DA358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F07-F09B-47D1-9857-D8A29E0B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2D2-01B3-4B2B-AEF9-0E6E1315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F9B-7173-498C-93D1-0EF95CEF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5BA-CBA9-4CD1-BE1B-106E56B1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54F-1CE8-4869-92B8-C3E23466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9F0-2731-4A43-9CE9-A253A497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F9B-70C7-4F90-B121-7D8D3BDD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251-3774-4BEE-9CB8-1220909A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3AF-8BF7-4B3B-BD07-8CD21D1A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EFD-7679-4068-B992-7E59C434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B6491-75BD-4A7B-809D-8DE0436C1B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надежду я св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имён не при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ерю имен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 ль Его сокроет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тию креп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олнений, бурь и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якоре Его дер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 крови за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в потоках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ё рушится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хожу опору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 славой 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рным Он меня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тым в праведность,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з пятна предстать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4-12T07:22:58Z</dcterms:modified>
  <cp:revision>13</cp:revision>
  <dc:subject>Slavic hymnal Гимны веры христиан, hymn 634</dc:subject>
  <dc:title>Построил на крови Христа</dc:title>
</cp:coreProperties>
</file>