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29D-88E7-4707-92B2-7CC7C8C4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AC9-8BF8-4C1B-A02E-9E83106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71D-2573-467D-9C9B-0CBFCE7B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DEB-84BF-4352-BE21-4886393F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F47-565D-4FA4-AC8E-F397BDEE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F06-C0CD-45D1-A94F-EBD6FC99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214-160F-4C04-8A49-83DFC4C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6D39-B405-4DEF-86E5-34853CB8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EA6-369F-4D26-8E7B-3856798B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FE5-7711-4D70-B401-05792DCA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ACB-43D5-419D-9C2B-7E382C7C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AC1-9BDC-44E4-8A90-89FFA63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65304-6BE8-42CF-BB88-606329DC353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дружно будем мы тр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ло Божье мы найдём вез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ля Божья в нас да совер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верны в слове и тру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жно, дружно будем 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то, просто людям мы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ын Божий грешных возлюб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держит начинанья н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луженья даст потребных 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ямо, прямо чрез пустыню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пойдём послушно за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х, нищих, немощных и си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Агнцу Божью, к свету приве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живой, с радостью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иноградник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29Z</dcterms:modified>
  <cp:revision>12</cp:revision>
  <dc:subject>Slavic hymnal Гимны веры христиан, hymn 553</dc:subject>
  <dc:title>Дружно, дружно будем мы трудиться</dc:title>
</cp:coreProperties>
</file>