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AE6-43F6-4AB7-8A02-4DED7909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7DD-0809-4892-9155-76A3F81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6CA-9771-402C-A230-A84DE81B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489-38D0-4CA2-9B8C-89E556B9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DD4-9984-4F26-950A-7020F66A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92C-01E7-48A9-9A83-5D071926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ABF-7C92-4A76-98DB-59611623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F65-6CBF-4464-9FC5-ED10F2F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6C4-0108-44C1-A9A6-D9B55653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E34-F8A2-4770-9F0F-83C05DC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1E4-5678-4137-8B85-90F271D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985-D9FD-4670-AF24-5DDCBB9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4A185-7C4F-4FC4-9262-B0AF89BF66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our Redeemer died on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for the sinner, paid all his d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receive Him need never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efest of sinners, Jesus will sa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has promised, so He will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ear Him, trust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dgement is coming, all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ve rejected, who have ref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sinner, hasten, let Jesu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eat compassion! O boundles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th power, Jesus i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are safe from the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 will pass,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ee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ass, I will pass ov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8:27Z</dcterms:modified>
  <cp:revision>13</cp:revision>
  <dc:subject>Slavic hymnal Гимны веры христиан, hymn 282</dc:subject>
  <dc:title>When I See the Blood / Умер Спаситель, умер за всех</dc:title>
</cp:coreProperties>
</file>