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F9B-CC2E-4498-8079-4C6DC10F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2BB-A70D-4997-8388-7D07F19C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E57-52C0-4B9C-A73E-202B294C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78F-0B5E-4F90-A96A-472DAA9F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548-B893-46B4-AACF-491AD848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A66-F753-4007-BD3E-0CF82E8D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50C-5EC7-40F3-85C2-127BB2D7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7E3D-50DB-4556-8EAD-C0E6D2B2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9DA-8CA8-40F5-ABDB-D62BAE65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660-A148-48C5-9A8D-95EA6D22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79A6-AA30-4E77-808D-783A5758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EFA-2B2B-4049-BA2B-63665106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6C459-A47F-48BA-A54A-E102AAA5C1E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трах мене обго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оли ослабне ві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3   Коли страх мене обгор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можу сам трим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на Тебе покла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ясний час, чи в час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ні недолі, чи у ща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и Сам мою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е,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купив мене ці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уку тримай (тримай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пасителю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мене тр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4:10Z</dcterms:modified>
  <cp:revision>13</cp:revision>
  <dc:subject>Slavic hymnal Гимны веры христиан, Ukrainian hymn 33</dc:subject>
  <dc:title>Коли страх мене обгорне</dc:title>
</cp:coreProperties>
</file>