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B929-1783-4D0B-A62D-46E692F4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C7D9-ADA0-45A2-833E-7388DBBD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8705-79A7-4556-AD76-7E93E38F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FA34-5EC7-4968-B56F-7F41D9D5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4AC4-4BDF-425A-8796-ABDC43F0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3941-7452-4ED8-9D11-E3D02DEE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969E-3463-4629-BF04-7ABC9399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D3CB-B65F-4467-B6C4-E299A7DB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85DE-BEBB-4D41-B457-834BE72D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DA54-6933-48B6-8C1E-F956DA5A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9C7C-0E38-434B-AF71-DCD8A6A3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676E-6BB6-4893-95FB-FDAFF069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A4CFB-1123-4763-A436-09F63F22331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Spirit, rain down, rain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Comforter and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we need Your touch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Spirit, rain down, rain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power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voice be he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and change our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tand on Your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Spirit, rain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4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oly Spirit, Rain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eye has se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ear has he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mind can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God has in st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open up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it w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 Your churc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ver ou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Spirit, rain down, rain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Comforter and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we need Your touch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Spirit, rain down, rain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power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voice be he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and change our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tand on Your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Spirit, rain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8:20Z</dcterms:modified>
  <cp:revision>11</cp:revision>
  <dc:subject>The Source 2, song number 745</dc:subject>
  <dc:title>Holy Spirit, Rain Down</dc:title>
</cp:coreProperties>
</file>