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4CE4-23FA-4514-9DD5-6F8B1F3FE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FF58-3598-4124-80E6-9639A5EB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A9E9-5B2C-4B57-83E4-57C1EF2B2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C69E-13FE-4DB2-BFC0-7AD130C3F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BE42-A7F3-4EFD-ACBE-B2738A0F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78CE-A9EA-42B1-A7F8-32484A7B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B842-E0C7-44CB-BFB8-D624B741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E3D9-FD8A-46B0-92CC-96352CAF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6301-7A47-4A21-BA5F-D772EE63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CED1-8BAA-42D5-B033-A96658CA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6A2B-D5D3-4362-A2AF-01908634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D42D-9A0C-4ABF-A4C6-3544FE62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D2C77-6434-45E2-8078-90CD575E439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нас, о Боже, к забыт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есь исстрадался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к одиноким, забыт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ольше не верит в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нас, о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выше Свою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ы всем страдаль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у могли возвещ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шли нас, о, Бо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тихой, смиренной любо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к душам усталым пойд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как искупил Ты их кров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радную весть принес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нас, о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выше Свою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ы всем страдаль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у могли возвещ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кажем, что жизнь нам зем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только, как школа да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ам-то… страна уж и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ельем навеки пол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нас, о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выше Свою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ы всем страдаль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у могли возвещ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 радостной, светлой улыб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люди свободно вздох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жизнь по поверхности зыб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страха уже поплыв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шли нас, о Б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выше Свою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мы всем страдаль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боду могли возвещ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59:54Z</dcterms:modified>
  <cp:revision>12</cp:revision>
  <dc:subject>Slavic hymnal Гимны веры христиан, hymn 537</dc:subject>
  <dc:title>Пошли нас, о, Боже, к забытым</dc:title>
</cp:coreProperties>
</file>