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9AD9-94F2-4735-BA45-BB5705F81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306B-6824-48EA-92FE-3B2342B0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E48C-0243-450C-803E-06F3628A0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2CBE-2FB8-4963-BA4B-7A619D45F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A7DB-B9B4-4CCE-AEA5-D38D61C7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3B01-FEBF-4176-8989-97E28EA2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B249-530D-4607-8D76-EE0246CD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6212-C61C-428D-98CC-7BA33C32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0B26-CA98-4446-8E07-32506BCB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09B4-8250-4F2B-A04D-D9070D90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A458-449E-42D7-9C7B-8B338B94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F211-2B53-4FD7-8027-1C3803E3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35BFD-D55B-48A8-8C28-610CC34CE74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arch me, O God, and know my heart tod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ry me, O Saviour, know my thoughts, I pr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e if there be some wicked way in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leanse me from every sin and set me f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829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ердце моё, о Боже, испыт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моё, о Боже, испыт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вства исследуй, помыслы узн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на опасном ли стою пу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исть от зла и в правде утвер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praise Thee, Lord, for cleansing me from si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ulfil Thy Word, and make me pure with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ill me with fire where once I burned with sha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rant my desire to magnify Thy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Тебе! мой грех Ты снял с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лышь молитву, дай любви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олни Духом, обнови, 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й мне силы прославлять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rd, take my life, and make it wholly Thi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ill my poor heart with Thy great love div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ake all my will, my passion, self and pri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now surrender, Lord, in me ab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возьми Себе всю жизнь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ланья, волю — всё я отда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лися в сердце, наставляй на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меня, и Сам во мне пребу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Holy Ghost, revival comes from Th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end a revival, start the work in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y Word declares Thou wilt supply our ne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blessings now, O Lord, I humbly pl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ух Святой, в Тебе источник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ждём, чтоб к жизни многих пробу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и нужды всех сынов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ловенье, Господи,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4:24Z</dcterms:modified>
  <cp:revision>13</cp:revision>
  <dc:subject>Slavic hymnal Гимны веры христиан, hymn 827</dc:subject>
  <dc:title>Search Me, O God / Сердце моё, о Боже, испытай</dc:title>
</cp:coreProperties>
</file>