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1C6-3EC5-4A57-86F7-562A52C5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635-F747-4BD8-97B6-B6D28F04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B7F-F8EF-4B60-A537-A714EA8D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F75-B365-489D-B57B-ACD14DBE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BF5-B702-4599-92DC-1A3E4457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5D3-BFEC-4DDF-A8BA-52DE0BEE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95E-CF50-48C9-869D-0024206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D71-70A4-45C2-9044-AF5E84C9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BF4-87E7-452B-B40E-1417DCE6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8B5-D4C3-418B-8275-023B1F49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E75-C3FB-499F-A2F6-4711824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184-B6A8-4674-81F9-09A5F9D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1C357-C8EE-4FF5-AAE3-AE1C9A52CC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 ye first the kingdom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se things shall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47   Seek Ye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not live by bread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ev’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roceeds from the mo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k and it shall be given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 and you shall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ck and it shall be opened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on sha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be free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all know the truth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th wi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ight so shine before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y may see your good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Father in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 in the Lord with all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hall direct your pat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r ways acknowledg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0:35Z</dcterms:modified>
  <cp:revision>10</cp:revision>
  <dc:subject>The Source, song number 447</dc:subject>
  <dc:title>Seek Ye First</dc:title>
</cp:coreProperties>
</file>