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05</a:t>
            </a:r>
            <a:r>
              <a:rPr b="1" lang="ru-RU" sz="3600" spc="-1" strike="noStrike">
                <a:solidFill>
                  <a:srgbClr val="ffffff"/>
                </a:solidFill>
                <a:latin typeface="Verdana"/>
              </a:rPr>
              <a:t>	</a:t>
            </a:r>
            <a:r>
              <a:rPr b="1" lang="ru-RU" sz="3600" spc="-1" strike="noStrike">
                <a:solidFill>
                  <a:srgbClr val="ffffff"/>
                </a:solidFill>
                <a:latin typeface="Verdana"/>
              </a:rPr>
              <a:t>Отец, и Сын, и Дух Святой</a:t>
            </a:r>
            <a:endParaRPr b="0" lang="en-US" sz="3600" spc="-1" strike="noStrike">
              <a:solidFill>
                <a:srgbClr val="000000"/>
              </a:solidFill>
              <a:latin typeface="Verdana"/>
            </a:endParaRPr>
          </a:p>
        </p:txBody>
      </p:sp>
      <p:sp>
        <p:nvSpPr>
          <p:cNvPr id="39" name=""/>
          <p:cNvSpPr/>
          <p:nvPr/>
        </p:nvSpPr>
        <p:spPr>
          <a:xfrm>
            <a:off x="539640" y="431640"/>
            <a:ext cx="8999640" cy="6696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2200" spc="-1" strike="noStrike">
                <a:solidFill>
                  <a:srgbClr val="ffffff"/>
                </a:solidFill>
                <a:latin typeface="Verdana"/>
              </a:rPr>
              <a:t> </a:t>
            </a:r>
            <a:endParaRPr b="0" lang="en-US" sz="2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ец, и Сын, и Дух Святой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зри с небес в стране земн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род Твой моли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1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431640"/>
            <a:ext cx="8999640" cy="6696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силу в Церкви прояв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в дни начальны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ью благослов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печальны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431640"/>
            <a:ext cx="8999640" cy="6696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з года в год, то тут, то та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ямы рою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к цели даже среди я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и нас,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431640"/>
            <a:ext cx="8999640" cy="6696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усть истина чрез Твой наро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гим открое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знаменем любви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прославит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мы молимся, О Дух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мы славим в этот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ая Трои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ы верными быть до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мало сильных среди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Церковь строитс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19:59:23Z</dcterms:modified>
  <cp:revision>4</cp:revision>
  <dc:subject>Slavic hymnal Гимны веры христиан, hymn 905</dc:subject>
  <dc:title>Отец, и Сын, и Дух Святой</dc:title>
</cp:coreProperties>
</file>