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C13-56BC-42A4-A2E3-63ABF587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8BB-9E5A-4DD3-92AE-9493BE56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596-924B-4739-BAF7-F7A70C37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09D-44EC-4739-BA92-1013F548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B88-AD21-4F2E-AD3F-BB957C18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447-59CD-4104-A1EF-7411A89F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BAF-5417-4960-91D9-E575BE71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1F2-6D9F-49A9-A3AE-49F930C7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F8F-9BB6-4FB5-B964-B0093E2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3BD-C888-4869-A650-435383A2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0FC-B752-44EE-9FFB-E9E825ED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935-9635-4509-8773-A74F1C4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AEFE9-15EB-4A90-88EF-2D374F7A48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at the cross where my Saviou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where for cleansing from sin I c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o my heart was the blood appl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   Там, де один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один раз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ертву приніс на вівтар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ий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o my heart was the blood appl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wondrously saved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o sweetly abides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the cross where He took m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я дивно спасен від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носив я за гріх ко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кров Ісуса мене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the cross where He took m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джерело живої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всі мої т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ною насаджені 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ідними бу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ecious fountain that saves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I have entered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Jesus saves me and keeps me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Jesus saves me and keeps me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is fountain so rich and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thy poor soul at the Saviour’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unge in today, and be made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йте усі з джерел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о ходите шляхом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заспівайте хвалу Й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unge in today, and be made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7:04Z</dcterms:modified>
  <cp:revision>13</cp:revision>
  <dc:subject>Slavic hymnal Гимны веры христиан, Ukrainian hymn 11</dc:subject>
  <dc:title>Glory to His Name (Down at the Cross Where My Saviour Died) / Там, де один раз Спаситель мій</dc:title>
</cp:coreProperties>
</file>