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2F4-BD6C-4A16-831B-9B55A7A3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A83-D787-4232-99E9-0BE0AC6B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38E-3C2F-429E-8A34-32848176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65B-B57D-40A0-A111-494464A1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A19-5780-448E-AD00-31457F58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77D-D103-4B6D-8E58-15241CAA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BB0-A8EA-4A2E-9D85-7C01CEE1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FC4-907A-4A10-9B66-34B91097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246-5245-47E2-A105-62868F35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AEA-6F27-499C-B0FE-6F033EC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385-C33C-4901-AFCA-8F11E13B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324-F4FB-4763-A918-C380791B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530AF-1D5F-48A2-9381-3959BD85739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у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мир его не зн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пу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ибели в грех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ко спас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призы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ех есть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блаженных небес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путь спас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и друзь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комые, 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с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астники в гре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отверг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они узн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Иису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ался я впо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этот уз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ть скорби и страд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ня в об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я в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за ра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нуту восхищ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Спас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облаках гря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16Z</dcterms:modified>
  <cp:revision>12</cp:revision>
  <dc:subject>Slavic hymnal Гимны веры христиан, hymn 349</dc:subject>
  <dc:title>Есть путь спасенья</dc:title>
</cp:coreProperties>
</file>