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E8F-5263-4AA8-A2E0-86397B81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875-A300-46E4-8148-3FC07E1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05C-A2FE-425C-83E9-9B8282C7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883-D907-487E-A086-66EE3910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803-2A08-42E8-9516-683DA72E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05D-C9C8-4CC9-96DC-74F0CF84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90D-8DF0-4957-94CA-51CB71D3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203-80AC-4D01-9BB5-415F87F3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71B-667A-4C75-B73A-36BB6040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633-9DF0-495E-95E1-79C7D4D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F52-7F06-4DA9-9315-E3C0BCC6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C0DF-F787-49D3-901F-9AD92546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68A1F-E3E4-4696-8E04-2FA84F6DB0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6   Think About His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l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could I forget His mer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when I’ve strayed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s love has sought m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un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, He satisf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satisfies my des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k about His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brought us th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as high as the heavens ab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reat is the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our Father’s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08Z</dcterms:modified>
  <cp:revision>12</cp:revision>
  <dc:subject>The Source 3, song number 1556</dc:subject>
  <dc:title>Think About His Love</dc:title>
</cp:coreProperties>
</file>