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E42-DB70-4D16-B2B1-15F41E0F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107-F21E-4FD8-8BB0-4AD7272F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913-2E88-468C-9B56-3A496707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DCE8-DD72-4AEC-A2B8-BDC3EE96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E7B-4DBC-48B9-B3AD-8DF80581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CC1-6782-4675-977E-541951F4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68A-DD16-450A-8D23-9D497BE8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87C-E129-4B34-98F9-9BA25F23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679-D167-409A-A140-AAA76B74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D98-B4CB-4E38-A9F6-DB52CDEE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F59-5023-4D48-9521-90F355A7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CC36-18EC-4878-8B19-1FCE4857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F65C2-73A5-4B14-B548-3440C538D0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так, расстанемся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дины в истине свя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здесь — ты будеш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, видно, Бог назначил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б стезя нас ни в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ём добра или же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ирать мы будем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ь в душе Е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так, расстанемся с то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встретиться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уждено уж тут суд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 встретимся в краю р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дём в Отцов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30:31Z</dcterms:modified>
  <cp:revision>13</cp:revision>
  <dc:subject>Slavic hymnal Гимны веры христиан, hymn 748</dc:subject>
  <dc:title>Итак, расстанемся с тобой</dc:title>
</cp:coreProperties>
</file>