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826-DE09-47AD-80D7-7C33484E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07BB-4D19-447B-A589-788D650E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484D-69A5-48F7-BF39-7B4A486D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ABA-782E-4D63-A231-9F78D3B7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4B0-DADF-482F-A54E-E38C14E3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009-8A9B-4186-87BC-8C57A938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57B-603B-457D-B143-50F47A81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F9A-CDF5-46DD-8C47-A7CCBF82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AD4-B59A-4925-939A-2D7131F7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C14-FE46-4038-A1CE-6123485B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5CF-DFAC-41BA-A95D-9B707FCD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D87-64C9-44E5-82E8-5AD94E67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D4DE6-3A90-4908-AD9D-6435447D8AD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коро дні біжать впер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тихо по черзі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скоро наш Господь прий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рати нас домі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9   Як скоро дні біж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вірив, і надія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бував в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го візьме Він в віч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будуть всі свя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рийде й для мене т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лідний час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Господь візьме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ий дім Отц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серця вірю, що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візьме в той д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той славний день при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вічно з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 за часом,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ми домів пі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мине послід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 Спас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2:01Z</dcterms:modified>
  <cp:revision>12</cp:revision>
  <dc:subject>Slavic hymnal Гимны веры христиан, Ukrainian hymn 69</dc:subject>
  <dc:title>Як скоро дні біжать вперед</dc:title>
</cp:coreProperties>
</file>