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D51-18B5-4EF3-8DB0-65259EF5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1C8-EA9F-43A5-81B1-44FD1C70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8B7-DF12-4CBB-A32B-5E29746B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886-6787-4A63-A60C-785A4C8B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325-B844-48A7-860B-295EDABF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639-6E11-42D5-BB44-2A53EE63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0B6-86B4-47EF-8105-72E243E3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54C-F29A-4A96-BE9E-E7B023D4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226-4106-4CA4-BED7-D2A2CA5D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5D6-1BA9-4397-A0FD-8FEE2EF9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494-4048-4F58-8BBD-AC6C772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E8C-B4B7-4A0B-9027-A04B8530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56AEC-22EC-4C18-AD84-C5099E7A12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hear my Saviour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y cross and follow, follow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у призы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у призыв Иису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крест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ты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leads me I will fol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,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, куда ведё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траданья, скорби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ga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тов с Ним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Иисусом всюду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 through the judg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ith Him, with Him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йду с Христом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стигну вскоре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me grace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o with me, with m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й венец Он даст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престолом Бога в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ша моя, муж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уж вскоре взя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9:53Z</dcterms:modified>
  <cp:revision>13</cp:revision>
  <dc:subject>Slavic hymnal Гимны веры христиан, hymn 459</dc:subject>
  <dc:title>I Can Hear My Saviour Calling / Слышу призыв Иисуса</dc:title>
</cp:coreProperties>
</file>