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1F1-838E-43CF-BC0D-B3D95580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F0A-EDA8-4227-BF68-2295908A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601-E68D-4112-A543-6E0E2E9F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DEE-73FF-431A-B2BE-8CF70C1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9DF-4C08-434E-9207-1108D7E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FDC-E614-440A-BD5F-2B294BD8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8D7-4231-440C-BE99-02C0AE93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950-2504-4E16-A834-CE4287C9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AAD-92C0-4450-A33B-253834F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0CC-5D92-46B0-811E-3358C65D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BEA-5016-4C91-B214-10319E6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8BE-F970-4458-B6DC-E471902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E1EAA-68B6-4F04-B2AD-06A1897786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лежит мой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моим Спасителем хра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азал: не бросит Он меня од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злом поддержит Он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лежит мой дол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жою долины смертной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невзгод и немощей навек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астыря мне щит от зла да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буду горечь смертных см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увижу славу утренних лу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Иорданских я примкну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им я в немощ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ойду я долиной смертной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 за Ним, пусть Он идёт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глу долин меня Он про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у я в край, где не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олиной смертной тени я и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47Z</dcterms:modified>
  <cp:revision>12</cp:revision>
  <dc:subject>Slavic hymnal Гимны веры христиан, hymn 503</dc:subject>
  <dc:title>Путь лежит мой долиной смертной тени</dc:title>
</cp:coreProperties>
</file>