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D6E-8DD0-4083-AC2E-571B98A6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C89-6263-4A18-8C53-AE1B604B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88C-4BC1-4129-95A1-317B3ED8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9C6-711C-41E3-BFEE-F765143E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426-F000-4D1E-ACB5-DACBC6BC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2D9-C7BB-4A9F-83B4-A64B8B6F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A0E9-2196-4D64-A3F5-ED010F9C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941-C379-4D31-B220-BD07BD99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D87-C069-489D-94C7-1B4E4FAB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608-E160-491A-8355-9770C400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E095-F636-45C6-8C5A-E0489966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6B84-7983-4DC0-94ED-418817B1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12A45-62BA-4657-B7B7-A5B79046016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арянка не гад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Христос її ш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она з Ним розмовля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ити Він прох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Він їй відкри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она колись ж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ї серце те враж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сказать піш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4   Самарянка не гад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овірся, мили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Спаситель тебе ж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удь серцем ти байду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пі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аїні, де схиля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льми й мирт вночі дрім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е йшли і диву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х Спаситель ж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арянка розпові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Чоловік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прийшов то не Месі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ьому Божий сві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овірся, мили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Спаситель тебе ж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удь серцем ти байду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пі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епер вода жи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лється для усі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таланним Бог втир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ьози із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грішників прощ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ідкрив всім благо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же, Він тебе шу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пасіння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овірся, мили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Спаситель тебе ж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удь серцем ти байду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пі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1:25Z</dcterms:modified>
  <cp:revision>12</cp:revision>
  <dc:subject>Slavic hymnal Гимны веры христиан, Ukrainian hymn 94</dc:subject>
  <dc:title>Самарянка не гадала</dc:title>
</cp:coreProperties>
</file>