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F27-DB09-449F-90B9-3244D1D4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2AC-579F-4D14-8532-41E30570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D40-160B-4AD5-8BAB-C111BB2C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12E-8624-4CC7-8248-00F52CB9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66B-D9F3-4AD7-8D02-479BB1D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8AD-BD91-4E61-B71A-D63487C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EA1-CB62-4EFC-8828-E446F3A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B6B-0B72-4613-93FA-6B462792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51D7-73F6-4475-B48F-1E229DA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3AC-BAF9-4EE4-AB0D-59A0FF2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D6D-575B-499F-BF5D-8DF8ED1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8F2-8454-4C21-AAF0-DFA5267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68080-CCF2-4555-B146-3940B46435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m over agai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more of their beauty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 and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faith and du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lessèd One, gives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list to the loving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o freely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ing us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echo the Gospe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 pardon and peace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nl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ctify u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words, wonderful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words of lif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51Z</dcterms:modified>
  <cp:revision>14</cp:revision>
  <dc:subject>Slavic hymnal Гимны веры христиан, Ukrainian hymn 5</dc:subject>
  <dc:title>Wonderful Words of Life / Брате, знову нагадай</dc:title>
</cp:coreProperties>
</file>