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7469-94CD-4D5D-92FB-C30846C4C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44A0-EC9C-4419-9DE6-E7551111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7BB6-F468-4512-AFA8-D4DBB9FAB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711E-7137-4886-8B14-4B05AFD11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8444-FD2D-4012-9CB5-AC82D065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BD92-BDBA-473D-831E-EFC264A3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6D62-FDD0-4AC2-A3A2-264D0700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7424-479E-42F4-B76D-77E9CA53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1A5C-6A9B-4F82-9BF1-4AC3E835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E687-ED0F-4392-8BB3-00053BC5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7E28-A7B7-4D86-832B-AC0B4CD1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1D49-B39D-4A1F-AF42-592C98C2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221BC-5208-422E-B410-636F1A71581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, к нам весть дош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вучала над землё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чь Христова Рожде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олняя мир хвал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Ангелы, к нам весть дош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ухи, что тешит в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олняет торжеств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торите нам расск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ладенце незем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в Вифле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лониться Богу си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асителе Хри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небесный возвес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едных яслях Он леж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Владыка всей зем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людям руки простир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все к Нему при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48:12Z</dcterms:modified>
  <cp:revision>13</cp:revision>
  <dc:subject>Slavic hymnal Гимны веры христиан, hymn 879</dc:subject>
  <dc:title>Ангелы, к нам весть дошла</dc:title>
</cp:coreProperties>
</file>