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E9C-D878-4FC3-8DCD-8FB85AD2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DA4-DE18-461A-A986-A0AAFCEB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457-40E6-4AA5-B763-C6BF5922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EE9-EFD4-42A8-B4B1-07C67E77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DD7-16A8-4C50-9088-DA6B90CB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5E7-68C5-480D-9F44-2C0891EA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F25-03BB-4D84-91B5-1FBE56AD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BD5-287E-4DED-9359-7D67138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C99-86C1-4CD2-B6E0-6A37FB38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198-21A6-4155-B0B3-30FC62E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96E-AFCA-42CA-8292-F19EFDA6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A42-BE7B-4086-AE33-D5232B35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F90EB-3DDC-4A07-823E-42BEFF531A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my heart, into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 today, come in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into my heart, Lor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8:25Z</dcterms:modified>
  <cp:revision>12</cp:revision>
  <dc:subject>Slavic hymnal Гимны веры христиан, Ukrainian hymn 109</dc:subject>
  <dc:title>Into My Heart / В серце ввійди</dc:title>
</cp:coreProperties>
</file>