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marL="343080"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marL="343080" indent="-343080"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4</a:t>
            </a:r>
            <a:r>
              <a:rPr b="1" lang="ru-RU" sz="3600" spc="-1" strike="noStrike">
                <a:solidFill>
                  <a:srgbClr val="ffffff"/>
                </a:solidFill>
                <a:latin typeface="Verdana"/>
              </a:rPr>
              <a:t>	</a:t>
            </a:r>
            <a:r>
              <a:rPr b="1" lang="ru-RU" sz="3600" spc="-1" strike="noStrike">
                <a:solidFill>
                  <a:srgbClr val="ffffff"/>
                </a:solidFill>
                <a:latin typeface="Verdana"/>
              </a:rPr>
              <a:t>К Тебе, Спаситель мой</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 Тебе, Спаситель мой, взыв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Тебе стремлюсь больной душ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 надеждой на Тебя взира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горько плачу пред Тоб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Простри ко мне святые ру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т греха меня о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забыть я жизни мук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лишь в Тебе искать покой.</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Хочу горячими уст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ё лишь имя прославля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Хочу раскаяться слезам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о прощеньи умолять.</a:t>
            </a:r>
            <a:endParaRPr b="0" lang="en-US" sz="3200" spc="-1" strike="noStrike">
              <a:solidFill>
                <a:srgbClr val="000000"/>
              </a:solidFill>
              <a:latin typeface="Verdana"/>
            </a:endParaRPr>
          </a:p>
        </p:txBody>
      </p:sp>
      <p:sp>
        <p:nvSpPr>
          <p:cNvPr id="41"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6:16Z</dcterms:modified>
  <cp:revision>3</cp:revision>
  <dc:subject>Slavic hymnal Гимны веры христиан, hymn 164</dc:subject>
  <dc:title>К Тебе, Спаситель мой, взываю</dc:title>
</cp:coreProperties>
</file>