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31C-22C2-4DB1-8748-852ADCBE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D4D-DA46-4D55-8996-0783B7FC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10C-2C54-4694-AE0A-9F5610D7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1DB-16CB-40C2-AF72-087AB623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64D-314A-429B-A651-95CDFF26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EEF-CCA8-49E6-B358-3431AAB3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B1F-0256-49CA-A061-294B6E6A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1EB-6D71-4AF6-89A8-33B073D1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FAB-9BC1-4267-9900-E2C03924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1C6-A75C-4E79-B6FE-638C83F7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631-1433-4896-B97B-ECB89EB4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2BA-E48A-4C90-AE58-6A222771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3282B-4E26-413E-B5C3-FF9E7B0E22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298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грехи мне прощ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я к небесам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рабом греха и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я стал своим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асё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298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любовью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Свою явил Он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Он плакал в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был жертво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43080"/>
            <a:ext cx="98298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Покой в Нём нах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сокрыта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 Он меня всегда,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живу,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5:40Z</dcterms:modified>
  <cp:revision>12</cp:revision>
  <dc:subject>Slavic hymnal Гимны веры христиан, hymn 855</dc:subject>
  <dc:title>Я спасён!</dc:title>
</cp:coreProperties>
</file>