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E7C7-C87E-45DC-B599-65E41C0D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A647-CE28-4420-9EAC-B3EB3043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2C08-9372-4AB6-B4AC-C2F1091F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42CA-B3C8-46DD-BD66-D7B969EF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BD4C-0414-45A6-936D-186671D5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AAA8-CAE4-498E-AE47-97E62ED3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0181-1C3F-4DDF-A5C7-CAFEE5C0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67E2-BB3C-48A8-84F3-3FD7AC96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F19F-A989-48AE-AE9F-8F397BD4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CA58-FEA9-4E94-92BC-0D403596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76C5-0116-4663-9C32-3E7C08BF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F1E3-2856-4E8B-BBF9-3D9FD0FB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916D9-D526-4697-A758-A7F36492611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hat a beautiful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God, Son of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amb that was s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oy and peace, strength and hop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ce that blows all fear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hat a beautiful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0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What a Beautiful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hat a beautiful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th revealed, my future sea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led my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and freedom, life and warm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ce that blows all fear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hat a beautiful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hat a beautiful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scued my soul, my strongh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s me from sh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ness, security, power and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ce that blows all fear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hat a beautiful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1T14:49:28Z</dcterms:modified>
  <cp:revision>11</cp:revision>
  <dc:subject>The Source, song number 301</dc:subject>
  <dc:title>Jesus, What a Beautiful Name</dc:title>
</cp:coreProperties>
</file>