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A46F-C7C1-4125-812B-FC24AF669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718C-6967-407E-8C08-902A855E5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AA61-CF74-4775-83AE-13A2B99F5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7A8A-9BD7-45F9-8955-3F9777307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2566-B399-4137-933C-713A46D80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47E9-12FE-4F30-B2A0-9BF212C8F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EE18-DD8F-42B0-AB31-31A507F3A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9769-DF65-4F13-B3BE-D0811D64F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9A31-F9E8-43AC-BD14-07E8047A1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8947-9E51-4C01-A6E7-5BA18562F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5DF1-F5A1-497F-95AB-D26C4AE6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0920-12DB-4336-AD43-B04607C4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900CB2-E996-40B3-A89F-0FAB38EB87B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is Lord, He is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is risen from the d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e is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ry knee shall b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ry tongue conf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Jesus Christ is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58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He is L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3T09:19:59Z</dcterms:modified>
  <cp:revision>10</cp:revision>
  <dc:subject>The Source, song number 158</dc:subject>
  <dc:title>He is Lord</dc:title>
</cp:coreProperties>
</file>