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154-D2E9-4592-9E4B-6F27859B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565-3EE8-4404-9D45-0A974581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834-421D-4E87-A2E5-CB898CE2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E68-6C05-492A-BDD4-D87D0DA2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F7E-D7B9-4440-83BA-763BD5EF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E74-2609-4671-95BC-BF713D76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D32-241D-499C-BDF6-DC2F3EB6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BDC-F071-4459-AD9D-CD614FE9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4D4-5B3C-4094-97B7-F0E7767D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001-6AB4-4CD9-80C9-5E286A3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C6F-EEC3-439A-8D49-A25F5F6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BA1-E509-48BB-AABA-E1F2E26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6863A-68A4-4B04-9604-CB0A2F421F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through the ages ru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tongu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that the world e’er su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 in the earth or m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 for a mortal strai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is the grandest theme, tell the world ag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’Tis the grandest theme, let the tidings rol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o the guilty heart, to the sinful so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ok to God in faith, He will make thee wh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able to deliver t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by sin oppressed, go to Him for re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Our God is able to deliver the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4Z</dcterms:modified>
  <cp:revision>14</cp:revision>
  <dc:subject>Slavic hymnal Гимны веры христиан, hymn 565</dc:subject>
  <dc:title>He Is Able to Deliver Thee / Эта весть звучит</dc:title>
</cp:coreProperties>
</file>