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BF2E-22C1-42C8-B6D5-67448F9EB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0B87-8B4A-4E90-B9A8-234CEBD1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C9A0-B35D-4509-B8DF-A9474AC7C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3625-5886-41E2-ACBA-FD79B89D7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9B91-14D8-44CC-B517-91B33506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2BEC-9A1C-4E4C-B5C3-8E207ADD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BBF3-29D4-46CC-ADED-D2D654AA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8D3B-6EEE-42C0-929D-F9EB1F88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594D-5AC5-494B-BFBD-09E04BDB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6678-CC1F-4798-8279-6CCCCEFA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74E6-4029-4F1B-BFEE-E4BFBB9F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D81C-FCA6-4321-82F3-80974BA5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F63E9-98A9-4A81-89F6-DAEC440F7FE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43080"/>
            <a:ext cx="93726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 Rejoice! Christ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pe of glory in our he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 His breath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ise a mighty army, we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0944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икуй, лику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5434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ведь тебе Б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у славы даро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 И Дух Его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народ, с Христом, о воспр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343080"/>
            <a:ext cx="93726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 Rejoice! Christ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pe of glory in our he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 His breath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ise a mighty army, we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35434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ведь тебе Б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у славы даро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 И Дух Его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народ, с Христом, о воспр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43080"/>
            <a:ext cx="93726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is the time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arch upon the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our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will give the ground w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5434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а к земле нам обетованной ид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даёт нам Своё наслед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343080"/>
            <a:ext cx="93726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rides in maje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lead us into vic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rld shall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Christ is L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35434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ядёт во славе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ас к победе прив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ир узн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343080"/>
            <a:ext cx="93726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 Rejoice! Christ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pe of glory in our he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 His breath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ise a mighty army, we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5434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ведь тебе Б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у славы даро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 И Дух Его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народ, с Христом, о воспр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343080"/>
            <a:ext cx="93726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is at work in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purpose to perfor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ilding a king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power not of w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5434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Божий замы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шится через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ится Цар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лах, а не в слов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343080"/>
            <a:ext cx="93726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things im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faith shall be made possib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’s give th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Him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35434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Бог сверш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с верой невозмож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звучит пу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уст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343080"/>
            <a:ext cx="93726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joice! Rejoice! Christ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pe of glory in our he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ives! He lives! His breath is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ise a mighty army, we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35434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ведь тебе Б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у славы даро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! Он жив! И Дух Его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, народ, с Христом, о воспр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343080"/>
            <a:ext cx="93726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we are weak, His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everything we ne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’re made of c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is treasure is with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5434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бы мы, но по благодати мы ст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ценный Дух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наша плоть сла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343080"/>
            <a:ext cx="93726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urns our weak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to His opportunit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that th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es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3543480"/>
            <a:ext cx="984888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якой слаб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являет силу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у да буд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хва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30:10Z</dcterms:modified>
  <cp:revision>11</cp:revision>
  <dc:subject>The Source, song number 438 in Russian</dc:subject>
  <dc:title>Ликуй, ликуй! / Rejoice!</dc:title>
</cp:coreProperties>
</file>