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5A3-BD73-49C2-8EA5-9B5B49D0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5C6-C2E6-4920-9DD4-E251AEDA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D40-315E-419D-B8FD-A689989F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881-963D-45C5-8589-66C80569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65A-D43F-400D-906D-EFC6B179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000-32B6-4BBA-9205-FB8430F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AB6-8DD7-4165-9357-11B112E9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699-EA56-4FD6-8EF5-B9974F78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039-E977-49A2-B780-D1A40FED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62B-6562-46FF-9636-22F0C611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AFA-125A-4DAB-8EAC-D767E91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991-3416-4CD4-B333-CFE2D3ED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2D9D3-EFC7-48B0-B273-6A95EC54FE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camped along the hills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 Christian soldier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ess the battle ere the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veil the glowing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that overcomes the fo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te raiment shall be g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angels he sh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confessed in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onward from the hill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hearts with love afl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vanquish all the hosts of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Jesus’ conqu’ring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gainst the foe in val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our strength be hur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, we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banner over us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sword the Word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tread the road the saint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shouts of triumph t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they like a whirlwind’s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pt on o’er ev’ry fie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ith by which they conquer’d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still our shining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 every hand the foe we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n up in dread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ents of ease be left beh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ward to the f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lvation’s helmet on each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ruth all girt ab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tremble ’neath our t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echo with our sh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ith is the victo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gloriou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overcomes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7:19Z</dcterms:modified>
  <cp:revision>13</cp:revision>
  <dc:subject>Slavic hymnal Гимны веры христиан, hymn 552</dc:subject>
  <dc:title>Faith Is the Victory / Во свете жизни будь готов</dc:title>
</cp:coreProperties>
</file>