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340-9989-4D5D-AD5A-45A41093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838A-C44E-4F17-8BD6-0AC1067C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7B2A-4DD7-4889-BBBC-7CFD7585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87E2-6E09-40A7-A02A-38DF17D3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4DD6-DA6E-409E-865E-7AF8DE99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3DD-BFC2-472E-9A72-5C9C18AE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21CF-A918-4EBC-AC03-6F678E24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DA8E-D084-46BC-8B08-3ED7AE7F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B30-9A18-40D2-A958-E58DD17F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504-8668-48AF-AB67-1168C727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E38-6A7A-4D61-9867-C60ADE28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357E-B3D6-42AA-9F57-1E2F5E92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E2B4D-9759-4DAF-B01E-C2FA27C624D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о знамя подн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подвластны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, Христов народ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ьский вверх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е на земле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восторженно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иваются в хва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росток и стар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вица и силач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как наш Бог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тешает пл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енья рожд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еть и вез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юности до сед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статке и в нуж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светом меж людь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о знамя подн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стремись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1:48Z</dcterms:modified>
  <cp:revision>12</cp:revision>
  <dc:subject>Slavic hymnal Гимны веры христиан, hymn 888</dc:subject>
  <dc:title>Ликуй, Христов народ!</dc:title>
</cp:coreProperties>
</file>