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FF2-E3E4-4D74-B0E2-CD3CA985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A21-F353-49CF-92D2-EC216BDD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3AE4-2FDB-458A-A217-EF8E80C6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C6E-DD6D-4BF4-80BC-B1B58DCA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26B-82AE-4A86-BB16-CB2D2F4F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F4FE-D975-42BE-BA07-B03B38C4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7CC-9826-4646-9013-2DCA8F34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5A4-9317-41B7-91B9-E44A1340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28EE-8A44-4DA7-AF83-9E1FF095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8D2E-12F6-4284-BE3D-BAEEED8A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807-9E46-40D0-9253-66BA164E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AD2D-60D4-49C1-8C5A-868B13C5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F47B8-36FC-4C11-A4E8-1AFC6EA348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жизнь возьми: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Тебе посвящ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возьми, пусть кажд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шь Ты хваленья гл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е, жизнь возь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руки, их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 я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ноги, должно 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тезям ходить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голос, чтоб он м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Тебе, мой Царь, мо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устам достойным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ебе благовес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волю, должно 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ей только быть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 направь, чтоб Тво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ах был исполнить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 и сере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зьми моё доб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сердце, Сам уст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престол Ты царский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возьми любов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у ног Твоих ст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ьми всего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, навек Твой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все силы съеди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дар, за жизнь, за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полное ог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славило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6:18Z</dcterms:modified>
  <cp:revision>12</cp:revision>
  <dc:subject>Slavic hymnal Гимны веры христиан, hymn 437</dc:subject>
  <dc:title>Боже, жизнь возьми</dc:title>
</cp:coreProperties>
</file>