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736-A021-4241-8C73-E03890CC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725-12B6-410F-9F53-52F23B39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50-82A6-45C6-8BF0-BE58673D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BB8-9AE1-44AC-9953-71401F2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851-F43E-415D-ADF7-2260EBB1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6B5-5EF1-404E-90AC-52729A47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D10-BE6C-4D10-9110-71CF9F17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DC2-9B0B-4F79-A98F-B60FDAFC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301-DD78-490F-9084-FF9B7E4B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5E7-775D-4962-B5CE-087A3893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4C8-346A-4E40-9221-139EA9C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E96-13C7-4BF4-A05C-CA7B7F4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8FDED-B78A-4DCE-83DC-AB699F436D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ide in me I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long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de me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to my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know Jesus 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re I Am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ive in me all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eathe in me and I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eagles’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35Z</dcterms:modified>
  <cp:revision>11</cp:revision>
  <dc:subject>The Source 2, song number 724</dc:subject>
  <dc:title>Here I Am Waiting (Eagles’ Wings)</dc:title>
</cp:coreProperties>
</file>