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A25E-9D04-43F3-8702-94BF6475A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282D-C7AE-408C-AE36-CF3E4B34A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70CE-EF7F-4BEA-BEE1-D71B23151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16C7-451E-48FB-B8DA-6D97440DE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B688-5AF4-48D8-93F4-F3BAE0DE3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1EEF-C21D-44CF-9208-49192EE6D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1264-273C-487B-9A20-0A314F45D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1F80-3640-473E-BF84-AB09078D5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C8A0-9221-4FA3-B7A8-3C23CEF98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661F-A985-4436-BEFB-9D2C06F1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43A2-028A-49BE-94E3-3B44C7EF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C580-2B59-46AD-85A5-36D287F6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819BCD-3D2C-4900-A2CF-C1425C26F6D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он, спеши исполнить долг свяще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расскажи, что в Боге жизнь и св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Устроитель и Господь вселен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лизок Он к творенью Сво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возвест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люб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ет от грех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5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ион, спеши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яди, гляди! народы погиба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враг пленил и заключил в тюрьм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о Христе никто не возвещ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ет души из пучины б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возвест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люб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ет от грех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озвести народам и племё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ог даёт нам жизнь и благо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сходил спасти порабощённ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страдал, чтоб грешников прин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возвест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люб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ет от грех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100584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и сынов нести в мир весть спас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и дары содействовать в тру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сь всегда за призв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луженью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сё награда ждёт на выс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возвест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люб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ет от грех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45:38Z</dcterms:modified>
  <cp:revision>12</cp:revision>
  <dc:subject>Slavic hymnal Гимны веры христиан, hymn 852</dc:subject>
  <dc:title>Сион, спеши…</dc:title>
</cp:coreProperties>
</file>