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E5E-E9BE-41BB-96C2-C70550A0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764-1F3A-41E0-B4B6-C336F189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326-626B-4E54-9C20-62591DCD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8D2-8CF0-47DC-B03B-56E7C776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869-3E13-4852-BF80-CBBD914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3CB-77BC-4FEB-B775-73D5C03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FE6-BA38-4EC9-8398-F23351DE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715-DBDC-4943-A97C-12C9732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5A7-4EA2-4304-B2DD-8B450113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8C7-9635-43A6-8CBD-878D2F9A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6A2-58D8-48F2-B0B5-513BBCF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4C1-46A7-4626-B15A-7096E4F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70ABD-668F-46F0-AAE5-BB20DB12B7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ren of the heavenly F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ly in His bosom g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stling bird nor sta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a refuge e’er w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дети днём и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ом Его беспе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в небе, птицы в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меют лучшей д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own doth tend and nour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holy courts they flouris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ll evil things He spares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mighty arms He bears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род Свой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ляет и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решает все вопрос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уках с любовью нос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life nor death shall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Lord His children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them His grace He show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ir sorrows all He know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ль смерть нас не от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юбви Христа могуч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нас терпел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в испытань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he Lord in joyful numb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Protector never sl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will of your Def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foeman must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до малое, не бо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щитом Его укрой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 всём тебе по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отивников ни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 giveth or He tak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children ne’er forsak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he loving purpose sol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serve them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иль отнимае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любовь Свою я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Ему всё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ердце всюду п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5:03Z</dcterms:modified>
  <cp:revision>12</cp:revision>
  <dc:subject>Slavic hymnal Гимны веры христиан, hymn 876</dc:subject>
  <dc:title>Children of the Heavenly Father / Божьи дети днём и ночью</dc:title>
</cp:coreProperties>
</file>