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057-F8F8-49B2-8CDF-894C5E8A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AF0-ED50-4397-9EC5-F6A90858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A6E-D672-4E87-A2FD-FF841CFF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C2C-0ED3-4EFF-AAB1-64EB40CF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0CD-1372-4A09-8C03-D1775A17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E30-4F04-494D-8C20-0A334EF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9E0-5714-4573-B6C8-4C324DC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634-01A8-4330-A70D-7040C39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74D-6636-47EE-80FE-3B1C122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CF0-AEA3-458F-ACDE-9C3F04E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412-9425-4A67-B73D-0F96AF0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6CF-9428-4583-A723-75A4594E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216B-0591-4F83-A29A-2A67067532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but a stranger 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is a desert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в небе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в небе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ой Отец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nger and sorrow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nd me on ever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анник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уть лежит во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и лишь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the tempest r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is my pilgri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олог путь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ек жизни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me’s cold and wild wintry b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shall be over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ach home at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йдёт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путь сверш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я с От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Saviour’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be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Христа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туда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re the good and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I loved most and b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, too, I soon shall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у лик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оспе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Его ли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fore I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my earthly l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ль я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не могу роп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urely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at my Lord’s right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father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is m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ам Христос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асить Он венц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мо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6:04Z</dcterms:modified>
  <cp:revision>12</cp:revision>
  <dc:subject>Slavic hymnal Гимны веры христиан, hymn 813</dc:subject>
  <dc:title>I’m But a Stranger Here (Heaven Is My Home) / Мой в небе край родной</dc:title>
</cp:coreProperties>
</file>