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BBF-3265-49DD-ACB0-9187D705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FD0-2EBA-401A-AB5D-72347352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6E2-80E5-4A54-A4E6-6538E8E2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AAB-615F-473B-976D-11CB9C46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09F-1D6B-4AD5-8C97-68F6FF30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E5F-09F4-4D2D-90E2-9305A7D8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7CE-C5F6-446C-835F-4E02780A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FBF-750B-413E-9FD6-86049C96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031-C39C-421D-A5B6-44EAF6AE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165-C2E4-4807-BCC0-481409B1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70E-467E-4D19-BBBB-4F6F7747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B9B-F546-4010-9070-8B122DC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93267-6381-4F2D-98C8-F857B172C1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mock purpl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 piercing Thy b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nds bound, taken out of the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ood from Thy fore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now trickling dow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more they are engulf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ughter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ace showing the suff’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ou didst a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so for Your tormentors—what p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suff’ring transc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re physica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hough Thou art in dire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er far i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ual suff’ring end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they would reject Th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ompassion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ches out to Thy fo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eart for them is o’erf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do not under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their hearts are clo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prophecy they are fulfill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Bring the sceptre to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your knees, every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 forever, O King!”—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ors’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nto Thy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God’s only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the reed of bulrushes are for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reeds they bea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arp thorny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laps on Thy gaunt ch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af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37Z</dcterms:modified>
  <cp:revision>13</cp:revision>
  <dc:subject>Slavic hymnal Гимны веры христиан, hymn 285</dc:subject>
  <dc:title>In a Mock Purple Arrayed / В багрянице стоишь Ты</dc:title>
</cp:coreProperties>
</file>