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02F-4096-40B0-82F0-BC3A4C83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E33-E858-44C5-8F9D-C27148C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865-45FF-48ED-AA68-14796242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F77-DAB9-4435-999B-9BE0DBE1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799-CAD6-4579-98BB-B7F1F1B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08B-6CC1-485D-8674-2D8A4AF3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ACB-9AE1-4734-915E-F4CBFD5A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2AC-BB81-44D2-8B04-5E24CE79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33C-C9D2-4807-AB9D-FF0CC260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A74-F84B-41DB-94D0-D3B2FF4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D63-AAAA-404F-9CBF-6905050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BB3-EACB-494F-9C0B-B1BBA51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9A699-0517-44D2-92AC-9784E408F0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Иисус моим сердцем влад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мыслях и в чувствах пусть Он л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й любви здесь никто не имее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лишь покой моё сердце на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Иисус моим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лько Христос даровал мне свобо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ощной рукою оковы разб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ой любви Он хранит меня всюд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а елей в Мою душу из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ли в бореньи душой ослаб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лишь Один слабый дух укрепи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Нём я поток очищенья име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илу и радость душе Он да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нчится битва, в селенья свят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Он с любовью меня приведё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 не нарушат страданья земны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Отчих объятьях мой дух отдохн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лно заботиться, полно томитьс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и Спаситель навеки со мно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обещал никогда не покину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ури не страшны, стремлюсь я дом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9:50Z</dcterms:modified>
  <cp:revision>13</cp:revision>
  <dc:subject>Slavic hymnal Гимны веры христиан, hymn 476</dc:subject>
  <dc:title>Пусть Иисус моим сердцем владеет</dc:title>
</cp:coreProperties>
</file>