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AFB-939A-4728-83D9-B354605C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2AD-6E55-48F7-BEB3-01308BC2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1759-6D0B-4B42-866F-7E71230E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824-DD47-46CB-B97D-B6ED3916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965-C34B-4168-990E-0479486B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661-F9EA-4D5E-9686-985BE007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E48-C450-4178-93D0-55327D5A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6D2-AA67-4B9D-800B-8268DF8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D1F-9144-42D0-BBF1-8952C80A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D24-FFA7-41FC-84B6-5296352B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D4C-3CDE-4E39-825D-B15E9C9D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5DD-6559-4AB1-AB14-A561BA7C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7BEDB-F052-4008-A7B1-0DBDD25E26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ighest of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goes 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deepest of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stre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arthest horiz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, it reache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1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i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str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angels and dem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keep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my life’s darkest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secures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the pathway to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 is my strength and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swe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sweetest of h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choicest of w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, it satis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eepest of hu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love, in Jesus it’s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highest of mount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goes dee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he deepest of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 it stre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arthest horiz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love, it reaches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3:43Z</dcterms:modified>
  <cp:revision>10</cp:revision>
  <dc:subject>The Source, song number 171</dc:subject>
  <dc:title>His Love</dc:title>
</cp:coreProperties>
</file>