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27A-B4ED-4398-8D69-E49A6914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4A9-A1B7-4DFB-8E57-105D5A5F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55E-250C-48B3-853C-DFD31F0F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3F0-216B-4D78-ABB0-95CBD880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038-BCF8-409D-89C3-445187DC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51E-58F2-4ED4-901C-A8EAE8C4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E55-7F09-41DE-A99D-DB023190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811-6D71-4C94-9C5E-B8FE453D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BFE-1378-4E6D-8521-BFAB04F8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FAF-0D19-45DB-94BB-16BA0273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215-1D65-4A5D-B96B-7133590C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189-29E6-4667-B32A-67096A19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D05E2-D499-4DF3-8396-3C088B37D9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I my cross have ta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o leave and follow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stitute, despised, forsa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from hence my all shalt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осподь, мой крест бер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мой крест бер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обой хочу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чу я вражду людск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и злобу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ish every fond ambi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I’ve sought, and hoped and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how rich is my cond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and heav’n are still my ow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ил Ты жизни пл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юбил, чего хот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бореньи постоян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 небо — мо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world despise and lea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have left my Saviour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uman hearts and looks decei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art not, like man, un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рагом мне станет н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ерным он всегда та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друзья меня поки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всегда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ile Thou shalt smile up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of wisdom, love and m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es may hate and friends may shu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 Thy face and all is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и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к сердцу с каждым дн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ится враг, исчез прия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не радостно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 may trouble and distres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ut drive me to Thy br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with trials hard may pres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 will bring me sweeter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и ненависть люд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ят нас к Христа но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яжёлая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ет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’tis not in grief to harm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y love is left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’twere not in joy to charm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that joy unmixed with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души не завою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 нами Бог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 дух не очар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Боге наш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n on from grace to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med by faith and winged by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eternal days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own hand shall guide m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с укреп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видит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молитва окры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открыл нам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shall close my earthly mi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ft shall pass my pilgrim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shall change to glad frui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to sight, and prayer to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атся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ршится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место даст вид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ьбы сменятся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5:02Z</dcterms:modified>
  <cp:revision>12</cp:revision>
  <dc:subject>Slavic hymnal Гимны веры христиан, hymn 846</dc:subject>
  <dc:title>Jesus, I My Cross Have Taken / О Господь, мой крест беру я</dc:title>
</cp:coreProperties>
</file>