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4D30-A60F-4EDC-9B92-920854E3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BB34-51FC-43B0-ADE3-9EECB264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8F98-5495-4ECE-ACA7-18F551EE1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FFE4-0C3B-45F1-9737-4C3A6195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79C2-820E-43B8-B812-3FC6E2DE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EA7C-54AD-408C-B398-3CA88476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3406-5DDD-4000-9840-5A19503C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F155-ECA1-4FB9-B859-8AF65E01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484E-0E2C-4EFF-8EDE-9741877F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A22C-3F35-48DB-BEFF-5FF2CDBF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DCBE-685E-4A1C-BCFC-E4255180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F85D-94A7-4F0D-9947-B49D3AA8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3BAC4-4EFE-4ECC-B863-B3E8BFBABF4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appy day that fixed my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e, my Saviour and my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l may this glowing heart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its raptures all ab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дивный ден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! о див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паситель в первый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ушой моей в завет вступ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мне сердца пода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rest, my long divided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xed on this blissful centre,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have I found a nobler p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heavenly pleasures fill my bre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, когда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 жизни радостной вос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 счастье, и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 душу мне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gh heaven, that heard the solemn v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vow renewed shall daily h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in life’s latest hour I b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less in death a bond so d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, когда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ил я в любовь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л омыт крови стру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кавшей некогда с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appy bond that seals my v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m who merits all my lo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cheerful anthems fill His Hou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o that sacred shrine I m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, когда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нашёл в долине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й теперь и я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страшусь 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Tis done, the great transaction’s d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my Lord’s and He is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rew me and I followed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armed to confess the voice di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ый день, когда прост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Он руку, я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Христа увидел вз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любовь Его восп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aught me how to watch and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ve rejoicing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 Христос всегда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ит Сам меня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ppy day, happ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washed my sins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день, ди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меня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46Z</dcterms:modified>
  <cp:revision>13</cp:revision>
  <dc:subject>Slavic hymnal Гимны веры христиан, hymn 721</dc:subject>
  <dc:title>O Happy Day, That Fixed My Choice / О дивный день! о дивный час</dc:title>
</cp:coreProperties>
</file>