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348A-7174-4C98-A8CA-25E64129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E7BC-5CAA-44BD-BE6F-34383C9D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6E6F-1927-4F46-A125-E0CDD9EC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3054-EDBE-4ADD-B548-E8F4E26B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73FA-C225-47C9-8186-9E0D87FF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DC2-C045-4BC5-A516-A0164ACA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152F-C12F-4F3D-9FFF-40EA57D6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27C7-DAAD-4B06-A801-2DA35C74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916F-DD8D-4F9D-B2E0-F2592036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C587-F9E3-4379-8A74-85A190E2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32C5-5FFF-422B-8D76-57A0208A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71E1-7444-4D80-BB13-631FD610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E4D47-A0FD-4E48-985E-608562B96E6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in royal David’s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ood a lowly cattle 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a mother laid her ba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 manger for His b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ry was that mother mi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hrist her little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0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nce in Royal David’s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me down to earth from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s God and Lord of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shelter was a st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cradle was a st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e poor and meek and low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ved on earth our Saviour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rough all His wondrous child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ay by day like us He gre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as little, weak and help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ears and smiles like us He kne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 feeleth for our sa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 shareth in our glad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 among the poor and low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pe in Christ is brought to bi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e promise of sal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nations of the ea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 in Him our life is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ur hope of heav’n is crow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ur eyes at last shall see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His own redeeming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at child so dear and gen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our Lord in heav’n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 leads His children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place where He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in that poor lowly st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e oxen standing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hall see Him, but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at God’s right hand on hig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like stars His children crown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n white shall wait a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9:34Z</dcterms:modified>
  <cp:revision>9</cp:revision>
  <dc:subject>The Source, song number 404</dc:subject>
  <dc:title>Once in Royal David’s City</dc:title>
</cp:coreProperties>
</file>