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4480-C0AE-4F71-AE38-B478894A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9D22-9CD4-4D5C-BD3B-B551F785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97D7-D834-42D5-9DD7-52DF3640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2355-BF5F-49EF-B5ED-7B29C47D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BFCE-9469-4BCE-8BDB-444A1B87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2684-E8C2-4355-AB00-01FFDA14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1CEF-27D5-41AC-8A8F-72FFC832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315F-C71A-41B2-ADC2-B4D9DF2D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0C32-5DAA-49A1-A31F-9AB1A510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7EB6-38B8-437F-A93E-883B393C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D3C7-3C7F-4098-AD5C-6B853B0A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9520-3A26-49BD-A690-507E86DB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9373F-BD33-43FD-8BD0-E8AAA29E358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дощ благослов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біцяний по люб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ки знайдуть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Христовій святій кров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нам, Боже,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ми щиро всі пр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Святим нас спов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2  Буде дощ благослове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дощ благослов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а Святого з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шле Господь нам хрещ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мари надходять у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нам, Боже,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ми щиро всі пр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Святим нас спов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дощ благослов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скорійш нам зі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нам нове відродження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щ благодатний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нам, Боже,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ми щиро всі пр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Святим нас спов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дощ благослов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шли нам, Боже, теп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шукаєм проще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чуй нас, просим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ні нам, Боже, з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ми щиро всі прос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Святим нас спов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0:33Z</dcterms:modified>
  <cp:revision>12</cp:revision>
  <dc:subject>Slavic hymnal Гимны веры христиан, Ukrainian hymn 92</dc:subject>
  <dc:title>Буде дощ благословення</dc:title>
</cp:coreProperties>
</file>