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30B-AB8C-4BD0-90BF-5603DAC2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53F-C257-4BEF-8141-C154F381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473-AE8D-4257-B475-E8C9D7A8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28E-BF79-47AB-BD5B-CD9274ED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B9C-6723-4882-85B8-958D6DA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AC8-FC7D-4CA0-9959-C131B1A4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511-CC80-4349-B14F-9E3F65A3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1D8-9074-43D2-A675-D110DEBC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BB0-AA53-4128-8691-39E30DC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B44-E5AD-4D41-9871-C759E73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F62-2986-4D53-8826-9C2F6565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34C-E4E3-4E64-89DC-4699F65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47D97-AF9A-4AB1-B29D-616639A36E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16Z</dcterms:modified>
  <cp:revision>12</cp:revision>
  <dc:subject>Slavic hymnal Гимны веры христиан, hymn 499</dc:subject>
  <dc:title>Сын Божий вышел на войну</dc:title>
</cp:coreProperties>
</file>