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721D-0A17-4F0C-9FE0-5E1CFC5D1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F539-70EB-4D1B-A9D3-C3E3BBF4B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866D-56DB-40E6-88FB-9F145FF09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D9BE-DD4A-4144-B5D6-7F247C9CF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5927-6C10-4C44-AFBB-9BAB01C74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9EF7-C098-47B5-BC91-2DA463817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1274-9A7D-4BBA-97F2-B30805337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B587-FCEC-471D-B3C7-74B99E930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C407-099B-4236-BAE0-ADB1460B9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DB0A-E18D-4911-93C9-D16E5E67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6763-251E-4725-B4C6-A40E5F70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568A-B7FF-47AA-9B6F-F5D96104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0F32B1-4227-4F8E-A65E-ECEE2954C9A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ні, ніхто на всьому світ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в силі вірних подол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волю нашу зруйнув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дух в кайдани заку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истос тяжким Своїм стражданн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ші прозрівшій волю да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світ з усім його змаганн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’язниці їй не вготув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57  О, ні, ніхто на всьому світ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ні, ніхто на всьому світ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нас не може правду вз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ч люди, ворогом натхнен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орніть нас будуть, зневаж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ідіймем в гору прапор прав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ов’ю темний світ заллє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не в хвальбах ще й тимчасов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радість в Господі знайд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ні, ніхто на всьому світ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може горе нам вчин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агатства серцеві відня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нас безсилими зроб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золото і що ми має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хай усе в нас забер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умління чисте залиш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з ним щасливі можем б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4:50:38Z</dcterms:modified>
  <cp:revision>12</cp:revision>
  <dc:subject>Slavic hymnal Гимны веры христиан, Ukrainian hymn 57</dc:subject>
  <dc:title>О, ні, ніхто на всьому світі</dc:title>
</cp:coreProperties>
</file>