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734-AAD2-4E62-8702-F3AC5832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9A2-13E4-4CC9-B4C3-8B582A63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B82-906F-4710-8B66-889EBD1A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68F-CDDA-4B19-98BD-F3E8BC4B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7B4-083B-496E-B240-548D7BDA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D4F-2989-401C-B4CD-AF726FAC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060-5FC2-4ACE-B128-31741CD8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CE8-F338-4644-8570-1F893B3C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98A-9405-471A-8EF7-799A32BA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F26-FF87-49E0-9D72-7173E257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1C04-E628-4D02-A366-8830EB7D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A2A-A29E-4A8D-B048-82D3DD74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56175-2630-4029-9C6C-6C23A493D7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вой дух уто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ной житейск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начни ты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это силу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твой дух утом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заботы с нуж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ят усталу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 пребудет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ровняет тво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чты и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е исполнят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й упов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у Христов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лезнь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вою потряс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е дни испы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из глаз потек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то нужно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поверь же,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твой дух укреп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нет легче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кто утом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сть тот воз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усталому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молитва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27Z</dcterms:modified>
  <cp:revision>14</cp:revision>
  <dc:subject>Slavic hymnal Гимны веры христиан, hymn 700</dc:subject>
  <dc:title>Если твой дух утомится</dc:title>
</cp:coreProperties>
</file>