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A18-EED3-439A-9C77-26DFC1FB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395-0956-44E6-AAEB-C8071636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724-A6B8-4399-BD42-3F4942FE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A93D-21A1-43A3-8439-E86C62F8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F6C-645D-4C46-876E-5A014410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5A71-FD9F-45F1-9B58-343C64F2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A39-28AB-4620-B06B-3A29B92E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EBE-ADDC-4A0D-BEA1-88A2F0DF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DFF-6A64-4BEA-8448-8BB0A09B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9196-5D03-44D2-A85E-C0061DBA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0FD-E886-410A-8E87-0315B4BA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3C3-14AA-45DE-BFCA-9F412B20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C8B51-4627-4D6C-B23C-2C44BD9ABD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воины рати Хрис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мы на битву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данья и смерть мы гот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мира награды не 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есём избавленье нар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ёрдой вере — победы з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ойдём чрез огонь и чрез в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с нами Господь наш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, воины р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е жаждем почёта ни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риятно в святой просто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нас ценою кров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на Голгофском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 Он готовит наг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верным за все их труд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приди, в небе каждому 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войти в наши ря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38Z</dcterms:modified>
  <cp:revision>12</cp:revision>
  <dc:subject>Slavic hymnal Гимны веры христиан, hymn 485</dc:subject>
  <dc:title>Братья, воины рати Христовой</dc:title>
</cp:coreProperties>
</file>