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3B1-E459-49D0-BCEC-257EDED8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D48-7586-4428-BFBA-DA2C3387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E8A-6503-4D22-8EC7-3C8E7F5A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23D-7098-4376-BB3B-1023FA1D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721-A2E6-4A2E-991B-274CF9A9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ED5-7896-467F-B4B4-0F908892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AE2-9134-4215-8068-B34746A5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C18-8090-4C33-BA9A-018E8066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572-A6AA-404B-B935-220F2190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198-74B0-4842-99D1-FB676C72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C9F-04B2-4501-9A20-1BC7C927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76D7-19ED-4E17-B093-9C2C8E8C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3B829-A403-4F18-9563-9B3DF52B04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блю Тебя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груди моей мал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дух изне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житейской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олела усталост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люблю Тебя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жги в моём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ог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радость и счастие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верным и твёрд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быть во вс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им ближним дай, Боже,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кавый смущ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душу мою обма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Боже, с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ердыня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дай мне духовно ус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Ты при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удить этот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ховный, порочный и з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войду, о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брачный Тво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й прекрасный чертог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силы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я мо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и Ты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надежда моя на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51Z</dcterms:modified>
  <cp:revision>13</cp:revision>
  <dc:subject>Slavic hymnal Гимны веры христиан, hymn 801</dc:subject>
  <dc:title>Я люблю Тебя, Боже</dc:title>
</cp:coreProperties>
</file>