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593-1020-4187-A04F-01077856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66D-139B-4762-9836-BF2F87D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51B-AB92-45B6-967F-8C779BFC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EAD-DF3E-42EB-81C6-7DF46BB5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099-834C-4081-87C0-0DD9DE61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5CF-A510-4B53-A4DC-B360AA0B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4EF-1F42-44CA-AFDE-42877B5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2FA-FA49-45D0-AA47-660345F1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CD8-9DF1-4B02-991D-54C3EC03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25C-D759-4A27-B326-FDDE0100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9BA-0DE0-4DC2-846F-6D5A8AE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968-42E6-4FFA-AB89-6956373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97092-68CD-402B-A955-BBBABAF7F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n This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is house of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gether now to worship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ouse is built on Christ our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e shaken, cannot be sh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ense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ing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a living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I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ound where we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is house we will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power here for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the captives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the broken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so awes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wesome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51Z</dcterms:modified>
  <cp:revision>11</cp:revision>
  <dc:subject>The Source 2, song number 726</dc:subject>
  <dc:title>Here in This House (Awesome in This Place)</dc:title>
</cp:coreProperties>
</file>