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D4D-2C18-4F96-AE1E-E0A165F9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0C8-F086-4045-9700-A6629D1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873-3947-4CF1-8039-8D1AB1AD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E47-FF51-440F-9EC9-BF752C0B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690-181E-4EBF-AD65-1437D7AD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A14-BC6F-4ACF-9791-3284D952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015-9DA5-4BF3-91C3-6EF570C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C76-8BE1-4E44-BB38-1514B897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0A8-7B2E-49A9-AA72-16FBACFA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F0F3-F5E2-47D1-A359-1B7AABB6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DE0-87BC-48AD-81B9-5FADD358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190-B4F7-4C84-BD7E-5FD1EC37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FE93-6A45-4AF5-9521-A1160A4C2C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 world full of sorrow and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deception and falsehood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ntinue to follow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footsteps of Christians who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ыней греховной, зем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ыней греховной,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правды гнетущий обм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отчизне иду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ровавым следам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ist of the evening grows d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I travel this vale full of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my trust in the Lord wavers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presence I’ll rest from all f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неет вечерняя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ся тяжкий и скорбный мо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гаснет надежда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отчизне моей отдо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courage, my friend, do not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llow Christ, He’ll protect from all f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our journey on earth we’ll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rever forget all our w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же смелей за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ясь людского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ится путь наш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ияют Сиона 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рукою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рёт пот и слёзы с л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ы встретим родных и друз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лаженство и жизнь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ward bound, homeward 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world where deceptions ab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scape and I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nd of the ne’er-setting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 родной,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бманов мирской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и при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закатному Солнцу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7Z</dcterms:modified>
  <cp:revision>13</cp:revision>
  <dc:subject>Slavic hymnal Гимны веры христиан, hymn 675</dc:subject>
  <dc:title>In a World Full of Sorrow and Sin / Пустыней греховной, земной</dc:title>
</cp:coreProperties>
</file>