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552-E9AD-4C99-9019-0C217CF4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6F2-A512-4525-9C3A-4CAF8E3F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FBC-7049-4FFD-BDE4-4084635D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BD3-F517-47A3-8CE3-8AEC7D8A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4AD-4C45-4FE1-A928-4E060CCB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C09-2945-43A5-A086-388CD51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067-701A-4B51-897A-89D1403E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F3F-BBCB-4149-9ABD-024ED3B3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ABB-28BB-45C1-90BF-3E971152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000-3FEB-4F0D-A689-341B9743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A52-A806-4FBB-BA5E-6192F13C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AC4-6A38-4538-8D76-DEEBCCFD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349AD-7D94-4EF0-AE94-F99516D005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ряньте, воспойте, лику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тые кровью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новую песню воспо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му, Кто вас спас от гр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спряньте, воспой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м Того, Кто на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шёл, чтобы нас оправ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ти нас ценой Своей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частье навеки н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у нам даст и побе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битву с грехом укреп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Своею поддерж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Своим утвер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йте со всеми свят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валебную песню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с искупил Своей к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ава вовеки 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йте! Ликуй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езвитесь и славьте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46Z</dcterms:modified>
  <cp:revision>12</cp:revision>
  <dc:subject>Slavic hymnal Гимны веры христиан, hymn 573</dc:subject>
  <dc:title>Воспряньте, воспойте, ликуйте</dc:title>
</cp:coreProperties>
</file>