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5F3-7F23-4B38-A5AA-D2918171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F39C-CF37-4036-B3B3-34B9EF4C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1F3-9412-48C1-9C63-2E507DE8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4B0-6CCC-44ED-8AA1-8907F1F4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2EA-83E0-4ACC-A015-630CBFD9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BB5-0A1E-4C47-88EC-C2B42757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A58-8B47-42F8-9850-59B2725C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D26-CE68-448E-B15A-BC16643C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B5A-E67E-40B2-8C42-A190DC8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845-B6FD-4D3F-B5B6-3875EC1A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63E-B04A-48B8-A55C-F46A0514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C56-5F1D-404A-863E-E4BF9010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29222-E804-499F-BEDE-B1CADFC5E5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ood before cre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ternity in Your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poke the earth into mo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ood before my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rried the cross for my sh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 weighed upon Your should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80   You Stood Befor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walk upon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alive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life to declare Your prom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now to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stand with arms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rt aband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we of the One who gave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stand, my soul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surrender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am i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hat can I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at could I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offer this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letely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08Z</dcterms:modified>
  <cp:revision>12</cp:revision>
  <dc:subject>The Source 4, song number 2180</dc:subject>
  <dc:title>You Stood Before Creation (The Stand)</dc:title>
</cp:coreProperties>
</file>