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68AC-C436-4949-A178-95971CAE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A7A-42BE-4E30-BC22-AB62ED83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50D-83B3-4ECE-868A-4431589F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D9E-E33D-4580-B972-E4F78FCC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BCE-1074-4517-B48D-9CDF0885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C80-C4B6-43A7-A015-D683B189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236-9E80-4891-A64B-0E39863E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E6D-9FE8-4FB4-BB6F-0A35CB9F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665-9A58-449D-AE86-D5BD370E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A30-BEE1-41C2-AEFA-50FC2150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3A50-ADCE-4A10-A8FB-97AAF810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84B-F69B-47D3-AD9E-89208145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123B3-0FCF-4FCF-AD8D-D5667828C8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уж скорбей!» так назван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заоблачных 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л спасти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боль извед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руган, осу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древу смерти пригво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Муж скорбе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реха и зла пол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нас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!» возгла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смерть вку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о с радостью вст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ть искуплен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верный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5:34Z</dcterms:modified>
  <cp:revision>12</cp:revision>
  <dc:subject>Slavic hymnal Гимны веры христиан, hymn 838</dc:subject>
  <dc:title>«Муж скорбей!» так назван Тот</dc:title>
</cp:coreProperties>
</file>