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2106-324A-4A78-BEDA-90AE3E2C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5487-6CB2-4C65-BC6B-AC1CF04D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7481-045E-4396-832D-BF65B1433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A6A2-2915-4381-882A-408DBBE05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8623-25D4-4CDD-BB09-FADA0DEE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E9EF-282A-4424-A7F9-CBF0015D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D8B2-265A-4C01-9A7D-DC8E9139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2DAC-0704-4D1F-BC60-B59B4BA9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3AF3-16C4-4BB0-9ECC-C64BA33C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FDE7-ED25-4DA3-8748-06176532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C0E5-F212-4F48-BF0A-B6B93BDC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AE2C-E804-4340-9F14-F816245C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A95BC-C8A6-454B-BD86-34093B6D677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o not let the Word de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lose thine eyes against the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or sinner, harden not your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wouldst be saved—why not ton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1   О, Божих слів не забув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ожих слів не забув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ни несуть тобі спок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Бога серце відкрив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будеш ти ще й завтра 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жливо, вік скінчиться тв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зараз час Христа люб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morrow’s sun may never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less thy long-deluded s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the time, O then be w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wouldst be saved—why not ton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світ твоєму серцю дав?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ягар, журбу душі твої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с же щастя обіц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будеш ти ще й завтра 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жливо, вік скінчиться тв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зараз час Христа люб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blessèd Lord refuses n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ould to Him their souls uni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lieve on Him, the work is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wouldst be saved—why not ton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прийняти хоче всі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р спасіння дає С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скорбних хоче утіш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будеш ти ще й завтра 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жливо, вік скінчиться тв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зараз час Христа люб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5:30Z</dcterms:modified>
  <cp:revision>12</cp:revision>
  <dc:subject>Slavic hymnal Гимны веры христиан, Ukrainian hymn 51</dc:subject>
  <dc:title>O Why Not Tonight? (Oh, Do Not Let the Word Depart) / О, Божих слів не забувай</dc:title>
</cp:coreProperties>
</file>