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CAC-3BC5-4D83-9B0B-1718CA4D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950-85C2-49F0-BBD9-D4DAD67D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6D8-217C-421B-96FB-D1F0CC2C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C18-5193-49BC-AE1F-88534065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62A-FBD0-4A7A-8E44-A89C2916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360-A3A3-40E6-8F13-29815EF5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A04-F8D2-45C4-88F6-D791B2F7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C51-784D-427C-BC9C-9C58A01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F15-D712-4FD5-BFE7-D464D04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31F-B5B9-446E-87A1-E18D9DF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F00-E90F-4736-8093-72F40D9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593-D3EA-4709-9B19-2DDC83B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F9AF8-A83F-4329-AACA-FE43197753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hear they’re sing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creation shouts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urely we can all b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ybody here can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ll, I Hear They’re Sin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 feel like dancing in the str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join with all who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God is in this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s Jesus is al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ybody’s seen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ive for all my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aise a banner of truth and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about my Saviour’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est thing that happen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the day I me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I’ve found)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You lifted me from where I w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a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ed that You even know ’bou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have chosen to belie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lieving that You’ve chose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lost but now I’v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found Jesus, I’ve found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08Z</dcterms:modified>
  <cp:revision>10</cp:revision>
  <dc:subject>The Source, song number 550</dc:subject>
  <dc:title>Well, I Hear They’re Singing In the Streets (I’ve Found Jesus)</dc:title>
</cp:coreProperties>
</file>