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0543-5EF0-4B4E-9550-39891530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2293-A266-456D-ABF0-A1002CA6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6978-B40D-49C6-B438-671561AB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5C2F-9658-46B2-8117-D6E20544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BBEF-0606-4B8B-9782-DE7A70E7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BBF8-C553-4AC8-983B-7C881C81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A1B6-3F40-45A6-A6D8-F18BB4E3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64F8-F4EB-4A60-A48A-EB7F9BB9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2916-4A35-43ED-A83F-7E689783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6FD3-306A-443E-99EB-0565F6E8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E413-3C55-45DE-AB07-B4A1A23E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4D5A-2AEC-4D9E-AE47-10C0C83F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29B59-6127-4489-A03D-17C0EBCC152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луч в душе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ей он всех луч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ветят ярко над землё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луч — Спаситель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бесный луч в душе мо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есный гимн в душе мо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Царю ца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 песню слышит веч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б я петь не м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на царит в душе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изок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голубь мира в клеть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любви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радости в душе м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 Ему зв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блага, что Он мне да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частье лучши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! Чудный свето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лаженны мира, счастья д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Иисус являет ли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веточ у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6:49Z</dcterms:modified>
  <cp:revision>12</cp:revision>
  <dc:subject>Slavic hymnal Гимны веры христиан, hymn 587</dc:subject>
  <dc:title>Небесный луч в душе моей</dc:title>
</cp:coreProperties>
</file>