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537-9835-4A81-92BA-23E1B24E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0F7-095F-4AF9-85DF-28D3803F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E04-67D0-45FB-8883-4BA73588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3F3-3D21-4F3A-903B-84BF4AD8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9F4-B555-4B75-82A8-596B405B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A6B7-5C18-4D93-B7FD-2A2F5D7C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3A9-0644-4A11-8735-2CFE976D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49D-C173-4341-A606-938C15E7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BA7-9035-47DB-ADD8-3F910F5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C17-4EF3-45E5-8AAF-F48826C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E71-7CA3-44C2-B9B6-FCE28D96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59A-1AF5-4359-89AB-2FC15B39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98294-7160-40E3-A823-AE5506EAEC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we walk with the L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he light of His 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glory He sheds on our w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we do His good w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abides with us sti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all who will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мы со Хрис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мы со Христом в свете Слова ид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за славу Он даст нам най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винуясь во всём, все пребудем мы в 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послушно с Ним хочет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hadow can ri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cloud in the sk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is smile quickly drives it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doubt nor a f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igh nor a 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n abide while we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тень ниспадёт или туча взой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 улыбкой заставит прой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пребудет ни страх, ни слеза на оч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ужно лишь в послушаньи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burden we be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sorrow we sh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our toil He doth richly rep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grief or a l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a frown or a cro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is blessed if we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бремя несём иль страдаем в борьб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здаянье не медлит прийти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ль утраты нам жаль, встретим гор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ч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мы в них можем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we never can 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delights of His l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Until all on the altar we l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the favour H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joy He best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for them who will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 всю радость познать, нужно вс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м отд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себя на алтарь прине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блаженство дарит только т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то спе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ным быть и послушно ид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and ob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re’s no 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happy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trust and o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ся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ести вечну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Иисусе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n in fellowship sw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e will sit at His fe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r we’ll walk by His side in the 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He says we will 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He sends we will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ever fear, only trust and ob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 общеньи с Христом к Нему в ноги пад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ль в союзе с Ним будем ид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уда скажет — пойдём, что прикажет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есё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ись, но послушно ид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8Z</dcterms:modified>
  <cp:revision>13</cp:revision>
  <dc:subject>Slavic hymnal Гимны веры христиан, hymn 647</dc:subject>
  <dc:title>Trust and Obey / Когда мы со Христом</dc:title>
</cp:coreProperties>
</file>