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7D4-6537-4CFE-9D13-E095F376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8F7-9B19-443B-904B-3608D1C4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661-739F-4E2D-8897-671D604C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89F-DC2F-477F-A791-70830D27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15E-AABD-4DCC-BB5C-F1B3AE93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38E-EBB6-49E6-B543-092B59CE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CC7-5415-40F5-97C3-B51E2DB2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8FB-EAFF-4747-8550-E71A9CE4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733-A7AA-40A9-8182-2667BFA3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1DC-71F5-455E-9132-5099E071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CA9-5937-4765-B67C-5F9F6A2E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506-C914-4111-938C-33563604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26B6E-CD30-4F92-A7EC-043E433BC8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а костре, не от ме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дце радостн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ас вера горя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ы за веру шли в ост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олеть их мир не м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внукам их в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ую верност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уч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зей, люби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Христа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рочном царстве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2:46Z</dcterms:modified>
  <cp:revision>13</cp:revision>
  <dc:subject>Slavic hymnal Гимны веры христиан, hymn 616</dc:subject>
  <dc:title>Живая вера не умрёт</dc:title>
</cp:coreProperties>
</file>