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D7F-44A6-4948-B439-0E6D9F55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EA4-B661-4BF3-8F28-D91A9923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FA9-1F4A-40EB-97F3-8F10B1F4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459-822B-498B-8F5A-8B601039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E97-A26C-4056-9CE7-C7A466B6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AFA-87E6-488B-A4F4-21A75315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D6E-21A3-4D45-AE9C-2DA1E64D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E55-93BE-49F1-B970-D875CFBC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430-4AFD-4A43-96F3-DDBDB388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AD9-7C03-4B7C-A593-93359E0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8C7-48B4-4B90-9BDF-2DB4DC81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D59-75BE-4DEE-BD4C-299BD48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74746-037E-4AF8-AC37-7A2CBD9118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unseen thi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   Люблю розпові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у пречисту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й Його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’tis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atisfies my long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othing else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знаю правда 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є найдор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понад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 it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golden f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ll our golden dr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ивні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прекрас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всі Його ді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did so much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is just th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ell it now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е, що Він зроб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і том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овідаю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pleasa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seems, each time I tel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ly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овторя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м більше розпові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о солодше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me have never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ssag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God’s own hol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, що не чули 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обру віс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у Бог всім д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7:07Z</dcterms:modified>
  <cp:revision>13</cp:revision>
  <dc:subject>Slavic hymnal Гимны веры христиан, Ukrainian hymn 1</dc:subject>
  <dc:title>I Love to Tell the Story / Люблю розповідати</dc:title>
</cp:coreProperties>
</file>