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F618-DF3C-43AB-BBCE-8CDA2D46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23ED-51BE-445B-A9C1-D5C2D58A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E13B-7F0E-4715-9E69-F45B9769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BB30-3F82-4F07-8B66-C99BB270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9AC7-B9E0-44B8-8705-E9506683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6479-B072-4BDB-BF7D-505D9915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488-1986-401F-B223-646C3F33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2496-8743-462F-89E3-671D2E48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EC2D-2A91-40D3-987B-92F742DF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1594-4B6B-4A2D-8EC9-43615013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FE2F-F7FB-471A-B13C-D15107E6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ACA7-4B74-45A1-8C37-EAF88B02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C089E-85C9-45A8-B1EB-98CFCBBEEB6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holy night, the stars are brightly shin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t is the night of the dear Saviour’s birt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ng lay the world in sin and error pin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ill He appeared and the soul felt its wo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ятая но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вятая ночь! Сверкают ярко звёз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иши ночной нам родился Христ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сь мир тонул в грехе и беззаконь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Божий Сын нам спасенье принё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thrill of hope, the weary soul rejoic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yonder breaks a new and glorious mo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all on your knees, O hear the angel voic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night divine, O night when Christ was bor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night, O holy night, O night div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дежда счастьем сердце наполня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дали горит грядущих дней за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 человек, внимай певцам из ра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 ночь, о ночь Христова Рождеств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 ночь, о ночь Христова Рождеств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d by the light of faith serenely beam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glowing hearts by His cradle we st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 led by light of a star sweetly gleam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re came the wise men from Orient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бесный свет рассеял мрак печа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огнём в душе мы у яслей сто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ак мудрецы Царя царей иска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сли дары, — и склонились пред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King of kings lay thus in lowly mang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all our trials born to be our Frie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knows our need—to our weaknes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stran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hold your King; before Him lowly be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hold your King; before Him lowly be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сподь господ лежал в хлеве на сен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чувствовать Он может нам во вс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знает жизнь, Он испытал мучень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ади пред Ним, признай Его цар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ади пред Ним, признай Его цар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ly He taught us to love one anoth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is law is love and His Gospel is pe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ains shall He break for the slav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br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n His Name all oppression shall c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нас учил всё покрывать любовь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ви закон и Свой мир Он нам д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ш долг спасать несчастных и бездо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всех людей наш Господь пострад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weet hymns of joy in grateful chorus raise w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all within us praise His holy Na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 is the Lord! O praise His name forev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is pow’r and glory evermore proclai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is pow’r and glory evermore proclai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усть песни славы льются словно ре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усть каждый к Богу с радостью спеш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ристос — Господь, хвала Ему во ве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му вся власть и честь принадлеж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му вся власть и честь принадлеж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3:38Z</dcterms:modified>
  <cp:revision>13</cp:revision>
  <dc:subject>Slavic hymnal Гимны веры христиан, hymn 802</dc:subject>
  <dc:title>O Holy Night / Святая ночь</dc:title>
</cp:coreProperties>
</file>