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30B-9D06-4643-9700-B3F5A9BA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165-B771-49CB-803A-56F96C8F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673-AB3D-41D2-BF3A-C4DBE525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190-96EE-496D-B2CF-AD0D6910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0A9-E9D4-421B-A4EB-0C372E69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351-0A81-4A7A-9CD7-58564330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4B5-315A-4DE1-B2E4-A2594FD7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826-22B4-4F10-BD87-5AD4CAAB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B6D-6A48-41A6-A69F-676B272A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B02-E174-4FAC-BB2D-DBEA4FD1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B77-CFE8-4B37-B66C-53C10205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CE3-64EE-4D09-8A73-5EDF5C3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1D011-49DD-427E-959E-5976014CEB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ёл я пустыней грехов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а терзала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готы жизни грехо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и страшнее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естном мире огром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тейских с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я калекой бездом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аской ничьей не согр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ёл я пустыней грехов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иг, когда гибель гроз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воззвал я к Творц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сть всемогущая 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суждает к концу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ял Он мольбе сокруш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из бездны изв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 за это сверш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рогой огонё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гасимой лампа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моём сердце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еня вывел из 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-под кладбищенских пл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любов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Зиждитель — Т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незабвенный Влады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ящий, нежны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4:48Z</dcterms:modified>
  <cp:revision>12</cp:revision>
  <dc:subject>Slavic hymnal Гимны веры христиан, hymn 771</dc:subject>
  <dc:title>Брёл я пустыней греховной</dc:title>
</cp:coreProperties>
</file>