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D40-E0E7-4A85-B9C7-4A04FE45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19E-36A0-4783-9CE6-58DF2EB4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708-F06A-4BAC-BC0C-AAA9D7D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311-1A12-4127-84F8-1F094C70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ED14-96A0-4460-9BE0-E6AC9323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619-077C-431A-AE88-06532957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D51-F3A1-48FB-B134-A0DEF7C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11C-73E2-4ADE-8386-372E032B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97E-1E51-40BE-802A-68FE48F6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462-B96D-41F2-8B4E-60700F2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D84B-4E07-46D6-ABD7-7FAC449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5B8-6BB7-498F-B692-28D27007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0B59B-3CBC-49B5-9F40-0BDA3C4260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1:05Z</dcterms:modified>
  <cp:revision>12</cp:revision>
  <dc:subject>Slavic hymnal Гимны веры христиан, hymn 886</dc:subject>
  <dc:title>Душа, ты в борьбе и томленьи</dc:title>
</cp:coreProperties>
</file>