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428-BA15-461B-973D-505C8AF8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E53-364F-493B-B090-5AC0DAEA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126-EEC5-4EFC-9083-8AB92D8A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42A-8CE0-4840-8882-25C30A28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F57-30C7-46D0-892C-BB4E6937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E87-E728-4B15-8A66-49FC9347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C45-5D5A-447E-9EA8-2D0BDA84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F36-7ED4-4FA2-B690-96B93B7A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18E-6641-4909-96CC-58EFD5D8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EEF-5C85-49D2-AD94-67C7298E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8E6-AACE-43A3-B0EF-C0FF9ED5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3BF-1B3E-4C3A-8183-C5BDD649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A443A-D5C6-4586-9792-2D555F3EB7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humbled by Your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ed by Your grace so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knowing I’m a sinful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vered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’ve found the greate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ce You laid down Your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est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5   Here 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found me just as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pty-handed but alive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I am changed by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resence of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humbled by the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 so that I can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stand, knowing that I’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nctified by glory and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’ve found the greate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ce You laid down Your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est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found me just as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pty-handed but alive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I am changed by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resence of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11Z</dcterms:modified>
  <cp:revision>12</cp:revision>
  <dc:subject>The Source 3, song number 1245</dc:subject>
  <dc:title>Here I Am (Majesty)</dc:title>
</cp:coreProperties>
</file>