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F23-BEDC-42BB-BCA1-9C3D7566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DFB-AB86-404B-A83E-D98195D6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572-17AE-49B2-AF1A-E50DC840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380-F0FC-48C1-93BE-012CDA5C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8A6-2A2E-47B1-BD20-4B028DD0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570-0ABF-4668-871A-0A02B6C6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364-45E9-45E7-A8FE-AF59C8D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BF1-DBD6-4638-B33C-178FAC7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FB6-28BC-478A-96D9-FC87541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C35-D2FB-426A-835F-6430E8C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C9E-DCE7-4D4F-B6CF-14B4C584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281-B47D-4913-A1BD-77D2D11D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0CDD8-5C91-4249-86C5-26AA42D8F7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0:46Z</dcterms:modified>
  <cp:revision>12</cp:revision>
  <dc:subject>Slavic hymnal Гимны веры христиан, hymn 637</dc:subject>
  <dc:title>Благодатная скала</dc:title>
</cp:coreProperties>
</file>