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F21-2064-46B2-B935-FE9FAD2F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C36-8131-41D0-BA17-6E22DFA6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854-F58F-4179-B1E0-5A4B5339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1105-FAFC-4380-8934-3E5A7F66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713-E07C-40D5-8148-E037A28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4DE-D91C-4CF7-B672-E1FF706D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481-E839-4A5E-B224-7FA04D3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951-FC1C-46BC-B510-ECCCAF80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EF6-0885-48AF-93A6-181C261C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118-BE60-448C-BA48-7F39186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F4D-1514-4488-8EE9-17DD29EB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8C6-404B-4EFB-A709-AFEDE4C1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63E7A-2376-4CA4-B5EB-D5EB8FCBB9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gregat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salms to Jesus v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ur joy full s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   Браття, всі раді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сі раді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ний день на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,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радість д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n sin benigh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rs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s blood un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been made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ли чуж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епер друз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’єди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ят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by Sinai’s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face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he thunder frigh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s to u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кон Синайськ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та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прийняв Ізраї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ятій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grace from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from wrath are w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лова ми чує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спасла від гні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ь свята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love dir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we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pro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our heav’nl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живем в на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і і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усі обм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я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uth ’tis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Word, that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blood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Господній 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ить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мо, браття-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до кін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praises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blood redeemed are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od’s Book our names are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ten for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2:26Z</dcterms:modified>
  <cp:revision>13</cp:revision>
  <dc:subject>Slavic hymnal Гимны веры христиан, Ukrainian hymn 10</dc:subject>
  <dc:title>Let Us With Rejoicing / Браття, всі радійте</dc:title>
</cp:coreProperties>
</file>