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041-7F3B-4045-ADE4-D541D00E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F2F-814F-404F-8935-6F286B4F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8EF-9A08-47A5-9FDD-F3BAA51B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837-F3DD-4C42-9043-83629CA0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E6A-9C61-4F15-9198-C3CC2A7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41A4-B57D-4045-BB0F-0B62F207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6BC-1496-4A05-8BBA-78B096E2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7F38-CD5A-469D-A9F4-C254A0DC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37B-2245-4509-8464-0B033B2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F6D-04BF-4C20-A0F7-D5D90039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65F-D70E-45B8-AD79-620A0C20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485-8DBC-4AD6-942A-F9A7EAF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AF327-CD7F-41B1-B592-8FF8F1DDD59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above, beyond our understand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in love revealing who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lohim in whom we have our be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er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un, the moon, the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11   God Above, Beyond Ou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hosts, the King of angel armi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ovider, Shepherd, Healer,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fender of the poor, the wea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n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forter and Gu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ginning and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One, no eye has ever see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, in Christ, Your grace and glory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acing on our lips the “Abba, Fath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God who sav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ster, Adon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ove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love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I love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01Z</dcterms:modified>
  <cp:revision>12</cp:revision>
  <dc:subject>The Source 4, song number 1811</dc:subject>
  <dc:title>God Above, Beyond Our Understanding (I Love Your Name)</dc:title>
</cp:coreProperties>
</file>