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9DF-01BD-4C3D-A6FE-1701B833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8E4-6CA8-4264-AEA3-4E6CDD3C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BF3-34B3-4075-88E9-88B8D6C1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E0C-B3A7-47DC-9532-8040A850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588-A373-4D5B-B6A6-9B459773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EC8-6432-4259-81A4-735FDF63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6F7-B7FF-4922-BB2B-159BB2D3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B8D-C448-479F-8840-C201FB31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5F4-4D6F-4457-8128-BC019963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472-939C-4B2B-AD1E-8EDFB4CC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65C-39E3-491C-9460-70834345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B42-3AC3-4D73-905C-7088051B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FEF81-C3B8-4733-B36E-258E7E39D0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Спаситель для моей д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исус, Мой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исус, Иисус, Иисус, Иис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для моей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Спаситель моей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name is Jesus, Jesus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’s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7:27:00Z</dcterms:modified>
  <cp:revision>9</cp:revision>
  <dc:subject>The Source 2, song number 732 in Russian</dc:subject>
  <dc:title>Он Спаситель для моей души / He’s the Saviour of My Soul</dc:title>
</cp:coreProperties>
</file>