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E1B8-456A-4517-9BEE-43DD5A5A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D367-A42A-4A39-98C2-6F73EAE7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AC2-ADC4-49ED-B7B4-EC092837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308E-035D-40B8-84C5-6A4EDED4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553-128F-44E5-B487-6901B5C6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5D9-AA5A-4D81-ADA5-964AB361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7345-E070-40DC-AB86-B636A637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7E15-CD89-48F8-AA84-CE62E5DC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957-1A71-4332-BC57-19FDAE7E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6C92-1E59-4A21-9A15-29A62270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A5D7-D25A-46B1-8C82-BF627949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63D-AF7A-4235-BAF3-6463611E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AC1D1-6F9D-4857-BA90-927615925D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ife is in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trength is in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ope is in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, it’s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6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y Life Is In You,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praise You with all of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praise You with all of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my hope is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ife is in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trength is in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ope is in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, it’s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4:20Z</dcterms:modified>
  <cp:revision>10</cp:revision>
  <dc:subject>The Source, song number 368</dc:subject>
  <dc:title>My Life Is In You, Lord</dc:title>
</cp:coreProperties>
</file>