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E5E9-474A-4474-BAA3-33FB642A0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E91F-D4FD-48EE-A7A6-FA2EFB58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ACEA-66D0-41E4-B5B6-8CAC1E30E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02D2-D217-47A9-B0E8-50632FEC0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D577-3A3D-4105-8AA5-7951A03A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EBC4-402E-47B9-A8B1-D5C5AACE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75F4-0AAB-4B05-AEE8-85327A36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B7A0-2BBB-42CA-91A8-F778E98A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B81C-E5F3-4D38-999C-AD3F1AB8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3983-2677-40F6-9B7B-0BB69C59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8F0F-2ADB-4BAA-B432-D613F4C4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425F-0C00-4AA3-8554-E3546A87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46213E-08DF-42DE-B4B2-4A08DBB02E8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на правый путь ве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х один лишь Он спа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9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Грешных всех Христ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, ты сбился на пу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тоб заблудшего ве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тобой Господь идё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придите ко Христ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ст Он счастья полн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в сердца покой прол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, мужайтеся, друз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рови чистая стру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ас омоет и спас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ип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який званный да прид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ых всех Христос зо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8:44Z</dcterms:modified>
  <cp:revision>12</cp:revision>
  <dc:subject>Slavic hymnal Гимны веры христиан, hymn 339</dc:subject>
  <dc:title>Грешных всех Христос зовёт</dc:title>
</cp:coreProperties>
</file>