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E17F-48BD-4ED9-8E65-7939BEB71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59D2-F97E-454B-9316-656290BA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33F5-8788-46DA-915D-52B2B1781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F357-FC38-4C6B-9837-F5617457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05F9-F016-4488-9D8A-80A6FC5F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AC07-DB1B-4EF2-881A-767D5A6B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EE51-5C82-45B2-B3EE-77A0A405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4F89-78CB-4613-AF5E-4104F004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0057-9920-4E3C-B25A-58FC405A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93A2-B3A9-4961-A581-46ADD2B2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E02B-7B8F-4EC8-889D-35B64C0A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CE73-B78F-4B66-85A0-A4B8B0FD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63C02-A278-4695-8A1E-D482BA8A0E3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агне й рветься туди все ду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спасенні, в небесних луч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лавляють свойого Твор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6   Насліддя моє в небесах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ь мене жде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ийме у оселю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дих мирний на травних луг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Його світлім, блаженнім р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скоро у небо пі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кінчу шлях тернистий, зем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всіх вірних слуг Божих знай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усі Божім пречистих, свят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ах,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ліддя моє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33:29Z</dcterms:modified>
  <cp:revision>13</cp:revision>
  <dc:subject>Slavic hymnal Гимны веры христиан, Ukrainian hymn 26</dc:subject>
  <dc:title>Насліддя моє в небесах!</dc:title>
</cp:coreProperties>
</file>