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852-D1DE-4D8F-B47B-20DFC4E7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DCA-989C-4E9B-9AB1-3257B8A8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107-4182-4788-AC7A-6FFD1A70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0BE-6591-4B39-ACC7-545E45FF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BED-5DAF-4416-B1D6-1304F08F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F20-37E5-4BF2-AE4C-9DD1333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AA6-3AC3-4FBE-8A89-40DEC01B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58E-15D1-4FF9-9636-AA19C3F7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404-7DCB-40BF-9327-4C83285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EE0-6330-4044-9AE1-A0D608B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1A1-8D8A-4D70-B88E-CF0CE4A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4A5-F07B-4DD6-8831-B871981A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65F11-48F2-4412-8337-DE120131AB3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частн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безбож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онешь под гнё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яжёлой нуж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вёл свою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в веселии лож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итаясь рож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ской су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счастный мой 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адскими стре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жи и нев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ранен смер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зримым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ухла в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воих искра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идишь ты прав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где и ни в 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ска и отчая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ожут жесто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ак изнурё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в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тину погря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трастей и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всё негоду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лачишь жизнь св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 жизни так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ха и ков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ы не смуща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дающий бр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побед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у адского цар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илен погиб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и спа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ерой взгля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 образ свящ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раз люб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победной, святой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илу получ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 соверше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ухом воскресн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жизни и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01Z</dcterms:modified>
  <cp:revision>12</cp:revision>
  <dc:subject>Slavic hymnal Гимны веры христиан, hymn 364</dc:subject>
  <dc:title>Несчастный мой друг</dc:title>
</cp:coreProperties>
</file>