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31A-9670-4433-9137-879F44EF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422-AF43-4AEE-BA91-F6702755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A4E-19A4-49E4-B1DE-C44E74EE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89C-5162-4992-8A9C-6373AAB9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B76-0B2F-480F-A5A6-B024F031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CE80-6166-4B7C-A416-055FF8AD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644-DE31-4444-8885-2B22EDA1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9AE-BBF7-4C69-8143-054708E6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7E9-668A-4DE6-95CF-C2119F13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41B-1086-488C-9FDB-5D0423C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05B-835C-4C62-90F1-075C444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234-1A62-4C88-B5B0-E8244E14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E9A17-8786-44EF-BD2E-4990133714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safely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He leads me in this world belo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out Him dearest joys would f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fr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везде с Иисус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ёмном царстве ночи Он — звезд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 Него угас бы нашей жизни св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в сердце страха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am not alo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ther friends may fail me, He is still my ow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His hand may lead m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drearest way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s a house of p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не сам од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оть друзья изменят, верен Божий С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хранит меня Он и в долине тьм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мне звучат псал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, over land and s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elling souls in darkness of salvation fr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ady as He summons me to go or st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hen He points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хочу ид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жий дар спасенья грешникам н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ыть Ему послушным, к слову Божью льну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сен жизни п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I can go to sl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darkening shadows roun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e cree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nowing I shall waken nevermore to roa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ywhere with Jesus will be home, swee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я готов по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сли ночь пошлёт Он труд мой прекрат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пробудит к славе неземн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, везде с Иисусом сердцу дом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, anyw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I cannot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ywhere with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safely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! Да,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звезд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езде с Иисусом безопасен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3Z</dcterms:modified>
  <cp:revision>14</cp:revision>
  <dc:subject>Slavic hymnal Гимны веры христиан, hymn 631</dc:subject>
  <dc:title>Anywhere With Jesus / Да, везде с Иисусом безопасен я</dc:title>
</cp:coreProperties>
</file>