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38B-DC51-4BA0-94D4-DB819E2C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EA5-A8FB-4534-AB7A-C5F4F3AC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BBE-EEF8-4C62-B9D8-4E18C6DD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4C6-E926-432D-A79C-35FD687B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19D-5D11-48FA-B85E-A6FF63CC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55F-2410-4B51-88F8-2A3CAF1D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292-F6BD-46F5-B54D-F5D9DE7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8FC-6353-4A3E-B379-DEC95A3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7B6-7299-4515-A607-5C250C0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87C-23D4-4A53-AED9-3926F49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E17-1E62-400D-945B-EAC6A1B7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9A5-ED19-496A-85C1-F0C0FEA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FAFE4-E061-4048-BA2C-1832EF3EA1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, thy mission high fulfill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ell to all the world that God is ligh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who made all nations is not wi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soul should perish, lost in shades of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он, спеш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он, спеши исполнить долг свящ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расскажи, что в Боге жизнь и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Устроитель и Господь всел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лизок Он к творенью Сво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how many thousands still are l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in the darksome prison-house of s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one to tell them of the Saviour’s dy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of the life He died for them to w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яди, гляди! народы погиб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х враг пленил и заключил в тюрь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 о Христе никто не возвещ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ает души из пучины б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oclaim to every people, tongue and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God in whom they live and move is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 how He stooped to save His lost cre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ied on earth that we might liv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возвести народам и племёна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даёт нам жизнь и благо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ходил спасти порабощё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Он страдал, чтоб грешников при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sons to bear the message gl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ive of thy wealth to speed them on their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our out thy soul for them in prayer victorio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Zion, haste to bring the brighter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сынов нести в мир весть спасен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шли дары содействовать в тру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лись всегда за призванных к служенью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ё награда ждёт на выс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blish glad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ding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mption and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озвес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от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51Z</dcterms:modified>
  <cp:revision>12</cp:revision>
  <dc:subject>Slavic hymnal Гимны веры христиан, hymn 852</dc:subject>
  <dc:title>O Zion, Haste / Сион, спеши…</dc:title>
</cp:coreProperties>
</file>