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020-41CE-4B05-9DF5-4A351B86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6C2-0C30-4A7A-951B-F5AF73D1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6C7-4624-44FC-952B-A2773FC0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EBA-420C-4247-918D-13A4D0FB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97AC-A05D-4CDA-8EA2-1D55F472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D63B-AF49-4A77-81BB-F11F3CD6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4DFD-7107-4BC3-929B-6E041F26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4FD-7381-4392-B926-B49760C2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85CC-4623-40DB-84F9-554430EB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1AE0-8943-4B58-B197-14109519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6D6-D181-4473-8108-14FB5328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4BFD-357F-4D10-B7A4-B2235913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320A8-ABA4-46C1-ADCF-55633DA37B1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life and let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secrated, Lord,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hands and let them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impulse of Thy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impulse of Thy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7а   Боже, жизнь возь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жизнь возьми: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Тебе посвящ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руки, их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 я в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 я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feet and let them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ft and beautiful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voice and let me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ways, only, for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ways, only, for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ноги, должно 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тезям ходить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голос, чтоб он м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Тебе, мой Царь, мо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Тебе, мой Царь, мо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lips and let them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ed with messages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silver and my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mite would I withh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mite would I withh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устам достойным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ебе благовес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 и сере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зьми моё доб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зьми моё доб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 love, my God, I p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y feet its treasure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yself and I wi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, only,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, only, all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возьми любов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у ног Твоих ст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ьми всего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, навек Твой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, навек Твой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15Z</dcterms:modified>
  <cp:revision>14</cp:revision>
  <dc:subject>Slavic hymnal Гимны веры христиан, hymn 437 (as amended)</dc:subject>
  <dc:title>Take My Life and Let It Be / Боже, жизнь возьми</dc:title>
</cp:coreProperties>
</file>