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F97-3428-4C9B-8549-31768710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401-C89C-4999-BF4D-FF4B7D5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F76-45DB-4E8A-B8E7-2FB4727D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8CB-B3CE-4F9D-ADA9-0F0864C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4CF-23FB-468B-B3C9-D176D209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9C0-C5B1-4E8D-9E9F-50433459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12D-F693-4D30-9C63-D89F0EBE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111-2DD4-43DD-8461-210A126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4460-E633-474C-8E02-DD52964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4E4-1DC9-4D83-B374-3CD4E23F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C1E-5665-4AA0-B969-470F8A6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086-9906-492C-B119-5358106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1E998-5897-43CC-9D4D-5EAF700F49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7:22Z</dcterms:modified>
  <cp:revision>13</cp:revision>
  <dc:subject>Slavic hymnal Гимны веры христиан, hymn 683</dc:subject>
  <dc:title>После заката</dc:title>
</cp:coreProperties>
</file>