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E60-F183-4B9A-BB38-09887265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644-6C36-441B-B304-AFB17DA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A2E-0F27-4C53-857E-DD2C62F6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E52-1168-43DC-B4A6-6BC94965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8C6-B3D1-4F36-9B37-5A6B1C71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6FD-FCA4-4120-9521-6EDA526D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ADC-F3C7-42F3-AEDA-9F30E459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12E-5D9B-4C87-B767-0FD1871D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14D-F439-48C0-B570-1728AEB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27B-857E-415C-A7FC-997F886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1F0-F221-43CA-ABC1-669849A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331-BF51-4A0B-A8AE-8BC7D84E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EDA77-492C-4BB0-8135-A9401222AA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тон бесшовный Господь н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ы аро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й одежды меня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идти 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итон бесшо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ведал страдан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ак алой гор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за Сво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учший дать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дежд запах к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ходится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болезней и слаб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 целебны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ежде славной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 лишь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н Своих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с Ни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5:18Z</dcterms:modified>
  <cp:revision>12</cp:revision>
  <dc:subject>Slavic hymnal Гимны веры христиан, hymn 837</dc:subject>
  <dc:title>Хитон бесшовный</dc:title>
</cp:coreProperties>
</file>