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0C9-8F39-4B97-B50E-DDF7D5B8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4B6E-75FF-4AA5-BED1-85C815C5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74A-93DD-4AE2-A060-5A9F8382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7AC-767F-46B1-AB0B-D1C68093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9D2-E7D1-4483-AF1A-646D5C2E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390-F1BE-4738-807A-4EBACA1E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9BC-E2E0-47F0-862E-C9C74505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3EC-770A-487B-B562-5D150D92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4EF-4B76-42CE-8CBD-738283F4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523-FECD-4BE1-88A0-41C9576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912-92AC-4302-B22C-55F78D45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986-84E1-4941-A79D-0D8FC63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5D281-7758-4A16-A365-F4938D474C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counsels guide, uphol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sheep securely fold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с тобой, доколе свиди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н да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шаг твой напра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His wings protecting h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ily manna still provid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да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нной свыше Сам пи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 love’s banner floating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mite death’s threat’ning wave 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зла тебе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ся жизнь твоя сокр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’s perils thick conf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t His arms unfailing round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иди,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бовь Его яв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 at Jesus’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we meet, ’til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be with you ’til we meet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3Z</dcterms:modified>
  <cp:revision>13</cp:revision>
  <dc:subject>Slavic hymnal Гимны веры христиан, hymn 745</dc:subject>
  <dc:title>God Be With You / Бог с тобой, доколе свидимся</dc:title>
</cp:coreProperties>
</file>