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DE52-B0D8-434A-90C9-94CB83074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7774-773E-4C9D-8D38-D0A505401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CA59-BC56-4EB3-B936-A24C3ED03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3F67-6B9C-44D9-A887-A0678F5A7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4D40-62CC-4DBA-94CF-BA8CAFB7A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DF9B-B379-468B-9905-4952689E4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3E34-50BB-44C4-BFBB-DFABB4FD5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6A1F-2D1D-44E5-B8C0-EA04CA96A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D2D0-4876-4E50-A247-0009C3DE1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2FE0-B1CE-4223-ADD9-8CFBD3F65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1115-9E53-4970-BE32-28798640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AA56-93B8-4C16-B139-D85940829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452829-6B9B-4698-9F9C-EF0EE817C97F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I stand in the mid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a multit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those from ev’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ribe and tongu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are Your peop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deemed by Your blo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Purchased from death by Your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416   Lord, I Stand In the Mid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are no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ood enough to thank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are no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express my prais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I will lift up my 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sing from my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 all of my streng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, halleluja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 to the Lamb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, halleluja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the blood of Christ we 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 tongue, ev’ry tri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 people, ev’ry l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iving glory, giving hon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iving praise unto the Lamb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we stand by g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prese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leansed by the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the Lamb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are Your childr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lled by Your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umbly we bow and we pr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lease Your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work in us and through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il we are chan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be more like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n all the nations will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glory revea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orshi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, halleluja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 to the Lamb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, halleluja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the blood of Christ we 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 tongue, ev’ry tri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 people, ev’ry l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iving glory, giving hon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iving praise unto the Lamb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 knee shall bow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 tongue conf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You are Lord of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, halleluja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 to the Lamb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allelujah, halleluja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the blood of Christ we 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 tongue, ev’ry tri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 people, ev’ry l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iving glory, giving hon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iving praise unto the Lamb of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15T05:48:03Z</dcterms:modified>
  <cp:revision>12</cp:revision>
  <dc:subject>The Source 3, song number 1416</dc:subject>
  <dc:title>Lord, I Stand In the Midst of the Multitude (Hallelujah to the Lamb)</dc:title>
</cp:coreProperties>
</file>