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2B7-698F-45AB-9A02-F66F697F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5B7-063D-411E-BFEC-7FA78858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201-A523-4DF0-80E2-7B6A5361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561-DB93-4961-9010-3FC9EF13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325-F038-4CA4-A56C-26FF6A0D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27F-5E97-4052-8688-72C4A72E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47BA-D3E9-4F93-A515-D58F661E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454-36D1-4195-9425-8E649322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713D-E12D-485E-9776-474F6C78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F23-D31E-48A3-AEBD-6CDAED99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C80-C761-40C0-B485-8E702CD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6E8-6438-4764-AC89-53D0BD0F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7200-A1FF-49F0-8548-CD098EA63C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ght broke through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d exceed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ell like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deser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5   Your Light Broke Through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lift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 ros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de this valley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how we over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turned my sorrow into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57Z</dcterms:modified>
  <cp:revision>11</cp:revision>
  <dc:subject>The Source 2, song number 1095</dc:subject>
  <dc:title>Your Light Broke Through My Night (This is How We Overcome)</dc:title>
</cp:coreProperties>
</file>