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3F7-7C7E-47E7-925B-F062B9A7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7FB-2200-4898-9046-8175DD0A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A49-9ABF-4D3E-BC1B-0EA38387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D73-EE89-4384-9D2D-5C18288A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8DF-8EF5-4918-B2D6-B5E2C142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A6B-A85C-496E-83EF-38C4CBB7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4CA-40CF-4BB4-82BB-D14C216C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80C-312A-4B07-B9E3-622D86B4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A12-FEB1-4672-BBC1-52854A76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55C-9D23-4C7F-9D64-8302F6A1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674-E80A-4617-A6F9-6BD53259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42A-2D40-46D2-9333-E25076F0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E44F3-0829-410B-A380-27031709A86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rner, wheresoever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he burden of th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страждущий, зай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it in thy Saviour’s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away thine every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speak, and He will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сё Христу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гони прочь страх люд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тебе Спасител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hee, wand’rer, tarry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that consecrated sp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аздывай в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на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y laden, sore op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can soothe thy troubled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aviour find thy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 в твоей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Спасителю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е на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tless sinner, com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Bride and Spirit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забот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ам дал в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 living fountai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there for you a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and poor, for bon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гляните, как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ам поток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ой 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thought! For every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atoning work i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од сен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каждого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s of boundless mercy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to all who thither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hat all the world might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 there’s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ршились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ись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кнула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4Z</dcterms:modified>
  <cp:revision>13</cp:revision>
  <dc:subject>Slavic hymnal Гимны веры христиан, hymn 345</dc:subject>
  <dc:title>At the Cross There’s Room / Есть для плачущих земли</dc:title>
</cp:coreProperties>
</file>