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95B-37B3-4232-9D46-75ABEFC2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C27-C6C7-4FC7-BE22-72361483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083-391F-42E0-9F1E-2C02BE11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217-95FD-4533-8DF8-FE753701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4779-8CAC-4F16-83A9-BDE189FD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52E-09AB-42A9-ABC0-0F77848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631-BD62-42AD-AB94-FC85631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B9D-48CD-4CE9-A023-BD5330B3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F44-E92E-4380-9218-AC470A0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035-0925-4545-BA36-FB572EB6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454-1DA1-485B-BE48-BFFAC958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E7F-F497-4268-B5A3-289A9FC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62D06-AA55-4F74-96B1-5435E02FFB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law, O happy cond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bled and there is re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rsed by the law and bruised by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we are free, there’s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dem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rovides a perfect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unto Me,” O hear His swe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saves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Children of God,” O gloriou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race will keep us from fal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death to life at His c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salvation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sinner, recei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for all, O brother, believe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to the cross, the burden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redeemed us onc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4Z</dcterms:modified>
  <cp:revision>13</cp:revision>
  <dc:subject>Slavic hymnal Гимны веры христиан, hymn 385</dc:subject>
  <dc:title>Free from the Law / Сняв с нас закона порабощенье</dc:title>
</cp:coreProperties>
</file>