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0FE-6FE3-42CF-B8FD-9BDCB839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B8A-DE0E-42BD-9B50-A4B9F3CC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9C5-DE33-4D19-B600-C744B6AA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57B-5E90-4078-8A3A-DCE7AA63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253-DA35-41DB-A9E5-601CAC89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E71-2185-4E2C-AFBF-8C51A47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697-2E4E-40CD-A971-6B02204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F4C-4DFB-4491-A82B-5848518A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014-368F-45E0-8E9C-52A03B56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DB4-1CAB-4EA2-9DF6-B989E08B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09E-4146-40B6-B2E0-82CB9016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E12-CCDA-47F7-8139-3F79CE34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EF4D1-BC32-4499-B3EF-9E394ADDBC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 с ликовань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скорбей непобед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щается в сия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клоняется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мотрите с ликовань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, венец несит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в спасенья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тол вступил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хвал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ли люди з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рнием Христа г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и все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честь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гимны ликова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хор небесных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Царь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му всё покор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, Царя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14Z</dcterms:modified>
  <cp:revision>12</cp:revision>
  <dc:subject>Slavic hymnal Гимны веры христиан, hymn 297</dc:subject>
  <dc:title>Посмотрите с ликованьем</dc:title>
</cp:coreProperties>
</file>