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CE7C-7389-47A1-B67B-6008CC00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6020-2CB8-40C4-B908-42D44EB5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7FA4-E89E-464D-B503-4425E17BB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402B-1E3B-43D0-A0E6-A905E0915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1AD9-2F42-41B9-9023-89E61DB4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DA8C-B023-482C-8FE0-B1AA1C99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CF38-9960-4408-A65C-1253ED9E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E29A-B200-4EA1-9BC3-9BD6E02B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C5FC-574B-4E6B-8487-3CF93C9D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B6B3-ADC9-479B-85C5-F80A8383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C990-CF5C-491E-ABC5-F19E2D4C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7515-0F43-4CEF-B0D3-44591686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D5218-9A64-4BF5-8CCD-8B783473DA5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 Господом идти жел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 Ним я не страшусь невзг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и цель Он ясно откр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м и в сердце полный мир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м и в сердце полный мир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поля, луга, леса и г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дёт меня в небесный д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 не был мне Господь опо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 не смог идти Его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 не смог идти Его пут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олько с Господом ид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Его покровом почив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удясь, беседую я с Н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й путь Он Сам мне изб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го десницей я хра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го десницей я хра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с Ним желаю быть в общ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мой свет, и пища, и питьё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ю Он мне дал спас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моя теперь в руках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моя теперь в руках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огда мой день придёт к зака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овёт Господь меня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меня в Свои пала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айду и радость и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айду и радость и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0:02Z</dcterms:modified>
  <cp:revision>13</cp:revision>
  <dc:subject>Slavic hymnal Гимны веры христиан, hymn 462</dc:subject>
  <dc:title>Только с Господом идти желаю</dc:title>
</cp:coreProperties>
</file>