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858-3738-472A-8AA8-1EF4C213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5C9-1C24-41C9-9E8E-E5DE542D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90CF-EBB5-4D47-A843-BBDC1A39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18A-C116-4319-8741-B8469E8E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355-DC2A-4836-8AA1-68462D6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D46-F3FD-4EFC-9389-E66DC609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30D-140C-461F-B70C-D9CFA4E5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4C0-9CCD-4986-87F3-BF1A751B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82A-8CFE-4D67-ABD4-2398522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B92-FAAA-4DCF-8B12-CB4B059E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A38-6CC3-4BA4-9A92-C3237B5E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E3A-CA9B-4F46-9FDE-12D2404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4DE97-718F-48E8-BCFB-53462428A8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послал Отец, нам послал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радости ясной собрал Он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 Ему за этот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раду небесную для серд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браньи во имя Его Иис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Сам обещал, быть Сам 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, чтоб вечный наш с Ним сою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годати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этот не знает отрады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Господь нам дал, чт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 мы будем, чтоб Он, бла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ами пребы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ривет, все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, всем при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вал в чуд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ватьс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8:02Z</dcterms:modified>
  <cp:revision>12</cp:revision>
  <dc:subject>Slavic hymnal Гимны веры христиан, hymn 744</dc:subject>
  <dc:title>Отраду небесную для сердец</dc:title>
</cp:coreProperties>
</file>