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5D79-8BF1-42D1-8E43-58FE331E0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F3A9-1AC5-415E-B072-F8CD8253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884E-A4A2-4EFB-9F95-B3F999E6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45A8-0A76-47F8-A294-FDEC7CDF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A4C0-CC0E-45F5-A8FE-C93DD497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1805-ACB4-48B5-BC36-11D47D5A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A5AF-8A5A-4084-8DFF-543C917A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BB06-2E00-4462-B667-7086833E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2C0C-7181-4D76-A408-EFEC3731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8EE7-4852-4560-B43D-E41CDD3A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3458-2C96-4CC4-9375-11E1E660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05FC-A2C3-4D6F-B5A1-BC8CA9D6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3A134-9884-49D6-9213-054DAF6D860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where are the reapers that garne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heaves of the good from the fields of s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sickles of truth must the work be d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no one may rest till the “harvest hom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где же жнец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где же жнецы, чтоб теперь собр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полей, злом богатых, — добра сноп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рпами любви надо труд сверш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 тени ночной класть нельзя сер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are the reapers? O who will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hare in the glory of the “harvest hom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who will help us to garne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heaves of good from the fields of s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де же жнецы, где? Кто, кто го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хочет на праздник житницы прий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хочет с нами в неё н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лосья мира с полей г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out in the byways and search them 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wheat may be there but the weeds are t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search in the highway, and pass none b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gather them all for the home on hi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щите колосья среди трав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шеницу средь плевел найдёте в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бросьте колосьев, что у пу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ешите их в житницу прине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are the reapers? O who will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hare in the glory of the “harvest hom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who will help us to garne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heaves of good from the fields of s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де же жнецы, где? Кто, кто го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хочет на праздник житницы прий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хочет с нами в неё н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лосья мира с полей г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fields are all ripening, and far and 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world now is waiting the harvest ti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reapers are few, and the work is grea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much will be lost should the harvest wa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т колос созрел и к земле пон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жатвы великой мир скоро ждё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ботников мало, а труд вел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длить же нельзя, ведь всё пропа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are the reapers? O who will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hare in the glory of the “harvest hom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who will help us to garne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heaves of good from the fields of s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де же жнецы, где? Кто, кто го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хочет на праздник житницы прий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хочет с нами в неё н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лосья мира с полей г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 come with your sickles, ye sons of m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gather together the golden grai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il on till the Lord of the harvest c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share ye His joy in the “harvest hom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ерите же, люди, свои серп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сите с обильным зерном сноп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итесь до встречи Царя-Гл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 житницу Божью войдёте 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are the reapers? O who will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hare in the glory of the “harvest hom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who will help us to garne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heaves of good from the fields of s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де же жнецы, где? Кто, кто го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хочет на праздник житницы прий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хочет с нами в неё н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лосья мира с полей г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05Z</dcterms:modified>
  <cp:revision>14</cp:revision>
  <dc:subject>Slavic hymnal Гимны веры христиан, hymn 534</dc:subject>
  <dc:title>O Where Are the Reapers? / О, где же жнецы?</dc:title>
</cp:coreProperties>
</file>