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646-E19D-46C8-9241-D5F36A84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6BE-5B3D-4C30-94EF-70410B37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E16-73E5-4D06-A858-5512C12E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82F-D2D1-4772-A817-A400570A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7DF-13EF-42AA-BA42-2E507177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F330-63A0-447D-8239-7B4D19B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9DF-2477-4ED5-B173-7645EFC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289-3080-4633-80DB-31F5976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8AD-E3AD-4573-BB5B-DDAD14D9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468-9C68-48F0-83A4-0210B26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14A-BD49-45C5-8988-18BFDCA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D95-DEE2-42D1-93A7-6F42DF73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125D-4695-43A5-8A48-B756C965B6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! Почему её не ви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х, кому навек она д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до горечи оби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уша так радостью бед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орбим усталыми серд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х ликований смолкла пес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м не радоваться с в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ому же радоваться зде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! Почему её не ви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Чтоб радоваться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 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увидеть каждый встр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радость в ласковых глаз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! Другим её да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будьте к Господ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ю, как звёздочкой, 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небесны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7Z</dcterms:modified>
  <cp:revision>13</cp:revision>
  <dc:subject>Slavic hymnal Гимны веры христиан, hymn 611</dc:subject>
  <dc:title>Радость! Почему её не видно?</dc:title>
</cp:coreProperties>
</file>