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076-DEB5-449D-BFDC-495D2B37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A27-4178-4357-9EFB-468DB128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0FE-B161-43A5-B48A-D11DE7D4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5B3-A62F-4632-90D2-86624D25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E9C-A00C-4370-B8C2-05F8D42A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326-124E-4578-A23A-C5764CDB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C52-9BCF-40F1-A6AD-9B6C64BA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668-6A52-42E3-BFF9-D2A04EA5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4DC-2FE0-41A8-A886-7F8ED2D1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4DE-A7D6-4B60-8117-4DB54616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65C-E427-40EE-ABE3-DBF92A64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3DA-5687-441E-BD23-ACFD2B4E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778D5-5B0C-43CB-8BAD-AD06440AC9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peace like a river, attendeth my 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sorrows, like sea billows ro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ever my lot, Thou hast taught me to s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ечёт ли жизнь ми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чёт ли жизнь мирно, подобно р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усь ли на грозных волн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всякое время, вблизи, вдале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Satan should buff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rials should co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blessed assurance contro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Christ hath regarded my helpless 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as shed His own blood for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вражьи нападки, ни тяжесть скорб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клонят меня позаб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Бог мой меня из пучины стр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любви восхотел искуп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in, O the bliss of this glorious th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in, not in part, but the who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nailed to the Cross and I bear it no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aise the Lord, praise the Lord, O my so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в мире сравнится с усладой т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й грех весь, как есть цели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 кресту пригвождён и я кровью свя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куплен всесильным Хри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me, be it Christ, be it Christ hence to l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Jordan above me shall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pang shall be mine, for in death as in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wilt whisper Thy peace to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сердца скажу: для меня жизнь — Христо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Нём мой всесильный опл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еды от греха, искушений и слё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меня Он любовно сотр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 (it is wel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my soul (with my soul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well, it is well,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со мной (Ты со мно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Господь (да, Господь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воих я покоюсь ру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Lord, haste the day when my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be s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clouds be rolled back as a scro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rump shall resound and the 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hall desce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n so,” it is well with my so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сподь! Твоего я пришествия ж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ять мою душу гря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знаю, тогда лишь я сердцу на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кой у Тебя на гр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18T21:26:18Z</dcterms:modified>
  <cp:revision>12</cp:revision>
  <dc:subject>Slavic hymnal Гимны веры христиан, hymn 817</dc:subject>
  <dc:title>It Is Well With My Soul / Течёт ли жизнь мирно, подобно реке</dc:title>
</cp:coreProperties>
</file>