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D31-E3A1-45A8-93B8-54DBB0E4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D5D-9418-4138-B07E-0B64771B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148-F6A6-41A2-A8FD-7AC41F0D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695-0126-4840-9D11-4C186616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0F4-B9A5-43BD-8936-47701B9B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671-3F85-4FD6-B069-B7D0057E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3E5-148B-4E97-97D5-0CD1BF88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9E1-DEBB-4415-9EB0-9D9112A8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1C7-1E66-4B38-8F83-88D8EF84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B0BD-8F4E-4E09-8A86-CFE0812B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EDD-2612-43B0-9BD2-27F32060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9D9-B5EC-4BB7-9D88-A030596E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8E4A2-8DCD-40EF-8E26-9619DA2DEC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будет славой, радостью т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ознес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 твои грехи на крест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икуй, ликуй, спас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езопасен под крылом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хрь бури разъярё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нять не может мира т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высоте дом вечный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славе вознес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твой тебя туд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, ликуй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войти в собрание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ердцем восхищё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 всерадостный спасенья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 (ликуй), спас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й (и пой)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ребывает в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осподе тво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7:12Z</dcterms:modified>
  <cp:revision>12</cp:revision>
  <dc:subject>Slavic hymnal Гимны веры христиан, hymn 580</dc:subject>
  <dc:title>Ликуй, ликуй, спасённый</dc:title>
</cp:coreProperties>
</file>