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92D-9DD9-472F-A06F-47440155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270-7CBA-4BD1-A2B0-E2E3214C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8AB-0717-4748-AC24-2413F12C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984-F192-420C-966D-41AE368B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4CE-1E99-40F2-BC03-438E60F8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014-12AD-4B6F-9D9C-5E43C55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CCD-1CBF-45E9-BD02-0263D4F4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CEB-2A62-49B1-8168-BDF2DC0C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AE5-E3F2-480F-A3D4-0C68E585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E34-092D-48B5-BCB4-2B35BF4A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62D-06F3-44AD-A411-BA34EB3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558-0110-4218-9977-0B941AC9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9914-C5F2-4780-80FE-B5D0AA92FD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ловах щоденних мол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лаженство для душі знайш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 найкраще, що є тут в житт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 спокої щастя я заз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кутка я тихого бажа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олоду маю в бороть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5   Не в слов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ш Ти, як завжди, в кожну м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ебе любов в мені бри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шукав нічого я собі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дкрив мені любов С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я з Тобою у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радощів тремтить душа в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для мене захист, Ти ― мі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ез Христа ― порожній цілий сві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ез Тебе вмер би у журб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вколо хижий ворог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чить проти мене лютий б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могу Ти даєш мен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е джерело моє в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ля довгих, нещасливих д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одне я зрозумі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тя вічне лиш в Твоїй кра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зі є джерела мої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45Z</dcterms:modified>
  <cp:revision>13</cp:revision>
  <dc:subject>Slavic hymnal Гимны веры христиан, Ukrainian hymn 35</dc:subject>
  <dc:title>Не в словах щоденних молитов</dc:title>
</cp:coreProperties>
</file>