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808-63E9-4EB5-ABE8-243C1B90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B8A-EAA5-4FD5-8382-5FA5540B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9657-DC7E-4B70-8904-B91B4E75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986-67D8-4FE8-859E-B696D68F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FE8B-1B03-40E6-8DC0-DFA769BB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43E-2673-4E73-89F5-D150602B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F54-6071-4A27-A284-662B01A5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F94-2B5C-42FB-BBEA-3E3F6E36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60E-5C91-43AF-BF35-CB9F4CD3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499B-9152-4C20-A6EC-6C126306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7EC-18F8-4ED4-9B94-98209023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939-A574-465F-83B8-39A8B76D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1355C-5A8C-4E88-A5A5-6AEEB7A7BBA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on me, brea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me with lif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may love what Thou dos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o what Thou wouldst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вей, Дух Божий, вн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источник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являл Т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моих де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on me, brea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my heart is p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with Thee I will one w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o and to end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так очи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касалася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зем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on me, brea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nd all my soul with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this earthly part of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ws with Thy fire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этом мире з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всегда везде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ть Твоим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on me, brea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shall I never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live with Thee the perfect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ine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рти я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десь и там во век в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прославл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39Z</dcterms:modified>
  <cp:revision>13</cp:revision>
  <dc:subject>Slavic hymnal Гимны веры христиан, hymn 312</dc:subject>
  <dc:title>Breathe On Me, Breath of God / Повей, Дух Божий, вновь</dc:title>
</cp:coreProperties>
</file>