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E7F-F6BC-4058-A4E5-960C0D15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861-1D9E-4CB0-9419-FD21ACF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E75-7F68-4851-892C-3715D3FB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A12-979F-4897-ADFB-25A4EF29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850-88C6-4557-89E5-B266DCB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2BF-D3A5-435A-8CB5-F2CBDD8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212-707F-4EF7-AEA1-EEC8B715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208-D1F4-4DAF-9635-746FD585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40B-910A-4C38-B1A6-0B97877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D4C-EC8F-4608-8039-A9E0A269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53B-B8BE-44F1-AAB9-E545766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BBD-9A91-420D-89C1-38DEE6B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1B7BC-AF2F-409E-B04A-CE955B16C3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ntain mak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cean ta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impses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in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ship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up the sk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89   Mountain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r crea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nd brea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rokes of Your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ushed through the clou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from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uching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magination runs w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thes the breath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fiel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cross the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de it 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id: “let there b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we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und of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s of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o all thing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08Z</dcterms:modified>
  <cp:revision>12</cp:revision>
  <dc:subject>The Source 4, song number 1989</dc:subject>
  <dc:title>Mountain Maker, Ocean Tamer (You Do All Things Well)</dc:title>
</cp:coreProperties>
</file>