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CBE-5322-472E-B722-ECFDDFB3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6B8-4EEB-4488-A459-C2752E92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889-EAD0-42DB-8E0A-A03E4A0C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DF8-FB91-4F7A-88D4-BA4B48BC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47D-19FF-41A7-85E2-1FBD430F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5D9-E6F8-470A-A11E-610EE05D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4F5-A38A-40FB-B8C6-61F3D77D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83D-3EA0-4A8F-9A7A-A019E9E9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5F0-8454-489D-B1E6-F3131945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7D5-6C5D-41D3-8F66-6432F5A2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655-8A1F-4377-A1D3-8A5E5BD5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160-6FD0-44B1-BDE8-14A90E26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BC299-C816-489A-930B-18E5B5FEAB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 Господь Бог до Н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атоплю світ вод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лизький час, в близь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лизький час, в близький час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Ти ж збудуй собі ковч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родини і для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пастись, щоб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пастись, щоб спастись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4а   Сказав Господь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ой повірив, ― не вага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вати ковчег взяв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же час, в той же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же час, в той же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Ноя висміва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ова правди не прийм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й люд, грішний лю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й люд, грішний лю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оп хлинув, як те мор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бігли всі на г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землю зали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люди вже благ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на себе нарі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ому правди не прийня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прийшов, гнів при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прийшов, гнів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ташки в небі ще лі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ятунку скрізь шу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йшли, не знай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йшли, не знай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землю всю покр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безбожних затопи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уд, Божий с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уд, Божий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Лише плавав над в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вчег з Ноєм і с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Як ковчег став на верш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оєм вийшла вся родин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аслись, всі спас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аслись, всі спас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Так, як було за днів Н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безбожним гірка д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ов прийде, знов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ов прийде, знов прийд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7:48Z</dcterms:modified>
  <cp:revision>12</cp:revision>
  <dc:subject>Slavic hymnal Гимны веры христиан, Ukrainian hymn 84а</dc:subject>
  <dc:title>Сказав Господь Бог до Ноя</dc:title>
</cp:coreProperties>
</file>