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C60-5789-42DB-B7BE-96FE3A58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AED-861B-4171-8E59-FBE4D4A7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6A9-C0A3-4F98-B10F-8FD3F69C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986-9F65-4899-995A-637E5994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592-F42F-4FCF-83B1-3F72BB05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636-93DD-423E-A95A-06FC32C2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F7C-C664-4FF2-BDE9-CD5DB21A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A8D-7555-4316-ABD3-0E7B68BF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E7FC-DDB1-47C1-A361-CE588185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6DA-79BC-4D29-BED2-8CE1CCDA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187-8EC2-4A5A-A3DB-67B348D0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024-D146-4CAC-9DBB-405A6AC3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55B60-9932-4FDF-853A-D35455B978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Тебе я отд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Творец 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царства тьмы Спаситель мой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к Себе при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ой дар любви серд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вяти любовью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прим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и меня! Тебе я отдаю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К Тебе моя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лаб и греш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отринь ничтожного ра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вся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 я телом и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 грехом, покрыт вино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, бессил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О Боже, снизо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жалься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знемог. Огонь горит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трашен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жить, детски упов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лечёт любовь свята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юсь я, надеюсь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! Хочу я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ься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за грешного ра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Твоих течёт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, мир и исце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рен я, увер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1:50Z</dcterms:modified>
  <cp:revision>12</cp:revision>
  <dc:subject>Slavic hymnal Гимны веры христиан, hymn 458</dc:subject>
  <dc:title>Прими меня! Тебе я отдаюсь</dc:title>
</cp:coreProperties>
</file>