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5853-17CD-439C-9C29-F757BBE4F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FF0C-CA03-4D53-B78B-26B5EEA3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3765-E2DE-4A0F-96AC-E64D64B75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25BE-B14C-485F-A767-D08691259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9B04-DB4B-41C0-B874-8E4AC7FC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C971-D377-4CC2-AB7C-438870D1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73BE-E79F-4D51-85D7-4E04FDB5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37D3-B246-4BAE-BD3F-D0158511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1E67-9D45-4FAC-AFC2-AC75365C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F5FA-3036-42E3-931D-052EF5A5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769A-DB76-4340-9801-BE9DDD53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DBD6-5555-4842-8E8A-53FB308C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B223F-9C31-4872-BC58-00CFCC14FFB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у Святий, нам серця пробу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чни від мене, на мене дих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имо Слову: поміч Ти да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миренно, Боже, ждем, благослов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6   Духу Святий, нам серц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5:00Z</dcterms:modified>
  <cp:revision>12</cp:revision>
  <dc:subject>Slavic hymnal Гимны веры христиан, Ukrainian hymn 36</dc:subject>
  <dc:title>Духу Святий, нам серця пробуди!</dc:title>
</cp:coreProperties>
</file>