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C68-C4A4-46E3-A44A-AF768717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9BC-02BD-4C8C-8239-F6D03FB9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4A8-ECF8-4D55-BD6B-1DBB1724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6C4-2E18-4947-A92B-4995E084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2D6-6CC9-4408-BF0C-05E87F6C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CEB-14FA-40D4-BD50-95EFA57B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92C-9C02-4460-8946-CA85509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D58-77A2-4527-85AF-A3CD1BDF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705-3845-4C83-B068-DECF8509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F94-942E-4B95-89FD-C488807C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074-7C96-41B8-9DAD-59886E5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D54-DF20-4DC2-9A7D-4BEAC90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52873-09E9-428C-8664-CAA2449131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мерть Свою відк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 любов’ю Він узя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ліб благосло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ломивши, всім роз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слова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іло є Моє, й за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Я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9   Коли Господь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м з вином Він чашу вз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є новий заві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крові”, так Він сказ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ийте з неї всі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сь Мій завіт новий в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ам, друзі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авше ви чиніть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нали смерть Мо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ай, Ісусе, кро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Ти проли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и могли любов 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ати всі в це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, Ісусе,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думати про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льно Ти страждав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умир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47Z</dcterms:modified>
  <cp:revision>12</cp:revision>
  <dc:subject>Slavic hymnal Гимны веры христиан, Ukrainian hymn 79</dc:subject>
  <dc:title>Коли Господь ученикам</dc:title>
</cp:coreProperties>
</file>