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F48-1E56-4383-91DA-CCE8C62C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757-270C-4559-BDA8-7A07B3C3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FBF-CABA-4400-9968-E5D1D883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6EB-A44B-441E-93CF-FD238034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FDF-86C4-45FB-B656-436CF398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F1C-E2EC-4351-BFA7-BC1791A5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0CE-1FC9-42AD-A69E-D41E8B18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400-76C2-4B48-8039-98186B5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171-90AC-416A-9D15-92F16F19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90C-B4EF-441C-8F46-DD1A6289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A6E-D371-4F8A-895C-794953D0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73A-6E29-4052-A61C-7749C1E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F709-DF4C-4562-962E-6CAC340793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жизни только песнь мо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меня в горниле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н кровью ис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у с Богом примири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есть на небе у мен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илы мне богатств да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хочу их мишуры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чного нам 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ленья облик в нём 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я же радость не пройд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 я бедным плотью ст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н знает лучше!» — я б сказал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 винограднике —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маслины без пло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бичует мор ста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я среди вражды, ог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аждает грех меня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мир готовит грозный 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е враги идут вой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 Нём силён — порву их стр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 расстанусь я с землё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Ты! Только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уках Его найду пок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мне скорби дух стес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ы силы замолч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буду петь сквозь смерти я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Христос! Мой Христ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35Z</dcterms:modified>
  <cp:revision>12</cp:revision>
  <dc:subject>Slavic hymnal Гимны веры христиан, hymn 578</dc:subject>
  <dc:title>Кто есть на небе у меня?</dc:title>
</cp:coreProperties>
</file>