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077-7CA9-48D4-88A0-A04A9B3C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5B3-5D6C-4D2F-88EC-1BEEE80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386-813C-4250-B80B-5A29E7F9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FD2-0243-4B14-BC2E-1A4DAC50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230-8AA7-44AD-96C4-FB559D16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3C0-5794-4DEC-8BED-7198869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237-09DE-4AFD-85BD-CB81A1C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C6F-96D6-4688-9CC3-588B7FEC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4E7-EB8C-45F6-B1C9-94798797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CBD-30A4-42D9-A68C-684654A5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856-0ED7-4CB4-B019-3CBC2CA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5E2-8B8F-4659-8EA7-A99276A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A008-C8C8-4A09-A1DA-82C6B98C877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tillness You ar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ecret, in the quiet 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onl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aching for the highest go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receive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ssing onward, pushing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ndrance aside, out of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ear Your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see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know You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07Z</dcterms:modified>
  <cp:revision>10</cp:revision>
  <dc:subject>The Source, song number 233</dc:subject>
  <dc:title>In the Secret</dc:title>
</cp:coreProperties>
</file>