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10C-A1FE-44E5-8BC8-B59874DB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0C9-1112-4E5D-A0C2-D4D078A7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480-0C2F-49B0-B362-AC36EBAC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95B-106C-4861-AA2A-8AC709B9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BA02-0D7E-4084-9B01-D4D212A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698C-2F06-4FAA-8A74-511BEB7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A39-DBEB-4077-9826-4ACAD63D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900A-42CB-43B0-BB59-6619E04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A00-87AD-402D-BDEE-18AB2C9C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1D6-C019-4ED6-808C-04A9779B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624-9593-4901-866B-C8605CB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B6C-8867-4EE8-8CFF-8598B56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E58F8-2AB6-482B-BF0F-184E695DAB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меня так люб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ам мне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это — прав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ердце то 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я знаю так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просты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х и н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х, как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ец меня так люб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тички в день весен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взирая к неб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Господа цве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вся в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наш вечно бла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являет прав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есметных чуд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лн восторга слу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ую вест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о начала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юблен я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о грешном вспом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силах я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 каждым днём отра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сти той вни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57Z</dcterms:modified>
  <cp:revision>12</cp:revision>
  <dc:subject>Slavic hymnal Гимны веры христиан, hymn 759</dc:subject>
  <dc:title>Отец меня так любит</dc:title>
</cp:coreProperties>
</file>