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2B6-5B7F-4A35-96CB-3D0DBD4D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2F9-1FAB-4081-AE00-3654EA00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C7B-2406-4501-ADD0-D3287D2A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5DB-6106-432E-9506-955A51EB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BFA-D198-4763-A9F3-C65972A3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8C6-EE04-47B8-A3D1-C60BBDDD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426-4AA8-4058-8768-A6A0409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618-1664-4DE3-B2EB-D6ACEE66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09D-0309-4762-90D0-76F2A21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32B-00B6-4FC9-B170-3E6F9DC0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F94-DA31-4626-875E-4A9DE5F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1E9-C492-4836-B344-A21CC4E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4ED42-8D90-47EA-B2CB-D684246CDD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Holy Spirit lives i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ppiness desc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ites the people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enemies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reigns abund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peace, no strife 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protects them faithful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one need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God’s love dwells in peopl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ation is at pe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is ruling in thei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happines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r love, please send to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love and peace shine on thei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the two as onl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lory be to You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0:40Z</dcterms:modified>
  <cp:revision>13</cp:revision>
  <dc:subject>Slavic hymnal Гимны веры христиан, hymn 741</dc:subject>
  <dc:title>Where Holy Spirit Lives / Где Божий Дух в сердцах живёт</dc:title>
</cp:coreProperties>
</file>