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4DF-88DA-4532-8BA2-74F4415C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788-D7B1-49E6-914D-75C3C5BC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EB3-3AF0-4F56-B707-9D9E2A81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B2F-1891-43A4-AA19-7B5CDABD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A3C-7785-4E2E-A8EA-6704ECC5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242-A18A-412F-8EC5-CC7CC80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090-BEAA-4FE0-B70D-84DEE21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87F-898B-4251-A3E2-B3994D29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3FF-38F2-4414-A361-38C13838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F33-CE34-4088-841D-CF7256A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369-8CE4-4F41-860B-01C3665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FD9-7AC4-4A65-8EA3-6A0BE75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13FE0-7C59-493B-8875-795C5FC760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ine for Him each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way try to plea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home, at school, at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хочет сдел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еркнущим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ит словом и д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to be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ind to a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how pleasant and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ttle one ca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ю мне даст с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, как Он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еликих и м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, как Он здесь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sk Jesus to help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y heart from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reflecting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ways shine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в эт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лого со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благодать без 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Свой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if I but t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rving Him moment by mo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ive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м лучом дл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быть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Ему в жизни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—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ants me for a sunb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unbeam, a sun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a sunbeam fo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у я ласков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, с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я буду све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18Z</dcterms:modified>
  <cp:revision>12</cp:revision>
  <dc:subject>Slavic hymnal Гимны веры христиан, hymn 896</dc:subject>
  <dc:title>I’ll Be a Sunbeam (Jesus Wants Me for a Sunbeam) / Господь меня хочет сделать</dc:title>
</cp:coreProperties>
</file>