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D3F-F454-41C6-A684-214DC8D0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777-D15B-4B66-9B84-9465B8F3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48A1-B554-4B13-8C70-3E566A6B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0D1-31D4-419D-9394-824C2071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45F-BFB4-43C7-BB04-8B8037AE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089-2821-4732-B1A4-571EE4A5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99F-FBEA-481E-B577-492987CA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B75-C4B9-4C80-A3F4-035ABC23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54B-D5C3-4130-863E-B6E8C256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96C-E873-4BD4-B8A6-07EDF665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792-5BAE-4B61-8CEC-4C870656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AFC7-4D9C-4255-9119-F7A28C73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02740-09EF-478D-8983-675D6A9383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е, знову нага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вят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моїм серці буде х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иш свята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в любови ллє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до неба рве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5   Брате, знову нагад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в світ Христос прині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з небес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тішає в хвилю слі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с любов навчає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рішних Бог прощ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рате, знову нага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вяту люб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никне з серця сум, відч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е радість з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личе спів люб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о життя об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Христа! Слав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лавте любов Христа!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6:57Z</dcterms:modified>
  <cp:revision>17</cp:revision>
  <dc:subject>Slavic hymnal Гимны веры христиан, Ukrainian hymn 5</dc:subject>
  <dc:title>Брате, знову нагадай</dc:title>
</cp:coreProperties>
</file>