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D54-B1B4-464F-A3C0-50BE25BE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AA9-60BA-426F-8B20-FEB6C02B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AA5-AB38-4513-B739-6486F058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3EC-814C-474D-A1F1-13F1DB0B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339-1C2F-4CF0-A1A5-F7EAEA3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A3E-0007-40FB-9548-6772EBF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728-01E1-4DD5-B22B-D62D1626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0DE-A1A2-41AD-8EB4-2F8697D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DD8-9C7C-432E-8A6D-12A92EC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82B-FDE6-4A71-8910-101D94C3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E09-71E2-412D-8946-C42449B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0F9-F563-4A63-9BE1-2DAC0E5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46CC3-E3CC-4C64-9A10-0B86CA4B2E4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6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упи, милый друг, тот 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гда же наполн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правь твой светильн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гонь в Твоём сердце заж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ёт твой Спасител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ветливо скаж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В покой мой блаженный войди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й, милый мо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ты не ответ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ов Иисуса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вскоре услыш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чально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Свяжите и бросьте во тьму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пи, мил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т елей благод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а продаётся — куп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верху наполни сосуд твой еле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встречу Христу выхо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2:51Z</dcterms:modified>
  <cp:revision>12</cp:revision>
  <dc:subject>Slavic hymnal Гимны веры христиан, hymn 346</dc:subject>
  <dc:title>Купи, милый друг, тот елей благодати</dc:title>
</cp:coreProperties>
</file>