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CCA-B94F-4B74-AC37-C25B57CA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711-C1FF-47AB-AC81-5657DA51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D34-644A-40BA-9C9E-C184EC7D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089-C436-4D83-92ED-BC0A2154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B10-C405-4562-AA06-6343434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AD8-C9EB-4D18-BC94-5B67C4DE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0ED-CC65-4B7B-AB4E-528F74E1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ED7-24EF-43E4-B80B-2172125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884-7C9E-4328-8301-C06F799F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655-0AC7-4603-9160-A58C536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F43-12F1-4C89-AD63-3BDEEE2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B4C-6CF7-4F47-A4C0-DA69FA9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D9C10-DA7E-41EE-B81A-E9DBEDF186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world come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the mercy we’ve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You can set the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is joy that fills our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a hunger and a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’ve strayed s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s We Worshi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nations hear our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g of Jesus and His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ved His love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all the lost and broken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y hear Your still smal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their names, each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bow in ad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 in rev’rent a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ajesty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anointing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declare Your nam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only one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the pow’r of Your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each heart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08Z</dcterms:modified>
  <cp:revision>11</cp:revision>
  <dc:subject>The Source 2, song number 638</dc:subject>
  <dc:title>As We Worship You</dc:title>
</cp:coreProperties>
</file>