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9299F-67AA-4878-918A-74FEE7E77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395C6-D4AE-466C-8D4B-F38152E34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ABFFE-74D9-4EEB-A4CE-F2BBD94CD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CFE48-4B09-4BA2-81B1-F944595B4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DDA08-35D4-45B3-B865-9EDE78171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4B798-AE7F-4D4B-93AB-5A67AB758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A9DD3-49D7-4DD1-8385-CB01C5509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26FB4-7834-4F09-9579-BE2E52DD2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007AF-63E9-4D39-BC0D-EA42447B2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48B45-99BF-427D-9584-B65BC4261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678E4-BD37-407E-9819-F17EC8F4E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ABCC0-743D-45A8-9DD3-9B0CFEE7E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A52521-8985-4D4A-A559-166BCB1E2359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ть обитель сияньем полн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ей же место готово и на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 Христе и при жизни о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свящённым открыта сердц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туда, в дивный кра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туда, в Божий ра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який верный пусть придёт, да прид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у песнь воспоёт, воспо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45720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97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Есть обитель сияньем пол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и печалей земных, ни трево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той обители нет и след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чной радостью полон черто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блажен, кто приходит туд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туда, в дивный кра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туда, в Божий ра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який верный пусть придёт, да прид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у песнь воспоёт, воспо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споём же мы благость Отц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сле жизни недолгой зем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дарует нам жизнь без конц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блаженство, и вечный пок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туда, в дивный кра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туда, в Божий ра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який верный пусть придёт, да прид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у песнь воспоёт, воспо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2:02:14Z</dcterms:modified>
  <cp:revision>13</cp:revision>
  <dc:subject>Slavic hymnal Гимны веры христиан, hymn 697</dc:subject>
  <dc:title>Есть обитель сияньем полна</dc:title>
</cp:coreProperties>
</file>