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02B-9E31-4287-8004-4E75FA61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89E-BFA1-476D-9B3E-9516BAC5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702-39E6-4E2F-BD89-29853BA8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FC4-B1C7-4267-A791-236F1BA2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084-228A-44B2-A93B-93CF2F33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DA0-FA10-4840-A5D7-67824D49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0EE-605C-47E4-B199-FF203A2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D40-0CA5-4B2C-AE55-1F61A204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60E-B19C-440F-8DDC-65A8877C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F5D-FD07-4CD2-914E-1D6D442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A25-E0DF-4722-A645-CBDF382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D82-AC77-48D7-A71A-6CA0E46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E52B8-E127-4107-BD1D-1E2FC638C6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16Z</dcterms:modified>
  <cp:revision>12</cp:revision>
  <dc:subject>Slavic hymnal Гимны веры христиан, hymn 419</dc:subject>
  <dc:title>Жизнь моя терялась в суете</dc:title>
</cp:coreProperties>
</file>