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178B-2894-46D7-9BA8-63050C01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E568-D8C4-4214-9678-1FBD144F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EDD6-F9CE-4C04-A088-D6883EB4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AD46-C3C7-4CE7-A60A-7182A453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3210-C324-4DA5-9F14-F640FEAB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B3F5-EC5A-4BAF-900D-8EE922CD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E9B0-7670-40F5-BBB3-1ABBC0DE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C1DE-29C9-44F4-8921-0B6C6159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BC6F-54CB-4E02-8C3D-FAB6373B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C657-E9F8-4930-BB65-7F92BB2A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3B65-82F9-4A34-99F2-94C62FE2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8AEE-953A-4ED7-8249-879F72BF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9598C-1403-4715-83AF-F09A1ACB0DB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ные слуги Господ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лых идите спас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Господу их приве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им спеша указ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ные слуги Господ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те вы радость кру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еньем в пути вы стремите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ыси, вперёд, в веч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Юные слуги Господн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ные слуги Господ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 за правду вперё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ущих в тьме собер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небесных кра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ные слуги Господ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длить сегодня зач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огих, о Боге забывш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дна уносит сов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ные слуги Господ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хлебом спешите свя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приведите к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т насыщены 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6:36Z</dcterms:modified>
  <cp:revision>12</cp:revision>
  <dc:subject>Slavic hymnal Гимны веры христиан, hymn 546</dc:subject>
  <dc:title>Юные слуги Господни!</dc:title>
</cp:coreProperties>
</file>