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9A7-D90A-4EB3-89E1-252E5B90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467-C35F-4E71-B204-7F3BDB56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B24-001D-494D-813C-58BDA885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486-7813-49A4-A95D-7A75ED390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E17-1110-41F6-86D1-AE6A5168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216-8075-4B90-A3A5-27D36F42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D19-619F-4E17-8499-60A4BD8D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2EC-ADFD-4598-8685-ADF7EC2F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27D-DEEE-4C89-909D-F7AEBE2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698-0667-467F-B81B-74E3AD47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6DE-807E-4E22-801E-CDB7089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F5C-FB13-4E4D-AB73-851AD28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AAEC0-A379-455D-9B93-E26B7C1A57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7   Прославляй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 Иисуса, прослав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вёт во веки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скрес!  Он воскр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празднуй с н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е воскресени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22Z</dcterms:modified>
  <cp:revision>11</cp:revision>
  <dc:subject>The Source, song number 67 in Russian</dc:subject>
  <dc:title>Прославляй Иисуса / Celebrate Jesus</dc:title>
</cp:coreProperties>
</file>