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ECF-CA6D-4C63-A2B9-524D8239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0C8-0698-4314-91EC-2C841D7D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03D-BEE5-4675-AA5C-B0C46AAC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D2F-C7B2-49C6-8AB8-EF29CC81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AA1-C7E6-4C9D-BDD2-568B60D9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761-E161-42A8-A919-ED1B9993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00B-10C2-40BD-86E6-85721BF7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9B1-9B9A-47AF-B285-4BD7FE0D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01B-4951-4123-B40E-3C1D5DC6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63A-0B64-47F5-91C4-A39554C4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AB1-6CDF-4DBD-8EAE-4CBDF49E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37E-DB43-4EEC-A568-20091C6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9C648-BF15-4E0F-B99D-737E54A2366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 with ev’ry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erfect life, the perfect dea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rown of thorns You wore for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rowned us with eternal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ugh Your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overwhelmed with p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bedient to death You overc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59   You Chose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Jesus’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loosed the cords of sin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oke the chains of my disg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 from the grave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again so glorio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hose the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orrow that surrounded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m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t not My will, but Yours be done,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wond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m lost in praise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Jesus’ unfailing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or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re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3:20Z</dcterms:modified>
  <cp:revision>12</cp:revision>
  <dc:subject>The Source 3, song number 1659</dc:subject>
  <dc:title>You Chose the Cross (Lost in Wonder)</dc:title>
</cp:coreProperties>
</file>