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C42-B06C-4701-B05E-8F11D02E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A8F-A86B-43CB-9642-37D6C848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6DC-88B6-483E-AE2E-0E57F527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A52-C6F6-494F-A220-57035E4E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9FD-F34A-45D8-8C8D-485A1929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ECE-4F04-46E8-9694-7CE1392E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12B-6F98-4CFD-BD94-3E4AEEBA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973-0B52-4068-8E03-085D73C1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9928-EBC5-4FA1-B349-6C1E3EB3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3592-9972-4CD2-962F-434C56FA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7DD-0B87-4572-BBA3-47F84B51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1BD-F6FA-45F7-99D7-91AF794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62EFE-A3C1-4935-841D-D947EBFBE2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ам дарует жизнь в полн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славляйте Его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а Иисуса воспойте вн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возвещайте вы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бедила Его р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одом будьте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иден миру издал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о Нём, серд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спасеньи для всех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исполнил завет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овершил Он в любви С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звещайте вы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нас Он умер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открыл Он для всех для н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вы пойте во всяки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6:18Z</dcterms:modified>
  <cp:revision>12</cp:revision>
  <dc:subject>Slavic hymnal Гимны веры христиан, hymn 559</dc:subject>
  <dc:title>О, возвещайте вы о Христе</dc:title>
</cp:coreProperties>
</file>