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F5D-26FA-4531-88AB-819AD0B8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FD0-35CB-4C9E-8741-FE90136B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CA4-A4E4-4755-89F8-7F070CC8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152-2158-4836-A4AA-66806C37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D62-8D9F-490F-8134-DE267CD8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03C-02D7-45AC-963D-2BE792A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01A-B4CC-47B2-9A05-92E78F9C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883-DDDA-4FC0-AD45-6EF09CBD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992-B8F7-4F7C-9D10-791B32BF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464-A2FD-4671-A116-0957E22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494-A4A8-4F63-8F2A-00AB5A0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D28-5D65-473D-BF7D-3A78B17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D0FBF-3CB3-46FB-833B-047B0EC84E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fellowship, what a joy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blessedness, what a peac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ба вер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ба верная, радость пол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чёт рекой, дух ликует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sweet to walk in the pilgrim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how bright the path grow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y to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ок жизни путь, счастьем ды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Отчий дом вижу с каждым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ave I to dread, what have I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blessed peace with my Lord so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юсь врага, безопасен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и нахожу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and secure from all alar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, lea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ning on the everlasting 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страшусь 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Б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д рукой Всевыш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37Z</dcterms:modified>
  <cp:revision>13</cp:revision>
  <dc:subject>Slavic hymnal Гимны веры христиан, hymn 625</dc:subject>
  <dc:title>Leaning on the Everlasting Arms / Дружба верная</dc:title>
</cp:coreProperties>
</file>