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8AAA-6F58-422D-9C2F-BC544315A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004D-AE8F-4E09-9A06-B51EF945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DF2E-8C43-4924-B6C7-81D4D067D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055F-4876-4A8F-B2E7-AC2156D51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9B94-2C33-420C-98D5-778DECFB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D5A6-8983-45CF-9407-E765AD69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5895-69D2-46D8-891C-AFEDFF3F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03B8-C892-48EF-8B36-40609DEE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6E83-1A77-4CD3-BD06-2EA2AB48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DC41-C0AB-44AF-84B5-32A08742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333B-F468-4A95-B31E-EF34B2D2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DD56-2A3C-4523-8F01-FF83E04A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B1CE1-62EF-40AD-90BC-B1CB550D18F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re once was only hu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gave His healing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re once was only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brought comfort like a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feel the sweetness of His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iercing my dark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ee the bright and morning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it ushers in His joyful glad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77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Where There Once Wa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turned my mo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dancing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lifted my s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’t stay sil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must sing for His joy has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re once was only hu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gave His healing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re once was only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brought comfort like a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feel the sweetness of His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iercing my dark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ee the bright and morning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it ushers in His joyful glad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turned my mo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dancing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lifted my s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’t stay sil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must sing for His joy has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anger lasts for a moment in ti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His favour i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ill be on me for all my life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turned my mo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dancing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lifted my s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’t stay sil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must sing for His joy has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9:43Z</dcterms:modified>
  <cp:revision>10</cp:revision>
  <dc:subject>The Source, song number 577</dc:subject>
  <dc:title>Where There Once Was Only Hurt (Mourning Into Dancing)</dc:title>
</cp:coreProperties>
</file>