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E76-AFB2-4728-88A7-3CB6E3D2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00F-EB30-4048-9447-BBCA9C80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EC6-B5F7-4B28-B99E-6DF0A5AE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AD24-F89E-41ED-BD54-2EA7F735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61C-E050-46D0-BD0E-9CDD15F0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3EC-52C2-4504-B8B3-824C7F9D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68E-4CDC-42DF-8421-26AD4B78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41F-FEFF-4BC6-815C-02C4A05C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ED4-2D1A-4DED-8BF3-A71AF10E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246-26EC-445D-BC88-C4C69FDA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2C6-53C7-4D9C-8D51-108C2EB7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A25-CD49-414C-A7B0-F00E6127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DB921-2BA1-4AA9-BA71-4D120121B1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ла та — Христос Спас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бурю, в грозу, сред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м мы в ней об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а скала, Христос та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ы все уповаем на ту скалу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ту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— с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се уповаем на ск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упованье на пе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оили все неве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вища, слава и поч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этом их наде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а скала, Христос та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ы все уповаем на ту скалу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ту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— с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и стройте на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ите все прочь сомн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аждущий правды пуст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се найдут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та скала, Христос та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ы все уповаем на ту скалу)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уповаем на ту ск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— ск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2:11Z</dcterms:modified>
  <cp:revision>12</cp:revision>
  <dc:subject>Slavic hymnal Гимны веры христиан, hymn 632</dc:subject>
  <dc:title>Мы все уповаем на скалу</dc:title>
</cp:coreProperties>
</file>