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0D0A-7E16-4C5D-B55D-87B1E27A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4F5E-BF1D-40D4-97AF-D5991BB4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F0B9-9EFB-4EB3-A493-25E96FD5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931E-8EB6-421C-BA0F-3146A7B61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628C-5269-4B46-B319-C7ABAB01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38A4-A060-4005-B47F-CE066CE8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0DDC-2C6D-46E8-93F3-FFE993F4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0D44-40A0-4798-A21F-54E039D2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670B-CC74-435C-86BB-CAC70F07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0BA7-BA8C-4588-A325-FF495B4E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5292-FA6A-48BD-8E62-BC4DF84A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93D2-D29F-4A47-B5E8-70D55659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ADC0B-4BA6-4596-A19A-04424D1BD80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Божьем Сы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любви и добр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китался Он в пусты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умер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всем как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Свою пролил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латил наш долг вели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уда навеки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уду петь о Божьем Сы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с радостью и ве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ть другим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Христос открыл нам дв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ивный рай, в небес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всем как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Свою пролил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латил наш долг вели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уда навеки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олился Он в с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бедой на Голгоф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раняет Он враж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всем как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Свою пролил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латил наш долг вели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уда навеки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хвал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ть Его дел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его с Ним не страшу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Его мне жизнь д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всем как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Свою пролил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латил наш долг вели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уда навеки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0:25Z</dcterms:modified>
  <cp:revision>12</cp:revision>
  <dc:subject>Slavic hymnal Гимны веры христиан, hymn 639</dc:subject>
  <dc:title>Буду петь о Божьем Сыне</dc:title>
</cp:coreProperties>
</file>