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07D2-8A4E-4AD2-B6C9-C898BCA3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FCE-3837-4EF5-9D97-B969E44F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6054-B76C-4090-8187-D0E7BE96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AD3-0EAD-436B-9A66-C3C1DFFD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F4E1-9F29-492B-8256-6CC74F56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0A1-5362-4463-9BD3-EF318898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FF83-6679-4311-86AD-9C8E518D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FC1-8D93-4153-B1F3-A6CFD321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C991-1E7B-4EB0-BC8A-357D8610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3CD8-4869-4C22-971C-3E41FB59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F0B1-0C06-4E75-8C2F-D3F8FBF1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73A-99B4-412A-B15D-FB64B17C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CC160-B2E1-4FB9-A394-7BE3CF2100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prepare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a sanct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e and holy, tried and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anksgi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be a living sanct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3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ord, Prepare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1:08Z</dcterms:modified>
  <cp:revision>11</cp:revision>
  <dc:subject>The Source, song number 334</dc:subject>
  <dc:title>Lord, Prepare Me (Sanctuary)</dc:title>
</cp:coreProperties>
</file>