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AE9-950C-474C-ACE4-FC306AAE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D5F-DE4D-4EEB-94E7-90393C6F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707-42B0-4B82-9EA9-929F3355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6ED-4030-432C-A1C1-62237EBD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735-6994-410F-9DFF-2EA316D3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C40-964C-4879-BD38-79AD9D6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2E4-B6CE-48CD-BB0A-F6C1948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DB1-E79F-4ED7-B974-60D7C5A6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8FE-1ADA-4694-BBC1-CDC5200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1D1-6B65-4A35-BC21-D429EDF2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20A-9B21-4D09-B85F-2049C4A5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DDF-FBB3-4CBC-A60A-684CA9E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30693-59CB-4426-94A7-B88CA4F380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d that once was cr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crowned with glory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oyal diadem ado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ghty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возлож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 главу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честь и власть Ему вруч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 that Heav’n aff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ongs to Him by 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eternal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Ему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мы святых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Господь гос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а веч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who dwell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joy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He manifests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nts His Name to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частья —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дал любви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m the cross with all its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its grace, is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name an everlasting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joy the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рест нести им сужде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давит скорби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имя славное д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радость н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uffer with their Lord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ign with Him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profit and their joy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ystery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страдают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ть на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познают они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вен Он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He bore is life and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hame and death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ople’s hope, His people’s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verlasting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,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ринял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надежду для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и в небо в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5:17Z</dcterms:modified>
  <cp:revision>13</cp:revision>
  <dc:subject>Slavic hymnal Гимны веры христиан, hymn 436</dc:subject>
  <dc:title>The Head That Once Was Crowned With Thorns / Венец терновый возложил</dc:title>
</cp:coreProperties>
</file>