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4CC-3BD5-4F7E-B572-006ED717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EA56-646F-4515-B24C-0D8D5850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377-D203-4D50-8FE3-A405B8A6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92C-9FBA-4F67-BB2D-ECFF1541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F65-BBAB-4B29-874C-D50606DF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738-6D9C-46F0-90F7-DAC79741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2C1-E0F6-4AC5-AC5B-5321CCD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6DE-E238-4EBF-BBF8-0973A7E5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5C4-6867-4638-8497-869EA98B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4DE-AA81-4F94-B29C-B37FFBF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7A2-2448-4A4E-A1E7-9FC725E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73B-B0B9-4DD0-B3CC-C2F9E4E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D0D23-0442-42F5-A224-2BDDB00EDA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s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urify My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 me from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18Z</dcterms:modified>
  <cp:revision>9</cp:revision>
  <dc:subject>The Source, song number 436</dc:subject>
  <dc:title>Purify My Heart (Refiner’s Fire)</dc:title>
</cp:coreProperties>
</file>