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13</a:t>
            </a:r>
            <a:r>
              <a:rPr b="1" lang="ru-RU" sz="3600" spc="-1" strike="noStrike">
                <a:solidFill>
                  <a:srgbClr val="ffffff"/>
                </a:solidFill>
                <a:latin typeface="Verdana"/>
              </a:rPr>
              <a:t>	</a:t>
            </a:r>
            <a:r>
              <a:rPr b="1" lang="ru-RU" sz="3600" spc="-1" strike="noStrike">
                <a:solidFill>
                  <a:srgbClr val="ffffff"/>
                </a:solidFill>
                <a:latin typeface="Verdana"/>
              </a:rPr>
              <a:t>В Тебе надежду полага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 Тебе надежду полаг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сильный Господи,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я ныне прибег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ща прощенья, не су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традании моём,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был от самых юных л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щник мой и покро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станище души и све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о время старости глуб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мой, не отступ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мышцей крепкой и выс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члены старца укреп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я крепость, Вседерж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сюду стану прославл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что Ты был мой покро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еки буду вспомина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воя держава возвест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авда мною до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Боже, кто с Тобой сравн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ликим множеством чуд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к пропасти меня поста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свою погибель зр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коро, обратясь, изба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 глубоких бездн возвё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Щедроту Ты Свою просла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утешить захот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луженью Твоему настав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ей любовию согр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народа велеглас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даю хвалу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 струнах моих всечас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щедроты воспою.</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8-02T01:27:31Z</dcterms:modified>
  <cp:revision>4</cp:revision>
  <dc:subject>Slavic hymnal Гимны веры христиан, hymn 213</dc:subject>
  <dc:title>В Тебе надежду полагаю</dc:title>
</cp:coreProperties>
</file>