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6786-569E-4EA7-ACD4-62C86CEA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82C4-9286-4074-AD18-5370FF90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6B7F-7ED5-417E-B18D-4F13C51B4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69C6-3400-4C25-8536-B6BAC5D6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246D-790A-4E73-9372-32A2B415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0C43-2B53-43F9-8A3B-8C9179AC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E6D7-092F-4598-AC39-758F8514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8063-847B-4551-B07E-0A3953C8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1174-2135-41B7-826C-3BA8C9CD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CEF1-7F29-405A-B9AE-622A4E70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C7AE-2CC7-4C14-963D-31B272EE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EA40-D674-4F19-8A28-72B402D4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B0FC8-31C8-4A5F-893A-297E2720C7F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то мне радость даст?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скорбях взы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сердца у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я узн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одном на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рады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дышу я, без Н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мира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то мне радость дас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вечно 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 Вождём м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траданьем искуп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С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бя,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еперь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бе Он в сердце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 пошл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ж ныне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к Н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слышишь: «отой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во тьм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ж ты к Н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остоте при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навеки свет отра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йд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3:08Z</dcterms:modified>
  <cp:revision>12</cp:revision>
  <dc:subject>Slavic hymnal Гимны веры христиан, hymn 451</dc:subject>
  <dc:title>Кто мне радость даст?</dc:title>
</cp:coreProperties>
</file>