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19F-8446-4AEE-858A-5B62D391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EF2-9382-4042-9742-3344F9AD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728-BAF8-4018-A127-910B4BCE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DAB-CF2D-4FDA-B77C-76DA25D9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CD6-52BD-4B5B-BB2E-CDDC2B5B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F4C-8F8E-41EC-89EB-D613F6E7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003-6872-410C-AFFC-6328975C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7A5-D9BC-4EA6-B7F1-3CA2E9CB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7B4-58E5-45FA-A856-CCEA9AB6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AE2-8E07-4B0F-8FA0-4D0C59F1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4B3-58A5-4098-A56D-FF484FCE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A81-9A2D-420C-B52C-6CCB8585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71A0F-0BB8-46C8-BF39-7B09A3DA3A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 and worth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 and worthy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lift up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lift up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holy and j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power we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mercy He pr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 and worth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 and worthy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are You,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42Z</dcterms:modified>
  <cp:revision>11</cp:revision>
  <dc:subject>The Source 2, song number 706</dc:subject>
  <dc:title>Great Is the Lord</dc:title>
</cp:coreProperties>
</file>