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22A-77E2-45AD-AE3C-BD9313E4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FF9-9B28-42A0-9146-8E689F32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3C2-2912-42BA-A9B8-E8FD46AA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AC1-8BD4-4F0F-A00A-C5CD19C3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C27-2D47-4B57-A894-599DCCE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04B-1CF4-4C89-8A2D-1D377318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599F-4277-4570-A7B8-9381F72B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821-5505-4900-9505-63C0973B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F906-95C9-4AE8-9532-560107A1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109-E917-46AC-9156-E4C5E87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2937-9DD4-434A-A0FE-98E72445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220-C720-4308-9124-49B47074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8CE1D-ACB6-4647-BA44-7E2085BF21F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удный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возвра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примир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х слез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чные объят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люч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ную песнь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ена пропавш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 удал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ёртвый во грех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 теп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ители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ую пес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в небес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ляйте 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жжё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ремлющих серд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валой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! Слава! Пойте, небе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торьте, все земные голо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молкнут хоры пленников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ённых крови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04Z</dcterms:modified>
  <cp:revision>12</cp:revision>
  <dc:subject>Slavic hymnal Гимны веры христиан, hymn 589</dc:subject>
  <dc:title>Радостную песнь воспойте</dc:title>
</cp:coreProperties>
</file>