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78F-2F9B-4344-B2E1-DA85BFE99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36A-422D-4D19-81C7-5AA09B24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2A0-C0E5-4709-88EB-5AD8BD6A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9C0-E614-47DB-AC6B-FC2AC9A7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456-2B98-4D25-B078-01132AC0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F67-10A5-4E24-829C-CA7F8D0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00C-6602-480E-ADB4-DB68466B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17E-C75D-41F7-96EA-1390D014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CA3-174E-47D5-9A1B-8C8122D7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D11-D220-4709-9B45-FD5F489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FD5-398F-4089-A955-5CDD0F05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88D-761E-4BF5-B30D-86C860E3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4F518-14BB-4665-B7E7-317DA91A28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weary, are you heavy he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grieving over joys dep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e tears flow down your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b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sins that to men’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d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gathering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nxious what shall be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troubled at the thought of dy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’s coming kingdom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, tell it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Friend that’s well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ve no other such a friend o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to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5:19Z</dcterms:modified>
  <cp:revision>14</cp:revision>
  <dc:subject>Slavic hymnal Гимны веры христиан, Ukrainian hymn 6</dc:subject>
  <dc:title>Tell It To Jesus / Коли горе на серце наляже</dc:title>
</cp:coreProperties>
</file>