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439-47B6-490F-AFB2-D5E206EF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4F0-1A86-4D93-B7B8-86E4DA2F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76E-BE4B-48B4-9BC8-48D15C7E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42B-0F70-4281-A2A1-9345C3EC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513-59EC-4D34-B8D1-9C0F5A0C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7B4-C890-4035-8AAE-CE1168D7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3B5-2A0D-4C80-A228-3272F54B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EA6-A74F-459C-B57E-F924F084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C9E-870B-4D07-8A55-4A23CE3A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EF2-3524-41DA-8B20-2AB4CF87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D8F-0C88-46FB-B311-C1830E74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74C-1695-48E0-980B-550775C9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E7EFD-3DE7-44AD-A27C-55CFF95CA7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дети Бож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достной борь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жаться всех, кто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зывает звук тру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ами Божье знам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х побед з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сквозь битвы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айтесь, с вами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те, дети Бож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дети Божь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а вражья вл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дышащая лож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а врага напа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аша сила 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ятой Христа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под крепкой кры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ей сокрыты 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дети Божь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раг ваш поб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царскому подн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свою скло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цы ж в войне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сятся вен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ой жизни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женстве пред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4:24Z</dcterms:modified>
  <cp:revision>12</cp:revision>
  <dc:subject>Slavic hymnal Гимны веры христиан, hymn 487</dc:subject>
  <dc:title>Воспряньте, дети Божьи</dc:title>
</cp:coreProperties>
</file>