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270-599E-4C4C-9E42-914A1BC3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158-D41D-46C5-BD7D-CB26E3EB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960-B65A-4474-BD7F-0F7C48CB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227-2B3B-4C78-A9CF-92580449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405-B76A-4D4D-8502-3DB93765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DB7-C3D2-46DC-AB67-91A37375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E02-28BA-4EE3-BFD6-46F86CCB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150-913E-4210-A5AD-D522B5A1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902-7CA9-4351-90A9-AE4A0DAF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A77-4845-4A40-B11C-71419ED8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56F-A07A-44EE-BF17-EDEF3DCF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406-ED57-45CE-8248-2BB0C77A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895FE-DF87-4322-AF32-E859E42B5C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, не на вершину го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дальний путь через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 бой опасный, лицом к враг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ёшь Ты, Господь,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сли Ты тихо призов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чуждую мне троп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чу, Господь, руку взяв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 я пой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ыть мож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каж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ть может хочет слова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чрез меня с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ую душу с пути гр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к Себе при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, веди лишь Ты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скорбь, тесноту и ть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сть я ту чудную повторю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 то я ска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каж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дётся где-нибудь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иренное мест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сть работа мне для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пятого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оте Твоей предав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Ты любишь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сердцем служить буду я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шл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пойду!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горы, долины, мо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ажешь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я скажу,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очешь Ты, тем буду 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1:21Z</dcterms:modified>
  <cp:revision>13</cp:revision>
  <dc:subject>Slavic hymnal Гимны веры христиан, hymn 556</dc:subject>
  <dc:title>Быть может, не на вершину гор</dc:title>
</cp:coreProperties>
</file>