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9082-5FA3-4474-8853-DFE5D5BA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644-640E-450A-A231-AA707FC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031-AD21-4A05-BA1A-E9FBF8E4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791-811E-4603-A258-B7D4FA9C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286-F889-474D-A3CA-2D8DA031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C95-AE6E-407F-ADA5-42684CE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D74-75A5-41C0-98F1-E031D598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010-FE4B-4B15-BDFA-B158C101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499-B6F5-40A5-99AF-96204AD0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466-4AD2-42AB-861A-E028A7B4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577-D748-4033-89E8-8BA69AF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0CA-E6ED-41A4-8280-30D302F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E4EC4-7015-4EBF-8A00-C7180836A8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3:21Z</dcterms:modified>
  <cp:revision>12</cp:revision>
  <dc:subject>Slavic hymnal Гимны веры христиан, hymn 891</dc:subject>
  <dc:title>Осанна, честь и слава</dc:title>
</cp:coreProperties>
</file>