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004-580F-49FE-9EAB-28AD5FF7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A0C-517F-43A5-BAAB-71DC0BB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CCA-4827-4A84-BB9F-DFA2E855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BDC-809E-4A2E-81C4-F48B686E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8A5-047F-45A5-A449-E46C247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724-2257-414D-B512-E9AE1786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65A2-ACDE-4823-94AE-BF745F2D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4AE-8686-4116-A216-86D39A7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0BB-6E38-4CD4-8331-1E4BC02B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65D-E145-4BB8-8551-5BD7B04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173-3C34-4490-AA28-981965B4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FF3-9F5F-4BAD-B564-4AA19B6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F929B-8CA2-4ECA-9661-3DDFAE17B6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дом да будет Божьим хра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открытым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 бывает постоян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изнь и счастья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ш скромный, тихий уго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вратит в святой черт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аш дом да будет Божь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Он, там радость преб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нисходят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ствует любовь свя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лышны пенья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изобилье вечных бла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войти не смеет вр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ссветом нежно пробужд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литве пламенной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ём участье при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всяки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же, даже под кре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яжело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аждый день даёт Он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вает мужество в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яком месте нас Он ви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нас в вере до ко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ть порой чрез скорб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с ведёт в небес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5:44Z</dcterms:modified>
  <cp:revision>12</cp:revision>
  <dc:subject>Slavic hymnal Гимны веры христиан, hymn 768</dc:subject>
  <dc:title>Ваш дом да будет Божьим храмом</dc:title>
</cp:coreProperties>
</file>