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4EC-1A7D-4AF1-8758-AEF76B8E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DC4-CB34-4DDA-B85C-BEABEEB0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7BD-7BB3-4F58-A094-B8B2EE1D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574-CD66-4D95-A8EE-C3540E14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1DF-31F0-47AE-BB77-DE5C3C01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05E-F623-469C-941D-4215A6D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D63-2C2E-481F-B0E0-1A56E46E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DDD-0A5D-4C24-9CEA-7E147FF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19A-9B22-4EAB-A803-BB1CAA17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04D-4F49-48AE-BF2C-A6413911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A6B-7FAD-419A-A0C6-B4F22799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B8A-9148-48BF-8E27-4B7FE11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3B96B-5ED7-4E1C-A700-1768D0F4F3F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Иисусу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и хочет тебя Он прин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исло Своих верны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Что же ты медлиш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е ты дума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най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Один за людей был расп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ого нет в жизни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 не чувствуешь, бра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Дух обличает во вс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прими и будь ра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еки расстанься с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ы медлишь, мой бра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жатвы нежданно пр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Господню семью не при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асность и смерть того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ве? Раз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ридёшь ты к 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16Z</dcterms:modified>
  <cp:revision>13</cp:revision>
  <dc:subject>Slavic hymnal Гимны веры христиан, hymn 399</dc:subject>
  <dc:title>Что же ты медлишь, мой брат?</dc:title>
</cp:coreProperties>
</file>