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A4DD-B5B3-4E55-95A9-9BBD6A18F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C258-C741-43E3-B7AE-A743DBC2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7226-56D1-44EE-99D6-8640CB6D0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3EB5-EB79-473D-A047-D07C6E5ED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47B4-ACF3-4DBF-8A58-13181A98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8BED-5E86-4C1A-8F7E-D0606A9F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EFE6-0657-4D2B-BFA5-9D978649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36E0-63B8-45EF-8B8B-81E03AF4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2111-3728-4D80-BBB3-CD20359C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1687-7159-41B5-B931-6E9BBA32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AEA1-F7DF-4F6E-A530-3962D8B9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529C-3087-4732-BC1E-72D378DE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B7B68-554F-4DF3-A7FF-DF888421977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me past the outer cou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rough the holy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ast the brazen alt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 want to see Your 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ass me by the crowds of peop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priests who sing their pra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unger and thirst for Your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it’s only found one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67  Take Me Past the Outer Cou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take me in to the Holy of hol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me in by the blood of the Lam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take me in to the Holy of hol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the coal, cleanse my lip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8:01Z</dcterms:modified>
  <cp:revision>9</cp:revision>
  <dc:subject>The Source, song number 467</dc:subject>
  <dc:title>Take Me Past the Outer Courts (Take Me In)</dc:title>
</cp:coreProperties>
</file>