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90F-FACD-4043-A899-6B436F3F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7C7-9CC4-4BF9-9A45-3956052B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8B3-5009-46DD-BA75-BF3CCC9B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568-DF2A-4AC7-BBC3-8397D607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46E-DE7B-4E19-BA3C-1FBF2B48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EA6-45CA-4716-A83F-4192E137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1B4-2130-4E4C-8F85-49A660BC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025-862A-401D-8C12-1E9D4E45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5B9-5AC4-4CD8-8288-E902A892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DEC-89B4-48CE-A82B-149F65DA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2BF-F016-42D5-93EB-4F7DF746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313-785F-4FF7-8AFC-2142B113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4A466-D0BB-4C6A-ADEF-F7096329F1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hrist alone my hope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my light, my strength, my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cornerstone, this solid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m through the fiercest drought and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311   В Христе о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одном надежда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моя жизнь и сила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Камень мой, скала и пес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ёжный спутник в страшный штор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heights of love, what depth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fears are stilled, when strivings c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mforter, my all in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e love of Christ I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ысока любовь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ир глубок, как с Ним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Утешитель — Всё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опора только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Christ alone!—who took on fle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ullness of God in helpless ba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gift of love and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corned by the ones He came to s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одном, принявшем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ся всемогущ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р любви, что дал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 народ, избрав по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on the cross as Jesus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rath of God wa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’ry sin on Him was l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e death of Christ I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кресте Себя от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иреньи гнев Отца прин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на плечи воз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Его я смертью 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n the ground His body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of the world by darkness s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 bursting forth in gloriou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p from the grave He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емле, как все, Он мёртвым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т был тьмою свет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третий день Он побе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ба мрачного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He stands in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’s curse has lost its grip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am His and He is m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ught with the precious blood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Бог и победитель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е не правит больше гр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Он хозяи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уплен кровию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guilt in life, no fear in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pow’r of Christ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life’s first cry to final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ommands my dest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страха смерти, нет в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олько сило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ервых дней, до сед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мерти, в Нём моя суд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pow’r of hell, no scheme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n ever pluck me from His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He returns or calls 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re in the pow’r of Christ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кого и нич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ырвет из рук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едёт меня в Свой 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опора только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3T09:31:35Z</dcterms:modified>
  <cp:revision>12</cp:revision>
  <dc:subject>The Source 3, song number 1311 in Russian</dc:subject>
  <dc:title>В Христе одном надежда есть / In Christ Alone</dc:title>
</cp:coreProperties>
</file>