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FC5-3DB1-4448-8526-6346B0B8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453-51CA-4244-9E71-2880CE3D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DCE-73DA-4B82-B104-C0CEEAB6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D56-D8E7-47A7-9B85-E40BE7BF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89D-B7F2-45AD-A041-1CF4DD2A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359-843E-4561-82A1-4368F42C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A98-ABF0-41A4-A0A0-B5C1568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FE-783B-41A5-8F58-2B55BD23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19C-34CF-46F3-8DB7-E690B83A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D4F-7134-4A90-BC4B-3C0ACF4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AF7-70C5-40DD-9600-1D52F0B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299-BD3C-4268-AE83-539A542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6D3C-1A67-405A-9D11-9FACDF9F17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ликий Бог! Коли на світ погля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ачу все, що Ти створив в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кожний цвіт склада Тобі пош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обняв любов’ю Ти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3  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ивлюсь на мерехтючі зор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горять світи незнан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онце й місяць в вічному просто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ивуть в тиші, подібно корабл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весні природа розцві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ую я в діброві сол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апах піль квітуючих вдих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сповнена душа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із хмар навислих грім лу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пітьмі ночі блискавка миг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 дощем природа ож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ка в небі барвно за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еру я Книгу Запові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Твої читаю я ді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любив Ти нас, людей на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ля спасіння Сина нам посл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рю Христа смиренного між лю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 я про Його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прийняв за нас усіх нару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хресті пролив невинну к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окуси серце огорт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мій тужить у важкій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пречисті руки простя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кріплюсь в Його любві свят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мене Сам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ить промінь сяєва Його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в смиренні замов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знавши велич Господа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ій дух співає, Госп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лавен Ти! Як славен 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57Z</dcterms:modified>
  <cp:revision>12</cp:revision>
  <dc:subject>Slavic hymnal Гимны веры христиан, Ukrainian hymn 83</dc:subject>
  <dc:title>Великий Бог</dc:title>
</cp:coreProperties>
</file>