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908-BC7B-410F-867C-97937AB1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70A-C4ED-44E0-8E84-AD7E4D74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A63-13C3-44D6-81D8-19439B26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BE2-7EF4-4B52-A890-156C26C9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352E-48BF-4B1E-9C61-FCB4BADA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641-2D33-4D4D-9600-70F29818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36B-A3E7-4B32-BAC2-696CE8FC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0C0-38DB-40CE-8A17-2C73175C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66A-BB84-4B5A-BD7D-59873346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06F-D7EE-486F-BA96-B4AB1FCE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455-8A01-4BFD-A505-274E1EF6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B6E-2813-4033-BC46-4A933C7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D3E8B-FC61-4DBA-B48C-934365EEFD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окончу путь мой 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где блаженства льются пот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этом мире я т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тчизне, куда стремл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мо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, не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едугов, нет умир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там всё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 тот дивный, дивны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этом мире тёмно и жут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томился, нет мне при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06:02Z</dcterms:modified>
  <cp:revision>12</cp:revision>
  <dc:subject>Slavic hymnal Гимны веры христиан, hymn 680</dc:subject>
  <dc:title>В этом мире я только странник</dc:title>
</cp:coreProperties>
</file>