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D9DF-5B3B-4C9F-81EC-F7C6B610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A959-EA26-4370-B38B-420BC147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0F1A-3E10-414C-AFFB-629CD7D1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F77A-2834-4327-88CD-09400219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DF12-CC97-46DB-AE0A-8F329538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C542-B461-41DD-A017-07AB118C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F9B2-DFDB-4916-ACB4-F3AFF3CC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0B1D-3545-4C37-88A3-B273FEC1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F9D9-E720-4285-B18B-64061B82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689E-4D1F-4276-BAF8-0D0B0B9A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3764-9598-4ED0-94F9-F947FD3B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72A6-E84A-4895-AFCA-AB96DCB1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6F1F2-F32E-46DC-923B-58DB257A3C5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the living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 afresh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the living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 afresh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me a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me an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 afresh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6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Spirit of the Living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2:06Z</dcterms:modified>
  <cp:revision>10</cp:revision>
  <dc:subject>The Source, song number 463</dc:subject>
  <dc:title>Spirit of the Living God</dc:title>
</cp:coreProperties>
</file>