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41AE-D547-417E-8E11-3163320D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D100-C6B4-43F3-95FF-ABFE86B0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23C7-7FCB-48A5-BF5E-0E8C84BBB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3ECD-50C2-4560-89D8-1432C9074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91BD-3336-48B8-89C4-55A8B52C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63D0-D54E-46B4-98AB-6EFCCB3B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013D-EED3-4032-90CC-7166E5D8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E77D-3A41-413B-B272-B31B121D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604E-857A-4C99-9A32-3D07FCB5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EB08-209E-4F0A-8CF2-B39354B6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DF45-A715-4269-8601-42A550DC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41E9-0CA6-48BF-A4FF-79D9F274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1E53C-A0B2-4BE8-A55C-685A27F27D2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ll walk the land with hearts on fi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ery step will be a pr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pe is rising, new day dawn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und of singing fills the 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wo thousand years, and still the fl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burning bright across the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ts are waiting, longing, ac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wakening onc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5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We’ll Walk the 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flame burn brig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heart of the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urning night to glorious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song grow lou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our love grows stron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it shine! Let it sh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ll walk for truth, speak out for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Jesus’ name we shall be st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lift the fallen, to save the childr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fill the nation with Your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flame burn brig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heart of the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urning night to glorious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song grow lou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our love grows stron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it shine! Let it sh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9:53Z</dcterms:modified>
  <cp:revision>10</cp:revision>
  <dc:subject>The Source, song number 551</dc:subject>
  <dc:title>We’ll Walk the Land (Let the Flame Burn Brighter)</dc:title>
</cp:coreProperties>
</file>