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C74-EE96-4515-B2A9-6AE9F8E0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BFD-639B-42C5-81FA-BAAAD02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01D-25EE-4A3F-8B92-47394AEB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2CE-F7FB-4FA1-8331-753808F8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DA1-BDBF-4FE5-B7F7-3C1FB581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0E3-F171-4E6C-8F95-311A61B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8DD-5E58-4E70-8D92-90E83F19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199-3282-4066-925E-035CAFE6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D95-1D98-40A4-9031-C83A22A3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517-3618-4810-AB84-2B29C86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67A-11B7-4B19-A88E-F34ECD1C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DA4-2600-4DA8-B364-454E03D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F69D2-C1EB-4C01-86EE-E6B02BC309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 that I may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impses of truth Thou has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ace in my hands the wonderful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hall unclasp 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ой глаза м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рел небесных тайн л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ключ Твой мне вр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 свободу выше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ye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О,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ю мне Твою откр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глаза, пошли Тво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 that I may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oices of truth Thou sendest cl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ile the wave-notes fall o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false will dis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, чтоб слыша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голы истины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вечной правд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шум земных ре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ears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Явись мне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у вечную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лух к Тв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mouth and let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the warm truth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 and let me 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th Thy children thus to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уста мои, чтоб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мог правду возвещ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чтоб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лась потоко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lently now I wait for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, my God, Thy wi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 my heart, illumin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чаньи жду… Прид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ы мне отк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мне сердце, будь в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51Z</dcterms:modified>
  <cp:revision>12</cp:revision>
  <dc:subject>Slavic hymnal Гимны веры христиан, hymn 839</dc:subject>
  <dc:title>Open My Eyes That I May See / Открой глаза мои</dc:title>
</cp:coreProperties>
</file>