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E9F-C01F-4F3D-BF60-B277FEF7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3FD-051C-4102-9450-5FA4BE78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2D6-FE4B-4288-AD43-E2CDEB61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059-06B4-4B23-A285-2F1CEC98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E8-C2C0-4A5E-9C17-43746148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547-C38F-4D14-82A7-F4954E90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280-9DF7-44D6-95FC-59F5A54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0419-B8FB-490A-902B-2C37259F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483-BD48-45D7-B526-D39340E3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FF4-10EC-4287-B10A-ACF28231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166-377C-49E5-83CC-BAE109F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6DB4-57C2-4EEB-A98D-EB51B888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7AD6B-0631-499E-9E86-8AF491A9C0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O blessed tho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ords with heavenly comfort frau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e’er I do, where’er I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God’s han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Ты Сам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путём, Своей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 бедствий береж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даёшь совет бла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’mid scenes of deepest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times where Eden’s bowers b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waters still, o’er troubled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’tis His hand that leadeth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управляешь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их желаньях и дел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хорошо мне быть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иться в Твоих рук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uld clasp Thy hand in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ever murmur nor rep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tent whatever lot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’tis my God that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хожу чрез мглу до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д сияньем снежных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поток, чрез гладь озёр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со мной мой Властел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task on earth is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Thy grace the vict’ry’s w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’en death’s cold wave I will not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God through Jordan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онце пути через тум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нёт мне вечный Хана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 спасительных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у горе, смерть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eadeth me, He leade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own hand He leade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ithful follower I would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y His hand He leade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! Ты Сам меня ве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тропой,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край чудес меня влеч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аградишь меня вен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5:50Z</dcterms:modified>
  <cp:revision>13</cp:revision>
  <dc:subject>Slavic hymnal Гимны веры христиан, hymn 644</dc:subject>
  <dc:title>He Leadeth Me / Господь, Ты Сам меня ведёшь</dc:title>
</cp:coreProperties>
</file>