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707-705D-49BB-A5C5-466AF21B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469-E4C7-4957-B437-F3530E63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756-9945-4732-AA13-6CA68003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53E-346B-4B4A-A407-E9184B9B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618-28DD-46C8-B553-D89A36E1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AB8-B309-43D6-9B58-3A4EB886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4AB-3C0E-47AC-9E32-5903F14D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6A9-5B8B-42C4-8C58-3AC9833D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92B-2CD4-4AB8-BAB1-005CBAD7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353-7CCB-42E7-BF0F-7FC2D00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BA8-2CF0-435E-9F73-31B6EB0B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DA4-E580-4433-B913-52300A6B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89374-B20F-4169-ABCE-76BC9715F3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лине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оправ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світ полюбив Ві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ина нам 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кров’ю Своє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и нам ом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м нам двері жит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к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7   Христу лине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ення дарує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м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вірить у смерть 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йгірший грі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рить Й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митий, спас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кров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икуп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м мир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адість по ві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Ісуса нам д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ін візьме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вого От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ми всі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им Хри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Його,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 Христа, сла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, всі плем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до С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ай Йому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 добр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41Z</dcterms:modified>
  <cp:revision>12</cp:revision>
  <dc:subject>Slavic hymnal Гимны веры христиан, Ukrainian hymn 67</dc:subject>
  <dc:title>Христу лине слава, Бог нас оправдав</dc:title>
</cp:coreProperties>
</file>