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66E-B819-4CF9-A522-D7F2678F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BA6-9504-468F-8A29-B651BD7A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1A9-D22F-4F01-BDCC-249826BD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778-4F36-43AE-8B64-DC87958F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46F-4AC5-4389-854B-EF414780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234-75E7-4BC0-9DF3-5D6F55C7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099-FE06-46FF-A559-AC5BE172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AF4-7CC2-4E1F-9AD6-60943FF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5F5-48B7-43A8-B3A5-0D13D97D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EE5-BBC9-45D7-80DA-8CF2A44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32B-E714-40DC-8B5B-4C853907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6CB4-2DA0-45A7-AC97-583C627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96D79-077E-468F-8160-E7FE4D9298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terday, today,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ay change, but Jesus,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5   Вчора, нині і на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ора, нині і на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е той сам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ay change, but Jesus,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9:03Z</dcterms:modified>
  <cp:revision>11</cp:revision>
  <dc:subject>Slavic hymnal Гимны веры христиан, Ukrainian hymn 115</dc:subject>
  <dc:title>Yesterday, Today, Forever / Вчора, нині і навіки</dc:title>
</cp:coreProperties>
</file>