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DCF-9D90-4468-8B5A-5F30EB19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07D-AD04-4929-981F-1D08040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C3A-71F9-4629-89E5-F40E95D1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1F7-F463-41AD-BCCE-F14E77AA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00C-4E80-4959-9011-495D0134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EA2-A3E0-445A-A6D5-44B6DCC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153-F93D-40B5-83C8-4FD1EDA9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6FA-BD97-4E29-B66C-720E29B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42A-A0A7-483B-90E8-214B8570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5E8-BA2A-4C21-9309-590AECF8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C51-169C-4DEF-B866-F6C32F04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940-33B8-47F5-BCB9-E5724B76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F340C-DADF-42F0-9A98-8057BCFCEE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горченье ты встретишь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дях утешенья тебе не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езах умиленья и в тайне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окрушенье излей ты в т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ий знает о гор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жидает на лоне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ешь, как властно спасень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ём ежечасно петь будут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гор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ев так много под гнё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ехой от Бога спеши к ним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им с любовью о дивном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ем их кровью на скорб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41Z</dcterms:modified>
  <cp:revision>12</cp:revision>
  <dc:subject>Slavic hymnal Гимны веры христиан, hymn 450</dc:subject>
  <dc:title>Когда огорченье ты встретишь в пути</dc:title>
</cp:coreProperties>
</file>