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F732F-25C5-4B13-82B8-7DC10DC77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E9D23-5A77-4665-872C-813B7BF65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44C88-2B93-4595-9C91-D783239D9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7DD5C-DC65-4BD4-8B08-71472A7F8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BF75C-7E7B-4F02-AD5B-7D8754996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4F374-65C4-4E72-96DD-74C5E67CA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43F23-AC7A-48D9-84BD-25CE1FF90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F29E8-7198-4566-8C9D-C49A26B14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ED5F4-B90E-4A85-8379-C9046D73A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D8042-C883-4E0E-8EAB-609CB67D5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9FB65-FBDB-4B36-A2CE-03815E341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E966C-0129-472B-9B19-45EDE862B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8D9187-019F-4310-B785-C5CB3FE35209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Jesus, I have promi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serve Thee to the en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e Thou forever near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y Master and my Frien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78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Спаситель, обещал 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ь, обещал 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ужить Тебе все дн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Ты в земных скитанья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еня от зла хран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shall not fear the bat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f Thou art by my sid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r wander from the path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f Thou wilt be my Gui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йду я в битву смел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со мною Т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уклонюсь от дел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устрашусь вражд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let me feel Thee near 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world is ever nea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see the sights that dazzl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tempting sounds I hea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будь всегда со мною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к близок мир ко м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льстивой мишур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лечёт меня к себ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y foes are ever near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round me and withi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ut Jesus, draw Thou near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shield my soul from s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раг действует укрыт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наружи и внутр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будь моей защит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ьму светом озар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Jesus, Thou hast promi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all who follow Th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at where Thou art in gl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re shall Thy servant b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ь, дал Ты сло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еред лицом враг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Где Я в грядущей слав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будет Мой слуга.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Jesus, I have promi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serve Thee to the en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give me grace to follow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y Master and my Frie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бе служить хочу 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покладая рук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Ты, мой дух врачу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читель мой и Дру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44:49Z</dcterms:modified>
  <cp:revision>13</cp:revision>
  <dc:subject>Slavic hymnal Гимны веры христиан, hymn 478</dc:subject>
  <dc:title>O Jesus, I Have Promised / Спаситель, обещал я</dc:title>
</cp:coreProperties>
</file>