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A910-0F9A-4F32-B71A-249FBB655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BE74-914F-47B7-B64A-627AB7E1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02DB-7EF1-49AF-9426-A3283B6A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F0EF-120D-4C6E-8FA3-C0ED25EA2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9D40-F2C0-4193-9B17-FCF729E2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D714-B203-47AB-B574-60D6D673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AADC-896F-4FB4-B56F-2E7ABE98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EE54-3586-475F-8BCB-B3721C3E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6AFE-784C-4F41-8F81-975AE86B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5B91-B5AC-44C5-8206-D8CCD728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0E3A-7C13-45B0-ABF5-15D8B94F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C5E1-EC08-498F-9980-2ED56A06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B217B-71E0-45C5-8214-49C23177DCD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рийде Христос і спита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таланта, про талан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ти скажеш Йому про талан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таланта якого тобі да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множай талант, умножай талан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множай, мій брате, твій тала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множай талант, умножай талан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й талант який Господь тобі 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8   Коли прийде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2:28Z</dcterms:modified>
  <cp:revision>13</cp:revision>
  <dc:subject>Slavic hymnal Гимны веры христиан, Ukrainian hymn 98</dc:subject>
  <dc:title>Коли прийде Христос і спитає</dc:title>
</cp:coreProperties>
</file>