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86F-A6D1-4C94-8ECF-0DB6B843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2CB-F97F-4830-8179-5F86AACA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AE5-35E8-4812-B305-93F0874B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442-5D56-438C-9501-364AF0E8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00A-9654-4789-81FD-FFFEA003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99C-5DB4-4D7F-B179-B74912FB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CB8B-A3A3-42D1-B48E-EB0D39CB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C4A3-8646-43B0-91FD-D0630839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1070-9E3C-4C46-98F7-34C1BBD7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854-4FD3-4606-A09D-D42F5AA1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C63-0FA2-4368-BAB7-6FB9B672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119E-39B4-411F-92DC-FC956119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A5D18-7F6F-4090-A268-815F92BE75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not dismayed, whate’er be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His wings of love ab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падай духом, не страши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адай духом, не страши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ь всегда в Ег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every day, o’er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days of toil, when heart doth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dangers fierce your path ass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рудов, среди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пасность всюду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every day, o’er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ou may need He will prov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you ask will be den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ужды Он предусмот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ший дал тебе уд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every day, o’er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atter what may be the t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, weary one, upon His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идно ль света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припасть к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’ every day, o’er all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ake care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will take ca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забыл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путях, во всех скорб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тебя (теб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46Z</dcterms:modified>
  <cp:revision>13</cp:revision>
  <dc:subject>Slavic hymnal Гимны веры христиан, hymn 706</dc:subject>
  <dc:title>God Will Take Care of You / Не падай духом, не страшись</dc:title>
</cp:coreProperties>
</file>