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3309-B44F-43CF-B84E-A9148606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F595-7B47-494B-B466-721CBA5E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25C4-6C10-4EEB-873A-626DCE76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8025-83E6-4697-89D0-BB873051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7811-9558-4A17-BECB-B967252C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DB00-BAD7-41F9-A4EB-FEC9E8C6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4773-AAB9-4F97-A1BE-2C48884E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1F50-62FA-40B8-941E-D9669CC3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5F30-0356-461B-B451-F97D352E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0FEE-1958-45E3-A6EF-3C638003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9666-4026-4B47-9FFB-BBAF5606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0CB1-D618-4F21-947D-1C7AEE73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2C899-901C-44E1-A33B-861247AF2AA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ждём, когда Спаситель наш прид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ждём, когда Спаситель наш прид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ждём, когда Спасител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Ждём, когда Спасител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Ждём, когда Спаситель наш придё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все Его здесь встретим, как прид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все Его здесь встретим, как прид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все Его здесь встрети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се Его здесь встрети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се Его здесь встретим, как придё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ждём, когда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аллилуйя Ему воспоё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аллилуйя Ему воспоё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ы аллилуйя Ем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ллилуйя Ему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ллилуйя Ему воспоё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 грешник, устоишь ли на пут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 грешник, устоишь ли на пут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 грешник, устоишь л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Грешник, устоишь л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Грешник, устоишь ли на пут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2:27Z</dcterms:modified>
  <cp:revision>13</cp:revision>
  <dc:subject>Slavic hymnal Гимны веры христиан, hymn 316</dc:subject>
  <dc:title>Мы ждём, когда Спаситель наш придёт</dc:title>
</cp:coreProperties>
</file>