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615-3ECB-4792-B3A9-E0A7465A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723-7F59-4BC6-A709-780BB408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4C5-A52F-4E49-AC08-DD5F645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934-AE94-4A28-8E1C-328E0E13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535-8311-4D93-95F3-1A60F54B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61A-A1CD-4A73-84D2-3B1268B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C0B-42CA-4AEE-B90E-DB539983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2EE-5AA5-495B-9BD5-EE13AC9A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0DD-8A8B-439E-B7F1-CFA04FAF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DDC4-0C3E-4C66-BDB5-7C5BA0CC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C38-E2FB-4B66-81BE-D5031F7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298-2B74-44E6-8806-E8144336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C76B7-F063-4DB7-A56E-A5A677C2BC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ёт Он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17Z</dcterms:modified>
  <cp:revision>13</cp:revision>
  <dc:subject>Slavic hymnal Гимны веры христиан, hymn 642</dc:subject>
  <dc:title>В моём сердце покой</dc:title>
</cp:coreProperties>
</file>