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336-BCB0-4166-BEB3-ECD2A9F6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046-C15C-492D-BC5B-0E2161E5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1A7-1285-40C2-8F95-1ACE23F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044-E1DC-4709-A248-80A1FFE0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AEF-13F1-4281-B20B-E9C210E5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09F-5AD3-42D0-A51D-60AD53E5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F06-1A22-4E57-829E-BEA0A0D7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3FA-7CA2-44AC-9202-46AEBE28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38C-6804-4983-B285-EFB95820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ED5-6878-4D25-9B34-3B8F250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95F-D533-4583-A2FB-900CC9C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4E6-E40A-4740-9262-391781F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DBD53-E487-4687-B39A-EA98F6C033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who sits 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unto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lessing and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nour and power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2   To Him Who Sit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0Z</dcterms:modified>
  <cp:revision>11</cp:revision>
  <dc:subject>The Source 2, song number 1022</dc:subject>
  <dc:title>To Him Who Sits On the Throne</dc:title>
</cp:coreProperties>
</file>