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8C1-A1C5-4880-88AB-5B12A0D4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2A6-F938-42B2-A7BB-3DC48B31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B81-9A73-4C30-957A-01050217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B37F-A4E0-4ECC-B808-B3BB2185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072-F468-49EB-8455-AABBCED8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04F-B872-4E9F-B0CE-5795A51C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EDB-048F-4B21-BBDD-8B4066A8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E0E-B896-43F6-83C5-00078A0B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73F-8DA5-405B-BD73-06395BB2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0A0-9ACF-4481-A507-330CAB2A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0EC-871F-471E-A216-D1BF306B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684-65E9-46D6-B788-6B65A2A5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7FDAE-FCB8-47EF-917C-B9E18C13060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one needs compas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that’s never-fail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rcy fall o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one needs forgiv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dness of a Savi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pe of 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85   Everyone Needs Compa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He can move the moun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is mighty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mighty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author of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ose and conquered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me as You fin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y fears and failu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y lif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give my life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believe 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 surr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He can move the moun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is mighty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mighty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author of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ose and conquered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lory of the risen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lory of the risen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He can move the mounta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is mighty to s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mighty to s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author of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rose and conquered the gra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onquered the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lory of the risen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whole world s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glory of the risen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35Z</dcterms:modified>
  <cp:revision>12</cp:revision>
  <dc:subject>The Source 4, song number 1785</dc:subject>
  <dc:title>Everyone Needs Compassion (Mighty to Save)</dc:title>
</cp:coreProperties>
</file>