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2B6-F8F2-429E-A698-CE38A5BD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C5B-3528-4BEA-980A-A09D458D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D0E-1688-4262-BF48-6C91F7E5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59D-81E7-4C98-BF5A-AB8144B0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985-0EB0-4D81-A99A-BC538369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720-F111-4D41-92DC-6BF8B589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44E-FE64-48CF-A5C9-689EFBE5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263-2070-475D-842A-C95940B7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632-6467-444B-BD28-D9F4BEBD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5C6-6B1B-4367-A0C0-0515998E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51C-A094-4FFB-87FE-945EE0CF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805-2A76-425D-903A-D5BD14F0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F4B90-27F1-4222-A2D9-6C37A388B0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question comes to you and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, what shall your answer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будешь ве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опрос ко мне, к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ответ найдёшь в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ity!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are choosing Christ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ing from all their sins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shall their happy portion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многие к Христу при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ли греху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й небес в удел на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ity!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ill you spend etern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ving the straight and narrow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the downward road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d will their final end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thro’ a long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 узкий путь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ты на другой вст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конец тебя там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ity!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thro’ a long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pent, believe, this very h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in the Saviour’s grace and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will your joyous answer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thro’ a long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 этот самый час по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ся ты Ему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 всем возвес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буду вечность провод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ity!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d thro’ a long eter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1:57Z</dcterms:modified>
  <cp:revision>13</cp:revision>
  <dc:subject>Slavic hymnal Гимны веры христиан, hymn 336</dc:subject>
  <dc:title>Where Will You Spend Eternity? / Где будешь вечность проводить?</dc:title>
</cp:coreProperties>
</file>