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42C9-766A-449B-9005-E8D3A8A0F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5B3F-DE07-46A4-B05B-1DE56E8DE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5EB8-199A-4D3A-9066-2756D63A5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D638-4AA6-458D-8109-6F3F16ADB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6A0F-BBD2-4698-B44D-3F3EA13B1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13E1-06A7-4FE1-9472-D3EE94920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D529-8AEB-4CAB-9A76-12913C3E3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C609-FBC3-420D-A3E6-6C94BE9C6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66DA-CA4B-4B3C-9D53-FEA664869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C274-9531-43E5-8B78-074A86D54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2E55-A2EF-4A5F-A87B-3B72E9E5B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D6F3-3A3F-4B7F-AE49-AF2898A3F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89E368-5638-4E9B-8FF2-14081396E36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br>
              <a:rPr sz="3200"/>
            </a:b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away to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ul by woe oppress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was for thee He suffer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to Him and res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6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а Христа взир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Христа взир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Ему отд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ых призыв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даёт им р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, amid the gl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e crystal se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away to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rough etern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же, в царстве р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ре позабы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Христа взир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шь ты счастл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hy griefs He carri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hy sins He bo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away to Jes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 Him ever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тебя страд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ял твой грех Он Са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Христа взир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ь Его слов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away to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ldier in the f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e battle thicke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eep thine armour br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Христа взир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ой за Ним вступ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т битва зл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ж не уныв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thy foes be man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thy strength be sm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away to Jes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shall conquer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душа боль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ба пред враг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Христа взир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ь, победа в Нё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away to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e skies are fai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lm seas have their danger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riner, bewa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Христа взир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абудь о Н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ас, когда сия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горит луч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arthly joys are fleet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ing as they c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away to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rmore the s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ведь зем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чезает вдру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Христа взир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пребудь, о дру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away to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id the toil and hea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on will come the r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e Master’s fee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Христа взир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уд свершай ты с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свой день конч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найдёшь пок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 guests are bidd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feast is sprea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away to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His footsteps tr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ука свят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готовит пир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Христа взир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ищи твой мир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, amid the mu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e endless fea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ints will sing His prais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ne shall not be leas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е скорби жгуч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ор твой уста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темняют ту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д Христа красо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2:14Z</dcterms:modified>
  <cp:revision>13</cp:revision>
  <dc:subject>Slavic hymnal Гимны веры христиан, hymn 363</dc:subject>
  <dc:title>Look Away to Jesus / На Христа взирая</dc:title>
</cp:coreProperties>
</file>