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0E4-8F8E-4CF9-AAFE-7FBF31FF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ECF-92F5-4F78-9A0E-F77FAC5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BB6-4FDB-496F-88B1-933A61D2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4AE-CC07-470C-9D17-7F715CE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A0D-C269-4516-B84F-9DCAE450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F82-566B-46DC-9F98-0CEB586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29E-A41D-4EB3-AF55-6B3D2F3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62C-1CDD-406B-B3FF-F5BF591A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1FE-046F-473F-B731-012906F7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753-1E2C-4197-97CE-A751B9B3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5C0-AF6D-45F0-8416-4B10738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580-E79B-44B4-B963-1EE5F1B7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80E9A-C36D-4235-874A-FEE895C9FE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асе мій, тримай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 пречиста кров т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ого сці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3   Спасе мій, тримай м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душа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ивний мир діст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ам, ясна рання з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ене осія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о, Боже мі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кажи увічч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міч дай, щоб я служ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обі днем і нічч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стою і 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адіюсь і ві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Господь візьме 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 небесну ос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, при хрест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 знайшов спасі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и хресті маю спок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Й вічне вдоволе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8:12Z</dcterms:modified>
  <cp:revision>13</cp:revision>
  <dc:subject>Slavic hymnal Гимны веры христиан, Ukrainian hymn 3</dc:subject>
  <dc:title>Спасе мій, тримай мене</dc:title>
</cp:coreProperties>
</file>