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E6F-DA92-4877-A43F-2AAD2C5C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25C-7A54-42E8-BCC9-C665059F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B2F-9099-45A7-A388-5DB3A3FD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968-B3F9-4610-82D0-E17B1839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924-4B9A-42A2-9617-F5D1EC3A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246-7AA5-4EFF-877E-984F0CBE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10D-5BA7-4C4C-A3AF-EBDF24FA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FD1-196E-4880-A720-E7603E27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718-308A-4D50-9FB1-E45D26D6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1C0-C2C8-4983-999B-2882E619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270-4ABF-47F9-8044-315CB77E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349-F7BA-40F0-8A1C-A88F6A0D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68DAD-0D1D-418F-B1D9-D23DE46FC9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the wondrous love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His mercy and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ansions bright and blessè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prepare for us a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те о любви Христ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о любви Хрис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арах людским сын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тчизне светлой,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товил место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we walk the pilgrim path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uds will overspread the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en travelling days are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hadow, not a s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ветров, бурь, дож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ей мир остав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и вздохов, н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then be true and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, serving eve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one glimpse of Him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e toils of life rep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и усерд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вёрды, как гран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г один Его я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руды воз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to the prize before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His beauty we’ll beh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pearly gates will op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tread the streets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к цели! Прочь заб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ведёт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емчуж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улиц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get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day of rejoicing that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e all se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 край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в славу вечную в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узрим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ы песн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3:38Z</dcterms:modified>
  <cp:revision>12</cp:revision>
  <dc:subject>Slavic hymnal Гимны веры христиан, hymn 889</dc:subject>
  <dc:title>When We All Get to Heaven / Пойте о любви Христовой</dc:title>
</cp:coreProperties>
</file>