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AE4-2E46-43F0-A8FD-4D461563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0EF7-745E-476E-87DE-00BEC5BB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C4D-895B-4EA1-89BB-4050EE7C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855-20AE-4A77-918D-D29FF57D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F53-EDCB-42A7-A50D-CD0910E3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576-2AEA-485B-9D9B-F9435CA2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231-A6B5-4EDB-A26E-F99B3E74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67E-C331-44B3-9F95-9805229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E57-5E06-4C78-81BC-A760317C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A31-0BFF-43B7-822B-B044C2B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789-41B1-41CE-A023-4F520661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0CE-0CAC-4D69-AC91-8B947F8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136D7-A678-47CA-A709-546F57354B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elebrate Jesus, celeb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, He is ris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on and celeb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surrection of our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67   Celebrat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22Z</dcterms:modified>
  <cp:revision>10</cp:revision>
  <dc:subject>The Source, song number 67</dc:subject>
  <dc:title>Celebrate Jesus</dc:title>
</cp:coreProperties>
</file>