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95D-A367-4442-9C3D-1056B3DA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F6F-E4DD-45B4-A997-7DAF393B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F0F-6233-40C6-8A38-E193C0B8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6E5-2A47-4890-99C3-FE325FBC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A94-C197-4EB3-A710-EB2A1B12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94C-E23F-4937-8352-38697025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242-BEDC-4CC4-A7A1-FA1F6BB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D5A-8C73-41E9-A3C7-C168268D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F97-14F4-48C2-9786-330C0802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BAE-69AC-4168-9C40-98AF0B50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B23-BBE9-40CE-A9AD-A8AA761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F24-0660-4C06-8E17-346AC117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637A2-F498-4965-97BC-99BC159C81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7:03Z</dcterms:modified>
  <cp:revision>12</cp:revision>
  <dc:subject>Slavic hymnal Гимны веры христиан, Ukrainian hymn 91</dc:subject>
  <dc:title>On the Shores of Jordan’s River / Недалеко, за рікою</dc:title>
</cp:coreProperties>
</file>