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8AA-918B-4392-9057-F0317E14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10D-52BB-4F7D-B821-E099D3BF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9A8-27E5-41E0-85EB-A785F9B1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EF3-DC04-49F4-BA1B-E8CDD86F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DAA-2FB9-4E07-B2BB-03EFA830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B231-E1AF-4F85-A078-EF7DBC85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3119-ADD2-40C2-AF8B-2CC7B35B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BDF-8684-4804-AF99-C49E725E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E50-6F7C-4402-A422-7D5BD62E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6E6-586A-4690-85D1-4CFB96E5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4982-1D10-44FD-8490-1F4F26F3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8B55-A801-4B09-9144-72DA8145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8C154-B98F-47AB-B93A-DE1019A485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ing is exalted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praise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exalted, for ever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praise Hi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6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e is Exal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 His truth shall re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joice in His hol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ing is exalted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20:14Z</dcterms:modified>
  <cp:revision>11</cp:revision>
  <dc:subject>The Source, song number 156</dc:subject>
  <dc:title>He is Exalted</dc:title>
</cp:coreProperties>
</file>