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4901-21C7-4520-A99C-BC46C812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9A7-49A5-4299-96FE-D57FA582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C5A-D8F1-4FCF-809D-12C45DA6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FEA3-C003-4071-AE1C-6AEDBE3A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698-499F-447C-9AFC-4BE6FE9A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AEB8-3246-430A-87F6-73757C21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8B6-F325-44DF-AE0C-B06AAD5F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E47-5C4A-496E-BCA7-A23D6A9F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5C64-F7E8-40B0-8B43-4C9A6107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979-B197-48E0-9B64-C405DEBA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51FE-9C8A-4576-B10E-DAD70DBA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FCD-87F5-46BF-B3CE-22D49BF2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50C8E-C547-4E90-955A-1A817133E8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23   God Is So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08:15:10Z</dcterms:modified>
  <cp:revision>13</cp:revision>
  <dc:subject>The Source 3, song number 1223</dc:subject>
  <dc:title>God is So Good</dc:title>
</cp:coreProperties>
</file>