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1EA-A0ED-4D07-BBB1-70B29367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283-23C4-4DBA-AF80-1B9E53BE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9AA-D134-4732-92C8-6B75A583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4B3-CB43-4939-ACD5-B85AC9E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299-D3FB-43C0-99AF-A6A33B06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61D-E9F8-4C8F-B1FC-2C12E0FE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389-E64C-4865-ADF4-B23352A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756-B5AD-4223-B07F-4A01478E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E38-003E-4FDA-A0F4-FA92B728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DB3-5493-4CED-B4EB-EB9C9D3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E85-81E3-4559-8CEF-F810290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C22-27F9-41FF-B3BC-2F7214DB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38CA9-8A8E-4056-927D-FEAA186D7F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11Z</dcterms:modified>
  <cp:revision>12</cp:revision>
  <dc:subject>Slavic hymnal Гимны веры христиан, hymn 650</dc:subject>
  <dc:title>Мой Бог — скала</dc:title>
</cp:coreProperties>
</file>