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9F11-969E-4432-A999-E04696DD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D37-4857-475C-9609-F124D2E5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89B-CF6B-4F9D-9A35-8BEDF6DB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292-1A0C-492A-A006-76239715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639-CD12-471A-9442-8E9556A5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4F1-55C5-4E00-BC4D-C639076D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20A-BA8F-4A30-9155-2CE47344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61C-CACA-4207-8BBD-3561DC6B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B8B-59AB-477C-A9D8-903507D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DBB-FCAA-475E-87A5-810337E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4B8-10C0-4E2C-BB65-9BEB90C4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010-C7E4-4C2D-AC54-ED5FB2A8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5CEE4-2EE9-4160-BDA2-63ACF3025D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ов Его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ернистому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иходи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надо побеждат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емной позором здесь клейм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ненавидит з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риста любов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забывае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Спаситель Иисус призв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Иисус приз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к Нему идти решился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 острые, ш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мученик Стефан, удары кам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 на земле здесь прох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Он окружающих 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аситель, 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, чтоб я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бить, прощать, страдая з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земной тернистый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дашь от бури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будет скорбных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рёшь слезу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ящей пронзённою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7:52Z</dcterms:modified>
  <cp:revision>13</cp:revision>
  <dc:subject>Slavic hymnal Гимны веры христиан, hymn 472</dc:subject>
  <dc:title>Мой Спаситель Иисус призвал меня</dc:title>
</cp:coreProperties>
</file>