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14B-1D6C-4024-B0ED-683AB4D8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3A3-C1F7-4817-ABFF-424E8C6B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8823-73BB-4948-802C-887E922F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8158-D94C-44C7-A948-7FBC467B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9E06-7157-44C0-B00A-9A860618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D59-2EF9-4D27-A739-6F3199CF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078B-C702-4AA9-A56F-8EB7AF6B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BED-F491-4985-8B46-2130612D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FDF-CA40-4782-8F66-A95B099A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B905-77D2-4343-8C5E-31EA6781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5B9-F658-4434-892C-1A45F3D7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CF3D-97D6-48D7-B074-6C0D217E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88BB6-4FD9-4D6C-9A4E-719F8ED5D6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love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sing His pra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bad times and the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proved His love is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900   I Will Always Love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’s celebrate a God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God so g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trust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place my hope in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as been my hiding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ever I feel afr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’s celebrate a God so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God so g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and taste, come and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, broken in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is God of the po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ost, and the wea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ur shame falls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our faces shine with Hi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All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onou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2743200"/>
                <a:tab algn="l" pos="34290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Leader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nour the Lord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8:14Z</dcterms:modified>
  <cp:revision>12</cp:revision>
  <dc:subject>The Source 4, song number 1900</dc:subject>
  <dc:title>I Will Always Love the Lord (Honour the Lord)</dc:title>
</cp:coreProperties>
</file>