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8DD-79DE-4EC3-A2AC-9F7DC837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31E-FA04-471A-AC9D-6225019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0F8-AC71-4A2A-A92C-7C8898E8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E11-E638-4795-85A7-FB709CE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F5F-FFE1-4531-9001-EDF59D6F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11F-36F9-426F-8174-BDE1C6DE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43B-60CC-4EAA-B2E1-F24816C8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44F-6B51-44FF-9CB3-C98C924B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C87-992E-486B-A3CC-3B67EE30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B3E-45FE-447B-81D3-553CFBB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DB8-BA5F-461B-BE56-2D88DEDB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F5C-853D-49E0-8812-AB436F7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6F2CC-AA6C-4B26-86CD-3A1F1B74D2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ша, поспеши на Голго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итель давно тебя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 льётся поток благо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всякого, кто лишь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3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уша, поспеши на Голгоф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щиты от бурных порыв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десь в мире не сыщешь нигд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 в Боге ты станешь счастливы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бежище наше в Хри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щи от греха избавле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олитой Иисусом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знаешь ты радость спасе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слышишь: «прозри и жив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дал нам с надеждой прекра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радость, и мир для сердец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шли ко Христу не напрас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дали нам сияет в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скорей поспеш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Иисусу придите сей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пасенье и радость при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годня зовёт Он всех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39Z</dcterms:modified>
  <cp:revision>12</cp:revision>
  <dc:subject>Slavic hymnal Гимны веры христиан, hymn 343</dc:subject>
  <dc:title>Душа, поспеши на Голгофу</dc:title>
</cp:coreProperties>
</file>