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9280" y="39528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a   Решил идти я за Иисус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179280" y="82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179280" y="406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шил идти я за Иисус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 вернусь, в мир не вернус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828720"/>
            <a:ext cx="98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06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за мною, крест предо мною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верну с того пу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82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none go with me, still I will follow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406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победу, Христос Спасител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вернуть с того пу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82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you decide now to follow Jesu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turning back, no turning back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068720"/>
            <a:ext cx="972036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пойдёшь ли за Иисус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 свернуть с того пут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7:26Z</dcterms:created>
  <dc:creator>John Zaitseff</dc:creator>
  <dc:description>Graham Kendrick (compiler), The Source 2, Kevin Mayhew: Buxhall, Suffolk, England, 2001.  ISBN 9781840037241.</dc:description>
  <dc:language>en-US</dc:language>
  <cp:lastModifiedBy>John Zaitseff</cp:lastModifiedBy>
  <dcterms:modified xsi:type="dcterms:W3CDTF">2024-11-14T22:35:36Z</dcterms:modified>
  <cp:revision>4</cp:revision>
  <dc:subject>The Source 2, song number 766а in Russian</dc:subject>
  <dc:title>Решил идти я за Иисусом / I Have Decided to Follow Jesus</dc:title>
</cp:coreProperties>
</file>