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B71-DF32-4A34-B17A-323B2A0A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61D-03F7-4FAA-9F2D-CF554890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B445-6DA5-4923-841D-A14C5A03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F1A-5CD4-40F0-9F18-C6A4380D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4DC-DA38-4DF5-8235-9A4E648E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A81-D659-4140-B09D-67A56BD4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827-82B0-4C47-8D17-1174AC10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C98-D420-403A-A02C-8A3CAD7D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C41-70D7-4D62-BC9A-5775AE56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F28-3F23-48CD-9F72-7F78596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7D4-D1DF-4EB8-BB0F-F6FA4EA0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239-BE0D-4DCE-81D0-13D3CEC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CE4E8-9A38-48BB-8F7F-C1F6BF8276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od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in the whol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lose your so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od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sweet s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remain prou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view of God’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ffer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9   What Good Is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oad I’m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leads no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ife I l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find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view of God’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ffer my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y life, let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, all of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use me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thing I say and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life honou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, living for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first the kingdom of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17Z</dcterms:modified>
  <cp:revision>12</cp:revision>
  <dc:subject>The Source 4, song number 2129</dc:subject>
  <dc:title>What Good Is It (Living For Your Glory)</dc:title>
</cp:coreProperties>
</file>