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1A3-42E7-4F25-A276-B40B449D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F35-2E69-466B-86CD-4CEFF35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DC2-F514-4C5C-8192-9E81DD49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0ED-C8E7-40BF-B430-E0E8340B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AA2-9097-41E9-8940-5089045D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90F-0D69-4FDE-BDAB-31CC9F5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7D8-0C87-419D-AA2F-AB9AE4D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4D1-969C-4611-A06C-AB503E40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BCC-21B2-405B-8E92-21DCB4F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2A5-D9D4-4DC0-9B86-9432BBB6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150-EFC7-4DDD-9DF4-155E03A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241-F8F7-400E-8F84-58DAA23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B57C2-BE3D-4EA8-8DEB-B158797A00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а   Доверяю сло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Вечного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ью мудрость славят горы и мо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повторя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не потряс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раган сомнений, страхов и невз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рез бури жизни я иду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 Господа Хрис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зами любви с Ним связан навсег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в искушеньях не боюсь вре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, я не упа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ух Святой восполнит всякую нуж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 Христе имею всё, чего я ж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я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 слову, что Господь возвест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веря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доверяю слову Бога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5Z</dcterms:modified>
  <cp:revision>13</cp:revision>
  <dc:subject>Slavic hymnal Гимны веры христиан, hymn 640 (as amended)</dc:subject>
  <dc:title>Standing on the Promises / Доверяю слову Вечного Царя</dc:title>
</cp:coreProperties>
</file>