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2E7-40D3-4F2E-988E-31DB9303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F5B-8C90-4544-AB78-D92D269A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841B-DBE0-4EB0-AC9F-4D463250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193-B4CD-422E-9EF8-A39CCFF0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255-C340-4733-AB23-1BA3E603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A1B-9FEF-49F6-9C3D-91C8091D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E26E-1FA6-43C6-BA47-43558601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CFA-D89A-445C-A07E-132F18B3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0505-311D-4E41-91B1-84C9C685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5BD-BB60-4BDD-A3EB-60377B2B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6F2B-1213-40E9-A1CD-A5F78D38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1BD-5042-44A4-99A0-90ADA2B8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61552-0816-4CEF-A12E-FC182960A97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жизнь возьми: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Тебе посвящ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руки, их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 я в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 я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ноги, должно 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тезям ходить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голос, чтоб он м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Тебе, мой Царь, мо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Тебе, мой Царь, мо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7а   Боже, жизнь возь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устам достойным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ебе благовес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 и сере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зьми моё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зьми моё доб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возьми любов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у ног Твоих ст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ьми всего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, навек Твой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, навек Твой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1:02Z</dcterms:modified>
  <cp:revision>14</cp:revision>
  <dc:subject>Slavic hymnal Гимны веры христиан, hymn 437 (as amended)</dc:subject>
  <dc:title>Боже, жизнь возьми</dc:title>
</cp:coreProperties>
</file>