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D88-9CB7-40B6-B169-90B307B7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C53-198E-4745-ADF4-DDE07C90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E0B-8525-4320-86F8-CFC6356B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DEF-E17B-48CF-A8A0-2A184676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4F3-C590-4455-81DE-8DBD800F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3DB-96B3-494B-B0DE-54646D40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EF6-E258-44AE-8C24-0356F6CE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FED-0A50-4CE0-9B24-77E7C4BE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4DA-CEA4-4D95-B9BB-2C7EAE8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B8E-756D-47E8-96CC-DE1E3C84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766-31B9-4F17-9C79-7E8BF003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CF7-5E9E-41AE-B216-6543E17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F1E58-8105-4ACE-9A69-A31A855DFB2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заблудший греш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 Иисус тебя зо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как всяких благ спосп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 душу Он проль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9  О, приди заблудший греш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, грех, сложи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одножия кре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дёт благ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тебя, друг, от Хри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 сияет уж для мног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реста, кто грех сложи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огатых и убог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пасенье соверш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что жаждешь оч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молись, и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ушу Он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, тебя Он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18Z</dcterms:modified>
  <cp:revision>12</cp:revision>
  <dc:subject>Slavic hymnal Гимны веры христиан, hymn 369</dc:subject>
  <dc:title>О, приди заблудший грешник</dc:title>
</cp:coreProperties>
</file>