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1F01-EA15-4847-A175-7782E8026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E47A-D231-4A11-BD08-223286501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5066-99F8-4887-9CAE-5436A2DCD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ECD3-AEBC-4F3B-A9F4-6D9919B21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2259-4FA9-4D4A-AFDF-5E25F9187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85CC-F76B-4833-8956-D8B039CDA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8B65-984D-4822-A538-886785FA1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E2F5-B1FA-4A3C-AF79-D4B11F337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47B2-16FF-4852-9192-A0E9E13AB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BA0B-E0CD-4839-9C0C-BCCFDDE86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1E71-0635-4666-BA19-0213E6578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4710-218B-4553-B74C-D70099B83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61FD43-413C-43CF-9129-9A71153F5DD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ем розсівати Слово Боже ра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 заході сонця, і вдень, і вночі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емо чекати урожаю з лан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радощами в серці принесем сноп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несем снопи, принесем сноп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радощами в серці принесем сноп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несем снопи, принесем сноп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радощами в серці принесем сноп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41   Будем розсіва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012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 то в пору добру, чи в час непог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віть у час бурі, спеки чи дощі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 не занедбаєм славної наг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радощами в серці принесем сноп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несем снопи, принесем сноп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радощами в серці принесем сноп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несем снопи, принесем сноп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радощами в серці принесем сноп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6012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ем розсівати правду Божу всю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оч і перешкоди різні навкруг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оро час настане, жниво все достиг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радощами в серці принесем сноп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несем снопи, принесем сноп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радощами в серці принесем сноп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несем снопи, принесем сноп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радощами в серці принесем сноп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36:58Z</dcterms:modified>
  <cp:revision>12</cp:revision>
  <dc:subject>Slavic hymnal Гимны веры христиан, Ukrainian hymn 41</dc:subject>
  <dc:title>Будем розсівати</dc:title>
</cp:coreProperties>
</file>