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C9E-2F2C-4E8A-8499-9B569424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D7A-C7CC-4ECB-BB63-9755E6BE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45E-7E26-4709-A331-01641430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3CF-C819-4E97-8B1D-A766750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7BD-7310-4E15-A973-92B0F846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CEF-8D1C-40EC-9C36-E4BFB48A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0D10-31C3-4578-A1A2-44D76733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169-6E4C-4066-9236-21EC87B1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5F7-5FC7-4CC1-BE35-A18243B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58D-96EC-40DB-A2D6-3606886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046-42EA-4A45-9B04-E833585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ADA-5885-4D20-9011-A6614111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2487-3517-47A2-BADE-F810AF755A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, как других, не украшен цвет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ушистые розы на нём не цве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й путь весь усыпан одними шипам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рновника иглы на нём лишь расту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ду я, изранены ноги жест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труден мне кажется пу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голос в душе моей, где-то глубок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веренно шепчет: «Не бойся, 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путь, как друг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т голос Спаситель мне в сердце вселя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илы даёт Он в борьбе со грехо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бесное царство Он дать обещ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мир и блаженство вовек с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путь тот уж кажется мне не тяжёлы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радость вселяется в сердце полн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я приближаюсь к священным высот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вечная радость и свет вечных дн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голос тот с неба меня приглаша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Усталый, измученный путник земл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града святая тебя ожида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ебесную славу скорее вой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8:40Z</dcterms:modified>
  <cp:revision>13</cp:revision>
  <dc:subject>Slavic hymnal Гимны веры христиан, hymn 507</dc:subject>
  <dc:title>Мой путь, как других</dc:title>
</cp:coreProperties>
</file>