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F0B-3A41-4F99-85F3-7A35C0CE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4CC-0E72-4883-98BA-B8E8611B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B76-A19D-4E4C-A243-C7770EFF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8916-EC6C-419B-BE4A-1E931048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6FF-EAED-4E59-8DDE-AF0533E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62D-FE9C-4C79-B592-27CD2FB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6A0-9027-4E6B-B34B-A19CB583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BF9-75E5-43E0-ACDA-36E72A4E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54F-E33F-4898-BEB3-5B5666D4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A4E-8ACE-427A-9733-160FBDF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F18-4DD6-46DC-BD26-8B2331E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6CA-E5CF-4217-8045-10D8F791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A10A9-7B6A-4141-9158-2CF5AE7D92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! слушай ухом в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, любящи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в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емной стучит прохож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зовёт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Спаситель, Агнец Бож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ик! слушай ухом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елье сердца со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ц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йдёт Он и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 ней заблест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чь любви Его по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то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стук тот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танет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женный пир веч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 твор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слушай голос ди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н главу скло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молкнет звук призыв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ь пройдёт; тогда, рыд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склон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в дверь стучать ты 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впусти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ывать тогда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ты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шь ты несчаст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0:25Z</dcterms:modified>
  <cp:revision>12</cp:revision>
  <dc:subject>Slavic hymnal Гимны веры христиан, hymn 337</dc:subject>
  <dc:title>Грешник! слушай ухом веры</dc:title>
</cp:coreProperties>
</file>