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DD2-0FD2-446F-9F88-93E77D62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2A78-407D-442F-B124-39FE863A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5BC-41A2-4287-9B17-859DE48B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FD8C-BB8D-47D2-B18E-7438DD91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9410-CF7E-4AEB-9DA9-1BBA2031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352-6FDC-4F83-9FC6-B445AB29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C99-0BC0-4FA6-8781-8B85EE89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0C2-6D6D-4D85-9773-9DF05ACB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A59-CE61-4CAD-85D5-AB086C54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996-2F8E-4263-B7DF-C59D7780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C9C-BC87-4546-BF6C-63B5F4D4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4D1-9E51-4B88-BAAC-C58DF02F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48AD2-1472-40C2-AD2D-36F23CC941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, м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хваляй Всеблаго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песнопеньем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огущего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ты Твор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ты Его без кон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арует так 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а славь ты, мой д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! Он муд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ител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целям Своим нас вед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зёй сокров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ёл по пути, где скор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ты, тревогой смущё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! Кто ди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так устро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о сих пор всё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анил, и поко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ам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мерти спас, воз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благой удосто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, м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и хвал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е тебя уто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струё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ге лишь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без Него в мире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ия, мира, пок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0:31Z</dcterms:modified>
  <cp:revision>12</cp:revision>
  <dc:subject>Slavic hymnal Гимны веры христиан, hymn 807</dc:subject>
  <dc:title>Господа славь ты, мой дух</dc:title>
</cp:coreProperties>
</file>