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A64-C745-4CAB-A2FE-09C993F0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762-D44E-4DB8-BB92-78DDF8C1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5EB-F4D9-42D9-9E8E-4814C2EE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813-A630-41D7-A925-5EE1AD66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557-09F5-4C1F-A400-21C04FD4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BE61-BB16-4D30-9909-BFA0351D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AEE-F6E5-4962-90C7-3D97DE0C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A72-46B5-4B8B-BE2A-74DD13B5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3E5-720A-4739-8639-AD04A91D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0C6-DC8D-4E77-A43A-2E15F61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0BB-F7C9-4315-B551-D576BCC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3B6-A3A4-479B-A510-FDAA2554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08265-5C28-4C3C-8732-96A4314558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кращий інший-світл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печалі там не з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ай святий, край свят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ють там святі пі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и там живуть яс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хто не знає там грі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ясний, світ яс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2   Є кращ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китне небо там без х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ий край, світл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не має там прим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рай, Божий 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ості там без кін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ясним лицем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крізь нев’януча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край, дивний кр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винні всі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світ пройнятий весь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шов терпіть з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и Він змиє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край блаженства нас вве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спас, Він нас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Господом усі іді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им будемо там вічно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гайтесь! Скоро час іде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в вірі вас Господь зна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а нами знов прий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лід за Ним, вслі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49Z</dcterms:modified>
  <cp:revision>13</cp:revision>
  <dc:subject>Slavic hymnal Гимны веры христиан, Ukrainian hymn 52</dc:subject>
  <dc:title>Є кращий інший-світлий край</dc:title>
</cp:coreProperties>
</file>