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037-706A-472C-9F9A-9159AFF5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5C42-F423-47EB-B6DC-BA77F79E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581-BF39-4F49-9225-6124466D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EB4-F357-4BD3-85D6-73448926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8AC-8E0B-4E9D-AE26-E9276C14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B63-19CE-40EE-A62B-A3F3B52B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195-5937-4A1D-9B8D-6256C3E2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16E-D988-408A-991B-B471F147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F78-191E-4A34-926E-50FDCB02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D4E-E243-44F7-B597-D674A688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4DD-651F-4C21-A4F7-3975F832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0E5-C0E9-4CCE-BFDD-C8ABC5E0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42A77-B3DD-4949-A7EF-4F99F789FC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glory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thirsty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us as we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us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glory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glory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glory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6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et Your Glory F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and t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thered ’round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one voice we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and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and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and tri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mb upon the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saints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reig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6:19Z</dcterms:modified>
  <cp:revision>11</cp:revision>
  <dc:subject>The Source 2, song number 863</dc:subject>
  <dc:title>Let Your Glory Fall</dc:title>
</cp:coreProperties>
</file>