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087-D58A-4F64-BA86-0386E72C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C10-3F08-4788-8FCA-7AC45BF5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BE7-36C0-4B39-A0C3-BD8A7F3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85E-4DF3-4F14-A1FA-9BDF3B03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D4B-08D3-42E7-B67A-95484C4A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51D-1CED-4C59-B256-FDE3716E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73D-514E-4080-A39F-833F675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E03-8F97-40E5-B91A-9AC6D83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851-3E40-4FE3-8513-60D9BF92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AD7-F6E9-477F-ABA2-B8FAC1C0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A6A-CE1A-4841-84FD-9F1D43BD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EA8-6E7C-418F-B015-EC423ED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D6D3-1746-402A-83DA-E425607AEF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03Z</dcterms:modified>
  <cp:revision>12</cp:revision>
  <dc:subject>Slavic hymnal Гимны веры христиан, hymn 489</dc:subject>
  <dc:title>Дорогое обещанье</dc:title>
</cp:coreProperties>
</file>