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3F91-AAE3-4EF8-8650-89490CEF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C9D1-40CE-46B5-86EA-62154944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F8D0-60BC-4853-91FF-0CF3AF82E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C027-7E76-42D8-9E30-7CA2DB97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29AB-D3BC-454A-BE85-9230F189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8B79-0407-496A-B30D-E7756427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50A7-61BE-4F33-8A16-9900566B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1BCB-1D05-40EA-9A43-1DE20228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5E6A-8079-4EDD-B943-0636898A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AE54-0420-4255-95F4-C6871952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4CE0-2AB5-4E09-8A1A-28CA2D6E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0D67-664D-43E0-B264-A579FD19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1D4C3-EB0C-43FC-8CCA-309142757AD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за меня в могиле бы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 суда меня освобод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я вам говор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радостная в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 за м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Себя грех мира возло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олг души греховной заплат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я вам говор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радостная в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ищ, но полагаюсь на Н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аб, но верю слову я 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дети Божии имею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я вам говор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радостная в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достоин, но сомненья н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приходящих ждёт Его при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я вам говор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радостная в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1:15Z</dcterms:modified>
  <cp:revision>12</cp:revision>
  <dc:subject>Slavic hymnal Гимны веры христиан, hymn 635</dc:subject>
  <dc:title>Спаситель за меня в могиле был</dc:title>
</cp:coreProperties>
</file>