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DBA-80B9-4784-8B64-7FEB0208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FBD-FAEE-4389-9DCE-1ABC92D6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422-6E4F-4B05-ABE2-FB76E2BA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9F9-F67D-4B2A-826D-2A3493DB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718-C0E7-4DA7-AF7B-A5DA059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6CC-A711-4BB9-9F84-BF8AC494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75C-EB8D-4058-9374-F9352A1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635-7C2B-4BE2-B282-5D0A171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F68-AD55-4073-AC85-BF75762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BD4-E8C0-4054-9671-FCF0A9B7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961-589D-44B3-8571-093C06A5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E0D-2411-40B2-B13E-49B7F25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A53C-BD9C-494F-A823-8C2BF78B9BD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be glor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church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glorified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0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My Life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2:35:03Z</dcterms:modified>
  <cp:revision>11</cp:revision>
  <dc:subject>The Source, song number 230</dc:subject>
  <dc:title>In My Life, Lord (Lord, Be Glorified)</dc:title>
</cp:coreProperties>
</file>