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3AA-38D7-4D6F-B62F-D7A470F8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57D-0B77-4C85-AD77-D919E84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B35-02C1-444A-B512-43A38585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55A-FAAF-4FDD-A3F0-A5503EE3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A08-BCFF-40B5-8068-9F6D4A2B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8EE-7123-418B-B069-87455CC2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390-C680-4587-8447-9A59D479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87A-220B-4989-83E7-F3216347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961-CAE6-4A99-8C5F-B364BA74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6EE-C3CA-4F92-8ED2-94185DE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3D5-C735-41C4-A3CF-680461C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EA0-63FD-4C37-BCF4-10C06E82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5CAD9-DF23-4483-8851-14C88424BC2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63   Jesus, Hope of the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hope of the na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comfort for all who mour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hop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ight in the dark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truth in each circumst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heaven’s light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history, You lived and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broke the chains, You rose to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hope, living in 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rock in whom we tr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light, shin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ld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rose from the de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nquering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ur Prince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rawing us n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our hope, living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 will recei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we beli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39Z</dcterms:modified>
  <cp:revision>12</cp:revision>
  <dc:subject>The Source 3, song number 1363</dc:subject>
  <dc:title>Jesus, Hope of the Nations (Hope of the Nations)</dc:title>
</cp:coreProperties>
</file>