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455-6DAE-4640-A7F9-845682E8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64D-1935-4ED1-853E-AD3A4954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9A7-D3EE-446E-AC5A-6A9D8C1B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F64-B749-460F-A9A4-DA8F3D8E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3C1-C40D-45CD-AAF2-2D28886E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A86-689C-4F0B-9FA8-929032C5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0D7-C5B8-48FA-8F65-4442B9C3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958-EEF6-47AF-8899-2C37AD85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C73-4F72-43B4-8988-F558F6EB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FCF-04F3-47D9-B2FA-E711679B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0D5-2128-4122-95F8-9C6F39D6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B22-A037-4C31-807C-AB90354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39A2F-6FD2-4B92-9737-FAED38A591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’s on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Jesus Christ he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His new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 and th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 — основа 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— основа Церк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ём стоит 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ессмертным 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озро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her sons and daugh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y the Master’s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through the deathly wa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pose in Eden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 их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, Господь, и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бно им,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He came and sought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is holy br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blood He bought 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 her life H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её взыск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изнь её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Свое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ятости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is from ev’ry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one o’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charte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ord, one faith, one bi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на по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ом скреп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м хлебом с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ем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holy name she bl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s one holy f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one hope she pres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’ry grace endu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вает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дином упов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терпя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a scornful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n see her sore op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chisms rent asu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resies dist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заема раздо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угнет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ностью пред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рамл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aints their watch are k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cry goes up, “How lo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the night of w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morn of s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лас святых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лкнет их моль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етлым ут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тся ночи т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Mid toil and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umult of her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its the con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eace forever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скорби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итвы со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аждет на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я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with the vision gl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longing eyes ar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reat Church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be the Church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идень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ят её г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ржество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упит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she on earth hath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od the Three in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stic sweet comm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whose rest is w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она в общ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тцом 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ком объ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идетел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9:40Z</dcterms:modified>
  <cp:revision>13</cp:revision>
  <dc:subject>Slavic hymnal Гимны веры христиан, hymn 866</dc:subject>
  <dc:title>The Church’s One Foundation / Христос — основа Церкви</dc:title>
</cp:coreProperties>
</file>