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27D1-246D-4203-B43B-606BD4B2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6031-4765-49DB-ABA2-6706AE76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E955-F935-45C5-9E89-A13F0C95F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C800-4E28-4A92-9909-AEAC0A507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C44E-3700-4A08-B16A-61743663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801B-91FD-4576-8EC0-D47FCAC2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CDB9-AA05-4668-ACA0-3F9CC1DA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C881-7F2D-4854-989D-60F205D2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AD94-20AB-42DE-B907-B7E8FFFE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FF96-29DE-4CC2-8C3E-275045FC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D433-1A95-4819-9D98-8294DB86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C2DE-A89D-4650-9050-B8D1014F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3C07A0-1EEC-4108-9AE8-C907C7F656C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, избитый в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ёл на Голгофу, нёс тяжкий кр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ь мученье и гнёт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ать спасенье для все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, мой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реве смерти пострадал за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итый кровью за нас винов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л с любовью в последн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Искупитель, избит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ости им, Отче!» — неслась моль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ровь ручьями из ран тек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ел от гнева всех защит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ын Божий мог так лю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, мой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реве смерти пострадал за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итый кровью за нас винов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л с любовью в последн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я должен любит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виновных Он жертвой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десь, и в небе Его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славить во век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, мой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реве смерти пострадал за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итый кровью за нас винов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л с любовью в последн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2:06Z</dcterms:modified>
  <cp:revision>12</cp:revision>
  <dc:subject>Slavic hymnal Гимны веры христиан, hymn 414</dc:subject>
  <dc:title>Мой Искупитель, избитый весь</dc:title>
</cp:coreProperties>
</file>