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C53-91EB-45FD-BA48-DE7FD205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05A-D80D-4819-B909-37F9CC4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93E-D5AD-486C-81F3-83369B98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F47-E2F7-494B-8ACA-D1F5F04B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35C-EE94-49A0-9A26-1A42EE3E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D57-14B5-4FE8-91AD-8E2CA11C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0AC-7EAF-4995-9FB8-3DFA27E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8F7-4730-45AE-BC87-58EA975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77F-FF06-46BC-B466-4B33A8DC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F40-7005-4450-9B89-0E0E04D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AB35-E1A9-43B5-8B7A-FC9A5AEC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BD2-CBF7-4A3F-8521-635ADD4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AC116-7462-4151-9269-B01028D269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clos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all down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ear You say that I’m Your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Draw Me Clos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will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eel the warmth of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fin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back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’ve ever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w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4T06:09:45Z</dcterms:modified>
  <cp:revision>11</cp:revision>
  <dc:subject>The Source 2, song number 674</dc:subject>
  <dc:title>Draw Me Close To You</dc:title>
</cp:coreProperties>
</file>