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5A7-738E-48D6-B98A-0C0A3F3C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12C-E6E3-450F-A8BB-91BCADAB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0D7-8F41-4E9A-8E07-ECA7EF76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9CF-816E-4586-A7AF-BD7D67E5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083-E26C-4A4F-B98A-0F53C3AD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DDE-221E-4AB6-BE2E-558676BB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FEE-E784-4D69-ADCB-71F99CD3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B8F-A76C-4100-82A9-0B54FADF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5A1-40A0-49A3-984F-4B1C9FD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EDA-C9EE-44B9-A3F9-B636C37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6A9-3702-494B-AF47-4CFBF95A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501-D496-4A64-9900-966B40FA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30596-B142-4C11-A054-9836719D8A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the music fad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s stripped awa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simply 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nging just to b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mething that’s of 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at will bless Your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смолкнет вс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огда смолкнет вс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тиши утонет зву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к Тебе 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ести хо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 сердца мо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жную хва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King of endless wo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No one could exp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ow much You de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ough I’m weak and po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ll I have is You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Every single br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рагоценный Цар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 выразить т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его достоин Т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еден я и сла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всё, что есть — Твоё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же просто вздо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ll bring You more than a so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a song in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s not what You hav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 search much deeper with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rough the way things appe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You’re looking into my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бе я песню по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 не просто, чтоб сп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едь Ты не этого жд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знаешь мысли мо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чего мне не скры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ы видишь сердце мо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coming back to the heart of wor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’m sorry, Lord, for the thing I’ve made 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When it’s all about You, all about You, Je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возвращаюсь сердцем в покло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клоненье Тебе, только Тебе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сти, что я допустил сомнен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 теперь для Тебя, всё для Тебя, Иис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6T20:47:59Z</dcterms:modified>
  <cp:revision>12</cp:revision>
  <dc:subject>The Source, song number 576 in Russian</dc:subject>
  <dc:title>Когда смолкнет всё / When the Music Fades (The Heart of Worship)</dc:title>
</cp:coreProperties>
</file>