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29DD-CDA8-476E-A6B5-37336390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7DB6-C6B7-40CF-A111-942A86DF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0FE-5379-49A1-8749-13A93B3C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164D-7E3C-472D-9829-CF4E8599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22EA-0F87-4F96-A7CE-9AC5861B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4A32-4ECA-4C4A-8338-9F63F21E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BA1-0462-40AA-BAB9-2BBF4AF6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F919-C7CD-4F53-9AEC-B58FBAB5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30FF-098E-43BC-82A7-CE45845E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CB22-F13D-4AEF-A184-FC4FABE6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FDBB-9927-4BE4-9C48-2D0B08E3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878C-2B9C-44E1-8B6F-6607FE1D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C520F-DEEF-4AEC-9D5B-10CC63632D5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a wonderfu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my life has been wrou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ave light in my sou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which long I have sou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7   Як чудесно змінило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чудесно змінилося моє ж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маю спокій, за котрим я ш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ave ceased from my wand’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going astr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y sins, which were man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all washed aw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ишив мандрівни і блукання мо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гріхи всі мої, змиті з моєї душ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possessed of a h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is steadfast and 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 dark clouds of dou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my pathway obsc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дію одержав тверду і пев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більше не маю вагань, ні страх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light in the val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death now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 gates of the City beyond I can s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долині смерті, є світло для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є певний, що Він є зі мною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go there to dwell in that City, I kn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’m happy, so happy, as onward I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небесний дім йду, де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де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я вбачу Ісуса лицем у ли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1:36Z</dcterms:modified>
  <cp:revision>13</cp:revision>
  <dc:subject>Slavic hymnal Гимны веры христиан, Ukrainian hymn 37</dc:subject>
  <dc:title>Since Jesus Came Into My Heart / Як чудесно змінилося моє життя</dc:title>
</cp:coreProperties>
</file>