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96D-DC93-44EB-B581-7EA9FFD9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8C6-0606-459A-8ED5-70057F54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03E-D83C-4BCD-9EFE-D7192A19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D89-2F0C-42D5-AEDD-20F6FA47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B5C-F519-4ACD-9519-544366E3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139-D009-4C69-BCDB-D0C30C3F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CD4-A48B-4D58-A2D5-245F4E45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1B7-7416-4290-9EDC-3D161C45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348-3452-4945-9791-433AF002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47A-4556-4B38-B180-7DF00EF4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2747-F270-450E-B736-DE1830F2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A66-4202-447B-AE38-D4AB86BD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1463B-0D0D-4AB9-AB42-0C735FE897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n of faith, rise up and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great and gloriou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trong when you feel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brokennes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north and the so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to the east and th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Saviour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5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en of Fa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se up, women of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nd and sing to broken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know the healing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awesome King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north and the so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to the east and th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Saviour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been through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been through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been r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’r of Hi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fallen deeper in love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burned the truth on our l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north and the so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to the east and th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Saviour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se up, church with broken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this place with songs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God who reigns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His grace again we’ll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t to the north and the so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to the east and the w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Saviour to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eaven and earth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3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4:32Z</dcterms:modified>
  <cp:revision>10</cp:revision>
  <dc:subject>The Source, song number 354</dc:subject>
  <dc:title>Men of Faith (Shout to the North)</dc:title>
</cp:coreProperties>
</file>