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B6D2-4913-4D70-9F50-01696F11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6C7-9D1B-48A5-9ACB-0967B11A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0BA-2E88-4B6D-A3A4-9176C288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205-D095-472A-88F8-6625D3C7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A1D-4341-47B5-920B-49B8F1AE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F483-BCDD-4689-897D-4C1D0E81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3D1-5A5D-4588-AD7C-FE341D0E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8E3-FE34-4E6D-9FA6-BE1F94AB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93B-2130-4E6A-AD7F-22DEA64F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8476-6671-42B7-8CA6-E144903E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E2D-6818-4736-A5CF-B3AB7444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162-8D2D-4816-84F5-608AB59E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F2F1A-112A-411E-9EF9-5862E71F74C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so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ake Him at His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rest upon His prom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know “Thus saith the L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4   Любо вірити в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 вірити в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святі Його сло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душею підношу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то в самі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rust His cleansing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in simple faith to plung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healing, cleansing f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діюсь на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Його святу люб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Йому служу й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олив за мене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’tis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sin and self to c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Jesus simply t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and rest and joy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риємно знати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пробувати в 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кріплятись Його Сл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ходити завжди з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so glad I learned to trust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Jesus, Saviour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that Thou art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t be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ходжу собі рад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голгофському хре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я можу виправд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вершитись у Хри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8:25Z</dcterms:modified>
  <cp:revision>13</cp:revision>
  <dc:subject>Slavic hymnal Гимны веры христиан, Ukrainian hymn 24</dc:subject>
  <dc:title>’Tis So Sweet to Trust in Jesus / Любо вірити в Ісуса</dc:title>
</cp:coreProperties>
</file>