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0EB9-F5CB-4830-AF7D-C9363D82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3B6C-5EDE-4989-9EF8-163581AB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48C-CFDB-4C67-851A-02C0D187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21EE-E09E-4ACB-A3B5-EF855BE1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75F-49ED-4D28-BE89-B95E96B1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3625-4EF4-4744-A25A-12BA5162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65D5-ADF3-4090-ACF9-AD950E25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2045-673C-4556-8035-00B0F72B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A81E-BF04-4C20-AB16-C1C1FD5A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788-5CAD-400B-BFF0-CFF80042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D220-FF01-4E1B-8405-2F432189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B1D-7836-4130-B954-D26A9346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E468B-7BDA-46D1-8891-4D9827067F1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единственный был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шный день изо всех в мире 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ог умирал за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есь мир, погибавший во з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ог умирал за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есь мир, погибавший во з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о единственный бы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ду небом и грешной земл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, как преступник вис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томимый смертельной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 скорбным взором гля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томимый смертельной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ам скорбным взором гля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рела вся внутренность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терпимым, палящим огнё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Жажду…» вырвался вздох, но вра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уксус Ему подне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Жажду…» вырвался вздох, но вра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уксус Ему подне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овершилось!» воскликнул Иисус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Его возвратился к Отц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м открылся… Земля потрясла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 и ужас напал на толп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м открылся… Земля потрясла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 и ужас напал на толп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помнить, что мы — это пл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ой жертвы Иисус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 в Нём всякий грешник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ье и жизн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 в Нём всякий грешник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ье и жизн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10:41Z</dcterms:modified>
  <cp:revision>12</cp:revision>
  <dc:subject>Slavic hymnal Гимны веры христиан, hymn 283</dc:subject>
  <dc:title>То единственный был на земле</dc:title>
</cp:coreProperties>
</file>