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221-3422-4A72-9624-37EB62BA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788-2F6B-4DFE-997B-42474843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254-D22A-4CD0-9DFC-5EF6B9DE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FB7-3424-4AD9-8FA7-A7BF5992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93A-A00D-49FB-A16B-0C7F067C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805-D223-4277-9ADE-69C63741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E07-AFD5-4BB0-8AE1-DDEF2FD5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B26-FE88-41E0-AFFC-EAA4640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633-3D0D-4323-A716-183DEFA4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1F95-E842-46FB-A826-F4F6AE7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222-FA49-45AB-87CD-0AF9F002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D16-EB2F-4EB1-8D9F-D0F09A5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C1E07-8693-45FE-B7A5-7E0C871613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Jesus will rece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this word of grace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heavenly pathway le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linger, all who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nd He will give you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m, for His Word is pl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the sinfu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 condemns me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before the law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cleansed me from all sp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isfied its last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me with all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ged from every spot and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th Him I enter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o’er and over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the message clear and 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receiveth sinful 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6Z</dcterms:modified>
  <cp:revision>13</cp:revision>
  <dc:subject>Slavic hymnal Гимны веры христиан, hymn 339</dc:subject>
  <dc:title>Christ Reciveth Sinful Men / Грешных всех Христос зовёт</dc:title>
</cp:coreProperties>
</file>