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0F4-C61B-4C9F-83A0-D779B6AC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C62-5DD1-411A-B20B-FCF5106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32A-2F39-4AE4-BE12-AF9011CA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688-2114-4C74-8C8B-67602DDD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D17-56FE-42D0-8BD8-1314C71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774-2095-423F-8E8C-DC1A3D8E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935-28C8-4240-A03F-048FF60B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5A6-DFFB-4E1C-A825-468FEAD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F89-7EFF-4639-B5FE-185388D9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DED-BE0C-4ED7-93E0-7AD18ED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A74-4E1A-49C2-BB33-45B2575B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257-806E-4D52-8C15-04DF2CE6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9DE7B-5836-4668-923B-B6E80DC92D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10Z</dcterms:modified>
  <cp:revision>13</cp:revision>
  <dc:subject>Slavic hymnal Гимны веры христиан, hymn 430</dc:subject>
  <dc:title>Начальник жизни, Пастырь мой</dc:title>
</cp:coreProperties>
</file>