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68</a:t>
            </a:r>
            <a:r>
              <a:rPr b="1" lang="ru-RU" sz="3600" spc="-1" strike="noStrike">
                <a:solidFill>
                  <a:srgbClr val="ffffff"/>
                </a:solidFill>
                <a:latin typeface="Verdana"/>
              </a:rPr>
              <a:t>	</a:t>
            </a:r>
            <a:r>
              <a:rPr b="1" lang="ru-RU" sz="3600" spc="-1" strike="noStrike">
                <a:solidFill>
                  <a:srgbClr val="ffffff"/>
                </a:solidFill>
                <a:latin typeface="Verdana"/>
              </a:rPr>
              <a:t>Горько плакал Великий</a:t>
            </a:r>
            <a:endParaRPr b="0" lang="en-US" sz="3600" spc="-1" strike="noStrike">
              <a:solidFill>
                <a:srgbClr val="000000"/>
              </a:solidFill>
              <a:latin typeface="Verdana"/>
            </a:endParaRPr>
          </a:p>
        </p:txBody>
      </p:sp>
      <p:sp>
        <p:nvSpPr>
          <p:cNvPr id="39" name=""/>
          <p:cNvSpPr/>
          <p:nvPr/>
        </p:nvSpPr>
        <p:spPr>
          <a:xfrm>
            <a:off x="36036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рько плакал Велик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гучий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ёзы горя на землю рон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ьный воин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тыдился Он слё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ессильно главу Он склонял.</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чему же Ты плаче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Царь и наш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и храмы Твои не блест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ь разрушен тепе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лазурный черт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ь страданья Тебя тяготя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Я плачу о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лью Свои слёзы и кр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Я вижу, что вам не понятна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неё вы распнёте Мен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 смотрю вдаль ве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а братьев люд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жу землю… Как страждет там вс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плачу о т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о жертве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забудут, не примут её.</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Я плачу о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лью Свои слёзы и кр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Я вижу, что вам не понятна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неё вы распнёте Меня!</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36036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О, за вас Я мол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ертву крови М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рошу вас навеки при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ю грех свой ом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а Мною ско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царство славы Отца поспешить!</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Я плачу о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лью Свои слёзы и кр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Я вижу, что вам не понятна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неё вы распнёте Меня!</a:t>
            </a:r>
            <a:endParaRPr b="0" lang="en-US" sz="3200" spc="-1" strike="noStrike">
              <a:solidFill>
                <a:srgbClr val="000000"/>
              </a:solidFill>
              <a:latin typeface="Verdana"/>
            </a:endParaRPr>
          </a:p>
        </p:txBody>
      </p:sp>
      <p:sp>
        <p:nvSpPr>
          <p:cNvPr id="46"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9:41:59Z</dcterms:modified>
  <cp:revision>3</cp:revision>
  <dc:subject>Slavic hymnal Гимны веры христиан, hymn 268</dc:subject>
  <dc:title>Горько плакал Великий, могучий Христос</dc:title>
</cp:coreProperties>
</file>