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F95-AAFE-44D0-971B-909B4EEA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37E-6760-4902-8AE0-C0D78264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460A-2C30-4695-BF2D-46CAF545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CE7F-6703-43C3-8851-03FC0DDD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7EF-3687-470D-8C35-FA415D7C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233-424D-480C-BC7F-8519CBF5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3D7E-2FB0-43D6-ACE8-DD2DA9BC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2BC-143A-4502-AC80-B0CD5E6D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4AAF-B5F6-4990-B88A-89F40A26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E2FF-CF88-483C-88EF-68ADB679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1934-D4E8-40E6-BEBD-030548EA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17EE-1658-476D-B22D-C57FC95E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85B04-2412-44B0-8E47-604C71A5B7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знал ли благодати полн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ешься ли ты во всём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познал ли благод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 ли идёшь Его пут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ываешь ли в общеньи со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янья светлые хранишь л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лённые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товлен ли ты жить среди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ложи всё, что запятнано гре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ым будь кровь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источник для живущих в мире 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17:24Z</dcterms:modified>
  <cp:revision>13</cp:revision>
  <dc:subject>Slavic hymnal Гимны веры христиан, hymn 428</dc:subject>
  <dc:title>Ты познал ли благодати полноту</dc:title>
</cp:coreProperties>
</file>