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55EE-DD83-496E-B638-D109B1BB2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9827-A67E-49A9-84A4-983A6B14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B250-1AFB-4663-8708-730B9A0EE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9E03-9187-4804-884B-294435507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4256-7C24-4BE3-A1D1-A20FE182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4EA4-6A2D-4252-9043-28675566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C09C-11E5-4334-A39A-C9BB8E17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BFED-4746-48A1-BD01-20095919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4FBE-1181-414A-847B-28E91769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CD40-D7CD-4F70-8C4E-8F50FD13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5893-9343-46EC-BDDA-E86F1559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8BE0-98C3-4EDD-8C11-697779BE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9B7A06-A599-4A8B-AB91-245D75863F6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all the world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life, my joy, my 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my strength from day to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out Him I would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7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исус мне боль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не больше, чем весь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радость, жизнь мо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 меня Он не держ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стоял бы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am sad, to Him I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other one can cheer me s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am sad, He makes me gl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my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яжёлый час отец и м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гут нас так утеш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ю печаль прогонит вда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мо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all the world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Friend in trials s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o to Him for blessings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gives them o’er and o’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не больше, чем весь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вечная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словений дивных ря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мне вновь и вн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sends the sunshine and the r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sends the harvest’s golden gr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nshine and rain, harvest of gr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my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а сень, и тёплый м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сный день, и урож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ёплый май, и урож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мо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all the world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rue to Him I’ll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could I this Friend de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e’s so true to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не больше, чем весь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 Ним счастлив впол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 ль отречься от Н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н верен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llowing Him I know I’m r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atches o’er me day and n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llowing Him, by day and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my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илен я — спешит помоч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 меня и день, и но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ень, и ночь готов помоч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мо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all the world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no better fri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trust Him now, I’ll trust Him 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e’s fleeting days shall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не больше, чем весь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горя не бо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у я верою в Н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родине стрем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utiful life with such a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utiful life that has no 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ternal life, eternal jo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my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красно жить с Христом жив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юбить, быть вечно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юбовь на век ве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мо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4:51Z</dcterms:modified>
  <cp:revision>13</cp:revision>
  <dc:subject>Slavic hymnal Гимны веры христиан, hymn 470</dc:subject>
  <dc:title>Jesus Is All the World to Me / Иисус мне больше, чем весь мир</dc:title>
</cp:coreProperties>
</file>