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273-A277-4420-9475-6A330639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2F8-425F-451E-BC08-42907B77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6B4-8AE9-4E3A-A803-2B9B935B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45E-83DF-499D-B3D9-CD426DC2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3EB-5227-4AF8-A9DE-7E014B82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056-8BC8-4137-8117-F00638A6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807-C47C-4890-9454-EA178CF0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AAF-56A7-464B-93DB-68A7AA3B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C602-D173-450C-9AF1-4B14E054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324-877E-4B63-BB94-E4707BAD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762-9593-4732-8DAB-41FAABE3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44A-2990-4616-8F13-E78D15AD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7B781-8BE0-4271-8524-D25FC678B53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ре на серце нал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душу смуток дуже зв’я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6  Коли горе на серце наля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льози твій спокій звору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тайні гріхи душу м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чиш, що біда над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голод або смерть прих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світі пропасти не люби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в царстві Божім хочеш б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 про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кажи Ісусу, скажи Ісусу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друг, який знає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ма брата, ліпшого в цім сві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ш Спаситель Христ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7:20Z</dcterms:modified>
  <cp:revision>14</cp:revision>
  <dc:subject>Slavic hymnal Гимны веры христиан, Ukrainian hymn 6</dc:subject>
  <dc:title>Коли горе на серце наляже</dc:title>
</cp:coreProperties>
</file>