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8E3-79BF-4A66-AC5F-738323C2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9EA-9A63-427F-8D38-958D774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A8D-A5E1-4489-AC45-EED1335C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CA8-DDBB-451D-9AAB-03B41D94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97C-8BC7-4DF0-AA14-C3AF0894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2C1-BDCC-4785-BBC1-DDB5E17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4E8C-F978-49F1-AEC5-2CFCB83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2B2-BD2C-41EC-81AA-EE7CB4E0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290-67E2-455B-8314-39262E93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785-2698-493D-950A-DB7D5A11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FF6-0A7B-44A5-8405-F8CA92F7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A16-A197-4E05-B11A-ABF02A12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0B3F4-2AC1-4F20-A6EC-48188F79CA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my labours and trials are o’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am safe on that beautiful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near the dear Lord I 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окончится труд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тся труд мой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Спаситель на небе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всегда буду с Ним пре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e gift of His infinite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accorded in heaven a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be there and to look on His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даровано в доме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еспредельной любов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Его у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will be there I have loved long a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like a river around me will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, just a smile from my Saviour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through the ages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огих встречу любимых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о свиданье вдали от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ть Христа будем все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о славу Его созерц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will be glory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for me, glory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His grace I shall look on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be glory, be glor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на лик Его дивный гляд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даст Он мне узр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5:03Z</dcterms:modified>
  <cp:revision>12</cp:revision>
  <dc:subject>Slavic hymnal Гимны веры христиан, hymn 870</dc:subject>
  <dc:title>O That Will Be Glory / Когда окончится труд мой земной</dc:title>
</cp:coreProperties>
</file>