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F18-7D67-401E-AB55-576A8E61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2680-50F6-48C5-8287-22C3C929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7F2-7D9D-43DC-A5E3-0F2F09F8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9AE-CF08-4B6E-8A82-C875B34A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A92-A46A-4444-8261-E10859E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C65-689F-49D0-9F0B-6C346066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27D-FA9A-4CDD-887E-344C1F62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FF0-9B54-4363-9B88-49A97754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CED6-D6ED-41E7-86A5-3523032A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1A2-608F-4C7C-890F-2C55E83F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39B-2141-440C-A28E-77DCD867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20C-7511-4CAF-BE56-CFA7D90F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423D-E607-4039-8157-5D6E48C945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ble, He’s 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s 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Lord is able to carr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5   Він може, Він м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ealed the broken-he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et the captiv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 lame to walk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used the blin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ворих із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ртвім життя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іпим дає Він зр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ивії ходять в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ble, He’s 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s 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Lord is able to carry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26Z</dcterms:modified>
  <cp:revision>12</cp:revision>
  <dc:subject>Slavic hymnal Гимны веры христиан, Ukrainian hymn 105</dc:subject>
  <dc:title>He’s Able / Він може, Він може</dc:title>
</cp:coreProperties>
</file>