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B94-5C10-49FB-8BE9-44003727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64B-2B75-47E1-873D-7748CB5E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D6D-21DF-4BDF-B542-D1C2B709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276-B7A9-4EBA-8603-FB73CDDB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F47-8C58-435D-94C2-E07434E1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364-9813-4C44-A97A-6BE01A88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C94-F0C2-4372-BDF3-9C300C01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40D-227F-4C91-A101-A3428E0E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B55-082B-4302-8A7F-E59F917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BCA-D3D7-44C3-8D39-13E3013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6EF-CB3B-458E-B4C0-F3AD4C0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F92-63E6-42B4-8556-3064B1FF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8061-DFCB-4F18-A7EB-02A7B80C4B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ед Ним нас собе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ь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истальных вод (чистых вод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брачную вече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численный бессмер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день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 Господний Анг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ремени уж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хищен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лаках (в облак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нас Творец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ёт Свой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счастливы мы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тайно и сокры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явно и от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ом (пред суд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 праведным: «Вой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Бога сво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е мы блаж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 звуках гуслей строй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 небесных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победы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м (вознесё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Агнца, Мои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нмом праведны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, неведомую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, какая встреча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ам народ пребуд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 возвестит гл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нам (трубный гла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ая встре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Там мы встретим наших близ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райских рощ тенистых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лучны будем мы навеки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18Z</dcterms:modified>
  <cp:revision>12</cp:revision>
  <dc:subject>Slavic hymnal Гимны веры христиан, hymn 679</dc:subject>
  <dc:title>В день, когда труба Господня</dc:title>
</cp:coreProperties>
</file>