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85C-6CF1-4DE2-A52A-3A80A051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F17-09ED-4BB4-8C19-CF7CDA78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6AB-DCD7-4819-ABD9-8A75ABB1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665-619B-4506-BA30-9C05D154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889-D81C-44F8-90B5-BC4A9AB3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106-6674-4B23-B009-E83AA528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C53-2477-464D-B00D-1416096E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3DB-7399-4595-A112-2ECC72CD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0FE-1E08-43A5-8FE8-1C696870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279-D95F-4EB0-99AC-B56403B2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13C-262C-407B-BBBB-97F06340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A50-E391-4C7B-8331-097D6C0A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75DEB-7818-4A97-BAEB-6042FC2053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ога більшого, як н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, н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ога більшого, як н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, н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такого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велики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такого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велики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5   Нема Бога більш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нашою силою, не нашою мудріст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тільки Духом Свя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нашою силою, не нашою мудріст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тільки Духом Свя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всі горе пере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всі горе пере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всі горе пере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илою Духом Свя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1:38Z</dcterms:modified>
  <cp:revision>13</cp:revision>
  <dc:subject>Slavic hymnal Гимны веры христиан, Ukrainian hymn 95</dc:subject>
  <dc:title>Нема Бога більшого, як наш</dc:title>
</cp:coreProperties>
</file>