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1107-C2E7-40B4-A916-05C939BD8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4B4F-86B6-499D-BAED-6D76F1333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F5E2-B2AD-4792-B557-DE56AB745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AC11-72AA-4DDE-B6F0-05CD9946A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7F1C-7E51-4085-AC35-54870B600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2239-CCC2-4569-8E0E-B06A44293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003F-CEB9-43E2-B7F4-A6165D6CF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2B26-88A4-4BE5-87F8-C6996BE09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C3D3-0EA7-44EF-9FA0-271C4C651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83FF-4B50-4C49-8C71-116FB5B8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C4FB-FE43-4F84-9DCC-44945DDB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BF9D-4A73-4E3C-BE69-0D18BED9D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1BAFB3-4839-4C8D-8688-277C4EB3521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 Иисус воскресш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иявший торжеств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оть людей к Отцу вознесш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ославленный Отц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частливее Мар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огу припасть к Т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обзать персты свят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истой радостной моль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9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, Господь Иисус воскресш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оскрес! Ты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вечная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ми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оскрес и цепи тл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ой вечною разб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лной землетряс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звал мёртвых из моги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оскрес и к жизни но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мой грешный воскрес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источник благ готов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души моей откры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оскрес! Ты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вечная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ми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ещё лежат пел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Твоём рабе, Госпо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кани мёртвого зак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легают дух и пло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явися, Всемогущ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ними следы мог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без связи, дух гнетущ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Твоей свободе ж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оскрес! Ты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вечная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ми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, чтоб всё светлей сия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кресения за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мой дух приготовля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встрече Вышнего Цар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бессмертьем в смертном те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Тебе подобен ст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вои святые ц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е осуществля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оскрес! Ты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вечная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ми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6T23:20:06Z</dcterms:modified>
  <cp:revision>13</cp:revision>
  <dc:subject>Slavic hymnal Гимны веры христиан, hymn 293</dc:subject>
  <dc:title>О, Господь Иисус воскресший</dc:title>
</cp:coreProperties>
</file>