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5A3-1ED9-4F5F-AF61-829444BC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469C-F3A7-4592-AA4C-9CEF2774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0F01-1403-435D-BD0E-1AD4690B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68F-01FE-41E9-8E09-15119526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FEDD-3ECB-4E24-BACC-58653317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198-7546-42DC-8299-C6B9C7A3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32F1-144B-4FFC-A8EF-F0FC5F39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372-472A-4B7C-8415-FC61AE32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8CFE-E76C-413D-9D5C-DE68EFE6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AEA1-66D2-49BD-9312-741723CC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CB01-B751-4274-8418-2361AF0B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242-1374-4CBB-8D33-923EBE83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BCD2B-3985-4E94-A506-7F2655BF3E4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Son, man’s Messi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hangs on the t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зойдём на Голгоф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сланный Богом Мессия расп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finished! My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mit I to Thee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ied that from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might ever be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вершилось: Я дух Мой Тебе преда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Он пожертвовал душу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Jesus Chr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bears sin’s penal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м, как нашей греховности 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ied for mank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ankind not be lo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 He buy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what infinite co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даниях горьких Христа истом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о Он нам спасенье куп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Word He proclai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led the sick and the l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d raised to lif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imself now is s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авде святой проповедыва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ных исцелял, а теперь Он казн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, how He s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cruel agon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раждет и жаром ланиты горя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ater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soul that belie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cries out, “I thirst!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negar He recei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аждет и уксус Тому под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ьи воды живые для мира 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give them! They know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y do to 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ости им, не знают, что худо творя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’s haste, you and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ur names may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ose be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raised up His pray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т. Взойдём же, дабы и за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а Христова к Отцу вознес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voice onc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 to heav’n raise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снова Он к небу подъемлет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Father, why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forsaken by The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brother, that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ght receive you and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before Him b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ец Мой! Зачем Ты оставил Мен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 мой! Чтоб принять тебя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пе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let’s ascend Mount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se words of our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be heard by you and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м на Голгофу, мой б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а Святого слова там звуч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14:58Z</dcterms:modified>
  <cp:revision>15</cp:revision>
  <dc:subject>Slavic hymnal Гимны веры христиан, hymn 724</dc:subject>
  <dc:title>Come, Let’s Ascend Mount Calvary / Взойдём на Голгофу, мой брат</dc:title>
</cp:coreProperties>
</file>