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CAF-3A5D-48EE-A46E-AD934CFE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02C-BC24-4A2F-896F-060966B5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3E8-CCDA-4D07-8AD1-A60B9FE4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055-7BB7-4B2D-B5A9-D5E2B512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E5D-273F-43FE-A192-A038EB04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71C-E441-4B5E-95DA-E690B646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382-DB6D-4464-9B05-2074D2EA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515-2419-4355-B3CE-EAC6C526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E6E-38F3-4C6C-AF7D-3EA0BDB1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B53-9C88-455E-BA2C-423E7EAE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BAE-5F07-4E40-851C-29C6D83E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EF7-7AD3-46F8-BACF-5241B41F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C0A0F-C301-4BA8-AD88-17333A745C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усталый, о чём ты горю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твоё отравляет печ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унылы, как поздняя ос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холодно и твёрдо, как ст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 и бед испытал ты нем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растратил в житейск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желанной любви не встреч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ожь и обман надоели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 мой уста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с тобою дружить не хоте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как цветочек, расцветший в те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оем дохнуло — краса облет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счастливые, светлые д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усталый, учися всеч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творить в этом мире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доверься, живи для несчастных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твоём не погаснет з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5:19Z</dcterms:modified>
  <cp:revision>12</cp:revision>
  <dc:subject>Slavic hymnal Гимны веры христиан, hymn 703</dc:subject>
  <dc:title>Брат мой усталый</dc:title>
</cp:coreProperties>
</file>