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DE1-6B05-47ED-B6D3-BCD58526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D41-98D5-4EE8-8F36-22859997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80A-58E5-46CE-ADC6-575FB87E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D97-63F0-46B4-9F90-C1EF9302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4C5-3897-45FE-8356-E18B7E3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8C0-CF4D-42D6-85EF-F33884D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0EF-AE6F-4B84-8372-8281180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EF2-09B6-4655-AF71-145B6F60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8A2-96FF-4FBA-9462-EE8E7D35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3A5-2B38-4D1E-AADB-8C2E5385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D9E-9091-4C44-BE87-5B32857F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BFC-7E2A-4FBD-82CD-4FD0E23A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D04EB-6118-4985-9E54-7C7F638C60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ведь я призван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рьбе с своей плотью и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ражде ко всему, что грехо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в любви со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жаться со всяким ку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глядя на робки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м быть перед ми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а не боятьс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руду ведь я призв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не любовью мирс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же любовь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, не щадя Свое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Себя муке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оин небесного 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авы не надо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лёзы, печаль, посрамле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венец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ведь я призван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рьбе с своей плотью и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ражде ко всему, что грехо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в любви со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2:58Z</dcterms:modified>
  <cp:revision>12</cp:revision>
  <dc:subject>Slavic hymnal Гимны веры христиан, hymn 452</dc:subject>
  <dc:title>К труду ведь я призван на землю</dc:title>
</cp:coreProperties>
</file>