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5B2-29D1-46F3-BD3B-3178D6FD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A79-52B2-4E68-9F60-55ED6C0A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703-ABF0-45E0-AC70-9F8C62DB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388-D2A9-46C2-898A-A551978E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978-FE0C-4F38-8823-4144D0CE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6DE2-E756-4877-A4F6-08B6E848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DAE-6382-41FE-8186-03D3E417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64B-7D61-426C-93EC-8D12F23A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672-DBF9-4316-8144-25BC20F6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3A2-748B-4458-98F0-09030C79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8E0-EB89-4C30-9F6A-73211AFD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F11-9F6A-4E43-93A2-1495BB8E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ABE36-760F-4253-A7D5-AB42307B7C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ты для Господа сердце откроеш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ты с молитвой падёшь перед Ни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ставишь неверье, наклонности зл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мир этот грешный не будешь люби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есть время, об этом подума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завтра не знаешь ― день будет ли т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открой своё сердце Иисус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медли, подумай, сегодня реша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ты для Госп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жизнь без Христа есть не жизн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страдань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борьбе непосильной ты весь изнемо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горе и слёзы и все испытанья 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ё видит и знает Один только Бо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есть время, об этом подума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завтра не знаешь ― день будет ли т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открой своё сердце Иисус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медли, подумай, сегодня реша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бавишься вскоре от всех испытани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от угнетающей душу борьбы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примиришься ты с Господом Бог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ердце омоешь в Христовой кров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есть время, об этом подума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завтра не знаешь ― день будет ли т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егодня открой своё сердце Иисус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медли, подумай, сегодня реша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7:07Z</dcterms:modified>
  <cp:revision>13</cp:revision>
  <dc:subject>Slavic hymnal Гимны веры христиан, hymn 411</dc:subject>
  <dc:title>Когда ты для Господа сердце откроешь?</dc:title>
</cp:coreProperties>
</file>