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69</a:t>
            </a:r>
            <a:r>
              <a:rPr b="1" lang="ru-RU" sz="3600" spc="-1" strike="noStrike">
                <a:solidFill>
                  <a:srgbClr val="ffffff"/>
                </a:solidFill>
                <a:latin typeface="Verdana"/>
              </a:rPr>
              <a:t>	</a:t>
            </a:r>
            <a:r>
              <a:rPr b="1" lang="ru-RU" sz="3600" spc="-1" strike="noStrike">
                <a:solidFill>
                  <a:srgbClr val="ffffff"/>
                </a:solidFill>
                <a:latin typeface="Verdana"/>
              </a:rPr>
              <a:t>Да, на холме Голгофы Он</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On Calvary’s brow my Saviour di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was there my Lord was crucifi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was on the cross He bled for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purchased there my pardon fre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Да, на холме Голгофы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на крест был возне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кровь Он лил средь мук в ог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ам купил спасенье мн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Calvary! dark Calva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re Jesus shed His blood for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Calvary! blest Calva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was there my Saviour died for me.</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лгофский крест! Голгофский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кровь Иисус лил за меня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лгофский крест! Голгофский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нём Он умер за мен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Mid rending rocks and darkening ski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Saviour bows His head and di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opening veil reveals the 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life divine and endless day.</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редь грома туч и взрывов ск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лонив главу, Он умир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рвалась ткань и нет прегра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бессмертный день и мир отрад.</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Calvary! dark Calva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re Jesus shed His blood for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Calvary! blest Calva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was there my Saviour died for me.</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лгофский крест! Голгофский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кровь Иисус лил за меня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лгофский крест! Голгофский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нём Он умер за меня.</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O Jesus, Lord, how can it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Thou shouldst give Thy life for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bear the cross and agon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that dread hour on Calvary!</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Господь! Ужель правдив расска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за меня Ты жизнь от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нёс Свой крест и так стра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от смертный час, Голгофский час?</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Calvary! dark Calva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re Jesus shed His blood for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 Calvary! blest Calva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was there my Saviour died for m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лгофский крест! Голгофский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кровь Иисус лил за меня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лгофский крест! Голгофский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нём Он умер за меня.</a:t>
            </a:r>
            <a:endParaRPr b="0" lang="en-US" sz="32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09:38:50Z</dcterms:modified>
  <cp:revision>3</cp:revision>
  <dc:subject>Slavic hymnal Гимны веры христиан, hymn 269</dc:subject>
  <dc:title>On Calvary’s Brow, My Saviour Died / Да, на холме Голгофы Он</dc:title>
</cp:coreProperties>
</file>