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7AA-0F1F-4333-ACBE-AD6D635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D2E-8AC1-4656-971F-EA3DB11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260-2E75-4135-819E-989C8403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DC8-45DA-4457-9E3C-AB6893E5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ACE-8812-49CE-9127-EBE53758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63B-4CB1-431C-A8A9-826B8763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E38-C32C-46E7-8740-384A0754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195-2EEA-4A23-92C5-34D64045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9F4-18DB-4CD4-A23B-1E9BA879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495-9B75-4ACE-BD70-AE1A037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AAF-3C5F-4319-9F5B-7767BE17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87C-9BBE-4BA9-AE09-39AB35A4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E406E-8E54-4ED1-AADD-B8F14CB9B84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6   Who Is There Like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is ther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else would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ir life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suffering in my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ho could repay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of creation look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provid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’m lifting up my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my vo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up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Your grace I 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love has come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m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m trusting in Your W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cro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usting in Your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Your faith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pow’r at work i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changing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3-13T19:34:25Z</dcterms:modified>
  <cp:revision>12</cp:revision>
  <dc:subject>The Source 3, song number 1626</dc:subject>
  <dc:title>Who Is There Like You?</dc:title>
</cp:coreProperties>
</file>