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204</a:t>
            </a:r>
            <a:r>
              <a:rPr b="1" lang="ru-RU" sz="3600" spc="-1" strike="noStrike">
                <a:solidFill>
                  <a:srgbClr val="ffffff"/>
                </a:solidFill>
                <a:latin typeface="Verdana"/>
              </a:rPr>
              <a:t>	</a:t>
            </a:r>
            <a:r>
              <a:rPr b="1" lang="ru-RU" sz="3600" spc="-1" strike="noStrike">
                <a:solidFill>
                  <a:srgbClr val="ffffff"/>
                </a:solidFill>
                <a:latin typeface="Verdana"/>
              </a:rPr>
              <a:t>Страх ли душу угнетает</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Страх ли душу угнета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Господь, держ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ль сомненья глас смуща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меня держ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 руку держи (держ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 руку держи (держ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Спаситель всемогущи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ам всегда держи.</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Если близко искуш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Господь, держ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мне верить в избавл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меня держ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 руку держи (держ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 руку держи (держ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Спаситель всемогущи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ам всегда держи.</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В светлый час иль час ненаст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Господь, держ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реди скорби или счаст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меня держ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 руку держи (держ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 руку держи (держ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Спаситель всемогущи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ам всегда держи.</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Мрак ли путь мой затемня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Господь, держ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вет Твой тьму пусть озаря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меня держ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 руку держи (держ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 руку держи (держ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Спаситель всемогущи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ам всегда держи.</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О, веди рукой пронзён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небу Ты мен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ам душою обновлён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схвалю Теб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 руку держи (держ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 руку держи (держ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Спаситель всемогущи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ам всегда держи.</a:t>
            </a:r>
            <a:endParaRPr b="0" lang="en-US" sz="3200" spc="-1" strike="noStrike">
              <a:solidFill>
                <a:srgbClr val="000000"/>
              </a:solidFill>
              <a:latin typeface="Verdana"/>
            </a:endParaRPr>
          </a:p>
        </p:txBody>
      </p:sp>
      <p:sp>
        <p:nvSpPr>
          <p:cNvPr id="44"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28T20:52:47Z</dcterms:modified>
  <cp:revision>3</cp:revision>
  <dc:subject>Slavic hymnal Гимны веры христиан, hymn 204</dc:subject>
  <dc:title>Страх ли душу угнетает</dc:title>
</cp:coreProperties>
</file>