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7E3E-E93B-435C-8EB8-BBA75F3C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675-706C-4666-9788-E90CEFF0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A0F-5973-446F-BE4B-A4CED792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34A-30A4-456A-ADDD-332A0F42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313-72E4-463B-A5AC-322101A0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160-E6F4-4EE2-BB42-9D56AB47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692-77D7-450B-8F4E-93E69B77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F48-5C4F-46B6-A786-90FAFAD7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96D-7D3D-4742-9E7D-0C0B7EB0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809-63B6-482F-9D53-6A4966BA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5A1-81BF-4205-AEB4-07B6E415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C18-DF53-4453-AB38-7487B15E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07B12-6BC2-4B7D-8CF6-D32E323D33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glorious and b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 glows in any earthly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 is m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луч в душе м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луч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й он всех лу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ят ярко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луч —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music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carol to my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Jesus, listening, can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ongs I canno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гимн в душе мо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песню слышит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петь не 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pringtime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when the Lord is 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ove of peace sings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low’rs of grace 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а царит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изок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лубь мира в клеть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любви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gladness in my soul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ope and praise and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blessings which He gives me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oys “laid up”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радости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Ему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лага, что Он мне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частье лучш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there’s sunshine, blessed sun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peaceful happy moments ro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shows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sunshine in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6Z</dcterms:modified>
  <cp:revision>13</cp:revision>
  <dc:subject>Slavic hymnal Гимны веры христиан, hymn 587</dc:subject>
  <dc:title>Sunshine in My Soul / Небесный луч в душе моей</dc:title>
</cp:coreProperties>
</file>