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D699-4F3C-4003-8FF5-2DBDADDD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DD6C-4638-49A8-80AA-ACC03357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92E7-7F74-4991-A263-9D7C1F20B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46BD-AA49-4B12-8344-8E5866763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F674-B518-486F-BD5E-A554F0E1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45C1-5358-4E5A-89DB-7BA6A351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837A-B4F0-4DD9-96CD-E8F3B5B1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B50B-460F-4486-9F08-903B8A75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1FCD-0CD8-427B-B4DB-E17C7E7A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B3EE-241E-4732-B28D-77473016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47ED-9F8C-4716-845A-13D9EEFE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CC46-68E8-4DDE-8F28-EDC25FCD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2648B-802A-4BD4-A585-F8527A86794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овилось тем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вет наших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ихий сад на молитву спе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всех подним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олени уп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ился под тенью 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8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ановилось темн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лился, главу преклони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че, воля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творится всегд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просил возле старых 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емя мира всего там легло на Н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н на коленях сто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че, чаша сия да минует Мен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смиреньи и страхе взы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лился, главу преклони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че, воля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творится всегд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просил возле старых 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звучит моя пес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ходившем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традал Он, меня возлюб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росил Он за вс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принял мой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Один возле старых 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старых ол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лился, главу преклони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че, воля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творится всегд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просил возле старых о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11:11Z</dcterms:modified>
  <cp:revision>12</cp:revision>
  <dc:subject>Slavic hymnal Гимны веры христиан, hymn 281</dc:subject>
  <dc:title>Становилось темней, когда Свет наших дней</dc:title>
</cp:coreProperties>
</file>