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4D6-0977-45B0-882E-EE19A350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B3F-208E-4BDB-B312-71EA463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6AE-A0BC-44FB-80A7-8EBC7755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9CC-E9AA-4A37-B033-85C7D262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E52-5F2D-45BD-B3C7-4F873631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6E1-C0A9-4B1A-877B-AD779968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1646-BE07-460D-82C1-8A1579D2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415-E9FF-492E-B2AF-289FAA50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DA1-6106-4356-BE67-F5D0F9DA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50F-8F6A-4EDA-9734-F98EFAB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910-FF60-419B-AAE9-2033DE98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BBE-3114-4B29-AA6C-84202A9D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C27E-EFDF-4EE1-9E9F-D6EFBB0443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е хочу багат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і скарбів сріб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небесного ц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асіння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торінках вогня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5   Я не хочу багат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іску є у м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ровин є 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пасителя 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ила їх нараз в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м слова правди да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вячують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, як кармаз багря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побілить, як сні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род вічний, предив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і Бог збудув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оселі для ві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ий Син Сам придб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гріха вже нем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ла темрява в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нце правди сі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ебесна кр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скажи, Боже,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ій книзі спасе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 записаний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3:15Z</dcterms:modified>
  <cp:revision>12</cp:revision>
  <dc:subject>Slavic hymnal Гимны веры христиан, Ukrainian hymn 25</dc:subject>
  <dc:title>Я не хочу багатства</dc:title>
</cp:coreProperties>
</file>