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192-FB3D-4826-9627-A463E4BB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D17-93DE-4A5D-87F5-EE08A4B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A97-40BD-4116-91CA-DA64E618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766-69C1-4A22-A574-6F243955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C5E-1113-4020-AA2C-E63EC6BD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B49-CCE2-45D5-9A40-CB15E184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58C-E273-459A-A44D-9991118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32D-BC3C-48BF-951D-29394C44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D03-A183-41BD-AA26-6F7037FD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724-7247-4F01-A058-EDE4F969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619-DB98-4F8F-B39E-24DA164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C81-29D9-422E-9AD4-8CB2E93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EB472-173B-4E19-AF64-0774175805A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3   Thy Word is a L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I feel afra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I’ve lost my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till You’re there right beside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hing will I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long as You are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lease be near me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ot fo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ove for me, and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for ever is wand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be my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old me to Your si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love You to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y Word is a lamp unto my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 light unto my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3:31Z</dcterms:modified>
  <cp:revision>11</cp:revision>
  <dc:subject>The Source 3, song number 1563</dc:subject>
  <dc:title>Thy Word is a Lamp Unto My Feet</dc:title>
</cp:coreProperties>
</file>