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0B31-5B04-4AE5-B289-37FE2699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4077-9710-42D6-9FD0-9D01138F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7511-EC06-48FD-82FF-16A15709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0766-6A89-4736-87BA-A0281437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08A4-6E35-41D9-BBB1-268A1BD0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5EC6-9BE5-4064-8742-B336A6FE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2FDE-0DAD-4AE9-BEE8-A4F3D5FA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84E8-088D-4C51-A05E-0E4463C4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D5A8-54F0-4EF0-A308-632BD915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971D-10E3-4B80-9D62-CFDA1F61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59F5-CEAE-4B4A-B4B8-74BFC6E6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4708-14E2-495F-B1AE-0D6011B7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EF9DC-BF4F-48A0-A17F-71AD8E35584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! hark, my so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ic songs are swe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earth’s green f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cean’s wave-beat sh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нимай, душ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май, душ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х хоров п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в ти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морем и землё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 comes at leng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life be long and dr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ay must da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arksome night be pa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вперё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жизни крут и мраче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ходит солнц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мней, темне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’s journeys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welcome to the w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ven, the heart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e home, will come at l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ец труд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адостная встре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ждёт в стра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льше нет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to 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ilgrims of the n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,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, sing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faithful watches keep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us sweet fra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songs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х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траже верно ст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 песни сл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и псалм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morning’s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end the night of weep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fe’s long sha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eak in cloudles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убе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славным днём пок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вет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мертвящей ть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to 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ilgrims of the n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,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eet the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se blessèd strains are t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at new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sin shall be no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ладко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душ успоко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т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жды и тьмы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to 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ilgrims of the n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,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 we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still we hear them s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weary sou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bids you come”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мая чудным звук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иди, уста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Христу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rough the dar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echoes sweetly ri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music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ospel leads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удешь скорб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мрачит разлука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бь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в гр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to 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ilgrims of the n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,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, far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bells at evening pea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voice of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unds o’er land and s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из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ладкий звон вечер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аги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ат в тиши ночн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aden sou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ousands meekly stea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d Shepherd, 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weary steps to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брый пасты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дёт чрез тер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людям 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и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ing to 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ilgrims of the n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Бож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м псал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ят при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,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31:07Z</dcterms:modified>
  <cp:revision>13</cp:revision>
  <dc:subject>Slavic hymnal Гимны веры христиан, hymn 615</dc:subject>
  <dc:title>Hark, Hark, My Soul! / Внимай, душа! небесных хоров пенье</dc:title>
</cp:coreProperties>
</file>