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CAA-324B-4AEE-B1AA-6630105A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F5E-B027-40B4-A5F6-BA2DA20F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D98-FEEB-45E1-A654-533B025F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15C-732B-4346-A357-1665BDD7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DF0-0E11-4278-A982-C44379BE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B2A-AC4F-4CC4-B035-DE1FDEDD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87A-FE14-4A21-BA6A-E61D972D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326-F06D-4840-9331-134F794D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351-2611-4DED-A672-5DA89A79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AA2-5FF8-4724-975C-FF5B6F5D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DA8-B822-4E0A-8F86-35524DC1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100-D152-462E-B238-FD5FDFC9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69B9E-FEBC-42B7-8EFA-6F1CF536B8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Whosoever heareth,” shout, shout the sou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pread the blessèd tidings all the world arou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pread the joyful news wherever man is fou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ь берёт, кто хо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, кто хочет без сереб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жий дар спасенья, вечного добр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лушайте, идите и спешите взя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о, что Бог всем хочет д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whosoever will,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end the proclamation over vale and hil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is a loving Father, calls the wanderer ho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cometh need not delay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Now the door is open, enter while you may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Jesus is the true, the only Living Way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ходи, бери, бедный друг, скор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ыне день спасенья для души тво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втра будет поздно, уж не будет зв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льше Божья благод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whosoever will,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end the proclamation over vale and hil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is a loving Father, calls the wanderer ho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Whosoever will,” the promise secur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” forever must endure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” ’tis life forevermo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, кто хочет! Путь Божий пря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стинно, правдиво слово Бога к на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ё, что обещает, Он в любви да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ищий духом да прид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whosoever will,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Send the proclamation over vale and hil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Tis a loving Father, calls the wanderer ho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hosoever will, may come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5:18Z</dcterms:modified>
  <cp:revision>15</cp:revision>
  <dc:subject>Slavic hymnal Гимны веры христиан, hymn 382</dc:subject>
  <dc:title>Whosoever Will / Пусть берёт, кто хочет</dc:title>
</cp:coreProperties>
</file>