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99F-BFFC-4448-80D9-27D31288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E15-469F-48A3-94D4-F5CE59E7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1BB6-CF9C-4177-84DE-E9DA2792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5EC-8461-45A6-8FC6-4BB958F3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969-8277-4C00-ABA9-4A85B542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384-87CB-4C2D-9037-432E8AFC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810-9011-4ADD-ADD9-B61451C3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3E3-1B93-4BF2-995D-E4F40158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F93-688E-4434-907E-0A1BAAEF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0F1-592B-4037-99A4-FB4AE666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5B1-12F6-4B55-AF72-7E52DFFA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418-D8EF-43F5-BE5B-FC8CEAF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07C42-DF19-4A6D-B683-01BA76E29C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lvation belongs to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its on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and glory, wisdom and than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and power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Salvation Belongs to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, the redeemed, shall be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purpose and u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claring alou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and glory, wisdom and than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and power and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to our God for ever and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16Z</dcterms:modified>
  <cp:revision>11</cp:revision>
  <dc:subject>The Source, song number 443</dc:subject>
  <dc:title>Salvation Belongs to Our God</dc:title>
</cp:coreProperties>
</file>