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7F43-02F1-46B2-A639-BBF63A82E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A05B-47C0-4C8A-A4C7-2DD65AC2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3F4E-A966-47B2-AFD2-E757FA450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B2E6-488C-4D28-A6EA-FEAD58F0B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DCA1-F120-4D02-A21B-C7C5B85B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685C-CEF0-4EBC-BC94-24F87CC2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A7C4-62D4-4ED9-A630-80318F51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BA7A-88A5-4A9A-901B-700B49C2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FB70-AD55-4801-AE85-C1501395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11E9-028E-4143-B4EA-42A3BD26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9032-6D65-412F-A2A7-C6E7A9DC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E3E7-E052-439B-B04C-E83996F3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BFB7DF-D23A-4537-9ADA-8104996ED31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, for the night is co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 through the morning hou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 while the dew is spark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 ’mid springing flowe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рузья, взошло свети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, взошло свет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авды, и доб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сердце озар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 у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 when the day grows brigh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 in the glowing su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, for the night is co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man’s work i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е, да воспря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ш дух в борьбе свят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ночь на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т труд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, for the night is co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 through the sunny no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 brightest hours with lab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 comes sure and s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! уж полдень зной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те все к труд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деждою спокой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оможет в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every flying minu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thing to keep in st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, for the night is co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man works no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ваш не уста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скорби трудов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ночь на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т труд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, for the night is co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der the sunset ski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ir bright tints are glow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, for daylight f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пожелтела ни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а жатва в 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ышен звук призы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тесь дружн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 till the last beam fade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deth to shine no m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k, while the night is darke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man’s work is o’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колос не увя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Господа жив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ночь на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т труд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единитесь, бра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лавного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юзом благо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и на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слабый не отста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смущённою душ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ночь на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т труд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14Z</dcterms:modified>
  <cp:revision>13</cp:revision>
  <dc:subject>Slavic hymnal Гимны веры христиан, hymn 529</dc:subject>
  <dc:title>Work, For the Night Is Coming / Друзья, взошло светило</dc:title>
</cp:coreProperties>
</file>