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615-BC00-47EE-9784-EFD4459F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F23-01F4-4D2D-9811-A29CF92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8A4-6926-4583-AF35-A7405839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997D-E1EC-4E91-BC43-0897B460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B0A-F35C-4C32-8FB7-423909E0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1F8-5D8D-46BF-937F-21CBB480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7B7-4FA2-4093-9721-E2CAED7D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9AC-BDAB-47E4-8A59-4F65542E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851-BDD9-490A-A4A2-23236937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803-89F2-4751-834F-73014C9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2B1-2EEF-4060-8324-3D667F2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1DD-296B-4AFC-AC25-ECCDDE9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B175B-181E-4F2D-A2CE-80AEC6D47C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39Z</dcterms:modified>
  <cp:revision>12</cp:revision>
  <dc:subject>Slavic hymnal Гимны веры христиан, hymn 820</dc:subject>
  <dc:title>О, если б сотни уст имел я</dc:title>
</cp:coreProperties>
</file>