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903D-62CB-4F39-84D9-64222E9D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DDCD-C662-4203-9762-85DA741D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C5BB-D05E-4BED-9E8A-CFC361DF4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935B-8931-4202-8990-432F8A05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6EDC-E868-4BC8-AC00-6B27ED7E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CF2F-2782-4D52-A0B6-C7987047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1240-D93F-482E-84BD-1BC92B30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CDDB-D20D-4450-BFFE-C46E6F35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9075-EA59-4C37-BB68-91E5D9AB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62D1-21E1-40AB-A160-679D0A98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AD46-FB2D-4D23-99CF-7470EB95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3A83-56A1-48F9-8743-9B6A9C16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56873-4565-4119-B651-9B83654428F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ми Бог, кто будет проти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с нами Бог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ми Бог, кто будет проти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ми Бо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ми Бог, кто будет против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с нами Бог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Апостол Павел нам сказ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9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нами Бог, кто будет проти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, Я с вами буду кажд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каждый ден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, Я с вами буду кажд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ый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, Я с вами буду каждый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каждый ден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Господь Спаситель наш сказ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смывает всякий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всякий грех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смывает всякий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гр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а смывает всякий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всякий грех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Апостол Иоанн сказ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ть Святого Духа нам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обеща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ть Святого Духа нам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щ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ть Святого Духа нам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обеща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оиль пророк так предсказ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4:48Z</dcterms:modified>
  <cp:revision>12</cp:revision>
  <dc:subject>Slavic hymnal Гимны веры христиан, hymn 590</dc:subject>
  <dc:title>С нами Бог, кто будет против нас</dc:title>
</cp:coreProperties>
</file>