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5</a:t>
            </a:r>
            <a:r>
              <a:rPr b="1" lang="ru-RU" sz="3600" spc="-1" strike="noStrike">
                <a:solidFill>
                  <a:srgbClr val="ffffff"/>
                </a:solidFill>
                <a:latin typeface="Verdana"/>
              </a:rPr>
              <a:t>	</a:t>
            </a:r>
            <a:r>
              <a:rPr b="1" lang="ru-RU" sz="3600" spc="-1" strike="noStrike">
                <a:solidFill>
                  <a:srgbClr val="ffffff"/>
                </a:solidFill>
                <a:latin typeface="Verdana"/>
              </a:rPr>
              <a:t>Что должен делать я?</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Что должен делать я, о мой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ва созрела вся, волю Твою откр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же, что делал Ты, стану делать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а день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Что должен делать я, волю Твою откр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же, что делал Ты, стану делать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а день Т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ва созрела вся, волю Твою открой.</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0:50Z</dcterms:modified>
  <cp:revision>3</cp:revision>
  <dc:subject>Slavic hymnal Гимны веры христиан, chorus 25</dc:subject>
  <dc:title>Что должен делать я?</dc:title>
</cp:coreProperties>
</file>