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7012-1694-4FD1-B49E-2EC263A6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1F45-20C1-4B1B-A05E-43E7CA39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E66E-4A82-4917-BF74-6185A28C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AA6E-A8A8-4678-87A7-9AAB2D3A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51B1-B6FF-4663-A19D-E09673D9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C422-DC81-4E63-91B2-F0221AAC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FD8-0CB3-47FF-8FCF-4F5ADB5C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43C5-E5D6-4082-8718-ECC20BA0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A890-A810-4FC9-8023-C01119B9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02F2-06EA-47E7-8E85-6FD12AA5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38C7-B0B0-4CB0-B358-0456E2CD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7D50-B3FF-4BDB-8D65-C522792E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7D4B9-4948-4BD6-BDF5-A8B83DF038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day with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sweeter than the day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passing mo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Him more and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4   Кожний день з Ісус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 з І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лодший, як день перед т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 з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авжди разом з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 and keep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’s the one I’m waiting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day with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sweeter than the day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є мі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тепер хвалюся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 з І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лодший, як день перед 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8:50Z</dcterms:modified>
  <cp:revision>12</cp:revision>
  <dc:subject>Slavic hymnal Гимны веры христиан, Ukrainian hymn 114</dc:subject>
  <dc:title>Every Day With Jesus / Кожний день з Ісусом</dc:title>
</cp:coreProperties>
</file>