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1B1-31A1-45CE-BDEC-7275B162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5AA-57B7-4A0C-B1A3-91F4AAD3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A3D-EA18-4F18-8639-6780E136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241-0F95-4FA8-A7AD-135C2F8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C81-4109-47B0-8F2D-911B578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26B-B89E-4A3E-8426-4359EC5D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1FC-CCEC-4C5E-817D-924D408E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946-FA97-4D7E-8261-D63F4EF6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545-F9DC-4AB4-A1AA-C12C5A8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4F8-EB75-4C30-BFB4-05DB71A7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294-A9A1-469B-B26E-88C47231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724-9EEB-4FEA-8870-B44A5CD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8BF68-9726-4FF5-B210-7A3A56E51C6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t the wedding feast at Ca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hores of Gali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 Lord, revealed Your power and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wd received You joy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1005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no power to live as You comm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You in us this power ign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nt, then, Your favour “till death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m part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You now fore’er u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s an honoured Guest amo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joy to all the guests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engthen in Your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union from its very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sanctify this holy 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have sanctified Your Br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he Bridegroom we await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the ransomed at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dding of the Lamb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invitation is to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rant that these who join their liv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enter Your great banquet h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lory to dis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e pray, be with u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uide us on 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where can we find the gla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the sunlight of Your 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can we find true peace and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less You grant these by Your gr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39Z</dcterms:modified>
  <cp:revision>13</cp:revision>
  <dc:subject>Slavic hymnal Гимны веры христиан, hymn 740</dc:subject>
  <dc:title>When At the Wedding Feast / Христос! Ты в Кане Галилейской</dc:title>
</cp:coreProperties>
</file>