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4F2-29E2-43B2-9F07-EFA80C36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6FD1-9B3F-4D31-9DC7-31A82312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01A-4264-40F7-82CE-D6C408F7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364-581A-4F31-AE6C-C90415A7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A94-EC90-4949-BC1E-AC45C4FF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881-576C-454E-A2B8-CECB1D48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866-6395-4ECE-BE1F-49ED2B66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B85-E625-4F92-B1E0-506200EB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2B3B-8D16-4694-9506-E22238E4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02A-1C46-4F9D-BCE5-3A21E84D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388-6CEF-42F5-9B95-25B1667B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B84-878A-4C10-99AD-E338EA86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C4E60-C3AE-40DA-8748-32E60A4C31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ft my hands to the coming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great I 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I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’re the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reigns withi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1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Lift My 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serve no foreign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any other treasu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heart’s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without mea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uld bring my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2:13Z</dcterms:modified>
  <cp:revision>11</cp:revision>
  <dc:subject>The Source, song number 212</dc:subject>
  <dc:title>I Lift My Hands (I Will Serve No Foreign God)</dc:title>
</cp:coreProperties>
</file>