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D88-B6A5-424C-BEF4-33030116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805-E92D-479D-8D43-9F2A963E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3D3-9261-4A2E-996D-0902E4C1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CF9-C58C-4EA6-9617-BD24A426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4C5-BF66-4DD7-B99D-7465C878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F9F-6AA7-4BC6-A1C1-77EA85D2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738-B286-4EBC-9A61-E26E97B5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E1E-B800-46BF-9B13-46441FA0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D91-5AC9-4F5E-A77E-4BAF81A9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F73-C96B-45AC-BB22-74E5C104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4BD-958B-4C94-9C2F-D84184DF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D58-BE86-457D-ADD7-06B3A046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D0753-DC29-4CB9-9A8F-7AA79C1133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угроз, не мучит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звёзд на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ный дом и мир кра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родном спасённых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ом, где радост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ень, где вече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и мы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ведёт нас в вечны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нет угроз, не мучит ст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земной ликует х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река живой в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чистотой сияет в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града ждёт за все тр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ом, где радост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ень, где вече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и мы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ведёт нас в вечны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асший день взойдёт свет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ит Бог хвалой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родных, свои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м найдём у ног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ом, где радост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день, где вечера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и мы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ведёт нас в вечны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2:08Z</dcterms:modified>
  <cp:revision>12</cp:revision>
  <dc:subject>Slavic hymnal Гимны веры христиан, hymn 812</dc:subject>
  <dc:title>Где нет угроз, не мучит страх</dc:title>
</cp:coreProperties>
</file>