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255-AF06-4454-A579-BFE3C01B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CE2-FD38-4E5C-80B4-EF40066B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816-741A-4BA3-A7E5-22D6643E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F97-0E7E-4056-A06E-7A41BB3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A34-0FC8-418A-A78B-E272D295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FF8-9C7D-4684-9529-EE2D2B6A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952-3DF4-49AF-8069-1ED4A9D2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D79-68CB-47B2-A3FF-866066B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43B-1762-4265-8300-02C7F7A8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498-E4C8-4648-A960-C5ACD9B9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1DE-D035-47AE-8CCF-4F98B626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02A-8722-438D-B6D7-9A09925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C7CEB-3694-4151-A51F-0399EB133A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9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h love as I had nev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the grace that f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 in my un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y my heart and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which man can be sa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name under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rest for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wounded mad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captives set free and for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35Z</dcterms:modified>
  <cp:revision>11</cp:revision>
  <dc:subject>The Source 2, song number 996</dc:subject>
  <dc:title>There Is No Other Name</dc:title>
</cp:coreProperties>
</file>