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56A-6EAF-444F-87A3-ABF45AE0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FEB-BBF4-437E-A29F-BD16AE33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776-4894-4A77-A78F-A9FC11CE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9C6-96C8-44CE-A505-E21B69F8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5E0-2627-4504-8ECE-B73F40B0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AFD-90F7-4C59-966F-B01CED30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D6C-3370-49D7-A121-33D4A616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18B-8D50-4802-BDC0-2AEE3992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86C6-DC7A-41A6-9126-92408631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FA3-DD69-4210-9837-99A9028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43B-8105-4C71-839F-19DF2D8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E07-0AA6-460B-9BF6-6DAFDC0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A85EB-32F9-4F88-98B1-A5F1F43FAC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I will praise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 for ever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And I will praise His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н возвеличен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го я прослав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и я поклоню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мени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the Lor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For ever His truth shall re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aven and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Rejoice in His holy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He is exalt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00"/>
                </a:solidFill>
                <a:latin typeface="Verdana"/>
              </a:rPr>
              <a:t>The King is exalted on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есть Господь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веки Царство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роды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клонят колени пред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н возвелич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ш Царь возвеличен вов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5:52Z</dcterms:modified>
  <cp:revision>12</cp:revision>
  <dc:subject>The Source, song number 156 in Russian</dc:subject>
  <dc:title>Он возвеличен! / He is Exalted</dc:title>
</cp:coreProperties>
</file>