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8074-8B5D-4C25-B25C-72CCA213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0C9-9867-485F-ADB9-2595A162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EFC-BE03-468D-9484-6A0EA05B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35FD-5D53-47C2-9D88-541863A3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810-D783-4A5B-AE7F-8728CB88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6297-C7AB-4F1D-8440-CBC5B3FC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62E-C9F6-4811-A393-449F76A4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49BB-D026-435A-80D0-34A2C44C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8F3-BFCE-48AA-AEFC-46B1CC2C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A906-3B3B-402D-9349-B8DB2AF0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B59-318B-4C51-AA06-560EB392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2E1-332F-49B8-922E-3B961649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0A544-D40C-4D63-9B41-65BBC3F2616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 and honour, glor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unto the Ancient of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every nation, all of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ow before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54   Blessing and Hon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 and honour, glory a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unto the Ancient of D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every nation, all of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ow before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kingdom shall 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 all the ear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none shall c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r matchless wor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tongue in heaven and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declare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y knee shall bow at Your th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worshi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be exalted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kingdom shall not pass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Ancient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18:23Z</dcterms:modified>
  <cp:revision>12</cp:revision>
  <dc:subject>The Source, song number 54</dc:subject>
  <dc:title>Blessing and Honour (Ancient of Days)</dc:title>
</cp:coreProperties>
</file>