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D7A-C719-4169-AB75-BECB3BAB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30B-A97D-4CD9-83BC-3CB25A0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AF6-3134-4FAF-BC38-4D0736DD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A2B-A1B3-41C5-8E8E-7324139D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B22-0E98-4074-A51E-8D7911B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DA3-A715-4D49-B4F7-277E4088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567-95A3-4DDD-9F43-A7F6DDAC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263-4B70-4EFC-8555-B2BAB638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71E-7EDF-409F-BD90-0C6FC35C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2F2-4E13-444A-AE45-8AC3533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D2D-870E-4D72-B3C1-4D6F689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767-ED09-479B-B02E-DCD8FB87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834A2-0333-46DE-B956-D5988421A8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O Little Town of 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1:11Z</dcterms:modified>
  <cp:revision>10</cp:revision>
  <dc:subject>The Source, song number 393</dc:subject>
  <dc:title>O Little Town of Bethlehem</dc:title>
</cp:coreProperties>
</file>