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34C-F040-4A24-9EF0-2AF8A844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FC8-5BD2-4FCC-8FAA-147667A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0C9-42C7-4854-B03E-F4884C02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56E-9B3E-4E63-85BB-87E5AC76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344-4654-4204-9176-37CF940A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190-2952-4C57-B4B1-7ACB590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08D-FED8-46BD-BC8F-2236131C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BB6-4B3C-4996-8E62-C3EC6C78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591-4BED-42F7-9622-913647C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CBC-EDF8-4FA0-862C-EEECEBD4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1C9-7B1E-44A0-BF4B-E9794A6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1DE-0BB3-4C97-AE16-7F4C0982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57A4B-B625-4EBD-BBF2-D5BAE05B3F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— путь, Я — воскре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жизнь», — Христос ска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ерзай, о чадо, в слав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тебя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ка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ной во сле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Я — путь, Я — воскрес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х пор, как в Вифлееме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сниз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тернистым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 крестной 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еда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скупить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Собой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ого поношенья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ей Он здесь приня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удучи злословим,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благословл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десь избра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ам нам царство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ежде здесь за 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гряди, гря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устыни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ли средь п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знь Христову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людям прочи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ых здесь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ечь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ить призван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у 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путь на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вятость и кр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 пойдём,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им во с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4:35Z</dcterms:modified>
  <cp:revision>12</cp:revision>
  <dc:subject>Slavic hymnal Гимны веры христиан, hymn 328</dc:subject>
  <dc:title>«Я — путь, Я — воскресение, Я — жизнь»</dc:title>
</cp:coreProperties>
</file>