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FDD-2673-4E1B-99A3-A777F5A3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769-A716-4897-BAF5-33902CF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A29-1E70-4210-8D6F-0EB6D073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5B0-41EE-42E1-BB1E-916BE556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0C5-2F2B-48B3-B4C3-FDC44420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251-5467-4FF2-92C1-B63ECF03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B85-1714-4A4C-BCB6-24C178DB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E2B-C35B-4991-8F93-6078919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A24-0C5B-4413-ACE4-1FB89FB5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75E-26B3-430E-A9C5-0244C4B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165-95A7-4CC1-A558-F4BCC64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CE1-C350-48DF-9140-9B453968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1E8D4-E742-44EE-B552-13A61B0FE1C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will never let You g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taken me from the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ve set my feet upon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I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I ne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my world will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never let You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my closest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orship You until the very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9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20Z</dcterms:modified>
  <cp:revision>10</cp:revision>
  <dc:subject>The Source, song number 290</dc:subject>
  <dc:title>Jesus, Lover of My Soul</dc:title>
</cp:coreProperties>
</file>