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0CA-0E98-4991-B945-DF5781EA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231-E1DD-4391-AD34-6B925A4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4F4-CB4B-4859-93C8-5B85C22E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FB2-A007-4A04-8E10-3B511C45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F5B-4FD2-4F0A-AA2A-0F867319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811-5CAD-41A2-ACB0-57110D2D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6DC-E021-4C4F-BFE1-DC7F201B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5EB-E570-415E-88A9-5AE3EFD9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EBC-CA42-4657-9CB2-0C8AD489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AC9-97C6-4452-909B-1DD54E3E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7A9-E37B-4502-9BBF-419F9222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CD2-36B5-498C-A3C0-77C9456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BA0A1-9B19-4B7E-A4BD-FE6601B13F8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ыстро наши дни теку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ень они проход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 с собой туда влек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уда не прихо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щё скитанья год пр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земной, несчас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нник ближе под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тране родной, прекра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быстро наши дни те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долго ль будем мы блу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тезям этой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олго ль нам ещё здесь ж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Бога книга наших д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ил Он скит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ёзы наши пишет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ши испыт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ернистый кончим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ём в чертог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елит нам отдох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Своей чудес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ю нам, Боже,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ай в начале г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удро дни нам исчис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мирского 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нам в скорби ун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всегда смиря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с молитвой прибе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Тобой склон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31Z</dcterms:modified>
  <cp:revision>12</cp:revision>
  <dc:subject>Slavic hymnal Гимны веры христиан, hymn 734</dc:subject>
  <dc:title>Как быстро наши дни текут</dc:title>
</cp:coreProperties>
</file>