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0424-9950-4E2C-81E5-B89F1AAD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626-8D91-45FF-86DE-C095A89E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836-AF6B-4A18-8FC0-DE7D994B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E13-61E6-42A6-9CBB-57B28E97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D94-94DD-413B-A7DA-8E8A0BBC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BDE-445A-41AA-96F6-CDB21F81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8F3-8EC2-465E-8B59-6373CADE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758-E9AA-4953-ABA7-7BF8708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819-E1F7-4EDE-9904-C203D01F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6A7-4E0F-4019-8EAA-05640E6B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260-C5AE-436B-868C-0FC8B75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B7A-64B3-426F-A24D-7030DBB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37E9C-4877-4100-96DE-C536BEB6DD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тесны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на узкая стез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дали леса, бол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 и бури жду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широкие во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остранный вид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ём толпу без счё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и праздник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ропой борьбы, трев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а луч и рай цв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конце другой дорог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гнетущая и 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рота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ими дв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робкою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ери, каким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1:56Z</dcterms:modified>
  <cp:revision>12</cp:revision>
  <dc:subject>Slavic hymnal Гимны веры христиан, hymn 332</dc:subject>
  <dc:title>Вот, ворота пред тобою</dc:title>
</cp:coreProperties>
</file>