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39C-ADFB-42F5-8665-8C7F57E2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265-9991-4E08-8247-E48ED4EB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62E-D1CC-4BC5-9E13-190C2463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E23-AD51-440D-8CC9-67364193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E7E-948D-4130-BFE5-48AE406C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11F-2299-4F88-A846-CD49BDB1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139-E236-49E8-A371-CC9D92FE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C8D-0043-4DAA-93CF-70A589CE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53D-D90F-43E7-85DF-B0FD332E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AB8-111D-4647-9E07-CB3D2989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E03-DD96-404D-AC44-105ED58E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811-7E1F-4903-9966-CFA08F8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D4A9E-043A-4194-8724-E977EAE47E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же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ёл освободить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 греховной се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ердце привязал к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ей ко мне любов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ой теперь и 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ю куплен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шёл я Друга од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ёл Он на муч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нам вечной жизни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нам купить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имею, кем я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м я не счита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таланты, жизнь и 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я посвящ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хранить Он буд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ведёт Своей ру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веки не забуд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нье славы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уда стремлюс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 и труд мой путь ле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бесному пок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ёл я Друга од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чудный мой Спаси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изок, верен Он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сильный Утеш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ая сила разл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Тем Другом несравнен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авсегда соедин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ечным, неизмен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34Z</dcterms:modified>
  <cp:revision>12</cp:revision>
  <dc:subject>Slavic hymnal Гимны веры христиан, hymn 583</dc:subject>
  <dc:title>Нашёл я Друга одного</dc:title>
</cp:coreProperties>
</file>