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ECC-86F1-45DE-87D3-BE5B304B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D70C-C2DE-4F63-A33B-683C7E2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6B7-D01B-4A50-AA66-B3E35E78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E36-F342-432B-BB0D-20CC0D6B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8F5-3869-4AC0-B47E-5E5376BB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A9D-625A-4600-AEF3-CB6D94C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16CC-0A52-4FDF-9544-73F91A48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AE3-0B4A-4323-B302-E5807400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9DE-F392-478A-9A50-D1B3425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8A2-1A87-4EF2-964B-DB12E17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F63-1472-467B-8511-337B33B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BC3-7655-41CF-8A36-41C2DB7D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71603-9BA4-4106-95CA-BAFDE1FDD7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ecame no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ed out to de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I’ve wondered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ift of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in that plac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in that plac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Jesus Christ, I Think 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You are exal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ighes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the heave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one day I’ll b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for now I marvel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saving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ull of praise on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full of praise onc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nce again I look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where You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humbled by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broken in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gain I pour out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47Z</dcterms:modified>
  <cp:revision>10</cp:revision>
  <dc:subject>The Source, song number 274</dc:subject>
  <dc:title>Jesus Christ, I Think Upon (Once Again)</dc:title>
</cp:coreProperties>
</file>