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D4C-B92D-474E-8C23-1BDF32BF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6D0-F265-46A1-9444-20691CAA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FAE-CE32-4136-9293-FA0B7168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250-824E-4378-94CA-7C0C65BA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47F-37B7-43E4-98F0-91ECBCD7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AAE-B72A-4FA4-9727-7A27A9E7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27D-C4E5-4B8D-BE23-A3EFD5DE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753-B63C-4AB9-8AF2-C73CBBAE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000-21F9-4102-900A-BB8FBF49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F6A-F466-4C5B-9D01-6090D91A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1A9-F5FA-4868-BDE0-7BAB732C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03F-2BDD-47BD-A26B-85438636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BBA87-8C32-4A44-A30B-8CCA55D3653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w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You so much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than I hav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from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not mad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devoted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67   You Know That I Lov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Majesty, I have one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ever and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give my praise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know that I w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You so much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ore than I have bef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from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se words are not made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devoted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Majesty, I have one des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to be with You, my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the Saviour of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ever and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give my praise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21:46Z</dcterms:modified>
  <cp:revision>13</cp:revision>
  <dc:subject>The Source 3, song number 1667</dc:subject>
  <dc:title>You Know That I Love You (King of Majesty)</dc:title>
</cp:coreProperties>
</file>