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82A-3D39-4559-927F-F6D7EC69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A3E-AE4B-4877-8890-0C65A7EC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577-9415-403D-9D1F-438A4B55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64B-C514-4AB6-8ECB-6779D60C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A7E-EFBF-4839-9953-3C0E4786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87A-0C4E-43D2-872C-14E70F1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056-9105-40F7-B0B9-0065F920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60F-D777-4138-9914-5B064DD4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B93-53B5-4D65-B4EB-FDE50AB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4BA-149D-41DF-9AA9-0E5D6F49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E17-A89B-42F8-9CC5-ECF2F7A4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71F-FF76-4AD0-870A-53BCC7E6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82A45-3F49-4647-854A-DFA6704DF20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to 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re rivers of pleasure I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— Христос мой Госпо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 wonderful Saviour is Jesus my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taketh my burden awa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oldeth me up, and I shall not be 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giveth me strength as m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ith numberless blessings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crow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, filled with His goodness div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ing in my rapture, O glory to G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such a Redeemer as m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clothed in His brightness trans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meet Him in clouds of the sk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is perfect salvation, His wonderful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shout with the millions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soul in the cleft of th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shadows a dry, thirsty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hideth my life in the depths of His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covers me there with His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3Z</dcterms:modified>
  <cp:revision>13</cp:revision>
  <dc:subject>Slavic hymnal Гимны веры христиан, hymn 595</dc:subject>
  <dc:title>He Hideth My Soul / Чудесный Спаситель, Христос мой Господь</dc:title>
</cp:coreProperties>
</file>