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BD9-ED1B-475B-BC51-4A753022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31A-334C-4235-A137-5A6DD9CE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34A-C81B-4A7E-8255-4E1A3FAB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C4C-499D-44B3-85E0-61E6D916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F74-7AEE-4266-AC17-A58F9E4B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76A-4A3F-408B-BFF0-75BE1D68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8AA-DF19-4AD4-A413-F6D07146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32C-2D47-4B11-97FE-2699FA46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0F0-49B2-45F0-987D-D8C9FF3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A54-3278-4AE3-995B-74970C8E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5F3-09CE-4FEE-84B0-9CAB5568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A34-472D-4BD4-904D-67EA4C95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F94AE-CE75-4143-BE3F-E34AD89F2E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ild of sorrow and of wo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ill joy and comfort giv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hen where’er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зови Христа на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Христа на помощ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грешн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Он мир и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ибнешь ты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the name of Jesus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shield from every s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emptations ’round you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the that holy name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призови Хрис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итя зовёт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искушений 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оси сил 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name of Jesus b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lling prostrate at His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we’ll gladly crow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ur journey i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о имя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епляет нам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дости и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ёт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name, O how swe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earth and joy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уд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надежда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12Z</dcterms:modified>
  <cp:revision>14</cp:revision>
  <dc:subject>Slavic hymnal Гимны веры христиан, hymn 713</dc:subject>
  <dc:title>Take the Name of Jesus With You (Precious Name) / Призови Христа на помощь</dc:title>
</cp:coreProperties>
</file>