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697-B01A-42CE-8DFE-207542F2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DEA-9BBF-44DA-904E-6585DAB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AD3B-016B-4904-813E-335FD8F7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FBC-7967-4B83-8EF2-E1FA6AD7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45A-244F-42B5-9DA6-6EC67768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A89-E485-48E7-8326-5641E388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DCAE-8BD4-4086-83D0-BBEB871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857-1E9A-44B8-B72B-299DCA2D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BBF-F6FB-4372-A1BA-8516162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D4E-5E94-4EEC-8B3C-9810E11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C82-0B0D-40F8-9DC0-C466FC8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CC1-94A9-42DC-A93E-8629101A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8E810-CF12-4410-8ECD-08ACA7ED4C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, exalt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train of His 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s the temple with gl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is f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Your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holy, holy, ho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holy is the Lord of l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1:51Z</dcterms:modified>
  <cp:revision>10</cp:revision>
  <dc:subject>The Source, song number 238</dc:subject>
  <dc:title>I See the Lord</dc:title>
</cp:coreProperties>
</file>