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893-BD16-4818-98BB-7B49BE66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74A-F962-4029-BABD-FCAC8781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2FF-AF65-4D56-879E-5FD9C30D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057-165B-4DD6-88AB-BB882A90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FBA-198F-4105-8C41-3AB03415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307-016F-45DF-A2D0-507F28DE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165-46DE-49FB-A388-FF603979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181-FA62-42CD-B903-FFBE68B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74B-7E52-42D6-B780-54BD6E83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826-7B15-471C-9B2E-CB03B508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DDC-3371-40E0-BA39-C7988B93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637-DFE7-47CA-AA01-AE313CB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43A11-F725-4BF9-BC68-E6D521B365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Bible tells me 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ttle ones to Him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are weak, but He i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ит мой Иисус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ой Иисус меня!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етей к Себе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руки их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He who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gate to open w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wash away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s little child co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любви и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л Он на крес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еня Он кровь про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ю Он меня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ake this heart of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it pure and wholly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 bled and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henceforth live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нь любит Он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жаждою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ят сердце ин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йду отраду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! He will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se beside me all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prepared a hom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meday His face I’ll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! Он вечно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го навек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никто не повре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зол Он со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ble tell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твёрдо зн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4:39Z</dcterms:modified>
  <cp:revision>12</cp:revision>
  <dc:subject>Slavic hymnal Гимны веры христиан, hymn 869</dc:subject>
  <dc:title>Jesus Loves Me, This I Know / Любит мой Иисус меня</dc:title>
</cp:coreProperties>
</file>