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4A7-019C-4077-AAA3-80A31028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D37-F087-4CC0-89A1-9E176898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0989-8994-4E7C-B4AF-3402D2CB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EB6-AF1B-4E50-8912-21B68C39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131-D032-473D-AA3B-A6EDD38B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AB3-F677-4E60-A797-16545935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2D3-1245-49F2-9360-C6AD1C2F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973A-D655-45C9-81FA-9FD6B139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EC6E-D2AA-4ED2-B17B-B87D66F3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FA7A-44B6-44E7-BB68-DB4CAF2C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902-CE0F-4E9F-B25B-1236ABBB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502-6B88-4074-935B-00E0A285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53FD6-39DE-49F5-B32A-69CEAC4A06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, это слово мне ми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 оно ласки,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 на руках нас нос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охраняла в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сколько ты переж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сколько горя с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ы берегла и хран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, дорогая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ама, это слово мне м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кто так любит, жал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ак сам не ценит се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кто так нежно леле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, да ты только од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с ко Христу возно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помогала в б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е и болезни взрост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нет подобной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а! часто дети не цен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олне всю заботу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ску, доброту они губ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у не жалеют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дно, поздно будет у гр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кать и терзаться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! Ваша кратка д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идёт гостя с кос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3:10Z</dcterms:modified>
  <cp:revision>12</cp:revision>
  <dc:subject>Slavic hymnal Гимны веры христиан, hymn 815</dc:subject>
  <dc:title>Мама, это слово мне мило</dc:title>
</cp:coreProperties>
</file>