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517-586B-4CC1-AC79-B822BA3D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69A-97E3-4B8D-9F12-BA4FD325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CFE-4698-4EC4-9C2A-553FF7B0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30C-8212-49AA-ADF5-E0463840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A1D-EFF8-4E7E-BC0F-87A80D09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B1C-2337-4338-BC29-881F8DFA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74A-E92C-468D-95EE-B4A7F2D9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AE4-425D-464C-9D4C-D4BDE958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684-6D8F-4A6E-B98E-58356FB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8C1-8F74-48C7-92BD-C3679A5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FAA-31CD-47AF-930C-E3E8B89A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797-1933-4204-A295-0A6F44D2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5A1E-CC13-40EA-A9CD-D6B0CB8C14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лось чудо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ц пали стражи, видя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дрожала в те мгнов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Христа во гробе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Он людям двери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и власть побежде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неслася весть благ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Нам жизнь да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шилось чу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сегодня раздаё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Христос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из уст народа л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светлым куполом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! Воскресни,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души ожи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ут все сердца гот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заве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ристос Воскрес», как эхо г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пустыне и в го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ся с дивных мест С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зывается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 для всюду су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рачных тюрем, рудни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, Его к себе зовущ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пасенье от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Божественною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Он наши иску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прощающе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Царство вечное откр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этот день, друзья и бра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достный призыв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м с радостью объят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истину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19:07Z</dcterms:modified>
  <cp:revision>14</cp:revision>
  <dc:subject>Slavic hymnal Гимны веры христиан, hymn 286</dc:subject>
  <dc:title>Свершилось чудо воскресенья</dc:title>
</cp:coreProperties>
</file>