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644-FCD1-4706-ABD8-1208EB36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F24-E5B6-42E9-8786-E61B3782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D33-5977-4803-8212-0AA1FC10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5CD-20E6-40C1-AAC4-F1921C1E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2E8-DA57-4291-A330-E9DAA89C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6DF-DF74-48A4-B6DA-68751D32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63A-5582-4DFA-8942-4AA23601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7660-FBCE-466A-8C2C-DD9435B1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A1A-8D87-4606-B904-B9CD66CD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6BEC-9E55-4D0B-82F0-3BD4453A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0BD-C4D9-4A70-B11B-D0332B3D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E11-CF5A-4764-99DA-2417932F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55175-D2DC-4716-AADF-6643226A80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and of strang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her thou art g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a far voice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 чуж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ужого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луждал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зов, вста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ee the well-spread 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forgotten 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s rest and plen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гр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пе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, обилье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ou art friendless, hom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less, and un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is love uncha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ви в надеж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, как и преж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rom the land of hu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nting, famished 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love and gl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раны гол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ди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свободн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Leave the haunts of ri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ted, woebeg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 at heart and we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путь грешной во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збит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 сил от бо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ee the door still op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art still m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yes of love are o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ебе запр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ежь дверь, 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Мой полн приве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 wand’rer,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back to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wandered far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home! come 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ar off thou hast wand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thou farther ro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all is pardo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n! my so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ди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ю грязь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7Z</dcterms:modified>
  <cp:revision>13</cp:revision>
  <dc:subject>Slavic hymnal Гимны веры христиан, hymn 353</dc:subject>
  <dc:title>Welcome, Wanderer, Welcome! / Из чужого края</dc:title>
</cp:coreProperties>
</file>