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AC6F-E0E8-4FC2-B643-1C0C452B9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05A9-64D1-4DAC-8FF6-E2532E41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4A37-54C7-4B8B-8DA3-3BCE9F27D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520A-D9A8-48CC-8AB1-35A65EF22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B55A-4F86-453D-9B7B-B8631CC6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E72D-5F2C-4426-AA79-365F2D9E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6CA2-0258-4E95-B330-D08E78D8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89D0-2241-4E7A-8BD0-2FC5F8E5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F4B6-94BB-4196-A022-6B6B8FCF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B1C4-F08B-49B5-B2E2-250194F8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29EA-FE28-4F4A-8FEE-2D8D4A60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EB89-86AE-4EDC-A16E-1BD63976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04E25-A287-4997-9FC0-0FB985382A9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и воины, смотр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а дан сигн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ые полки, гляд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Господь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репость Мою не сдав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Я прид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на небо отвеч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сдадим враг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жьи воины, смотр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идут полки чужие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тана ве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 падают род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х уж всех бер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репость Мою не сдав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Я прид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на небо отвеч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сдадим враг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мя выше подым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те труб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, дружно все бег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жию войн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репость Мою не сдав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Я прид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на небо отвеч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сдадим враг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ится бой, полки реде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щь уж близ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даются, не робе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ины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репость Мою не сдав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Я прид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на небо отвеч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сдадим враг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идёт Господь наш с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гионы с Н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и радость, и победа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возда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репость Мою не сдав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Я прид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на небо отвеч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сдадим враг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6-06-08T20:38:01Z</dcterms:modified>
  <cp:revision>13</cp:revision>
  <dc:subject>Slavic hymnal Гимны веры христиан, hymn 484</dc:subject>
  <dc:title>Божьи воины, смотрите</dc:title>
</cp:coreProperties>
</file>