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87</a:t>
            </a:r>
            <a:r>
              <a:rPr b="1" lang="ru-RU" sz="3600" spc="-1" strike="noStrike">
                <a:solidFill>
                  <a:srgbClr val="ffffff"/>
                </a:solidFill>
                <a:latin typeface="Verdana"/>
              </a:rPr>
              <a:t>	</a:t>
            </a:r>
            <a:r>
              <a:rPr b="1" lang="ru-RU" sz="3600" spc="-1" strike="noStrike">
                <a:solidFill>
                  <a:srgbClr val="ffffff"/>
                </a:solidFill>
                <a:latin typeface="Verdana"/>
              </a:rPr>
              <a:t>Господь, услышь</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услышь моё мол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к Тебе мой дух зов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мой плач и сокруше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лонись на скорбь мою с выс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Моя молитва да стрем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фимиам от алтар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ертва сердца воскуритс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гнём любви к Тебе горя.</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Тебя я, Боже, умоля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сти, что согрешил Твой раб;</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на Тебя лишь упо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силу мне, ведь я так слаб.</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Пусть стрелы зла душе скорбящ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ельных ран не нанесу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сети тьмы, кругом царящ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с пути не отвлекут.</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ы, Боже, дал Твои закон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ими жил я и дыш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ими, в правде утверждённы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се нападки отраж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О, укрепи меня, Спас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законе истины сильн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й Бог, моих путей Правител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и словам души моей!</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28T02:09:16Z</dcterms:modified>
  <cp:revision>3</cp:revision>
  <dc:subject>Slavic hymnal Гимны веры христиан, hymn 187</dc:subject>
  <dc:title>Господь, услышь моё моленье</dc:title>
</cp:coreProperties>
</file>