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D16-3BF1-46F4-A25A-741B89FF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BF0-37DA-4980-9453-779AF9D6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FF5-9232-4D11-BDDD-7C8353A3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B39-028F-4EAE-B236-483A758D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4DF-F535-4726-B857-82A5CA49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E4D-F889-4911-AB19-73FEA70A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3A3-C7BF-4CC6-99FD-8F0820B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080-86D8-4C5E-B996-A869D896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00A-C201-4A50-A2B1-E5B9B03D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8B4-72B4-4460-BA16-045583A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B5F-C6DF-4274-BA63-767EB59D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7C5-8A93-4DBA-86FA-CF860F74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E3266-7429-40FC-9FBA-AC795AC399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blissful mor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our Saviour, heav’n is beg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’s toiling ended, O glorious daw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when day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 з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лавное ут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 приме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заботам, светает ч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зем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no clouds will g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storms will threaten, no fears ann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ay of gladness, O day un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eternal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нет места туч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м житейским, страхам зем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наступает радостный, лучш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отдых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a hand will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the Father, whom I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ious presence, His word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my portion on that fair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Того уви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 за мой грех был изъяз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ышать, к Нему быть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чего жаждет сердце м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, O glad reun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our dear loved ones who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n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ir homeland, we’ll know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r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sunset for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ката — соеди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и, кто раньше в вечность у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разлуки, там душ об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ухода с эт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09Z</dcterms:modified>
  <cp:revision>14</cp:revision>
  <dc:subject>Slavic hymnal Гимны веры христиан, hymn 683</dc:subject>
  <dc:title>Beyond the Sunset / После заката</dc:title>
</cp:coreProperties>
</file>