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414-9497-46CF-B052-29AEEAEA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BB5-818B-4542-A1F8-702AB923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E43-9826-4797-9986-68E19092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401-935F-41DC-A1C1-7731D391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88E-88CC-4722-82AB-4572E147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8E5-759C-4F91-B5DB-1CA0CF03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866-E7B9-4A04-B766-0552A943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C1D-5B5F-4F8C-A36F-9FA164AD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C3D-3B05-4BE2-B5B5-9145F965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226B-50C7-4DE4-BD06-2EF4458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7A1-2E30-4C81-B9FB-68BBFB82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261-6DFE-4756-A073-E74109C9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28A1A-7151-468C-9E7E-5C5C301260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unseen thing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весть благ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 и звуки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повеств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ose who know it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m hungering and thir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it like the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радостно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торженно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in scenes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the new, new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have loved so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звуках аллилуй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ю на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у же весть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’tis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atisfies my long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nothing else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Господне 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авать друг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всему осн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наш создан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 it se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all the golden fa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ll our golden dr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стократ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все мечты зе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ых детск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did so much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is just the 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ell it now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повтор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радость мне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то возвещ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грудь моя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pleasant to rep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seems, each time I tell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wonderfully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о повтор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шу ожи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ome have never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essage of sal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God’s own hol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другим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ть и с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ог даёт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и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tell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theme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ell the old, ol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and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весть благ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ру Бог я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Иису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Его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4Z</dcterms:modified>
  <cp:revision>13</cp:revision>
  <dc:subject>Slavic hymnal Гимны веры христиан, hymn 649</dc:subject>
  <dc:title>I Love to Tell the Story / Люблю я весть благую</dc:title>
</cp:coreProperties>
</file>