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D0C8-D651-4423-B5AF-CB41E7799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A959-BB48-4C92-864C-35DDDA7E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C5B5-E47F-4F0B-B0A5-14007520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4DFC-7D29-485A-A204-C7E24279A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26C0-7727-4D3E-9D76-97EBDDC7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3FA0-3DA2-4B83-A470-C58D7CD5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D2E0-2E3F-437D-8B10-A17CF76C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6447-FF0F-40F5-A049-C126109A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5851-FFC2-486E-B9C4-39E75B35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4C62-0079-49D6-A660-E33BD592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3D8D-5B99-4A8A-9C72-F97B1E9C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71A1-93E9-4B82-B517-D021A8ED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F4E4E-4823-4A6E-AE4C-2006501DF29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а я спас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жий мир водвор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верую я в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кой м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л с души всякий гн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ына Божия ве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 греха я спасё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 я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верую я в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 я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ына Божия ве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Он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принял то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верую я в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изменной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хранитель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ына Божия ве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 я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верую я в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 я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ына Божия ве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радостн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 мною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верую я в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у вечно хва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слу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ына Божия ве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 я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верую я в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 я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ына Божия ве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4:00Z</dcterms:modified>
  <cp:revision>12</cp:revision>
  <dc:subject>Slavic hymnal Гимны веры христиан, hymn 612</dc:subject>
  <dc:title>От греха я спасён</dc:title>
</cp:coreProperties>
</file>