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79A-429C-4F96-8B18-51D01257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103-5938-426D-8A6A-62210B13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F72-1B3A-4F18-AB8D-A9A99BBC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8BC-47BC-41A6-B280-2BF69FF9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9DF-66D5-490D-9148-77E89ECC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9A3-2E06-47B3-A9DC-68CDB794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B4A-67FB-4EF1-B34D-7CD7B15B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4F0-45C6-49D4-9DE6-7D3736FE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540-21FC-41E5-A41F-3BAFDDFB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3EE-22FE-47D7-8DE8-E7F7233C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E1D-6777-4F75-B74E-5E5095EF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716-8A1E-4100-ABFE-3A1AADF4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1B945-D1DE-4A65-BCDA-D84B0640F8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the Lord is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rd and King ad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tals, give thanks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iumph ever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те в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поб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про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Saviour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d of truth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had purged our s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His seat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слава,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адлежат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победивши смер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cannot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ules o’er earth and hea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eys of death and 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o our Jesus 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, Владыкой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мерть и ад поп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ё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in glorious hop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judge sha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ake His servant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ir eternal h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жди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ранных с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agai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0:03Z</dcterms:modified>
  <cp:revision>12</cp:revision>
  <dc:subject>Slavic hymnal Гимны веры христиан, hymn 882</dc:subject>
  <dc:title>Rejoice, the Lord is King / Ликуйте во Христе</dc:title>
</cp:coreProperties>
</file>