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C85A-6AA3-42CE-BA70-867F1ABAD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553B-516A-4D40-9ADB-F7D2458F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7DC5-0284-4281-982E-D8320E8A1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EE99-D034-4C38-9173-6C7F19D4C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BA4E-7AEE-450F-8DDB-D49C79CC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F4A8-7A8D-46BB-8FE3-B20A7E69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31E3-B121-4BE5-A9CF-F50092BF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9D15-C02A-4399-90E1-4D5A3F6E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6CCF-107A-48A7-96D5-E68EE572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9E13-3DB8-455E-B82C-1B56E403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768D-1FC5-4757-A883-45CE7A1C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970E-1B73-46D3-A73F-3E18CEA5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E869D8-5B61-4081-A5DF-22F16178A60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, друг, к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есть, во всех грех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уврачует душ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ойся, сбрось свой ст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ободрись слов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а: «не изгоню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пред Ним все ра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ю боль греха т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7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ди, друг, к Иисус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предайся во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лишь слушай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излечит вск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сей нечист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крови Его проли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удешь исцелё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ою в ней омы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удешь ввек спасё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свой крест и следу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уть узкий за Христ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я за Ним, не сету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плачь ты под крест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емись путь к вечной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йти ты до конц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найдёшь в отчиз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ветный дом От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7:20Z</dcterms:modified>
  <cp:revision>12</cp:revision>
  <dc:subject>Slavic hymnal Гимны веры христиан, hymn 378</dc:subject>
  <dc:title>Приди, друг, к Иисусу</dc:title>
</cp:coreProperties>
</file>