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14E-586C-43FC-B412-6D9D32A5F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F70-723E-4960-9DAC-3181EC0F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C7E-9A18-4A2A-B93A-890DDF26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21B-F707-4CF2-88CD-88D72315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A5E-3E14-41DF-8972-D398320F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5A9-6DFD-4BE1-BEC9-99D98102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CD2-B3CB-44C0-A748-986710F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AC4-FACE-44B1-A594-929C1F44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12C-7271-4D94-A724-AFB78096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E9D-3C31-470B-89C2-148D7962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455-04A2-479A-AD4A-F64CA3A4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B1F-27D3-4700-8AAC-BB11BA5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09E6E-5CF2-467C-B59E-CD8A09D1F3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те ли Божий г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ющий к дел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созрел на ниве кол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те все к труд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, любовью пламе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от могучий з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те ли Божий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несчастные нар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не ведают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 нас, и в наши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огуча темн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в неверии косн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бнет множество 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олосом пр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ворец не 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л мудрости выс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ложил великих сил;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ничтожный дар име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всё ж нужны для тру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ветит, не робе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лужить, Господь, готов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зовёт к высокой 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ботать для Н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йдём, чтоб нам на д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ить Бога Сво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м ревностно тр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, иль там, вблизи, вда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же всякий вдохно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готов — меня пош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15:48Z</dcterms:modified>
  <cp:revision>13</cp:revision>
  <dc:subject>Slavic hymnal Гимны веры христиан, hymn 541</dc:subject>
  <dc:title>Слышите ли Божий голос?</dc:title>
</cp:coreProperties>
</file>