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6CE0-E9C9-4B00-B2DA-5B34AD607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839D-3F9A-4D76-9040-BEEFA5665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0520-C19D-49F6-997D-55F6F3087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3B4E-109E-456D-A774-B7DE7D45D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AC95-948F-485D-82D1-410A8B976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2C89-70F9-4854-B9D4-868FD323F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D9DC-7016-40E9-A761-18B769573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E0FB-EBCE-4CF8-9B37-62BFFB7D3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C1FE-3B48-451C-88C1-35A7389E7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667F-0FBA-4F1A-86F7-F78F10EF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1191-DE4C-4EA7-8FF4-506C12D4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99F2-041D-49D9-BBB4-3D216CA7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C1B1BA-9524-4662-B481-4AF3DDB6D67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вятости стреми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оге пребыв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дрствуй и моли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иблию чита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будь со все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бых поддерж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инь заботы бре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у служ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5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 святости стреми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вятости стреми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пройдёт, как ды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Христа держи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едуй лишь за Н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елик и чуд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лаве и борь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знают лю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 в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вятости стреми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Христом и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не торопи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месту впере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дости и в г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ржествуй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пуская вз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Господа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вятости стреми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ёрдым будь душ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о смири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Его ру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, водимый Дух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евностью г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йдёшь ты к слуг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го Цар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3:48:27Z</dcterms:modified>
  <cp:revision>12</cp:revision>
  <dc:subject>Slavic hymnal Гимны веры христиан, hymn 858</dc:subject>
  <dc:title>К святости стремися</dc:title>
</cp:coreProperties>
</file>