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5D3C-A080-41D8-A1BD-2B16570C5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27AE-9C78-4642-BB2A-9EB5B650A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E70C-7A25-43ED-A021-3AB267FC6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4135-A824-4399-92ED-6DBC661F5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AD8C-89EC-4EB9-BD2A-76DC7BDBF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4441-391D-4F48-B472-031E32C55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726C-2D0E-472F-9E28-964BD73E5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2432-ACEC-4B2E-88AF-6FE2B61E8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93FE-2D0D-4FD3-8008-B030298BE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BCD4-4A79-4CD6-BBFF-72E63BDF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873C-398E-442D-9D2F-63D34848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1A89-7FB6-4D2E-AF3D-DC363EDE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6710B5-7077-441C-B069-A5133303112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а Сион, гора свят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стол где Господа стои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ебе стремлюсь, гора родн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солнце вечное блест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ури нет и нет ненаст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радость вечная ца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сё согрето светом счаст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ивная хвала звуч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6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ра Сион, гора свят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ш Господь Свой лик явл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ленным детям Сво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ам слезу их утир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город благ — Иерусал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ётся там, неумолк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ук песни дивной, не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икакая речь люд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зать не может песни 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коро, скоро я там бу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Христом на той горе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да я вечно не забу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кровью я спасён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58:10Z</dcterms:modified>
  <cp:revision>12</cp:revision>
  <dc:subject>Slavic hymnal Гимны веры христиан, hymn 669</dc:subject>
  <dc:title>Гора Сион, гора святая</dc:title>
</cp:coreProperties>
</file>