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354-6D11-4221-8390-0932020F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D0C-7614-4395-8407-7A4A159B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E48-4510-4A3D-835F-F70B9D08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16C-772C-4447-AFCB-718FDCAC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31C-9D5E-4204-80AE-048D27BF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FA5-611F-40B2-9430-BCA33441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3CC-E960-41B4-B3F0-ED7862F7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8C3-E7AE-4852-AFA1-F59F4BDB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C94-2787-4FD1-AE41-065BFA79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4D26-F465-4960-92AB-91F4B6DB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DEC-A42E-4937-9535-96009F00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AC7-45CE-4C31-BB8F-EA84F63D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C3B4D-9AF3-45F9-B2BB-FA9B627A57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y by day and with each passing mo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rength I find to meet my trials he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sting in my Father’s wise bestow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ve no cause for worry or for f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за дн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 каждое мг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мне силу для борьб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я Божьим откровен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«изменчивой судьб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hose heart is kind beyond all mea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ive unto each day what He deems b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vingly, its part of pain and plea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ingling toil with peace and 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ьё сердце любит беспреде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нам лучше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радость отмеряет ве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вятой — сред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’ry day the Lord Himself is near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a special mercy for each hou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my cares He fain would bear and chee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hose name is Counsellor and Pow’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 ко мне Спаситель бли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ивной милостью на каждый ми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заботы прогоняет сра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оветник дивный для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protection of His child and trea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a charge that on Himself He lai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s your days, your strength shall b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asure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the pledge to me H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рука Всевышнего при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ормилец и Покров С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И как дни, так будет ваша сил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ье дал О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 me then in ev’ry tribu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to trust Your promises, O Lor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I lose not faith’s sweet conso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fered me within Your holy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во всяком испыт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Тебе, Господь,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ь твёрдо все обетов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ходим в Слове мы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 me, Lord, when toil and trouble meet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’er to take, as from a Father’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by one, the days, the moments fleet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ll I reach the promised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, встречая труд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имать их из рук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 днём идти, поднявши в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й стране, где не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1:22Z</dcterms:modified>
  <cp:revision>12</cp:revision>
  <dc:subject>Slavic hymnal Гимны веры христиан, hymn 863</dc:subject>
  <dc:title>Day by Day / День за днём</dc:title>
</cp:coreProperties>
</file>