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370-9149-47F8-9FE3-599F0F5E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24C-F721-4964-B736-9ABD674A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5B5-2DAA-4043-A72B-1D442A22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12-D5D4-4EF0-8F3F-21EDEF1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146-BE8A-4B66-8BB2-F5AD129C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F1E-162A-4686-8430-8F3EFD38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07EF-F07C-461C-8002-9F21E6C1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A3E-936D-4A33-B82D-A55836E6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303-263B-4566-84F6-D4C2D97E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F14-FD7F-437D-A284-135DDC0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DCF-A371-42F9-92B8-C897B2D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11C-2D5F-4828-9F9C-CD6911D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AF194-25C8-4C81-A607-BDB7261871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 худых н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 не гово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! мы — Христо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смо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ел худых не 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недобрый 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е нас все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сить нас хо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жаждою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зла не слу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ки не страши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у сопротив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добру стрем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 Иисус и кр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 и без ви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, как Он,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и,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46Z</dcterms:modified>
  <cp:revision>12</cp:revision>
  <dc:subject>Slavic hymnal Гимны веры христиан, hymn 760</dc:subject>
  <dc:title>Дел худых не делай</dc:title>
</cp:coreProperties>
</file>