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213D-53C0-45D3-8213-0C0C6A20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945-DBF1-4097-B3B2-83B9C2EC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158-F2FF-4A2A-B9D4-8CA0F6E5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664-64A0-4F5A-9BFC-893FA2E6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9C7-FB01-4075-93FB-97366B32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211-5053-4417-AAC5-DCD29669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DD8-6B58-49B9-8520-3826F9B5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2D6-44DA-4E12-AEBB-C272B838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F7D-E4DB-4D0E-A177-E5837A85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3A6-798C-455E-9D6C-78A2890C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78A7-6E80-44DA-B671-917F8A81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4FC-B03B-45AC-9891-A980A8C9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E6CC3-490F-4AA9-9A24-C1D2BC5763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друг, когда настанет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ть нам всем пред Богом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ие великое увид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ойдёт, но кто будет вне в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друг, когда настанет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х увидим тех, с кем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смерть внезапно, быстро разлуч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войдёт, другой будет вне вр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думай, друг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друг! Тогда настанет в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плач обмануто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ишь, что напрасно провёл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напрасно, нет возврата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ведь разлуки вечной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а с отцом, брат с братом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лоне дня стучать будут в дверь 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знаю вас», — услышат глас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, ведь тогда настанет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ти разумным в брачный пир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во время запаслись е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них пришёл, они вошли в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жить, любить здесь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дать в полночь, когда жених пр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бодрствовать с надеждо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рядёт Он взять детей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8:18Z</dcterms:modified>
  <cp:revision>12</cp:revision>
  <dc:subject>Slavic hymnal Гимны веры христиан, hymn 321</dc:subject>
  <dc:title>Подумай, друг, когда настанет время</dc:title>
</cp:coreProperties>
</file>