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908-8FC6-47D2-B65C-D313A521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E44-9013-4631-AE5C-937DD9B8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FCB-6851-4F7A-8CCB-33DD339D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7F0-F37D-45CF-BDBA-5CF277AB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895-BA25-4C09-83C4-CA51E2E1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AE8-E9F0-40E3-84B3-C357818C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A29-5B87-4F9E-AAD2-975096DA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E59-AB1A-4FD4-B9A9-EBE7E091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C2B-1A03-4D3D-87A4-F97F13A1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32F-4282-4637-8D95-9A211735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A80-F909-4E2A-9285-6076929F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557-B9AE-4580-9DC6-80389CAD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4AFCB-021B-46BC-82EB-8A3CF82FB06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daily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don’t want to worship from af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near to where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dwelling-place for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to the place where You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0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Just Want to Be Wher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welling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sting at Your 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ed by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lways want to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enter boldly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don’t want to worship from af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me near to where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my God, You are my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s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en I’m 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’m weak, You’re always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here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dwelling-place for ev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me to the place where You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b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2:24Z</dcterms:modified>
  <cp:revision>10</cp:revision>
  <dc:subject>The Source, song number 207</dc:subject>
  <dc:title>I Just Want to Be Where You Are</dc:title>
</cp:coreProperties>
</file>