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87DE-6971-429B-B054-BD18DE40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0BBE-AADA-4610-8388-9C84CA28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9E24-F2E8-4BB5-9D4A-7063847E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7BAD-9542-4602-858C-EEEA2352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DF1-0C5E-41FA-AA87-41DCFB9B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B51-532D-4A59-A5CE-075905E5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54E-82AE-414B-BE6F-6C9BB1E9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EA97-CD76-4398-A78A-BCFEDA04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039F-A02A-49ED-96ED-D0EE73FD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C4E2-FA6B-4CC0-8441-AEDC5D37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665-8AA1-483B-B4CA-A0A1492F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336E-DFF4-46EC-935C-5F79A4DA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C5AEC-37C5-4E85-A236-A6D015442CF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 я жизнь поз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я молюся, Он всё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отдаюсь Царю цар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уть, путь добра для душ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вя для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, Кто вместо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рестом на плечах на Голгофу шё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познаю, и молюсь не р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сердце моём был Ему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, среди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быть смирённым Его слу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нести крест тяжёлый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адать под гнётом земных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 в наш краткий 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делать хочу, что любил Он С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одиноких, больных, кал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изнурённых к Его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42:21Z</dcterms:modified>
  <cp:revision>12</cp:revision>
  <dc:subject>Slavic hymnal Гимны веры христиан, hymn 845</dc:subject>
  <dc:title>Живя для Иисуса</dc:title>
</cp:coreProperties>
</file>