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4CD-6F5B-40B7-B637-A95C29ED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D91-D5CD-47F9-B3E0-73700CF8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511F-AB41-4AF7-8430-01F07190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D92-A769-4A2C-8688-7109ED16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3E9-25EA-44D8-9C80-1DC79A4A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2DF-4083-432D-BBAF-CB790FAC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AB8-5871-4120-8765-8C8ABC71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849-3599-4ED6-9753-2C51A387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CDE-2A19-41BB-83C5-2FB27C40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46B-6723-4B4C-8135-A9E30A2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FEF-F862-400E-A34D-D8534BEF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731-5FAF-4053-9DB6-B344D071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A4A4-1107-4D35-B4DA-4EC74307AC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, работа в нём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их в нём мало, 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о копать и полоть, расчи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ой поливать и плоды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рные травы совсем из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каждый по силам труд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добно лозы от хищных стер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олода, ветра и бурь убер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 в виноград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! Ценой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ой Моей крови ты куплен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емя, и мысли, и силы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ум твой, все чувства отнын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арство Своё променял н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херувимов на муки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чашу позора и скорби ис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знью Своей твою жизнь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виноградник, пока ещё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оработать, уж близитс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умраком вечера ночь на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емя работы навеки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й с зари до зари, и Я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ожу в тебя силы и средства все 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блажен, кто себя посвя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ло Моё в этой жизни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иди в виногра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в нём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иди, в нём мало рабоч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ела не с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34Z</dcterms:modified>
  <cp:revision>15</cp:revision>
  <dc:subject>Slavic hymnal Гимны веры христиан, hymn 520</dc:subject>
  <dc:title>Иди в виноградник</dc:title>
</cp:coreProperties>
</file>