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B13-4E1F-4E45-9003-CC255C97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511-D4FE-4023-B7BA-709EEC11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E1A-CF86-47F4-9EA0-26BD5E92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641-9082-4974-ADE8-E427AA29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C79-0E1A-49C3-9B65-7764A2A9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449D-A08D-4291-8D99-9144FFB9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FD4-FBCD-4F11-B5E9-E694AFD1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18B-A03E-4042-857A-DADF9D7F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CA6-394E-49C4-A77E-039E14D9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E23-A69F-4A32-8243-CB3A07D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716-ACCB-4D51-8BF4-A8A5E7F6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C30-0AB6-48AC-88DE-B365EBFA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FE536-7048-4DEB-99E7-E13E9BAFE9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гріха я спас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Божий світ посел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спокій дав мен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тягар зняв з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7   Від гріха я спас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відк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ою я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незмінній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хранитель душ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за радість теп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зі мною є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в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у славити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те, що спас ме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цем вірую я у Ісу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ю я, вір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на Божого вірую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8:48Z</dcterms:modified>
  <cp:revision>13</cp:revision>
  <dc:subject>Slavic hymnal Гимны веры христиан, Ukrainian hymn 17</dc:subject>
  <dc:title>Від гріха я спасен</dc:title>
</cp:coreProperties>
</file>