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068-F00F-4672-8539-93EECD4D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CB0-FDE6-4682-8D58-3DE2BBBF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637-323E-4A00-A546-5FF699E9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56E-588B-4C31-8D8B-93F9C58C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87BB-8480-4A7F-810E-07F0FF80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F08D-6D61-457E-9A5B-B5139BAD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2BE-AE09-4D47-8F06-BABFEF94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839-A538-4AF7-B092-55549F21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FED2-3774-466E-8A2A-4A4436F5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A3E5-438E-4494-908A-646384DD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D2F-344B-4BF9-8409-939E819C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4D33-EB9D-44BD-9AD2-C738B668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E8970-CD8D-4083-B6A8-8FB86D3C98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дёшь к святой отчиз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, дети твои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 алчут хлеба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мечтаешь о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дные, ваших де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вам п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дите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ы идёшь к святой отчиз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отец, сидишь в собр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уясь, что ты спас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где сын? Зачем в незн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з Бога гибнет о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дители, хра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своих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ее приве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учшему из всех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ть, где дочь твоя? Скажи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не здесь о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она доны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ой увлеч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родители, мол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етей своих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их призвал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вященного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4:36Z</dcterms:modified>
  <cp:revision>12</cp:revision>
  <dc:subject>Slavic hymnal Гимны веры христиан, hymn 772</dc:subject>
  <dc:title>Ты идёшь к святой отчизне</dc:title>
</cp:coreProperties>
</file>