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057-5EA7-49A4-ACAB-FD87A25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109-6A65-4CB9-959B-BACA6021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9BA-2374-4306-BF5E-C6D656D4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F87-467B-408D-8222-8DF312F7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771-3AF2-4112-9382-DB854D0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755C-B1D9-4DFF-9AF1-D21093E9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1B-1EC8-448B-8B93-50B107C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1C4-820E-4A23-A84A-E5E6E54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780-427E-4B78-9BC1-9957EAD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5B8-90CE-41E7-8348-FC30FF02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806-427D-4CBF-901F-E227DE7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0EC-F199-42E7-9A99-6F182A5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5D550-41AE-4285-9846-312D27DA1D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т ли враг со всех стор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раком путь твой окруж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й силой обл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шь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снит ли вр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небо над гла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редавшись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сомненья не вни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ись и упо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опоры ты лиш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душою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певших Бог благосл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ыше наде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ся ль скоро гнёт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горечи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ова обод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, укреп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путь земной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 небесный свет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енье при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5:52Z</dcterms:modified>
  <cp:revision>12</cp:revision>
  <dc:subject>Slavic hymnal Гимны веры христиан, hymn 481</dc:subject>
  <dc:title>Теснит ли враг</dc:title>
</cp:coreProperties>
</file>