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B3A8-04C7-42C8-9300-E8D108D7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E9EF-3235-4B02-BF2E-E5A5D2CB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F6FA-62E4-4C9E-A78E-FC482772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0E05-7F3C-4095-8508-7088310E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4982-997B-4CA1-8F96-96C74A23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078B-391A-4B22-A911-F0350528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6550-36EC-41EF-9B68-A67C2746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444D-7469-4640-B73A-F1228923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627A-13DC-4853-A7E0-95057A13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3312-248D-43AF-8131-2EB68EB6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1E31-D2A1-48FC-AB4F-24BB62FF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4239-CE10-41D2-9E97-FF50D06A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603CB-D4EA-4B7A-B754-30955033B60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сскажет ручей говорли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ому моей тайны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лугам и полям молчали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ежит он холодной струё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сскажет, что волны слых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ому моей тайны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тело моё погруж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крещеньи в полночной ти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расскажет руч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 мира сего отрека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 Богу в крещеньи дав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для славы Христа обеща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ой я тогда лико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полночный, при лунном сия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ршался священный об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блаженном, святом упов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я от Бога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итве священной вним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еслася от вод к небе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ом душу мою наполняя,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мне Бог в сердце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 великую тайну свят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храняю я в сердце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новой я ныне лик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 в церковь живую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поток был свидетель безмол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ей тайны великой,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чистые, светлые вол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моею прошли гол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ыть мне ручей одино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ыйду на берег ве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от берег зелёный, высо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завет заключил Бог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мне, мой Боже Вели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завет до конца сохран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скорбном, враждою покры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сёцело Тебе посвя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1:13Z</dcterms:modified>
  <cp:revision>12</cp:revision>
  <dc:subject>Slavic hymnal Гимны веры христиан, hymn 720</dc:subject>
  <dc:title>Не расскажет ручей говорливый</dc:title>
</cp:coreProperties>
</file>