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5161-ACA1-4A88-9599-7075705ED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8A03-CD61-4E31-BD8C-FF4593B74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15E2-6ED0-420F-8EC6-D43B91DAD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A28B-6ABF-4D4D-B36B-DA151B1DA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D033-0ECC-48DB-BD78-5E3505781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4EE8-D549-482D-9409-21D611B56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AE72-A535-41E0-B2F8-12BB200C0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F21E-DB96-4AAB-BC03-AEB2593BB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3FD2-A01E-44BE-9782-CABDA62F6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5C15-D609-44D5-9621-1300DB88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AB1D-2E0D-4BB3-93FE-56A3D56D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6417-A45D-4A03-B243-D5D2C1B2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E56787-3668-4B9F-A359-AC31D2D7A24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e, O God of lif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e, O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e, O God of lif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e, O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guiding lap of the ocea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ne hand on my rudder’s hel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y love behind the billow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ind within my sai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808   Glory to Thee, O God of 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e, O God of lif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e, O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e, O God of lif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e, O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my prayer, O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accord with Thy sanctify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my heart, O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accord with Thy loving c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e, O God of lif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e, O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e, O God of lif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e, O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my deed on the l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accord with Thy satisfy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my wish on the s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accord with Thy holy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e, O God of lif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e, O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e, O God of lif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Thee, O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16T01:09:26Z</dcterms:modified>
  <cp:revision>13</cp:revision>
  <dc:subject>The Source 4, song number 1808</dc:subject>
  <dc:title>Glory to Thee, O God of Life</dc:title>
</cp:coreProperties>
</file>