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F011-124F-483A-A887-E26FB12B2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148F-1848-42B4-8424-48896222D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E246-23B8-470A-A3AC-CA3667827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74EB-8E44-4B9A-B0EE-483B02194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D039-89F6-443F-9AFA-9E3D96CCB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DA5B-E2FA-4622-BC76-799704F3F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EA79-7D57-49B4-9A26-1DABE4CDF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73C1-052F-46D0-B6EA-985B79D2D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4156-D281-426E-A4C7-93F585968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A6DD-3FBC-4852-B5BD-DFD8E313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7193-3E35-4873-B4AB-89F59BF9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33D3-1EF7-4DEE-A6C5-79566907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C6A2D7-5AA0-4704-84ED-BF1855CCA59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Пилатом Иисус стои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и оставлен, презрён, изби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! вопрос роковой звуч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Что сделаешь с Иисусом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шь с Иисус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реши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станешь пред вопрос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т Он со м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0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еред Пилатом Иисус сто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д судом Он стоит ещё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, за Кого ты признал Е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шь ли защищать горяч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шь с Иисус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шь с Иисус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реши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станешь пред вопрос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т Он со м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шь ли руки мыть, как Пила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согласишься с Христом страд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рыться нельзя, Бог велит реш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шь с Иисус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шь с Иисус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реши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станешь пред вопрос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т Он со м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рекись же, как Пётр то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не пугает тебя враж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, согласись жить с Христом 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шь с Иисус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шь с Иисус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реши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станешь пред вопрос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т Он со м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 мой Господь, отдаю с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дости ль, в скорби любить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— моё счастье и жизнь м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сделаю с Иисусом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шь с Иисус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реши душ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коре станешь пред вопрос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делает Он со м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3:14Z</dcterms:modified>
  <cp:revision>12</cp:revision>
  <dc:subject>Slavic hymnal Гимны веры христиан, hymn 408</dc:subject>
  <dc:title>Перед Пилатом Иисус стоит</dc:title>
</cp:coreProperties>
</file>