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F07-A090-4F19-B576-54B23C2D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64A-5BBD-49FC-9FF8-C19D7911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BF23-200C-4BFD-A0F4-F44D3E48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5DF-DE91-4B10-BF3F-50C56B9F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062-A3DE-4C51-88CA-6A7EB8CA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093-7D64-449E-800A-58FF1462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93CB-C8E1-4C8C-9E42-442E9C64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26C-9169-45D8-9F02-811FBFB9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C0F-E887-47FB-8E52-E3FAF603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31E-CE97-4E56-9EC2-0204F3C8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643-678E-4804-998F-3CFB6BD1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CD9-C145-4DA1-9083-7515033A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FB7BB-E519-460E-98E3-DC5B2AE9DC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городе Да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ён Господь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смиренного Он ви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-царски дар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от смерти изба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вобод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вятого прими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енной Своей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ыне в городе Дави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риняли ту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регущие ст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ь сонную, глух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релася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 пошли послуш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еть чудные де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орелась вера в душ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Младенцу прив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как раб людей смир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на землю при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жде всех веков Рожд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яслях здесь на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оскошного черт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сли ищет Божий Сы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е любил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тец для всех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вори же сердца дв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нём скот, вертеп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родится в нём по ве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всё обновл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ении вел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ова ангел вос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мрачном полуд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поне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ворец, Благ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ечная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ми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6:52Z</dcterms:modified>
  <cp:revision>13</cp:revision>
  <dc:subject>Slavic hymnal Гимны веры христиан, hymn 237</dc:subject>
  <dc:title>Ныне в городе Давида</dc:title>
</cp:coreProperties>
</file>