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771-4A06-4A7F-B5EC-FFE628A7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5A0-B75E-450C-A692-B9115506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E343-D3F6-4C22-9116-29CC0E65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686-5139-4F68-9603-9B24D5F0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4E4-AA58-4F93-989B-350A77C5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3AC-404A-4F94-910D-6EE7A3E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2A6-CBA1-47F0-ACA9-7D198C42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F2D-7564-4A49-A3DD-888E2B3E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26E-CE71-4FD7-8DA8-476BD92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5B3-C092-4422-B802-C5B5806B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6C4-82A3-4D65-B586-30375DC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837-B2FC-40E4-B56A-8B87019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2A4D0-290D-4960-8D78-5F9F31BD78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56Z</dcterms:modified>
  <cp:revision>12</cp:revision>
  <dc:subject>Slavic hymnal Гимны веры христиан, hymn 868</dc:subject>
  <dc:title>Когда я поднимаю взор</dc:title>
</cp:coreProperties>
</file>