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EDC-E35C-4BF4-B6D6-63EF6E13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F00-5011-493E-9249-6E6388D9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FBB-7196-464E-830A-4E248A9A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A58-881C-4614-978B-40A7E01C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480-5706-44D8-A44F-8E8D6817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99F-2E37-4A9A-B3D8-4501A7CE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535-107E-4526-A66E-BE2E4D40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09E-A90B-41C8-AC30-2AF72080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A87-A757-42DD-B781-078EC504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1E7-BAA5-4A16-8D33-9FFE33CC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90F-16D4-4F22-B92E-1B209DB8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E79-A065-4D41-A44B-57C9058A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69FD7-1838-4F53-A2A7-26C807B461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тебе, заблудшему в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ящему домой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зовёт, любя вдвой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, дай сердце Мн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тебе, заблудшему в пу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й глас довольно мне зна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лужит мне советник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ыне он гласит теб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, дай сердце Мн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знаешь ли, что благ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с святыми может 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сть на престоле в выши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, дай сердце Мн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ец Небесный, я г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бавиться от всех о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ердце грешное в моль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, даю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(дай сердце М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(сын Мой, сын 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сердце Мне твоё)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лышь Отца любезный глас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 сейча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4:46Z</dcterms:modified>
  <cp:revision>12</cp:revision>
  <dc:subject>Slavic hymnal Гимны веры христиан, hymn 359</dc:subject>
  <dc:title>К тебе, заблудшему в пути</dc:title>
</cp:coreProperties>
</file>