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868-23C7-4273-8B4B-24AF6167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62B-D908-4041-8535-495A2BE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60A-8DC6-45F9-A55D-D9EFFC8E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B07-DA34-450B-801F-3BC6085B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82C-46D3-40C8-8928-D951544C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8EB-19DD-4468-A299-E995ACE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A9B-9931-4DA0-A515-7E3407C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B46-CD79-419B-B7C9-4E4CD6D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D44-EC91-41B8-BC53-D3E3D424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003-D96D-43D8-B5F7-198846D2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7E7-B6DC-4056-9C06-B337811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B307-C89D-48FD-BFE5-5D1A00F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14F8-ADA7-4070-91C1-FF9EC20798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дали Христа блуждают милли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абов, в цепях отчаянной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долины тьмы несутся плач и сто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помощи спасающей ру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Христа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то полный сил, любви и дерзновен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ти во мрак Евангельскую вес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жги огни всеобщего прощ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и на пир, там много места е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нам смерть? Вот жизни да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щенны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те в жизнь, и будете вы жи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воскрес! Он — первенец нетлень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нетлению стремитесь также 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м сила Божия да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ите в мир и проповедуй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лагую в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Се, Я с вами во все дни.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37Z</dcterms:modified>
  <cp:revision>13</cp:revision>
  <dc:subject>Slavic hymnal Гимны веры христиан, hymn 522</dc:subject>
  <dc:title>Вдали Христа блуждают миллионы</dc:title>
</cp:coreProperties>
</file>