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ABB-6ADE-4CC9-859E-617B1024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F10E-C0DE-4384-BCC6-0D7A76C5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E22-AE7E-4FF4-AEC6-9FA713BD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9BD-6B8F-4C64-9860-A2BF6A1C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B7A-EF39-47A9-83DA-EE08DD8C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677-A09F-4D09-9EF6-57BF0658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CF7-AD5A-44C1-BF62-AF2C18C8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176-9261-4321-BF14-4361C43C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948-D139-4317-AF30-329B0789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4B8-5CB5-43D8-B1B1-2D33B3E2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7DF-E526-47B7-AFA2-BFD046DA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976-3D7D-4CEE-809A-07D1D0B2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0AA34-A2E9-4367-8773-C5A7574079C0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ri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here in unity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ong of Your salv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in this generation for our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song of Your forgive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t is with grace that river flow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19   Take Us to the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Your throne r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ive us ears to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y of heav’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at cry is merc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rcy to the fallen sons of m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ercy it has triumph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iumphed over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thron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mount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 us in the shadow of Your hand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is Your mighty ang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stands astride the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n his hand Your mer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howers on a dry and barren pla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ake us to the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ity of ou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Spirit of the sov’reign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upon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year of the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29Z</dcterms:modified>
  <cp:revision>12</cp:revision>
  <dc:subject>The Source 3, song number 1519</dc:subject>
  <dc:title>Take Us to the River</dc:title>
</cp:coreProperties>
</file>