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B05-6C1F-4069-89C2-B99910C8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53C-A7AD-4B7F-984E-C7CDA30D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AF3-E489-458F-BFB0-276E091D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5AC-F958-4D54-B8F8-FD5FE4A2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835-6FC9-4937-A5CC-F5349F8B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484-A532-4BD2-B16E-20ECAA38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E6C-3049-41FC-BE63-CFB55D7E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EE4-CA7A-4379-BB60-419C3DDE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5EA-778F-4361-B7A4-9B8147E8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D75-9A9F-4D48-AB91-ACFE8E5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643-E828-4F1D-AD29-250062BD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0B7E-1702-4CAB-A34E-218E8EBF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33391-C870-4FFC-9491-F68F8F6884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ворих із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ртвім життя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іпим дає Він зр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ивії ходять в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5   Він може, Він м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оже,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Він 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Ісус може ізці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42Z</dcterms:modified>
  <cp:revision>12</cp:revision>
  <dc:subject>Slavic hymnal Гимны веры христиан, Ukrainian hymn 105</dc:subject>
  <dc:title>Він може, Він може</dc:title>
</cp:coreProperties>
</file>