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DC5-942A-4E16-AC2B-78E832DC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D3F-697B-44B2-920B-D32455D9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3DB-C60E-4089-90C6-7C0CD29A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EC3-4D45-4D7D-ACF2-205A0D1D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2EB-33A1-4C15-B5D2-50CE9C37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257-FCF4-4B56-A2A8-A6609295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241-BE27-4E2A-BDE3-2BD4F1BC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3C5-28ED-4EA1-AFD7-A8F8B694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9C4-8C2F-4EDE-9CA9-1379CF3E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37B-3D55-4388-ACB4-9774E455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1E3-9CB5-4C1D-9DF9-22FB9C86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855-662C-4F18-B1AF-11A40D14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0A680-6090-4F37-8A0E-83A5E4A1A8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heard the joyful s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read the tidings all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ь чудесная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чудесная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Церковь повт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r the news to ev’ry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imb the steeps and cross the w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ward! ’tis our Lord’s comm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радостной —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 мир скорбей и слё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весь нар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ft it on the rolling t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ll to sinners far and w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ускайте по вол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свет земли сы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ye islands of the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cho back, ye ocean c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shall keep her jubil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жител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Божий юби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above the battle str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His death and endless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 шуме битвы зл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й чистой 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t brightly through the gl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e heart for mercy cr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in triumph o’er the tom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если в сердце с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ред лицом угро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еснь в день похор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e winds a mighty v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nations now rej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ите вдаль и вши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икует целый ми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salvation full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ghest hills and deepest ca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our song of vic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ves! Jesus s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 царстве слё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вечный наш пса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7Z</dcterms:modified>
  <cp:revision>13</cp:revision>
  <dc:subject>Slavic hymnal Гимны веры христиан, hymn 572</dc:subject>
  <dc:title>Jesus Saves / Весть чудесная звучит</dc:title>
</cp:coreProperties>
</file>