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C05-7A40-4F70-AD65-B885C7FC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5C9-674B-4C91-BFE3-2669857E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BF9-76AC-4E9D-9AC7-422FE384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1FB-5E95-4C38-B53D-981E439B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F0C-3F4D-4AC1-A528-8A8CD9B1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00F-AC81-4D3B-9BA4-CEDB8444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674-2111-48E8-A770-0E151BF9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0CA-C161-4B06-BCD1-71435916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04E-2AFD-4AE0-AB6F-1FE7B384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91B-3D6A-4378-B829-8D8BFDD6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888C-698A-4A54-9D22-87B44CE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AC4-940A-4E5E-9181-A7B4FE68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74EF8-6DC8-4C07-BE16-6D38680CD6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6   Бог добрий є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Він добрий 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4:09Z</dcterms:modified>
  <cp:revision>12</cp:revision>
  <dc:subject>Slavic hymnal Гимны веры христиан, Ukrainian hymn 106</dc:subject>
  <dc:title>Бог добрий є!</dc:title>
</cp:coreProperties>
</file>