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07F-2AA6-40C9-9CD6-1B6743B0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AB1-B212-44FE-BD1A-06ADE31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AD0-B61E-4580-941E-D7715E08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57B-DD77-45DC-91AD-56C722C6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49D-EF1A-421C-B55C-0DA99A1E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09E-DF94-43BA-98EA-8C06A325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980-DE37-441F-AA90-3582F1C8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27B-7E2C-4E14-B8EB-C8974AA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F29-84A8-436E-95C3-E2D4EBC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89A-2E3A-489D-BCE6-90197821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AE2-FA10-41AC-8CDA-D557C8A5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5BC2-530D-4783-A133-3838FCD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2CD4F-6314-4020-9F74-4E81052BB0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ord, what love is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ays so dear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, the guilt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go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ord, What Love Is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y watched Him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spised, rejec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, the blood He 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this love of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ow like riv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wash your guilt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O what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God, gi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He pays, and my death H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live, that I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09Z</dcterms:modified>
  <cp:revision>10</cp:revision>
  <dc:subject>The Source, song number 370</dc:subject>
  <dc:title>My Lord, What Love Is This? (Amazing Love)</dc:title>
</cp:coreProperties>
</file>