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C589-1D9C-4E10-BF9F-D062E60D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5A90-5215-4409-BCAE-95867FCD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1AF-CE38-4363-AE05-3AEF233F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3CB6-F173-4EA1-B567-7779AA43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E271-90FD-4C22-A837-97438504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8D1B-D452-4DDB-82D9-C075E44E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901C-0F1F-4606-943C-AAF88DBB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15F4-9482-4D58-B8CD-E3CC92D1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2AF0-3B28-474E-B0D4-B881ECA5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6472-4EB7-40D1-9ECE-5C5C0A02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B504-AE59-4FC8-BC4C-36EF10AC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166B-77FC-459E-B42B-0F61DACD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8D0A9-0125-4495-8D3A-35C12689408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― ім’я найвищ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Спаситель, Славни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Еммануїл, Бог є із 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 Відкупитель, Слово жи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6   Ісус ― ім’я найвищ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6:20Z</dcterms:modified>
  <cp:revision>12</cp:revision>
  <dc:subject>Slavic hymnal Гимны веры христиан, Ukrainian hymn 116</dc:subject>
  <dc:title>Ісус ― ім’я найвище</dc:title>
</cp:coreProperties>
</file>