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049-988E-43B8-8CD0-21A31C08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85BC-2AE2-4AB6-85F3-AFC6FCFA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6B86-085E-46B0-8687-2F074CAA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F6C-CB73-48C7-B825-997E8314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4370-5520-4722-A253-3CFDFABA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EB1-DF4C-4406-B331-651703CE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56D-CC58-45A6-8404-1C007534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A7E-2382-4D28-B82C-71371EDD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CE64-E999-4625-97A3-DE96BA1F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E1C-CCF5-42D1-8026-8BD8CA25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CD1-AD63-4F8B-B31F-2499EB38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8048-D6A0-4179-8A48-4B263E29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DD41C-70D7-417B-9928-8BB0AFFFAC4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ясный лучший мир 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ый мир, светл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печали ника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край, чудный к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е песни там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духи светлые жив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 там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ый мир, светлый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ясный лучший м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туч на небе голуб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край, чудный к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стонет под тру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рай, Божий 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там без ко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ком Господа От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ам ликуют в мире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край, чудный к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ы виновны пред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спас, Он нас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весь мир объят гре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спас, Он нас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пришёл за нас терп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может все вины сте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у блаженства вновь в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спас, Он нас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е Его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Ним, всл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е в Отцовски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Ним, всл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, время нас не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ё спешит оно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коро час наш подойд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Ним, всл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9:32Z</dcterms:modified>
  <cp:revision>12</cp:revision>
  <dc:subject>Slavic hymnal Гимны веры христиан, hymn 665</dc:subject>
  <dc:title>Есть ясный лучший мир иной</dc:title>
</cp:coreProperties>
</file>