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1BBC-1160-45E5-8918-E1C656F3E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CF40-CA64-4594-84F1-A5A8E8AB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BEC7-53C6-40D8-BAE7-83137FD42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E7A2-51AD-4516-90E4-0D8DA3E7D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8A88-F966-468D-BB7B-0DADE853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48FE-A5E4-4ED4-A0CF-4C5DF55D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FC44-FA69-45CB-8BFB-FD11FF75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F645-3E3B-4D1E-AD2C-60AA4FDF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1E71-54D2-4B1B-9637-3D34F7C3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997F-FC4B-4E2C-9A6C-53B25856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6007-ACFF-4BC4-A474-57B4A0C1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E5A3-274A-449F-B7E7-5EE52377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C0BE0-A030-487A-B24D-BD5722DF291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came upon the midnight cl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glorious song of o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angels bending near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ouch their harps of g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9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тиши ноч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иши ночной среди по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ночи мрак исче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тели ангелы с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ть песню для люд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ce on the earth, good will to m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eaven’s all-gracious King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rld in solemn stillness 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ar the angels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ир на земле! Господь посл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лог любви свят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в безмолвии вним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й песне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 thro’ the cloven skies they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peaceful wings unfurl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till their heavenly music floa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all the weary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тают ангелы с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лночной тиши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ир несут благую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радостной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ve its sad and lowly plai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bend on hovering w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ver o’er its Babel s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lessed angels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, где горе, плач и ст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ат они с хвал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глушит наш Вавил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песни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ye, beneath life’s crushing lo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se forms are bending 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toil along the climbing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painful steps and s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ы, под бременем заб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гбённые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рудом идущие вперё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е к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now! for glad and golden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swiftly on the w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rest beside the weary ro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ar the angels s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ите, новый день спеш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чудесной быстро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имайте с радостью в ду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й песне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lo, the days are hastening 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prophet bards foreto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ith the ever-circling y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s round the age of g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наступают дни, к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ждётся челове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ут и войны и враж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нет славный в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peace shall over all the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s ancient splendours fl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whole world give back the s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ch now the angels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воцарится на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олкнет бури 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ьются все сердца в хва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й песне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42:47Z</dcterms:modified>
  <cp:revision>13</cp:revision>
  <dc:subject>Slavic hymnal Гимны веры христиан, hymn 795</dc:subject>
  <dc:title>It Came Upon the Midnight Clear / В тиши ночной</dc:title>
</cp:coreProperties>
</file>