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E3F9-6157-480A-A340-89684A1A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8E50-E369-4CF4-B607-745251BF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078-0FEE-494A-871E-55F116B7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6D0-5159-46FB-92FA-AAAFE41B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43E-21FF-4167-8A22-08EBBAC5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E012-9B9E-4A54-9440-09C74E0B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691A-BFEF-43D3-84B1-31136904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E7C5-6366-4B37-A321-08BF2E21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9CAF-F77E-4025-823A-4D31BF04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D783-D1EF-4C06-A73C-520D6FA9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DA5-E596-4618-81C5-3EB313E0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9B93-A76C-48EA-A930-68FE4958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134D0-2CCF-4286-97F6-B533C2C72F8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еял ты, друг мой, весн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 ли в родимом кра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, как кружатся толп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ницы-пчёлы в сад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сеял ты, друг м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еял ты, друг мой, весн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лаков ли хлебных зер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сьев волной золо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ыто всё поле твоё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рядом, — о, страшное пол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раг ли посеял там з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ючей, опасной трав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густо оно заро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еял ты на поле жизни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или злую враж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йдёт твой посев и созр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вечности примешь ты мз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еем Учителя сл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ое слово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жертве Его всем расскаж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олитой Агнцем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день, увидим мы в н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ных, счастливых люде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ую жатву спасень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ей, безустанно, друг, с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доброе семя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придёт, не замедлит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нёшь, что посеял т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4:45Z</dcterms:modified>
  <cp:revision>12</cp:revision>
  <dc:subject>Slavic hymnal Гимны веры христиан, hymn 545</dc:subject>
  <dc:title>Что сеял ты, друг мой, весною?</dc:title>
</cp:coreProperties>
</file>