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73</a:t>
            </a:r>
            <a:r>
              <a:rPr b="1" lang="ru-RU" sz="3600" spc="-1" strike="noStrike">
                <a:solidFill>
                  <a:srgbClr val="ffffff"/>
                </a:solidFill>
                <a:latin typeface="Verdana"/>
              </a:rPr>
              <a:t>	</a:t>
            </a:r>
            <a:r>
              <a:rPr b="1" lang="ru-RU" sz="3600" spc="-1" strike="noStrike">
                <a:solidFill>
                  <a:srgbClr val="ffffff"/>
                </a:solidFill>
                <a:latin typeface="Verdana"/>
              </a:rPr>
              <a:t>О Господи, зову к Тебе</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О Господи, зову к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в этот час в моль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преклоняюсь пред Т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скорбною душ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Прости меня, о мой Госпо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 всех грехах мои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искушенья поборо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дай погибнуть в них.</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Я не имею у се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ем долг мой заплат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Ты, заблудшего лю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воли прост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На землю Сына Ты посл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жил Он в нищет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а Голгофе смерть приня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грех мой на кресте.</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Не за меня лишь Он страд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согрешивших все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За них Он кровью истека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смыл их тяжкий грех.</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7T21:32:58Z</dcterms:modified>
  <cp:revision>3</cp:revision>
  <dc:subject>Slavic hymnal Гимны веры христиан, hymn 173</dc:subject>
  <dc:title>О Господи, зову к Тебе</dc:title>
</cp:coreProperties>
</file>