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469-039A-4D15-B5B1-527994EE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1C8-E142-48F0-A586-BA5D0288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E21-F2D9-43DF-B481-9D8D841D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F89-3974-4248-A6C4-A91B1386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D09-4E13-4243-8183-E5A4262F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B7E-1833-4390-AF1C-AC0D3D5D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2C2-3B43-4139-A30D-4424CBD0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A7A-F3F0-4453-A151-BDF8C8EF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8AE-4ABD-4AA6-830B-DC1F6DA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0B8-35BE-49B0-ABFF-A11B326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3BB-DEB8-431E-9DDB-75DEC530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51C-0846-4BD6-A9B4-E7FA9DBA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7B7E2-2C6A-4039-ADB4-FDF82903F5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исталищ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и вечной мы беж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видны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нечной жизни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дали горят вен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ённые для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яются дворц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близок славны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ристалище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ежали о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тиг над бездной н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ой любви с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нас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пред нами пу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за Ним беж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чно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Его дог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емся мы с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ысь святую над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д миром суе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! взор наш устрем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поднятый пер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ее вслед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мо, мимо грешных мес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2:59Z</dcterms:modified>
  <cp:revision>12</cp:revision>
  <dc:subject>Slavic hymnal Гимны веры христиан, hymn 494</dc:subject>
  <dc:title>На ристалище Христа</dc:title>
</cp:coreProperties>
</file>