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F9F-B7AC-4B33-B6AD-153DFD3A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061-C082-4E2E-A169-53DB9DAD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5C7-C114-4D22-8EFB-4B982732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246-B67A-4F36-A479-7821FB55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364-4FD9-461A-97B9-C58E5B2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D36-A666-432A-9C4B-262319E9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09F-26A3-4B57-BB00-80589D6C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A8A-74E2-48DB-9E5F-7BD14528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A1C-D25A-4C61-8B95-6BC0CFF5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5E0-BC4C-4F15-B1A1-66C057F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C80-9035-4EE2-ACF0-0D8D2C4E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578-E49D-43ED-BD0B-378F4795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D5F7E-AC4C-4E9C-9FB0-0168C2A3E6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o belie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o rece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в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яться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s now some soul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, Spirit, go Th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more convenien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 I’ll c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-то шепчет м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доверяй вп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й раз в тиш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шь к Нем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come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not aw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по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?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nvites you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are lingering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ers rise from hearts so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nderer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тебя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церковь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vest is p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 persuad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om comes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дно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 уверен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а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” cannot a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” is but to fa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d, sad, that bitter w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ost,” but l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ти» свело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ило сил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о чрез «поч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на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38Z</dcterms:modified>
  <cp:revision>12</cp:revision>
  <dc:subject>Slavic hymnal Гимны веры христиан, hymn 892</dc:subject>
  <dc:title>Almost Persuaded / Почти уверен</dc:title>
</cp:coreProperties>
</file>