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FB11-6CF0-4FAF-A83E-04A007F0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29D4-26F4-4377-8AB5-A92E3B8E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0F1-129D-492C-AAB2-399FA6E4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44C-3D80-4EB2-817C-AFBD61DD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07E-AD23-4134-A220-BEA17F23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E0E-0A44-42F4-BD82-E41B07A6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866-1E0D-40E2-ACF8-6EF5FA66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35E-C031-4B85-B682-E220BAFA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8F1-D859-4E5C-8DC0-551D94A3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386-248A-4D5C-8933-34C75B38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608-4D08-4329-B14D-71D310D4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81F-2F99-45D7-85AB-7593D83F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B19ED-FA84-4E70-BF7F-732B7F5F2C5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зья дорогие, взгля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страданье Иисус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у жертву крови оцен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в сердце Ему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гордитесь, друзья, но смир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ь поверьте Иисус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 Господних принять не стыд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оверьтесь Ему, как ди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84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друзья дорогие, взглян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будьте, друзья, равнодуш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этой жертве Иисус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Он к нам придёт всемогущ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нья не будет т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нье для нас невозмо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делами, ни жертвой, друз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авданье для нас — только в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ь и тело Иисуса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ьмёт только тех, кто послуш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л верен Ему до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Отойдите!» — Он скажет всем грешн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верил ученью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, дорогие, 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силы бороться с грех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жде царствие Божье ищ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льное приложится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3:41Z</dcterms:modified>
  <cp:revision>12</cp:revision>
  <dc:subject>Slavic hymnal Гимны веры христиан, hymn 406</dc:subject>
  <dc:title>О друзья дорогие, взгляните</dc:title>
</cp:coreProperties>
</file>