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153-B22A-4FE8-B30C-91F2255D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B34-3B54-4D9D-A5AF-20319524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F2A-2EDF-4C47-8825-DD47FFF2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088-D604-41FD-AF97-F3525EF8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F8E-F6A0-45C2-BBF8-06385016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B3E-4298-43AA-A64D-5F45E085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E37-CC81-4C34-B778-8813CAFB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79F-5C7B-489D-8E9B-54CA65D8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33A-1A20-4160-9CCA-373D0E3C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D33-C50E-4E75-864A-51E16AC6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8F0-8ADB-4841-AE3A-0E07C2E9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6D5-59B1-4C4E-A4EA-5C02CA63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8B1DD-CE15-4B45-8115-FE29B163CC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и лучше, чем солнце Вост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звезда, нашу тьму разг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нас к Младенцу веди издалё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небес озаряй наши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на поле роса трепет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 Младенец на сене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е небо в ту ночь ликова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 Создатель Спасителем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че и луч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ем нам явиться пред вс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лы морей, ароматы луг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 гор, драгоценные кам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ру деревьев, — Он примет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 пред Ним богачей прино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обладатель сокровищ земн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видеть сердец сокру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слышать молитвы прос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че всех звёзд, что горят на Восто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я звезда, перед нами св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долины, холмы и пот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 Вифлеем к Иисусу ве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26Z</dcterms:modified>
  <cp:revision>13</cp:revision>
  <dc:subject>Slavic hymnal Гимны веры христиан, hymn 245</dc:subject>
  <dc:title>Ярче и лучше, чем солнце Востока</dc:title>
</cp:coreProperties>
</file>