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FBA-955D-48B8-B45D-DC840383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48D-75C7-4816-BE84-2B5FDA2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858-A7D4-4D52-9DE5-1B2FC4E9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E73-2B10-4D4F-914E-7140056F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644-61D2-48B0-866B-257CD7F6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C90-8F92-45C7-98FC-BA4B935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603-4BDC-481B-90FB-BA10A97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386-87FB-493B-9D09-EA189FE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C36-3A71-4D81-8212-0D8456EE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C3D-796B-40E5-A7C9-1912750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6AC-B9A6-43DC-9365-2059FFF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07F-D644-4520-BCB5-D861D9C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39370-14E8-45A0-8926-EECC33795E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02Z</dcterms:modified>
  <cp:revision>12</cp:revision>
  <dc:subject>Slavic hymnal Гимны веры христиан, hymn 501</dc:subject>
  <dc:title>Укрепляйся Христом</dc:title>
</cp:coreProperties>
</file>