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7BF-6F24-4705-897A-6051F4F8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BC7-456F-4B24-8BDC-91FA35A1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92D-039C-4A85-A993-9DA51F84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7E4-5EA8-4905-8AAF-9B0AEEB4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DFC-8264-48DB-9647-D818866D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277-8042-4432-A436-4DE8E948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621-3E4B-4373-A2E5-80EB3026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E12-636F-41B6-A1B1-639C461F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7B6-E452-4A8D-B1C6-4F755DEC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B22-7AFF-4806-A9D1-C06C3B4F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578-7348-47FC-B1A2-15EEE35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6D7-1CBF-4469-99C3-B5099DB4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9849F-50D7-45A7-9EA5-7C6CE6DF17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у я ски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лине сумрачной,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транник, уж пора расс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 этой жизнью, и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,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уплен дорого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Царь и сильный мой Власт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ь и вечно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вечно буду я скит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святое насла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печальному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спошли мне утеш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лый, радостны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, чтоб с ревностью стре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руд свой исполня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ы свет Твой не зат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смиренной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ету вдох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, нет любви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ровь Твоя, Твой крест,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дохновя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6:51Z</dcterms:modified>
  <cp:revision>12</cp:revision>
  <dc:subject>Slavic hymnal Гимны веры христиан, hymn 671</dc:subject>
  <dc:title>Не вечно буду я скитаться</dc:title>
</cp:coreProperties>
</file>