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CE51-4B04-44C6-85B1-136AA109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9067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60080"/>
            <a:ext cx="9067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72E0-2B8F-44F5-BBE1-7E7EC199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976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6008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6008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916C-0846-42DD-9E92-8FE6F695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29196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9760"/>
            <a:ext cx="29196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9760"/>
            <a:ext cx="29196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60080"/>
            <a:ext cx="29196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60080"/>
            <a:ext cx="29196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60080"/>
            <a:ext cx="291960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632-364B-4261-92E6-E922EBD3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9760"/>
            <a:ext cx="90676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CA79-1297-4F0F-8E11-96BEBBE5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90676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4566-CD12-4B01-967A-A275C038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44247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9760"/>
            <a:ext cx="44247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64D0-9207-4F11-A7B4-402613D1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EE03-64B8-4485-8108-8595541B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7EC0-EEDE-465C-95D2-72A41B24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9760"/>
            <a:ext cx="44247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6008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6E20-FEC2-4F12-82CA-26BC2871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44247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976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6008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E92E-02CC-47B7-B30A-F098C93F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976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9760"/>
            <a:ext cx="44247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60080"/>
            <a:ext cx="9067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DE74-0FED-4543-B381-D8730AC6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9760"/>
            <a:ext cx="90676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E35A7-6885-4451-9C7F-3DE80F0EE2A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the throne of God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a strong, a perfect pl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great High Priest whose name 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ever lives and pleads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name is graven on His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name is written on His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that while in heav’n He st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ongue can bid me thence de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ongue can bid me thence de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4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Before the Throne of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Satan tempts me to desp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ells me of the guilt with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pward I look and see Him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made an end to all my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the sinless Saviour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inful soul is counted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od the Just is satis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ook on Him and pardo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ook on Him and pard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hold Him there! The risen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perfect, spotless righteous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reat unchangeable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King of glory and of gra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with Himself I cannot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 is purchased with His b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ife is hid with Christ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Christ, my Saviour and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Christ, my Saviour and my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4-04-12T09:21:53Z</dcterms:modified>
  <cp:revision>12</cp:revision>
  <dc:subject>The Source 2, song number 643</dc:subject>
  <dc:title>Before the Throne of God Above</dc:title>
</cp:coreProperties>
</file>