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FCB-8BCC-4596-8708-6A3CC02A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B4F-D156-4123-B0C3-27A3FCDC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D4B-D284-4FF1-9548-3B898E1D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9C9-2F7B-43C1-9537-B71041EE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3A5-C125-450C-BE35-8F9D6FB0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A97-D2F8-4DE6-9DE4-52652C8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112-5820-4835-8D71-AB634C07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E57-A0A3-47DF-B212-EDB5F76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AB4-432E-4350-9E0B-26272FB3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1BD-E8F6-40B0-8B83-6FF8CA0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981-5745-4C89-9E9F-8CB3863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7CD-BD95-4998-A8C5-239921C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8A86D-36A2-4DA7-B357-DBA7E2AE00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 and know that I am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the Lord that healeth th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8   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e, O Lord, do I put m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09Z</dcterms:modified>
  <cp:revision>10</cp:revision>
  <dc:subject>The Source, song number 48</dc:subject>
  <dc:title>Be Still and Know</dc:title>
</cp:coreProperties>
</file>