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9C0-C646-4AA3-984D-5654D25F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3BF-5280-47D9-BF0B-675A59E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6C-46BD-4B6C-8F5B-BA844DF1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77D-186F-4FC9-A7A7-1F35A63E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3AD-F225-4250-A641-B73D0B2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FDD-7BB3-42E1-A601-386F5BC7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267-B129-4DC9-938B-6093E0D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F2A-30DF-403B-A547-E608616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533-F179-4FE5-9EE1-E176FB2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70E-0442-4DC4-BD17-B798DD4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208-6524-4D67-9D39-268B5B2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166-AC94-4201-8449-4FE08B4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30E47-0F6E-43F1-809E-9B827BE7C54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in a hu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we need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all our cares and wo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ay aside for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to see Your f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, how we long for Your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9   We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we’re not afraid to tarr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yearn for You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wait, for Your mighty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arry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to Your presence, L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we fill this house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Your holy fire fill this pl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we wait, we wait, we wait, we w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3:47Z</dcterms:modified>
  <cp:revision>13</cp:revision>
  <dc:subject>The Source 3, song number 1599</dc:subject>
  <dc:title>We Wait</dc:title>
</cp:coreProperties>
</file>