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66   Путь мой был уныл и мрачен</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Путь мой был уныл и мрач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ердце — множество грех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всё сделалось инач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открылась мне Его любов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понять вам, как Его люблю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понятна мне Его люб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восходит ширь зем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ыше дальних облак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шу исцелил Господь боль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ь жизни появилась вн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Христа с тех пор жив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открылась мне Его любов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Благодать спасла упавш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ть нас береж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вых сил даёт уставш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 души снимает всякий гнёт.</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понять вам, как Его люблю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понятна мне Его люб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восходит ширь зем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ыше дальних облак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шу исцелил Господь боль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ь жизни появилась вн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Христа с тех пор жив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открылась мне Его любовь.</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озвещать хочу я людя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от всяких бурь покр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Голгофский подвиг чуд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открылась мне Его любовь.</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понять вам, как Его люблю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понятна мне Его люб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восходит ширь зем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ыше дальних облак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шу исцелил Господь боль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ь жизни появилась вн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Христа с тех пор жив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открылась мне Его любовь.</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09:28:23Z</dcterms:modified>
  <cp:revision>3</cp:revision>
  <dc:subject>Slavic hymnal Гимны веры христиан, hymn 66</dc:subject>
  <dc:title>Путь мой был уныл и мрачен</dc:title>
</cp:coreProperties>
</file>