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4C6-9787-4545-AE60-ADD006FF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688-D78E-4034-A102-B076B3C8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89F-5B1F-4B7F-820A-EC6D1DA8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550-C46F-47CB-99AC-16B628B3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FE1-A782-42D4-BF0E-C5589C32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2803-74CE-4C6F-AF56-E231A718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760-6E86-40D4-9008-2F42F91D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C3A-9163-4116-A170-D3A596E9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151-06EC-4F0C-8FC7-5B80FADD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B4C-7EEC-4FEB-89C0-C3C8E04A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A68-989F-4E75-999A-0DFEB180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1C1-ED86-48EC-ACC0-8CE8ECBD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581E7-4883-4DA5-8D6C-B426874260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come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y heart be changed, renew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ing from the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found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Lord, I’ve come to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eaknesses I see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be stripped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2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Lord, I Come 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d me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love sur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to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I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ise up like an eag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oar with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leads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unveil my ey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ee You face to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nowledge of Your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liv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renew my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will unfolds in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living eve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d me clo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love surrou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to Your sid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I wa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ise up like an eag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oar with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leads m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ow’r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2:57Z</dcterms:modified>
  <cp:revision>9</cp:revision>
  <dc:subject>The Source, song number 329</dc:subject>
  <dc:title>Lord, I Come To You (Power of Your Love)</dc:title>
</cp:coreProperties>
</file>