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DBE-AD32-436A-88D9-A87343A2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7FF-1E40-46E1-BF0A-EF7DBD94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233-6228-440D-B2B5-CFBF5A3F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7FA-4BD3-488C-847F-EF8E7529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0A5-53A9-4A6A-933A-BE68656B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BF2-D7C6-4B21-A741-8D9460F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F2B-069C-4EC6-9E41-CE061C2E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E74-C529-4BBA-BA2D-B7074655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FC6-C543-4A1C-B177-9640F646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887-04F6-4CDF-AA2C-F8D5995A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599-B984-4568-9997-A28350E7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F21-98D9-4F40-A3ED-F55EFA8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3E41-1ACF-4E29-B6F9-E25CF01717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кто сии и кем облеч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ые ризы снежной бел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уста хвалой п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944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, кто с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это те, кого Христос приз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за кого Он умер и стра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х спас и оправ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, все за Агнцем вслед они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через скорбь великую пр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 Нём мир душе наш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х земной тернистой шёл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с любовию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ёл их сильною ру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тем, кто верой в Господа посм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вступить средь раскалё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им славу дал в уде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их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жьем чертоге вечен их при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их забыта, слёз они не л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ь новую по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Агнец нас кровью омы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привёл в вышний Иерусал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й кровью омыл, ом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ребудем вечно в небесной сл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гнец нас кровью омы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6:56Z</dcterms:modified>
  <cp:revision>12</cp:revision>
  <dc:subject>Slavic hymnal Гимны веры христиан, hymn 788</dc:subject>
  <dc:title>Кто, кто сии?</dc:title>
</cp:coreProperties>
</file>