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7DD3-DBE0-4DDC-8202-5E8DA99FF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4F28-C008-4A9C-BE38-831BF042F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FE99-B369-41A3-8D44-2ECA50205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0E34-C0C7-4F21-88C4-B7F3ACC51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1AA3-7AC6-4FAC-8F0E-AF111B3D1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A0DD-931C-412A-BBEC-27CA07CCF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9C07-7933-474E-8725-B6EA4AC97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7ACB-3184-425D-9B7F-70B1938D9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83FC-14FD-43B5-B69A-BF8A09B8D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1E77-645F-4297-B2FA-80D51FF34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4672-0EB3-4028-B0BD-6D1752D6A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627E-4B82-4569-9DDA-A697B85C8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1F5B8F-674E-4624-8916-5C4F7676F34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орно предай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ественной во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звавшего к жиз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смертных Творц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му обращай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 тягостной до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Нём ты увиди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го От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5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окорно предай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етуй: Кто преж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емён существу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правит с премудрост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ьмами пла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ихрям и мор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ел указу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 путь безопас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м обрет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Божию благ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ё упова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ожим с спокой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ою во вс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да и все тай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а жела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увенч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радным конц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расно в забо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рьбе непосиль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 делу стремиш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ратишь пок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ись, и получи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илу обильн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блага даёт 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итве свя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любовью предвид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мудрая вол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ём благо для серд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вред принес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аждому посл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ом дол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ерных Своих 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блаженству ве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в чём нет прегра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начертанья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женство творений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нец Его д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рь же Господн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ым обещанья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ечная радость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вечный уд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ейся! Он вид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и сокрушё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 скорбь и страда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жестокой борьб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ерь и увиди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да несомнен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всё Он устро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 благу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8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радостно Бог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м быть спасённы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примешь от Б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дный вен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нидешь с хвалень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и искуплё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 вечный, готов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верных серд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47:32Z</dcterms:modified>
  <cp:revision>12</cp:revision>
  <dc:subject>Slavic hymnal Гимны веры христиан, hymn 653</dc:subject>
  <dc:title>Покорно предайся Божественной воле</dc:title>
</cp:coreProperties>
</file>