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DD64-0586-424E-A2DC-B4AC3EBF0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7C8D-23B8-4BC0-B290-ACF858EF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D9C4-377B-417C-A5BE-8E57D90C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6AE3-D230-498D-AD45-8C43FACD3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DFD9-3808-4114-8123-8AF880A1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5E67-317F-4E90-B87A-3B127F2E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CE52-9E9C-4694-8B9E-A0AA0D7A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895E-1624-43F4-82ED-5A193414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D77F-0664-47E8-B799-BA2CA686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08ED-0D2A-4516-835B-54E458A0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A205-B302-40C1-90E9-429FCE75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C0C2-343E-4997-BE25-55E904B6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EBEB5-455C-484E-8770-6B9784BB063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д новый наступа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оже, удос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руде иль ожида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жить сей год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д новый — год созн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ы здесь не од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бре иль в испыт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нами во все д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д новый наступ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д новый — год служ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и прост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д приготов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 Ним на выс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д новый… Новый жреб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нам дай, 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ей земле иль в н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только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4:05Z</dcterms:modified>
  <cp:revision>12</cp:revision>
  <dc:subject>Slavic hymnal Гимны веры христиан, hymn 894</dc:subject>
  <dc:title>Год новый наступает</dc:title>
</cp:coreProperties>
</file>