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9F5-1E53-4B7C-AF5E-72711E26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A34-17B8-4E49-B32E-F8675107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BBD-79BB-4ED5-9932-1AADC864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F7D-B5BE-4E92-B9E7-95E1AC3F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6D5-EB46-4925-A6D1-1767FF8D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1EC-E5A9-4806-93FD-C568AB0F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A09-1B59-4266-98B4-E37476B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ACF-61F2-4630-BCFC-597F460F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B05-26FC-4DC9-8076-7CECFF66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52F-95FB-462C-8815-E756F1D1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406-D740-4CE0-9821-420FEC8E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E47-A166-4469-9133-B5841CBD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82ED7-7C0C-4EB8-B397-30AD26ED10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s we come to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o receive the food of Your holy Wo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ake Your truth, plant it deep in u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hape and fashion us in Your likenes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hat the light of Christ might be seen to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In our acts of love and our deeds of fai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nd fulfil in 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ll Your purposes, for Your gl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48   Speak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each us, Lord, full obedienc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Holy reverence, true hum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est our thoughts and our attit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In the radiance of Your pu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Cause our faith to ris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cause our eyes to s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Your majestic love and author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Words of pow’r that can never fai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Let their truth prevail over unbelie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and renew our mind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Help us grasp the he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of Your plans for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ruths unchanged from the dawn of tim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That will echo down through etern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by grace we’ll stand on Your promis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by faith we’ll walk as You walk with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Speak, O Lord, till Your Church is bui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000" spc="-1" strike="noStrike">
                <a:solidFill>
                  <a:srgbClr val="ffffff"/>
                </a:solidFill>
                <a:latin typeface="Verdana"/>
              </a:rPr>
              <a:t>And the earth is filled with Your gl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6-04T06:24:27Z</dcterms:modified>
  <cp:revision>13</cp:revision>
  <dc:subject>The Source 4, song number 2048</dc:subject>
  <dc:title>Speak, O Lord</dc:title>
</cp:coreProperties>
</file>