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6979-C17B-4D3D-9186-BB2A705D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B608-0B5B-44E9-89D5-487D37A0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C35B-F3BB-4CD5-A138-221D97C8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408D-E123-473B-B6B1-0C7FD0D2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2057-9A64-4051-BF61-B7AA0BF0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E014-CE12-4D30-B364-5E4D405E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8684-28C3-49F4-AABC-D19CA047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A5D8-A369-4FFD-836A-B4AFF8EA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3063-5D04-4B84-84BB-D37ABB67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87AE-CAA4-44EB-8C80-9CCD7B02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DFCA-5B6E-43BC-B3BE-54FE0D60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EC2B-B2B7-4DBA-A27E-72FC135E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5FF4B-C552-4CF6-875F-EA56D2DD490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пойду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 милосер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мне сил дар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азаться вер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хе и бессил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ебе молю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идти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едам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 Христом пойду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пой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вствую вле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 и скорбь зем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имать в смирен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 Божья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орвала у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и готов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едам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пой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о и своб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мой укреп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любви Госпо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отверг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хой жизни вкус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шаг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едам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пойду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всех недугов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 Исцел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Его дала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я стремлю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давно жел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едам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пойду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прекра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кругом буш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раган ужас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ю Божь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креплю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ти по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едам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4:26Z</dcterms:modified>
  <cp:revision>12</cp:revision>
  <dc:subject>Slavic hymnal Гимны веры христиан, hymn 445</dc:subject>
  <dc:title>За Христом пойду я</dc:title>
</cp:coreProperties>
</file>