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9404-C372-46E7-B316-169BEBA2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037-D1EC-4F1C-963B-5CBE9EDB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37C-32D1-45C6-8357-1F0B3020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90E-C4EB-4972-99B5-A5F788E8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018-70E1-43A1-B11E-8D9BB02C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A0C-0C27-430E-AF01-CA418CE6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51B-E547-48D1-8CBC-D04DD31D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EBB4-2196-4A84-A86E-53617102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2B5-E449-4DBC-A32D-4B84C168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C9D-300C-4150-B097-3038BBFB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DA5-1660-4C82-AD3B-38BF360E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CDAB-445A-4399-B683-2EB2E0E3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90F62-C3F9-4F5E-B5D6-452C1C32E8B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id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run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need Your mercy and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me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run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61   You Are My Hiding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trength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uphol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protec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id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run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need Your mercy and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me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run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trength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uphol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protec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id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run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need Your mercy and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me throu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run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31Z</dcterms:modified>
  <cp:revision>12</cp:revision>
  <dc:subject>The Source 4, song number 2161</dc:subject>
  <dc:title>You Are My Hiding Place (Hiding Place)</dc:title>
</cp:coreProperties>
</file>