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EDA-30FB-4ED0-B7A4-F3561ECA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834-83DF-47B6-9286-4200E8E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3A9-EAEA-485A-B036-F0A2FF39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792-BEEF-4708-8BC0-BBA7D60C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EB8-DAE2-4FB6-98AA-325D3A9E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699-AE96-47EC-9C34-708718B4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08F-0612-4C40-8241-9E15A6F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AA2-7EB7-4330-962C-CAF33499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4AD-DB38-431F-97B8-0109AEDB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40E-FC38-4A06-B156-171CD1E4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E8F-3394-4287-AA8E-86C3E3A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6F7-7898-457F-8481-781B92EF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A0F28-AF4F-4DC0-A4FC-9B0ED35224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wash away my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make me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ну мне может см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что может исце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pardon, this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cleansing, this my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чиститься, гля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кровь одну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щенья нах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крови святой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an for sin at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of good that I hav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скупит дух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обро моих заслуг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all my hope and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all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надежду мне дар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святость мне не щ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! precious is the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kes me white as s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t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а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шая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ильней м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ичто, лишь кровь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2Z</dcterms:modified>
  <cp:revision>13</cp:revision>
  <dc:subject>Slavic hymnal Гимны веры христиан, hymn 425</dc:subject>
  <dc:title>Nothing But the Blood / Что вину мне может смыть?</dc:title>
</cp:coreProperties>
</file>