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CCB-90D0-4D52-BF1A-85D741CD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E44-FA35-484A-AF1C-041DFA9C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A24-0094-4108-B349-1B582D5E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FEC-4E47-4C1E-AB77-8C7B3D8A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183-4E83-4427-89FA-6650FD9E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909-6018-47E2-96EA-E3A09D0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8F6-F580-4670-9BD1-511E8EA7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268-AC98-4A5B-96E4-20E36361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2BE-FDF1-4A55-8178-96B90C76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2FF-60AA-4C9F-A6B6-31016804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C4B-774B-4126-B99E-CB50D1BF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BAD-E092-4969-80E1-DCA5605A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E0B82-9662-480F-BCAF-6CC89554FE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ilent midnight wat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nding at your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s the Saviour, pleading, knoc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s oft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! слушай ухом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! слушай ухом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, любящи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ould enter with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 oppressed by s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now the door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m enter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емной стучит прохож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зовёт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, Агнец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will come some day, relen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every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heedlessly ign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his entry 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елье сердца со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ц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йдёт Он и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 ней заблест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its in mercy plea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door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, not death, the cruel rea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n turn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чь любви Его по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то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стук тот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hear the Saviour knoc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at your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ceive Him, let Him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soul rest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танет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ный пир веч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тво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when breaks the golden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, eternal,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open Heaven’s por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eive you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слушай голос ди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н главу скло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олкнет звук призы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ь пройдёт; тогда, ры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склон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в дверь стучать ты 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ывать тогда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 ты несч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4Z</dcterms:modified>
  <cp:revision>13</cp:revision>
  <dc:subject>Slavic hymnal Гимны веры христиан, hymn 337</dc:subject>
  <dc:title>In the Silent Midnight Watches / Грешник! слушай ухом веры</dc:title>
</cp:coreProperties>
</file>