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6A9-9D25-4415-8677-2A604402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447-14BC-42D7-94FB-F21627BB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EAD-67AA-4E7A-8F2D-1A639C79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CCF-E086-4C3D-BCB4-CF95057B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31D-DC91-4713-9DEE-233A873D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4AF-6F95-4DF3-86EC-81B06BCB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D5F-A1C8-474F-BAA3-D0B76EED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323-7E1C-44D3-AB9B-DCEA2F08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206-64DD-4A97-915E-BC693815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1A8-C208-49CB-B707-B1B054D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5BC-4A3F-4BCC-B6EA-81D07E34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EA1-279D-4B5E-83AA-8323A75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03987-6904-43EC-AECC-F232484A201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, O Lord, is like the ocea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eper than endless 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ithfulness is like the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Word never f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85   Your Love, O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adore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Him foreve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us adore, wonderful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Him foreve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, let ev’ry heart s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to God in the high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1:38Z</dcterms:modified>
  <cp:revision>12</cp:revision>
  <dc:subject>The Source 3, song number 1685</dc:subject>
  <dc:title>Your Love, O Lord (Highest)</dc:title>
</cp:coreProperties>
</file>