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75</a:t>
            </a:r>
            <a:r>
              <a:rPr b="1" lang="ru-RU" sz="3600" spc="-1" strike="noStrike">
                <a:solidFill>
                  <a:srgbClr val="ffffff"/>
                </a:solidFill>
                <a:latin typeface="Verdana"/>
              </a:rPr>
              <a:t>	</a:t>
            </a:r>
            <a:r>
              <a:rPr b="1" lang="ru-RU" sz="3600" spc="-1" strike="noStrike">
                <a:solidFill>
                  <a:srgbClr val="ffffff"/>
                </a:solidFill>
                <a:latin typeface="Verdana"/>
              </a:rPr>
              <a:t>О Господь, веди мой чёлн</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Господь, веди мой чёл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реди житейских вол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уря грозная пред м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лы скрыты под вод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молюсь доверья пол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веди мой чёлн!</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ак детей родная м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жешь море Ты ун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етер слушает Твой з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покоиться гот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велитель бурных вол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веди мой чёлн!</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Не всегда мне быть в чел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истань близится ко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ыша грозный волн при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 Христу спешу с моль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испуган, я смущ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Господь, веди мой чёлн!»</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7T21:33:21Z</dcterms:modified>
  <cp:revision>3</cp:revision>
  <dc:subject>Slavic hymnal Гимны веры христиан, hymn 175</dc:subject>
  <dc:title>О Господь, веди мой чёлн</dc:title>
</cp:coreProperties>
</file>