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090-7236-47B5-94E1-323A9599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BD8-8E43-4144-A7AD-0AC9A80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95AD-B27A-4DA2-890B-BD601FBD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F5E-1E6E-4979-9A82-C21D06FB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0E3-236B-4B35-A55A-9FD3EFA7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0D6-A737-4A7E-9496-E68AEA4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18F-531D-4296-8263-493C3523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C96-9107-4718-9204-1B3CC4C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76A-FCED-4B07-9377-6280939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5F1-5FAD-4C88-8B01-67047E8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727-E183-403B-B9DB-0D056DB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3EA-119E-43F5-864F-454DBD29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2720-B030-44F1-AC80-69BDC93C08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ителе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любит нас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спою вам песню 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 меня Христос от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блудш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клонился, взял на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нёс меня к От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ыл ранен — исцел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блужданьях изнем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щилась моя си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л вечных сил зал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усь я перед тьм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бедой не раз тесни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мой с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укой Его хра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ордану с Ним приду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шумит у ног мо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руг войду в страну свят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я встречу доро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слова жив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Христе, как умер 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я со святы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ив небесный т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26Z</dcterms:modified>
  <cp:revision>12</cp:revision>
  <dc:subject>Slavic hymnal Гимны веры христиан, hymn 599</dc:subject>
  <dc:title>Я спою вам песню веры</dc:title>
</cp:coreProperties>
</file>