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D09B-569B-4E5C-9F6D-81099F345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C5B7-6350-4F08-B2E4-67453EBDD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4DEA-4F2B-41EB-B4B0-14ED44E78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B0E2-244A-4E89-B26B-4B0BECCF3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67A6-E867-4269-867A-EF84889CE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57B2-2177-456B-8EAF-586C91462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CCC5-BABA-45AD-BC0A-B62E2E22E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F7C5-23F5-41BD-AFF6-CDE8D95A2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C1F3-250D-4326-BE4D-B47108657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C68C-55B4-4546-BDA1-D3A3A10D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F942-ADF1-4BBA-8BBF-AA0BB0C5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AA2B-26C6-46E7-9018-E6048FC6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B18D13-10E3-46C5-90AE-E13241F7639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tand amazed in the pres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f Jesus the Nazare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wonder how He could lov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 sinner, condemned, uncle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90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сегда удивляться я долж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удивляться я долж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, что нас возлюби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я был неправды исполн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ы кровь за нас прол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y song shall ever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Saviour’s love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ть я её го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 Спасителя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me it was in the ga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prayed: “Not My will, but Thin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had no tears for His own grief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sweat drops of blood for 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олит за нас в Гефсимань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тец, воля пусть Твоя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ас претерпел Он страд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Его ранах жизнь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y song shall ever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Saviour’s love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ть я её го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 Спасителя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took my sins and my sorrow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made them His very 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bore the burden to Calv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uffered, and died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ангел от Бога нисход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а, чтобы подкрепл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орьбе Гефсиманской суро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должен был я стра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y song shall ever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Saviour’s love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ть я её го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 Спасителя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with the ransomed in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is face I at last shall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will be my joy through the 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sing of His love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я на небо пребу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ву Христа уз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ом, что Он грешников люб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 я гимн сп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my song shall ever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s my Saviour’s love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ть я её го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чудная, вечно н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 Спасителя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6-11-06T11:21:42Z</dcterms:modified>
  <cp:revision>12</cp:revision>
  <dc:subject>Slavic hymnal Гимны веры христиан, hymn 904</dc:subject>
  <dc:title>I Stand Amazed in the Presence (My Saviour’s Love) / Всегда удивляться я должен</dc:title>
</cp:coreProperties>
</file>