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05F-01FA-4141-A958-F6D1CCF0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16F-C711-4F51-BD88-968944BF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630-A167-4F71-808F-FE23F039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5E5-E633-4F3A-93C5-51A1610C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DE8-9A8F-4787-BDA7-2F40AEC5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369-BE4F-4181-98F1-DFD3D403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5EF-2630-4766-8D57-0428798F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F5E-BD41-4285-A8FB-5478F3DF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CB0-A807-4A90-92AB-BDB8425D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D46-8353-46C5-97F3-C204F06F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EA9-5CCE-47B9-A9B6-F7AC7640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82E-8A46-47FE-B5B2-BC93BEB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05434-B1DD-4E4D-A196-3D19BF521B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транник, к небу ты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й любви будет Он в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странник, к небу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близится грех к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вперёд по святой тро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ишь света ли пред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сказал: «Буду Я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когда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 радость вечную ты в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 днём будет Он вожд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своди с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03Z</dcterms:modified>
  <cp:revision>12</cp:revision>
  <dc:subject>Slavic hymnal Гимны веры христиан, hymn 457</dc:subject>
  <dc:title>О странник, к небу ты на пути</dc:title>
</cp:coreProperties>
</file>