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AC0A-879B-410C-91E4-E21B3B2E8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789A-E80F-494E-BD8A-46B27838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07A0-7246-4ECF-9C78-59FE1AB1C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22BC-BD21-416D-B099-94A193E00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C760-B0DC-4DC5-8946-EF40F24D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5652-64C0-4CD9-9096-27856B54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EEEA-B132-40C7-B61A-FE5A57B9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33E6-CAE2-4024-8D18-87D3129A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1717-530A-4C33-86DA-B0C6D977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3929-A39B-47E6-93A8-569574AE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610D-DADE-4103-8438-6D8CED25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FFE1-CEF1-4263-BE1C-C1C6B0A6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28EBB-CEEB-4982-B617-95B034F077C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йтесь, братья моря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грозен бурный 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т уж видны мая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ет их заси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видны уж бере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конец скорб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, пристанем скорее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ным бере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бойтесь, братья моря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и мы от бури з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 волны морс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мерть грозила нам не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естокий, бурны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видны уж бере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конец скорб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, пристанем скорее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ным бере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т награда к нам близ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гавани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ой унынье и тоск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радуйтесь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видны уж бере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конец скорб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, пристанем скорее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ным бере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лотитесь, как одна сем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ьте пару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ерегу нас ждут друз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лышны голо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видны уж бере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конец скорб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, пристанем скорее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ным бере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2:08Z</dcterms:modified>
  <cp:revision>12</cp:revision>
  <dc:subject>Slavic hymnal Гимны веры христиан, hymn 716</dc:subject>
  <dc:title>Не бойтесь, братья моряки</dc:title>
</cp:coreProperties>
</file>