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6BA-82B0-4C83-8E71-BA48C827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981-4733-458A-8E6A-37FC1E40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4B3-653D-4164-9D1B-FB6FB082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E1D-9375-403A-8B4B-94D1CF4C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E9E-6B9F-44F5-98FF-9DF16C1C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CF8-7F9A-490F-95ED-D602338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6A0-04B4-4BD9-AFD3-CA5494E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E33-2045-4092-BF39-5DF4D735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16A-2FBA-40F2-8F37-0260DEB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EF13-FF1D-4AC7-91DA-CE6B2CB8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696-F52C-4394-BA3C-DA3E53E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E01-E557-4F7C-A7AF-8ED844B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2019-C3DD-48D9-AF87-C3AA773406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и очи слезами пол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твоё сердце дрожит без в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ий и горя ты много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ть и бороться не чувствуешь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надежды, так много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ало ты веришь, что милостив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: Господь не оставит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и во всех испытаньях зем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чём твои 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пади перед Бог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твои страхи развее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чит недуги, прогони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воги умчатся в безвестную 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28Z</dcterms:modified>
  <cp:revision>12</cp:revision>
  <dc:subject>Slavic hymnal Гимны веры христиан, hymn 710</dc:subject>
  <dc:title>О чём твои очи слезами полны?</dc:title>
</cp:coreProperties>
</file>