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12D-FB08-4F4C-8DCA-7AEB6C02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7D3-D2B7-4EB6-8F73-1208416C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FEF-C636-4E31-9705-597F02AE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4D5-A23A-4B81-BB3F-F5C381F8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724-18F2-4D75-9612-5E6A7D16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BDC-1BFD-4A71-9BC8-9C5EE98D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D82-B533-4A3E-A720-BAF690F5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8A2-DCDD-44F7-B7B5-8ED687C1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70D-00B9-4F94-A478-06602A2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99-B657-407A-B3C0-998C82F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F37-8430-433C-B2E2-9303788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BD9-9F4B-4615-86D1-5A12CB8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64858-0A6D-4A1C-B178-F0B66447EEC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Hallelujah! Jesus Is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! Jesus i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has lost its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rave has been deni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lives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the Alpha and Ome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irst and last is 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urse of sin is br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have perfect liber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amb of God ha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s alive, He’s al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Jesus is a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03Z</dcterms:modified>
  <cp:revision>10</cp:revision>
  <dc:subject>The Source, song number 142</dc:subject>
  <dc:title>Hallelujah! Jesus Is Alive</dc:title>
</cp:coreProperties>
</file>