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5A5-2A2C-4F9E-BDF8-632CDA68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168-C075-438F-ABEE-9AF89405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778-21E5-4AB9-8901-F3B482AE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BE3-00A7-4747-B1B6-4CA05F48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A21-559E-4CB0-8CA7-974B1104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C92F-7003-486E-91D3-4181690A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74D-FF21-4C46-AD19-58CC39B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B8E-8E3B-482E-A35A-E6AA829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5000-8531-4C35-9A25-298A946E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333-7355-4D59-BCA6-95FFE5D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5D5-DB55-46A5-9685-5D3D30A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F97-8FE5-404D-B828-D23C8C4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D0694-F651-49B7-A316-A262BBFD37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йте, браття, і в піснях духов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у і честь віддавайте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знайшов всіх в неволі гріхов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м любові явив повн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безмірно нас любить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хороняє в житті нас земн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готовив нам святі осе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городить вінцем золо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6   Радійте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істю, браття, за Слово Господн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ль і зневагу покірно зне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підкріпить на вузенькій дороз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лаву введе нас у Царстві Свої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2:06Z</dcterms:modified>
  <cp:revision>12</cp:revision>
  <dc:subject>Slavic hymnal Гимны веры христиан, Ukrainian hymn 56</dc:subject>
  <dc:title>Радійте, браття, і в піснях духовних</dc:title>
</cp:coreProperties>
</file>