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5B9-A766-4E6A-9616-E7087BA6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100-83B8-4066-BAE6-859BF585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ED1-7663-4012-852C-927BA84A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591-1932-40BD-BE70-19A61E15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300-5C74-4473-A32F-925054B1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2FC-5031-4FAE-86E2-A9C3DB24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6C9-5A2C-4D3B-B73A-0AA0885D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CA7-7D6C-4782-A07F-5F9A5B7D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9CC-3D85-4514-8318-D23929CB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72B-D331-4A31-8F80-9CC9C974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94E-C1D1-459E-8BB6-6DC4AE1A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E7D-1668-40D2-9016-42B87AC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DA6F4-8ED4-4752-B775-2075704E26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land that is fairer than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faith we can see it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Father waits over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pare us a dwelling p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8   Там далеко вже ви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далеко вже видно т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го вірні лиш люди ввійд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Спаситель веде у Сві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відкуплений і вірний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sing on that beautiful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lodious songs of th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pirits shall sorrow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igh for the blessing of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у славі, в небесній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чудова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Творця там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дкуплені кров’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bountiful Fath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ffer our tribute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ious gift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essings that hallow our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є зібрання спасенних в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Духом обняті в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 співають піс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роном Його пре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7:56Z</dcterms:modified>
  <cp:revision>12</cp:revision>
  <dc:subject>Slavic hymnal Гимны веры христиан, Ukrainian hymn 68</dc:subject>
  <dc:title>Sweet By and By / Там далеко вже видно той край</dc:title>
</cp:coreProperties>
</file>