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49E-0C1C-4E38-9D2B-9340C139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1B6-979C-48A6-ADDC-C0FB4E78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BB4-44CF-4935-9B4D-E829435F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649-1AAB-43B7-B4E9-D581ADB3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0D1-E1A2-4ECA-9EC2-8374BF58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F79-8389-4CAE-A5F0-5D0E1B93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F3D-CFF6-4FFE-9ACE-1DABEDAF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DD3-570B-4577-9D0F-2A3F2BF4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8D4-6205-41D6-9668-911385FE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ACF-65A8-40A5-A357-283508C5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DFC-B88B-40F9-AF28-A7E8969E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DB9-160F-43F4-A2A3-D8914590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8898-B01E-456C-B3D6-FDF5A8718A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ушай, о грешник, последнее в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сёт Иисуса последний призы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овёт Он сложить твоё грешное б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 подножью Голгофы, и будешь ты жи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ушай, о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стало несёшь ты нелёгкое брем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рочных привычек, греховных страсте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 вдаль убегает всё лучшее врем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Лишая надежды и радости вс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чем ты томишься в страданьи напрас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чину нося постоянно в себ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, что твоё состоянье опас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верь, что ты гибель готовишь с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следнее время, последний призыв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бя призывает Спаситель: «Приди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едь завтра уж поздн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смерть впере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ди же, о грешник, не медли, прид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06:51Z</dcterms:modified>
  <cp:revision>13</cp:revision>
  <dc:subject>Slavic hymnal Гимны веры христиан, hymn 410</dc:subject>
  <dc:title>Послушай, о грешник</dc:title>
</cp:coreProperties>
</file>