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D9A-9366-46E6-8DC7-D7D337BA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FD4-8959-4D74-8FC3-928E5866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232-B699-4FF2-9A14-792E0307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496-4B04-40A5-B2C7-D4781336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0755-3A4B-465F-9634-0EACA6AA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527-B968-4AD4-8749-6D9C087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76A-1A0B-4D80-BA15-6FCB7D41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A30-3DAA-4878-81F4-B5C0934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460-6F88-4085-80D9-996A4EB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165-03E3-4891-AF37-FF2F230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939F-D556-48FC-8AA0-04C732AB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9AF-2F17-4646-ADD6-14D4152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3AA70-CCFE-460D-A1A1-3A77DFC3ED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daylight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noonday gl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fading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solemn n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10058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by the wayside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on the rocks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ere the thorns will spo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in the fertile so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ith an ach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the seed while the tear-drops st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ing in hope till the reapers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o gather the harves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shall the harvest be?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430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the darkness or sown i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wn in our weakness or sown in 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in time 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, ah, sure will the harves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3Z</dcterms:modified>
  <cp:revision>13</cp:revision>
  <dc:subject>Slavic hymnal Гимны веры христиан, hymn 539</dc:subject>
  <dc:title>What Shall the Harvest Be? / Сеется семя на ранней заре</dc:title>
</cp:coreProperties>
</file>