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D7C-EA79-4BEB-804B-7371C9A2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29E-FDB0-4EEA-8AF4-8B5778B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41F-A957-44FF-9C28-2C0C0F9F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421-1693-4193-83B4-A9C9BEA1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3F1-C939-463E-B9AD-B4B44F0B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571-6CE7-470A-B250-988EBB59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4A-6F6F-43C7-A6B9-148F4DF7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16C-CEA7-47C6-906E-B9196E93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AE1-B3F9-47D4-A43E-84AB9ED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E68-05CB-4D3D-8724-FE0F1C30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ABB-7793-47CB-9990-0A39B1B2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3D9-EC0B-485A-A759-D4238EAA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BF264-168C-4969-B33E-F946CC28E6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й Дух в сердцах жи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частье! Там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лько милых обойм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кже и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де Божий Дух в сердц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мир, там нет вра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пасностях Господь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т ни в чём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ожия любовь ц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роде иль в сем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ю Бог руковод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счастье там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любовь, Господь, по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той их оза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делай так из двух о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я славилось Тво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25:11Z</dcterms:modified>
  <cp:revision>13</cp:revision>
  <dc:subject>Slavic hymnal Гимны веры христиан, hymn 741</dc:subject>
  <dc:title>Где Божий Дух в сердцах живёт</dc:title>
</cp:coreProperties>
</file>