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E8B-4DD2-45EC-91B4-F0E1CC30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B33-EABE-4F48-BAAD-878D4517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687-4BA6-4B72-9007-0E36106A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F20-CDA8-4C9D-80E0-B465360A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00A-0012-4E2D-A4EC-152D89C7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C21-8263-467E-A135-888E8C8A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4A6-E2CA-4CDD-BDC6-5F80244C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DDC-702B-473B-BCE7-E9C8F550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994-07A3-4E65-BE29-AF4B30EA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7F4-5B77-49FB-9A10-CB1FBF95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030-D38F-479B-BB4F-3453573E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BEBE-C7CC-469C-89B8-1F70C05F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E787A-DCFD-4276-974C-007107FAA5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r way (have Your wa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r way (have Your way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Spirit, fill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Y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 (we wait on You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pray (we pray to You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 Your word into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Y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1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ave Your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6-25T11:28:57Z</dcterms:modified>
  <cp:revision>12</cp:revision>
  <dc:subject>The Source 2, song number 712</dc:subject>
  <dc:title>Have Your Way</dc:title>
</cp:coreProperties>
</file>