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29FC-0BDD-4C0B-875F-CA2163CD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83F-0CED-452D-95CA-E60EF78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2CD-C6CE-4FD2-BBC1-B64EE5BD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707-6DDF-42AB-AE0D-5E3377E0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D02-906F-408D-BADB-16DB1889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FA9-6001-4AF9-8DD1-F233981D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5B5-0BA2-46FF-9541-D3C4389C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C55-E97E-4B10-8C55-8CD50533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A9E-8E3D-4ABA-9D54-1E1D11E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1D17-0967-4CA0-A768-9C31D6D2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E21-BCBF-4237-A729-949F8789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116-5746-465A-B03E-13CCBA9F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3572A-1AB8-4FFA-B4B6-15C5AA4A515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eav’n You came, helpless ba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ntered our world, Your glory veil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o be served but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Your life that we might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4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rom Heaven You C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arden of te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vy load He chose to be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heart with sorrow was t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 but Yours,” He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see His hands and His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cars that speak of sacrif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flung stars into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uel nails surren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let us learn how to ser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our lives enthrone H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ch other’s needs to pref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Christ we’re ser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our God, the Servant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alls us now to follow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our lives as a daily o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worship to the Servant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12Z</dcterms:modified>
  <cp:revision>10</cp:revision>
  <dc:subject>The Source, song number 114</dc:subject>
  <dc:title>From Heaven You Came (The Servant King)</dc:title>
</cp:coreProperties>
</file>