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71D-E9FD-4FD1-B6C6-FF38B75E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7E7-CE79-45BD-874E-EF582AB9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DAE-466B-435F-AE44-AF87B151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626-2E32-435B-AE78-22C04B0D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6AC-8CA9-4C88-85CB-AB054169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01E8-DB34-4974-A07C-6133C435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271-74E9-4A42-B9E9-0DB56522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580-F333-4FB7-AF2B-CFA5DB5B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C7B-6187-4783-B3EA-5CD4583B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FBF-6241-451D-B600-D3CD8162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196A-A622-4FA6-AAFB-3CE310D5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691-C2BF-45BD-BF20-37DCB92B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6CCED-0340-4309-8128-7707556AD91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Earthly friends may prove un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Doubts and fears ass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One still loves and cares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ья могут измен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 могут изме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ёрный день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дин завет хран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nd earth may pas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ough the sky be dark and dr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erce and strong the ga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remember He is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He will not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сё покрыто ть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сбивает с н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верой успок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nd earth may pas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life’s dark and bitter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ove will still prevai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rust His everlasting pow’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will not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ый, горький жизни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х дней з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твёрдая, что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av’n and earth may pas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t Jesus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и земля прой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не оставит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6:49Z</dcterms:modified>
  <cp:revision>12</cp:revision>
  <dc:subject>Slavic hymnal Гимны веры христиан, hymn 898</dc:subject>
  <dc:title>Jesus Never Fails / Братья могут изменить</dc:title>
</cp:coreProperties>
</file>