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C83-1A68-46AC-AE2E-E6AD1DDF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9CD-9A4E-4083-B72C-04F05342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128-CC99-4EA5-9EDC-74CC6520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EFB0-5871-4775-A69E-24007D09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E30-5858-4722-89FE-C0872551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FEC-25D6-483B-99C7-EB32C2EE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22F-111B-43DF-BA51-233349E0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127-1069-4C19-A5DC-A7ACBEAA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3CC-907D-4371-A1F1-5F390AC2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B5C-7EEE-49E8-922E-C3A90E78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798-6D0F-4865-A10A-F667E51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3D3-787D-491A-AFB4-E5E9AA64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8FEE9-5DDC-4125-BE3F-C2AF75DB1B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Eli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the Word of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se are th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servant, Mo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ghteousness being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0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se Are the Days of Elij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these ar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great tr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famine and darkness and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we are th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esert cr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ye the way of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, He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ding on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like the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trump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he year of jub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t of Zion’s hill salvation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Ezeki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ry bones becoming as fles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se are the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servant, Dav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building a temple of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are the days of the har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elds are as white in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are the labo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viney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the Word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, He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ding on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ing like the s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trumpet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the year of jub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t of Zion’s hill salvation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7:31Z</dcterms:modified>
  <cp:revision>10</cp:revision>
  <dc:subject>The Source, song number 503</dc:subject>
  <dc:title>These Are the Days (Days of Elijah)</dc:title>
</cp:coreProperties>
</file>