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A06-B21B-419A-8E3B-7F07B305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CBE-A986-449E-9EEF-272839FB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24C-3721-4170-8C85-37080012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ACB-3606-44D7-8A0D-C0A17EBF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2B7-6EB1-43A4-B660-D4D2ADE0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1DD-52F5-4046-A803-34F3F867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874-C948-4036-99C1-BD3769F8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632-CC92-4CEE-A215-1CA39A2C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911-F1A6-4A91-836C-DFA8DFC2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ECD-5A37-42BF-A934-AC5B835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596-8853-4FC0-B0EB-C26BFA1C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82C-4DF1-4F42-BCCB-658CDDC1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8F849-6A89-4CCD-8FDB-FD59EF16BE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Wither, pilgrims, are you 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each with staff in h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on a journe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at our King’s comm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куда идёшь, скажи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ы куда идёшь,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с посохом в ру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милостью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й я иду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hills and plains and valle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to His pa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are going to His pa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ing to the better land!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горы и дол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степи и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леса и чрез равн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домой, друзь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ell us, pilgrims, what you hop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far-off better l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otless robes and crown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a Saviour’s loving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нник, в чём твоя на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тране твоей род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лоснежная одеж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нец весь золо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rink from life’s clear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well with God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dwell with God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bright and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сточники ж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бесные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ду за Иису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жгучие песк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ear ye not the way so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 little, feeble b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; for friends unseen are nea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angles round us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Страх и ужас не знак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а пути те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Господни лег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ранят меня вез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our Leader, walks beside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uard, and He will gu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uard, and He will guid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e us to the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т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клонною тро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в небес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Pilgrims, may we travel wit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at bright and better land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and welcome, come and wel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e to our pilgri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Так возьми ж меня с с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чудесная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мой друг, пойдём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тебе моя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O come, and do not leave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waiting to receive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waiting to receiv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bright and better land.”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алёко уж р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н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чистая,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ведёт с тобой туда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38Z</dcterms:modified>
  <cp:revision>13</cp:revision>
  <dc:subject>Slavic hymnal Гимны веры христиан, hymn 613</dc:subject>
  <dc:title>Whither, Pilgrims, Are You Going? / Ты куда идёшь, скажи мне</dc:title>
</cp:coreProperties>
</file>