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9EF1-5BE9-4246-A7E5-06505691E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F99E-C0FF-40C3-8208-9C93FB8B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8277-4EA8-4319-B2A0-80793A24F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0936-EA3E-4883-8068-7F1079445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FEF8-CCA4-4056-85F2-687B4518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A814-6411-4A1A-9C9E-D70F7D7D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0060-58A2-423D-A09B-8374A01E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FB8C-3B18-44FA-A2A4-292CC4F1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24F4-01BC-4B61-B4AC-E8EDDFEB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1751-6B8A-4CF2-B553-DEBD73E5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2DC1-3CD6-4549-9E54-735590E7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0C2E-2B1D-43D3-B55D-B704CF47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7158F-B2B6-41E0-B28C-5D95ED4D70F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e my heart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ke it ever tr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e my heart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I be lik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pot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the cl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uld me and make 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what I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 first part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8   Change My Heart, O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5:47Z</dcterms:modified>
  <cp:revision>10</cp:revision>
  <dc:subject>The Source, song number 68</dc:subject>
  <dc:title>Change My Heart, O God</dc:title>
</cp:coreProperties>
</file>