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623-C2B5-4F47-8D82-85A1A922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24FD-857D-4EE2-AEFA-265E65C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D64-8F5D-43B5-AC0A-8665EA51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C15-0A13-41C8-9E5D-8BC2E259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217-6C5C-40E3-90ED-08589BC2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480-7E75-4C08-AC43-40010BD0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5A3-ABB1-46E7-9DF6-3EE35EEE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6FF-40A9-4936-9772-ACC0076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627-D9B5-480A-8F24-3720851F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75A-3F2A-4EE6-9992-6E00C73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C3E-6B18-4019-916E-97FC27D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A48-29C6-41BE-9D85-699EF18E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62E31-6890-4911-80EE-00DBB322AF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твой Он да охра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шаг твой направл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г с тобой, доколе свидим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Он да ободр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нной свыше Сам пит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 зла тебе защи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ся жизнь твоя сокр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иди, взи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любовь Его явля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видимся у ног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мы свид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 тобой, доколе свид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7:51Z</dcterms:modified>
  <cp:revision>12</cp:revision>
  <dc:subject>Slavic hymnal Гимны веры христиан, hymn 745</dc:subject>
  <dc:title>Бог с тобой, доколе свидимся</dc:title>
</cp:coreProperties>
</file>