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7E2-F0D5-4DB2-80DF-D51AE4EC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FCD-0264-4085-B9BE-8BBFFECB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96F-099F-4FBC-B982-BC29E450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C60-1312-4C67-9203-0A8D0471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253-3922-4C27-B115-87A224BE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687-07AA-4532-B550-2B826440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565-750C-43B8-B449-B9C05730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48F-7DCB-42D9-80D0-621AFE95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EDF-5DEE-467F-8777-D4895156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E596-5F97-4A0F-AE8D-7F5DB91B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E64-1914-470E-BE5A-87D40E12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2405-960B-4B6C-AA15-43C96740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9C0DA-D5B9-4B79-BB81-64F8869CE31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come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hrone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find rest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ullness of j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orship and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hold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ing “What a faithful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67   Lord, I Come Befor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ithful in ev’ry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heard my c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storm You’re the beac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ng in the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helter of Your w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 my heart’s rep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ing “What a faithful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ithful in ev’ry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all sov’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nting peace from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comfort those who s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comfort You have gi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ell of Your great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s long as I 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ing “What a faithful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faithful God have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ithful in ev’ry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7:37Z</dcterms:modified>
  <cp:revision>12</cp:revision>
  <dc:subject>The Source 4, song number 1967</dc:subject>
  <dc:title>Lord, I Come Before Your Throne of Grace (What a Faithful God)</dc:title>
</cp:coreProperties>
</file>