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0BD-3149-4AD3-B397-F9FD9E94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38A-CCE4-4D81-923C-C12F99BA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5DE-DF24-46AA-8999-87484557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EA6-0F30-4AB7-99F0-1B01FC01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A3D-3E82-44B0-8D4E-ACA9B60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D80-BBDD-40B3-9BDC-CD42C637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5D15-E935-410C-9330-D03B7AD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895-933B-4D20-A119-F8B27B02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B75-5838-459E-9896-107DAF66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2E7-5D5F-4CED-853C-78AC8B6E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992-9FE3-4A31-ACEA-DFCDA6C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FA1-358F-4757-ACFB-1EA24F3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C4D40-F317-4397-92E0-4649D066C0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sent His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called Him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came to love, heal and forg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миру Сына дал,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ру Сына дал,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сцелял, прощал,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, as death gives way to vict’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see the lights of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ll know He re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сто смерть отдаст поб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я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арствует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d and died to buy my pard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 empty grave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rove 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Он крест, чтоб дать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щает гроб Его пус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weet to hold a newborn ba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eel the pride and joy he g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— держать младе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жность и мечты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greater still the calm assu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child can face uncertain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льше счастья в упов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ё преодол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паситель жи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 face tom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He lives, all fear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 меня есть зав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жив — уходит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I know He holds my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ife is worth the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, что живу я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жив Спаситель 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в Его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one day I’ll cross the ri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fight life’s final war with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рейду за реку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следней битве с ней сраж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5-06-01T12:34:46Z</dcterms:modified>
  <cp:revision>11</cp:revision>
  <dc:subject>The Source 2, song number 701 in Russian</dc:subject>
  <dc:title>Бог миру Сына дал, Иисуса / God Sent His Son (Because He Lives)</dc:title>
</cp:coreProperties>
</file>