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9AE3-21D2-429A-B536-12B9770D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6C8-9AE3-42CD-B951-EDF36F2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667-8C82-45C3-B9F9-943DC26B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257-B4A2-4FB2-9656-EB8D7C96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99D-A950-4EBD-BB84-56742E20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418-83CA-4853-B691-C708DEB7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40C-27B7-45FB-A65A-F8E901B6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0E5-8D8F-43AF-A7FC-873C4812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26E9-C87F-4F8B-B4D1-99BB6648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AB2-0D5A-4508-9AC6-A54835C7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A2D-160F-4D07-8A01-97E7FE0E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45F-CDBC-40D8-87F7-91DF56B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8FAF2-AF5A-45D6-B3C1-1767F41D73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верь для нас од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возь неё си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овь Спасителя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рай всех пригл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тверста дверь для н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проходят дверью 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рай войти жел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ый, знатный и про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всех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чрез эту дверь во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Спаситель прим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мир душе своей найд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о Отец обним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врат святых отчизны 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ой крест земной он сло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небесный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му Господь возло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 дверь всеблагостью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также для ме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(меня), меня (меня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рста для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8:51Z</dcterms:modified>
  <cp:revision>12</cp:revision>
  <dc:subject>Slavic hymnal Гимны веры христиан, hymn 371</dc:subject>
  <dc:title>Отверста дверь для нас одна</dc:title>
</cp:coreProperties>
</file>