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8E05-71F0-4BF4-936D-9B0EE862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5F8-E26E-4820-96A0-D9F2D6FA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957-ECFD-438A-8E8E-C021D201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336-85EA-4F1E-962C-7A03C074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D15-A87A-44C1-B565-75507D21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F1F-0BC6-4042-AB35-7800405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A89-416F-4401-AFE6-16BF771A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4E1-F2CC-4DBC-B7C4-8685D5C1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124-8F28-4481-A1D9-75214ADC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E2D-B6C0-4A46-808C-E736507D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D1A-B9A6-44EF-AA2B-39C2056D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54D-8CE0-4841-869B-BF6942E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317A0-8AD2-4270-A39F-33A9663A9B7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8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9T11:25:14Z</dcterms:modified>
  <cp:revision>10</cp:revision>
  <dc:subject>The Source, song number 280</dc:subject>
  <dc:title>Jesus! I Am Resting, Resting</dc:title>
</cp:coreProperties>
</file>