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92D-5F89-43BC-ACBF-C0BE7307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4E9-E8E3-4CC4-9732-E1F2F111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613-1103-4968-BB1F-7CBD82EB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060-15B3-4581-A2D1-04DF69BB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A34-644F-46F4-BA64-66E31440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0D9-399C-4B9E-98F8-8CA7FAFB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7A5-ECDB-40EB-B7AC-2D30826D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20A-A590-4C63-93CE-617F385A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BA8-1D3B-4308-AA11-26D04B50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579-7BDB-4B20-9E0C-7B9C8D32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336-7189-4203-91EB-64C5ADFF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775-E2A6-4F7B-9496-7F29ECE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C610E-D36F-4221-B093-E7896D556D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! жаждет петь мой 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Твоих засл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у я петь, мольбу тв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сил Ц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оги мне возвес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 имени Тво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Твою распростра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людей к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итель! жаждет пе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имя гонит стр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рит из плача п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кий звон звучит в сердц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нам радость,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крушаешь власть грех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шь от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вь Твоя, Господь,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ывает грех людс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57Z</dcterms:modified>
  <cp:revision>12</cp:revision>
  <dc:subject>Slavic hymnal Гимны веры христиан, hymn 591</dc:subject>
  <dc:title>Спаситель! жаждет петь мой дух</dc:title>
</cp:coreProperties>
</file>