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05F-F8D3-4D90-9BD0-5C9A0E51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8E84-0359-494E-AF9C-BC5C0A75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E78-7532-4934-A5AC-F56C3E3F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D65-02AB-44EC-8CCD-0D398441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339-3DD6-4F6A-BE10-A27947DA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67F-FA89-43DD-AB1B-A5D0952D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6E8-B7FE-450B-BEAB-B3A457F1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50C-BCFB-4425-AFF8-6A814105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13F-41CD-4402-AA9A-5B5140EE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AAD-4CFF-48A3-B9B2-BB3E1459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7BB-B7C2-4249-BB75-3349EC7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B09-1F81-45D4-AD2F-F1B0C5FB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1EA4C-7226-4201-ACF1-9B7BC298A6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a hill far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ood an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emblem of suffering and sh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love that ol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dearest and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world of lost sinners was s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0   На Голгофській гор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Голгофській горі бачу там хрест ста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є символ мучення й на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люблю цей хрест, він мені дор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нім Спас за весь світ постраж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that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despised by the wor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s a wondrous attraction for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 dear Lamb of God left His glory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bear it to dark Calv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й старий, шорсткий хрест, що світ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низ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всіх вірних збира і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Христос у цей світ прийшов, щоб хр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яж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гріхи нести всіх і мо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at old rugged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ined with blood so div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rous beauty I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’twas on that old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suffered and di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pardon and sanctify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хресті тім старім, кров Христа видно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минаю все я час гір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за мене текла кров Ісуса св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б обмити мене із гріх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he old rugged cross I will ever be tr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’s shame and reproach gladly b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He’ll call me som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my home far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is glory forever I’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глядати буду на старий хрест шорст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уду нести я стид і ган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паситель мене в дім Свій вічний візь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віки там з Ним я б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’ll cherish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trophies at last I lay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cling to the old rugged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xchange it some day for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56Z</dcterms:modified>
  <cp:revision>12</cp:revision>
  <dc:subject>Slavic hymnal Гимны веры христиан, Ukrainian hymn 80</dc:subject>
  <dc:title>The Old Rugged Cross / На Голгофській горі</dc:title>
</cp:coreProperties>
</file>