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901-1189-4498-86BD-706B31E4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22F-DE24-4170-9496-142267F5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14DF-A6CC-4761-9F23-CB1A7815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C63-5F42-4B46-9209-959CB7F2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016-E1D5-4D59-8E80-AC823381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221-CDB0-4AA5-8E19-6E8878BF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A1A-53C2-4D9B-8D45-CA104EAD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BFF-7841-418F-B865-ADF43B8B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1F15-ADB7-432A-96EF-5CD77689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293-9503-46EF-AFEC-BFBD57DA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194-F025-44E7-81A2-30640868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AF2-FE59-4281-AA28-8819F682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DA86C-A8F3-4F94-84D1-748E2DE831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, о,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смотр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реди скорб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те, как Вися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ятую ль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за нас скорбя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к Себ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ти, о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! умил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ом страшных му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ьте и склон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ронзённых ру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ёс Он гнёт грехо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есь мир, за вс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нас виновн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тяжек гре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а бег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дь смерть приш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го не тво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аите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ердец го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корень зл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корбь, спе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 Христу с моль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Ему нес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од Его скорб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ы — Твои!» — скажи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ечный Друг дет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обой добы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ены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 Тебе омы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ю святой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8:57Z</dcterms:modified>
  <cp:revision>13</cp:revision>
  <dc:subject>Slavic hymnal Гимны веры христиан, hymn 762</dc:subject>
  <dc:title>Дети, о придите</dc:title>
</cp:coreProperties>
</file>