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658-AB8A-4560-8423-10104AC5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9C2-9AAF-4A21-BDAC-B03299DA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E4E-0319-4810-B015-A5411BEB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2F7-07C5-4239-8BFC-F6EE8081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161-46B7-4BE0-8751-990E6996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3E6-EB0E-4909-AB23-07B8B6AC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38C-B76D-475C-8606-068F8871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86A-84ED-43EA-AC90-8067ED64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C6B-C694-4F29-BFFE-83ADB37B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4D7-CBC9-48D1-A52F-4812698B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E7E-816B-4E7F-BB2E-41243947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662-1C69-435E-88BD-DD5486D0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DB12E-5610-4B04-A70D-517C3FF739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my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eternal ages let His praises 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y in the highest I will shout and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8   Вірю я в обітниці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упинно хай звучить Йому х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Богу в небі, вже зійшла з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that cannot f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owling storms of doub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e living Word of God I sha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Йом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оюсь я буйних бур гріха і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і мною милість Божа лиш бу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to Him eternally by love’s strong c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coming daily with the Spirit’s 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живу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знаю Його моїм усім є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правиці хочу бути я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I cannot f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st’ning every moment to the Spirit’s c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ing in my Saviour, as my all in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бо в них кріп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тю Божою завжди хва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уде за радість, як я з Ним стрі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1:00Z</dcterms:modified>
  <cp:revision>15</cp:revision>
  <dc:subject>Slavic hymnal Гимны веры христиан, Ukrainian hymn 38</dc:subject>
  <dc:title>Standing on the Promises / Вірю я в обітниці Христа Царя</dc:title>
</cp:coreProperties>
</file>