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FD1-D802-4260-ADEF-A008FB49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462-6CF7-4053-8983-DC1A9FCC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DFF-BE8B-43F9-B234-1790FFC8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A35-4D7D-482C-BE94-D98D1657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168-7EBF-46CE-9284-B010E4C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3A4-4A70-4A23-A2D9-CF9A6A2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57F-A197-43FB-AB7E-1C011C3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C40-13B1-47DE-99CE-404841CF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275-FE68-490D-98BB-D8513D86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7E0-67A7-42C4-8D36-6603343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664-A7B6-4D46-BF88-75A9A4D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785-45C5-4A04-B584-B6DE8B2B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86A61-EEB4-4543-BFA6-AA0F5B8981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весть твоих друз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устроил пир спас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души больной тво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9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ранник, полный утомлен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грех твой удруч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ходи: Бог снимет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стить тебя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чист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елей, чем морем в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вымоет свят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одея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всем гостям д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― прощенье, оправдань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пиршества гото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тебя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чего ж не примешь з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дух твой робкий ж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41Z</dcterms:modified>
  <cp:revision>12</cp:revision>
  <dc:subject>Slavic hymnal Гимны веры христиан, hymn 390</dc:subject>
  <dc:title>Странник, полный утомленья!</dc:title>
</cp:coreProperties>
</file>