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6C29-4BBF-4C33-8ABC-2300EB28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579F-B85F-46D7-BFD1-EE197744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E955-1347-44AE-A6E2-34EC8EE5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2EBB-2C90-4504-9FAE-C161DF87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947C-D57F-4933-BE52-29836B18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0DB8-07FE-43C2-8415-E458C8BB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3EA1-C439-4A5B-9165-FA822342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6E2E-9D50-4046-99A8-647F5824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1F47-1CC9-4499-A61D-1DD35E5B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622E-7366-44EC-8C49-5CBE658D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C524-3DAF-4504-A8C4-258B971C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2E37-08F9-46A4-8433-A5BCDA0F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08343-940E-48A0-81E0-26B6EA50256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Tis so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take Him at His 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rest upon His prom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know “Thus saith the Lor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2а   Сладко верить в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о верить 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 страхи поборо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жизни укрепля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ить: «Так сказал Господь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вил мне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в пут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дай мн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trust His cleansing b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in simple faith to plung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healing, cleansing fl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о верить 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ить в мощь Его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ерой прикосну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ю душу обно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вил мне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в пут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дай мн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’tis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from sin and self to cea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from Jesus simply t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 and rest and joy and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о верить 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цепи все пор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Него потоком ль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мир 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вил мне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в пут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дай мн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so glad I learned to trust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Jesus, Saviour fri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that Thou art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t be with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, что познал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Бог, моя звез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живу, к Нему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сстанусь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явил мне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ранит в пути зем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Боже, дай мн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ять Христу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24Z</dcterms:modified>
  <cp:revision>13</cp:revision>
  <dc:subject>Slavic hymnal Гимны веры христиан, hymn 622 (as amended)</dc:subject>
  <dc:title>’Tis So Sweet to Trust in Jesus / Сладко верить в Иисуса</dc:title>
</cp:coreProperties>
</file>