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3DD-B908-4B33-BA7A-F3C069CE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F11-FA05-45F1-B73D-0C3BF0B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4D7-AD77-482E-B219-F8D226E0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820-57CF-4F24-A603-8FC44C8F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9F41-F16C-4B1D-B3E9-D96752B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DBA-8EA8-4963-AF5B-CB4A9BC8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042-46FA-4262-BF51-2B912ACB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6E2-48C7-4E3A-8C2C-DF748CD6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980-BEB9-4633-A6B6-4BE36348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D4F-9072-4F3D-9D60-1470406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0A1-115F-4ADA-A361-5E7B97EF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C9F-110D-445F-81D4-5876862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BEA56-DF77-4EA8-8F97-36A188DD9D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heavens in His h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word of Hi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put the spirit in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63   Who Holds the Heave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olds the righteous by the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marvellous 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irs the heart of a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uses all His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gl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worship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 of our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, honou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, He rules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ghteous and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orshipp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s an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10Z</dcterms:modified>
  <cp:revision>11</cp:revision>
  <dc:subject>The Source 2, song number 1063</dc:subject>
  <dc:title>Who Holds the Heavens In His Hands? (Glory to the Lord)</dc:title>
</cp:coreProperties>
</file>