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2F6-A408-43FD-AAED-AABD32E3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633-9460-46F0-9353-2F0670C6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745-9091-46B1-B586-41B0C346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094-3399-4797-9325-CDBCFBB1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666-D1F7-4743-B2DF-E41E6FD6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BE0-14F9-430A-9FBD-2BA9CDE0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A76-AE30-4B80-901E-AAD86134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2B5F-4B0D-46BD-99CB-F3A8D899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14E-7FB3-454B-A93A-78E2E619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24A-5A9E-48CE-A5B3-A39253E1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9B8-31C0-42CD-880F-D316B2E9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002-0463-49B2-8487-8FC88D4B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4A7F4-37CB-40B9-9F65-789F2C703D0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ift m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soul, rej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joy,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hat You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t be a sw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weet sound in You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Love You,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11:35:33Z</dcterms:modified>
  <cp:revision>10</cp:revision>
  <dc:subject>The Source, song number 214</dc:subject>
  <dc:title>I Love You, Lord, and I Lift My Voice</dc:title>
</cp:coreProperties>
</file>