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058D-54BD-4398-AB94-2418153B2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0234-E6A9-41EB-8E85-BDF0A45B9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B100-DE82-4F2C-B0B8-CCD568B0E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4EE3-2708-4667-B572-DA6ED101C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6107-89C0-4A6C-A8BD-AA4248940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531D-2A6D-4EE6-B210-DB6FEFA18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B585-32FC-46F0-9C1A-5FE49AD68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F233-CD20-423F-9384-19C7827F5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8926-77B2-4F1F-B698-6939DF6BF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B12A-6C39-41A2-8A59-75B8F2CA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A350-4CAF-4413-A12A-3503E917A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71AD-67FB-404B-B4BB-AE011A74C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F2F5BC-C7A7-4B6F-ADEA-61341E73CBC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ьте, все,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шёл Он на престо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Ним ликуют небе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ёт чудесный хо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рянь, душа, и п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му, Кто спас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― Искупитель дивный т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― Царь твой на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0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ославьте, все, Хри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ь Царя люб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еды глубоких р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 на небе сохран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м для жизни д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меет сераф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ядеть на Бога с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лоняет голову пред Т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с нами в теле ж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ь Царя век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смерть побежде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ать людей от всех враг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рука силь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у хвала и чес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 мёртв ― и жив оп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умер, чтоб нам жизнь прине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, чтоб смерть попр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ь Царя неб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диного с Отц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ёт Он Духа, чтоб при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ей в Отцовски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ю хв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ечную люб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щедротам нет чис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 во век ве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30:55Z</dcterms:modified>
  <cp:revision>12</cp:revision>
  <dc:subject>Slavic hymnal Гимны веры христиан, hymn 808</dc:subject>
  <dc:title>Прославьте, все, Христа</dc:title>
</cp:coreProperties>
</file>