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C95-E9C5-45C8-8477-BE177F70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72A-20C7-48E5-82EE-CA6870C8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B29-BD6B-4EB4-8986-2DBFC8FD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D66-9F93-4A0F-82A8-F8B46A8A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AD5-5A12-4421-8779-D43FE382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4FA-218F-4D21-BB4D-6FF84FB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31A-9E3C-4B03-8304-1E9AFFF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A6A-555D-4FF4-AD37-854927D5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079-816A-4040-B184-4139EA53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F9A-C173-4E30-A2CE-BC78644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C06-1108-480A-88AC-30A4B31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CBB-87EC-4CE7-BEC6-6877FF0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1A32E-F2AC-4035-9233-990496E789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’twill be, what joy ’twill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uls from sin set fr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life on earth will all be p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e’ll be home at l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х, радость, радость буд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радость, радость будет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м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жизнь с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м там в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ealms of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will be nothing to ann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here we still must burdens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we’ll have up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верьте, робки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вечной радости кр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, грустно в мир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спасенье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ee of life will ever b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of life for us will c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gone our mansions to prepar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glory we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дерево с пл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пасителем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избавивший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ит в любви Св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Word does say there’s just 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leads through heaven’s d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don’t chose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ll face an awful f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а узкая од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нам да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ею не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мы умр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you choose Christ, the onl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ears may often mar your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aints in glory you will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to our God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путь узкий избер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ть мы слёзы здесь проль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в блаженстве восп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p there, be up t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joy there’ll be up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s redeemed to sh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м, радо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что за радость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удет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nts gathered in a coun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eart and voice will raise their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em we will the sound pro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will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се святые без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т Христу вдали от з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там громко восп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вой путь про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conquered death and banished f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v’n He’s led the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reappearance can be near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a glorious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скрес, рассеяв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 вели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ечистых, светл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варя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5:37Z</dcterms:modified>
  <cp:revision>13</cp:revision>
  <dc:subject>Slavic hymnal Гимны веры христиан, hymn 661</dc:subject>
  <dc:title>What Joy ’Twill Be! / Ах, радость, радость будет там</dc:title>
</cp:coreProperties>
</file>