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ED0-144F-4CB6-B41E-1243788A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09B-F2FD-49BB-8976-AC1F7A20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FB6-2BBC-4EB0-9170-71C89B31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5A3-160B-46F3-ACEB-63454E07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CE6-1C2E-46A3-9377-4EB9F224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D95-9A4C-4041-B721-8D8E71C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CBF-CA59-4C10-86CB-B21C4A7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ED0-37FC-476E-8564-24088A9E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95C-BB60-4C55-A572-4943F14C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B90-0841-42A9-9B89-9B033DF0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D43-E29C-4631-B7C7-E9000488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55FE-38D8-430A-8EF6-A6803A24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F8F6F-D050-4C02-ADD2-7029BA0154F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лагодати полн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ольше скажите о Хри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вятости и чист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ухе истины, как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ляет в нас Христов зак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е жизни, что в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общенью с Господом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ир, и радость нам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скажите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царит на высо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любит грешников спа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ак в наш мир придёт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ше об Иису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ом, как Он за нас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возлюбил и оправ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06Z</dcterms:modified>
  <cp:revision>12</cp:revision>
  <dc:subject>Slavic hymnal Гимны веры христиан, hymn 557</dc:subject>
  <dc:title>Больше скажите о Христе</dc:title>
</cp:coreProperties>
</file>