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is the promise of lov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shall be seasons refresh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t from the Saviour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ть обещал нам Господ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в те дни изолью 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а на всякую пло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ecious, reviving ag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ver the hills and the valley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und of abundance of rain.</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живляют вокруг,</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место бесплодной пустын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явятся рощи и луг.</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nd them upon us, O Lor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nt to us now a refresh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and now honour Thy Wor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шли также н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кругом засыхаю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га нужна всем сердца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re shall be 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that today they might fall,</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to God we’re conf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as on Jesus we call!</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дай нам скор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когда мы взывае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на нас Ты повей!</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howers of blessing we ne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rcy drops ’round us are fall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for the showers we plead.</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нам послать обещ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и, но прос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отоки Он дал.</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2:09:43Z</dcterms:modified>
  <cp:revision>5</cp:revision>
  <dc:subject>Slavic hymnal Гимны веры христиан, hymn 11</dc:subject>
  <dc:title>There Shall Be Showers of Blessing / Благословений потоки</dc:title>
</cp:coreProperties>
</file>