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7B5-5167-4CFC-9673-D944C777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980-BDF4-48C6-9DD7-D4F1FBD7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21B1-E9BB-4889-B8E1-98714752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E49-69AC-49B5-923F-B6BC6770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21F-1E14-4879-A2C3-34211CB2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A51-2C4F-47C6-89DB-73C1A8B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FA3-2CAE-406F-975F-C2B3521E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076-879B-4A1F-9764-92756BD1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3A6-97DD-431D-92CC-748F5AF8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EDB-FB57-4E6F-9FDB-F2AF35FB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6BB-0EF0-4A00-BB4B-3AEFC311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343-4F17-4A73-9231-1B06D98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1245C-EEEF-4805-9A87-B5F58E31DC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a roadway in the wild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lea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rivers in the desert will I 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 and earth will f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His Word will still rem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do something new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will mak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re seems to be no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orks in ways we cannot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be my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d me closely to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strength for each new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29Z</dcterms:modified>
  <cp:revision>10</cp:revision>
  <dc:subject>The Source, song number 134</dc:subject>
  <dc:title>God Will Make a Way</dc:title>
</cp:coreProperties>
</file>