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48F-CDE1-4FE2-9908-97892CF9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B36-9E1B-498B-A998-24B0CE9C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653-6E04-4E2F-BBA5-09E5AE57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839-3AD1-48FB-BFB5-6AE393FE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9204-7623-408F-899F-4BDA2DF9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B72-C4BF-41FC-894D-09819A5E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BCAC-5284-46C8-A5CB-3769E07D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875-4968-4994-8478-71614CF3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B7B-822B-4F98-85CA-01BDCD03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E63C-273A-4E34-9908-FF887F42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8F8-C443-4676-B0EF-74817896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759-11C9-4DC5-B3B4-E17E4A61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55A11-3166-4BD4-B1C8-AA97EB3BDD5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ты, друг несчас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Христа сто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еспечности опа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ою в мир гляди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 без замед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сточнику доб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 чаши благ спас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без се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ачем ты, друг несча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! Как солнце в н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сердце оз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! Счастливый жреб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е Он подар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, и брось всё б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ног Христа свят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упусти ты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тремленьях сует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еши, мой друг, сегод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бы не опоз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най, любовь Госпо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ечно будет зв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вой час, быть может, вск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олкнет благо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гда твой стыд и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кто не сможет с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1:53Z</dcterms:modified>
  <cp:revision>12</cp:revision>
  <dc:subject>Slavic hymnal Гимны веры христиан, hymn 351</dc:subject>
  <dc:title>Зачем ты, друг несчастный</dc:title>
</cp:coreProperties>
</file>