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6CF-5F37-4980-8606-5A367543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EDE-CC5F-4D68-A1CE-EA8A41A4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E2E-F46B-4AE8-8D3B-F680F4F0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AC4-F91C-4126-BB87-C5B52B36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683-6DA0-4BD9-B2E8-AA0DBFB8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49D-9E54-4FB7-A5FC-1AEF13EA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C88-E7E6-4E99-88CB-7CB0EF4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960-3CB7-452E-B67C-2959167D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7C4-A098-496E-B820-75246962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A6A-D641-4E5B-A717-194AC128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A22-0465-4D5A-8239-5D54599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41B-3249-4169-80FB-7DBF71F9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088AA-57A6-465B-A67F-27F3F538E3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ходи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мой Руко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Ты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 лицом Тво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на Теб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жу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Тебя у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знать Тебя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радостно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ам Ты мне откро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шь меня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Твоим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чно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побе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сти награду вз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1:13Z</dcterms:modified>
  <cp:revision>12</cp:revision>
  <dc:subject>Slavic hymnal Гимны веры христиан, hymn 809</dc:subject>
  <dc:title>Пред лицом Твоим, Спаситель</dc:title>
</cp:coreProperties>
</file>