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DB7-F222-47CE-96A1-4936D927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F11-F915-41AB-9473-68E22E17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829-48E6-4D48-B519-674CF1ED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4F7-0A27-4CA8-BDE5-75A62416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635-D795-4AC8-B7D5-010C3D81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808-2885-47F7-AA8F-EE258699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29B-1328-435C-95AF-478E9585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61C-6092-4E87-BD72-DDEF4D21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1DB-CAA3-4495-BD01-0EF8D68F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AD8-5AC1-4D74-966E-351E9600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AFD-D275-4870-A45D-37BADA4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069-AF2C-470C-BC08-3026EFD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C99D0-74C6-497F-9BFE-0FAFA181C5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оставлю вас од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я у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го Утешите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ого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вам навек приш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оставлю вас од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овь Божия, встав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полноту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решники во всех ме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ются в своих грех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у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силой полны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ас, для вас,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молясь и ве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а будет нам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ть всякий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ад к Пятидесят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е поспе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ветхой жизн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щенье Духом и ог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вымол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ль ты Его? Принял ль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я принял ли 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бличит мир о гре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придёт Утешител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5:59Z</dcterms:modified>
  <cp:revision>13</cp:revision>
  <dc:subject>Slavic hymnal Гимны веры христиан, hymn 309</dc:subject>
  <dc:title>Я не оставлю вас одних</dc:title>
</cp:coreProperties>
</file>