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80A-EA9F-42BC-AFAC-DD014E5C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33C7-C933-4135-90BC-A7604A27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1F02-8A4D-4A11-816F-6EEE30B8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4CC7-B12B-49A0-A74D-D567831D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C351-0D29-4B6F-8484-328B0A5F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5AFF-7DFD-4B12-86EA-090B9E0C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BCCB-61AE-4838-BFEC-CFF3B6A4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D8B-54CA-4A18-B5F5-7E2521A5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31B-7582-45E6-BCB3-1797FA8B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B7F3-DDCA-47A3-AD19-BAA8105E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254F-BB0D-46FE-B59A-07D9B15A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EF5-57CA-4394-9017-CB297A52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2A202-6D4D-4C2E-A64A-0F86641CE4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day, this is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he Lord h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he Lord has ma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hall rejoice, we shall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e glad in it, and be glad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17   This is the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day that the Lord h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hall rejoice and be glad in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day, this is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he Lord ha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7:14Z</dcterms:modified>
  <cp:revision>9</cp:revision>
  <dc:subject>The Source, song number 517</dc:subject>
  <dc:title>This is the Day</dc:title>
</cp:coreProperties>
</file>