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D0D-06D5-411C-B366-1D0B22F6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0C4-548B-4822-852C-1061E591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C62-9A21-4830-8412-F9581799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E4A-F3E5-4591-ACE4-78EA894E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A29-B39D-4F56-A958-D23E4EB6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BC9-5DC3-4411-9C05-48D317C9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3C9-9521-4B38-A5B9-EA5B2433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4C0-9B2B-498A-AED3-5D1630A7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F76C-6F34-4D62-9086-2159D187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430-AFA6-4317-A8C6-10FEBC90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A99E-A47C-4486-BE46-987ADD6D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999B-2981-4776-9223-9E557A11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B0772-6472-47DB-BC3A-EAC333C9FEB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ght of the worl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tepped down into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pened my eyes, let me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auty that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heart adore Yo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pe of a life spent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06   Light of th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ing of all day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h so highly exal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ious in heaven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umbly You 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the earth You creat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for love’s sake became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never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ow much it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my 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on that cross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here I am to wor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bow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 am to say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’re altogether love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rth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together wonderful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4:10Z</dcterms:modified>
  <cp:revision>14</cp:revision>
  <dc:subject>The Source 3, song number 1406</dc:subject>
  <dc:title>Light of the World (Here I Am to Worship)</dc:title>
</cp:coreProperties>
</file>