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A325-D92A-4C0B-9BC1-F30F6B08C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1EBB-2DF9-47E1-AC6D-4F3A2990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4BDE-E90D-4E06-B512-122DF0DBF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1C79-5F31-4670-ADCC-44CBCE5FF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9E5F-5E4B-448C-9777-21B49F7F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4AD4-D129-47E1-B966-7328F3E4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9FAC-DBBE-4328-8533-BF384EB1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F1C9-A77B-4A0A-A419-6078A564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46F9-38F4-469E-86CB-7A84A339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28A0-C127-467C-83F2-9654C32C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9C6F-EDEE-42D6-8DBA-B030598F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F840-5C40-4189-91E2-EEAE31CC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B232B-9951-4FF1-839F-23E7B8E19D3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ield not to tempt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ielding is s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ch vict’ry will help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other to w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вёрд будь в искушень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 будь в искуш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страшней, чем н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ишь, суме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жнему пом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ght manfully onwa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rk passions subd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ever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carry you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бости не слуш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и зло ру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ирай на Иисуса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k the Saviour to hel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fort, strengthen and keep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willing to aid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carry you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щи жди от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й у Его пор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х даров так 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un evil compan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ad language disd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name hold in rev’r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take it in v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ружися с лож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смей ропт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йся имя Бож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не призы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thoughtful and earn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d-hearted and tr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ever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carry you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ен будь призван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частьи и скорб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ирай на Иисуса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k the Saviour to hel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fort, strengthen and keep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willing to aid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carry you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щи жди от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й у Его пор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х даров так 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im to o’ercom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giveth a cr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’ faith we shall conqu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often cast d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х наградит Б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и вен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победим 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мы жив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ho is ou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strength will rene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ever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carry you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, расторгший уз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йствует, лю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ирай на Иисуса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k the Saviour to hel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fort, strengthen and keep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willing to aid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carry you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щи жди от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й у Его пор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х даров так 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09:00Z</dcterms:modified>
  <cp:revision>12</cp:revision>
  <dc:subject>Slavic hymnal Гимны веры христиан, hymn 859</dc:subject>
  <dc:title>Yield Not to Temptation / Твёрд будь в искушеньи</dc:title>
</cp:coreProperties>
</file>