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C24-5FC1-46E8-B05D-30902475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0B4-D0C1-4071-9E02-3D974B18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3A2-6191-4FFB-86E8-EA040E6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B85-7945-4F56-BD8C-46133E81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F24-F685-4071-A74E-CF8C8165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6D7-E27F-44C2-A1D4-652C06F5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00B-54B9-45D5-A7B4-AD4B3639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535-DF03-45E4-938C-A9DDCBAD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365-BC3E-4F6C-9B7E-8BBD0DC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D7F-1961-44BA-8E45-7B71A2B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FE1-FF9E-4D7A-9359-BD7CB820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602-7396-4EDA-BDB3-85606BF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2F67A-81F5-48B9-ABD6-D9EA0DCFC0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morning, sowing seeds of kind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noontide and the dewy e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iting for the harvest and the time of reap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ем сеять ут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еять утром, сеять слово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день и к закату солнца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жатвы, 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wing in the sunshine, sowing in the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ing neither clouds nor winter’s chilling bree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and by the harvest and the labour en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ную ль погоду иль во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ли то во время бури и дожд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е устрашимся, соберём мы жа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ing forth with weeping, sowing for the M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loss sustained, our spirit often griev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weeping’s over He will bid us wel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о слезами сеять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грудь порою дышит тяже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час настанет, жатва вся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nging in the sheaves, bringing in the sheav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come rejoicing, bringing in the sh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ию вместе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11Z</dcterms:modified>
  <cp:revision>15</cp:revision>
  <dc:subject>Slavic hymnal Гимны веры христиан, hymn 521</dc:subject>
  <dc:title>Bringing in the Sheaves / Будем сеять утром</dc:title>
</cp:coreProperties>
</file>