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BA1-A781-4701-9C2F-6792A877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9CF-66AC-4A6C-91C0-869215F8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4A9-5AFC-470A-80AB-E1A1AE32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752-BED4-439F-A2DA-C111860C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1DE-98EF-4465-A85E-B08CF29E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6DC-812E-4844-AEDE-3A868141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448-F9E1-42DA-8D93-42F4C6C9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655-1DFF-4FE3-A2B3-A52C307A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BCF-6247-4901-AD76-8A68220A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E72-D904-4209-A283-B420240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004-3EB5-4368-BD6A-79EDC008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52D-E4E0-40BC-9C87-619D093D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FDCBF-2D18-42F8-A4F1-4DAF414F67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a land that is fairer than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y faith we can see it af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Father waits over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epare us a dwelling p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дали нам сияет ст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дали нам сияет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ё верою всякий в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 ведёт в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искупленный верный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sing on that beautiful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lodious songs of the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spirits shall sorrow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igh for the blessing of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 славе небес, дале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бот и печал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поют, восхваля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вством радостной, чист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bountiful Father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offer our tribute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glorious gift of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lessings that hallow our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есчисленный сонм тех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Духа объяты ог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Христову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ясь пред Его алтар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weet by and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meet on that beautiful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Он нас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жделенный тот край наш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4Z</dcterms:modified>
  <cp:revision>13</cp:revision>
  <dc:subject>Slavic hymnal Гимны веры христиан, hymn 691</dc:subject>
  <dc:title>Sweet By and By / Издали нам сияет страна</dc:title>
</cp:coreProperties>
</file>