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1D8-BAA0-4C9E-AFD7-1558A336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B35-8C85-41A0-A850-19AA8586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0DC-F305-4935-AD2B-C13FF59D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A22-EFC2-4A87-974E-0B7ABBB5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FF4-0774-4B10-B177-E5E4456C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8208-87D7-414F-AE3D-297940D5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304-0898-419F-8014-BDC95896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BBC-AD60-4E38-BA8F-8B151D60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AE4-71BB-4AAE-A39D-B8C53A6E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E60-BDAE-4DA3-9903-26AB8F63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554-847E-4219-9473-B79E15D9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EEC-BBB1-4211-95FD-3CD33CB8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8AD67-6FCE-4C01-8678-7F21E7D46D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mp unto my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t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treasure that I 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than finest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t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5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amp Unto My 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worship You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ev’ry day I need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wings of heaven I will s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ake my broken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e to Yoursel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You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ing in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worship You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ev’ry day I need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wings of heaven I will s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8:57Z</dcterms:modified>
  <cp:revision>11</cp:revision>
  <dc:subject>The Source 2, song number 851</dc:subject>
  <dc:title>Lamp Unto My Feet (It Is You)</dc:title>
</cp:coreProperties>
</file>