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DC11-CC3F-466D-8402-51E6D0BC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32F5-085C-4240-B41F-595CE399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218D-8DCD-4DB3-B632-D24A09B6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873A-E093-4BDF-B009-50D772C5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476E-48B4-4C9E-BF50-7832F2C3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1513-0B33-41E8-97FD-850D18EE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AC70-1527-4418-AA35-77271E4C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49BC-EEDF-4E16-8FC1-62F2A91D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C040-778B-4DB0-95FC-81942FC8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6706-B61F-4F43-B761-DD5BF2BE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B082-BF2E-47E0-BCA4-AB760154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FDDD-BD0E-452A-B5DD-1ABB2A98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91298-C234-46DF-99B2-9219EBBFA63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брат мой, уста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ющи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 ты ни был не пада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еправда и з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овластно цар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омытой слезами землё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г мой, брат 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разбит и пору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й Иде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уится невинная кров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настанет по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гибнет Ва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рнётся на землю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терновом вен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д гнётом цеп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 крестом на согбённых плеч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придёт Он и в си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лаве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ярким Светочем счастья в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будет на св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лёз, ни вра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бескрестных могил, ни ра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нужды беспросвет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ртвящей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меча, ни позорных стол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! не меч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т светлый прих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устая надежда од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лянись! Зло во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чур уж гнет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вокруг черезчур уж тем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устанет от м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хлебнётся в кр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омится безумной бор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днимет к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еззаветно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 полные скорбной моль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2:04Z</dcterms:modified>
  <cp:revision>12</cp:revision>
  <dc:subject>Slavic hymnal Гимны веры христиан, hymn 698</dc:subject>
  <dc:title>Друг мой, брат мой</dc:title>
</cp:coreProperties>
</file>