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768-C180-45CA-8B27-36E6C291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6CD-F144-4091-B79A-DFCD8517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61D-C635-4E25-8CD2-3A4522E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21-253D-4BC3-8017-AD43113A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48B-61F2-450F-A2BD-F82AF9E5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E6B-FD0A-40B7-AF5F-2878B5CC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71D-C08D-41EC-94D1-7EDBF4E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B09-9973-4AE0-A0CE-E40165E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1F6-23B8-4F43-AD09-EF985079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90F-87D3-4E62-B5F4-8FAFE079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F09-2A06-468E-A8C9-D5CD10F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7CF3-4379-4E6B-97F6-C5C8D740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46971-D0EC-4F71-8032-9348593C36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shepherds watched their f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n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seat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angel of the Lord came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y shone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59   Стерёгших стадо пастух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рёгших стадо пасту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девших в тьме ноч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ень ангел оза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лавой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Fear not,” said he, (for mighty d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d seized their troubled min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ad tidings of great joy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nd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тесь!» ангел обод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ожавших перед н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возвещаю радость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т людям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o you in David’s town thi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born of David’s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aviour, who is Christ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is shall be the sig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идов город славным ст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ам р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лся в мир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х плем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The heav’nly babe you there sha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uman view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meanly wrapped in swathing b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a manger lai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вам знак: найдёте 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царской славы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ит Младенец в пе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яслях Он лежит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us spake the seraph, and forth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ppeared a shining th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ngels praising God, who t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ddressed their joyful s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шине н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пели 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скорбною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6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All glory be to Go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the earth be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will henceforth from heav’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gin and never cea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слава в вышних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людям на зем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воленье Бог я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ящимся во мгл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12:06:29Z</dcterms:modified>
  <cp:revision>11</cp:revision>
  <dc:subject>The Source 2, song number 1059 in Russian</dc:subject>
  <dc:title>Стерёгших стадо пастухов / While Shepherds Watched</dc:title>
</cp:coreProperties>
</file>