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F6C-48EE-4A72-88F2-DC0F1ECA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9E1-1086-4A9F-A916-4314F2FA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969-926E-44C1-9A80-1945C2E0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E1D3-36DA-427E-8AC4-43829CBE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910-7BC3-442B-B0A7-D8B44087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0C6-922B-4A30-BA2C-A2D7A370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2A8-6002-40E1-95A4-45244985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014-32C5-46E5-A710-64D03CD5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9F70-79DE-4DBD-A31D-4ABF8508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CA6-1BAC-4EE6-9F88-0E48E849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5B24-DD7E-4EB2-86DD-9BAB6D45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AA35-E36C-408F-8D6E-767AE4C7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08381-98F4-48FF-98A4-ADF003752B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ем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указан м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вл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о всё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стут ц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м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шипов ку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неземной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овьи зар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ласкают сл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шакалов 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я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улит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рохлады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алящий з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жёт и ночь, и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тиши 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кремнистый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аган ре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носясь над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реди лу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шумок руч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камням хол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ираюсь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тречаю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крови сле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-то шёл, скор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борьбы и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ёрной мгле сокр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суровый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дали блес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ёк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ёк г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хоть вихрь шум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еня вл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-то всё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3:30Z</dcterms:modified>
  <cp:revision>12</cp:revision>
  <dc:subject>Slavic hymnal Гимны веры христиан, hymn 449</dc:subject>
  <dc:title>К неземной стране</dc:title>
</cp:coreProperties>
</file>