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00E4-B28D-48E2-8F76-FDBFE440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912-62FC-45BC-96B8-1FA9CE52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201-55DC-4900-B063-1F259326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5C27-21EE-4FDE-AF7F-203244FE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3851-7B70-4B31-8E8A-B43CF764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5898-7FB4-48D5-9077-D19D4AF1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72C-C6DE-4ABF-A67D-ADBFC129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EE1B-D813-416E-A91D-76D64CEE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2948-D536-4D37-B2B9-D3B790A6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869-C468-4FF9-A563-FB63644B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5A80-7E0F-438B-A548-57C87242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E11E-2858-4EA2-9475-33577EBC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7034B-998B-4077-81F8-B49610FC35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thanks with a grate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thanks to the Holy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thanks because He’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Christ, His Son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1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вала Тебе, наш Госпо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наш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Тебе, Бог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за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а Твоего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ow let the weak say, “I am strong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et the poor say, “I am rich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cause of what the Lord has done for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ive tha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слабый скажет: «я силён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скажет: «я богат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ря тому, что Бог нам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3:58Z</dcterms:modified>
  <cp:revision>11</cp:revision>
  <dc:subject>The Source, song number 118 in Russian</dc:subject>
  <dc:title>Хвала Тебе, наш Господь / Give Thanks With a Grateful Heart</dc:title>
</cp:coreProperties>
</file>