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a:t>
            </a:r>
            <a:r>
              <a:rPr b="1" lang="ru-RU" sz="3600" spc="-1" strike="noStrike">
                <a:solidFill>
                  <a:srgbClr val="ffffff"/>
                </a:solidFill>
                <a:latin typeface="Verdana"/>
              </a:rPr>
              <a:t>	</a:t>
            </a:r>
            <a:r>
              <a:rPr b="1" lang="ru-RU" sz="3600" spc="-1" strike="noStrike">
                <a:solidFill>
                  <a:srgbClr val="ffffff"/>
                </a:solidFill>
                <a:latin typeface="Verdana"/>
              </a:rPr>
              <a:t>Вот, собрались мы опят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т собрались мы оп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лять любовь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святая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исполнит нам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ёмся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равду нам узр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сторженной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Спасителя воспе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ыслью нас Свое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Ты нас ос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подавляя пл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хе крепнуть во все д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ас братск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в одно соедин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любовь Христа —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а же нам — крепкий щ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удем петь мы в прост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пламенным, живы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м, братья, во Хри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ы помыслом одн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надежда нам да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четаться со Христ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ем светит нам о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рким счастия лучо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 ликованием в сердц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тим мы к Богу в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ред Ним исчезнет стр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укоры, и по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ёмся все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правду нам узре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восторженной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Спасителя воспет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24T11:02:10Z</dcterms:modified>
  <cp:revision>3</cp:revision>
  <dc:subject>Slavic hymnal Гимны веры христиан, hymn 5</dc:subject>
  <dc:title>Вот, собрались мы опять</dc:title>
</cp:coreProperties>
</file>