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8156-118C-4032-9938-3ED837D6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1394-FA10-4B63-ACE9-A341FC01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24CA-1546-4F8D-AD08-7C311187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D7AF-2C62-4B17-B110-9B5DBE0F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E55B-D045-4C51-B19C-61FFF84C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0FF5-5D58-4403-8130-865610C0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BB88-A855-44D7-8815-CE552762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79EE-CCE4-435F-A42C-41809BC8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97CA-88B0-49C2-8F6D-30DD7A8E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3A34-44D7-4AAA-B907-C549FD27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22E0-53D9-4884-89FB-3F5A1BD7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AE06-0467-4EF0-9EBF-D0349CE2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3FD33-B68F-47D5-84ED-FDB1465F266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ги Господа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уть пойдём, что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Сам проло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овета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нас направ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, силы и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обно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е к труд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ты и мо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и тру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наш 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чущий хлеб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то жаждет, к источн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ье кре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ть мы долж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слугой свое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Христом спас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ты и мо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и тру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наш 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много тру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 мрака и лж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ь должно на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Господа 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ославить долж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ржеством воспев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Христом спасе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ты и мо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и тру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наш 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небесны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кончится тру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дарует вен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 обитель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водворе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и песнь воспоё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Христом спасе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ты и мо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и тру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наш 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2:42Z</dcterms:modified>
  <cp:revision>12</cp:revision>
  <dc:subject>Slavic hymnal Гимны веры христиан, hymn 525</dc:subject>
  <dc:title>Все к труду!</dc:title>
</cp:coreProperties>
</file>