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727D-E144-4231-9022-C3F1F420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76FE-9722-49A0-8082-51B5D0E7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D659-7922-4C55-B256-89777420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1495-1CCB-4544-AEFF-F0B9CDD7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4DD8-BB0A-435B-8EC3-409FA47D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9BFD-BE64-4DA0-BC6E-73D1D564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FB8B-23A7-4B10-A997-ACE07032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4911-94D4-4725-85FB-1B689249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957F-0A52-4443-88C7-3865D790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6723-04FD-4236-9065-295FF4DA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8E4E-260B-45A6-B684-7D3F9B86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F16C-9DE9-47F8-B9EB-1EB5B508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BAFDC-DE94-4829-A858-63B89D5A1C9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я так бессиле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страдаю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ердце так печаль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утешен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Утеш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со мной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чем я так бессиле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удет ли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запою от сч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, свободен 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в искушень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круг темно, тем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е замолкла пес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частье умер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гляд на Иисус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возвращ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удет ли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запою от сч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, свободен 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дах пусть ваше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не смущает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слышу глас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спокоен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, истина и жизнь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благ Он полн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удет ли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запою от сч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, свободен 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5:39Z</dcterms:modified>
  <cp:revision>12</cp:revision>
  <dc:subject>Slavic hymnal Гимны веры христиан, hymn 701</dc:subject>
  <dc:title>Зачем я так бессилен?</dc:title>
</cp:coreProperties>
</file>