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DA4-F4C0-4F75-8A27-F490C0B6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DB1-914B-46FD-BF7E-3D3E64E3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73D3-45B9-40F5-8B87-287A29CE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2EA-1B13-4BE3-BC66-4815D9E2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DEE-F732-4BC3-8E7F-E6492368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9A6-43C8-44E8-9F7A-F0D3E5DB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A25-0396-4D7F-848A-34FFD585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933-CA74-4440-ABAE-BA091A00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5B8-1172-406C-923C-F6649E1B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8FE-4BC7-4A52-9247-B500024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91D-94AC-43F3-990A-B9BDBD37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3F07-3E81-400B-BEF8-EDB5AC8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77B86-13ED-4604-9ABE-620D9CDCA9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верою жив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святой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найдёшь по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7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 мой, к Господу пр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оставил Свой пре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славных небе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землю к нам сошё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рассеять м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спасение т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ёл Христ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ресте Он произнё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овершилось всё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рось греховный гн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открыл спасенья д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 Себе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рославят все у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а Хр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за грешников страд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м вечность д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40Z</dcterms:modified>
  <cp:revision>12</cp:revision>
  <dc:subject>Slavic hymnal Гимны веры христиан, hymn 347</dc:subject>
  <dc:title>Друг мой, к Господу приди</dc:title>
</cp:coreProperties>
</file>