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7F2-CFEF-49B4-8D56-E7AD68B5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F90-EEA9-48B1-BEE3-4CA79CB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51B-D657-4ABA-8178-9C489112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052-D112-40C0-81A0-00FFFA34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654-B91A-4A1D-987D-97444990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DBD-A1AE-4CC3-BEC9-2EF8DADB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F8F-AAE6-446B-BA43-D8DFF0FA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C63-CA1A-43F5-9FBB-4B72C694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550-ADE9-4D6E-8811-0AE8B7D9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F05-4577-4179-9588-55EFFA00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6B2-EC31-4568-A622-8D01BD78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BC1-1E77-477F-98F7-53606C9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BD8F3-C857-4CF2-930E-75C5CAFE78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, 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ш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ене Він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ий я є ра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8   О, який я є р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1:01Z</dcterms:modified>
  <cp:revision>12</cp:revision>
  <dc:subject>Slavic hymnal Гимны веры христиан, Ukrainian hymn 58</dc:subject>
  <dc:title>О, який я є рад</dc:title>
</cp:coreProperties>
</file>