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266A-3307-49D4-85D0-9745BDDF2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AB53-D5A5-4579-A35D-630CFF1E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A326-C2A1-47A7-830A-9EFDF137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E02A-E535-4272-A638-8AAE5DA8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01DF-63EF-4265-AF63-7D7732CE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BC8D-F5BC-4C69-8FE5-73636A62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8D2B-E299-41A4-80B3-90CA0755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0239-6F54-481E-A1E2-10CD9815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BF81-9823-430F-8F9D-1654434F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978D-D517-483C-9416-4F888526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A24A-6A53-46E0-98B4-1B2E7D84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D824-720C-43BC-9527-E8308B67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22AA6-31DB-4648-8A74-15793559989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n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one else can touch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You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earch for all eternity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ind 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9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ere is None Like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mercy flows like a river w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aling comes from You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ffering children are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n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one else can touch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You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earch for all eternity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ind 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5:59:36Z</dcterms:modified>
  <cp:revision>11</cp:revision>
  <dc:subject>The Source, song number 493</dc:subject>
  <dc:title>There is None Like You</dc:title>
</cp:coreProperties>
</file>