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37C-1A03-4BCA-94A8-81C62FA7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F6C-4F6F-4431-B672-829383BF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F003-57D9-4041-8B31-BA420E3B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774-EB39-4CC3-9C1B-0ED16C80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C87-BAB1-407A-A708-C84B41E4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384-2791-4FCB-AF06-F094951F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858-9B8F-4800-9281-97F86F4E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15F-7FE0-47FD-A5BD-A33D40E8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3A5-AE11-441B-8798-CF3EC5D9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46E-1BAC-49A7-92E7-10F6BB87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E54-CD5F-4BF4-A471-F93302B4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531-5AB7-4DF6-B27A-7565AD29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0D1CE-85C0-40DA-B745-7D07B2701B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Творца святых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ьте все сердечным пе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 с радостным хвале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—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уди весельем сердце бь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ду песнь теперь нес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а, Творца св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вселенной до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из уст народа ль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восторженно по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, Спаситель, 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и слава, и хва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, честь и поклон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еки вечные! Ами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19Z</dcterms:modified>
  <cp:revision>12</cp:revision>
  <dc:subject>Slavic hymnal Гимны веры христиан, hymn 298</dc:subject>
  <dc:title>Христа, Творца святых чудес</dc:title>
</cp:coreProperties>
</file>