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113-4BE7-479C-909F-8CCD739B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173-4EBE-4033-9C25-0322A00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6CE-8785-4908-98BB-1EC944CB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1C1-FFA4-489A-8E4A-63A814B7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185-BF61-41E3-AFFE-BF9FA73B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5A3-A555-4886-9D90-35C92506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B68-93E6-4BD4-84B1-F255374D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174-705F-47CC-9FB0-B3779B0B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BE0-780F-4321-8657-80B6F4EA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CEB-F56A-49E1-B1F5-C670EEEB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F9B-8D97-4E99-B164-FA55FD1F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9B4-8E07-4C49-9560-6E3F7589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7B613-D7E2-4E52-8FC8-13EFC45B22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, о, мол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Богом мне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ой жизни среди бит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ла ты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ью я не сп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ях я сто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ю с Богом гов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 ты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чавш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я выбился из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оли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счастья не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пусть будет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ругих я жить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го прошу лиш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чувствовал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воя любима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их плечах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реди житейских би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репляла ласкою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, о, мол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ю тво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частье,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литва ты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авша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бурю падал я без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где слышал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слась среди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олитве радость пол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5:54Z</dcterms:modified>
  <cp:revision>13</cp:revision>
  <dc:subject>Slavic hymnal Гимны веры христиан, hymn 895</dc:subject>
  <dc:title>О, молитва</dc:title>
</cp:coreProperties>
</file>