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340-0BCF-41D0-B440-3A58B99F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549-278F-4ED7-B037-00100D97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148-E52A-4901-9B6D-E6B1190A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B18-8E1A-4F62-A44D-E56F91F9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2F7-19DB-4A65-AF52-F2C02FF1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C87-F5F0-44CB-81AF-BD8CF739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843-C245-47A8-B5FB-948B093E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1EB-48B6-46C6-BB14-56459842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5F3-8F3E-4000-9881-140B2008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9F9-49B0-41AB-86FA-FC572304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4EE-BDBF-47BD-A9CC-B0DAFB2D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965-F83D-479A-8E5B-14727978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70825-8730-458B-B350-9E47658D92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nd Here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’ry answered pray’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ways being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love that hears us when w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rms that lift us when w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always been right bes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ding us all along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’ve made it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days we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’s ye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trials we may hav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e’ll be leaning on Your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ill be Your strength that sav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that makes us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ing thi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ands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e are, giving our 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r hol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withi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24Z</dcterms:modified>
  <cp:revision>11</cp:revision>
  <dc:subject>The Source 2, song number 630</dc:subject>
  <dc:title>And Here We Are (Here We Are)</dc:title>
</cp:coreProperties>
</file>