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9152-C336-47D4-9E21-D2101FAD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4624-149D-44F7-B14B-5AC9F9E2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7F22-A34C-4A66-8064-C63EA3A66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58EC-41E2-4311-82AB-E6A6D829D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1788-D956-4447-80C9-762A67FF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4DBB-ECA0-4836-98DF-9AED0473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4629-D7B7-48D2-B907-10CF167B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AB50-9A5B-40F7-83F6-BBB97E86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9310-70F4-41F1-85EC-6588E22C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08CE-293A-4B5C-A597-269387B8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18EE-8052-42DD-A62E-2DBE92CB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F85B-F30C-46D9-9802-DA5D50C7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CC0C0-59C2-4FCD-B703-1F484438479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огда я в жизни не заб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ых и прекрасных моих д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звучали сердца мои стру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пел я в юности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билось чистою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ежал на подвиг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ком я был тогда со скорб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ревог не знал я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икогда я в жизни не забу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цветок, поднявшись над земл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головку к небу подним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дыхал Святой любви приро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Господь нам людям в мир пос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залось мне, что дни блажен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ой нежной юности м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ойдут они, не затемня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ося свет жизни для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увы, померкли мои це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лубоких вздохов я у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мои друзья всё также пе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д эти звуки я ры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струны моего порва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рфу жизни я совсем раз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утешность, слёзы лишь осталис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хочу вернуть, чем прежде б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чистым сердцем я взываю к Бог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моги усталому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али страданье и трево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Ты мне опять найти покой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9:38Z</dcterms:modified>
  <cp:revision>12</cp:revision>
  <dc:subject>Slavic hymnal Гимны веры христиан, hymn 776</dc:subject>
  <dc:title>Никогда я в жизни не забуду</dc:title>
</cp:coreProperties>
</file>