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86DF-C256-46E1-9FB9-8033A4A7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5EF-83A5-4464-9694-4AE764A9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C43-6336-468F-905C-74D4AF0B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698-5838-4DF8-BBFB-B342C0FE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C05-162E-4D87-9138-03CC75B2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720-194F-414A-A4E4-041A16CE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7AE7-EF01-4BB5-A8C8-FE0EFF10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AA5-5292-4ED4-9793-B29A3074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DE7-FD8C-4BF0-878A-B864FB47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37DF-B175-404E-997A-DEE66678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A002-C599-4F51-8CA8-DA4A70E0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E64B-32CE-4F59-A20F-12A0ABED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EA82E-0880-4D84-8F0E-146A3F2564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я бедное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б, где сил мне вз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ть Тебе желал бы 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как нач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з любви к душе м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ам младенцем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ию меня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мерти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сподь, я бедное ди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как жертво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приобре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я за дар Твоих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 Тебе прине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сердце, Бог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, Твоё о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я знаю, весь я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Тобой д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долго сужд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жить в стране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рши желанье мне од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радостью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свято я завет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ю век целый с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нить дней моих пре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возьми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6:35Z</dcterms:modified>
  <cp:revision>12</cp:revision>
  <dc:subject>Slavic hymnal Гимны веры христиан, hymn 764</dc:subject>
  <dc:title>Господь, я бедное дитя</dc:title>
</cp:coreProperties>
</file>