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426-3F8B-4DC8-B38C-63913DE5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7C7-FC8D-436E-B085-E6E57827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2A1-C57C-4DDC-B4C0-C9EB58E6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F7E-881D-4F50-A973-F9F23F9D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B32-5062-4C6C-878A-3AA771B8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09C-6E00-4AC8-A8EF-5C25BF3C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18D-D574-456C-B219-04B522F3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80F9-1544-4481-B21C-4C50EE2E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494-C2CB-427A-BE71-8014CD23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62D-85A7-4D6A-9F5E-1275FA6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2CB-D196-4B15-B42B-2625B0AB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A99-8670-4133-976C-C1DED82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ACC19-7878-49DE-A0EB-080CBE1CCB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ал Бог ангела при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гачам, не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бедным в поле пастух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 их оси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им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тесь! вам рождён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дям радость Он принё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небес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лась чудесная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а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Царь сошёл к Своим раб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луч звезды для уха 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ёл он мудрых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, что ярче всех све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огий домик оз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шли смиренно в мал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ли ниц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у поднесли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ли с хвалой в свои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2:50Z</dcterms:modified>
  <cp:revision>12</cp:revision>
  <dc:subject>Slavic hymnal Гимны веры христиан, hymn 814</dc:subject>
  <dc:title>О Рождестве благую весть</dc:title>
</cp:coreProperties>
</file>