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6D2-4095-4CC9-93C5-3F750AF1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456-AC84-42AA-AB2E-1BBCECCD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9E2-72F8-4D25-B4E4-38AFED1E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D09-E2FA-4A8D-A502-33B86AEE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177-6ACC-42F6-B5A3-032A1E4A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ED4-D873-4A60-9828-46B1E97E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B78-9B43-432F-8968-A47F26BA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B4E-18D2-4A07-BB09-F7D18EE0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CAD-E936-4A0B-B521-E07081A5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56A-76AB-4797-B53A-616EC5F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1DBF-556B-40CD-BA01-BFECCD5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6A5-EBB8-4226-9682-468DD089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570B2-CB66-4F11-AFC0-CC7C3AE7B2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робі Він леж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я слави дожи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1   У гробі Він леж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ере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а в гроб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емно ста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ь й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смерть подо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скрес у слав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гробу Він у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орожі сили розіг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, нам всі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чне вірних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бр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оскрес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ілуя! Ві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6:55:58Z</dcterms:modified>
  <cp:revision>12</cp:revision>
  <dc:subject>Slavic hymnal Гимны веры христиан, Ukrainian hymn 81</dc:subject>
  <dc:title>У гробі Він лежав</dc:title>
</cp:coreProperties>
</file>