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83D5-C485-4CC0-BB7E-C2124DFB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6E1F-BE46-4481-885C-7467707B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B751-2117-45E4-8569-DF9B22B9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4A68-8CDE-4212-A0C9-11420A33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0C79-5C2A-4F3A-B9E4-106456AF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CA1-898D-4838-82AC-E8CAE137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6474-9D36-4C61-9ECA-D36D1417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34D4-60F4-438A-8B98-2A98F4AF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EE74-F0CD-4E0D-95F5-DD9B0E78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35F1-3645-4954-AA51-43DE7F01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0751-B4C2-4100-AF5B-26A25841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6125-4AA7-4FB5-9ABA-20160178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10B18-34C9-41F5-A925-F44A78CEE42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 — орудье ка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лгофу нё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тко без боя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го хот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пути зем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ёл и я в терп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кре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рест — орудье ка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идя смирен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крестом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ал Царь все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лаза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же крест суров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Он облегч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в греха ок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мя усла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иго бла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уше м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и отва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крестом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бремя, зн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мне легк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го вз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недале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3:09Z</dcterms:modified>
  <cp:revision>12</cp:revision>
  <dc:subject>Slavic hymnal Гимны веры христиан, hymn 493</dc:subject>
  <dc:title>Крест — орудье казни</dc:title>
</cp:coreProperties>
</file>