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EB3-B3F1-4850-ABA6-FA62706A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9E8-9C64-43D5-AA15-0E69EB32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E5C-6B4E-463B-A205-C0306EC2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22C-C883-4B2B-B52D-0751FD38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FD5-93AA-4D66-8DDE-57796EBE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F9D-80EA-4427-B589-3BAC045C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598-5C6E-4C48-ABDD-A0CB2F17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76E-FBA8-4E4C-9D67-038F1DDE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764-40AE-432F-AA1C-39FC90E2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3BB-149C-455A-BFD3-212E1FAD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AAF-69A4-4A23-A52A-FDF8DC90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744-0987-4FE8-BC83-4FADE43B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80E6C-67BA-4A42-841C-6A992797EE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standing in Pilate’s h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iendless, forsaken, betrayed by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ken! what meaneth the sudden c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еред Пилатом Иисус сто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Пилатом Иисус сто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и оставлен, презрён, изб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! вопрос роковой зву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то сделаешь с Иисусо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standing on trial st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be false to Him if you w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be faithful through good or 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судом Он стоит ещё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за Кого ты признал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защищать горяч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evade him as Pilate tr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will you choose Him, whate’er bet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you struggle from Him to h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руки мыть, как Пил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согласишься с Христом стра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ыться нельзя, Бог велит реш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, like Peter, your Lord de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will you scorn from His foes to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ing for Jesus to live or d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рекись же, как Пётр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 пугает тебя вра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согласись жить с Христом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you do with Jes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utral you canno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your heart will be as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will He do with 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Jesus, I give Thee my heart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I’ll follow Thee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obeying Thee!” will you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 will do with Jesus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 мой Господь, отдаю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ль, в скорби люби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ё счастье и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сделаю с Иисусо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38Z</dcterms:modified>
  <cp:revision>14</cp:revision>
  <dc:subject>Slavic hymnal Гимны веры христиан, hymn 408</dc:subject>
  <dc:title>What Will You Do With Jesus? / Перед Пилатом Иисус стоит</dc:title>
</cp:coreProperties>
</file>