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49</a:t>
            </a:r>
            <a:r>
              <a:rPr b="1" lang="ru-RU" sz="3600" spc="-1" strike="noStrike">
                <a:solidFill>
                  <a:srgbClr val="ffffff"/>
                </a:solidFill>
                <a:latin typeface="Verdana"/>
              </a:rPr>
              <a:t>	</a:t>
            </a:r>
            <a:r>
              <a:rPr b="1" lang="ru-RU" sz="3600" spc="-1" strike="noStrike">
                <a:solidFill>
                  <a:srgbClr val="ffffff"/>
                </a:solidFill>
                <a:latin typeface="Verdana"/>
              </a:rPr>
              <a:t>Ему имя: Чудны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Ему имя: Чуд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ый 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ень великий суд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ет Он судьё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Ему имя: Слов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о — Вечны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 Его покро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бы жить не мог.</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Ему имя: Сла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раз Божест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ь небес Держа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нгелов Глав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му имя: Вер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ждь, Мудрец, Прор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 любви безмер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из тьмы извлёк.</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Ему имя: Неж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астырь Божьих ст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кеан безбреж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ей, отра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Он — Первосвящен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щный и благ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ый мира пленн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нашёл пок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Он — Советник ди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дям в час невзг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 вздох призыв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тотчас 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8.</a:t>
            </a:r>
            <a:r>
              <a:rPr b="0" lang="ru-RU" sz="3200" spc="-1" strike="noStrike">
                <a:solidFill>
                  <a:srgbClr val="ffffff"/>
                </a:solidFill>
                <a:latin typeface="Verdana"/>
              </a:rPr>
              <a:t>	</a:t>
            </a:r>
            <a:r>
              <a:rPr b="0" lang="ru-RU" sz="3200" spc="-1" strike="noStrike">
                <a:solidFill>
                  <a:srgbClr val="ffffff"/>
                </a:solidFill>
                <a:latin typeface="Verdana"/>
              </a:rPr>
              <a:t>Он — Лоза свят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го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ере возраст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ьнут к Нему сердца.</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46:16Z</dcterms:modified>
  <cp:revision>3</cp:revision>
  <dc:subject>Slavic hymnal Гимны веры христиан, hymn 249</dc:subject>
  <dc:title>Ему имя: Чудный</dc:title>
</cp:coreProperties>
</file>