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5FD-30D3-4D24-87E9-A0BE7D68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361-D494-46AD-9AE8-E578E7A1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D9C-F734-4071-88A9-DD3CA44F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BB5-F5EA-4E2B-97F1-5CD94D04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09A-6050-4B6B-905B-4322315F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200-0262-4E93-9B9F-FBD03512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738-2268-43DA-A8E9-8BC5A99A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90B-B230-4C76-ADE4-C5C6C29F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5C5-6D13-406E-8BDA-8AF21FDB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30A-6ED0-4FCD-A189-69642BB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65A-B246-4A9E-955C-F0D3804F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D72-FD6D-4190-9596-48B6A230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D5C66-5142-4C4C-9B19-1A6EA74268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ізнавсь я про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й радість для серця знайш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куди вже більш не пі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нявши Христову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6   Дізнавсь я про Церкв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наєте Церкву жи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, браття і сестри мо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іть на дорог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Церкви живої у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ільки в ній душ без с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ли собі мир і спок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лються молитви рі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е в ній Христос дорог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Церква могутня, Госпо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й нею іде чоло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Євангелію всі сьо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 ― спасетесь на ві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див я усюди п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щастя ніде не зна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ився шлях безпросвіт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 Церкву вві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, йди в Церкву жив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дість і мир там зна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, і віддайся І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вічне блаженство вві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56Z</dcterms:modified>
  <cp:revision>12</cp:revision>
  <dc:subject>Slavic hymnal Гимны веры христиан, Ukrainian hymn 46</dc:subject>
  <dc:title>Дізнавсь я про Церкву живую</dc:title>
</cp:coreProperties>
</file>