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2279F-3107-4FD0-8DB4-0DDA10FA9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7C04B-B204-4722-8760-A42EA99DE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9DBC9-B625-4FDA-8AA2-4086AE06C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D98AB-C026-4597-A56C-B57589BAF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00AF7-6414-48D1-89A3-733B8DAFC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C8581-10D2-4A7F-B6DD-97A358273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0957F-36A5-4D95-BDA7-B5278263B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D3EA8-EB09-42BA-AF69-84F0E3FD1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E4E68-6953-459F-8B64-822362DC4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6B7BD-81FC-47D9-8113-C4FE6F54E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5F197-E3C1-409D-924F-2EDF7325A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25A2D-1E4E-48BB-8B5C-C6AD850CD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3FFF1C-1804-4CD0-B3BE-2C9C128DC299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 three kings of Orient a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aring gifts we traverse afa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ield and fountain, moor and mounta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llowing yonder st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231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от, волхвы с востока иду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т, волхвы с востока иду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зяв дары, не глядя на тру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рез пустыню к Божью Сын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лгий кончают пу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star of wonder, star of nigh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tar with royal beauty brigh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stward leading, still proceed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uide us to thy perfect Lig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чудная волхвов звезд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светила им тог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свещая, ободря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 веди к ногам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star of wonder, star of nigh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tar with royal beauty brigh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stward leading, still proceed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uide us to thy perfect Lig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чудная волхвов звезд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светила им тог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свещая, ободря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 веди к ногам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orn a King on Bethlehem’s pla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old I bring to crown Him agai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King forever, ceasing nev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ver us all to reig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Вифлееме Царь нам рождён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олотом почту Его тро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ковечно, бесконеч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Царствовать будет О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star of wonder, star of nigh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tar with royal beauty brigh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stward leading, still proceed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uide us to thy perfect Lig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чудная волхвов звезд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светила им тог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свещая, ободря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 веди к ногам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rankincense to offer have I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cense owns a Deity nigh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rayer and praising, all men rais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orship Him, God on hig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адан в дар несу я Христу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с небес пришёл в нищет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снопенья и молен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ши идут к Нем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star of wonder, star of nigh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tar with royal beauty brigh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stward leading, still proceed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uide us to thy perfect Lig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чудная волхвов звезд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светила им тог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свещая, ободря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 веди к ногам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yrrh is mine, its bitter perfu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reathes a life of gathering gloom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rrowing, sighing, bleeding, dy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ealed in the stone-cold tomb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мирны горькой запах благ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знь хранит в юдоли земн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виновных Умерщвлён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перт был в гроб чуж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star of wonder, star of nigh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tar with royal beauty brigh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stward leading, still proceed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uide us to thy perfect Lig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чудная волхвов звезд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светила им тог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свещая, ободря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 веди к ногам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5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lorious now behold Him aris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King and God and Sacrific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eluia, alleluia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arth to heav’n re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ен Он, Воскресший Господ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Царь и Бог страдал за наро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! Аллилуй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бо Ему по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2-29T07:37:30Z</dcterms:modified>
  <cp:revision>13</cp:revision>
  <dc:subject>Slavic hymnal Гимны веры христиан, hymn 231</dc:subject>
  <dc:title>We Three Kings of Orient Are / Вот, волхвы с востока идут</dc:title>
</cp:coreProperties>
</file>