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79F-E743-4728-B5C6-2A90A0E1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600-C559-4C56-A1FE-CC85E8FE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C9D-5DE5-4A08-838A-5AE0E793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19C-51AD-4D3E-AABD-12C5B9DE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2AA-B631-44F7-9B74-E7A2B099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F48-D3AB-4675-A679-E4B14FB2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2BF-A37E-4003-82C8-17C45738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253-FD9A-45D0-9EFD-17E1091B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459-3421-4C58-9634-8A271E80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E52-FC4F-4955-95F7-1C1B602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6A4-5245-447E-BD82-A1AF3580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C03-2967-4845-851D-262EFE39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88B70-212B-4D8F-B24E-7D114197DF7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6   A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we ask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thing that we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s we worship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come and change our liv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, we lift You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ft You up on our pra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take Your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 enthroned on 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King of k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 God, as we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 (arise), arise (arise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ise, arise, arise, a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4:59Z</dcterms:modified>
  <cp:revision>12</cp:revision>
  <dc:subject>The Source 4, song number 1726</dc:subject>
  <dc:title>Arise</dc:title>
</cp:coreProperties>
</file>