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C4E-1719-4123-ABFB-876FE365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571-CCA1-4A32-9BCD-7A8F526D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4A9-22BC-45B7-A5AC-0C2E8244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C60-F00E-485D-AEAA-F237EDC6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6E41-E246-4B32-AB7D-11BADF80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F9F5-94E5-4393-AF6D-851A951C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8A58-9213-439F-B2D6-E2792580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B63-FC66-45C5-8BA5-4E87C444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86FC-3F32-46E0-9F2B-73307EE2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E81C-DB11-4566-8E5B-F46F1BB3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7CB-DD7E-42FB-87C4-50B6BAB8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E1B-B06F-486F-83CA-109B807E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5A211-F70D-4FA9-80B6-FCD628E1E3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звись, мій милий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радість Ти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звись в тяжку год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дам свій голос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і тісно було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и дав мені прості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епер мене помилу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віддай на погові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0   Обізвись, мій милий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айте страх та віру в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і люди на зем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важайте ви про Нь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важайте ви в тиш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засяй над нами,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тлом Твойого ли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м святим, чудовим світ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нам сяє без кін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9:32Z</dcterms:modified>
  <cp:revision>14</cp:revision>
  <dc:subject>Slavic hymnal Гимны веры христиан, Ukrainian hymn 20</dc:subject>
  <dc:title>Обізвись, мій милий Боже</dc:title>
</cp:coreProperties>
</file>