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D82-DD95-41AC-8F13-E1D2ECE0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922-D87F-4D09-97B1-7062E8B3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1D8-EA4B-4130-8AE4-25E5E377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923-D461-4B14-AD67-56F093AE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20F-99BB-4F08-BB8A-D9F6B352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4EE-0309-4552-8596-8C6281E5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D40-2964-434D-82DF-8C47C4E9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49F-FCAE-4750-91D0-DDA60A2D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501-989F-41A4-ABA3-659A5D2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75C-EE42-49B7-BE6B-3A7BA1C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D84-4653-4676-A314-E88B465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636-A003-4063-B4C2-A3C79DF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5E69D-6B35-4FCF-B644-87AEE76463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ины рат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ы за веру 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на подвиг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ликий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али меча не им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м мы горяч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ерой в Вождя пламен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ем в сердцах лишь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ины рат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ьют, всенародно руг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т на суды и к власт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цирках со смехом брос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ищу голодным звер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нями нас мир поб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нусным позором клей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ир на крестах распи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юрьмах холодных гн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зло мы добром отве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м Творца за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миром вражду побежд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путь нам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воины дружной семь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за великим В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емся с ложью и ть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Христову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42Z</dcterms:modified>
  <cp:revision>12</cp:revision>
  <dc:subject>Slavic hymnal Гимны веры христиан, hymn 473</dc:subject>
  <dc:title>Мы воины рати Христовой</dc:title>
</cp:coreProperties>
</file>