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7BC9-7CC4-4662-A44E-0BD960D7A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A5B9-5F45-4DD0-844C-A2453282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B5A0-FAEB-4D96-AA86-DC771C7E6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E896-7719-4685-97A3-20D996888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723F-04F7-47B1-9A0C-D42032A6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CE23-8EBB-4183-8766-F54E60EA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BBDF-84FE-4DD8-B53B-537C7B63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E88A-9626-431F-BBF4-498DADDF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091A-9E32-4ED4-BA25-4C24B341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DC43-739F-4A54-A0C3-DF424BFE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5C29-9780-4D31-97DB-240C5915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5AA5-30CF-47B2-B0DC-E69725FD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C2C8CD-7F1C-4FB8-886D-E309282966D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within my heart a mel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hispers sweet and 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ear not, I am with thee; peace, be sti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ll of life’s ebb and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сердце песня нов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песня новая зв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не дал Спаситель м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с тобою всюду, Я — твой щ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угайся тьмы земн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ame I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lls my ev’ry lo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eeps me singing as I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мн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лняет ну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душа всегда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ame I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lls my ev’ry lo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eeps me singing as I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мн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лняет ну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душа всегда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my life was wrecked by sin and str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iscord filled my life with p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wept across the broken str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rred the slumb’ring chords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мою терзал грех и пор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разбитый я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Господь меня к Себе привлё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ю новую мне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ame I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lls my ev’ry lo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eeps me singing as I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мн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лняет ну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душа всегда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easting on the riches of His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ting ’neath His shelt’ring w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ways looking on His smiling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is why I shout and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итаюсь от Его сто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лю я под Его кры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 Его не закрывает мг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егда пою о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ame I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lls my ev’ry lo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eeps me singing as I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мн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лняет ну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душа всегда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’ sometimes He leads thr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ters dee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ials fall across my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’ sometimes the path se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ough and stee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 His footprints all th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порой чрез воды Он ве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рашат меня тру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встречаю длинный ряд невз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зде — Его сл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Jesus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est name I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lls my ev’ry lo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eeps me singing as I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мн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лняет ну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душа всегда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on He’s coming back to welcome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r beyond the starry sk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hall wing my flight to worlds unkn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hall reign with Him on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Он придёт опять с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ьмёт меня к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войду я в светлый мир чуд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вать на выс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44Z</dcterms:modified>
  <cp:revision>13</cp:revision>
  <dc:subject>Slavic hymnal Гимны веры христиан, hymn 574</dc:subject>
  <dc:title>He Keeps Me Singing / В сердце песня новая звучит</dc:title>
</cp:coreProperties>
</file>