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008-D7B0-4E09-AA16-D6E15B30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A23-C17B-465C-8109-946F1A35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8F2-CBC6-4BC4-876A-86BF98F7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1D5-5CE2-4DC2-B3B4-BF91871B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BD8-24DF-4F77-8DBF-0022A08D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D6D-78D1-4168-A49F-836C952C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57D-9238-4BE7-B622-3D0ABAAE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215-0145-4A25-A02F-E70645FE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1C1-8B49-4A2E-AF32-4864CEAF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358-90CD-414F-9DB4-AF041A5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98F-45E0-49E2-B2CF-F66B8371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A13-F566-4F1E-8301-CF72796E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8C8B5-BD92-4172-9521-C3EA64F911F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righteous, worthy is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 to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righteous, worthy is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 could not hold Him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e is ri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ated upon the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5   Blessing, Hon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4T06:02:48Z</dcterms:modified>
  <cp:revision>10</cp:revision>
  <dc:subject>The Source, song number 55</dc:subject>
  <dc:title>Blessing, Honour, Glory to the Lamb (Glory to the Lamb)</dc:title>
</cp:coreProperties>
</file>