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F63-D3FD-4865-A8F8-7C7911F1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294-81AE-4948-8BCC-E5CAE91E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76D-4099-4CEB-B255-6EAABC07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18A-EE82-4744-A310-1B97A6EC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54A-32DE-4DBD-A86A-D63CB7C2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9ED0-3147-4C8F-97A9-19EF3914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81F-007D-4711-8CC6-584C5642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830-E907-4D58-9315-0562B927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735-CC92-4779-883B-6B280750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F2B-1512-4947-A54F-899A5ED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C64-18D8-48A6-B9AC-E2AAFB28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70F-9A88-48CE-92CF-C33B071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D5715-F630-4AE7-A034-8B660DD736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аю радість, рад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і моїм завж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1   Я маю радість, рад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5:19Z</dcterms:modified>
  <cp:revision>13</cp:revision>
  <dc:subject>Slavic hymnal Гимны веры христиан, Ukrainian hymn 111</dc:subject>
  <dc:title>Я маю радість, радість</dc:title>
</cp:coreProperties>
</file>