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955-ED7F-450E-AD3A-5E1B5EA3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702-250E-4569-B76A-3AB3FCF0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AB92-2488-4A2A-9A49-C4729DFA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2BB2-0A3B-4654-A80C-7D679CB9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1A75-E39C-4F29-B6A8-353475BB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70C-754E-4DBD-9457-013C2951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712-320E-4F2B-8428-8C3E3D8E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799-BEE8-4F69-A28C-730B75B6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CB00-3452-42CB-AC6D-A7CC1839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B5E-6F25-432A-8F5F-E9320227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2CE-9350-474E-B410-7FCBE331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F13-FBDB-4E72-A8BA-042D7185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ABE32-3743-4FAC-B671-38A2011DFE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хочу сто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ерцат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 Голгофы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течёт ре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креста хочу сто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меня на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езда свят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мой озар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открылся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ий Агнец Б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лёк меня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 всего доро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я буду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и надеж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Бог велит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безмятеж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37Z</dcterms:modified>
  <cp:revision>12</cp:revision>
  <dc:subject>Slavic hymnal Гимны веры христиан, hymn 424</dc:subject>
  <dc:title>У креста хочу стоять</dc:title>
</cp:coreProperties>
</file>