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EEF-B279-4147-ABE6-F881C10E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CBB-D8AE-4BC5-8ACC-93D503F0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1CD-489D-4701-A89F-62A6CF6A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FB21-C318-420A-A315-E1DD925C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7B8-025E-4AB5-8B4B-C6A60736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C45-BCDB-40E7-A582-E79319CB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C8A-806F-4437-AC77-098DC2D6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E61-3943-4C4A-A216-4DACA443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444-EADE-45D4-B9B3-97B8AEA7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40A-A16F-45E3-B17A-0464DC48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BBC-3A31-4CC0-9A62-0A1F4456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59B-0F72-4379-9DB8-FBE7248C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9ACCF-3024-4050-B73D-3ACFA98C40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reached the land of joy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its beauty now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shines undimmed one blissful 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my night has pass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аны богатства я дост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ы богатства я дости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ёд, и хлеб в моих ру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той вечный ден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очи мрак навек заб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zephyrs seem to floa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sounds of heaven’s melo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ngels, with the white-robed th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sweet redemption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терок, лаская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с высот чудесный зв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— песня ангелов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щих счастье душ людс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aviour comes and walk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weet communion here have 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ently leads me with His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is is heaven’s border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ид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мне даёт с С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укой ведёт Он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край богатства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weet perfume upon the bree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borne from ever vernal tr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low’rs that never fading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streams of life forever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ья в той стране цве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ромат повсюду ль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журчит волной 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не вяну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Beulah Land, sweet Beulah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on thy highest mount I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ok away across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ansions are prepared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view the shining glory sh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v’n, my home forever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48Z</dcterms:modified>
  <cp:revision>13</cp:revision>
  <dc:subject>Slavic hymnal Гимны веры христиан, hymn 592</dc:subject>
  <dc:title>Beulah Land / Страны богатства я достиг</dc:title>
</cp:coreProperties>
</file>