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118-CA97-4CE6-87E2-B97C89F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08E-71A5-4016-BE8E-459BDB85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25D-A44F-47EE-AA00-552D9282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BF5-A568-4239-8B20-7EE0696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A40-0549-4DD2-988F-ACB517B5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F495-10E1-4332-9AEE-82A7EB5D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0DE-8EFA-4A19-9AB9-F0BF7614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4F4-F351-40C1-AA40-BADFB043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B71-8202-40BD-90AB-6F789DD7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E42-A6EF-43BF-AC5D-E1297C5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925-3509-46A3-9A2E-FB6A2EF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EC1-8F45-4987-8BB9-49B27E2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BBD99-66F0-4F75-BEA0-0BC9A6BCA3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37Z</dcterms:modified>
  <cp:revision>12</cp:revision>
  <dc:subject>Slavic hymnal Гимны веры христиан, hymn 830</dc:subject>
  <dc:title>Господь, дай сил идти с Тобою</dc:title>
</cp:coreProperties>
</file>