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37A4-342B-4F12-8192-D5AFABA9B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2520-120B-4024-BE7C-A9339F42F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A28E-3790-4AF3-BD96-82A01F25A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A865-1173-46E1-8F98-7DFF777B4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4227-79B4-4200-B35F-D78F2FDE4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E0CF-717C-41E9-A44C-9612890F3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B10A-8A6D-4E73-BDD0-AF99AD76A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6451-348A-44CB-A43C-46DD4E9D9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605D-7A31-420F-A5EC-08C11C61B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29C8-EA94-475C-B2E8-D8BE6E36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94A3-C6E1-4C56-BC97-B88551AE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4D19-1845-4652-918E-76DBEE8C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F04AE7-6ED7-42A5-9C9A-AA69D446349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волхвы с востока ид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яв дары, не глядя на тру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пустыню к Божью Сы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ий кончают п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удная волхвов звез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ветила им т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вещая, ободря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еди к ногам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3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т, волхвы с востока иду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ифлееме Царь нам рождё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лотом почту Его тр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ковечно, бесконеч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ствовать будет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удная волхвов звез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ветила им т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вещая, ободря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еди к ногам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адан в дар несу я Христ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 небес пришёл в нище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опенья и мо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и идут к Н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удная волхвов звез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ветила им т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вещая, ободря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еди к ногам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ирны горькой запах благ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хранит в юдоли 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иновных Умерщвлё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перт был в гроб чуж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удная волхвов звез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ветила им т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вещая, ободря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еди к ногам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ен Он, Воскресший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и Бог страдал за на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Ему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удная волхвов звез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ветила им т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вещая, ободря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еди к ногам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19:00Z</dcterms:modified>
  <cp:revision>13</cp:revision>
  <dc:subject>Slavic hymnal Гимны веры христиан, hymn 231</dc:subject>
  <dc:title>Вот, волхвы с востока идут</dc:title>
</cp:coreProperties>
</file>