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E03B-5DB6-4A9D-B28B-55C859CD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5C6-C22D-4F32-A6E2-F916264E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522-B354-40F1-BE3E-D7E15481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C1C-D12A-4E5D-A2F2-CBE59803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10C-EF22-4FEC-B899-85DFEA0C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D577-78DE-4073-B917-186AC15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D35-D525-4AFA-9D0C-CE1CFC39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9B1-A3F3-44D1-8430-BA71986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4DC-E04E-495C-91CC-2A0AE843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9A1-CC29-42A9-A1AC-2B34F22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6E0-AF74-4E79-BF1D-F7F4F94C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0AB-3940-4BD3-ADD7-22CE679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CCF0E-CA28-441A-B7B0-6F417F72343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терновый был на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за тебя страдал и ж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 Мне, преданный грех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лю тебя, откликнись М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корбь и муки испы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умер, чтоб ты не стра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мир с небес несу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, радость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, что ты впустить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и Я твоей с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грешное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жно так зову изв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ойти ли Мне? войти ли Мн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6:40Z</dcterms:modified>
  <cp:revision>12</cp:revision>
  <dc:subject>Slavic hymnal Гимны веры христиан, hymn 394</dc:subject>
  <dc:title>У двери Я твоей стою</dc:title>
</cp:coreProperties>
</file>