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8DD-4D49-4F72-9377-1FE2234D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D4C-24E9-4AC8-A6E5-E09D644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169-6C6E-4E09-A898-B88F4ABF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CAE-F820-4EA8-B849-8CBF8E3E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A15-32D4-47EF-8A0D-C508F1D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38D-8BDC-474E-BA20-00106C47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71A-78BE-4D3D-B094-D1A6D31A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EBA-1303-4FAC-9478-85F20A7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5E5-A5C1-42BE-B753-F779D56A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979-3D9B-45C5-8068-28774418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C2A-D04F-417D-9C29-B5087A41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367-E3E5-43E7-8BBD-299D08E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4A817-BAC8-4608-8955-AC71038DDE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tedious and tasteless th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no longer I se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prospects, sweet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, have all lost, have all lo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all lost their sweetness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учно на сердце п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скучно на сердце по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не вижу Хрис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а пустеет пред 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, и меркнет, и мерк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еркнет её крас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mid-summer sun shines so d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elds strive in vain to look br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hen I am happy with Hi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, December, Dece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cember is as pleasant as M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це неясно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поле всё мёртво круг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раем пустыня гляд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, когда я, когда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я в союзе с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name yields the richest perfu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weeter than music His vo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resence disperses my g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, and makes all, and makes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all within me rej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исусе — сокровище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ть с Ним — дороже вс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бы со мною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, мне было б, мне было 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было б на сердце лег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ould, were He always thus n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nothing to wish or to f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tal so happy as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, my summer, my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ummer would last all the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л бы Он близок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 с Ним ничего не жел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частливый любовью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, я всё бы, я всё 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ё бы за сор почи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0Z</dcterms:modified>
  <cp:revision>13</cp:revision>
  <dc:subject>Slavic hymnal Гимны веры христиан, hymn 504</dc:subject>
  <dc:title>How Tedious and Tasteless the Hours / Как скучно на сердце порой</dc:title>
</cp:coreProperties>
</file>