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A07-5E03-47A2-A6D6-FB7BAA57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D8A-6D22-409D-862A-09CECD13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38C-AF08-458A-B98C-6C56B043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536-3950-48CB-8F15-6660B337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DE7-7A79-4AF4-A564-E7BCAA86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843-4233-4EFA-BEFE-6C076DDE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E94-C385-4540-BCBD-B92EF66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ACC-8D83-463A-83A3-9AB4416B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983-7DB6-4E2D-9A81-A6BEDD2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88D-5B02-4093-86B1-BFD81BB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13F-FCF3-4211-8FAD-E9F73323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DD29-784C-4C56-ACF2-EE21F98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17DDE-9312-422A-ABC7-5D19D401C99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41   My Saviour,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aviour, Redeem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fted me from the miry c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mighty, for 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never be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You came n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the ever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world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only 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lived, and You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rose again on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opened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the world to liv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for all You’ve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9:42Z</dcterms:modified>
  <cp:revision>12</cp:revision>
  <dc:subject>The Source 3, song number 1441</dc:subject>
  <dc:title>My Saviour, Redeemer (For All You’ve Done)</dc:title>
</cp:coreProperties>
</file>