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506-FEAD-45D2-8728-5FE7EAFD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288A-A8C6-4AD4-94D6-62BA320B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D02-5AC5-4DB1-9899-3E1A8DCF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0A5-56EB-425A-8B66-032629D7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6EC-5C2E-4071-A2CD-F461FBFB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0E4-C1BE-415D-943E-53C99706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3DD-0127-4173-A8F7-0E87AE51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E08-E473-4A9D-A7B9-75E3A69F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C23-39C8-4AFB-97BE-56353172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F2C-247C-48F1-A854-98DE8EDA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F33-DC45-4422-ACC5-E0D78A7F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3EF-8C05-45C1-AD73-4D2DD898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ED8D7-0C13-4BFE-96D3-3DB74580E1A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год пришёл к конч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аш Господь жи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радует нас 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м Свой мир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на земле мину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сть, слава, крас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чность нам да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любовь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т год пришёл к конч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ж, Господь, всёц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сех и навсе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наш дух и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ого вре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й, чтоб год гряд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был Твоим, наш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як, в Тебе жив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прославить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в жизни быстрот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е нашей пл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ь ко славе ве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й жизни нашей х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вечный мир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и во всех сердц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мир познает сл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 в Твоих путя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2:20:53Z</dcterms:modified>
  <cp:revision>12</cp:revision>
  <dc:subject>Slavic hymnal Гимны веры христиан, hymn 732</dc:subject>
  <dc:title>Вот год пришёл к кончине</dc:title>
</cp:coreProperties>
</file>