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7E79-CED3-4377-A409-970941F3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717F-DE2B-4395-BA56-7D183063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6264-64ED-4DD2-A788-6D38CD21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09F0-D917-46D4-B43D-AD9781FD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F8AB-9B5E-44C0-B5F8-46A71BA8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EF57-0144-42A3-AC91-6DB4D9E1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692B-5EF7-4B57-B12A-D4533959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FB09-353B-4C2D-A6F9-461B8D41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9DF3-36F5-4724-A06C-B032BF01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9C94-AFF2-4BB7-9875-120442CC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638F-2BDD-4D14-8755-7CC8F2E6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E794-D7B4-4D49-808E-5032ED2E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6B967-6A5F-49AF-9491-27E0C000C6A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 mountains and the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river runs with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will open up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t the Healer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2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ерез вершины и мор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вершины и 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течёт любовь Тв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я руки протя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шире распах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appy to be in the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will daily lift my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will always sing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Your love came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в истине хо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ый день Тебя хв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вечно пет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излил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всё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всё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the mountains and the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river runs with lo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will open up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let the Healer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вершины и 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 течёт любовь Тв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я руки протя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шире распах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appy to be in the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will daily lift my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I will always sing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Your love came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 в истине хо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ждый день Тебя хва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вечно пет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излил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всё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всё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I feel like dan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’s foolishness, I kn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when the world has seen the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y will dance with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we’re dancing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это глуп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не хочется пляс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к же, как и мы, вес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увидев свет, будет танце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ould sing of Your love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всё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Госпо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о любви всё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9:09Z</dcterms:modified>
  <cp:revision>11</cp:revision>
  <dc:subject>The Source, song number 421 in Russian</dc:subject>
  <dc:title>Через вершины и моря / Over the Mountains and the Sea (I Could Sing of Your Love For Ever)</dc:title>
</cp:coreProperties>
</file>