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030-0F69-4D4F-B5E1-68A9F022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00B-31BF-4DD9-9201-D1D5F84D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73A-40D5-4B64-A943-CD35771E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5BB-F12A-402A-A8B5-86DA9976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659-6A51-4949-A7A1-05318E5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E31-38F6-4810-B19B-BCC0B09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B6B-C119-4509-9294-07859273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00A-76FB-470C-879E-4CBA9AD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8A9-F39C-4FCF-B5A0-DEDEE5ED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992-659F-4AC0-902D-E0C0E58B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07C-7B34-45B6-B6C3-190E2BE3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4D8-601D-459D-AC0F-DDDEBBE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4562F-F33D-4175-995E-FD5EC98B21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14400"/>
            <a:ext cx="99950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crucified my L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nailed Him to the tr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2   Were You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914400"/>
            <a:ext cx="9848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they laid Him in the tom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Oh, sometimes it causes me to tremb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tremble, trem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Verdana"/>
              </a:rPr>
              <a:t>Were you there when He rose up from the gr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20Z</dcterms:modified>
  <cp:revision>12</cp:revision>
  <dc:subject>The Source 3, song number 1592</dc:subject>
  <dc:title>Were You There When They Crucified My Lord?</dc:title>
</cp:coreProperties>
</file>