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A61-C0A6-4D90-88C3-CFD2A1DE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9CE-CB2A-4793-AEDC-54433624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206-5A2E-46BB-A515-E87FE00E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B85-4F63-43A7-A606-192F19EC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FBD-3896-4D23-AAB1-A0FADF2B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458-0BAF-4876-BCB2-C1B62E54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159-E84A-4E41-A886-C3B0910A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368-9A9F-4A64-9BC9-1026E7A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047-FAE3-4DBC-A5A4-355E5E6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840D-BF8E-4B9F-B3DA-56C57C4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FAC-6E8B-45D6-AD7F-8FEBB027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513-C7E6-44CF-8E10-3C9EE9D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463D4-E3C5-4926-A959-7484C16323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Great and marvellous are Your work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rd God Almigh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ust and true are all Your w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King of the saint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9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лики и чудны дела Тво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 и чудны дела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и Боже Вседержител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едны и истинны пути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свят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o shall not fea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glorify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ll the nations shall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убоится, не прослав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народы покло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Тобой, ибо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for You alone are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oly, holy, for You alone are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, свят, Ты един св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1:01:52Z</dcterms:modified>
  <cp:revision>13</cp:revision>
  <dc:subject>Slavic hymnal Гимны веры христиан, hymn 902</dc:subject>
  <dc:title>Great and Marvellous Are Your Works / Велики и чудны дела Твои</dc:title>
</cp:coreProperties>
</file>