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D09-2264-4193-A1C9-7DD56047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B68-B3CB-4A94-A3E0-A4A2DF4E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1A3-B213-499B-BE94-F2EE015B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447-CD1A-49A5-BF67-D6BA6F9D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41A-55E5-4677-9915-F27D8F5A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830-68F4-4024-8B51-6F800ACE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D6B-C50F-4656-B0F4-9DE354A4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5F5-B2A5-440A-86BC-842984E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FAB-A24D-4705-BDC6-97D4CDF9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9B3-D324-45A1-906E-AF8BA025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597-EEA3-4E7F-8E06-B438394B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CBD-771F-48EE-AFBA-C672A50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A4347-1AD2-4FD7-9E97-F9A0443005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Твои, Иисус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же нам плодов Тв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дар прославить Т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тви малые Л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,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Лозе предвечной ль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хотим на ней пре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че, крепче с каждым д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рас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осят плод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м, Боже, 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асти пе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ви малые Лоз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ь, мы — Тво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34Z</dcterms:modified>
  <cp:revision>12</cp:revision>
  <dc:subject>Slavic hymnal Гимны веры христиан, hymn 761</dc:subject>
  <dc:title>Ветви малые Лозы</dc:title>
</cp:coreProperties>
</file>