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728B-22DA-4939-A3BC-83F571D91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0347-5663-49EC-BD53-9BE79F748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3144-6762-4F9A-BC1E-A9A4F835B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9578-9A1E-4135-9F0D-45CAEA396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13E9-DF9C-4CBB-9EC9-9D3D9779E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29A5-1437-474C-891C-89DCEDC95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DC84-8524-4219-914D-E2C4DC1BD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DB37-88C3-4F25-8F68-3AE8FBDBC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02FC-55F3-4919-A033-3DA004FC8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D1E4-8D3A-4AF3-B623-143C7E4C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A203-3676-497E-B6DE-2925B6E0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86E9-B637-4B3F-9208-23078899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382024-C966-453D-A071-666F9AD71EF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did not wait for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draw near 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You clothed Your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frail human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did not wait for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cry out 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You let me hear Your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lling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169   You Did Not Wait For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’m forever grateful 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forever grateful for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forever grateful to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You c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eek and save the l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16T01:05:19Z</dcterms:modified>
  <cp:revision>12</cp:revision>
  <dc:subject>The Source 4, song number 2169</dc:subject>
  <dc:title>You Did Not Wait For Me (I’m Forever Grateful)</dc:title>
</cp:coreProperties>
</file>