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445D-D486-488C-807C-60332C2B4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C540-9E1F-4185-BC3E-5841552BD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26D2-1E92-4074-ADE9-63AC045CB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2EC2-59EF-46DF-B4D0-1DD52A136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993F-CC02-4F57-96BB-949D72E3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1119-4A96-43C3-A721-1DC200EC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EFED-2960-475F-BB14-FBC725489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EF2C-65EB-4A98-8B6F-FEF4FE181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40CA-4771-4C3A-9AB9-22E84DBBA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132F-AFD7-439B-8F6E-0C743096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F53F-8523-4949-AC74-6F8CB9F0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8B44-B7FA-489E-B035-89097BC8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ABF458-4693-4EF2-87D3-84DCBD8316B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creatures of our God and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t up your voice and with us 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eluia! 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7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воренья Божьи на зем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ренья Божьи на зем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ысоте и в глубине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 Бог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, praise the Father, praise the S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praise the Spirit, Three in 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praise Him! O praise Hi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eluia! Alleluia! 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ец и Сын и Дух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Триединый, Бог живой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прославлен! Будь прославле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burning sun with golden be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silver moon with softer glea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praise Him! O praise Hi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eluia! Alleluia! 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ые солнышка лу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на светящая в ночи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 Бога! Славьте Бог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rushing wind that art so str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 clouds that sail in Heaven al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praise Him! 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учий ветер, дух з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блака вблизи, вдали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 Бог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rising moon, in praise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 lights of evening, find a v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praise Him! O praise Hi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eluia! Alleluia! 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ря утра, вершины го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окойный вечер, звёздный хор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 Бога! Славьте Бог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ar mother earth, who day by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foldest blessings on our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praise Him! 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друг, кормилица земл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еса, луга, сады, поля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 Бог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flowers and fruits that in thee g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m His glory also sh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praise Him! O praise Hi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eluia! Alleluia! 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ной прекрасные цв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щедрой осенью плоды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 Бога! Славьте Бог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ll ye men of tender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giving others, take your p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ing ye! 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люди с чуткою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щая всем, одной семьёй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 Бог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 who long pain and sorrow b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 God and on Him cast your ca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praise Him! O praise Hi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eluia! Alleluia! 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ящий, страждущий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ай Христу ярмо забот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 Бога! Славьте Бог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ll things their Creator bl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orship Him in humble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praise Him! Allelui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ренья, пред своим Творц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ите ниц и с торж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 Бога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23:02Z</dcterms:modified>
  <cp:revision>12</cp:revision>
  <dc:subject>Slavic hymnal Гимны веры христиан, hymn 871</dc:subject>
  <dc:title>All Creatures of Our God and King / Творенья Божьи на земле</dc:title>
</cp:coreProperties>
</file>