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FB0-D405-4E45-91F9-C932A5B9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736-0649-4CA5-AAD9-E37E8EA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4C5-5F61-47F7-AFFF-CE9BEBF5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DAC-D7F5-4C72-A6C1-89400650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64E-4484-437A-A404-E17FF545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1EC-8246-4A45-958A-4155FEA1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385-551F-4F35-AC87-8CFB9151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A2E-85E6-4507-96A1-18F82544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6C7-4561-4AA8-B65C-A1E0D8CF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7D2-4C26-4030-8165-F212156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E9E-8DA0-4640-A429-E3F85D34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2DB-77C1-4767-87E8-F18D7CAE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56BBF-4A11-4CC7-8BF0-532624C8D2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в небе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ой Отец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анник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лежит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лиш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в небе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ек жизни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йдёт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путь сверш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 От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Христа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туда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лик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Его ли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ль я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не могу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ам Христос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ить Он вен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27Z</dcterms:modified>
  <cp:revision>13</cp:revision>
  <dc:subject>Slavic hymnal Гимны веры христиан, hymn 813</dc:subject>
  <dc:title>Мой в небе край родной</dc:title>
</cp:coreProperties>
</file>