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CF35-2A91-4CCA-9BEA-21AD678B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EA71-8019-435D-860E-2D1BF50F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9D0A-FDC9-4825-9DFE-31EB3B87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CDF0-5F9F-4D35-B2F5-CB2F36F9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AE67-E662-4EE7-A74A-7A9447D7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E151-DA73-4A8E-98D4-4174ABFB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C89C-C2DF-48FC-A976-66FDB928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5C33-EBB7-44FE-B6C0-3B753325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06AF-2529-4A41-94F1-411EAE0C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2049-17FB-4F4B-9E9C-DDA50E7E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A2B6-34D5-4E9D-88D6-F0117D35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A3B6-DAA8-44A7-AC16-4C0F3A79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AE5D0-7FE6-4DD0-8DA5-68EE836989A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for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You were fors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accep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ere condem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722   Вот, я искупл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я искупл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еми был оставл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ыновлён 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сужд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alive and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Spirit is with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You died and ros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мне бьёт жизнь ключ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Твой обит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ею кровью я спас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azing love, how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You, my King, would di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любовь мне не по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ог Ты за меня стра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azing love, I know it’s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t’s my joy to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ll I do, I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жизнь хочу Тебе от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Господь, чудесны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Господь, чудесн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You are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my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мой Ц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Ты — мой Ц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azing love, how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You, my King, would di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любовь мне не по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ог Ты за меня стра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azing love, I know it’s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t’s my joy to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all I do, I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жизнь хочу Тебе от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Господь, чудесны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Господь, чудесн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5-06-01T11:28:52Z</dcterms:modified>
  <cp:revision>13</cp:revision>
  <dc:subject>The Source 4, song number 1722 in Russian</dc:subject>
  <dc:title>Вот, я искуплен / And I’m Forgiven (You Are My King)</dc:title>
</cp:coreProperties>
</file>