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200</a:t>
            </a:r>
            <a:r>
              <a:rPr b="1" lang="ru-RU" sz="3600" spc="-1" strike="noStrike">
                <a:solidFill>
                  <a:srgbClr val="ffffff"/>
                </a:solidFill>
                <a:latin typeface="Verdana"/>
              </a:rPr>
              <a:t>	</a:t>
            </a:r>
            <a:r>
              <a:rPr b="1" lang="ru-RU" sz="3600" spc="-1" strike="noStrike">
                <a:solidFill>
                  <a:srgbClr val="ffffff"/>
                </a:solidFill>
                <a:latin typeface="Verdana"/>
              </a:rPr>
              <a:t>Сам Твоё дитя веди</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Сам Твоё дитя в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ь мне светом на пу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Спаситель и мо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ышишь каждый Ты мой вздо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Бо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меня всегда в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когда не дай сой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воего, Господь, пут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Грех ли хочет соблазн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Спаситель защити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боюсь я нич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поваю на Него.</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Бо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меня всегда в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когда не дай сой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воего, Господь, пути.</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ерю, Ты хранишь 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оставишь ник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град Небесный приведё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ам все слёзы Сам отрё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Бож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меня всегда в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когда не дай сой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Твоего, Господь, пути.</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20:51:44Z</dcterms:modified>
  <cp:revision>3</cp:revision>
  <dc:subject>Slavic hymnal Гимны веры христиан, hymn 200</dc:subject>
  <dc:title>Сам Твоё дитя веди</dc:title>
</cp:coreProperties>
</file>