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49EB-E0AF-4FDC-BBE6-1CE5C18C5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7DEA-7E34-4595-9051-D31CBFC0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C52A-7D2E-4A52-8E63-5A74C0A00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7441-82EA-4DB2-8FDD-12695453C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686B-122C-4156-800B-5A4192D7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A1D5-73F3-4DF8-AD1B-C59A0DDB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1A0E-E9B7-41FC-BD6A-089CFCFD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0787-5070-4559-A855-2B697BFD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9EDE-C61C-4DA7-B811-E60F3B28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15C6-D7CA-45C9-B8BF-40C8854E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DADF-5396-4E46-B73E-CAAA5DB9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3ABB-3304-4E49-970E-7E94DF22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06941-AC56-4FE8-B0DD-8B71931EF1C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rship You, Almight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ne lik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rship You, O Prince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is what I love to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give You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 are my righteous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rship You, Almight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ne lik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7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Worship You, Almighty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11-23T10:08:38Z</dcterms:modified>
  <cp:revision>11</cp:revision>
  <dc:subject>The Source, song number 271</dc:subject>
  <dc:title>I Worship You, Almighty God</dc:title>
</cp:coreProperties>
</file>