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6F5-25C4-48B6-9CAF-8F92FEEF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499F-A9DD-46CF-B596-9EF76DFE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5F88-FA7D-4EB5-8B9D-FD751A1C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7707-80AA-4B71-B915-E323B4D5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C04D-C77F-4217-8353-A85EEBC2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AE46-164D-42FD-AE2B-16D404C2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A51-6FA6-4931-AD94-5110E053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9114-F527-4E93-B81A-F3DF737C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5806-E04F-4D4E-ADED-862DE322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9248-7BEC-47DA-ADE3-11A3125F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6E38-0868-492C-9032-5548332F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525-A442-4EAA-B3E2-115633C5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C3950-BB52-4497-BAFE-59E86EB08FF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mazing grace! how sweet the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saved a wretch like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once was lost, but now am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 blind, but now I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Twas grace that taught my heart to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race my fears reliev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precious did that grace app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ur I first belie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18   Amazing Grac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chains are gone, I’ve been set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, my Saviour has ransom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ke a flood His mercy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ending love, amazing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Lord has promised good to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word my hope sec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will my shield and portio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long as life end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chains are gone, I’ve been set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, my Saviour has ransom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ike a flood His mercy reig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ending love, amazing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earth shall soon dissolve like s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un forbear to s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God who called me he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be forever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0-12-18T08:49:35Z</dcterms:modified>
  <cp:revision>13</cp:revision>
  <dc:subject>The Source 4, song number 1718</dc:subject>
  <dc:title>Amazing Grace! (My Chains Are Gone)</dc:title>
</cp:coreProperties>
</file>