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D7F-5577-4AFE-8C63-F9D0B1C3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053-CC48-4EF0-B95F-D5FF0135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223-2F60-4391-A7F6-7A6B7078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B5D-E3CA-49D6-A230-E8CA7923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D55-7AF6-4376-BD71-831CB886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70D-1872-47AE-959C-16679F03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07D-40F5-4926-877E-FF0395BD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EAD-49F1-4BC5-87F9-563DC1BF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63D-F97F-4490-8311-B9D181C3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7FB-260F-4528-AA08-877B5F77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5F6-C038-4832-84D3-F6F53EC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779-8FC0-4ED0-B38B-870E57C1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60998-5F39-4BA4-B6CD-446086A108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Гефсимании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чашу 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меня Сам Божи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тяжко мучим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м в Гефсимании Од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герой Один сто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трость воин в руку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уничиж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 на крест повеш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 какой зло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, кто всем добро 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зрён был о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ы медлишь, о мой дру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вдали сто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 молитвой и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обрат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, Один страдал Он з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меня от мук сп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Он умирал Оди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27Z</dcterms:modified>
  <cp:revision>12</cp:revision>
  <dc:subject>Slavic hymnal Гимны веры христиан, hymn 284</dc:subject>
  <dc:title>Там в Гефсимании Один</dc:title>
</cp:coreProperties>
</file>