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0</a:t>
            </a:r>
            <a:r>
              <a:rPr b="1" lang="ru-RU" sz="3600" spc="-1" strike="noStrike">
                <a:solidFill>
                  <a:srgbClr val="ffffff"/>
                </a:solidFill>
                <a:latin typeface="Verdana"/>
              </a:rPr>
              <a:t>	</a:t>
            </a:r>
            <a:r>
              <a:rPr b="1" lang="ru-RU" sz="3600" spc="-1" strike="noStrike">
                <a:solidFill>
                  <a:srgbClr val="ffffff"/>
                </a:solidFill>
                <a:latin typeface="Verdana"/>
              </a:rPr>
              <a:t>Брат! напомни мне опят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ing them over again to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more of their beauty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рат! напомни мне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сердцем мог по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йну слов любв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rds of life and beau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ach me faith and du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autiful words, wonderful word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пол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дух взнес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Christ, the blessed One, gives to 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ner, list to the loving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ам Спаситель в мир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ласят в утеху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so freely 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oing us to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autiful words, wonderful word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ве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ых Бог про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weetly echo the Gospel c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fer pardon and peace to a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ышат радость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 дивной крас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onl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nctify us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autiful words, wonderful word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words of life.</a:t>
            </a:r>
            <a:r>
              <a:rPr b="0" lang="en-AU" sz="3200" spc="-1" strike="noStrike">
                <a:solidFill>
                  <a:srgbClr val="ffff00"/>
                </a:solidFill>
                <a:latin typeface="Verdana"/>
              </a:rPr>
              <a:t>	</a:t>
            </a:r>
            <a:r>
              <a:rPr b="0" lang="en-AU" sz="3200" spc="-1" strike="noStrike">
                <a:solidFill>
                  <a:srgbClr val="ffff00"/>
                </a:solidFill>
                <a:latin typeface="Verdana"/>
              </a:rPr>
              <a:t>(×2)   </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Христ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ит к жизни н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   </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12:11Z</dcterms:modified>
  <cp:revision>3</cp:revision>
  <dc:subject>Slavic hymnal Гимны веры христиан, hymn 30</dc:subject>
  <dc:title>Wonderful Words of Life / Брат! напомни мне опять</dc:title>
</cp:coreProperties>
</file>