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44DA-6AE1-49E7-9CB3-78BDADF69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BF66-491E-42E4-82BA-5B36B606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6B68-6A6B-47D4-89BF-06604B23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1AC1-0E0C-402F-8617-66FB52A4F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0848-816D-405E-A8F2-5E0733A3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AED0-B6EE-4735-8D26-67B47651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4E61-46BF-4141-AD80-9C1AE31F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F7CB-D400-41C5-A38C-33B157A4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4D74-2DB4-4F34-8753-6A7719B0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43A7-B4D4-41BA-8836-310E32BC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5429-CEB6-4499-AB76-553ADFC0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0E5D-577E-4083-B2AD-09FB1FB7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47E72-A727-4CCC-83A3-48784FA44FA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наю поток: он могуч и глуб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чёт по равнине людс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лещет, сияет, как ключ огнев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знает тот чудный пот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(о душа, Бог зовёт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и! (этот чудный поток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илостью Божией глуб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ерь, для тебя он т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Я знаю по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ьё сердце проникнет тот чуд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радость струёю забь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чезнет забота и тайный пор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благодати с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(о душа, Бог зовёт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и! (этот чудный поток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илостью Божией глуб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ерь, для тебя он т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токе том слова Господня 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чёт от Иисуса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ровь драгоценную пролил с кр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дать тебе жизнь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(о душа, Бог зовёт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и! (этот чудный поток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илостью Божией глуб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ерь, для тебя он т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то жаждет, придёт пусть и радо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ьёт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Дух и Невеста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удет в потоке том сердцем омы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Бога во славе уз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(о душа, Бог зовёт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и! (этот чудный поток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илостью Божией глуб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ерь, для тебя он т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ветел источник живительных в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кус его сердце жив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льных исцеляет и силу д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чистое чистым тво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(о душа, Бог зовёт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и! (этот чудный поток,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илостью Божией глуб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ерь, для тебя он те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57:37Z</dcterms:modified>
  <cp:revision>13</cp:revision>
  <dc:subject>Slavic hymnal Гимны веры христиан, hymn 402</dc:subject>
  <dc:title>Я знаю поток</dc:title>
</cp:coreProperties>
</file>