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605-E098-457E-8E69-6B1465B3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244-B6CA-483C-AD07-FAF6CDB1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8E78-E4C4-43E9-B9AD-9E57EE83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4B9-CB76-439D-A29A-5339DA0F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489-5238-404E-8989-D280ADF6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EEA-4BB0-40AB-A9AB-ADE729A8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6DF-3A2F-4D14-B44E-D6713208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E227-351D-481F-9441-075AC059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91D-4774-4793-8018-60C0BBC6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C50-538C-4BA8-ABA9-8A507945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BF6-3072-47A2-83BB-951161BB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232-6880-4AF3-BB46-36022D70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E5DA1-67F1-4BCF-AE71-E130938B34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овцями людей, ловцям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 слі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и все Моїм слі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, аліл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роблю вас ловцям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дете в слі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7   Я зроблю вас ловц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9:10Z</dcterms:modified>
  <cp:revision>12</cp:revision>
  <dc:subject>Slavic hymnal Гимны веры христиан, Ukrainian hymn 47</dc:subject>
  <dc:title>Я зроблю вас ловцями людей</dc:title>
</cp:coreProperties>
</file>