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2EB-AF35-4666-835E-34EC2C84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165-47B4-4052-9D5F-397A5E5F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9A1-44CA-4A22-8A59-1B0627C5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E99-02C5-497A-8064-539BDCF0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BD1-80D1-48E7-A12C-335ED074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553-F5C8-4670-9FE6-1DD414D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BB4-DCBF-42D2-8C9A-27A8F662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74B-53E4-4FBC-816C-F321F897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662-CB4B-4937-A678-67A77AC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373-80B1-4C64-813F-C335A6FD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AA9-4845-4303-B2A0-C2CAF362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A60C-36C6-4869-B1A9-810AD2C0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6BFF1-3DC8-4BBA-96B5-C950B85B28D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living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te of dungeon, fire and s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our hearts beat high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e’er we hear that glorious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 не ум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на костре, не от ме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дце радостн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ас вера горяч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fathers, chained in prisons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re still in heart and conscienc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would be their children’s 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y, like them could die for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ы за веру шли в остр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долеть их мир не м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внукам их в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ую верность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, we will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th friend and foe in all our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ach thee, too, as love knows h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kindly words and virtuo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уч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рузей, любить вра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вещать Христа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рочном царстве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of our fathers! Holy fa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will be true to thee till de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ая вера, ты для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на теперь и в смерт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4Z</dcterms:modified>
  <cp:revision>13</cp:revision>
  <dc:subject>Slavic hymnal Гимны веры христиан, hymn 616</dc:subject>
  <dc:title>Faith of Our Fathers / Живая вера не умрёт</dc:title>
</cp:coreProperties>
</file>