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D8E2-C26F-47E2-956F-D96A365CE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3202-4B3A-4029-A46D-CE13D141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5991-C243-4616-ACC6-6672B2D4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21D8-BE92-45F0-B2A5-4DB3EB947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60D7-8189-4A40-BE39-449C8FAE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19B0-08CE-4EA4-9667-06CA7974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412C-46CC-4EC4-AAAB-E587FFE1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F905-5BEE-4AF8-B8FE-F87B4C1A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CB12-65E9-42C8-9993-FA66D819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507A-0D04-4C7D-81FF-969B9F35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5FF8-98B8-4053-9D23-4ADCD457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28D4-A5B5-44B0-87CB-28295166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C0691-2B00-453A-A953-72F66E9E404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it true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when people p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loudless skies will br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s and queens will sha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t’s true and I believe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livi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4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s It True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ll, it’s true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when people p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ll see dead men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blind se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t’s true and I believe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livi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going to be a history 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going to be a speaker of tr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all man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going to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going to run into Your arm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Your arms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Your arms, into Your arms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ll, it’s true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when people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the fire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truth in h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ll see mirac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ll see angels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ll see broken he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king hi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 it’s true and I believe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living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going to be a history 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going to be a speaker of tr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all man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going to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going to run into Your arm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Your arms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Your arms, into Your arms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1:59Z</dcterms:modified>
  <cp:revision>10</cp:revision>
  <dc:subject>The Source, song number 241</dc:subject>
  <dc:title>Is It True Today (History Maker)</dc:title>
</cp:coreProperties>
</file>