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16F3-1794-4FA7-AA9C-5DC404CD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0494-1476-441C-BE65-3BCC1D6D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D88C-205D-4A7D-BFE7-CDF5A1AF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8B12-F4BD-4FE7-ADBD-9CBB2656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EB8-7633-427E-9527-447BD31B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7E6-04BC-4FCB-AEAF-58746E31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BCD-290F-479B-82FF-92EEC656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781-A587-4D1D-9720-34AA8F65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62B2-276D-422A-8DDF-E486C3FF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4FEF-D75F-4661-87CB-65CD54A3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C03-9AA3-4329-9CC2-AB9D9571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4E1A-7BC9-4DE6-8CCE-F583908D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9A216-B067-4359-9DE3-00900572720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е дни наше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жие силы весны млад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святим Ии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ар для Него дорогой (навсег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может быть нам прият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исусу сл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изни земной, необъят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Христу посвятить (навсегд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учшие дни нашей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шь, как Он призыв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посвященья для нас наст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длить мы больше не мож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едь нам жизнь даровал (дарова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поднимем же зна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именем чудны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загорается пл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енной крови Христа (Христ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ло во им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, пойдём на борьбу с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сячи гибнут в порок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стью благой мы пой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 ним пойдё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с постигнут гон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за Христа не страш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ной песней хва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одолеем врага (победи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2:19Z</dcterms:modified>
  <cp:revision>12</cp:revision>
  <dc:subject>Slavic hymnal Гимны веры христиан, hymn 554</dc:subject>
  <dc:title>Лучшие дни нашей жизни</dc:title>
</cp:coreProperties>
</file>