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28D-7785-4921-95E4-3E11BE41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3C3-96B9-4DFB-8D8E-5C59130F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139-D558-4D56-BE22-1FFC03A3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D45-F335-413C-BFD8-AD572529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F50-D638-43A7-89F4-80C96103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E61-974C-4E49-B139-8905514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97A-D61E-4AFB-8811-CCDF1C57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DEE-D4D5-49BA-A86C-32D11A10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022-5DC1-488F-B21E-EC78776F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4F3-535A-44BF-942F-92E3C44A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426-C9C4-44BB-8FDA-0E129A4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723-B177-4722-8E65-037F6D17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6D9E6-A599-4386-9FAC-7E68E2178F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о велике щас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любить Він і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; ми Його не зн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Він нам світло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8   Бог є люб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. Ми гріху служи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є любов, ― нам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кожний радісно співає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хай славить: Бог є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паситель вмирав за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Відкупитель спасіння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буду величати,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славить Твою люб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03Z</dcterms:modified>
  <cp:revision>12</cp:revision>
  <dc:subject>Slavic hymnal Гимны веры христиан, Ukrainian hymn 78</dc:subject>
  <dc:title>Бог є любов, о велике щастя!</dc:title>
</cp:coreProperties>
</file>