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8FD6-70E6-48C7-B946-B80318BCB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7CAA-939A-4B05-8413-B4CD02E3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2F7E-A25C-4C2E-AFCC-94ECB133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8FCD-3C1A-49D4-A5B2-DA4A2CE0B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BB22-BAAB-48B5-BAC5-1127B56E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25BA-E020-47EF-A1AC-ACF6EEBB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E9F3-2EFF-4598-91CD-EE001199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1C61-A496-422B-A5C4-EF363970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05B9-5B43-47CB-83C7-02265182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339D-62BE-4B3E-9ECB-CF56748E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CBF3-4B0A-4C84-BBBB-AEBA2145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800A-3ADE-4668-BA46-6FC841A3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FD947-4A11-40D2-BE6C-5340B6DF9DF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Name of Jesus is so sw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its music to repea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makes my joys full and complet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precious Name of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исуса имя сладко м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имя сладко мн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й и радость в Нём ду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твердить Его вез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” O how sweet the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” every day the s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” let all saints procla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s worthy praise for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Тебе хв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, навсег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, все у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he Name of Him Whos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nows all my griefs and bears a p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bids all anxious fears de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he Name of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льцам сладко имя т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у, мир даёт о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Божией пол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” O how sweet the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” every day the s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” let all saints procla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s worthy praise for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Тебе хв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, навсег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, все у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word of man can ever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weet the Name I love so we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et its praises ever s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praise the Name of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слов, чтоб выразить впол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рого то имя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ю в пламенной хва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” O how sweet the Na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” every day the s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” let all saints procla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s worthy praise fore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Тебе хв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изменный, навсег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, славьте, все у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Ии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47Z</dcterms:modified>
  <cp:revision>13</cp:revision>
  <dc:subject>Slavic hymnal Гимны веры христиан, hymn 607</dc:subject>
  <dc:title>The Name of Jesus / Иисуса имя сладко мне</dc:title>
</cp:coreProperties>
</file>