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C80-F092-4E75-8D18-74B4539A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917-CAE9-495C-BCB1-A6F53FF5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F9F-D304-4BF2-91C5-A584B5270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27A-5858-415E-8C58-76DB6DA7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98C-380A-46CA-85C1-C252F345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C97-9068-49AD-BE44-8866157B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0AF-7326-4EEE-800B-5CAA67E0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71D7-E47D-404B-888E-362C161C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28B-7E39-4885-8DA4-073B423C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B38-2DCE-4781-B5BF-CF20051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4E7-2480-49CC-A6EE-1A3E57C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CEA-7AAA-4124-86DF-9A83C088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32A4B-4C50-41DB-96AD-EC77841CCA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тесь дружными ряд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рните ряд знам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огом данными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в Божий лег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ойтесь дружными ря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, лик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евая о Хри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 том, как Он, врач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спасает на кр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брань и крик враждеб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награду приним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снью радостной, хвалеб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злобу заглуш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шествуя, мол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раждебную толп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она могла смир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ть на Божию троп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очувственных душ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собранье призов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Евангельем, моль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привлеч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, шествуя, усер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брошюры разда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любовью милосер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к жизни пробу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жно, стройными ря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шествовать впер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, видя нас оч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мог познать нар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4:17Z</dcterms:modified>
  <cp:revision>12</cp:revision>
  <dc:subject>Slavic hymnal Гимны веры христиан, hymn 543</dc:subject>
  <dc:title>Стройтесь дружными рядами</dc:title>
</cp:coreProperties>
</file>