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FFB-D144-434B-B195-91DAF61F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A59-B582-4634-B766-7A679757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0E3-FF15-4671-BDD3-8C7E4063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FB1-6DDF-4497-899F-E4C3E09A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429-36B6-41A7-B889-3DF9F322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2FF-F522-421F-A869-2D03A68B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5E2-1D62-48DD-9007-0A27C6F7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148-6DD2-45FC-BCF7-2AD8E22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192-1FEF-4C84-977E-39780A5F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E0F-5243-4511-8351-D142C515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B2F-35AD-40C4-9F0A-30F53F6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6BF-3D3D-42D1-9235-A607293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4ADD-F1D1-48B7-AD71-1673FC62D6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, бедный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л слово о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 ты был преступ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глощён весь во гре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тебе ещё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ь благодатный з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 ты, бед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порвать не раз реш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ти в мире сует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для жизни обеспеч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тана ведь так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рко за тобой сле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меет и прекра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умом твоим ца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властно упра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м и умом тво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боты сам вну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лечёт к делам мирс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 друг мой, всё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щетно мыслишь ты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мог всё сам устро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потом идти с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ак решать ты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никогда ты 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й цели не достигн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вляясь к небе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ещё тебе возм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ть благодатный з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адывай надол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48Z</dcterms:modified>
  <cp:revision>12</cp:revision>
  <dc:subject>Slavic hymnal Гимны веры христиан, hymn 384</dc:subject>
  <dc:title>Сколько раз ты, бедный грешник</dc:title>
</cp:coreProperties>
</file>