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5B9-9574-4279-8E88-680F0B4E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62B6-EC9F-402E-8E35-E82ED535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D02-0E03-4CC6-B995-BA18DC2F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E61-42A5-4940-A7F3-582AEE14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D964-97EA-4F8A-A56B-905A8E8F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A90-C266-43B9-AD77-8D5A181C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975-8882-4E83-8E5A-1EC08DFA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0A6-2007-46DC-BF05-32C6C184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60A7-2A3D-459D-ADBF-330BC9AB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815-C5BE-4150-B22B-16008BD5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A529-CF1A-42E6-822E-53523522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1659-1FF6-4F40-9FBC-17D3BF79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F8644-9286-4CC6-A759-082AE03FD2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keep me nea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 precious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to all, a healing str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s from Calvary’s moun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   Спасе мій, тримай м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 мій, тримай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пречиста кров т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ого сці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, a trembling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and mercy found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he bright and Morning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d its beams aroun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душа м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мир діст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ясна рання з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осія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! O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its scenes befor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e walk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shadows o’e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о, Бож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ажи увічч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міч дай, щоб я служ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бі днем і нічч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 I’ll watch and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ing, trusting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I reach the golden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стою і 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іюсь і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Господь візьме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ну ос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8:17Z</dcterms:modified>
  <cp:revision>13</cp:revision>
  <dc:subject>Slavic hymnal Гимны веры христиан, Ukrainian hymn 3</dc:subject>
  <dc:title>Near the Cross / Спасе мій, тримай мене</dc:title>
</cp:coreProperties>
</file>