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462D-0DF2-4A01-A852-6AFB9A0F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60AD-A06D-4706-A87B-3B97C55E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B303-D421-41D6-895C-E9EAEED93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9002-8470-47D2-8920-F3D3F1AB7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4D0F-F6E8-4454-BFF8-093BFF96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C8A2-E186-4F48-8A3C-7915C1B8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5AF1-EAA9-4365-94E4-8F63F36D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5A47-52A6-44BF-ACEA-560A7BEA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06F8-BB51-4DAC-AD78-778E5646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D653-118B-45FA-A893-722104DD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ED49-970E-448A-B6A8-EA2C169C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99DA-7B93-4BF4-B044-E60B35CA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FCFED-6341-4542-ADB3-2FB84226D59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nk of the home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side of the river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e saints, all immortal and fa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robed in their garments of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6   Насліддя моє в небесах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агне й рветься туди все ду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спасенні, в небесних луч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лавляють свойого Твор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nk of the home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nk of the home over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aviour is now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my kindred and friends are at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away from my sorrow and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e fly to the land of the bl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мене жде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ме у оселю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дих мирний на травних луг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Його світлім, блаженнім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nk of the home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nk of the home over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soon be at home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end of my journey I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ny dear to my heart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watching and waiting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скоро у небо пі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кінчу шлях тернистий, зем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всіх вірних слуг Божих знай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усі Божім пречистих, свят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nk of the home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nk of the home over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51:51Z</dcterms:modified>
  <cp:revision>12</cp:revision>
  <dc:subject>Slavic hymnal Гимны веры христиан, Ukrainian hymn 26</dc:subject>
  <dc:title>The Home Over There / Насліддя моє в небесах!</dc:title>
</cp:coreProperties>
</file>