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D88-B4A0-485A-BC22-3D9100A9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EB4-D724-422D-9C78-0A60C0B2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25F-5EF6-4EA8-97D7-6D83C978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695-8645-4895-BBB9-FF158F12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21B-4B37-451F-8256-A9929009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633-0487-401E-8386-37DCC9BE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1AB-44FE-4870-A4D6-6D541D5A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756-AC33-44B1-9E19-839208EE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994-5C7A-46F8-A8DF-C5AE071A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C51-B20E-413B-8360-65B7060C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471-1190-4328-BC73-68602DF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FFE-D883-4115-9BFF-968C8A96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260AB-1E45-4101-B3C2-9F1DD481FF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ur God is an Awesome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00Z</dcterms:modified>
  <cp:revision>11</cp:revision>
  <dc:subject>The Source, song number 418</dc:subject>
  <dc:title>Our God is an Awesome God (Awesome God)</dc:title>
</cp:coreProperties>
</file>