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D52-E5A3-44E1-B4C8-DDB07F0B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DDB-40B8-4442-A506-EC63690D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023-C43D-4D20-9F6F-BF07A5C9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104-B8EA-4304-B776-6A5EE273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E05-37FF-4816-8B50-B4937875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4D-949C-4FFA-B36E-4DECC099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704-CDAE-4683-8D56-7584AC3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300-CE16-4CB9-80D6-80725F56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0C4-6874-441C-BB8E-D16A3C1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7CF-3189-41B0-8FF1-E5C9ECA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A2D-0860-4B7E-B7BA-103F522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1D5-F525-4B34-B7F9-743FAF2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49B30-3AFA-4724-AF43-915A25BEF2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’s the Saviou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23Z</dcterms:modified>
  <cp:revision>10</cp:revision>
  <dc:subject>The Source 2, song number 732</dc:subject>
  <dc:title>He’s the Saviour of My Soul</dc:title>
</cp:coreProperties>
</file>