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647-7D35-440D-BFCC-EA719D51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A48-C070-4170-8C02-26288252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AF1-229D-4B23-A40D-6B1D8BD4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D19-2A87-47B5-9CF7-1B741CDE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D66-7B6F-440E-BC47-797E5EC0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E06-B839-47E0-94CB-440166D2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CBD-932C-41B7-A187-A7C011CA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81C-4032-446E-801E-55F3C383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014-574C-424D-ACD1-DD7D1E4F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9CB-40EA-446D-AE54-57C0B004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93D-44F8-47AE-8523-567962F6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710-31A7-4DB3-9105-50A817A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02F85-B110-4DE5-B994-A8E71B6C0E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air I breat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air I breath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oly presence living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aily b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aily br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very word spoken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, I’m desp’rat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, I’m lost withou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07   This is the Air I Brea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34Z</dcterms:modified>
  <cp:revision>11</cp:revision>
  <dc:subject>The Source 2, song number 1007</dc:subject>
  <dc:title>This is the Air I Breathe (Breathe)</dc:title>
</cp:coreProperties>
</file>