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CA8C-FA8B-40AB-B9AA-CD28F1B6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68D-5BC1-4151-B81F-D4FD4C5F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3AA-2331-4023-B44B-AE6568A6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59B-2E37-4413-AA88-5CFB5FC7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44C-E6CA-47E1-B2EA-087CF6DC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2A7-50AB-40BF-97E9-3B7B2847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8BA-AAEB-4AB4-A139-CA2C346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48C-3085-4B9E-BDAF-37D88ABE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DF6-E0BF-4CDB-AD48-CB16345C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CDC-41D3-4029-8FC8-7563B79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021-5E36-41B0-A327-76DFCD5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499-6CF5-4181-8EF9-C97EFC8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6DEE6-AFC2-4B89-9620-454BD1FB26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ia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these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distress He kindly will help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ever loves and cares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ажу Иисусу все мои скор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мои скорб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томился под гнёто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, меня поддер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чно помнит, любит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ll of my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a kind, compassionate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 but ask Him, He will del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of my troubles quickly an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 все о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отзывчив, Он всё пойм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вет на просьбу даст избав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гонит страхи, снимет весь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ted and tried, I need a great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Who can help my burdens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, I must tell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all my cares and sorrows will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орби, в тревоге То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ил даёт мне мой крест 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 Он вникнет, всё облег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the world to evil allur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my heart is tempted to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 and He will help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world the vict’ry to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саждает, влечёт к пад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оём сердце так много з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Он даст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есница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bear my burden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must tell Jesus! I must tell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an help me, Jesus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яжкой ношей я изне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у Иисусу, скаж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поможет, мой Царь и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43Z</dcterms:modified>
  <cp:revision>14</cp:revision>
  <dc:subject>Slavic hymnal Гимны веры христиан, hymn 623</dc:subject>
  <dc:title>I Must Tell Jesus / Скажу Иисусу все мои скорби</dc:title>
</cp:coreProperties>
</file>