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1AA-0917-46E7-809A-CFF2F1AB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B03-83A0-4EA9-A08C-59077A56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612-186A-4BD0-9C74-35366A58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A28-03AC-48A6-9F49-79122810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C47-BFB8-4095-9334-D85B56D1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B21-6767-40C8-AC28-90D015E2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4D6-C511-4686-863D-6F8FBEE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96D-C824-4D2B-8382-E93CE46A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971-70AC-4AF3-B338-AB9249F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3E0-0CC1-459D-8B0A-EDDF2FD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F30-66A1-40BB-AF15-400F47E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53C-75E9-4D8B-B5C6-BA40B416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7F3E5-C201-4E40-8575-987513B965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ты за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езнача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озлюб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, Он расс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ом для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скит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ахе 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так печа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ил Он отр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и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бе дать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т влеченья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дар прин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ешают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не верь, смущ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чным голо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, муж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лым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чаль расс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согр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теп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0:11Z</dcterms:modified>
  <cp:revision>12</cp:revision>
  <dc:subject>Slavic hymnal Гимны веры христиан, hymn 806</dc:subject>
  <dc:title>Что ты так печален?</dc:title>
</cp:coreProperties>
</file>