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FB0-8AC2-4EE6-A073-32914BA6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7F2-CB91-4D73-9FF5-CEF83D90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03E-6335-4665-9D04-F6292592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D2C-4CBE-494B-A9BE-F26D9116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15B-B211-478B-AB3C-7BE4F164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F01-A5E6-4B56-BEA7-843748F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C510-AE46-4DDB-B1DB-08F5DC3E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A21-F923-4C2D-BBD4-F39315A1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5C8-731A-467A-85C4-40C76743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060-C2DB-4CA3-BFAC-C6A264B2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8DA-22D8-41B0-B082-DF575221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40B-04F0-40F2-8483-410C6BF6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127A-903B-498A-9D1E-354D57DB8D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love and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igh and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42   He Is High and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21Z</dcterms:modified>
  <cp:revision>12</cp:revision>
  <dc:subject>The Source 3, song number 1242</dc:subject>
  <dc:title>He Is High and Exalted (High and Exalted)</dc:title>
</cp:coreProperties>
</file>