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5E3-DBA1-49EC-A516-1C138EAB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028-7944-4FC6-916F-5D3BC878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787-95CD-449A-8704-550CE829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EC7-0EBC-46BE-B37C-F789DDEE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1B6-D852-4971-92DD-7296B347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519-9AC6-4E6B-864C-0075FF22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16D-509A-47D0-BFB6-C02102DC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715-DD99-4D2B-8223-49F2742B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045-EB95-4E5B-A94D-84587196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A3EB-4FDE-4BE4-96E0-2ADB10C5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A88-5D6A-40FD-A885-9A6C9F9F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69D-F3BA-4B6A-B280-3D343614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CA69D-0630-421D-A05D-3211F74C47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! церковь ждёт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воего яв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ридёшь Ты в свет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нять её томл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, идя навстречу к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ьёшь поток любви Т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! церковь ж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хотя во всякий м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церкви пребыв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звучит из уст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Ты утеш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же жаждем мы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еть лик чудесный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именем Твоим кру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лышим понош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тех, кто, гордые ум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ли дар спас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и и пред людьми я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славы и люб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бодрость нам, чтоб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и си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погасли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о тьме не сп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когда раздастся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Жених идёт!» — сказать: «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дём Тебя уже д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облекшись м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аждем, Боже, мы од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быть на брачном пи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й смотрим к небе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нисходит в сердце к 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яди скорей, о Бо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9:03Z</dcterms:modified>
  <cp:revision>12</cp:revision>
  <dc:subject>Slavic hymnal Гимны веры христиан, hymn 325</dc:subject>
  <dc:title>Спаситель! церковь ждёт Твоя</dc:title>
</cp:coreProperties>
</file>