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E40A-E33C-47B5-98E3-6A24A6CB6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123A-ED70-432D-87F2-38BEA6CB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9EF9-82B6-4588-A489-9558FCBD1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3D41-E589-4800-8729-96A494A00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FB09-A3CC-4798-B09C-49B798E8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AE3C-9A89-480F-A644-FD0E7595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1DAE-D92D-4DBE-B837-78708BE3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2AB6-77E5-43B0-9083-0C0BD59F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48EB-8E25-4750-A275-F9EE2FFF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F13F-D33D-4C9D-AE7B-76668859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A867-AE54-48BD-B579-85E8152B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B7B4-22F2-427A-B114-8FC22C01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16ACF-5FA0-4951-BDD4-25F80F98D09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ожья вечна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ы влечёшь меня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даюсь тебе впол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ей безмерной глуб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всех да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вет, что следуешь за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коптящий факел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 сердце яркий веры лу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едший из страны и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светел и могу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14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Божья вечная люб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радость, что в душе мо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нила ужас бурь и гроз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ижу день и в тьме но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рю: там, где Царь ца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удет тьмы и слё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рест, хотя внушаешь ст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без тебя мне нет венц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ное всё кладу во п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я к славе в небе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жизни без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2:52Z</dcterms:modified>
  <cp:revision>12</cp:revision>
  <dc:subject>Slavic hymnal Гимны веры христиан, hymn 831</dc:subject>
  <dc:title>О, Божья вечная любовь</dc:title>
</cp:coreProperties>
</file>