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8</a:t>
            </a:r>
            <a:r>
              <a:rPr b="1" lang="ru-RU" sz="3600" spc="-1" strike="noStrike">
                <a:solidFill>
                  <a:srgbClr val="ffffff"/>
                </a:solidFill>
                <a:latin typeface="Verdana"/>
              </a:rPr>
              <a:t>	</a:t>
            </a:r>
            <a:r>
              <a:rPr b="1" lang="ru-RU" sz="3600" spc="-1" strike="noStrike">
                <a:solidFill>
                  <a:srgbClr val="ffffff"/>
                </a:solidFill>
                <a:latin typeface="Verdana"/>
              </a:rPr>
              <a:t>Из тьмы страданья</a:t>
            </a:r>
            <a:endParaRPr b="0" lang="en-US" sz="3600" spc="-1" strike="noStrike">
              <a:solidFill>
                <a:srgbClr val="000000"/>
              </a:solidFill>
              <a:latin typeface="Verdana"/>
            </a:endParaRPr>
          </a:p>
        </p:txBody>
      </p:sp>
      <p:sp>
        <p:nvSpPr>
          <p:cNvPr id="3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Out of my bondage, sorrow and nigh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 come; Jesus, I c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to Thy freedom, gladness and ligh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 come to Thee.</a:t>
            </a:r>
            <a:endParaRPr b="0" lang="en-US" sz="32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Из тьмы страданья, плена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к Тебе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радость небес под вечный пок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t of my sickness, into Thy heal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t of my want and into Thy weal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t of my sin and into Thyself,</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 come to Thee.</a:t>
            </a:r>
            <a:endParaRPr b="0" lang="en-US" sz="32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ран, болезни, к силе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бед, нужды, к Твоей полно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уз, оков, к свободе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Out of my shameful failure and lo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 come; Jesus, I c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to the glorious gain of Thy cro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 come to Thee.</a:t>
            </a:r>
            <a:endParaRPr b="0" lang="en-US" sz="32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т униженья, власти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к Тебе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царству спасённых, к кладу да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t of earth’s sorrows into Thy bal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t of life’s storms and into Thy cal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t of distress to jubilant psal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 come to Thee.</a:t>
            </a:r>
            <a:endParaRPr b="0" lang="en-US" sz="32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имется скорбь Твоею ру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нятся слёзы вечной хва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дце настанет мир и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Out of unrest and arrogant pr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 come; Jesus, I c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to Thy blessed will to ab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 come to Thee.</a:t>
            </a:r>
            <a:endParaRPr b="0" lang="en-US" sz="3200" spc="-1" strike="noStrike">
              <a:solidFill>
                <a:srgbClr val="000000"/>
              </a:solidFill>
              <a:latin typeface="Verdana"/>
            </a:endParaRPr>
          </a:p>
        </p:txBody>
      </p:sp>
      <p:sp>
        <p:nvSpPr>
          <p:cNvPr id="4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Гордость плотскую Ты усмир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к Тебе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лю мою Себе покор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t of myself to dwell in Thy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t of despair to raptures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Upward I rise on wings like a d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 come to Thee.</a:t>
            </a:r>
            <a:endParaRPr b="0" lang="en-US" sz="3200" spc="-1" strike="noStrike">
              <a:solidFill>
                <a:srgbClr val="000000"/>
              </a:solidFill>
              <a:latin typeface="Verdana"/>
            </a:endParaRPr>
          </a:p>
        </p:txBody>
      </p:sp>
      <p:sp>
        <p:nvSpPr>
          <p:cNvPr id="5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у в любви Твоей пребыв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Иисуса с верой взир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лагодать Твою возвещ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Out of the fear and dread of the tomb,</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 come; Jesus, I c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to the joy and light of Thy h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 come to Thee.</a:t>
            </a:r>
            <a:endParaRPr b="0" lang="en-US" sz="3200" spc="-1" strike="noStrike">
              <a:solidFill>
                <a:srgbClr val="000000"/>
              </a:solidFill>
              <a:latin typeface="Verdana"/>
            </a:endParaRPr>
          </a:p>
        </p:txBody>
      </p:sp>
      <p:sp>
        <p:nvSpPr>
          <p:cNvPr id="5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трах ли томит, иль смерть мне гроз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к Тебе и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лос Твой в душу бодрость все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t of the depths of ruin untol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to the peaceful, sheltering fol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ver Thy glorious face to behol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 come to Thee.</a:t>
            </a:r>
            <a:endParaRPr b="0" lang="en-US" sz="3200" spc="-1" strike="noStrike">
              <a:solidFill>
                <a:srgbClr val="000000"/>
              </a:solidFill>
              <a:latin typeface="Verdana"/>
            </a:endParaRPr>
          </a:p>
        </p:txBody>
      </p:sp>
      <p:sp>
        <p:nvSpPr>
          <p:cNvPr id="5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емощи Ты меня укреп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ло Твоё во мне соверш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оме Отца меня водвор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Господь, иду!</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22:38:35Z</dcterms:modified>
  <cp:revision>3</cp:revision>
  <dc:subject>Slavic hymnal Гимны веры христиан, hymn 158</dc:subject>
  <dc:title>Jesus, I Come / Из тьмы страданья</dc:title>
</cp:coreProperties>
</file>