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4CE-69EB-489C-8E8C-3B5DF2FA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FB0-9A3C-44D2-BBA6-5AABF1F4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B94-A35C-4230-9DCC-94B6B9CC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ABE-1BB4-4A0A-8E60-5A487844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ADC-0541-4E8E-9DC4-D08423E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FA6-AC4E-46B3-8D74-A259FD42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BFE-FBF3-495F-AC1F-412EC818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3FB-9B27-49B9-AA62-4A4DD926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F58-0F73-4075-ABB3-B9D5C855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DF9-6C8B-4DA7-A1AF-0BF7D7F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FBF-EC5E-44B5-AB3C-79AD143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ED0-A868-4A77-8D9F-D076A58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5DE27-D362-46A9-A267-90AD5D1D0D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окое вздых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еры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был, что лишь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 Господо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слова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о вол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ь выше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тайн не пойм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й мир не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зренье и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ело и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пишет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ценит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т Бог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слушен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ожил ли ты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сподень алта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 блаженство в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15Z</dcterms:modified>
  <cp:revision>12</cp:revision>
  <dc:subject>Slavic hymnal Гимны веры христиан, hymn 497</dc:subject>
  <dc:title>О покое вздыхал</dc:title>
</cp:coreProperties>
</file>