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3056-FFC5-4E90-8E43-D99CE96B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94FC-25D4-40A2-B49F-1E4522D9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D271-752A-401F-8957-50ED21FC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C711-CEF2-4F89-8FE9-A004A67E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A5ED-AAA4-47CD-BAAA-43B6A791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57C4-59DD-4C7D-A7D6-A0D20C84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B019-E44A-4CC1-AF46-D08736DD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14C8-0ECB-431A-973D-D0C80033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6EA6-EE52-441A-8B53-9766ADC4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7D7A-5F49-419E-942F-E446DA34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196F-5F56-4BB9-A8DB-EB961D17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94EC-E38B-446D-B857-BCA51EC2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9EA6C-7F8F-43D3-AA5C-61ECFC5AAF2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 the wondrous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hrist Who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He left His home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cross of Calv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спою вам песню в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ою вам песню в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е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любит нас без м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умер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’ll sing the wondrous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hrist Who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with the saints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by the crystal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’ll sing the wondrous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hrist Who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with the saints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by the crystal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s lost but Jesus fou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und the sheep that went ast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ew His loving arms arou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ew me back into His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 меня Христос от м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аблудшую ов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клонился, взял на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нёс меня к От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’ll sing the wondrous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hrist Who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with the saints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by the crystal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s bruised but Jesus heal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nt was I from many a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ght was gone and fears possess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He freed me from them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ранен — исцел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блужданьях изне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щилась моя с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л вечных сил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’ll sing the wondrous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hrist Who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with the saints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by the crystal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ys of darkness still come o’e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rrow’s path I often tr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His presence still is with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guiding hand I’m 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усь я перед ть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едой не раз тесни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тель мой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укой Его хра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I’ll sing the wondrous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Christ Who di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with the saints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thered by the crystal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keep me till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lls its waters at my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He’ll bear me safely o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e loved ones I shall m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ордану с Ним при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шумит у ног мои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войду в страну свят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я встречу дорог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05Z</dcterms:modified>
  <cp:revision>13</cp:revision>
  <dc:subject>Slavic hymnal Гимны веры христиан, hymn 599</dc:subject>
  <dc:title>I Will Sing the Wondrous Story / Я спою вам песню веры</dc:title>
</cp:coreProperties>
</file>