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781-F7AF-44F2-B158-E4597DEE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B3B-3C8F-499B-87F9-4D758CF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1D5-2D14-4669-A40C-5981FF5E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53B-618A-4291-848F-49843501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845-966E-4F7C-8F62-853E8589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22F-C453-4E4E-B00E-37627CEB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2E9-EA7B-414E-A33B-3DD6DFF8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E99B-2C21-4587-AD19-D64DB71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EC6-2D4E-4372-84D1-87258CC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600-C4A6-4D06-B127-82A05C7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7E3-DE03-4B62-9189-214DAD9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E24-0A5C-4E94-A2E4-5F67A8D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88121-67E3-485E-8137-ECD609D5BA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(каждый д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6:06Z</dcterms:modified>
  <cp:revision>12</cp:revision>
  <dc:subject>Slavic hymnal Гимны веры христиан, hymn 480</dc:subject>
  <dc:title>Утешайте малодушных</dc:title>
</cp:coreProperties>
</file>