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13E-CF67-4140-8F4D-8CBF2E1C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925-6EC4-4FE5-ACA0-414993C2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1D9-3ACF-496D-B8F4-FBB64956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2CE-8A49-4A10-AB2F-992D15BE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A8D-A902-419C-BE92-3867292A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F6C-2C5C-496C-895F-BDC9EB25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F42-34B4-4F41-A9C8-BD10B6B6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C5F-83EE-4168-89AE-A0ED6FC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306-60EC-4F3E-80B1-C31B0AAB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D70-02ED-49EF-A51A-D6E4F3E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C2B-5D60-47AF-AC6F-0CE0A94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DF1-68C2-4B83-A2E6-7ADDA0D7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85C31-AD5E-480B-ACD1-5BA64AED53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 будь в искуш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трашней, чем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шь, суме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ему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бости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р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 будь в искуше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ужися с л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мей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имя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не при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удь призв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частьи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наградит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обеди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мы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, расторгший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йствует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48Z</dcterms:modified>
  <cp:revision>12</cp:revision>
  <dc:subject>Slavic hymnal Гимны веры христиан, hymn 859</dc:subject>
  <dc:title>Твёрд будь в искушеньи</dc:title>
</cp:coreProperties>
</file>