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1E0-BA61-4076-BAE2-8FA1254F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175-4612-4DDB-BF74-AEAA59ED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D1C-76A5-48BD-9A3B-0EA56A96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C62-2FA2-4DB1-8B3D-DAFFE268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B86-5574-482E-A5C1-B1984C8C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509-6AAC-4945-8A9A-0B0CA077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6B3-833C-486F-8D51-928C995E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DAD-B05B-405B-94B3-143992AE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535-AF7F-4239-B9D5-E300072F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957-B6DE-4834-81E0-1C8A175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1057-6FA2-4436-880D-A34F2B5A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F77-1FC1-4DE6-83AE-965308EB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3ED41-F79B-4AB6-820C-CCCF4EC77A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жизни полно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ыто в нём свя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тство благ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кую иль страд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омненья ли вп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зов: «Прийди!» услыш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у я ко Хрис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7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 слово дорого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ю отд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сердце, навсе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миг не удаля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Бога никогд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вы! Я один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силен усто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ухожу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льну к Нему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еки к Себе Ты мощ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изко дай приль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дай и в час полн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мне усну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дай чрез все невзгод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стречу я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 все земн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не радостно ид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й, утруждён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о Мн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7:16Z</dcterms:modified>
  <cp:revision>13</cp:revision>
  <dc:subject>Slavic hymnal Гимны веры христиан, hymn 370</dc:subject>
  <dc:title>О слово дорогое!</dc:title>
</cp:coreProperties>
</file>