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4EF6-1DAC-44C3-B9EC-317E7BBD6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6B11-A02D-41A8-8DBB-703C4137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0F06-F52E-43E3-91FA-5A5306DCC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1227-203C-45C3-B312-56BF3DB69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0C0E-2925-4C67-8013-78993931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F0E8-2434-4D70-BFF0-7386CD60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65B9-D927-4B69-BB4B-B6DEAF3F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91E2-3324-418F-8853-C2351202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3942-FD15-4C24-88AD-A0A92C81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22E7-9772-4E9B-88E3-3AA460DF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87E0-4B08-4629-A71D-82578F2A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D66D-616F-494E-97E1-34C7B2D2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C5FAB3-60AC-4290-9966-E725819D6AA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люч к сердцу больных и мятеж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Иисуса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т ни любви, ни наде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вет проливает т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, где вся жизнь ум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данно является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и мир предлаг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раны — целебный бальз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люч к сердцу боль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любовью без 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чудо в душе совер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в обновленьи и ве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поклониться спеш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ое уходит далё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ходит желанный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и вину, и поро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имает пронзённой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4:54Z</dcterms:modified>
  <cp:revision>12</cp:revision>
  <dc:subject>Slavic hymnal Гимны веры христиан, hymn 646</dc:subject>
  <dc:title>Ключ к сердцу больных</dc:title>
</cp:coreProperties>
</file>