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5BC-5F98-4FA4-A3FE-2ED8526C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90C-C7C1-44B4-AC4F-270EE546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05C-1854-4372-BC3D-2C5940EB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9C1-316C-476F-BEEF-CDC4F516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091-C690-4A7F-AECA-7D7D5375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31A-5915-4065-A148-3CC02561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B49-1E3B-468D-99FD-D727920E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599-E94D-4902-BAE9-5FEB8530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39B-8419-47A8-89E5-94516542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74D-5242-42D9-8765-BB8E8920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ADC-F896-4F89-8E1D-7AECCF09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81B-3CEE-49DD-88B0-CFF963F2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051D6-C412-4385-AC26-BC74916BF2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Saviour that He died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condemnation He hath mad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said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за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а меня в могиле бы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суда меня освобод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iniquities on Him were l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indebtedness by Him was pa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ho believe on Him, the Lord h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Себя грех мира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лг души греховной заплат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poor and needy, I can trust 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ak and sinful I believe 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glad message! Every chil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ищ, но полагаюсь н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но верю слову я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ети Божии имею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all unworthy, yet I will not doub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im that cometh He will not cast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,” oh, the good 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достоин, но сомненья н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ходящих ждёт Его при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 I say un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rily, verily,” message ever ne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at believeth on the Son,” ’tis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th everlasting lif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я вам гово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о, истинно радост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т в Сына, тот имеет,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29Z</dcterms:modified>
  <cp:revision>14</cp:revision>
  <dc:subject>Slavic hymnal Гимны веры христиан, hymn 635</dc:subject>
  <dc:title>Verily I Say Unto You (Oh, What a Saviour, That He Died For Me!) / Спаситель за меня в могиле был</dc:title>
</cp:coreProperties>
</file>