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2</a:t>
            </a:r>
            <a:r>
              <a:rPr b="1" lang="ru-RU" sz="3600" spc="-1" strike="noStrike">
                <a:solidFill>
                  <a:srgbClr val="ffffff"/>
                </a:solidFill>
                <a:latin typeface="Verdana"/>
              </a:rPr>
              <a:t>	</a:t>
            </a:r>
            <a:r>
              <a:rPr b="1" lang="ru-RU" sz="3600" spc="-1" strike="noStrike">
                <a:solidFill>
                  <a:srgbClr val="ffffff"/>
                </a:solidFill>
                <a:latin typeface="Verdana"/>
              </a:rPr>
              <a:t>Часто Отец позабыт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асто Отец позабытый в ок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зоры Свои устремл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а заблудшего так уж да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овь Он домой ожид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асто в глухие, бессонные но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о колени склон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у с мольбой поднимает Он о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 заблудшем взывае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истально смотрит в туманную да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слью туда Он нес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нью лицо омрачает печа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так трепетно бь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де же, о, где же находится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 ли? Здоров ли? Довол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жет быть там, на чужбине, од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яжко страдает от бол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Льстивые, лживые, с злобно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и его окружа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е, о, что ж не идёт он д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е так долго блужд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Скачет ли, едет ли кто по дор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посохом мимо прохо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миг, и Отец уж стоит на порог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путника взора не своди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Это не он, всё чужие и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а всё нет, не прихо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ёзы из глаз по ланитам тек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дленно в дом Он захо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Годы чредою унылой лет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рачны, бессветны, как грёз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арца-Отца волоса серебр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мы, заботы и слёзы.</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9.</a:t>
            </a:r>
            <a:r>
              <a:rPr b="0" lang="ru-RU" sz="3200" spc="-1" strike="noStrike">
                <a:solidFill>
                  <a:srgbClr val="ffffff"/>
                </a:solidFill>
                <a:latin typeface="Verdana"/>
              </a:rPr>
              <a:t>	</a:t>
            </a:r>
            <a:r>
              <a:rPr b="0" lang="ru-RU" sz="3200" spc="-1" strike="noStrike">
                <a:solidFill>
                  <a:srgbClr val="ffffff"/>
                </a:solidFill>
                <a:latin typeface="Verdana"/>
              </a:rPr>
              <a:t>В полдень под зноем палящих луче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ле бредя и шатаясь,</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щий подходит с сумою свое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обко вокруг озираясь.</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0.</a:t>
            </a:r>
            <a:r>
              <a:rPr b="0" lang="ru-RU" sz="3200" spc="-1" strike="noStrike">
                <a:solidFill>
                  <a:srgbClr val="ffffff"/>
                </a:solidFill>
                <a:latin typeface="Verdana"/>
              </a:rPr>
              <a:t>	</a:t>
            </a:r>
            <a:r>
              <a:rPr b="0" lang="ru-RU" sz="3200" spc="-1" strike="noStrike">
                <a:solidFill>
                  <a:srgbClr val="ffffff"/>
                </a:solidFill>
                <a:latin typeface="Verdana"/>
              </a:rPr>
              <a:t>Трудно узнать в этом нищем того,</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в дорогом одеянь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когда бросил Отца своего,</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чущим, в тяжких страданьях.</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10:43:24Z</dcterms:modified>
  <cp:revision>3</cp:revision>
  <dc:subject>Slavic hymnal Гимны веры христиан, hymn 72</dc:subject>
  <dc:title>Часто Отец позабытый</dc:title>
</cp:coreProperties>
</file>