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2C2-7187-4222-8CFE-3D4845E5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C46-64EA-44F3-AA5C-D3317F6B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1D0-5D10-402E-8C43-3C2306B5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79C-F277-4D79-A548-88FDB60F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934-BA67-4EA8-9375-7FACBF57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ADC-75ED-4802-893B-DAA9A680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031-1A9B-42DB-87F6-D92B96DA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339-5AF0-48A3-8102-0E5C5863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6E6-B01B-4DB7-A454-7059F2B0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E6E-8916-47F5-979D-F2045F7F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8F6-3F88-423A-920E-A04699BB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0F4-48C2-49A0-8BD9-C98CB204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62D64-52C7-4F9E-B3FF-ECF1AF30D0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,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льшим удивлень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то мы сделали с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едный страдал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омой от ро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оровым стоит перед 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смотрите, лю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? раз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не та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мало различных болезн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 верой в моли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т вас для жизни поле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отрите,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ас, как на ди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ело идём на мучен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мы спок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ы, счастл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ь, благодать и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 славный Хрис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вленья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ите ль гордые вз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вдруг завоп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спуге смертель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окройте нас, камни и горы!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гля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на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мольбой, с покаяньем сердечн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вам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жет в служ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будете в радости веч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огущей деснице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чудеса и спасае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5:14Z</dcterms:modified>
  <cp:revision>13</cp:revision>
  <dc:subject>Slavic hymnal Гимны веры христиан, hymn 770</dc:subject>
  <dc:title>Что смотрите, люди</dc:title>
</cp:coreProperties>
</file>