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D4F-466C-4DDA-B605-A1008702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1E1-77BB-4556-A7A4-282C237B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91C-B237-4AE5-86C7-BCC37176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232-45EF-4EE8-830E-C574FC04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70A-DC71-4F1D-8B0A-DF586FC6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CBF-1FED-4BC9-9D41-C4A64FD0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39D8-0FBA-4BB0-9B6E-89BDA51D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063-68D5-4CA4-8DFA-83B11E8E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259-39E9-4B04-A272-3F26B0A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4F2-53FE-41A0-ABC6-C7BEFD9A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88A-757F-46CD-87C7-F3514BED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CE0-93BA-46AA-9041-BBEBC352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88837-6926-4D2A-A97F-A54F3FAABC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name I love t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o sing its wo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ounds like music in my 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weetest Nam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слушать об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слушать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петь о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песен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of a Saviour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died to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of His preciou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nner’s perfect pl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чудный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а землю ум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мог жизнь им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me what my Father h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tore for ev’ry 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’ I tread a darksome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ields sunshine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 любви сбер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е проп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tells of One whose loving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feel my deepest wo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n each sorrow bears a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none can bear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яжкий крест со мно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w I love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first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0Z</dcterms:modified>
  <cp:revision>13</cp:revision>
  <dc:subject>Slavic hymnal Гимны веры христиан, hymn 605</dc:subject>
  <dc:title>O How I Love Jesus / Люблю я слушать об Одном</dc:title>
</cp:coreProperties>
</file>