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7D8-E2C3-43BE-8E65-7C7A6285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187-19B3-4D0E-8319-12FF35FB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10E-A737-42CC-A318-12408F52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A5B-93E4-4C0D-A911-33B013CB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6DE-4FAF-475D-B5E1-2FE09296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0F1-2232-4313-AE97-8D116224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221-B53E-427A-AE6F-B1AC9BDF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FD1-7962-46BF-B0EF-DC3FB0CA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962-9E9B-41FC-BF29-82D93487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12F-1C01-4046-B210-FBA7962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872-AA60-46A8-9638-1EF4347D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0DC-7722-474C-BC03-84ECD5DC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F1B9E-586D-4035-9E13-8CC2ED2BE9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ghtly, sweetly, toiling for the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 we forth with willing hand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soe’er to us He has appoin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fully our mission to pur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но, дружно будем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дружно будем мы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Божье мы найдём вез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я Божья в нас да совер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в слове и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ly, sweetly, we will tell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His love to mortals here bel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brightness of the Father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eely here His blessing will best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, просто людям мы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ын Божий грешных возлюб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начинанья н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уженья даст потреб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ekly, meekly, toiling for the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lking faithfully the path He tr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ing wand’rers to the dear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inting sinners 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чрез пустыню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йдём послушно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ищих, немощных и си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Агнцу Божью, к свету приве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ly we go, joyfully w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iling for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His vineyard here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8:12Z</dcterms:modified>
  <cp:revision>13</cp:revision>
  <dc:subject>Slavic hymnal Гимны веры христиан, hymn 553</dc:subject>
  <dc:title>Gladly Toiling for the Master / Дружно, дружно будем мы трудиться</dc:title>
</cp:coreProperties>
</file>