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9C4-114E-4F7F-BEBA-DFDD7983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ABF-E80C-430C-AC87-B26258CB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21C-D3BF-45E7-8875-FE456857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10C-ADEE-4089-A076-09F821A5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D75-CE6C-415A-BF65-F926CCFD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3CB-BDAC-49DD-9329-3C43AB94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D82-992F-46AA-BBD0-6B15B8A6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288-C976-4ECD-A20E-FF516EF0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5D0-6EFC-409F-90AD-8713D6DD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0CC-030D-4082-90BB-1CC46D10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8A8-1FAF-40AE-9CEA-9EFD1595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FB2-2AB2-44DA-AC90-115C854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2B793-0565-42F0-B517-87D20FF107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тільки є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є щ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, хто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ю новину не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3   О, скрізь розголосі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темна вже м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ння Зоря зій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ьму розганяє вж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ічний наст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ство гріхи лиш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ходить до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Цар ца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е з небес дол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и забрати нас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тих, котрих Він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труба зв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олос чути скріз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а це люб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нас Спас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нас спасти з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ти н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лава Богу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спас і ме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ь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обіцяв От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різь розголос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ь людям всім скаж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Дух Святий прийш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59Z</dcterms:modified>
  <cp:revision>12</cp:revision>
  <dc:subject>Slavic hymnal Гимны веры христиан, Ukrainian hymn 93</dc:subject>
  <dc:title>О, скрізь розголосіть</dc:title>
</cp:coreProperties>
</file>