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1F1B-4221-439F-A295-B6F112F7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31D6-5A97-4ECD-93F7-A7CB8583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FD0E-F12A-4F15-838D-0B362DF1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B97-D176-4133-A754-565A73D9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1C7-4B9E-4BA9-9624-F3DC87AA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11E-0F54-4B98-BBD2-32ECFB6E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444-D3F2-4A77-9512-B7F7B760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75C-36DA-4BB0-9DDD-63A6F2CE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F7C-9B85-4BC5-A0DE-85FCEFC4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BB6-0EEF-4BF3-A8CA-4652ADDD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5C53-8FF9-4A97-AC4A-1450D17D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259E-7104-49A3-ABFD-56681BA0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6819D-1679-4F6E-950B-E8261A2B6C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thy sorrow, the world hath its sh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it deeply, go hide it with c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hink of it calmly, when curtained by nigh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and all will b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окрой своё го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ой своё горе от взоров чуж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ёз много уж в мире без вздохов твои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йди и подумай в ночную пор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кажи твоё горе Иисусу Хрис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He knoweth thy grie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tell it to Jesus, He’ll send thee relief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gather the sunshine He sheds on the w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’ll lighten thy burden—Go, weary one, p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истос уже знает о горе тво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бя Он утешит на лоне Сво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ет Божий сияет на нашем пу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мрачных и грустных сбирайте лу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rts growing aweary with heavier w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droop ’mid the darkness—Go, com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m,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bury thy sorrow, let others be bless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o give them the sunshine, tell Jesus the 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дца изнывают под гнётом нуж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йди к ним с любовью, утешишь их 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ой своё горе, дай радость друг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Христе ищи помощь страданьям тво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13Z</dcterms:modified>
  <cp:revision>14</cp:revision>
  <dc:subject>Slavic hymnal Гимны веры христиан, hymn 438</dc:subject>
  <dc:title>Go Bury Thy Sorrows / Сокрой своё горе</dc:title>
</cp:coreProperties>
</file>