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6880-F8F6-4F2D-84C9-A916F221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8FB8-B588-48EA-94A0-289D1FC5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5D63-2C6E-4389-AEFD-105B69250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6621-0A73-4B3E-916C-BDFA97AC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E5B1-034B-45B0-A1D7-A01E388D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1C3F-A85B-4C10-AFBD-081B7633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F02F-F41F-4A2F-9B6E-94DA9E4F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B067-330C-4A8B-93E0-F2AFF731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67E2-D999-4E7D-8FDE-75F94E29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394D-4D79-4A33-AE3B-AD8EEDFD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3907-EEAB-432C-9707-F92CC4F6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717C-5CED-4113-AACE-FE8770FE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D5903-770F-4ECB-B600-BB2CCDFAE99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 I a soldier of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follower of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all I fear to own His cau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blush to speak His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а Христом ли я и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 Христос ли я и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оин ли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яться ль мне встречать враж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ыдится ль мне к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 I must fight, if I would reig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crease my courage,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ar the toil, endure the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pported by Th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бедить, иду я в б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дай мне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ерно всё перено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л всегда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венец,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тленный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венец,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тленный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be carried to the s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flowery beds of 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others fought to win the pri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ailed through bloody s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ль на небо понес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укете пышных 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другие в бой и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ьют потоки слё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венец,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тленный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there no foes for me to f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ust I not stem the fl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his vile world a friend to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lp me on to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ов не вижу ль пред с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уду ль призыва 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е спешит ли суе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мить Господень с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514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венец,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тленный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4:25Z</dcterms:modified>
  <cp:revision>13</cp:revision>
  <dc:subject>Slavic hymnal Гимны веры христиан, hymn 793</dc:subject>
  <dc:title>Am I a Soldier of the Cross? / Не за Христом ли я иду?</dc:title>
</cp:coreProperties>
</file>