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CABC-0FBC-461A-8937-B96D3975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73BB-677B-460E-B631-273A3CC8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F831-37C0-4B6C-8322-BA7F57738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EDD8-16DB-48A1-9992-457266018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431F-A320-42D3-B250-942F681C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92B1-0C64-48D0-852A-AF2892D9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4221-651E-4D38-82CB-272D8512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DE11-79BD-482E-8F07-FDCC636E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B017-A24B-49E1-B2DE-22CB3D6A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1DD0-2B26-4741-A90E-C4284F8C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835B-00B0-43AC-92E4-966FD2DF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49F8-37AE-4970-94AF-540D6002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3A17E-E1C2-476A-9D62-6E455F1BB50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morning gilds the sk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awaking cri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Jesus Christ be prai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сток горит зарё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ток горит зар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поёт дух м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ike at work and pray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Jesus I repai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Jesus Christ be prai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литве иль тру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твердить везд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night becomes as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from the heart we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Jesus Christ be prai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еет всё кру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дружней поё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ow’rs of darkness f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is sweet chant they h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Jesus Christ be prai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ходят силы ть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звучат псал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nations of mank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your concord fi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Jesus Christ be prai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и луг и л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и круг небе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ll the earth a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ng joyous with the sou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Jesus Christ be prai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роды всей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е возглас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this, while life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canticle div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Jesus Christ be prai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в теле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ет песнь мо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this th’ eternal s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’ all the ages l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Jesus Christ be prai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во все 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льётся, как ре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хвала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11:51:28Z</dcterms:modified>
  <cp:revision>12</cp:revision>
  <dc:subject>Slavic hymnal Гимны веры христиан, hymn 822</dc:subject>
  <dc:title>When Morning Gilds the Skies / Восток горит зарёй</dc:title>
</cp:coreProperties>
</file>