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2AA2-150D-4951-81A4-E2D2A26D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F66B-ED48-40E4-8ED4-46F9DBD5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8766-245A-4692-A3E0-604ACF56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4E10-9179-46D9-A1AE-BBF1DA6A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2FB5-FBDB-4990-AEDE-BD7149CB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F46-82E0-4639-84A5-5A09B293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B1E9-484F-4753-AA74-8EA1823A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CD20-9181-480E-AC96-C13A567A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5B02-EC16-44BF-B623-1776DA65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0539-7A78-40C7-871A-ABC44D7A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54BF-8445-49CD-B546-5AF6B967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C434-C8AE-48FC-BB49-FB3615E4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06B81-20B0-4AFB-BA80-27ACE216270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my life, I crown Thee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e shall the glory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y thorn crowned b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me to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чальник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чальник жизни, Пастырь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воей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я подвиг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Gethsema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ine ag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y lo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me to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мол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бор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любв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 me the tomb where Thou wast l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nderly mourned and wep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in robes of light arra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arded Thee whilst Thou sl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 мне новый гроб, где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мученный, л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ангела, что с выс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лся сторож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Gethsema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ine ag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y lo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me to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мол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бор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любв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, like Mary, through the glo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with a gift to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 to me now the empty to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me to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, как жёны на за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есть дары мо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еры луч во мне го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Gethsema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ine ag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y lo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me to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мол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бор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любв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be willing, Lord, to b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ily my cross fo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n Thy cup of grief to sh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borne all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очу я подраж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рно крест 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шу скорби приним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ашь мне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Gethsema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ine ag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st I forget Thy lo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me to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мол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борь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забыл Твоей любв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у мне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4:18Z</dcterms:modified>
  <cp:revision>13</cp:revision>
  <dc:subject>Slavic hymnal Гимны веры христиан, hymn 430</dc:subject>
  <dc:title>Lead Me to Calvary / Начальник жизни, Пастырь мой</dc:title>
</cp:coreProperties>
</file>