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2271-4B33-4307-AD44-10A74605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0B18-0A60-4473-8385-6F8BF46B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9FA6-02A2-4AF7-8C83-4E740F78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B239-4C34-484C-9B98-C7711FE0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73BB-CFB3-434F-A08C-9B0CC665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57CC-D7C7-4526-BDA2-D724137E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01FC-BD70-40ED-90AA-58754547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C5A1-1AF3-477D-A3F8-45B5C90F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B35B-DFF5-448F-8629-F8EEDE2F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23AC-3B52-4CDB-886D-1F87AFF8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98B0-6B03-4CCD-8C35-470AC01E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BDDE-4248-44BF-A618-73310288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39975-3599-42B2-8398-9A619131149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ове Своём Христос уч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я знал, как Он любит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ниге святой много вижу чуд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ех отраднее эта мне в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Слове Своём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свела Его с чистых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несла Его за нас на крес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ю, что любит Спаситель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что также люблю Его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биваюсь я с Его пу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ырь мой ищет овечки С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огам Его я вернуться спе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любовь за любовь принош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Его стану я пребы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ой Его сатану отгон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який грех убежит о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спомню я: Христос люби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песнь прекрасная в сердце мо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ё спою я на небе свя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увижу во славе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вторю: как Он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дкий покой в упованьи най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, кто к Господу с верой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Святой в сердце его станет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 любовь Иисуса твер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меня, любит мен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! Он любит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Иисус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6:44Z</dcterms:modified>
  <cp:revision>12</cp:revision>
  <dc:subject>Slavic hymnal Гимны веры христиан, hymn 601</dc:subject>
  <dc:title>В Слове Своём Христос учит меня</dc:title>
</cp:coreProperties>
</file>