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3D4-63DE-4B6E-94F8-BB8EB088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6C6-706F-401B-BBFA-5BC2B9DF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12F-964A-4DD4-9574-3863DBC1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244-53BE-443F-93F2-A2D23E70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49E-90F7-42BE-B2DC-B864EFAD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07D-64CD-4897-B1D9-C8EFD8B9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A6B-F87E-425F-B73C-0CA560DC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5F7-277D-4488-81DB-372DFC64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EF0-6942-4756-96E9-D584628B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6EE-2E8B-4A7D-B16B-357BACE8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4B8-CAFA-49CE-839B-400C27D7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B71-8C09-4A5C-96B9-93389C2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5D99B-1EF0-44EE-8201-33EC5FCE79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Rejo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s the time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rch up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give the ground w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ides in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ead us into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hrist is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at work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purpose to perf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ilding a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power not of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ings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faith shall be made possi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giv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Hi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we are weak,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everything we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made of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treasure is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s ou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His opportun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hat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es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a mighty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8:34Z</dcterms:modified>
  <cp:revision>9</cp:revision>
  <dc:subject>The Source, song number 438</dc:subject>
  <dc:title>Rejoice!</dc:title>
</cp:coreProperties>
</file>