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8DF-CBDD-4FCB-9C61-286E8DA4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50F-E791-4CB1-836E-723DFA7E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F17-634B-49EB-B044-806ACB6B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AECF-5AAF-485D-B2FE-8789DDD5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531-441B-4AE4-AE49-A0F28DAB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473A-EDD5-4D6F-912D-C0A0080D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C05-E27A-4C61-9345-9B511F13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5C0-999D-4EA3-8757-6859F196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AB8-53BF-48A3-8A75-69A8C577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537-D495-4C0B-86BB-4A819FD3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2B7-BD48-44B1-BB4A-FCD1C5BE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EFA-486B-4830-B53A-90C9A961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02096-A961-4ECB-8E9E-D64616BF07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сли, чувства и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, силы и познань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Его меня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Иисусу, всё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пусть Ему лишь служ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ги пусть за Ним ид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и — на Него взир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о Нём уста по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душой взир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ирское не гляж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влёк меня люб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Ему принадле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великий дар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целый мир соз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л бедное твор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, всё Иисус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еня Своим наз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3:59Z</dcterms:modified>
  <cp:revision>12</cp:revision>
  <dc:subject>Slavic hymnal Гимны веры христиан, hymn 548</dc:subject>
  <dc:title>Всё Иисусу, всё Иисусу</dc:title>
</cp:coreProperties>
</file>