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F90-315E-46A2-968D-4CBF042A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4278-7BF9-4621-80DC-CDDA0F17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D613-CA9A-4AAB-AFE8-E3832D93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452C-6DB2-4478-834C-56189DBC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47F-AB1F-4FAB-9C85-012B4874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171-BDA8-42A6-866A-6CE4F74D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4977-E486-4115-AF9F-93956BE5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D40-E724-4939-967A-6813378D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845-BEF6-445B-8B33-159D76E8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8EF8-FFAE-4E4B-97A9-6FA1E943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5BD-A76E-4DFC-BE9B-8A51362C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88C-31D0-4124-A55F-46A596AC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16E50-8663-4C06-9D80-75A66FF27F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десь лишь странник, странству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одину я свою спе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расстанусь я с этим ми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 небесный к Отцу во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десь лишь стра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ойду я всю тень разв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оторой тяжко бороться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у я к блаженству б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й гибнет ещё во ть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тер веет, несутся т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грожают мне здесь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то лишь, что Бог могу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пребудет, как вер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я слышу вокруг стен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стонут во дни трев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м я больше ищу позн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оро я отдохнуть см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ёт и горе, минуют б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новый Иеруса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ою я в нём песнь поб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буду с Христ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лых одеждах ангелы встр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месте с ними пребудем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шись силой Его свят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славить и петь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1:42Z</dcterms:modified>
  <cp:revision>14</cp:revision>
  <dc:subject>Slavic hymnal Гимны веры христиан, hymn 659</dc:subject>
  <dc:title>Я здесь лишь странник</dc:title>
</cp:coreProperties>
</file>