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34A-94BD-4800-91E8-FCA8EEE1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C04-56EE-44A2-BE10-4F263350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BE3-8A5A-4F4E-AD23-152A5B14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37D-86E3-4774-8EBE-71F2419F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B64-3958-4936-9C7E-38C9162B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7B5D-6FF8-4DDD-9469-676FB784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4E3-1D8F-4322-AFEB-57ADCF9A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43D-DC40-4A27-9283-2EBC4F11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EA3-3A4E-4D4A-9787-5F0F4FF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23D-745B-4ACB-9C15-FA7E6C2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398-FFE6-4E07-875B-AB51171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852-FCAF-48DD-902F-A5E22BB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343E6-903F-4C7E-B785-1A8D6E0B04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I belo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how me all of the things that are worth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at I thought were so valuable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ll I Want Is to Know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I want is to know You, Jes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d the power that raised You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Help me forget all the things that I’ve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Set my heart on what lies a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lovely, nothing is as worth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Nothing is as wonderful as knowing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22:38Z</dcterms:modified>
  <cp:revision>11</cp:revision>
  <dc:subject>The Source 2, song number 619</dc:subject>
  <dc:title>All I Want Is to Know You, Jesus (Nothing Is As Wonderful)</dc:title>
</cp:coreProperties>
</file>