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5F62-2BC0-4167-85D7-CF98C399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B73-64B0-48EF-8689-E9BC4852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A80-F730-41AC-B294-80FC43F6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B95-A2E9-439B-A915-DC3DF39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F9A-E268-4B00-94A9-8C860DA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DFF-2879-4819-80BE-E28B888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D2AB-E550-4DE3-ACF4-FB8FEC4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AA0-22C0-4B23-B83C-98C8AA60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F02-A443-4551-B017-9E769F75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1AF-752E-421D-9562-E670CD5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6E6-04FD-48D8-942F-81148395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2D2-2EC5-4999-A436-C4B676F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3C077-F345-4165-8812-FDF9F70CDA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3:45Z</dcterms:modified>
  <cp:revision>12</cp:revision>
  <dc:subject>Slavic hymnal Гимны веры христиан, hymn 803</dc:subject>
  <dc:title>Я не забуду детских лет</dc:title>
</cp:coreProperties>
</file>