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850-4B86-4DDB-8ED1-731AFA67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C49-C56E-489C-BC2B-6A0171D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65C-5725-457B-A9F8-D50100E9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BB0-F110-462A-A154-87A71FF4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25C0-47B4-4A13-BB63-05736E5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0EA-9BB1-4131-AF9B-305BE231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6D9-925A-4E1C-B11E-4282528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6BE-B387-492E-8AEA-A70FDD2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2D9-FFE6-4B48-9DE9-F5FA4AF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0F5-58FF-4364-BD61-71684CA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B83-8F02-43E7-BF76-8BA92BA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25D-26EF-4874-B938-EAD8ED9E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7EBA-95BC-4ED5-8275-4DE2C939F0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Господ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ы не слыши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! Спасител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зачем ушёл вда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, заблудший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ждающий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ты на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скорей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любовь 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о,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Господь от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дёт ― тебя всё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гол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Его зв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зов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у встречу с Христом Ии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ы твои и мольбу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ьбу, и моль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еты твои и моль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18Z</dcterms:modified>
  <cp:revision>13</cp:revision>
  <dc:subject>Slavic hymnal Гимны веры христиан, hymn 413</dc:subject>
  <dc:title>Сын мой, зачем ушёл вдаль?</dc:title>
</cp:coreProperties>
</file>