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D7C-DBB3-4FB5-A66E-A5CEAEB3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C9B-F3D1-4187-AA9E-02D7F9E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6FF7-89F1-4B27-B4C1-F98E76FC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DEF-C93A-4E1D-891B-948969AB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52C-6DB3-4D0A-919D-CE46E13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DEC-CC7B-4206-971A-6C06AC8F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A0C-14C6-4A6E-86B5-376C8EF3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112-54A5-4093-8F81-74FCA45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7F2-64B9-4D25-9336-3A4113EC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5A8-D04D-473D-93F0-D87B454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397-2F37-469A-AEBB-B5425E6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AD3-C1C2-42E4-8D02-056B2F1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F809B-A192-4EC6-AE71-8058AB983E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ing for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крепляйся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апостола так учит 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old thy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battling for the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hou s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more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оды ли по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пламя попа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пустит Он, чтоб верный уп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lead you safely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hickest of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conquer in th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ствий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аркой битве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 имя — нам победы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urning from the 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f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я битвы не пытайся убе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surely by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battle for the r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er of His m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всюду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жет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егда мы будем торжеств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 for the r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o vict’ry at the King’s comma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стой и стрем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Божью видеть пре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honour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riumph of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rength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ly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Господ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правды торж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жьей всегда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e ye strong i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 of His m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promises shall nev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крепляйся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уществом Его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крепче вечных ск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6Z</dcterms:modified>
  <cp:revision>13</cp:revision>
  <dc:subject>Slavic hymnal Гимны веры христиан, hymn 501</dc:subject>
  <dc:title>Be Ye Strong in the Lord / Укрепляйся Христом</dc:title>
</cp:coreProperties>
</file>