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1E7-8E95-45E2-B4C9-F0B6B27E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1AF2-CB33-42CD-AC44-424C276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591-FA4E-4A53-B7D0-D81764A2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861-945D-4F70-AD86-41645B87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A01-527B-4769-BEAB-F0D6629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CCF-CCED-475C-8D57-84DF7C04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964-C287-48C5-8BFB-59B9056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CB8-4192-4593-B8BD-2E6F9BCD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B2A-3892-400C-A3A7-AE54AC39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138-0951-45C6-A46A-7C9364A2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680-6202-4B2A-BD49-C2DB3451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CFB-C963-4890-8F28-73A890A0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E7D1-5400-46AE-8A7F-C4E0D3348C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t with th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in Him al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d o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святости стрем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пребы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мол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лию чит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friends with God’s child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those who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etting in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essing t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будь со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дер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нь забот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служ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rushes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d much time in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йдёт, как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а держ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й лишь за 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Him thou sha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friends in thy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keness shall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лик и чу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и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ют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Him be thy Gu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un not befor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ver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 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не тороп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есту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in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follow th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oking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rust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и в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й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уская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im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calm in thy sou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hought and each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contro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ятости стреми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ым будь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мири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led by His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ountain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oon shalt be f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ervi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одимый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вностью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дёшь ты к слу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го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8:08Z</dcterms:modified>
  <cp:revision>12</cp:revision>
  <dc:subject>Slavic hymnal Гимны веры христиан, hymn 858</dc:subject>
  <dc:title>Take Time to Be Holy / К святости стремися</dc:title>
</cp:coreProperties>
</file>