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A1EF-B6FC-41FC-8340-04842897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AEA-99B9-4668-8E5B-9930F43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13A-E3F3-4280-A0C9-85616F99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A80-6290-4053-A70D-3FDE5854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1A5-E14B-40A7-8A5D-D4A7A1B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87D-F09F-4DB8-B06B-DB218A95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EB4-D809-42FA-9761-DA8DD317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BF4-E705-49A9-B135-84B80410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1EB-5796-4B36-ACED-96D152B0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377-B486-4D37-8611-33231F95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ABF-F495-4BB7-9C30-B03DFCA1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F86-553B-4194-A0B6-6B8C3390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F1279-DFB9-41AB-BFE3-5D6212FE0B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я скорблю и грущу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зей нигде для меня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где ни в ком нет отрады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зде, кругом скорби лишь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ночной вспомню жизнь мо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ю рекой часто слёзы 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, трудно жить без счастл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горя пить только в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я скорб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злых людей, нет любви 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моей воздают мне з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редь них друзей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ять порой плачу я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яркие в небесах гор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на глазах блес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 от той тоски изба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 же мне найти утеш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понять, о чём плач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один лишь Бог, Он поймё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ный, скорбный час я п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печаль расскажу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клонится низко на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горькие мне отрёт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близи Него отдохн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руди Его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7:27Z</dcterms:modified>
  <cp:revision>12</cp:revision>
  <dc:subject>Slavic hymnal Гимны веры христиан, hymn 505</dc:subject>
  <dc:title>Часто я скорблю и грущу душой</dc:title>
</cp:coreProperties>
</file>