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B6C-4ACD-4D16-B7DB-3CFEB66D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4A3-01FA-44DB-9E0D-4FEB2E55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916-8510-4854-9F4B-02858E7F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39E-CE57-4760-B2F7-C67DEE74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F9D-4322-45A8-9A32-2C49DF1D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E88-D07C-4718-AF3E-9842CB90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826-B552-4F34-BF5E-D1D3302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EE8-9A40-47D4-89F1-F266B656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238-95BE-4DDA-A8C6-2F12DEAF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FA2-7449-4257-9C48-F2036A4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B70-6F62-4A9B-BDF9-C4CC3706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5E4-3A61-403C-BC56-3B271AE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EC66B-D347-4F17-B2D8-41D7F571A8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joyful, we ad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glory, Lord of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unfold like flow’rs before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ing to the su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прославля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славы и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Ним сердце от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: милость нам я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lt the clouds of sin and sa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ive the dark of doubt a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r of immortal gla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us with the light of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гони неверья ту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омнений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нас к жизни лучш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дай сердцу и у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y works with joy surround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nd heaven reflect Thy r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rs and angels sing around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ntre of unbroke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мощь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ы с ангелами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ечному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ld and forest, vale and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ery meadow, flashing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ting bird and flowing f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us to rejoice in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г и поле, лес и г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 потоки и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нье птичек, туч узор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ворце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tals join the mighty chor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the Morning Stars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 Love is reigning o’e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ther Love binds man to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есню подхват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рассветом начала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 — наш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олюбье вяже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singing, march we on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ctors in the midst of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 music lifts us sun-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triumph song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ужным пеньем выступ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ители над з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радость возвещ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день за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3Z</dcterms:modified>
  <cp:revision>12</cp:revision>
  <dc:subject>Slavic hymnal Гимны веры христиан, hymn 610</dc:subject>
  <dc:title>Joyful, Joyful, We Adore Thee / С ликованьем прославляем</dc:title>
</cp:coreProperties>
</file>