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130-97C3-4C33-A6A2-E2EA0FAD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159-4724-4D14-AB50-E1238BB1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8D9-E72C-497F-8D55-0ADCBBF5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6A0-7CBC-4EE8-A4D8-175B3EB4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641-2B9C-452D-B8E9-13957F2B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F18-E50B-4C72-BE57-3D261179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B11-E88D-4689-973C-44EA1484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EAA-1BD5-4730-B564-CC1176FA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B05-03C1-48E7-B016-83161A95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D3C-EEC8-490A-8F92-1E15D4EE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4E8-585A-4C35-925B-7F474B1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F8B-E232-4B9A-9418-D98D86B3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24756-3385-4B99-BD15-986B59F1EC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mmortal, invis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nly w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ght inaccessi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 from our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ссмертный, Незр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мертный, Незр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знаю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и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не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st blessed, most gl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mighty, victorio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name we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енный, С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авим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resting, unh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lent a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anting, nor wa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ulest in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постоя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ихий, как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ит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ходит в за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justice, lik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 soaring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louds, which are f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goodness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праведли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дивная 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, life Thou gi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oth great and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life Thou liv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ue life of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ага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ённых и ве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лаженству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blossom and flour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eaves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er and pe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aught chang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цвет, наша сл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епел и тл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янем и сох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без перем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Father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 Father of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angels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veiling their s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вечно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ный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ьский сл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raise we would r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elp us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only the splen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light hid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нас, Предв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на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м свете ходи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ва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6:27Z</dcterms:modified>
  <cp:revision>12</cp:revision>
  <dc:subject>Slavic hymnal Гимны веры христиан, hymn 878</dc:subject>
  <dc:title>Immortal, Invisible, God Only Wise / Бессмертный, Незримый</dc:title>
</cp:coreProperties>
</file>