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8B6-0BF6-40BE-8841-41DC0DF3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D3A-FA1D-4A1E-9FCC-355B7FAC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93A-E902-406A-BE2D-8293457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E24-EB0B-4E5C-9060-AA7F5F97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27C-D028-47DC-B97B-51CB4C60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22A-B4EC-4E87-9BC6-6E87E2AB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08F-6089-4380-AF13-7EDD12A6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FCF-8287-43E5-9FC4-66A0AC2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DA4-A429-48D1-A4F3-4BACCE79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CF47-7D10-450C-9B18-E88682AD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6B4-6D91-4EF7-90D5-924591D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08D-5DC0-4F41-AC87-16FD223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52617-A1EA-409C-8925-33EFE42302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49Z</dcterms:modified>
  <cp:revision>12</cp:revision>
  <dc:subject>Slavic hymnal Гимны веры христиан, hymn 811</dc:subject>
  <dc:title>Один ли Он был должен несть?</dc:title>
</cp:coreProperties>
</file>