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4FB-D339-45C2-8AC8-1532EBF7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026-14FE-467A-AB9E-1F0D3291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8EF-DAE5-4BB6-B4C4-B9DEAECD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364-854D-4A63-AE1A-9F567626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868-DE25-4D83-A1F9-40FD61CE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B613-D6B3-4B2B-BC8A-EED7DE7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B25-F7A1-448F-A0C9-880ED90A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F0E-1610-415E-ABAD-351400BC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DBA-CB2A-42B8-B631-AA492DF7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A93-0929-4915-89ED-BBAF24FF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0DF-939E-4585-8BE0-3C5A40A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AEC-A7FF-4F95-8197-2EB462E8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128D7-6278-4284-A302-7284B48E37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scued me, and picked m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iving hope of grace rev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life transformed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have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ing me, You healed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 from sin and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ught me life, You made me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have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Rescu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oved me before I kne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ew me for al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been created in Your image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bought me, and You sough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poured ou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creation in Your image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scued me, You rescu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57Z</dcterms:modified>
  <cp:revision>9</cp:revision>
  <dc:subject>The Source, song number 605</dc:subject>
  <dc:title>You Rescued Me</dc:title>
</cp:coreProperties>
</file>