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AD4-F409-4C66-A0D5-065DE623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65A-997F-456A-B5E9-0C682B8C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3BA-2A93-47CB-9427-0B2E9CDA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824-B573-435E-96B1-34BB5C66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699-020F-423A-B5C5-C18E434E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A71-1F64-48B7-BC5C-F125AF2E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E84-430C-4058-91C1-4234CAA5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D55-55D2-4BAF-870D-0DAB4A61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1A3-0C00-4067-8013-7ED259CE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5EB-DA2A-4389-B602-FE9233E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8AC-3761-4F98-836A-EEB3474D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8B0-45AE-4900-97E1-6A3B0EB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3C3E6-2920-4677-B58F-96B6BEE7443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зовёт нас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,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от любви незем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ьше и дальше влеч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удный Спаситель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даёт нам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аёт, нын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воё пред Иисусом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ет Он бремя з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 к Себе ждёт лю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Он ждёт, ныне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 свой Ему исповедай скор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отрада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ся чудный Спаситель за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в тиши, ныне в тиш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даёт Он тому, кого спас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ань и к Нему поспе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удны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грешников нын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4:56Z</dcterms:modified>
  <cp:revision>12</cp:revision>
  <dc:subject>Slavic hymnal Гимны веры христиан, hymn 401</dc:subject>
  <dc:title>Чудный Спаситель зовёт нас домой</dc:title>
</cp:coreProperties>
</file>