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C08-FF71-4710-9BBC-5809360C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F28-A28E-42E4-A762-4351748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90A-696A-40AD-A3C3-DFC43568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31B-5931-4E42-88B4-7F256301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B13-CBB1-4C4F-B611-186ED730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BE3-2C1B-42D5-8C79-5926514E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B46-65F6-40CD-8B1A-4006197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51E-6551-4784-A762-C88A93C7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434-CA8F-4230-9A1F-46A6719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946-1DA7-4879-949E-D32DCCC0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9A5-1B5F-4D06-AC72-47025E1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82C-340F-408D-8634-162337B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516FA-9849-4B2F-98A8-BB5073CC0A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home by the way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other way but th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ne’er get sight of the gate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way of the cross I mi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стный путь пред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ед мной, я 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пути мне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жемчужных врат не увидит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пути устрашится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needs go on in the blood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inkled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th that the Saviour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ever climb to the heights subl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oul is at home with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олжно идти по страданий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м мой Спаситель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вперёд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видеть Его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I bid farewell to the way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alk in it never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y Lord says, “Come,” and I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waits at the open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ый путь мирской я отв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ен он мне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: «приди!», я спешу вой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ью открыл мне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sweet to know as I onwar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y of the cross lead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всех скорбях утешаюсь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ый путь приведёт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3:08Z</dcterms:modified>
  <cp:revision>12</cp:revision>
  <dc:subject>Slavic hymnal Гимны веры христиан, hymn 843</dc:subject>
  <dc:title>The Way of the Cross Leads Home / Крестный путь пред мной</dc:title>
</cp:coreProperties>
</file>