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265E-7723-4B0F-A946-52AF2EE29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4B08-3398-4CE8-BE07-3884C406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A318-4E5C-4DB3-B157-3C2866D6C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9B34-2E18-44E7-BEED-1C0D24CCA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0025-88D0-4D00-921D-3755A6A5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547D-11B2-4CD3-ADBF-E9380E58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ADEF-A766-4754-82E0-D74AA6C8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3119-6984-4240-92F3-D76E7B40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AC51-0C62-477A-8E00-4C9C5608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26EB-5455-4245-9A29-FF16D64C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76A2-999C-46C9-8C54-362A8389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F907-6B44-4EF7-BE22-2E748FC2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F03FE-5BCF-4645-A00D-5A31FE0322C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would I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f You had not been by my s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could I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meet the morning of the 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tender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ways calling from behi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imes I could not se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though You were close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21   Where Would I B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ord, You are good, You are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mercy forever endur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You are good, You are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mercy forever end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would I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f You had not been by my s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could I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meet the morning of the 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tender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ways calling from behi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imes I could not se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though You were close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ord, You are good, You are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mercy forever endur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You are good, You are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mercy forever end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lp me to see Your loving kindne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lp me to see You as You 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lp me to see Your loving kindne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lp me to see You as You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You really, really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would I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f You had not been by my s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could I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meet the morning of the 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tender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ways calling from behi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t times I could not se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though You were close b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ord, You are good, You are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mercy forever endur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You are good, You are g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r mercy forever end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3:28Z</dcterms:modified>
  <cp:revision>12</cp:revision>
  <dc:subject>The Source 3, song number 1621</dc:subject>
  <dc:title>Where Would I Be? (Lord, You Are Good)</dc:title>
</cp:coreProperties>
</file>