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32C7-8FC6-4697-90A6-9513A031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723-D690-4AC5-870C-A5D4E4A6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929-D8D1-40C2-9B7C-94FD4B39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5A7-2FD4-426E-9782-8744E44B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52D-3AF7-44CE-B3FA-E20F22ED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5AF-BF89-4F97-9B40-1BD4839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3FB-C440-4A6F-BC67-893925C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17A-C9DA-4835-BBE9-C67372C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28D-2EE2-4CD8-9823-4E7996D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9AA-B822-4EFE-8F70-B3434B3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D93-9F95-474B-AFDC-AAB5CF00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607-F04F-424C-A0B5-62A89ADE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43926-A5F8-4C7F-B9D2-CBC1B2870F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, полно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коленье моло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т жертвенно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репко спит оно досе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едко кто на труд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й плетётся еле-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и в жертву не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лышу слово огне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ужно нашей молодё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ться Богу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тогда глаго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ут её святы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народ тогда воспря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гому Пастырю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Божие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мира вкусят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меня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, горящим с алт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пойду благовест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, любовию г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ртвы кровно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― отрад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ть хочу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мой, пошли ог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я, огня Святого Д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й помощ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чуткого дай слу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ышать глас Твои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пойду без колеб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у Тебя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нужно, на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я радостно от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9:04Z</dcterms:modified>
  <cp:revision>12</cp:revision>
  <dc:subject>Slavic hymnal Гимны веры христиан, hymn 464</dc:subject>
  <dc:title>Я слышу слово огневое</dc:title>
</cp:coreProperties>
</file>