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4A1-DF8A-4518-A712-83BC2984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562-9E48-4022-826E-E3C9DA8C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D52-67F2-43F1-9880-E87AD3CD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3720-71C2-49FC-8A4E-F2432C01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9C4-B344-4BE1-A2C0-051CD410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F29-2C8F-429A-9FC2-67F88038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35B-5CF2-4DE9-97AB-798AF27D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DCE-DFF6-4714-871B-792B443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F0E-3440-4CEF-8249-D778B3D0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89E-CC0B-43B9-B2C3-9CD7A86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F1C-76CC-4225-A5D4-1E1FEC8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3F6-6D62-466D-8D3E-D54E176C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EE942-F883-4E9A-B2D0-CE64062AF8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upon life’s bi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are discourag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ing all is lo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 бурях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дру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чами уны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мрач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ney cannot bu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ewar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your ho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ую нужду вос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а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amid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ther great or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be discourag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ove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ись же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ю Его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побежд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will att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p and comfort gi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journey’s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мяти все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йдёшь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н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сколько мил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ever burd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load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es the cross seem he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called to b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ли, 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кое л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ягот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many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doubt will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will b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ay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как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есёшь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шь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шь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what God hath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и Господни вспомин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их, до единой, повтор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unt your bles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them one by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t will surpris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e Lord hath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щедро надел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ивиться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 look at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ir lands and g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that Christ has promise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ealth unt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шь ли бога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ми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есть сокров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3Z</dcterms:modified>
  <cp:revision>13</cp:revision>
  <dc:subject>Slavic hymnal Гимны веры христиан, hymn 718</dc:subject>
  <dc:title>Count Your Blessings / Если в бурях жизни</dc:title>
</cp:coreProperties>
</file>