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D28-82CF-4FD1-9D18-90A5B7CA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DE9-E645-4C00-8AE6-38A06086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507-B0D8-4545-BCC6-EF2B0D45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0C2-900B-4DB1-B5E4-281A03A3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6BF-BD75-4B91-A2A4-BB0F2E61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0A0-6014-4A99-9E4C-D279473E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862-7779-43F8-A2FD-8F529560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2EA-8F1D-4C22-ACA2-3799A619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193-45E3-4898-B7DE-FF43A4E5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D18-91C4-469C-9FCC-5F3AE211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3A41-E89C-4EF6-9C1D-7C96344A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424-5BDD-45B0-A309-FD072034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E122D-5E18-4B59-927E-D82251570B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e i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4   He is the King of 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19Z</dcterms:modified>
  <cp:revision>11</cp:revision>
  <dc:subject>The Source 3, song number 1244</dc:subject>
  <dc:title>He is the King of Kings</dc:title>
</cp:coreProperties>
</file>