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993-3B8F-4984-857A-9398886B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F68-EB05-471A-9988-49ACAB3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713-A768-40CA-BDBC-ED9F957E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8F9-6134-4A7F-933C-7BB6BCD9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16C-8A3D-4808-A884-4A830B9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16D-6968-41D3-93FE-21CBDB02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C89-2ED0-44F7-8F19-12C6001D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C7A-DB14-4EC2-8568-AF6CE608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F71-190E-41DA-9917-F4532C20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ACE-3F70-4845-8FFF-9AEDFB6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349-8C8D-4C21-B3E3-4304D51A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3CC-E1E5-490F-8C0E-EBD52870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AACA0-7F62-45B4-94C3-8A18D2A056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дёт в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проведёт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Иор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ся,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твёрд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тебе Бог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в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Господь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мы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уж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х уничт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уж путь на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ратья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восклон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ожи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Он спас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С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мёрт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жи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о уви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лаз не 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м про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зум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игнем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др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мём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лишь войдёт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здес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не сты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жизни, в борьбе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ёкс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чёл всё за сор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45Z</dcterms:modified>
  <cp:revision>13</cp:revision>
  <dc:subject>Slavic hymnal Гимны веры христиан, hymn 678</dc:subject>
  <dc:title>Уж скоро Господь нас введёт в Ханаан</dc:title>
</cp:coreProperties>
</file>