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BFC-29BC-4F9A-A222-7351842E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85D-EECA-449C-AE54-5212E138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B2D-D6A8-4D89-A3DA-61A1A4DE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E27-A8F9-489B-8943-427DFEE1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046-E063-4D4F-8232-0B7EADF2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D81-EA27-40FB-8042-D487E995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23F-B4E4-4241-9DC7-31F52011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30E-051B-4F21-8098-BF418DF0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F71-19EF-4200-A978-7F22B852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346-6F80-4B5A-B81D-5220C865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E9E-A44F-4957-908D-FA4F358A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212-008D-4A9A-88B5-6B067EB9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C9A4E-1604-4DBB-A6FD-DDD721752C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, спі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, спі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8   Коли дух Господні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,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,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юся я як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х Господній наповняє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, я п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, я п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лачу як цар Да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35Z</dcterms:modified>
  <cp:revision>12</cp:revision>
  <dc:subject>Slavic hymnal Гимны веры христиан, Ukrainian hymn 108</dc:subject>
  <dc:title>Коли дух Господній наповняє мене</dc:title>
</cp:coreProperties>
</file>