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1565-DC04-4789-8997-74718F789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DE11-B47E-4348-A5B7-8280ACC9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C2C1-6A68-47CC-BCD4-025FB6FF7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870E-59FD-4884-BD58-6188DE709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1B3B-D39F-4B5A-8971-CEEC9B9B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6465-4F1A-4179-9E49-8EEF5BBF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76F7-BD6A-4270-885E-A182A68F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08FC-1F7F-435A-97AA-041D5860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907C-E53B-4FE5-ABD3-E3848398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DDA0-4905-404F-B400-E5C0DBD6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BD23-E085-417C-8D32-32B307D3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BB4F-AF4B-4DAA-A0B6-72192842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65B11-0EA6-42D3-BADC-61E74CBCBA2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, любви и силы пол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бес огонь Твой нисп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бы познал весь мир грехов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ы — Царь неба и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ападе и на восто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онь Твой видим здесь и т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битых, жалких и далёк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ечёшь к Спасителя но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1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Дух, любви и силы пол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жги, зажги святое пла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, где видим грех и з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бы Христа святое и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жизнь и радость принес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христианские на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ъедини, исправь, очи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унылый да уви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их рабах иную 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счерпаемый источ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х и святых да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к огня, поток предве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в сердца Твоих ра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жги суетные стрем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храм живой из нас созд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ламя веры и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грело наш остывший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и Твой свет, огонь, сия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верным новых сил зал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веди людей к познан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их Спаситель, Царь и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44:59Z</dcterms:modified>
  <cp:revision>12</cp:revision>
  <dc:subject>Slavic hymnal Гимны веры христиан, hymn 314</dc:subject>
  <dc:title>О Дух, любви и силы полный</dc:title>
</cp:coreProperties>
</file>