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73A-046F-42E2-A0D7-3CB2BBF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E0D-555B-402E-968E-CBE02FB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920-2603-4AD8-8014-A88E26A7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2D5-DB1E-4C92-8E75-EEF25660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2D3-8BB0-402A-9132-57B50E51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2E5-910C-452F-B979-6416D67C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71D-2009-4BC8-B7FC-5D9B4280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DC4-9354-47DD-84C3-9EDD5DFA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AD7-470B-4874-AAB0-2E900AA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F79-7DE5-46CE-884F-0AEBD29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8E3-7452-470D-B9BF-D38BEC2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0E2-9168-4E52-84CF-D8A5CFD5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5B450-3536-42DF-8710-7839E682D6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 fields are tee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waves of ripened gr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and near their gold is gle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the sunny slope and 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агоценнейшим пл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нивы золот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литые зер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forth with morn’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in the noontide’s gl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un’s last rays are glea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them gather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же их вперёд с рас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дневную ж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знойным л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жить Христу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, whom thy Lord is s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now the sheaves of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ward then at evening w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come with joy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ля Бога рад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у с поля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 нивы возврат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объ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of harvest, send forth reap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 us, Lord, to Thee we c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them now the sheaves to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the harvest time pass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4:27Z</dcterms:modified>
  <cp:revision>13</cp:revision>
  <dc:subject>Slavic hymnal Гимны веры христиан, hymn 784</dc:subject>
  <dc:title>Far and Near the Fields Are Teeming / Здесь и там поля белеют</dc:title>
</cp:coreProperties>
</file>