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5B6-0019-41DD-AB3A-4EFADAED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408-A0D9-48CE-911B-3839E0FD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698-CC28-49F4-BB80-8BB614FF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B0D-8DDA-4156-9755-A20669C4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F9D-2DBE-4914-B64A-0A73220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B04-A8BD-4E82-9AC0-35FA125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D97-4172-4412-930D-CE6C7A62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198-A5F1-4DB9-A1ED-D5DF199F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C25-3376-46DB-B515-BB2BD31E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D24-32C5-4218-9E62-437603BF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BE3-B435-463F-8CCE-0F2DB52E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421-B7A7-4694-88FB-C81C7F83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30EBA-2A1D-48F5-90D4-FED88F38476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скиталец, вдали на чужби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рько тебе, ты один, как в пусты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родины голос Иисуса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Бедный скита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усталый, как отдыха жа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истомился, и стонет, и стражд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ишь ли голос с небес: «У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больное утешить Он мож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твои исцелить все Он хо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не противься, Он громче зовёт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и горе земное мину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Он в жизни и смерти дар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вечный манит тебя, о, 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ли прид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27Z</dcterms:modified>
  <cp:revision>12</cp:revision>
  <dc:subject>Slavic hymnal Гимны веры христиан, hymn 403</dc:subject>
  <dc:title>Бедный скиталец</dc:title>
</cp:coreProperties>
</file>