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C5F-3503-47F6-B941-711B0D64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04C-72E7-4F9A-BC5E-9D415BF9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72B-0FBF-43AC-847E-A307E8C9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325-742B-4CCD-8F5F-32FA038C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415-1733-4A59-8F8E-6B8AE3F6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9B5F-2D4A-4720-B13F-2DC4330F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088-BCFC-49A3-8456-FF202398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1CE-41E8-4859-A696-6F0DCFE2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FDEE-6FC5-478A-86F9-0DD60233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35F-2769-48DE-9BAA-C9A0FFE4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1B6-7D8A-4954-A44D-6901B6A6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EC1-7970-4EBF-8016-FBECE537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D73C7-93C8-4AF6-981E-7C130A3627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ock of Ages, cleft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me hide myself in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the water and the blo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om Thy wounded side which flow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e of sin the double c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ave from wrath and make me p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ная с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не спасение даё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греха, порока,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 ней вижу свой опл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 скалы Христа струё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ьётся ток воды жи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 the labour of my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an fulfil Thy law’s deman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uld my zeal no respite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Could my tears forever f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for sin could not at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 must save, and Thou al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не мог соблюсть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был к смерти осуждё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рех преследовал ме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 жёг сильней ог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я мог найти по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шь в скале Христа свя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thing in my hand I b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mply to the cross I cl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aked, come to Thee for dr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lpless, look to Thee for gra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ul, I to the fountain fl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h me, Saviour, or I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ришёл к Тебе, мой Бо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был наг и Ты од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был беден, Ты в у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л мне дивный Твой черто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омыл меня в кров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окрыт в скале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I draw this fleeting brea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my eyes shall close in dea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ile I rise to worlds unknow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behold Thee on Thy thro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ock of Ages, cleft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et me hide myself in Th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ный Божий 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градил меня от бе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реди горя и невз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силу пода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кого я не страшу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век со мной — скала Иисус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7Z</dcterms:modified>
  <cp:revision>14</cp:revision>
  <dc:subject>Slavic hymnal Гимны веры христиан, hymn 637</dc:subject>
  <dc:title>Rock of Ages / Благодатная скала</dc:title>
</cp:coreProperties>
</file>