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6DA-807D-4F4D-95A0-29BE6704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4F3-FAA8-44E2-B659-87092B8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C4E-4DB9-4086-A19A-6D270163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86F-EA87-4FB8-A51D-B63155C3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E56-C740-4948-9A83-0FCC591A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F30-DE11-48D7-BDB6-6CD1E4B3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37C-22AD-42F5-8125-EA0F677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E06-CF7E-4668-BC8D-F26CAD6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3A4-2819-4879-A5E8-D1C04900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0F7-7563-4658-8AB3-35E2D4BB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662-5DFA-45B7-883F-F1620FA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260-7AA8-4664-B26D-83937A8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988C3-E743-4DB9-A36C-C820559A52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бый скажет: я сил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weak say “I am strong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 “I am rich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blind say “I can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what the Lord has done in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т: «вижу!» кто был слеп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это сделал Бог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river I will w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my sins are wash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heavens mercy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Saviour’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ы жизни я вхо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мыл грехи мо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и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явил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ise from waters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the saving arm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ing salvation so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 has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усь я из глу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и вечного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что в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вой жизни я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Lamb that was s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sanna, hosan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died and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Иисус,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анна! осан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Ты распят, но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3T09:31:02Z</dcterms:modified>
  <cp:revision>14</cp:revision>
  <dc:subject>The Source 2, song number 862 in Russian</dc:subject>
  <dc:title>Слабый скажет: «я силён» / Let the Weak Say “I Am Strong” (What the Lord Has Done in Me)</dc:title>
</cp:coreProperties>
</file>