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0D7-36BE-48A7-B993-B6A946C3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433-B2CD-425E-9576-A39FD6BA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82A-B31F-4AB3-8A1F-AB936F21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07D-FB78-41DB-AD36-5E6293BC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9C6-8E1D-4BE9-B8BE-A216B6D7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44C-F6A6-4F84-BF27-5D0C91D3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E96-7172-476C-8821-7A4B7E4D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97A-8221-4C2A-B2D3-25B1570E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56A-1E8B-4E0B-A8C5-267B31E5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B78-E103-42CD-872D-91AA9E71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CD2-100E-4B40-A5E8-E4B99876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F78-EA65-4CFE-A225-BC7CD018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E7BEF-ED35-45C0-9917-F45021F19E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me to the garden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dew is still on the ros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voice I hear, falling o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 of God discl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я пришёл утром в с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я пришёл утром в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шина. День будет пог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ачалом дня свет проник в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ся мне Сын Бож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ells me I am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joy we share as we tarry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has ever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6012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peaks, and the sound of His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o sweet, the birds hush their s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elody that He gav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my heart is r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ворит Он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ают песни зем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удесный гимн о Его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мне и в пусты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ells me I am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joy we share as we tarry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has ever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d stay in the garden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night around me be f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e bids me go; through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oice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to me is cal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остаться в с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ит покой безмят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труду зовёт и чрез шум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ен голос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tells me I am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joy we share as we tarry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other has ever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перь со мной, говорит с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ывает меня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сторгов тех, что даёт О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гу передать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5:55Z</dcterms:modified>
  <cp:revision>12</cp:revision>
  <dc:subject>Slavic hymnal Гимны веры христиан, hymn 848</dc:subject>
  <dc:title>In the Garden (I Come to the Garden Alone) / Один я пришёл утром в сад</dc:title>
</cp:coreProperties>
</file>