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BCE-2501-4CD6-8D0E-A577FF47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1E9-60FC-4F77-91EA-3392450A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383-C43F-4B08-8A19-22D100F4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3B6-3495-4765-91E0-579B102C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2D7-E1E8-4C3A-8F09-6C1774C2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3091-D671-43B1-AD76-8A13D71A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E3F-EE7C-4427-B9E8-84C9077D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F64-5108-4EE3-B16F-C7257A82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CBA-5292-4CE0-B586-622AB7D1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7B5-15B5-4C30-B273-2D236350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4A2-9136-495C-88BE-C7466E72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710-B8C2-4021-A838-F2DD83D7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89D18-5568-4448-9EB8-8281294C27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буря жизни сто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яют мн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даже всё пото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ит рука Тв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оть и буря жизни сто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раг меня пу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елью гроз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меня спас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зла меня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ли мне Он испыт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 благо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меня страд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грозят мне горе, б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моя ск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ржу я с Ним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олками тьмы 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7:09Z</dcterms:modified>
  <cp:revision>12</cp:revision>
  <dc:subject>Slavic hymnal Гимны веры христиан, hymn 619</dc:subject>
  <dc:title>Хоть и буря жизни стонет</dc:title>
</cp:coreProperties>
</file>