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4782A-DE6A-4CBC-8DF9-6C6363FEC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D46DE-8AFF-4800-A879-DAB0B642E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10E07-AEF7-46FB-A41E-BEF71A6ED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AD1DD-296D-4628-A50A-91F88ECE5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5C9B6-2B8C-45DC-8F23-8217B2A8C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99224-4C0E-43F6-93CC-E2717498A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2A3B3-8519-4252-BF41-D7DD0D826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405A9-800B-43DE-A753-958F85BDF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B209A-BCBD-4605-8D60-2CF3E37BA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9CF1E-054A-4594-A890-A4EC6FC9D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953AE-E75D-4C49-A5C9-E4C7E1017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9B21C-1E56-46C3-8F4F-9F6CDA9F2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4825DE-1714-4B6F-94F6-8F9AF94A4E8B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и, приди, Еммануи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 от власти тёмных си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еволе страждущий народ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терпит, молится и ж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куй! ликуй! Еммануи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ёт народ от вражьих с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80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Приди, приди, Еммануил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и, Господь, как на Сина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оё величье покаж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вою нам волю открыва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ердцах и мыслях напиш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куй! ликуй! Еммануи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ёт народ от вражьих с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и, Жезл Иессея, внов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свободи греха рабо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 моря зла спаси люд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всех Дух истины изле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куй! ликуй! Еммануи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ёт народ от вражьих с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и, Звезда, обрадуй на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близок, близок славный час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бавь от всяких бурь и бед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ьму прогони, пошли Твой св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куй! ликуй! Еммануи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ёт народ от вражьих с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и, Давида Ключ свят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м двери в Царствие откро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враг нам смертью не гроз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и, приди, Еммануи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куй! ликуй! Еммануи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ёт народ от вражьих с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6T03:54:07Z</dcterms:modified>
  <cp:revision>12</cp:revision>
  <dc:subject>Slavic hymnal Гимны веры христиан, hymn 880</dc:subject>
  <dc:title>Приди, приди, Еммануил!</dc:title>
</cp:coreProperties>
</file>