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1DE-268F-4BC1-94D8-7FF00651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64C-6C28-40ED-A549-8F91A297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CD0-EB38-422F-BA7B-32DEB5A2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F98-9A8C-4BAC-9439-267A4AC4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87B-A777-4B25-9A9F-82EAAFEA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18C-213E-43CA-87CD-4B3E829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EF9-EE9A-4588-856B-AF39A0FB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E1F-66E3-48EC-9C35-1074446B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8C8-E67E-427A-ACE6-648EF353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AFA-6813-428B-A254-A8D2679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F71-8120-4B5D-8810-D6B1A02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5CC-31F4-4A19-9198-1444BAB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6708F-8728-4BCD-9503-4DD2D19DDD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from the realm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 your flight o’er all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sang creation’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proclaim Messiah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 in the fields ab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o’er your flocks by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th man is now resi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nder shines the infan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ges, leave your contemp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er visions beam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the great Desire of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have seen His natal s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before the altar b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long in hope an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ddenly the Lord, desc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temple sha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orship, come and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ship Christ, the newborn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54Z</dcterms:modified>
  <cp:revision>15</cp:revision>
  <dc:subject>Slavic hymnal Гимны веры христиан, hymn 228</dc:subject>
  <dc:title>Angels, from the Realms of Glory / Божьи ангелы, летите</dc:title>
</cp:coreProperties>
</file>