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4225-7192-45EE-9A55-4CC2D70BE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7590-779B-45A7-9E2E-9B714DDD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1A12-9FB1-46FA-A62D-4A008C717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3153-EB80-42D8-8A5D-0E3AB9083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6D03-35AA-438F-BD51-0910722D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1F6C-7C44-412E-8348-9C356BF1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FF18-2E60-4733-82D4-994ACD2D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A82F-D9C1-48A9-959A-CAF35599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4FFA-9BC1-49B8-BAB7-D43FAB3F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D3EC-A347-43E5-8ABF-E29E64E0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E52E-80C2-4145-8369-24739D81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6FD9-CECE-4959-BB0F-516CE8A0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3AC987-E4A4-482E-AB27-06FD7E789A0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нявши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во грехах умир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и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лагает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лишь Его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0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нявши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Христе жизнь и св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очет быть другом тв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охра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ь житейских бе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держивать Духом Свят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нявши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приход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традать за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грешных с Отцом прими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умер за все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кровь силь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и и пороки омы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нявши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ушай, о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вергни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ство для всех только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ься 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пребудь всегда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Он введёт в чудны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нявши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ты пой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4:15Z</dcterms:modified>
  <cp:revision>12</cp:revision>
  <dc:subject>Slavic hymnal Гимны веры христиан, hymn 404</dc:subject>
  <dc:title>Куда ты пойдёшь, не принявши Христа?</dc:title>
</cp:coreProperties>
</file>