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9C92-F4C6-4AC6-BD53-50B418F86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3082-45F3-4EC8-8C48-F6439773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1DF6-9CF2-4E52-8889-D3FD9ABF2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2036-9D47-4CEF-B3CE-129285A5F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D6DC-9A68-4838-ACC9-106EA583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82FB-0695-4356-9E72-730201B9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C8BB-681B-44B5-86BC-8443556A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B29D-5E19-4174-8DFF-07DF877C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DEA3-0051-486F-BEBE-27E57F1E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9A5A-22B5-4FF6-932B-0627DC09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F362-6DA0-4353-A6B6-FB7B1B73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1861-CAFA-4BA9-B586-E5561832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0B289-5C0A-4C6D-AB64-005ACD64CE7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God’s righteousness revea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on of Man, the Son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kingdom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redemption’s sacrif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glorified, now justi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kingdom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7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Jesus, God’s Righteous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is kingdom will know no 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ts glory shall know no bou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majesty and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is kingdom’s King has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is kingdom’s reig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is kingdom’s ru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is kingdom’s power and author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God’s righteousness revea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the expression of God’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grace of God, the word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vealed to 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God’s holiness display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glorified, now justi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kingdom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is kingdom will know no 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ts glory shall know no bou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majesty and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is kingdom’s King has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is kingdom’s reig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is kingdom’s ru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is kingdom’s power and author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God’s righteousness revea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6:37Z</dcterms:modified>
  <cp:revision>10</cp:revision>
  <dc:subject>The Source, song number 278</dc:subject>
  <dc:title>Jesus, God’s Righteousness Revealed (This Kingdom)</dc:title>
</cp:coreProperties>
</file>