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CC5-D32F-49AC-A2C7-F19E9BB2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4D9-AFFD-4C85-8548-86DC7C69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64F-2F65-4714-81A6-B9E6DE05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A48-E1C9-4963-89F6-47954CB0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109-C8B0-4713-82BF-F86A0768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B76-4238-4C44-A05D-A9154119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FF4-DB02-4D0E-9BA4-30CA327C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A26-39A6-48C2-BFAC-FB7881C1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A42-46E4-4546-A7A6-555B9989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3C1-6730-44B4-9900-D01689E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FC4-B9F2-459D-9A0A-42593274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77B-39CE-4FCB-8256-B6C248E9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1A3DB-3CC9-433C-ADDB-FDA54B04018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e voice of Jesu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go and work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s are ripe and harvests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bear the sheaves aw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те ли Божий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 Божий г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ющий к де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озрел на ниве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те все к тру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and loud the Master call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reward He offer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answer, gladly s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m I, send me, send m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любовью пламе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от могучий з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cross the oce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istant lands expl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find the lost ar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help them at your do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есчастные на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ведают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 нас, и в наши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огуча темн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give your thous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give the widow’s m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you truly give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precious in His s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неверии кос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множество 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speak like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preach like Pa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tell the lov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say He died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олосом пр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ворец не 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 мудрости выс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ложил великих сил;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annot rouse the wick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judgement’s dread al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lead the litt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aviour’s wai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ичтожный дар им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сё ж нужны для тр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ne hear you idly s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thing I can d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lost of earth are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aster calls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 к высокой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для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йдём, чтоб нам на д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Бога Сво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task He gives you glad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s work your pleasu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swer quickly when He call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m I, send me, send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евностно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, иль там, вблизи, в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сякий вдохнов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готов — меня пошл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8Z</dcterms:modified>
  <cp:revision>13</cp:revision>
  <dc:subject>Slavic hymnal Гимны веры христиан, hymn 541</dc:subject>
  <dc:title>Hark, the Voice of Jesus Calling / Слышите ли Божий голос?</dc:title>
</cp:coreProperties>
</file>