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832-BCF3-40D5-9A2C-D70B80E1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B53-60E4-419D-8FE6-490BCB37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180-7D99-4906-9521-AF946F63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4D3-C7EC-47F7-AC6D-00DCA4CF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C9F-8F77-4313-BFC7-BFD9093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602-D277-41EC-9AE8-780A5B9E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88B-8DC6-4BB3-8F14-3630378A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EE5-FCD8-4622-9329-2D9750AF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281-436D-4DAD-BC98-835724A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9F7-06BF-49B7-A279-B1F46B01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CF9-42A5-49A3-8881-22233E13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5EE-4705-4E03-B301-024BD0C1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37BEE-0526-46CF-8ACA-1894DDAA0F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O Lord, my God, when I in awesome wo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Consider all the worlds Thy hands have mad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I see the stars, I hear the rolling thu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y pow’r throughout the universe display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when I think that God, His Son n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p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t Him to die, I scarce can take it i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at on the cross my burden gladly bear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bled and died to take away my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hrist shall come with shout of accl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ake me home, what joy shall fill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shall bow in humble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re proclaim, “My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great Thou ar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through the wo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forest glades I wande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irds sing sweetly in the tre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en I look down from lofty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grand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ar the brook and feel the gentle bree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hen sings my soul, my Saviour God, to The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ow great Thou art! How great Thou a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6:17Z</dcterms:modified>
  <cp:revision>12</cp:revision>
  <dc:subject>Slavic hymnal Гимны веры христиан, Ukrainian hymn 83</dc:subject>
  <dc:title>How Great Thou Art / Великий Бог</dc:title>
</cp:coreProperties>
</file>