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7</a:t>
            </a:r>
            <a:r>
              <a:rPr b="1" lang="ru-RU" sz="3600" spc="-1" strike="noStrike">
                <a:solidFill>
                  <a:srgbClr val="ffffff"/>
                </a:solidFill>
                <a:latin typeface="Verdana"/>
              </a:rPr>
              <a:t>	</a:t>
            </a:r>
            <a:r>
              <a:rPr b="1" lang="ru-RU" sz="3600" spc="-1" strike="noStrike">
                <a:solidFill>
                  <a:srgbClr val="ffffff"/>
                </a:solidFill>
                <a:latin typeface="Verdana"/>
              </a:rPr>
              <a:t>О наш Отец на небесах</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наш Отец на неб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ми моление м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славно в славных чудеса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ится имя ввек Тво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Всеведущ Ты и всемогущ,</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репещет пред Тобою всё;</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видящ Ты и вездесущ,</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придет царствие Твоё!</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Премудрости Ты, Боже, п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частье, мысль одна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усть средь житейских бурь и в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 будет воля ввек Тв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ы — всеблагой наш Бог и Ца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жизнь даёшь всем сущест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я к Тебе взывает твар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хлеб насущный ныне нам.</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Ты — милосерд, Ты — справедли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ставь долги Ты наши н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ак, гнев и злобу позабы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ощаем мы своим враг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то без Тебя безгрешен бы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искушенье не в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немощных, о, Боже 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злого духа огради.</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7.</a:t>
            </a:r>
            <a:r>
              <a:rPr b="0" lang="ru-RU" sz="3200" spc="-1" strike="noStrike">
                <a:solidFill>
                  <a:srgbClr val="ffffff"/>
                </a:solidFill>
                <a:latin typeface="Verdana"/>
              </a:rPr>
              <a:t>	</a:t>
            </a:r>
            <a:r>
              <a:rPr b="0" lang="ru-RU" sz="3200" spc="-1" strike="noStrike">
                <a:solidFill>
                  <a:srgbClr val="ffffff"/>
                </a:solidFill>
                <a:latin typeface="Verdana"/>
              </a:rPr>
              <a:t>Твои все дивные де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ё и царство, Властели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и слава, и хвал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еки вечные! Аминь.</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3:46Z</dcterms:modified>
  <cp:revision>3</cp:revision>
  <dc:subject>Slavic hymnal Гимны веры христиан, hymn 177</dc:subject>
  <dc:title>О наш Отец на небесах</dc:title>
</cp:coreProperties>
</file>