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E01-E1EC-4EF1-A773-0F8CB97D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047-0FFE-4B83-8733-13996177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AF7-65E8-4EDE-ACB6-5CEBDAB6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B23-959B-4386-8075-D95580BA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B1B-BB9D-4E92-AFDB-BF3E437E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C2B-BAFA-4A7F-A57F-34E01D7D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3FA-7768-4D83-8B4F-C2407DC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DA8-F0C0-4F0F-8FBF-33FA5399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5B1-9D59-4CD3-AED4-D29363F8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63C-9C9C-441B-A512-F903A946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7E8-9BE4-4A5F-8FD1-9BBFD8C9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215-F390-43F2-B0B8-EEDFEF32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6E5CD-88C6-49A3-9E8E-7C8774EF1B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o not let the Word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ine eyes against the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or sinner, harden not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ывай от свет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не ожесто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’s sun may never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less thy long-deluded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time, O then be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мир нас награ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т отрад — он полн за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ни ж как христианин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blessèd Lord refuses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to Him their souls u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on Him, the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ouldst be saved—why not to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хочет тех из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им вступил в общень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в них Свой труд на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2:01Z</dcterms:modified>
  <cp:revision>14</cp:revision>
  <dc:subject>Slavic hymnal Гимны веры христиан, hymn 367</dc:subject>
  <dc:title>O Why Not Tonight? (Oh, Do Not Let the Word Depart) / О, Божьих слов не пропускай</dc:title>
</cp:coreProperties>
</file>