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212-E7EA-4B65-9487-1BBBA98C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E6C-8600-42E0-8DA0-C6C2231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2C30-6A7B-4ABE-8D31-534C002D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E7C-EAC7-4F33-AFB4-79CA8B1E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D37-ABBB-4A40-8CFA-B3FD6F4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524-5D93-4239-9588-195FD22D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774-8363-4DFA-A838-270970B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282-394D-44F7-A6F3-3847521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254-E0ED-47A7-90BD-571DDBAD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8E9-F1E5-487B-8DC0-1378C47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84D-15B9-4AA5-A2C5-DE9DF1F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FC6-63D6-4742-98D5-34ACA5D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671D9-06F4-4ED7-83CA-CD365BB8F2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iver glorious is God’s perfec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victorious in its bright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floweth fuller every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, yet it groweth deeper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dden in the hollow of His blessed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foe can follow, never traitor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surge of worry, not a shade of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a blast of hurry touch the spiri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joy or trial falleth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ced upon our dial by the Sun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may trust Him fully all for us to 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ho trust Him wholly find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lly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ayed upon Jehov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ts are fully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nding, as H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peace and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57Z</dcterms:modified>
  <cp:revision>14</cp:revision>
  <dc:subject>Slavic hymnal Гимны веры христиан, hymn 600</dc:subject>
  <dc:title>Like a River Glorious / Славною рекою</dc:title>
</cp:coreProperties>
</file>