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C20C-85D7-4CCC-80ED-6692A24E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2CA-4903-4AAF-BC2D-23A674E2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795-27F6-4AE7-A194-8FF9FAD2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458-398B-4179-A36F-B3CC1382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C1E-3360-46C3-82C9-07EB3004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3E7-F864-43B7-BF8F-06DB150C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A0F-EBE3-449B-AA4A-397E27B7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C44-686C-4537-AB72-542EC0BE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B5E-C159-4F1C-BD4B-36CC62B5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37B-35A2-48F4-8158-D0FEDE5C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D50-5C67-4663-961A-F071DAA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6E8-7D2E-4D4E-9138-2D0A5B80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6241B-2D03-4538-98D8-C429A6E318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My sins are all forgiv’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is mine! I’m on my way to heav’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ce a guilty sinner lost, und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a child of God, saved thro’ His 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асё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грехи мне прощ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й Христос! я к небесам 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л рабом греха и су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 теперь я стал своим Хри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9766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By grace and grace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what wondrous love to me was show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stead Christ Jesus bled and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re my sins, for me was crucif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 любовью незем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Свою явил Он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меня Он плакал в тиш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меня был жертвою ж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572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Saved! Saved! O joy beyond comp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my life, and I His constant c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ielding all and trusting Him al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 now each moment as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Покой в Нём нах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 моя сокрыта во Хри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мнит Он меня всегда, вез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Ним живу, Ему принадле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thro’ Christ, my all in 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d! I’m saved whatever may be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died upon the cross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bore the awful penal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w I’m saved eternally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aved! Saved! Sav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Христос мне всё во вс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пасён! Мои все блага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для меня сходил с неб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радал и умер и воскре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ныне я навек спасён, спасён Христ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6:25Z</dcterms:modified>
  <cp:revision>12</cp:revision>
  <dc:subject>Slavic hymnal Гимны веры христиан, hymn 855</dc:subject>
  <dc:title>Saved! / Я спасён!</dc:title>
</cp:coreProperties>
</file>