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5C5-400A-4D5E-9D11-80C3AF94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DA4-A23C-47A8-87B5-1B984DC8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46C-4F6E-4469-90E0-CEDA9836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D24-23A2-4EF3-87D5-B4837B10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45D-D79B-47CC-9968-89E33444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223-9152-4E81-924E-8EE74E15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154-284C-47D5-88A5-E7949D09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DDA-7363-4E40-B287-4EBCD33A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FC9-1E55-4AA8-AC87-27A2CCFC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35E-FAB8-4ADC-9FB7-53CE444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AD9-0790-4295-9DF0-CE16B07B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925-AD19-4127-A3E7-50E93C3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55401-A81D-4AB3-9501-C61333A376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 I a soldier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ollower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I fear to own His ca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blush to speak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я ли в воинстве Хрис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я ли в воинств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ю жизнь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хочу ль я скорб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радостно д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be carried to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flowery beds of 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thers fought to win the pri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ailed through bloody s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капли кров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оз ли мне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от, хотят чрез ров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ль в страхе отста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re no foes for me to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not stem the f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is vile world a friend to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lp me on t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а ли нет перед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лышу ль зов к борь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мир красивой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анит меня к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 must fight, if I would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rease my courag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ar the toil, endure the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ed by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нет, кто хочет побе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олжен в б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ой иду! Христос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лабый — с Ним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4Z</dcterms:modified>
  <cp:revision>13</cp:revision>
  <dc:subject>Slavic hymnal Гимны веры христиан, hymn 456</dc:subject>
  <dc:title>Am I a Soldier of the Cross? / Не я ли в воинстве Христа?</dc:title>
</cp:coreProperties>
</file>