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412-B2AC-4FBD-B87D-FAC4CEC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B24-47C2-4D12-895E-FB4D3FD6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1EC-4184-4C5E-9CE4-1118C1B9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E5B-C2B4-43B9-81AB-90F58155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C9F-17BB-4F64-86D7-99646596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F2A-37A6-4ED7-B4A3-F85C0783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2EC-F80A-4CB4-A1AC-21172565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E5B-3133-4215-8213-F28EC54E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8D5-445E-4FFD-B2F6-D33851F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AD7-AFB8-4455-8BA1-00B85B9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64E-8E2D-4D00-93DA-ABC08970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B03-5301-409D-9C3C-B549B455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34645-B4DB-4A73-A3CC-3CD1FD72C6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Твой 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 кресте по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 в венце тернов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расот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 и жарк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древо возне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чьим в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шный потря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дручён поз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уган, истом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на истя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ю посяг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й Твоих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мрачить дерз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яд мучений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ытки страшный гн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роступков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ороков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ю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пред Т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казни заслуж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лжен на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и страда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жертва з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мер за соз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зван к жизни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то осу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лажена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м иск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ушой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Твой 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целяю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е б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Врача болез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2:41Z</dcterms:modified>
  <cp:revision>12</cp:revision>
  <dc:subject>Slavic hymnal Гимны веры христиан, hymn 867</dc:subject>
  <dc:title>На древо вознесённый</dc:title>
</cp:coreProperties>
</file>