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42</a:t>
            </a:r>
            <a:r>
              <a:rPr b="1" lang="ru-RU" sz="3600" spc="-1" strike="noStrike">
                <a:solidFill>
                  <a:srgbClr val="ffffff"/>
                </a:solidFill>
                <a:latin typeface="Verdana"/>
              </a:rPr>
              <a:t>	</a:t>
            </a:r>
            <a:r>
              <a:rPr b="1" lang="ru-RU" sz="3600" spc="-1" strike="noStrike">
                <a:solidFill>
                  <a:srgbClr val="ffffff"/>
                </a:solidFill>
                <a:latin typeface="Verdana"/>
              </a:rPr>
              <a:t>Славь Христа!</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 Христа, ибо Он есть бла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 Христа, ибо Он есть бла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 Христа, ибо Он есть бла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 Его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едь это сладостно, да, это сладост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Чтоб петь Ему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 Христа, ибо Он есть бла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 Христа, ибо Он есть бла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 Христа, ибо Он есть бла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 Его всегда!</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4:34Z</dcterms:modified>
  <cp:revision>3</cp:revision>
  <dc:subject>Slavic hymnal Гимны веры христиан, chorus 42</dc:subject>
  <dc:title>Славь Христа, ибо Он есть благ!</dc:title>
</cp:coreProperties>
</file>