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13A3C-0C4B-442E-B641-203C8E983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BD891-32D6-4260-A21E-AF5AEF6F3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EAAE2-BB61-4517-B2A1-F42451297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8330C-FAFC-48CA-B512-6EE576840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37EA4-5FEE-4C22-B1D5-E788452EC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32B67-E941-44A5-AF79-B378248CA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D6363-7F66-4691-9626-830798C5B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9312C-BCE3-4E0E-A56B-980CD9815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FBE52-ECBA-4CA0-B266-88611C947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90A2C-1DC7-45D6-90CE-E984C224C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0CE1B-ABAB-4677-A47C-4A4195B22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37F25-9735-417D-A002-DEF05C525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46F120-8058-41BB-9676-AA92D1AB19F9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ill offer up my li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spirit and trut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ouring out the oil of l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s my worship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265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Предложу Тебе я жизн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дложу Тебе я жизн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Духе и истин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олью елей любв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поклоненье Теб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my words could not tel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t even in par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f the debt of love that is ow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y this thankful hea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мире нет таких сло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смогли перед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лг любви, что я так хоч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бе отд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surrender I must g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y ev’ry par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rd, receive the sacrif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f a broken hea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ез остатка отда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, что есть внутр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крушённое сердц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жертву при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, what can I gi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at can I b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so faithful a frie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so loving a 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, что я скаж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я сп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кому другу, как Т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кому Царю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aviour, what can be sai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at can be su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s a praise of Your n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the things You have don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, что принес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подар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благодарность Теб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жертву Твою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my words could not tel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t even in par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f the debt of love that is ow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y this thankful hea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мире нет таких сло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смогли перед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лг любви, что я так хоч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бе отд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 deserve my ev’ry brea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You’ve paid the great cos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iving up Your life to deat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Even death on a cro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ждый вздох для Тебя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его заслуж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знь отдал на крес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сполна заплат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 took all my shame aw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re defeated my si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pened up the gates of heav’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have beckoned me 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овью смыл мой позо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разрушил мой гре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Богу путь пролож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верь открыта для все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, what can I gi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at can I b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so faithful a frie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so loving a 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, что я скаж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я сп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кому другу, как Т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кому Царю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aviour, what can be sai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at can be su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s a praise of Your n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the things You have don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, что принес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подар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благодарность Теб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жертву Твою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0-12-18T07:23:23Z</dcterms:modified>
  <cp:revision>12</cp:revision>
  <dc:subject>The Source, song number 265 in Russian</dc:subject>
  <dc:title>Предложу Тебе я жизнь / I Will Offer Up My Life (This Thankful Heart)</dc:title>
</cp:coreProperties>
</file>