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0F8-1766-42D3-A9E0-0F1809CE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743-6234-4582-BE4B-F6870D27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DD3-B79C-448D-BC66-F1CC821A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87B-0E95-4110-BEE5-795D583F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0BD-5BC4-4E5C-B570-4CEB8B5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D5F-4D89-4C29-9AEC-C47B2A25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F3E-D406-45E6-8127-9B136919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42D-B236-4807-AB88-968DA3BC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EF6-BAF4-435A-B0D5-F54351E5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1DC-87BC-42B2-BDED-CDD6609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692-79EA-4589-A1CE-CE5B08C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254-6D3A-4FA5-B7F7-73D4405D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E9BB7-7E3B-4BFC-817D-8D675EB00F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тёмном царстве ночи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ез Него угас бы нашей жизни свет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в сердце страха н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везде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не сам од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друзья изменят, верен Божий Сы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хранит меня Он и в долине тьмы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мне звучат псал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хочу идт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 грешникам нест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ыть Ему послушным, к слову Бож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ьнуть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сен жизни пу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я готов почи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ночь пошлёт Он труд мой прекрат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меня пробудит к славе неземной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сердцу дом род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! Да, везде Он — звезда мо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5:23Z</dcterms:modified>
  <cp:revision>14</cp:revision>
  <dc:subject>Slavic hymnal Гимны веры христиан, hymn 631</dc:subject>
  <dc:title>Да, везде с Иисусом безопасен я</dc:title>
</cp:coreProperties>
</file>