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814-2794-456F-AA48-38AB4D70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ECC-E50A-408D-9025-CFF9051E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D3F-B483-45D9-B681-835A91E7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E67-6A33-40F5-89FB-5351607C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F08C-1931-4411-86CA-2A991253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52F-743D-4743-9066-CD50F632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C12-2C9C-4438-8C25-DF947803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E0A-3AEF-472E-BB6F-D19ED6A0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851-DB3B-450E-B22F-1DAA1619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F1F-2E97-445B-9C6E-D80305B1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7C2-4E59-4A9A-B348-E90D7CA0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033-AE4C-4C24-B20E-BE649F98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25198-F41A-47AB-B106-4C21697AE6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чудесно змінилося моє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маю спокій, за котрим я шук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7   Як чудесно змінило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ишив мандрівни і блукання мо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гріхи всі мої, змиті з моєї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 одержав тверду і пев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 більше не маю вагань, ні страх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долині смерті, є світло для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є певний, що Він є зі мною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 небесний дім йду, де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е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я вбачу Ісуса лицем у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уми радості в душу мою все плив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оли я Христа пізн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5:22Z</dcterms:modified>
  <cp:revision>13</cp:revision>
  <dc:subject>Slavic hymnal Гимны веры христиан, Ukrainian hymn 37</dc:subject>
  <dc:title>Як чудесно змінилося моє життя</dc:title>
</cp:coreProperties>
</file>