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95D-27B5-4749-A8FF-DE321CD2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B8A-4491-4E2A-9CB1-27B08BEF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6C9-4985-4D08-A118-A7493743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45F-5EAC-4955-A8D1-D06374C7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292-1A52-426C-A35B-ABD540BF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621-965D-401B-A4FD-28A7E7C9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95B-CEBE-4E23-9AA5-3224F284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6EF-BFD2-45FF-858E-F4062120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16D-DA0B-41CE-9D8F-8D8A8C4C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939-5086-46E6-AE0A-E5E65EB4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6655-F664-47E5-B914-9FCFC65D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218-6036-4AA7-A136-0EAFA6E3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B273C-4F22-40A9-9C50-C391F89209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где горя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асилий и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царствует там жизнь и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чудесном и свя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чудны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родном нет мук, нет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страданий жизне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могил и нет у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для истинных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трудись, в надежде ж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ведёт нас 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погибшим весть н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Иисусе ест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6:10Z</dcterms:modified>
  <cp:revision>12</cp:revision>
  <dc:subject>Slavic hymnal Гимны веры христиан, hymn 674</dc:subject>
  <dc:title>О, чудный край, где горя нет</dc:title>
</cp:coreProperties>
</file>