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6286-8B40-4FFC-8785-BECFB5D01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4B1E-2FCE-4CF0-8458-D5554548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2DE0-63B0-44C3-AB1F-CA2A01053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7268-9583-4E75-A754-8E68C57EE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9F77-28B3-4101-84B6-B776F1C9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4C71-5C18-4623-A2E3-BC8EE99C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4E88-DC2E-4879-AEE9-1A7E74CB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1673-C47B-4298-878B-04188EAC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55DE-D15D-481A-9E27-217E5346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F38E-A2E0-4A82-8A3E-F6FA01A0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5FE5-1127-47BB-A186-50B8EB7E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3BA3-7F5C-4A20-BC11-47708912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1885C-1C40-4989-A677-D0F8FF27111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ing for Jesus, a life that is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iving to please Him in all that I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ielding allegiance, glad-hearted and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the pathway of blessing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Живя для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я для Иисуса я жизнь позн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я молюся, Он всё мне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цело отдаюсь Царю царе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уть, путь добра для душ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ing for Jesus, through earth’s li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dearest treasure, the light of His sm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king the lost ones He died to rede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nging the weary to find rest in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я для Иисуса в наш краткий в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делать хочу, что любил Он С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ть одиноких, больных, кал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и изнурённых к Его но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, Lord and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ive myself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ou, in Thy atone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dst give Thyself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ой и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я отда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а меня был расп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own no other Mas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 shall be Thy thr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life I give, henceforth to l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hrist, for Thee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х господ бо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й стремлюсь к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каждый миг принадле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лишь од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, Lord and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ive myself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ou, in Thy atone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dst give Thyself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ой и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я отда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а меня был расп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own no other Mas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 shall be Thy thr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life I give, henceforth to l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hrist, for Thee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х господ бо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й стремлюсь к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каждый миг принадле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лишь од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ing for Jesus, Who died in my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ring on Calv’ry my sin and dis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ch love constrains me, to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llow His leading and give Him my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я для Иисуса, Кто вместо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крестом на плечах на Голгофу шёл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познаю, и молюсь не ра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 сердце моём был Ему прест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, Lord and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ive myself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ou, in Thy atone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dst give Thyself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ой и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я отда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а меня был расп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own no other Mas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 shall be Thy thr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life I give, henceforth to l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hrist, for Thee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х господ бо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й стремлюсь к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каждый миг принадле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лишь од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ving for Jesus, wherever I 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ing each duty in His hol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ing to suffer affliction or l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eming each trial a part of my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я для Иисуса, среди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быть смирённым Его слу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рно нести крест тяжёлый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адать под гнётом земных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, Lord and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ive myself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ou, in Thy atone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dst give Thyself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ой и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я отда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а меня был расп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любящи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own no other Mas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 shall be Thy thr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life I give, henceforth to l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hrist, for Thee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х господ бо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й стремлюсь к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каждый миг принадле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лишь од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4:30Z</dcterms:modified>
  <cp:revision>12</cp:revision>
  <dc:subject>Slavic hymnal Гимны веры христиан, hymn 845</dc:subject>
  <dc:title>Living for Jesus / Живя для Иисуса</dc:title>
</cp:coreProperties>
</file>