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AD6C-6FA5-48F7-8D17-ED54E036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DE4E-1F1C-481B-B657-AEF323EF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9D8-B56E-4198-95D4-8E491B1C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5494-B4A5-4680-B193-1C038A9A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CB7-07A7-4F9D-9296-98EBE479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726F-BA93-4BD4-AC47-A3516669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834-2EFB-4A5F-BFCE-04CC9DAE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78E-770A-439D-B56E-977FB450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B59-1045-41EB-87B4-C70F8FB5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480-AD02-42EE-A04B-02464010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E843-5622-4C1F-BF4C-7D5BAF56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EA63-AD28-4608-BFEC-A75F81B7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3E094-2F29-4DF8-B6F7-442FD7047A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iftly all our days go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anish without t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soon as one day runs its cou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other takes it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коро дни летят вперё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оро дни летят впер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ышной черед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день один к концу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настаёт дру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ll who knew and trusted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iding in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promised vict’ry o’er the gr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lessed peac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л, уповал, люб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бывал с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Христос чрез мрак мог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ёт в Свой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inal hour of life wi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must leave this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enter my eternal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hich I’ve yearned since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обьёт и для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час жи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у после обита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но Богом з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no doubts, for I bel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at the final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not fear nor be dismaye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Christ has made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верю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от Господний 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т страшен для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ввек Хрис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ur by hour, yes, day b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orrows ebb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the final hour will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aviour will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at awaited moment 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must leave this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ember, Lord, among Y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servant, saved by gr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настанет жданный ми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аться мне с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помни между слуг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ого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40Z</dcterms:modified>
  <cp:revision>13</cp:revision>
  <dc:subject>Slavic hymnal Гимны веры христиан, hymn 735</dc:subject>
  <dc:title>How Swiftly All Our Days Go By / Как скоро дни летят вперёд</dc:title>
</cp:coreProperties>
</file>