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510-C255-441B-92F6-EC9865C2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AD03-EEF6-466A-A2B6-BB984A1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B64-A59E-491C-8212-495F0D9D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928-0DC7-438A-9DA2-B1578B4B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3D91-0CEE-490C-AB0A-99DF5E6F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737-B10A-47DB-A104-1C6D2A8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DCC-AB54-4749-BC87-16BD9D26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8AA-CE0B-43F3-81D9-9FE7AABD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812-1D43-42F7-B977-7C43E0C7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395-BC30-48BB-ACFD-05495B2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8D9-1091-48D9-845F-2B3622C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6A6-F98E-4811-863E-DB9FF102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D21B2-1BF4-4367-B7FD-F978505090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ил уже разлуки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ы долж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ноет сердце 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знает только Бог да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только Бог да 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ил уже разлуки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нье есть, чтоб вместе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м слёзы и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ежду нами Друг стои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Утешитель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ешитель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скитанье жизни с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ы оставим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озьмёт нас от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брачный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 н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т с вами Бог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кже с нами зд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м нам ближе подо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рекрасной родине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к родине неб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увид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, Господь, наш путь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38Z</dcterms:modified>
  <cp:revision>12</cp:revision>
  <dc:subject>Slavic hymnal Гимны веры христиан, hymn 746</dc:subject>
  <dc:title>Пробил уже разлуки час</dc:title>
</cp:coreProperties>
</file>