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FBD-4D73-4ABA-B3CE-45017381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E04-05E3-4895-BCEB-E1AECA23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4EE-B71F-4FD4-825B-B9E5C262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529-E772-4D9C-B356-C815A130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B55-C6DE-4818-9960-D30337B4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F72-B456-4E36-8ECE-FC4405B9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18C-1649-4DAB-A4EC-31184AC8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0E5-E000-4E79-8E18-BAC94986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D54-54A3-4F08-8B9D-8E5C4EE6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9E2-7E0D-428C-B3CF-67158B87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485D-B539-4E01-8D39-CE82577C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C68-0A17-4780-BF6D-EE20C583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1DB59-3A5C-4A00-86F8-4FFADFD927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erve a risen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in the worl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He is li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ver men may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кресшему служ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шему служ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ами во все д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ю любовь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all who seek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elp of all who f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other is so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ood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удруч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а в час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жизнь дарит и 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 lives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lks with me and talks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ong life’s narrow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to im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sk me how I know He l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ee His hand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 His voice of che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ust the time I nee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always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я вижу ру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я слышу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ьме ночной Он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 lives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lks with me and talks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ong life’s narrow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to im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sk me how I know He l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the world arou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ee His loving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’ my heart grows we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ever will desp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себя я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добр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корби ко мне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 ближе я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He is l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all the stormy b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of His app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come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ури и смят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славный час Он всех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 lives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lks with me and talks wi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ong life’s narrow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, He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to im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sk me how I know He l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 O Christi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 and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al halleluja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Jesus Christ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христи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ысьте голос с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Господом предста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ельем и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39:34Z</dcterms:modified>
  <cp:revision>13</cp:revision>
  <dc:subject>Slavic hymnal Гимны веры христиан, hymn 287</dc:subject>
  <dc:title>He Lives / Воскресшему служу я</dc:title>
</cp:coreProperties>
</file>