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AF7-B835-4A68-BD3C-7861B50B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A85-8167-4FC4-A1B1-1752909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A49-23F2-476A-8689-BF9035B3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AA5-2A0B-4BC9-9903-E5A04392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3FA-4EB1-4C07-9733-55340EE2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BB2-4F02-48FD-91A5-17C93029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C7D-9778-4F7E-803A-C1A9B936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333-D68B-458D-968B-B8EC349F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C5D-464F-4F74-A089-E3F58D5D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46E-91CE-4AB2-BAD1-B7FCEB0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4F0-EC8B-4E2C-99D5-A77E291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F0B-014F-4B07-A24F-FE27B91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3103B-0227-4D33-B426-E0FE4472A6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Beautiful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, mould me, 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1:56Z</dcterms:modified>
  <cp:revision>11</cp:revision>
  <dc:subject>The Source 2, song number 640</dc:subject>
  <dc:title>Beautiful Lord, Wonderful Saviour (The Potter’s Hand)</dc:title>
</cp:coreProperties>
</file>