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EA7-71CF-4AAC-8665-30249948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9E3-D59E-4434-A5E7-746B633A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3AD-12F2-4A3B-8D82-CCCFB6D0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C37-1758-41C3-B0CE-A353B699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7DD-BACC-4204-B548-D4AEC4A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B3E-AD74-452E-84FA-01A31971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7AB-5244-4437-B775-E51A3971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F50-5D73-4D83-9592-10C62A15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4BD-D995-40FE-ADF4-6BFC5D11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3A5-A44A-41CC-93B4-36B3F5DC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382-142D-4130-BF1A-C4C0D56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9D1-724C-4EA4-A3F4-076260FD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9BDB9-DBEA-49A4-9AE6-614263BE51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опрос ко мне, к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ответ найдёшь в с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удешь ве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многие к Христу при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ли греху сл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й небес в удел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узкий путь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ты на другой всту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конец тебя там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 этот самый час по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йся ты Ему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 всем возвес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у вечность про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ости! Жизнь вечно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ешь вечность прово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13Z</dcterms:modified>
  <cp:revision>13</cp:revision>
  <dc:subject>Slavic hymnal Гимны веры христиан, hymn 336</dc:subject>
  <dc:title>Где будешь вечность проводить?</dc:title>
</cp:coreProperties>
</file>