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EC53-6DF1-4D96-ABD8-F775F4875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3E2F-FA74-43DD-A77E-A1D0F371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F8DE-A272-4E01-93EB-9FA6164C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B28B-9551-41FF-827E-0C40CA06E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4AA0-AB2E-4490-BBDA-F675A771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E451-BD43-44FB-ABB5-EB7DF1C0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EA3E-909C-4822-8C3C-4B3A791E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AE30-D597-4C47-800F-BC97F265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06B6-D2DA-4CBE-B9A4-C004688E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ACB0-828B-4CA5-9F69-0E250F4D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3FC8-BDD3-4C98-AFA5-0CB5AE50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97E8-9D54-4A33-B173-A08AA972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C5359-2886-4B5D-8D77-60CB98B4E58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: вблизи пот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прозрачных, чистых в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реди травы выс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ышно лилия цвет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лилию Бог люб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ботится о не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Он тебя погуб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ыв в нужде тво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смотри вблизи пот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рни крепкие пит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га чистая руч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осою наполн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шу ранняя з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лилию Бог люб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ботится о не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Он тебя погуб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ыв в нужде тво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лилия просто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ит прямо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лекут её уз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ромных пчёлок к лепест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лилию Бог люб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ботится о не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Он тебя погуб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ыв в нужде тво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 приятный и пахуч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ливается из н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огаче и кто луч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вался из цар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лилию Бог люб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ботится о не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Он тебя погуб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ыв в нужде тво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живёт Творца твор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леске дивной крас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заботы и муч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его ж печален 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лилию Бог люб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ботится о не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Он тебя погуб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ыв в нужде тво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3:22Z</dcterms:modified>
  <cp:revision>12</cp:revision>
  <dc:subject>Slavic hymnal Гимны веры христиан, hymn 712</dc:subject>
  <dc:title>Посмотри вблизи потока</dc:title>
</cp:coreProperties>
</file>