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8F57-74B4-449E-8538-DE697D24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67E9-81C0-47E0-9625-C998C283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908B-D8CC-4F17-8982-B83ECBD3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91A6-DCE0-4A7C-B2D3-CF0AE5F9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8DB8-AFE1-41A9-B2BE-C50CA3F6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4DFA-5877-42B7-A754-4206C03C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3EF2-AA7F-46C8-9E6C-D9CA3BEF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D6F4-FCE4-4667-923C-59FCA125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5410-3FAD-4143-8613-AC437869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1AF0-8676-4C7C-9382-6F30D914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0E0E-3736-4419-A0D3-8047B0F6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3C7B-CB04-481E-B503-3E0FA301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94870-85F6-425B-9234-3DABA2206DA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стоим ещё у бре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аю большой ре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жидаем перево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 Родину в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уманы над ре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жасен гул ва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и ангельское п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одных слышно бере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десь стоим ещё у бре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ерусалим прекр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дали уж виден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ен свет его прелест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лекущий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отозваны и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на пристани,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и нас возьмёт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ними, будем —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возь холодные тум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й жизни мы прой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вечное блаж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искупленных на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2:41Z</dcterms:modified>
  <cp:revision>12</cp:revision>
  <dc:subject>Slavic hymnal Гимны веры христиан, hymn 695</dc:subject>
  <dc:title>Здесь стоим ещё у брега</dc:title>
</cp:coreProperties>
</file>