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D40-7D94-4BC0-A0E4-D804D8A6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822-699B-4ED5-8A6B-47634BD5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2E5-1A5D-428A-B8D7-2C77C536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FA3-9879-45B7-B463-5A169242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D2C-1BB7-4FC2-9E05-E214F3CB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2EE-591D-481A-B510-7E5EC0FD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9CB-31AC-4C81-8540-6DF1434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411-AC0F-4DB5-8466-4D3F61CF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4D7-6812-476B-AE9C-229C4F72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D0F-66CB-4952-806E-6461301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CA2-161A-4D64-B3C2-F85B2644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40F6-2EFE-43DE-A151-C7DE8546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3D7B-44CF-43EA-877A-67A10190AF2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Триединый, Дух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й мольбе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оляю всей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Триединый, Дух Свя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мир лежит во тьме гре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ть мне дай светлее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льше душ привлечь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лей всю Духа полн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не любви огнём го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е мое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цо Христа уж здесь уз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у Свою я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в Тебе пребыть (пребы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м существом служить (служить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огонь во мне заж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дело Твоё по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7:10Z</dcterms:modified>
  <cp:revision>13</cp:revision>
  <dc:subject>Slavic hymnal Гимны веры христиан, hymn 787</dc:subject>
  <dc:title>Бог Триединый, Дух Святой</dc:title>
</cp:coreProperties>
</file>