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CA7-7641-4116-9D98-43C01D87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1B9-34C7-46C7-BA80-8D3E1B10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A11-1FBE-4996-96C9-35858C96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FA2-8644-4B76-A23B-A03B3E3C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368-A98E-4469-90D8-FB0BED21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8D9-1C6B-4B6A-B98B-8B46DCC4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486-7E69-4D2D-8276-EE440DE5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D82-4964-4DE3-9BB1-91590845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F27-927B-491D-B878-153FED64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A61-C49C-4CD3-8A00-FFFFBA01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4DB-D369-4C2B-A3AB-7BF8AD92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38C-9366-4F83-8BD8-4A019E81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7A97F-DF45-43F0-A54B-EE2DD80CAB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ед мной, я 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го пути мне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жемчужных врат не увидит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пути устрашится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естный путь пред 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олжно идти по страданий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м мой Спаситель 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вперёд, чтоб д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видеть Его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ый путь мирской я отв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ен он мне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овёт: «приди!», я спешу вой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ью открыл мне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7:37Z</dcterms:modified>
  <cp:revision>12</cp:revision>
  <dc:subject>Slavic hymnal Гимны веры христиан, hymn 843</dc:subject>
  <dc:title>Крестный путь пред мной</dc:title>
</cp:coreProperties>
</file>