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4CC-7573-42E4-8AD9-4B4D63B0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2E2-23C5-4422-9576-5BEEBFF5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2BB-21E7-462D-8AE1-30AA1D7F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A195-B9E9-47E5-B2F2-5C7B7D9B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717-7829-40CB-97B5-7B9156F0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E39-DA32-4FB6-BA27-35EFB1B6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3B9-6F7A-463C-AF5B-3DC0D4A8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B63-CA6B-4039-958B-8912DEBA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C89-D123-4D96-8584-A493DDCF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FB3-44CB-4504-912E-EC0678A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A94-5B00-4989-99D5-8D0CBCDD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F35-42CC-4282-A9B9-0CF69480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60B2D-DAF4-444F-BD9F-7ED9C5566FD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one drop of r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mountain tow’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ove a single grain of s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the blazing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o a candle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thousand years to on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nd we ar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60   Like a Water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ight, beyond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ense, space and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ride among the sta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ll them each by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 the galax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only dust upon the sc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the world was form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even day o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angels s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pure de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there and we were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ight, beyond m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yond sense, space and ti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, my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ab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gels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ee times holy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, whose name 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st beautiful mys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7:47Z</dcterms:modified>
  <cp:revision>12</cp:revision>
  <dc:subject>The Source 4, song number 1960</dc:subject>
  <dc:title>Like a Waterfall (Beautiful Mystery)</dc:title>
</cp:coreProperties>
</file>