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0</a:t>
            </a:r>
            <a:r>
              <a:rPr b="1" lang="ru-RU" sz="3600" spc="-1" strike="noStrike">
                <a:solidFill>
                  <a:srgbClr val="ffffff"/>
                </a:solidFill>
                <a:latin typeface="Verdana"/>
              </a:rPr>
              <a:t>	</a:t>
            </a:r>
            <a:r>
              <a:rPr b="1" lang="ru-RU" sz="3600" spc="-1" strike="noStrike">
                <a:solidFill>
                  <a:srgbClr val="ffffff"/>
                </a:solidFill>
                <a:latin typeface="Verdana"/>
              </a:rPr>
              <a:t>Я славлю Иисус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славлю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илуе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ыв мою неправ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рех искор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лавлю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любит без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кровью драгоц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двигнул мертвец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славлю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ног Его сид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лавлю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им во след ид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лавлю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се Его де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лавлю милость Бож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а меня спасл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славлю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я в земной стра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пламенно жел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в вечном светлом д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в царстве всех спасён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буду прославл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я Свят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ую благода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5:33Z</dcterms:modified>
  <cp:revision>3</cp:revision>
  <dc:subject>Slavic hymnal Гимны веры христиан, hymn 130</dc:subject>
  <dc:title>Я славлю Иисуса</dc:title>
</cp:coreProperties>
</file>