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F20-F5C7-447B-8BE4-6B85BA15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E31-3104-4187-8815-DE612CB0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08F-406B-4932-B515-A53A1FEE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86C-00F9-4F87-AA6A-90E9A4E2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950-8093-48E9-9EF8-7A68638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456-9BAB-4940-A010-DA09A4A7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408-A801-4CE5-BBA9-ACA45223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71A-FEE0-4800-BBFC-2D017166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6C2-8690-49AB-BC21-C5C75594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809-6102-4DB1-A829-0F9A78DB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FBC-E636-45C3-A638-E7499410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0CF-60CC-40CD-A721-3B1055A8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4B49F-F34D-4266-81D3-E0E9C0E418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green hill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side a city w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dear Lord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to save u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холм зелёный 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холм зелёный там в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родской ст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распят был за гре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ем мы спас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ay not know, we can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ains He had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e believe it wa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ung and suffered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муки перенё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м мы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им, что стра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нам да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we might be for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o make us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e might go at last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by His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прощень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, предав себ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по Его сле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as no other good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y the price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ly could unlock the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en and let u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Он достоин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грешных искуп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та небесные лишь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людям о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ly, dearly, has He 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must love Him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ust in His redeem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y His works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ас много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м ж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 крови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будем для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2Z</dcterms:modified>
  <cp:revision>13</cp:revision>
  <dc:subject>Slavic hymnal Гимны веры христиан, hymn 418</dc:subject>
  <dc:title>There Is a Green Hill Far Away / Есть холм зелёный там вдали</dc:title>
</cp:coreProperties>
</file>