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5C5B-2D0B-46F3-8C29-80504EC47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FA90-7885-42C5-B182-B4125728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5BA9-4480-452C-A614-F21AEDA2E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27FA-8C06-4DF9-B553-54A77C9BF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72D2-0955-4B58-ACD7-ADDBAC75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7B15-F82B-4B8C-8158-A5238DED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8D98-DC70-4048-A0F7-59473304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ADFD-E050-4E7B-86A4-72B510FB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1DD0-C184-406C-B669-38718B1A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3DF6-6465-423D-90F2-49134062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D4C7-FA31-4F07-9384-C26B646D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9504-B837-4B1F-961A-753E7C53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A9663-8815-44BA-A8B7-F449B36B2B0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the day is o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ight is drawing n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dows of the ev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eal across the s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ень прошё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прошёл. Конч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свои д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покр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ёмной ночи мг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give the we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m and sweet repo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y tenderest bl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mine eyelids cl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и, устал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ный сон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рикам и мал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ы обн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nt to little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isions bright of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ard the sailors to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deep, blue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ждущим муч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егчи ск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ям дай вид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х райски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the long night w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Thine angels sp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white wings abo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tching round my 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асы н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да не при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свя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да стерег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morning wak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may I a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re, and fresh, and sin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y holy 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с зарё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позволишь вст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пред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пребы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3:34Z</dcterms:modified>
  <cp:revision>12</cp:revision>
  <dc:subject>Slavic hymnal Гимны веры христиан, hymn 825</dc:subject>
  <dc:title>Now the Day is Over / День прошёл</dc:title>
</cp:coreProperties>
</file>