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DEA-E3E5-4FC3-A643-0FA490CC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362-D2AE-48F3-9A13-AAF39660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4D3-197D-4C09-9C34-FC1E9DA8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03B-4F55-4FBA-A4B8-36D39F81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7CF-4FFA-4740-B200-11A43DF8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289-3AB1-4706-8BC7-49F0B62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99A-6D37-4E51-A309-148F737C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C1A-CA87-45FD-A611-A304FCF9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D4D-9DE1-4954-B111-360CE710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A9C-57F4-4E1B-8E5F-9B895AA4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62A-266B-4DB6-A7A1-F26A4AE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74A-CF39-4FAA-AD43-65375EA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A6524-F591-409C-944E-808844081F2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с хранил от юных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 и в наступивши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яких бедствий и невз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, вблизи, мы день за д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ей лишь благостью жи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сылаешь снег и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леб насущный нам даё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73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й Бог, рукой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прошлое благодар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что пред нами — знаешь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гаем всё к ногам Тво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ы, планы и меч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дачах, в счастье иль в б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наша радость и пок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ляешь Ты в сты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, кто льнёт к Тебе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6:12Z</dcterms:modified>
  <cp:revision>12</cp:revision>
  <dc:subject>Slavic hymnal Гимны веры христиан, hymn 731</dc:subject>
  <dc:title>Великий Бог, рукой Своей</dc:title>
</cp:coreProperties>
</file>