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10B-D8D7-4618-A6FE-F11DC5D8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90C-54AA-4ACB-B26F-A25995A7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05F-E19E-4BDA-88B3-858FF1AD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E57-FB1E-420A-BB9E-D135E0EB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0D9-795A-489C-94BF-5A3BEB4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A66-AAD6-460F-81BB-26182945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E25-2877-4956-B856-776865E7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8AD-EDA2-4912-806A-9301D9C0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256-4158-4AD8-B85D-6CA8E29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726-520A-4FDC-A509-38B21AF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F71-CBD4-423B-95FE-614CFAA0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D64-AF78-4C9B-827D-211B8E7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45386-42B7-41B6-8F03-5F5AD6B7FC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d with everlast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d by grace that love to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breathing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taught me it is s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ю вечну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ыла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пас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л Христа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s full and perfect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presence all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love which cannot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ил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Божьим дор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любви святой п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bove is softer bl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round is sweeter gre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hing lives in every h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less eyes have never se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стало мне р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земля красот пол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жизнь кипи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ась во мне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rds with gladder songs o’er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’rs with deeper beauties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I know, as I now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ки радостно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, на лес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торгом дышет гр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gs that once were wild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not now disturb my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sed in everlasting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illowed on the loving bre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чера внушало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егодня не с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окрыт в Христа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й и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o lie forev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 and care and self res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whispers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 страхов и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радости дро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Себе меня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orever, only 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he Lord and me shall p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h, with what a rest of bl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an fill the loving he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ов, навек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может разл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— надежда и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зде отрад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fade and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-born light in gloom dec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ile God and I sha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His and He is mi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е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дним лишь я сле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знали там и 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ристу принадлежу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7:09Z</dcterms:modified>
  <cp:revision>12</cp:revision>
  <dc:subject>Slavic hymnal Гимны веры христиан, hymn 856</dc:subject>
  <dc:title>I Am His and He Is Mine (Loved With Everlasting Love) / Божью вечную любовь</dc:title>
</cp:coreProperties>
</file>