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77B-4F67-470B-9753-ADF8EC5C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6C3B-5E77-4E53-ABBA-576993DE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6EE-EB0F-4AA7-B14A-F8B7837F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9A7-B651-4C0F-BE13-F952C1ED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4F9-E59F-4DEA-8852-96C00FC3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F58-1FDB-4B68-BC93-0C87CE70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D44-15B1-4D2F-B404-9F7E57A5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E06-F69B-475F-AAE8-63D161F8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F92-F666-442F-9FEB-C1AEE59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D4F-EDFC-49BC-9321-833F871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6B5-0901-49D3-B066-CE774D3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5DC-53E5-4032-9385-85230DF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1A491-6F2D-4AB0-88C3-3478875533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e, like sheep, have gone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f us turning our own sep’rat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all si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allen short of Your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r glory is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desir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presence is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14   All We, Like 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ing our sickness, taking ou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sacrifice Lamb, has been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desp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by men, He took our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us near to You,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Jesus, Your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show us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hol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 ou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ong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46Z</dcterms:modified>
  <cp:revision>12</cp:revision>
  <dc:subject>The Source 3, song number 1114</dc:subject>
  <dc:title>All We, Like Sheep</dc:title>
</cp:coreProperties>
</file>