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10B-B0B4-4FA3-90B6-1BF2C8D9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A83-565D-42ED-AC83-33FD672C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0DF-4508-45CA-B476-80A48734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BBD-524E-4E8A-9194-6B9B9205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69E-71BD-4BE7-8682-060143BF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FAE-93AC-4339-B509-696AAA9A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908-D8C0-400B-9115-E6575C67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3DF-B88F-470F-BD8F-854E137D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607-A59B-481F-A103-DA04AE61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A7E-DD73-4616-BC9A-CACE2616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DF6-20DC-415F-8AED-13512A8E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8F2-BE69-46B8-BA62-2F00BAD1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018D1-6919-4DBF-A14B-56654EED5B4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 в жизни д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но сверш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жних люб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бых подкреп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жизни т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ди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руд в жизни для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 стрем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кори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все учись счит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здно не гуля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 ближним помог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дших подни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жизни т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ди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 стрем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кори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руде не отх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ом от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Господа про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ы для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жизни ты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оди в тру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стро часы вперёд ле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учитесь с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вперёд стрем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покорите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сь для Иисус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31Z</dcterms:modified>
  <cp:revision>12</cp:revision>
  <dc:subject>Slavic hymnal Гимны веры христиан, hymn 544</dc:subject>
  <dc:title>Труд в жизни для Христа</dc:title>
</cp:coreProperties>
</file>