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0F3-B681-4626-8C18-22A15155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080-A313-4B39-BDDC-FE3863C5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2E8-2CAB-47EB-8AF7-057A7632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AAD-45CC-447C-804F-992D0BE7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8DF-CE3B-4B90-87F2-A948D339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BA1-8FE7-4BC2-B06D-7447FCB5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F06-D1C3-41B4-92F0-DF2A8656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325-40F1-484E-A715-27D4BB93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493-8A80-4185-9166-2A9B1050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587C-3AE8-4450-9F61-EBA97F24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2F7-37C0-4BFF-A6EA-F849B3A2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929-43BE-428D-BA4D-38B49F1A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5F286-9CDE-426C-AF7E-417EDDBA3E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 все мои скорб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стомился под гнётом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семогущий, меня поддер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чно помнит, любит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у Иисусу все мои скор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 все о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отзывчив, Он всё пойм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вет на просьбу даст изба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гонит страхи, снимет весь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и, в тревоге Тому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ил даёт мне мой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 Он вникнет, всё облег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саждает, влечёт к паде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оём сердце так много з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Он даст побе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десница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3:18Z</dcterms:modified>
  <cp:revision>12</cp:revision>
  <dc:subject>Slavic hymnal Гимны веры христиан, hymn 623</dc:subject>
  <dc:title>Скажу Иисусу все мои скорби</dc:title>
</cp:coreProperties>
</file>