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324-4CBE-443A-BD24-F8E28A1D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867-DB19-4F18-B516-B137BE0B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5DD-A4F3-4385-A570-F9E02985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1C9-E381-4AD9-987C-E51BEB26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289-7F48-43BE-9D63-59E7E14C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691-7AC5-4B92-96BF-CC266FF2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0BE-B7FC-453E-ACAA-AEC17894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588-A25A-4644-8E8C-9D0960A1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A05-870E-4703-8D12-0664190A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913-42D5-4E80-8699-ACA1AB4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1E8-3B6B-4D31-9E73-1096B27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141-D7D9-44E4-BB15-75BE38E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7E903-21D2-4DA3-BA89-6AB5DA72FFD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—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, Он —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 из мёртвы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ним склон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свой возвы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Христос —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22:11Z</dcterms:modified>
  <cp:revision>14</cp:revision>
  <dc:subject>The Source, song number 158 in Russian</dc:subject>
  <dc:title>Он — Господь / He is Lord</dc:title>
</cp:coreProperties>
</file>