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ECF-12AB-4985-BD18-338F809E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1F2-5B44-4AC7-B517-C7AE7EA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3C9-229A-467A-B81E-AFA75F57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0DD-9819-4E74-901E-EFB1AE6F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409-A109-4079-988C-9524F576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2D9-194C-4E36-924F-41DE4157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DDC-671E-4746-96B0-83350DFE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0A6-DC17-498E-843F-2238A44F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D98-F7A0-49EC-AAAE-0BC31DFD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A99-0EC1-42B8-864B-DC9BAAA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1B3-2147-426C-A436-380F0F26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C2D-5BEB-4743-872D-A4A7A32E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18E9-BFA7-4D47-BB06-304B8A1505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urn Your Eyes Upo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28Z</dcterms:modified>
  <cp:revision>10</cp:revision>
  <dc:subject>The Source, song number 533</dc:subject>
  <dc:title>Turn Your Eyes Upon Jesus</dc:title>
</cp:coreProperties>
</file>