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59E9-C83B-45A2-BAF3-05E004969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4C14-363E-41E3-8B4C-95B5311EC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1FA9-838A-44AB-9C7A-CE4D7F716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E6E7-EB81-48AE-9FD7-C301EB092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5DA0-241B-40C3-A07C-0AF1063D6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ADC0-E76C-48EE-A581-CA6A197A0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5B7E-0B67-42BB-A62F-6AF531595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9499-DA01-4B55-B5A6-9F60E4D8B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9AD4-A314-4FEF-B801-6EC4C10E4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73BD-47EE-48E9-AA77-28198E9E2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7FA8-D552-47D0-ADAD-2AA5DA3AA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0AA8-1FA0-4D2E-B7F3-DEFAB5F65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94E9DD-8B4F-4B8B-8B31-CE56D2F7DFA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6012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Верю в обещания Христа Царя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Песнь хвалы пою, к Нему душой смотря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«Слава в вышних Богу!» уж взошла заря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Верой в обещания стою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Верой, верой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Верой в обещания стою, стою я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Верой, верой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Я верой в обещания стою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4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ерю в обещания Хрис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Верю в обещания, Ему хвала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Не страшусь я грозных бурь греха и зла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Лишь бы милость Божия со мной была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Верой в обещания стою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Верой, верой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Верой в обещания стою, стою я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Верой, верой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Я верой в обещания стою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Верю в обещания Христа ко мне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Отдаюсь Ему я всей душой вполн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И хочу с Ним быть на правой стороне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Верой в обещания стою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Верой, верой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Верой в обещания стою, стою я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Верой, верой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Я верой в обещания стою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6012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Верю в обещания, я в них креплюсь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Благодатью Божьей в сердце веселюсь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Радостно воскликну, как пред Ним явлюсь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Верой в обещания стою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Верой, верой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Верой в обещания стою, стою я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Верой, верой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Я верой в обещания стою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7T00:16:47Z</dcterms:modified>
  <cp:revision>13</cp:revision>
  <dc:subject>Slavic hymnal Гимны веры христиан, hymn 640</dc:subject>
  <dc:title>Верю в обещания Христа Царя</dc:title>
</cp:coreProperties>
</file>