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D98-F96C-4A6D-8709-1E694B58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8CF-FA24-49F5-AD88-8C64992F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AD1-2109-4942-8610-32E4253C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D3F-DFB8-4CC1-8B7A-F5CE3DD1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7507-BD5F-4615-B678-4ADBA213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735-C3D6-4003-A490-885AF3EC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918-2039-4A15-80FC-A34EC953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A5A-ED13-4B10-8FD4-1C764610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E76-1E22-4F78-895C-E9498E32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CBF-D57F-4D1A-8AC3-BA2322DB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DF1-84F5-445D-8B41-9B1C914E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52B-179E-491C-ADC0-6799CFA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39726-3860-497C-AEAA-BA92E743A9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що денно Даниїл мол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 рази молився й Пророк Іл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ові Даниїла Бог сам хорон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лля як молився дощ з неба полив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9   Три рази що д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37Z</dcterms:modified>
  <cp:revision>12</cp:revision>
  <dc:subject>Slavic hymnal Гимны веры христиан, Ukrainian hymn 99</dc:subject>
  <dc:title>Три рази що денно Даниїл молився</dc:title>
</cp:coreProperties>
</file>