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C39D-47FC-4F58-8189-AF4AEA72F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18C2-BF97-43FB-9793-17D13098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408C-6F3B-4418-864F-AA5C70C4E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4118-886F-46F9-AA80-05E1305AF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FCC2-DDA8-4EDD-BBE1-2126502A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935D-B490-4977-93C9-0F019A8F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C164-0288-4961-A014-9A2B02FB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98DA-31C8-451F-9FDB-F92FA387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0B2F-2EC4-4CBB-A18C-22733E7C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59F6-A37C-4C2B-A00C-87E8B0E0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DF34-095D-413C-895E-C6BE5005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3050-92BD-46B5-B349-D665F170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A9153-B2D9-4220-A8ED-9A554C77893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come into Your presence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sacrifice of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song I will exalt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hol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give You all the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elivered me from sh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created in Your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Your hol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81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Will Come Int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 Him up, His name be lifted hig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 Him up, exalt His holy 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 Him up, His name be lifted hig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xalt His hol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7:37Z</dcterms:modified>
  <cp:revision>11</cp:revision>
  <dc:subject>The Source 2, song number 815</dc:subject>
  <dc:title>I Will Come Into Your Presence (Lift Him Up)</dc:title>
</cp:coreProperties>
</file>