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a:t>
            </a:r>
            <a:r>
              <a:rPr b="1" lang="ru-RU" sz="3600" spc="-1" strike="noStrike">
                <a:solidFill>
                  <a:srgbClr val="ffffff"/>
                </a:solidFill>
                <a:latin typeface="Verdana"/>
              </a:rPr>
              <a:t>	</a:t>
            </a:r>
            <a:r>
              <a:rPr b="1" lang="ru-RU" sz="3600" spc="-1" strike="noStrike">
                <a:solidFill>
                  <a:srgbClr val="ffffff"/>
                </a:solidFill>
                <a:latin typeface="Verdana"/>
              </a:rPr>
              <a:t>Боже вечн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вечный, кто из смерт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 Тебя позн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бе наш мир безмер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помог соз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источник всякой жиз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чишь Ты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возник и мир исчез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лею Тво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оже сильный, кто из тлен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закон пойм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ничтожил Ты надмен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ой бурных в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рясёт всего основ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последний су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миг не станет нечестив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ибель навлеку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же дивный, хоть безмер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щь Твоя вез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гвождён Ты был позо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народ живёт до 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рахе и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 Твоё, а места в мир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дают Теб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оже славы, в милосерд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открылся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е всё кладём в смир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к Твоим ног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Тебя служить — отра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ереть — не стр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ойти навеки в ра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етлых небесах.</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7:35Z</dcterms:modified>
  <cp:revision>3</cp:revision>
  <dc:subject>Slavic hymnal Гимны веры христиан, hymn 27</dc:subject>
  <dc:title>Боже вечный, кто из смертных</dc:title>
</cp:coreProperties>
</file>