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E41-F6D9-4742-9A0D-A1D9E90F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C0A-864F-4ECE-948A-DC66666F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493-B93B-45E2-9829-3AAC69C7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6E3-E0FE-48DC-829D-493EE291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ABF-8DB8-4F37-8AD9-624C6E3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4B9-5EAB-4D6C-8CA1-E9D2380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E98-534F-4281-95BB-B0F1669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79C-D135-48F4-80F9-2FC6DED4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FA1-848F-4C94-8AB0-DCCF8AB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C54-AC52-46FA-9C2C-2B19F402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48A-E8F5-4FE3-926C-F1135951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4F4-A197-424D-8C1E-4EB67E9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4C78F-E5D0-4663-9D86-9D9D2A53AC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і літа моло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жії сили в ці дні в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рисвятім їх І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р для Нього дорогий (дорог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може бути ще кра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ля Ісуса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, у житті цім дочас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Христу при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присвяти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7   Кращі літа молод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, як Христос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благодатний для нас наст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вагатись не мож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нам життя дарував (дарува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! Ми прапор підійм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менем чудни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небесний зогр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любов у серцях (у серця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, во ім’я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перед в боротьбі з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сячі гинуть в темря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світлом до них ми підем (ми піде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нас зустрінуть гон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вірою все перемо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слави Спаса Христа (для 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9:01Z</dcterms:modified>
  <cp:revision>12</cp:revision>
  <dc:subject>Slavic hymnal Гимны веры христиан, Ukrainian hymn 87</dc:subject>
  <dc:title>Кращі літа молодії</dc:title>
</cp:coreProperties>
</file>