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4382-F220-4AF0-9AE8-20175623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F8D-5269-41CD-BE3C-77E794A5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CCE5-A478-4519-B3E6-23FC4EC0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2008-18D6-4D19-8B0D-AA6A0129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82FC-9CAF-476C-A5E0-F5A65429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BE0-C213-4FA5-BFBF-C2011C2F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08F-1CE1-4592-9CAC-20A55729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557-8164-492B-ADDE-597261EB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B3CE-9B9A-4EFD-8BF5-5EB9847E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AAB-0FF7-4585-8427-09D54A51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E70-4020-45D4-AB6C-EF36E3A6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686-BB4A-4BE6-8ED8-D36A8FEC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05D71-0A93-4CAA-B031-FC5582ED155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у пречисту к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й Його сл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о знаю правда 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а є найдоро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ене, понад в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кр-1   Люблю розповід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дивні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життя прекрас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всі Його ді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те, що Він зроб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ля мене, і тому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Розповідаю всі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овторяти в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Чим більше розпові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оно солодше 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Тим, що не чули 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добру вість спасін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тру Бог всім дає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исп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юблю розпові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буду повторя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ро Спаса всім каз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 про Його лю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03T06:17:26Z</dcterms:modified>
  <cp:revision>13</cp:revision>
  <dc:subject>Slavic hymnal Гимны веры христиан, Ukrainian hymn 1</dc:subject>
  <dc:title>Люблю розповідати</dc:title>
</cp:coreProperties>
</file>