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5</a:t>
            </a:r>
            <a:r>
              <a:rPr b="1" lang="ru-RU" sz="3600" spc="-1" strike="noStrike">
                <a:solidFill>
                  <a:srgbClr val="ffffff"/>
                </a:solidFill>
                <a:latin typeface="Verdana"/>
              </a:rPr>
              <a:t>	</a:t>
            </a:r>
            <a:r>
              <a:rPr b="1" lang="ru-RU" sz="3600" spc="-1" strike="noStrike">
                <a:solidFill>
                  <a:srgbClr val="ffffff"/>
                </a:solidFill>
                <a:latin typeface="Verdana"/>
              </a:rPr>
              <a:t>Миру зла, греха и забот</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Миру зла, греха и забо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н источник жизни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 смерти Божья Сына н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немогший грешник пок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заветной верой жив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оже, моё сердце сог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Смерти и страданий цен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с Христос от зла искуп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н след и терновый венец</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 челе Распятый носил.</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Жертвою Христа, Боже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ё во мне очисти скор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Боже! Я всю бездну грех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ины своей созн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меня нет добрых трудо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идишь Ты Сам немощь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Радости источник свят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мне средь житейских скорб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4"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нега белей, снега беле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ровью Иисуса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буду я снега белей.</a:t>
            </a:r>
            <a:endParaRPr b="0" lang="en-US" sz="3200" spc="-1" strike="noStrike">
              <a:solidFill>
                <a:srgbClr val="000000"/>
              </a:solidFill>
              <a:latin typeface="Verdana"/>
            </a:endParaRPr>
          </a:p>
        </p:txBody>
      </p:sp>
      <p:sp>
        <p:nvSpPr>
          <p:cNvPr id="45"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6:38Z</dcterms:modified>
  <cp:revision>3</cp:revision>
  <dc:subject>Slavic hymnal Гимны веры христиан, hymn 165</dc:subject>
  <dc:title>Миру зла, греха и забот</dc:title>
</cp:coreProperties>
</file>