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4C0-E896-4DB2-AF48-4177F53B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0B0-E70A-49F0-B26E-F6613A17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527-D0CC-4764-9ACC-6896E993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7FE-3696-487A-84DE-AE8ACAE7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6D9-12A3-46EC-9A29-5B14153B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721-EC71-4E9E-997C-3C5D8308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644-59E4-4C94-B21B-F48BCD9F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3FE-7B83-431D-AEA5-E481D027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334-5E15-49E6-8D23-40FE820B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FAE-46DB-4BCD-8B9E-BBEE9F14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FB2-FFD4-4AE1-9141-C2B257D2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BFA-7CD8-4265-84A3-B33BDA35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A218F-2742-4BDC-B7BC-78E59602E0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Сын Божий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жизни откр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ами Своими Он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ых язв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вца блуждал я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меня всё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вь Свою Сын Бож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нец терновый по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за нас Он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Он всё претер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лечёт поток тот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ко Христу всё силь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ю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, согрешил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хочу я откр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я виновен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ем греха мне не с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к Тебе я 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еня поток тот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благодатной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8:05Z</dcterms:modified>
  <cp:revision>12</cp:revision>
  <dc:subject>Slavic hymnal Гимны веры христиан, hymn 431</dc:subject>
  <dc:title>Кровь Свою Сын Божий пролил</dc:title>
</cp:coreProperties>
</file>