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E2A-5BD5-49A7-ABFF-D0F351F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C65-84D0-455D-A92F-CBE104F4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F44-9AB5-44C5-ADCE-14A186A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60C-C29B-41B3-9BDE-0DCA203D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FC7-F9EB-41EA-9173-8BE6D8ED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402-0D8B-4DA5-AC6F-2D42220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BF2-B37B-4154-B080-4A73E86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B75-6CA6-47C6-807B-14007031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245-92E8-4D61-9107-3010426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24A-0E53-4475-9D79-40B1E2E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DD0-CD98-40C6-88B4-791D62B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323-8003-4A7B-B9B6-85BE740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B5339-36F3-402D-8C10-5F6883C0CD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29Z</dcterms:modified>
  <cp:revision>12</cp:revision>
  <dc:subject>Slavic hymnal Гимны веры христиан, hymn 833</dc:subject>
  <dc:title>Куда доходит солнца луч</dc:title>
</cp:coreProperties>
</file>