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66D7-76FA-4AC3-B09C-55FA62BC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0601-C53A-477B-8BD2-C70997D4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9792-A941-4DA2-8A14-73FCFD84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0711-B765-4691-B5C2-9613BA5D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9BC6-E0D7-48C5-9F29-9C25A0AE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6F0E-6C16-47E5-A2AC-B5301A03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5897-6C7F-49F1-A687-CCB46E51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A302-1FCC-4046-99B9-978D1CB3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80CE-E7F3-4366-A340-60BC7AE7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0A25-875D-4698-8538-2F1DC5C2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08CE-8C35-4DE4-B3A6-3491B841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4E66-7A5B-4C8F-A0D3-C00BA083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931ED-FCA8-499F-B7AA-BD49635B496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Бога я блуж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но все силы расточ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домой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Твой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куплен, теперь я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дали от Бога я блужд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ного лет без Бога 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грех мой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домой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Твой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куплен, теперь я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Бога тяжко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очу теперь сл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домой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Твой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куплен, теперь я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7:45Z</dcterms:modified>
  <cp:revision>12</cp:revision>
  <dc:subject>Slavic hymnal Гимны веры христиан, hymn 432</dc:subject>
  <dc:title>Вдали от Бога я блуждал</dc:title>
</cp:coreProperties>
</file>