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771-998C-4543-A03A-27A21EE5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5EF-8BF2-4038-96DC-0102FEAC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071-FEE0-4426-9C1F-50DE541B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7CC-7D2D-47E1-8437-7287D8CC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02C-4ED2-49DD-A34D-6C41FEB0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DCB-A0A2-46DA-AD0E-91D56517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9DD-B7A6-4810-B79C-537C8D16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D0B-4C49-423E-9C8A-DF1B6DA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EB6A-BE73-4669-882E-B33AA29A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D59-9D84-4261-BAD7-BA389C8E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C09-3F52-44E1-90E8-8770B470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AA6-E65A-4A61-9A3E-3C5C0C2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DCDC-F2F0-4B0C-A6F5-13A9F5FF8B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го есть Христос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те, богатства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моё есть сокрыто в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же всего ест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грешник великий и был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не сиял мне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пришёл, — меня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наследье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жертва одна была в силе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Богом меня прими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был Искупитель, отдавший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Он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вал и наставил, и путь у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мне в сердце в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 Он учит и в свете 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в сердце 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ать и отец мой оставя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теряю я здес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ул я к Иисусу,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я сокры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ищ и оставлен, — я в силе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с Иисус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18Z</dcterms:modified>
  <cp:revision>12</cp:revision>
  <dc:subject>Slavic hymnal Гимны веры христиан, hymn 417</dc:subject>
  <dc:title>Дороже всего есть Христос для меня</dc:title>
</cp:coreProperties>
</file>