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17B1-7BDE-4252-9A61-2760791D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665-8742-4921-81BC-EBB754EF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791C-3971-4C52-856B-CA7CB470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5823-3A0B-45A7-AE6D-CC41A1E1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D37-E300-499A-9439-16422407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0431-F2AF-4F84-BFAE-98DA35D1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0635-55E8-4AAB-B9E1-F322F7F2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601-CAF3-4C72-B17E-C37EF136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1CE-815C-4F91-A233-7B743089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1608-B6CB-420A-8236-67784990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EEB5-FB0A-49BE-8B4C-3EFC1C4B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AB4-5424-490C-AE4A-C8C73B03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6927C-C1E8-4C1E-A23E-B50CCE4DEDF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итя в хлеву чуж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 охраня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хор поёт о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астухи вним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есть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в мир с небе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севышним 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ын М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за Дитя в хлеву чуж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же в яслях Он ле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вцам корм дав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який мог у ног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жить свои печ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есть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в мир с небе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севышним 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ын М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 дар золото, ла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ирну принес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Царь царей, пред Ним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сердца отвор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есть Христос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едший в мир с небе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м Всевышним д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Сын Ма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7:06Z</dcterms:modified>
  <cp:revision>15</cp:revision>
  <dc:subject>Slavic hymnal Гимны веры христиан, hymn 800</dc:subject>
  <dc:title>Что за Дитя в хлеву чужом?</dc:title>
</cp:coreProperties>
</file>