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430-587A-4FFA-8F21-4505AAF2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FA2-AB15-45EB-868A-C83E863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70E-E0AF-4F11-938B-6C71AFBD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59E-6049-4EDC-80BF-9A9ECA0B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50E-46AD-4FAE-A691-3D586428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156D-9304-495A-AC17-8AFA613F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6D2-8706-4632-AFF4-4C5A595A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EAA-B608-42F1-B9A0-F5C6CD11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25C-8E0E-4856-A481-966D3C6A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A6A-D4DD-40D8-94B9-11685F0B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812-4C0F-4EA0-ADFE-1E42D3CF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773-C589-4C85-93EF-B2E0B0A8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B200B-ACBD-41DD-B0D9-42DA07CD6F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28Z</dcterms:modified>
  <cp:revision>12</cp:revision>
  <dc:subject>Slavic hymnal Гимны веры христиан, hymn 622 (as amended)</dc:subject>
  <dc:title>Сладко верить в Иисуса</dc:title>
</cp:coreProperties>
</file>