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DD6-B5B5-4188-B6C9-93372328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693-AF7B-4949-B531-C18D8FA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FCD-B12A-48BE-98EA-0CDED490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B91-D293-4F87-BFB2-AF7FCF6E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217-19A4-4DEB-9BF9-285A149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4B8-CBE8-4FE9-81BC-40FB018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022-4618-4671-9115-0029184F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D44-18FD-45B7-B07D-5CA146D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152-8AFD-426B-9DB5-195EE067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A63-2EB0-4CEA-B965-49CE5612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682-5EE6-4B7D-BB6C-872240D5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E41-236C-46A3-9A2F-691FB61C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1FD9F-B982-4FD8-BDA7-9A1F6CB58A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dly life’s billows ’round my soul are beat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erce is the tempest, dangerous is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iven by terror, I come to Thee,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ther in heaven, O hear Thou my plea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y great mercy, help me, I implore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have I struggled, but to no ava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trength is spent—I cast myself before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my Father, without Thee I fall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to the calmness of Thy harbour guide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stil a peace and trust within my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id life’s tempest stay Thou o’er besid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 me at last to my heavenly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37Z</dcterms:modified>
  <cp:revision>12</cp:revision>
  <dc:subject>Slavic hymnal Гимны веры христиан, Ukrainian hymn 85</dc:subject>
  <dc:title>Wildly Life’s Billows Are Beating / Сумно бушує життєвеє море</dc:title>
</cp:coreProperties>
</file>