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00A9-A188-4976-BA50-0E99CC26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437-B25B-41F4-AE06-B1F48217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B44-F4F6-4FD2-BE96-0208F554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BFF6-6DD4-48E8-A242-94716398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321-FBD7-4B70-8A3A-6ACC42DB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69C-0D1B-4EC6-98BB-AB114948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8FB-6B43-4840-AF89-1B6E00D3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626-0BE8-41FE-AAF7-2282C5FC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798-7F3B-4C59-8EDD-1B0BD467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8286-F336-4808-A942-4420B1A1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638-36E9-4E94-83CD-C5DFA588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1A56-38F8-4931-8EB7-46021BE7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6B5F9-DB04-43D5-A0EC-CB15A8FCD8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ord of words the sweet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 words, in which there 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romise, all fulfil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nd of myste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слово дорого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ово дорого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жизни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то в нём свят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о благ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menting or rejoi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doubt or terror n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 the “Come!”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His cross I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ю иль стра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мненья ли вп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зов: «Прийди!» услы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у я ко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ry, heavy-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ul! why shouldst thou w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such a loving Fri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ing closer, closer to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y with Him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отд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иг не удаля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ник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as! I am so help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very full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ever wand’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oming back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ы! Я один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ен усто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ухожу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льну к Нему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ry, heavy-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each time draw me near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oon the “Come” may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but a gentle whisp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ne close, close to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ки к Себе Ты мощ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изко дай приль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й и в час полн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мне усну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over sea and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from or near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take Thy hand and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at sweet whisper “C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й чрез все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стречу я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 земные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радостно ид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ry, heavy-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h come to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1:56Z</dcterms:modified>
  <cp:revision>13</cp:revision>
  <dc:subject>Slavic hymnal Гимны веры христиан, hymn 370</dc:subject>
  <dc:title>O Word of Words the Sweetest / О слово дорогое!</dc:title>
</cp:coreProperties>
</file>