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238-7DB6-4A4C-A2D8-2BDFAA8E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7A1-7AF2-413D-B433-D926D03C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5C9-0CBA-4F80-BC32-2552958D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687-F78F-4B7A-942D-8123620E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82F-76F9-4ACF-A0BD-453CE404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D8F-4B78-49B6-9E11-67B77B71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309-C9DA-42EA-B43C-160196AB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AC6-3182-4CBC-8C43-85980D78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850-F59B-41D0-9031-9618512F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F8A-5805-4E10-827D-765687FB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EC9-0D32-4830-819F-E0D8B20C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69F-48E1-452A-9FD8-6CDC8C64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9A507-B69A-4AA3-A35F-4EB0DD1299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turn our hearts from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ower alone can sanc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eep us pure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шь Дух Святой вле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лечё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вного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им радость без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равде соблю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deeper love inspi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ower alone within our sou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light the sacred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селяет 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ую любов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гон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л во тьм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can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ifts we seek in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can words of comfort sp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ill each wave of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несёт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аждем мы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овую везде т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сердцам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oly Spirit, Lord, can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ace we need this h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ile we wait, O Spirit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anctifying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помог по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благод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мы ждём,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ь и 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7Z</dcterms:modified>
  <cp:revision>13</cp:revision>
  <dc:subject>Slavic hymnal Гимны веры христиан, hymn 313</dc:subject>
  <dc:title>Thy Holy Spirit, Lord, Alone / Лишь Дух Святой влечёт сердца</dc:title>
</cp:coreProperties>
</file>