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D0A-DDDB-49D1-BBBF-46409DC7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F7B-C443-409B-BDEF-E3B1CA8F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572-BA22-4C09-99E3-FD0B9703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C8D-2A2D-4555-A71A-C6CECB0D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7F6-DC21-40B8-8E8A-6E738F10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E20-74BD-45A6-A21E-B78988C1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853-45B9-4862-AF18-9DDEFC96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877-1B72-4B08-863D-ECD61FA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2C8-1E92-4409-B4E5-50D1E2EF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87F-2A5B-466E-963C-C87590B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CAC-8514-471A-88F9-84CEA1D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69B-2E36-4046-A0F2-93F5EDD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F0EF-B9CC-4A58-BEB4-F8E614E7E2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14:28Z</dcterms:modified>
  <cp:revision>12</cp:revision>
  <dc:subject>Slavic hymnal Гимны веры христиан, hymn 871</dc:subject>
  <dc:title>Творенья Божьи на земле</dc:title>
</cp:coreProperties>
</file>