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D03-79F8-431A-A2BB-DFC7767C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50B8-77D9-44C1-B6EE-570618C7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107C-8085-4208-8B00-441BB5E1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75B-33C6-4AFA-BBFD-A38048E7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474-C437-48A2-812F-E4AC3369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8B6-2943-43ED-B514-22A6C172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DA42-8A7A-4A86-AB9E-4E6BD063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AAB-2E55-41D5-BD21-2CF88278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D4A-594A-4DB6-93CD-9BAE2583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1718-622E-40F5-A8AC-8A3C1EA9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A0B-C8EB-4275-9487-97B4C2C8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4FE-AC6B-48CB-94FD-3EC316DA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078D6-A3D0-44B0-8FCA-430706497B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побе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ечной прост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те в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, слава, 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адлежат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победивши смер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 на выс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, Владыкой 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небом и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мерть и ад поп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аё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ждит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бранных с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возь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9:32Z</dcterms:modified>
  <cp:revision>12</cp:revision>
  <dc:subject>Slavic hymnal Гимны веры христиан, hymn 882</dc:subject>
  <dc:title>Ликуйте во Христе</dc:title>
</cp:coreProperties>
</file>