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22</a:t>
            </a:r>
            <a:r>
              <a:rPr b="1" lang="ru-RU" sz="3600" spc="-1" strike="noStrike">
                <a:solidFill>
                  <a:srgbClr val="ffffff"/>
                </a:solidFill>
                <a:latin typeface="Verdana"/>
              </a:rPr>
              <a:t>	</a:t>
            </a:r>
            <a:r>
              <a:rPr b="1" lang="ru-RU" sz="3600" spc="-1" strike="noStrike">
                <a:solidFill>
                  <a:srgbClr val="ffffff"/>
                </a:solidFill>
                <a:latin typeface="Verdana"/>
              </a:rPr>
              <a:t>Хвалу Небесному Отцу</a:t>
            </a:r>
            <a:endParaRPr b="0" lang="en-US" sz="3600" spc="-1" strike="noStrike">
              <a:solidFill>
                <a:srgbClr val="000000"/>
              </a:solidFill>
              <a:latin typeface="Verdana"/>
            </a:endParaRPr>
          </a:p>
        </p:txBody>
      </p:sp>
      <p:sp>
        <p:nvSpPr>
          <p:cNvPr id="39" name=""/>
          <p:cNvSpPr/>
          <p:nvPr/>
        </p:nvSpPr>
        <p:spPr>
          <a:xfrm>
            <a:off x="539640" y="828720"/>
            <a:ext cx="918072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Хвалу Небесному Отц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пешите вознес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 землю Сына Он посл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грешников спас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удь благословен! Будь благослове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удь благословен, наш Госпо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удь благословен! Будь благослове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удь благословен, наш Господь!</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918072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Он выше всех превознесё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Отцом на троне О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бесный хор поёт хвал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скресшему Христ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удь благословен! Будь благослове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удь благословен, наш Госпо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удь благословен! Будь благослове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удь благословен, наш Господь!</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918072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Христос — Спаситель, верный Дру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традающих людей,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ерпел позор и много му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всех в любви Сво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удь благословен! Будь благослове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удь благословен, наш Госпо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удь благословен! Будь благослове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удь благословен, наш Господь!</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918072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Советник, Чудный, Мира Княз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ладыка всех влады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дёт опять в нежданный час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будет Он вели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удь благословен! Будь благослове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удь благословен, наш Госпо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удь благословен! Будь благослове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удь благословен, наш Господь!</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3T08:36:58Z</dcterms:modified>
  <cp:revision>3</cp:revision>
  <dc:subject>Slavic hymnal Гимны веры христиан, hymn 122</dc:subject>
  <dc:title>Хвалу Небесному Отцу</dc:title>
</cp:coreProperties>
</file>