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D7A-BC72-420D-8172-C7972E7F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519-4B26-44C1-BA0B-97675D3A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F4D-0795-4B34-8C24-3F86E48B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0F7-C949-414F-9DE2-FF30E568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A20-B7F6-47C9-9152-A91DB54C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651-BDA3-47B6-8B85-4C8C1174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53C-A7EF-43C6-A873-F754D15F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9DE-0601-4DA2-8887-B92A3207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3B5-B2E9-4CB5-8B89-C878A2D0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B40-7D7A-4950-ACEF-668FE62A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7F1-285A-4793-8672-5D3226C1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05A6-7519-46B6-8F95-ED66339A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72B1E-C1F9-4894-A02C-2E9F9CBF6A0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bless the Lord for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trust Him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delivered me from all fe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has set my feet upon a r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ll not be mov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ay of the L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43   I Will Bless the Lord For 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ortion, deliv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elter, strong t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very present help in time of ne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om have I in heaven but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’s none I desire besides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ay of the L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ortion, deliv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elter, strong t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very present hel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ortion, deliv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elter, strong t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very present help in time of ne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made me gl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say of the L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shield, my streng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portion, deliver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helter, strong tow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very present help in time of need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00Z</dcterms:modified>
  <cp:revision>12</cp:revision>
  <dc:subject>The Source 3, song number 1343</dc:subject>
  <dc:title>I Will Bless the Lord For Ever (Made Me Glad)</dc:title>
</cp:coreProperties>
</file>