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894-ADC8-4CD0-95E4-D6ED5140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D10-CE40-4685-92D7-DA20262C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717-ED67-45A6-B7BF-BAD48C42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779-E69B-4A12-BED4-5E81218A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95D-8771-4771-B083-689FE747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5E5-0113-40BC-9E82-943951E2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991-7094-4F2B-9435-65EA723D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85AB-8CA3-4E7C-95B4-018FED5F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6A2-6654-4679-84BB-692DC879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8FB-0F96-4C6F-BEA3-1962C430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BB2-7ED0-458A-AE26-BAC297E2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3CD-217F-4951-9A65-0C8D5A66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E53C1-DFDB-4EAD-880A-79E970A469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eadfa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rd never cea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mercies never come to an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are new every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w every mor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y faithfulness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y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0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Steadfast Love of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35Z</dcterms:modified>
  <cp:revision>11</cp:revision>
  <dc:subject>The Source, song number 505</dc:subject>
  <dc:title>The Steadfast Love of the Lord</dc:title>
</cp:coreProperties>
</file>