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360360" y="395280"/>
            <a:ext cx="936000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3</a:t>
            </a:r>
            <a:r>
              <a:rPr b="1" lang="ru-RU" sz="3600" spc="-1" strike="noStrike">
                <a:solidFill>
                  <a:srgbClr val="ffffff"/>
                </a:solidFill>
                <a:latin typeface="Verdana"/>
              </a:rPr>
              <a:t>	</a:t>
            </a:r>
            <a:r>
              <a:rPr b="1" lang="ru-RU" sz="3600" spc="-1" strike="noStrike">
                <a:solidFill>
                  <a:srgbClr val="ffffff"/>
                </a:solidFill>
                <a:latin typeface="Verdana"/>
              </a:rPr>
              <a:t>Когда тяжесть нам</a:t>
            </a:r>
            <a:endParaRPr b="0" lang="en-US" sz="3600" spc="-1" strike="noStrike">
              <a:solidFill>
                <a:srgbClr val="000000"/>
              </a:solidFill>
              <a:latin typeface="Verdana"/>
            </a:endParaRPr>
          </a:p>
        </p:txBody>
      </p:sp>
      <p:sp>
        <p:nvSpPr>
          <p:cNvPr id="39"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Когда тяжесть нам на сердце ля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огда душу горе сильно свяж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Когда слёзы наш покой наруш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ли тайные грехи нас муча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Если видим бедствия приход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мерть и голод страшно всюду бродя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360360" y="828720"/>
            <a:ext cx="936000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Если с миром не хотим погиб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желаем царствия достигн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о всё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1" lang="ru-RU" sz="3200" spc="-1" strike="noStrike">
                <a:solidFill>
                  <a:srgbClr val="ffffff"/>
                </a:solidFill>
                <a:latin typeface="Verdana"/>
              </a:rPr>
              <a:t>Припев</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ажем Иисусу, скажем Иисус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н — Друг известен нам всем.</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т уж брата или друга луч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ем наш Спаситель Христос.</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5:52Z</dcterms:modified>
  <cp:revision>3</cp:revision>
  <dc:subject>Slavic hymnal Гимны веры христиан, hymn 163</dc:subject>
  <dc:title>Когда тяжесть нам на сердце ляжет</dc:title>
</cp:coreProperties>
</file>