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497-961C-4EAE-BD60-5AAE88C2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EA3-B235-45E5-A4B7-EA733F01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9AB-AD04-4B3D-8626-1CB70F6B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D74-1EC8-4A4F-A10A-8CE33C5F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740-6BD8-4ADE-AA44-B22EBB9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B13-0FF9-4CB2-8F07-961A750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AAA-E1C0-475F-8D31-60F223D4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E64-58E5-4EB1-8189-1FFBB96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865-165E-4B84-B9DA-24EA141D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047-92BF-43AA-8078-D8C02FA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D18-603B-44D9-B05D-BFC1A7DF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9FA-6A44-43E0-BF53-596310DB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10167-C68B-49BE-B781-1A2D5E7E31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rejoice and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the glory un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the Lord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lmighty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2   Hallelujah, For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5:49Z</dcterms:modified>
  <cp:revision>12</cp:revision>
  <dc:subject>The Source 3, song number 1232</dc:subject>
  <dc:title>Hallelujah, For the Lord Our God (Hallelujah, Our God Reigns)</dc:title>
</cp:coreProperties>
</file>