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A31-5D1D-4947-8567-7195014B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50D-26A2-4B5E-806A-0738CA5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AFC-CAB0-49F4-AEA6-6BDF870A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C82-272B-4DBE-B488-F36D76F0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CA5-2304-42D1-A4AA-2781D264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EB6-6C43-4540-ADDB-2D56934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469-B38B-41D4-BE6D-123547E3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79E-F36A-4927-A85B-28D05CE3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F3D0-4114-431F-82B9-798F5516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F813-D8C8-405D-87A4-ED0C505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557-DF38-407E-B651-E6C81F3E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912-F50E-4333-AE22-0CACF50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F6B78-2A99-4CEC-A41B-B029D83A4E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worthy to be praised and ad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lift up holy hands in one acc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, “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Name of the Lor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lessè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19Z</dcterms:modified>
  <cp:revision>11</cp:revision>
  <dc:subject>The Source 2, song number 647</dc:subject>
  <dc:title>Blessèd Be the Name of the Lord</dc:title>
</cp:coreProperties>
</file>