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E92-96C6-4ECC-B287-81531672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ADB-FFC8-45B8-A9F8-33160ADA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8F6-E25C-4956-95DE-6261DB00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703-AEA0-452B-BE81-E293F21C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CC9-DC60-4A4C-8C36-5C60F12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C0C-1DCD-4683-94B4-95297F27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6AD-D102-4B6F-AC7F-24515400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DF0-5634-4A71-A727-BDD32E59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83E-EDD3-42D5-BFBD-CC17869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935-A20D-493A-8D9A-865FF35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C4D-6008-44C9-8BF9-54B799A2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71C-C476-43D4-8ABA-356D5B1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EE26-AA3B-414B-937A-E64E139775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33Z</dcterms:modified>
  <cp:revision>13</cp:revision>
  <dc:subject>Slavic hymnal Гимны веры христиан, hymn 617</dc:subject>
  <dc:title>Ты знаешь путь</dc:title>
</cp:coreProperties>
</file>