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63B-6459-4933-B34D-E77BE26D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7D1-078A-4798-A600-7745DABC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8B3-5EEC-4048-B7C1-D076E6AF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1AD-0DEF-42DC-9001-6B0941F6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967-03E3-430E-BAF0-0AEFA7A8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83D-CE0D-4677-A298-D754901B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29A-F824-407B-81BF-2ACE007B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8F2-13F5-4177-B554-1951B69D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1A5-C787-446A-9032-C9DC00D5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B17-6877-4A37-B348-9D96B491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B12-1712-4317-B10D-8B047B48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D68-1939-4D69-8966-817C349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52F35-FA53-4751-85C9-C123813BFC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в последн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Твой с громкой пес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вслед за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ывал Ты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лушной 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дал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ди нас, Царь Небе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исчез с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ету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е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опьями, с ме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ужасом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добрыми д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Твои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итва не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ы, там све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ишь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крест, Твои 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кавый не затм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енец побе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Боже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1:32Z</dcterms:modified>
  <cp:revision>12</cp:revision>
  <dc:subject>Slavic hymnal Гимны веры христиан, hymn 828</dc:subject>
  <dc:title>Веди нас, Царь Небесный</dc:title>
</cp:coreProperties>
</file>