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DE31-A268-4C0E-B772-584893E5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76C5-E426-4EB0-8217-143C94DC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578B-E629-4070-B3F2-56B1B7CB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6156-E7E5-4CDB-B1A9-24DA8927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4B7C-2641-4611-867E-663C7177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1377-C62D-4040-AD9D-E7FD89B2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C8B7-975D-4F64-BD0A-906EC709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A695-442C-4038-A3F2-00EEC704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3FD8-C40B-46E3-930A-FB8753FB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A7A2-9DB8-4825-BCC9-6E947C6D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7525-6A7C-48BC-8CC7-0F3E0A52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153B-0704-4376-AA78-086F6DE7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A5092-DB06-474A-9AB8-A9632CC97FA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онской горнице убра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трапезу раздел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ред тем, как был преда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мерть Свою им возвещ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л Он Свои стра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 сию ночь предсто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возьмут Его во в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удят, чтоб рас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Сионской горн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следний раз, друзья, Я с 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ху эту соверш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ами, верными сы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т Свой новый заклю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авете новом завещ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друг друга, как с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бо всем Я вам прощ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щайте также 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аю Я Своё т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есь мир иду стра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то воспримет Моё д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му не мин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вкушайте Моё т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 пейте Мою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те Моё д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поведуйте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предание вы ставь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ршать только обря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ы каждого наставь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ыл в вере каждый бр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азал вам путь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кже ноги вам ом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ворец Своё твор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конца вас возлю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ы делай своё дело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Иуде Он сказа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родилось твоё те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е б света не ви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зачем ты поднял ру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ты был всегда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знал Мою наук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авал теб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аньте, братья, и пойдём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о место, где нас жд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те бодры, в вере сто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Меня от вас возьм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олжно пить сию ча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тцом Мне сужде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ть всю жизнь ва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в мире рождено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6:50Z</dcterms:modified>
  <cp:revision>13</cp:revision>
  <dc:subject>Slavic hymnal Гимны веры христиан, hymn 726</dc:subject>
  <dc:title>В Сионской горнице убранной</dc:title>
</cp:coreProperties>
</file>