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0C1-74F5-4AA3-9C91-DCECB8C8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A36-AAEF-411E-8324-92A2056C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C574-A403-48A7-AB0C-C6D1ABFF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964-7FFF-443B-85F5-1C3802AE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9D6-24AC-4999-852C-AFE4AE12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794-0996-4E40-8014-93EF468D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14B-B114-49AF-9A75-248EEC98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50E-1AD4-4C54-A406-D2BFC73F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D99-4F45-4D0A-AFEF-CE80A023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D97A-C459-4FEA-BF01-07A46F75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E0B-97AB-41AC-9E08-57C4470C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A21F-A65E-47A4-8AC8-8FFFF103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7C831-CDAD-4C63-A6A3-B954F5A2DF2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храм, не золотое зда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круг отобранных друзе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церковь есть собр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ом искупленны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 теперь на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 тягостных грех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 времён проше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жидаемых веко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храм, не золотое зд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 с пустыней ю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западных, восточных стр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вера, где вечна вь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шен снежный ураг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 из всех нар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й земли и всяких цар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юрем, из-под царских свод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общин всех и всяких па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душ, кто в царстве 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ились в блаженстве и хв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и молитвы воссыл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ьях скорбных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церковь — мир воскрес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новлённый род людс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наделит крест Понес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овым небом, и землё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ля покоя в мире э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церковь избра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Богом и Его за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только битва суж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борцы теперь в изгна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литы кровью бое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 слезах, она в рыд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мир, объятый суе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ень уж близок, и вели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ва — Жених её — ид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лышны радостные к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возь шум морей и гром невзго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Он взять её из м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тесных уз тюрьмы зем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дут её венец, порфи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ный рай, и пир свя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царь Давид, певец Сио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идит Лазаря в вен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бывший нищий с сыном т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лягут в Божием двор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раведный Енох, как с бра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имется в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збойником, Христом прин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имя жертвы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Церковь вечна и еди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ел бы я в ней быть слу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луг там нет. Прими, как сы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 ту Церковь, Бог благ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2:58Z</dcterms:modified>
  <cp:revision>13</cp:revision>
  <dc:subject>Slavic hymnal Гимны веры христиан, hymn 562</dc:subject>
  <dc:title>Не храм, не золотое зданье</dc:title>
</cp:coreProperties>
</file>