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81B5-FE79-4E11-9AD6-22E2C11D7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0C6A-F757-43A2-A428-541E98B6A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6DC3-3C26-4307-AC19-470B07D07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E5CC-A84E-4DF6-B212-2AB9E7D12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ADF2-02CD-4477-B3B1-EDDCE3DF4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4B47-9ACF-4EEC-82F4-5C00AB29A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67D0-D1F7-4E39-BA79-D2D0C999C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9A86-F530-4969-93EB-86206442D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8CFA-8DF1-4DFC-A389-4E066B1D6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ADAF-B23D-4C59-B028-F26B9C47B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B9D3-96F4-4DD8-BCA3-0A707F23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C12B-28C3-45F4-9294-79314718A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F03199-F276-4820-B9CD-5CD25816181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ives! He li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triumphed over deat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ives! He li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ord revealed His streng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9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ой Он смерть попра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всех сил вос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ives! He li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nthroned above all earthly strif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eads us to eternal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яньем окруж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ёт нас к вечной жизни 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dawn there came with 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me women to the to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 angel stood beside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cattered all their gl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рёй на гроб явила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рия, жёны с н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я туда, смутила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зал там ангел 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 quickly, tell the othe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He is risen from the dead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death for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st its dr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ойдите, всем скажи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мёртвых Он воскр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адость вечную принёс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ives! He li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triumphed over deat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ives! He li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ord revealed His streng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ой Он смерть попра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всех сил вос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ives! He li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nthroned above all earthly strif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eads us to eternal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яньем окруж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ёт нас к вечной жизни 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Mary stands bewilder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ill grieving in her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e sees her risen Savi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can’t contain her star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рия тут в волне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ит, скорбя душ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руг видит в изумлень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стоит пред 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e shouts in exult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Master and my Lord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quickly ru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spread the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а Ему в восторг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Раввуни!» — говор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звещать о Нём спеш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ives! He li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triumphed over deat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ives! He li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ord revealed His streng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ой Он смерть попра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всех сил вос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ives! He li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nthroned above all earthly strif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eads us to eternal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яньем окруж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ёт нас к вечной жизни 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ives! He li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nthroned above all earthly strif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eads us to eternal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яньем окруж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ёт нас к вечной жизни 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icked hands of sin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d nailed Him to the tr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r guilt and our transgr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d caused His agon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злодеев р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древо вознес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страданья, м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ом мы нанес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sweat, like blood, was fl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His disfigured br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task was done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praise Him now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авый пот струил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орьбе с Его чел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ршил Он труд, Ему хвал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ives! He li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triumphed over deat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ives! He li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ord revealed His streng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ой Он смерть попра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всех сил вос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ives! He li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nthroned above all earthly strif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eads us to eternal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яньем окруж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ёт нас к вечной жизни 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body then was t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Joseph from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his own tomb he laid 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 counting it a lo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ил Иосиф те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нял Его с кре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грёб без страха, сме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аду своём Хри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suddenly the sun sh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darkness took its f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ord had sai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ere be light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солнце лишь блесну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рака больше 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сказал: «Да будет свет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ives! He li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triumphed over deat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ives! He li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ord revealed His streng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ой Он смерть попра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всех сил вос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0:53Z</dcterms:modified>
  <cp:revision>13</cp:revision>
  <dc:subject>Slavic hymnal Гимны веры христиан, hymn 295</dc:subject>
  <dc:title>He Lives! He Lives! / Он жив! Он жив!</dc:title>
</cp:coreProperties>
</file>