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4F5C-A9F6-4BE8-A38F-F82170FF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CB27-7A83-47EC-91E9-3F5808B3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7067-C577-4098-83E3-1E661F937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DA3E-3622-43FE-850F-85C2BAFE5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64FC-6208-42AF-9BC3-14CB3E6B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0F7D-778B-4F7B-A32C-1EA63B06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BAAB-074F-46B9-BE89-6BE5104A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431A-3AD2-4A42-9F5A-480EA9C3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A648-7366-4748-8CE5-13D0D04B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8514-43B4-4EB7-9124-9FF6903C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77D6-6F0E-4254-8014-C9241AB9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1A36-F642-4AB8-B715-1793DB53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E1F16-43DA-491F-91CF-9B33CB6E631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, мой Спаситель, и знаю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бою спасён я от жизни пус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чтоб избавить, отдал Ты С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, мой Спаситель, люблю я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блю, мой Спас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, но Ты первый меня возлюб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не на Голгофе спасенье 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умер за грешных, безмерно люб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, мой Спаситель, люблю я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жизни и в смерти хочу я люб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живу Твоё имя хвал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же в час смерти твердить про себ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, мой Спаситель, люблю я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ителях славы, в небесном к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нцом на челе, в свете вечного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торженно в сонме спасённых сп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, мой Спаситель, люблю я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8:50Z</dcterms:modified>
  <cp:revision>14</cp:revision>
  <dc:subject>Slavic hymnal Гимны веры христиан, hymn 648</dc:subject>
  <dc:title>Люблю, мой Спаситель</dc:title>
</cp:coreProperties>
</file>