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56F-9CE5-4C28-A0D0-A02B3F4F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636-561F-4990-A4E9-8B0894A5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F39-CE2A-480E-A8D4-8CF4B085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843-98B7-475A-9889-BFC72EEE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020-C641-480C-B68F-54F76B0D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3AB-0593-44C9-8F06-BB4DDD55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D90-2037-498E-B1A9-D2135F77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B50-7F9D-40E7-B2CF-F44006A2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946-C37E-460B-BCF8-AE69843F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9C6-3F00-4A56-A5D8-459CCF1C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C57-6F51-48B0-8CAB-5C49F411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874-8B90-4167-A7A7-0557654B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F9C3B-EB0E-4795-918D-716F8C4A9C3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at it will be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walk by You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at my eyes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face is befor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2   I Can Only Ima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ed by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will my heart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dance for You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in awe of You be sti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tand in Your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to my knees will I f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ing halleluja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be able to speak at 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en that day 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find myself standing in the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en all I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forever, forever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rrounded by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will my heart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dance for You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in awe of You be sti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tand in Your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to my knees will I f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sing halleluja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I be able to speak at 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343080"/>
            <a:ext cx="984888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 when all I will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forever, forever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 only imag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12Z</dcterms:modified>
  <cp:revision>12</cp:revision>
  <dc:subject>The Source 4, song number 1882</dc:subject>
  <dc:title>I Can Only Imagine</dc:title>
</cp:coreProperties>
</file>