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EA3-DF49-4C81-82E8-DBD28786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47C-454B-4AFF-9CFC-DBC8BC78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AFE-D274-4FCC-9E36-1C0551EA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6E1-7D31-465F-806D-C4760565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D60D-00ED-437E-93AC-51B8F4F5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FB7-8AED-4CE9-8AA1-88FA2E17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E64-A6A3-4618-9AE6-411EFA10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3E0-86A4-4411-9A71-057CEADE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2BF-3956-4533-A343-C4CE835F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2A3-356B-4724-B599-44DEEB80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9E5-62EA-4A64-8524-E0B73B4D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D96-46FF-4D25-B55F-4B26DF32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EF16A-1ECF-45F7-8DB0-6DFC2B6873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ом узеньким я і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мене в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їну милу дор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Він при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в щасливий вічний к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туди у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2   Шляхом узеньким я і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тяжкий час Йому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іді Він хорон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падаю без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Він дер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в щасливий вічний к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туди у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удові співи в тім к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унають вічно 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х! що за радість в тім к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в щасливий вічний к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у, іду туди у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3:01Z</dcterms:modified>
  <cp:revision>12</cp:revision>
  <dc:subject>Slavic hymnal Гимны веры христиан, Ukrainian hymn 102</dc:subject>
  <dc:title>Шляхом узеньким я іду</dc:title>
</cp:coreProperties>
</file>