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AA8-BB3A-4C72-B467-72BAA7B2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DD8-F6AF-42DD-ADA8-6B9212C2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0B3-FEEE-497E-BC4F-4E65DFBD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497-08D0-4E88-8782-8ED0BFD5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091-D1B3-430D-ABEB-2A579520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500-C369-488C-A581-D1E5B84D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5CD-0678-49B4-9534-3DF997E8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1D3-7B29-401F-84AC-431F4388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089-EF52-4AC5-9743-74C8ED40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CF9-B694-4BAE-BEA8-7B42FE93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D39-F3FB-4B7A-AA23-9A27C12D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8F1-434F-4DA5-99A3-74AAC7F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2D339-CBBC-4D3D-9DF3-F8F510D02D0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hom angels w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uld stoop to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hy as sheph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hould seek the wand’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is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 of new bi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9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as born of Ma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Bethl’em’s m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His only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at H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Nazareth and labo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ilently He suffe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ith His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raced this place of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how His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on the cross was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wn of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ree and thirt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eals the broken-hear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ys our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alms our lurk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fts the bu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eavy la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e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ill win the n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He will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earthly herit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satisfy th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pi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east and w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sinner and of 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lesh shall see Hi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shall r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arvest He has s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me glad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sun shall shine in splend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He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all the lands shall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, at His bid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storm is st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ho can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the jub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ev’r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perfect love is fi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kies will thrill with rapt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riad, myri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an voices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arth to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v’n to earth will 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last the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 of the world, is King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28Z</dcterms:modified>
  <cp:revision>9</cp:revision>
  <dc:subject>The Source, song number 199</dc:subject>
  <dc:title>I Cannot Tell</dc:title>
</cp:coreProperties>
</file>