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38F4-CCE1-4B6A-A7C0-85E960A6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38DB-D1B0-49D4-B838-D44533CE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560A-FA49-467F-BE1C-5B61489A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8F7A-7407-4E28-B2BB-4E900844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B81B-BEB8-4517-BED9-56AC51F9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59CF-DF59-4149-8883-F60E77A7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BE57-879B-479C-87F5-54E683E8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6E61-EDA1-408F-A7DA-3062DABF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DB9C-1993-49FE-8242-722E6525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5835-84FD-4C25-830E-DC0A94BA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31B6-5715-499B-9727-F27E5575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59A5-BF5D-46DC-85A6-F3EF5C56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6A338-4F86-4AEA-953D-6AC161ADB93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fear my faith will f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will hold me f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tempter would prev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can hold m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3   Коли страх мене обгор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трах мене обгор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е,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коли ослабне ві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Saviour loves me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ителю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never keep my h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love is often c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must hold m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е можу сам трима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е,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на Тебе поклада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Saviour loves me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ителю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precious in His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se He saves are His de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ясний час, чи в час нещас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е,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ні недолі, чи у ща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Saviour loves me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ителю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not let my soul be lo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will hold me f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ught by Him at such a co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ережи Сам мою ду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е,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купив мене ці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Saviour loves me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me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ителю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50:31Z</dcterms:modified>
  <cp:revision>13</cp:revision>
  <dc:subject>Slavic hymnal Гимны веры христиан, Ukrainian hymn 33</dc:subject>
  <dc:title>He Will Hold Me Fast / Коли страх мене обгорне</dc:title>
</cp:coreProperties>
</file>