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7F7-3C2C-4211-8A33-20100605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DD3-ABD3-41BC-BED4-A339324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477-2DBD-456E-8186-6DD1B016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0FD-F233-4C50-A416-BAE35FF2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7FC-09F8-4C1E-9F76-15BAB03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6AA-19AD-40AF-AA57-8255AF95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885-6710-4771-9286-E0569379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7B5-D6A2-45D3-91A0-E86CF928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786-9784-4B2A-B2D8-CAC8D3A3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6A9-7F1F-4238-BDEB-942D9D5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EEE-1639-4F53-A631-FCB9DDD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156-E6B0-4456-AD2E-149C9CE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CBD14-C7C1-4136-BD1B-85035259CC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O come, 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ansom captive Isra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urns in lonely exil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e Son of God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 от власти тёмных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воле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рпит, молится и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Wisdom from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rderest all things might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us the path of knowledg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ach us in her ways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Господь, как на Си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ё величье по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 волю откр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и мыслях напи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Rod of Jesse,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own from Satan’s tyrann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pths of hell Thy people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 them victory ov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Жезл Иессея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 греха ра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оря зла спас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Дух истины изл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Dayspring, come and c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pirits by Thine advent 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perse the gloomy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’s dark shadows put to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Звезда, обрадуй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, близок слав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ь от всяких бурь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у прогони, пошли Тво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come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Isra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! ликуй! Емману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народ от вражь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, Thou Key of David,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pen wide our heavenl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safe the way that leads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lose the path to mis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авида Клю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вери в Царствие откр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г нам смертью не гроз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приди, Е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38Z</dcterms:modified>
  <cp:revision>12</cp:revision>
  <dc:subject>Slavic hymnal Гимны веры христиан, hymn 880</dc:subject>
  <dc:title>O Come, O Come, Emmanuel / Приди, приди, Еммануил!</dc:title>
</cp:coreProperties>
</file>