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4A4-8562-4D17-B3AA-E4E063BC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E30-2DFB-4F86-AFD7-07C65154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5D0-E878-4AF7-8E11-9F492690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48F-A428-421D-8C7E-69DFCE64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BA5-8737-472D-9CC9-0CDF3B39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B60-0F2D-458B-91B1-B1C02981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4F1-8E13-418C-A823-232D892D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E81E-78A6-41CC-AF57-8B6E5B99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2FD-5234-4A5F-A389-F544D134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537-A1AD-4D66-8410-3D5BB40E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559-B693-45D3-B71D-1BB8A299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8CD-C64B-49E6-AC57-21BCC62E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A008A-B9EF-4DCA-94CB-0DFE1583B0C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им спасінням укри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віть з великим тру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’ю Христовою вми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, обтяжений грі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у стісняє спок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 ти на поміч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в Нім знайдеш ти притул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и, обтяжений грі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ти, обтяжений грі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8  Вічним спасінням укри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хоронити Сам 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твій тягар поне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бе Він не позаб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ьози з очей Він ут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чить твої Він страж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ін усуне зітх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ач відбере та рида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льози з очей Він ут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льози з очей Він ут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4:40Z</dcterms:modified>
  <cp:revision>12</cp:revision>
  <dc:subject>Slavic hymnal Гимны веры христиан, Ukrainian hymn 28</dc:subject>
  <dc:title>Вічним спасінням укрийся</dc:title>
</cp:coreProperties>
</file>