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2ECB-6EB8-4AB3-823C-D25C2EBD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692-9C04-41DC-BA9A-83BE6848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BA2-0673-4137-BE8D-0A071F93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B70-5873-4024-AC35-D6FD9D7C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09B-DCA7-4A3F-8283-C018F28E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35D-E98D-4943-83AF-CABCE5DE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B18-244A-4632-A5D3-BB8F799A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2C2-03FC-4B48-BDC6-D6B9B3C0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1A89-09F4-4CD9-89BA-C3B76F58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842-718A-4F89-AB38-3BB15C08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18B-A876-46B0-A9E1-9D84C055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4AC-7816-49BB-A8A1-E2EC6962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D3C3A-B5B8-44E9-ACF4-55AF1BE042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залишу вас сам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ід вас під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ого Утішите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бесного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ам навік зіш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 ти Його? Прийня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я прийняв чи 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докорить світ з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до нас Дух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6   Я не залишу вас сам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Церкво Божа, час вста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 повноту прий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грішники по всіх місц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аялись в своїх гріхах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л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 ти Його? Прийня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я прийняв чи 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докорить світ з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до нас Дух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и духовні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Бога є для в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перед! Молімся з вір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наділить си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рні у кож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 ти Його? Прийня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я прийняв чи 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докорить світ з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до нас Дух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до П’ятидесятни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іш, скоріш спіші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им життям усі живі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ещення Духом ми Свят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Бога всі просі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 ти Його? Прийня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ителя прийняв чи 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докорить світ за грі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до нас Дух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8:43Z</dcterms:modified>
  <cp:revision>12</cp:revision>
  <dc:subject>Slavic hymnal Гимны веры христиан, Ukrainian hymn 86</dc:subject>
  <dc:title>Я не залишу вас самих</dc:title>
</cp:coreProperties>
</file>