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9D89-B464-44AE-B113-FA0FC2F2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60E-5A91-4E36-B742-6E590AC4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151-B5C9-449F-9A45-6E8C2CED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C76-DD93-4331-8EC2-538C9BFB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320-2F6C-4DDA-BB0D-B6E9D032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30E-7C0A-4BAC-86B7-36C23DC5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5C8-A268-45D6-A4D3-CA40F68D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05E-2A95-4EC1-864C-40DDF0F1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2A2-FC1A-48C7-BBE0-4ED7914A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19F-0251-47D3-AE37-D67C337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B29-1B75-4DFF-9CBF-CCF14E5D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84B5-CB2E-4AC6-983E-821E3101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1736E-C19A-4B1D-858F-4AD5A1E165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жизни чистой, без грех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умер з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шь ли жизни чи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ли смущает страхом и сты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жешь в этом мире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ли в бессильи, мрачен ли тво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м весельем Бог наполнит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вскоре ты придёш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в горе Он всегда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2:35Z</dcterms:modified>
  <cp:revision>13</cp:revision>
  <dc:subject>Slavic hymnal Гимны веры христиан, hymn 715</dc:subject>
  <dc:title>Жаждешь ли жизни чистой?</dc:title>
</cp:coreProperties>
</file>