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179280" y="395280"/>
            <a:ext cx="972036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94</a:t>
            </a:r>
            <a:r>
              <a:rPr b="1" lang="ru-RU" sz="3600" spc="-1" strike="noStrike">
                <a:solidFill>
                  <a:srgbClr val="ffffff"/>
                </a:solidFill>
                <a:latin typeface="Verdana"/>
              </a:rPr>
              <a:t>	</a:t>
            </a:r>
            <a:r>
              <a:rPr b="1" lang="ru-RU" sz="3600" spc="-1" strike="noStrike">
                <a:solidFill>
                  <a:srgbClr val="ffffff"/>
                </a:solidFill>
                <a:latin typeface="Verdana"/>
              </a:rPr>
              <a:t>Верить, молиться, Господь</a:t>
            </a:r>
            <a:endParaRPr b="0" lang="en-US" sz="3600" spc="-1" strike="noStrike">
              <a:solidFill>
                <a:srgbClr val="000000"/>
              </a:solidFill>
              <a:latin typeface="Verdana"/>
            </a:endParaRPr>
          </a:p>
        </p:txBody>
      </p:sp>
      <p:sp>
        <p:nvSpPr>
          <p:cNvPr id="39"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Верить, молиться, Господь, нау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довериться Твоей люб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адо Твоё при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а мольбе внем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служить пошли, — молю Теб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ерить, молиться, Господь, нау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ближним любовь Ты во мне пробу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ламень в душе зажг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ом Твоим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чью и днём храни, — молю Тебя.</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ерить, молиться, Господь, нау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дрость, терпенье в меня Ты всел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рудные дни держ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к Тебе вблиз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лю Твою яви, — молю Тебя!</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179280" y="828720"/>
            <a:ext cx="972036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Верить, молиться, Господь, науч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мя Твоё прославлять помог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о Господь пр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бранных всех возьм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царство Своё введёт; Господь, гряди!</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5:48:14Z</dcterms:modified>
  <cp:revision>3</cp:revision>
  <dc:subject>Slavic hymnal Гимны веры христиан, hymn 194</dc:subject>
  <dc:title>Верить, молиться, Господь, научи</dc:title>
</cp:coreProperties>
</file>