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294-BAB9-4C75-BBF6-306CC2CB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553-B4CD-481E-BF0D-EB6479CE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B13-FA60-4A29-9EA4-838A3C8C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875-57E1-48DA-88B1-B8B9D474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5B6-A2F4-4819-AF5E-81209B89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DAE-1657-494F-B2DE-350564B2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25D-4E37-443B-B35D-E29229E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B58-C9ED-4CA3-ABED-6C9768D0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28A-48AB-481F-9C36-2E393A3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858-CD48-42F0-8AD5-696144B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BCD-DD09-4822-9FF4-682864DB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AE9-72AB-4304-9D7B-1A631E9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BFA17-3496-4365-A2B8-1EB63F13CA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29Z</dcterms:modified>
  <cp:revision>13</cp:revision>
  <dc:subject>Slavic hymnal Гимны веры христиан, hymn 727</dc:subject>
  <dc:title>Господь, когда ученикам</dc:title>
</cp:coreProperties>
</file>