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8EE-2916-49A5-9519-9056D655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073A-5B6F-49B3-B20D-6AEFCDC8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798-83B8-4BF1-BC54-A4F2B392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9E2-8F9B-43C2-85B6-4C5C9EF00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9CD-FFA9-4E62-B7AC-E27F97BD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8C0B-EF4B-4353-B019-9AA6675F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333-423D-4B89-B4AA-468FA5ED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2ED-FDFE-4FB3-A53F-2A6A0C6B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D094-DA00-4E06-B728-0C1DC489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0DA-AFB1-4386-8E6D-B1093747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E72-B290-42FF-AEFC-B9F90036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D18-8A88-461D-B97E-023EBC25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44B8B-6C4B-4701-A13D-59222DF1A7E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лос Духа Святого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Он к Иисусу влеч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 Друг, Он зовёт и т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, в Нём счастье найдё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40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олос Духа Святого зов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хоть мира жалеешь ли 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 к Иисусу ты медлишь прий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чем от любви ты бежи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, в Нём счастье найдё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ебя умер Он и страд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р спасенья тебе обещ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ьми дар Иисуса тепе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(приди, Он зовёт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ди к Нему, в Нём счастье найдё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1-03-13T19:20:22Z</dcterms:modified>
  <cp:revision>16</cp:revision>
  <dc:subject>Slavic hymnal Гимны веры христиан, hymn 340</dc:subject>
  <dc:title>Голос Духа Святого зовёт</dc:title>
</cp:coreProperties>
</file>