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912-A00B-4FDE-BCE4-DA8DE0F2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AFED-5FCB-4A27-8FA9-B7AF013C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C68-4B94-4A28-994F-647B4FA2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887B-52A0-4BCC-85F4-E91E209A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4AC-0E0A-49C7-B0B4-43A2B0F5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DE9-52B8-49CE-A590-4D20C070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5F7-C08B-449A-B1AB-00A93031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2CB-4C57-43E2-B2C8-07E472E9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B71-AC3A-46EE-B4D2-C3A39B1F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914-18C4-437D-8558-4F12B026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C54-C863-4DD5-B63D-88022C8A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F44-5236-4085-B666-6CB76238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B8EB4-D504-4932-BDBC-B71FD8277B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странник на земле, вокруг всё чуждо м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оя обитель там — в небесной стор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ую весть нести повсюду послан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транник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г ныне каяться всем людям повел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отвратиться сердцем от греховных де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ристу внемли и жизнь прими, молю теб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яет чудный свет в моей стране род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радость вечная у верных над гла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умолкая, звать туда всех должен 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9:10Z</dcterms:modified>
  <cp:revision>14</cp:revision>
  <dc:subject>Slavic hymnal Гимны веры христиан, hymn 660</dc:subject>
  <dc:title>Я странник на земле</dc:title>
</cp:coreProperties>
</file>