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8E2-4F86-4EA2-B9FA-0CC5C579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870-4FCE-4B1B-8A44-AF151E54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CDA-4611-4CC1-98E4-68B25EBA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E50-638E-4F0E-88C6-CB427562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7D5-74B2-4E49-97E6-12A946FF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E6F-066B-40D6-BBDD-E198F77F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3899-5FD5-4452-95D9-63E118E0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4DD-8A23-442C-AAFE-74E24496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313-EB4D-4AE0-8F3C-E27A48A5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DCB-6B83-42A0-856B-92F68B7B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CCC7-4C97-40E3-8AD2-6540511F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93C-FA54-483E-81DB-0F49F97B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15EC3-E980-47E1-A9D2-2241BCA02A4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,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of heaven living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entle Saviour,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trong deliverer, beginning and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ithin me falls at Your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Царь царей, великий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царей, велик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бес, живущий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добрый, луч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ец миров, начало,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ложу к ногам я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велик! О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юсь я пе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ой царскою покр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у Тебе, как Ты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 and heav’n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eternal, faithful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bought the nations, ransomed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ought this sinner near to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within me cries out in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круг поёт хв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любовь и верност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пасенье нам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л грехи мои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о мне слав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велик! О, мо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яюсь я пе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ждой царскою покр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у Тебе, как Ты ве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7:11Z</dcterms:modified>
  <cp:revision>11</cp:revision>
  <dc:subject>The Source, song number 309 in Russian</dc:subject>
  <dc:title>Царь царей, великий Бог / King of Kings, Majesty</dc:title>
</cp:coreProperties>
</file>