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CD90-9BCA-4C45-AC8E-80179572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5A4-53C7-43FC-A436-54D5E7A2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A288-B4D8-431D-9F15-B66135B8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AE2-ACA5-4833-BDEA-C174CCE6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53EC-EBD6-4331-8625-2AE60813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44C-9B04-419A-93A2-24A509EA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D2B0-8796-4042-AD41-0D33A98D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1E1-B30C-418F-9A8D-6C0ED749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7D3D-5FB4-4925-BA63-AFC0E215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5D9-90D5-4E70-B124-3E81E145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983-C65C-45ED-9F19-778B0CA6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64C1-A215-4ADE-BCE6-1A2FFDE0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0D51D-8FD0-48D9-B8C5-3F0C56D0E6F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большего ж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ваться не дерз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ёт мне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вятой наполнил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свет рассеял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ось, я слы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сё ко благу твоему!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Господь всегда со мн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яет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 небесных удосто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ает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ога порой споткн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ываю оди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калы Высокой л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радости поток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та блаженства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Он успок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в небес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живой из царства т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сётся в край 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т Христу хва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был всегда со мной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8:25Z</dcterms:modified>
  <cp:revision>13</cp:revision>
  <dc:subject>Slavic hymnal Гимны веры христиан, hymn 865</dc:subject>
  <dc:title>Мой Господь всегда со мною</dc:title>
</cp:coreProperties>
</file>