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C42-BAE1-429F-86F7-60AA7656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6D9-B068-417E-AE70-80578CD3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1B5-5C14-4981-8477-6A505E00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551-AF57-4C66-8B16-2E59595A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377-8840-4355-A037-EA6F040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08F-F707-420E-A9EB-CB50273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00A-9C79-4792-9C55-663719B2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B9D-6F8D-4C3D-9162-221A79BD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A5F-FB82-4018-A42C-6B3ED88E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896-9D90-4048-9436-8B291665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C1B-D112-4727-9112-C76388BD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E0A-2336-4E50-88C8-808891EC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63AC6-E451-4A85-BCB3-56DA0366B6F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о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лик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к нему 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очет преступ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Он вспоми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хочет в знак забве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его об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ен душ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лудший сын пир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Отца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па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огом найден бы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мёртв сред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т теперь 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й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и негод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его оп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скорби т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ят ему по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ет их могу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Своей ру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Бога р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у Он мир дар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 битве не ослаб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на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Своим пут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Он окру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ию во в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это торжеству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верный раб Хрис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о Господь врач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х его гре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и, хотите 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ы торжеств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, и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т вам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6:15Z</dcterms:modified>
  <cp:revision>13</cp:revision>
  <dc:subject>Slavic hymnal Гимны веры христиан, hymn 579</dc:subject>
  <dc:title>Кто это торжествует и радостно поёт?</dc:title>
</cp:coreProperties>
</file>