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028-A22D-4941-858F-F22564FB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1C0-ACA9-4D19-9144-999D1751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6B5-CC58-4EDE-86FC-37542714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8E1-F4A7-40B8-BE5B-43861360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EC5-A304-4DD2-A883-265797CF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0A87-B5E1-40A2-B22A-B6003193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E4B-0BE6-4CD4-998F-6695B76A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4B9-3E1C-4371-972F-D8931E9B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E052-0EAA-46DE-B707-1B123D80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853-EFDF-433D-B24B-4A40CD6E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48B-6EA7-4E25-8CF9-B150E855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17B-B7CB-481C-BC05-536CF560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21994-3552-4031-B05C-3F64C90D7E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s on the Lord’s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serve the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be His help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ther lives to b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з вас Госпо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тов слу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руки, ноги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свят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 may be the confli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may b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King’s own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overth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ли битва зл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адёт ли 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ш охра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каждый ш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His standard ra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y to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truth un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s the triumph 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Христовым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беда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и во мра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ем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enli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ши тварью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leave the world’s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face the fo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s on the Lord’s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for Him will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й мир ост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дти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call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подню 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for weight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for crown and pal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ter we the ar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 the warrior psal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внешней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ьмы и в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ваем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го бой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love that clai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es for whom He d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m Jesus na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be on Hi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любви к Тому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 жизнь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ем охо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евой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love constra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ижимы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ou hast bought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with gold or g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ith Thine own life-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diad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ругов блуж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, к чист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ы 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y blessing f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who comes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made us wi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made us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остью выс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и ум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ярма п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nd redemp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y grace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on the Lord’s sid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e ar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вши ок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перь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5:52Z</dcterms:modified>
  <cp:revision>12</cp:revision>
  <dc:subject>Slavic hymnal Гимны веры христиан, hymn 877</dc:subject>
  <dc:title>Who Is On the Lord’s Side? / Кто из вас Господень?</dc:title>
</cp:coreProperties>
</file>