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7FA0-5617-44C2-963D-91055C921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884F-76F6-4E33-B8A3-D23AE83A1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29E7-5CB1-4A60-9B96-A51F1B2A9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32DE-B0C6-423F-8689-C2A10E1DD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B376-7F96-43C2-8A93-6C7A08DFB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AA81-0C6B-4AE1-976A-0AEC0B51B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051F-5677-4E00-BA4F-E8CC3B7D3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9283-8FB2-454C-A144-19B50E288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F39E-9621-4876-A43A-95EB94F91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1C74-AFBA-41B8-BCA4-2B1D96757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0650-E499-40D1-A6A9-63E4E049B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8628-AE5F-4D65-BC58-82870AD61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62358E-C3D3-42B7-91A2-E5FD2010F0E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lover of my sou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You will never let me g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ve taken me from the miry cl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ve set my feet upon the r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now I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love You, I need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ough my world will f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ll never let me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Saviour, my closest frie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worship You until the very 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0944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90a   Jesus, Lover of My Sou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4T06:01:34Z</dcterms:modified>
  <cp:revision>11</cp:revision>
  <dc:subject>The Source, song number 290 (as amended)</dc:subject>
  <dc:title>Jesus, Lover of My Soul (modified)</dc:title>
</cp:coreProperties>
</file>