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0BE-1062-4B97-9077-00D04434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387-6C31-48B1-B6FE-FED4EEE9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8AD-815B-4845-BF93-596794D1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AF6-3256-4FE5-9F95-EF898626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C43-89F6-4707-8B70-7B151DCB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12B-5401-4819-AC18-084DDD0E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584-6F5C-4FB8-A5F7-60892014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FA3-EB33-475A-A8EA-3B1D5DCD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EDA-C76E-42E9-ADA0-58E9785E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C6E-E697-4C24-A957-20DD428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303-3860-419D-A1CA-B95CF164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4C7-1C30-404F-B56A-80A6A21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4298B-2B21-4653-B067-97A7514BBC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ed to the Lord and He answ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ed me from all of my trou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delivered me from all my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rejoice, I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7   O Magnify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boast about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ell of the things He has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hear about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y’ll rejoice, they’ll rej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Jesus togeth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magnify You, O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agnify the Lord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us exalt His nam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38Z</dcterms:modified>
  <cp:revision>12</cp:revision>
  <dc:subject>The Source 4, song number 2007</dc:subject>
  <dc:title>O Magnify the Lord (Psalm 34)</dc:title>
</cp:coreProperties>
</file>