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5</a:t>
            </a:r>
            <a:r>
              <a:rPr b="1" lang="ru-RU" sz="3600" spc="-1" strike="noStrike">
                <a:solidFill>
                  <a:srgbClr val="ffffff"/>
                </a:solidFill>
                <a:latin typeface="Verdana"/>
              </a:rPr>
              <a:t>	</a:t>
            </a:r>
            <a:r>
              <a:rPr b="1" lang="ru-RU" sz="3600" spc="-1" strike="noStrike">
                <a:solidFill>
                  <a:srgbClr val="ffffff"/>
                </a:solidFill>
                <a:latin typeface="Verdana"/>
              </a:rPr>
              <a:t>Бесподобная, жива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есподобная, жива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ья вечная любов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зойди и пребывай в н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главнейший из даро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ристос, любви источник,</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и нас, утверд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ир и непорочнос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каждое войд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ух любви излей обильн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и робкие серд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яй Твоею сил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ывай любовь Отц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нам Альфой и Омег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кий грех искорен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делай нас белее снег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ёрдой вере сохран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О, приди, наш Избавител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вечной жизни полно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твори Свою обител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крепи в любви свят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ем всюду быть с Тоб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и там вовек веко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ть, молиться, славослови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щать Твою любов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Заверши Своё творенье,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рочность, чистот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спошли нам в знак спас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еди на высот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равляй от славы к слав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веди в небесный д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любовь Твою прослав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дкозвучнейшим псалмом.</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0:27:55Z</dcterms:modified>
  <cp:revision>4</cp:revision>
  <dc:subject>Slavic hymnal Гимны веры христиан, hymn 25</dc:subject>
  <dc:title>Бесподобная, живая</dc:title>
</cp:coreProperties>
</file>