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BF4-6F57-4A2E-9C72-3F4ECE69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3C8-4F1C-4652-9A38-C70A2118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3CD-2E0C-4A23-8388-54AB7C08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A58-B900-4906-B942-3E2F00AF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972-2FE7-46C7-8C67-2454B3A0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CAC-C327-4A71-A6CA-E8EF4ED4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986-3C7E-4C4E-87EE-7E0DDCB7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568-534B-4F14-82E9-A1E7B5BC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763-E14A-4B61-87EF-E95A08C4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3BC-EAF1-4286-8B90-08F67EC6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F3D-B61F-4A84-9493-DA6BFBB1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A99-9ED4-476F-ADDB-919143F5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E4A33-8976-4589-A143-BDA2256365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о любв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арах людским сы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отчизне светлой,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ил место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йте о любви Хри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ветров, бурь, дож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ей мир остав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и вздохов, н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и усерд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вёрды, как гран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г один Его я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руды воз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к цели! Прочь заб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введёт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жемчужны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улиц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2:10Z</dcterms:modified>
  <cp:revision>12</cp:revision>
  <dc:subject>Slavic hymnal Гимны веры христиан, hymn 889</dc:subject>
  <dc:title>Пойте о любви Христовой</dc:title>
</cp:coreProperties>
</file>