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956-A0BC-4AEE-AF82-8709F8791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3CF1-FABF-49DC-94BF-0D96045D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1E5C-769B-48B2-8254-4F823D1E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D86B-0843-49C6-89E8-57C3A696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6304-2EA1-46D8-8CDA-1158F3B1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7EA3-565D-4C8A-82FE-94A3BA8C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8D14-EF54-4992-B329-4F3F243B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0E68-C0F7-4213-91E1-50428486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C50F-834B-43E5-9232-3DE89815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CB6D-1749-48F5-9C94-A3DD06EF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4D6-9545-47A2-8E39-0A5D18C7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49B0-FBBC-45E2-B52A-C8F8D933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F3D57-9132-47DA-BE95-7FF7FD255D2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своё сердце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ся с мирской суе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аче вдали один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ибнешь несчастно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юность ― весна молод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шь ты, смеёшься, шут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д Божий идёт за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идит Спаситель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крой своё сердце Иис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ты к отчизне небес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примирись со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ость тебе об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ъятьях Его ты спас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па в белоснежной одеж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ет в хваленьи одн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ы не разделишь ли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пребыть со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0:46Z</dcterms:modified>
  <cp:revision>12</cp:revision>
  <dc:subject>Slavic hymnal Гимны веры христиан, hymn 409</dc:subject>
  <dc:title>Открой своё сердце Иисусу</dc:title>
</cp:coreProperties>
</file>