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4</a:t>
            </a:r>
            <a:r>
              <a:rPr b="1" lang="ru-RU" sz="3600" spc="-1" strike="noStrike">
                <a:solidFill>
                  <a:srgbClr val="ffffff"/>
                </a:solidFill>
                <a:latin typeface="Verdana"/>
              </a:rPr>
              <a:t>	</a:t>
            </a:r>
            <a:r>
              <a:rPr b="1" lang="ru-RU" sz="3600" spc="-1" strike="noStrike">
                <a:solidFill>
                  <a:srgbClr val="ffffff"/>
                </a:solidFill>
                <a:latin typeface="Verdana"/>
              </a:rPr>
              <a:t>Зачем житейскими себ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ачем житейскими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ботами том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Иисусу вся земл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век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Его, и Он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ё наследье разд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чем себя том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Иисус вовек — Друг м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солнце, звёзды и лу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уке Своей хра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как Творцу, воист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Его, и Он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ё наследье разд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чем себя том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Иисус вовек — Друг м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 всех небесных высот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хотят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мир на тысячи го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Его, и Он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ё наследье разд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чем себя том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Иисус вовек — Друг м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придёт во славе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Ним всё задро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знаем мы, что вечный тр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принад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Его, и Он со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ё наследье разд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чем себя том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Иисус вовек — Друг мо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39:25Z</dcterms:modified>
  <cp:revision>3</cp:revision>
  <dc:subject>Slavic hymnal Гимны веры христиан, hymn 44</dc:subject>
  <dc:title>Зачем житейскими себя</dc:title>
</cp:coreProperties>
</file>