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1EC-4063-4C0E-A8B9-43BA7AEE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0C5-5280-431E-96B6-37A479CD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910-E05B-4929-B9F8-EFF54B70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30B-E864-41E7-88F2-ABE1A4C6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370-8F95-43E0-9DAE-F7B3BD5E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40D-565B-49C8-8D2B-3D7BDB5C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23C-458B-4CA1-9FA6-06CE697C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DBC-9C32-43A1-A484-BEEC1D91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9E4-3278-4811-86FF-4D177198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463-7CD9-4965-BB55-938427A2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275-193C-4DED-8A89-06B1DA3A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1EB-B093-41CD-A444-E85B0192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FE62B-9E7A-46BD-B4DC-9FA14A15B0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are not for ri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silver nor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make sure of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enter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5   Я не хочу ба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хочу ба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і скарбів сріб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асінн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pages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торінках вогня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my sins they ar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and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blood, 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ufficien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ску є у м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ровин є 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пасителя 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ила їх нараз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promise 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right letters that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your sins be as scarl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them like s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слова правди да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вячують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, як кармаз багр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побілить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that beautiful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mansion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glorified be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ure garments of wh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род вічний, пред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і Бог збудув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селі для ві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Сам придб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evil thing 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espoil what i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angels are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my name’s writt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гріха вже не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ла темрява 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правди сі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ебесна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51:14Z</dcterms:modified>
  <cp:revision>12</cp:revision>
  <dc:subject>Slavic hymnal Гимны веры христиан, Ukrainian hymn 25</dc:subject>
  <dc:title>Is My Name Written There? / Я не хочу багатства</dc:title>
</cp:coreProperties>
</file>