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F4B-6FD9-4CEA-A1AB-6A21F77C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229-8B9D-4F19-90B7-72C4FA7E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92F-B432-4C65-9EEC-4A9C6558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2BC-E224-447D-A832-7BC2C9F5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732-AB6A-40AB-980D-75A57C9D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CA7-B309-40C4-B92C-1713A379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17B-B036-411B-BD3C-B5056EC0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CFB-61E4-452A-A4CC-A8A1277C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61F-47A8-42E0-92AB-680E2176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F004-A9E0-49F6-9CB6-D8A2D62D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3E0-A6C9-4D94-81C2-D36644B4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300-37BD-4CE5-AA2E-CA161E3A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D8C4F-F3EC-415E-9C26-871A569F32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Jesus bear the cross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world go 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there’s a cross for every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’s a cross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ин ли Он был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ли Он был должен н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а всех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каждому назначен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 крест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happy are the saint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once went sorrowing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now they taste unmingled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oy without a t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ы святые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я тернист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жутких зрелищ их о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ом дышет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nsecrated cross I’ll b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death shall set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go home my crown to w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a crow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, сгибаясь под кре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 чуж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едёт в небес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венец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crystal pavemen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Jesus’ piercèd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 I’ll cast my golden c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dear Name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святое имя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призо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сложу к Его но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клоню гла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ecious cross! O glorious crow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surrection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Chris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’n comes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ars my soul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тяжкий крест, а там ―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часто бури в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борьбе придёт ко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ойду в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5:31Z</dcterms:modified>
  <cp:revision>12</cp:revision>
  <dc:subject>Slavic hymnal Гимны веры христиан, hymn 811</dc:subject>
  <dc:title>Must Jesus Bear the Cross Alone? / Один ли Он был должен несть?</dc:title>
</cp:coreProperties>
</file>