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779-FA5B-4414-BB77-2DAFCC13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981-66CB-463F-B32E-1C71CE05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BE54-EFBA-4574-9232-1215BCC4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FC0-0394-4C03-A0FF-92299C6B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CEC-1D41-46F4-95CB-9A309F6D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DB1-65AA-415D-9B7F-3423984A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D7B-B82F-4CEC-BFE0-374A1D82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6528-C7FE-4156-B11E-0DF5085C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CEA-C79D-4182-B0DD-624178A0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00D-643B-4653-B4F1-C0DD065B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D63-1B73-4F08-8C94-E146B226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BF0-F0A1-48DA-8DCE-175E68E3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CFA99-9084-4C58-83EE-4346F15D26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Господь, Твой дом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ртог любви Т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 я церковь из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ленных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лю, предвечный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церковь — Твой алм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как зрачок лучистых гла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анишь её пор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юблю, Господь, Твой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церкви дорог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и душ жив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ваю сердцем и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в мольбах сво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рад иметь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нье духа с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ти все тяжести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ест её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и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Церковь Сам в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илы всё здесь поборо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вой покой в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, разд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славу я Тв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й буду петь перед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ённою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1:21Z</dcterms:modified>
  <cp:revision>13</cp:revision>
  <dc:subject>Slavic hymnal Гимны веры христиан, hymn 561</dc:subject>
  <dc:title>Люблю, Господь, Твой дом</dc:title>
</cp:coreProperties>
</file>