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410-6260-417D-A42C-68FD944A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F1F-EFBE-4E9F-9C21-5194F76E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972-825C-4B22-907D-0546C63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8ED-692D-4BB5-9D26-68B70A45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58F-1E5A-4BC6-8C56-5002EA6F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8F2-3E23-4080-963F-57AD693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9F-6252-474C-BEFA-68F6D51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671-C9DC-463D-AACE-851700D6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357-8A75-42B8-88AB-9353D23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630-A10D-4A74-950C-01FB2C3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875-CB5C-4C4E-8508-61D02D4D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335-3095-4F52-9911-2631899C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4AFD-EC01-4758-8F9E-35E87ED922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sins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with thy burden of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y them deep in its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ou wilt find a r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thou art to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y sins are like crim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as the snow they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are the words of the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repent and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are willing to trust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t His hand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 healed at the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st to the peace-speaking vo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 sinner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let the angels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 away, why wilt thou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k not thy soul on a moment’s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waiting to sav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y is plead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5Z</dcterms:modified>
  <cp:revision>13</cp:revision>
  <dc:subject>Slavic hymnal Гимны веры христиан, hymn 356</dc:subject>
  <dc:title>Come to the Fountain / К водам живым поспешите</dc:title>
</cp:coreProperties>
</file>