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9A2-CD57-4AC0-B775-7205B2F4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C32-C794-4056-8D9F-354BFB18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6C1-98A6-45C2-B851-0C6AFFF1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490-2D0C-430D-BD8D-0483CBA6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87AE-BB4A-428A-8B3E-7A096F19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52F-32CF-4C47-A2B1-6B6ABE87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D0F-6741-4957-B1B3-33926629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1F8-DC0A-40BB-97CF-DF8AE4AD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2E3-2B63-457B-B995-85841411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655-B9FC-4AB5-A0C0-7B3980D1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330-2AFE-4C80-A21C-F34AA1F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7B1-F43D-4BE1-8518-0D6CB2A2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98F35-7E46-4E89-9C74-B51A7777E6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 me not, O gentl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at Thy thron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a sweet rel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eling there in deep contr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y unb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only in Thy me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I seek Thy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 my wounded, broken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me by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, the Spring of all my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life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 on earth besid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my humble c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n others Thou ar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pass m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45:03Z</dcterms:modified>
  <cp:revision>14</cp:revision>
  <dc:subject>Slavic hymnal Гимны веры христиан, Ukrainian hymn 7</dc:subject>
  <dc:title>Pass Me Not, O Gentle Saviour / Не минай мене, мій Спасе</dc:title>
</cp:coreProperties>
</file>