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60360" y="395280"/>
            <a:ext cx="828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noint Me With Fresh O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1260360" y="828720"/>
            <a:ext cx="82803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oint me with fresh oi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, Spirit of G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oint me with fresh oil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, Spirit of Go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see Thy purpos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understand all of Thy way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see Thy purpos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understand all of Thy way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260360" y="828720"/>
            <a:ext cx="82803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get closer,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much closer,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get closer,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much closer,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7-13T06:23:24Z</dcterms:modified>
  <cp:revision>3</cp:revision>
  <dc:subject/>
  <dc:title>Anoint Me With Fresh Oil</dc:title>
</cp:coreProperties>
</file>