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B9F-F3E8-4FB3-A0FC-0ED21E90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707-7EE2-4C65-A220-01ED17C9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7FE-7894-47F7-8DC4-4B97E547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FE6-68EE-4E0F-848F-54ACB5C3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6E2-7F94-4308-8E32-B45DAD2D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F8F-D088-44D7-852E-0BF79B7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B5E-F0DC-4CE1-BEB8-83FE9BE8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32E-19D6-4489-A7EC-8BE7946E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172-1DAF-425E-B6E7-61C5BB86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901-F3D1-4E7A-B135-1D18227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EC8-38D6-4CDC-ACB8-235C5E9F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452-9C62-4A9F-9A66-9D377D3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FB5BC-940B-4C17-A9A1-CE19F6F5E9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y’r, 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gathered her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gathered her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cry, we need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need Your grac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ar Our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song as it rises to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glory fill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waters cover the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our hearts and remove an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s standing i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coming to You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we are f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urrounded by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ave crossed that river bef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is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be singing for 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, holy is the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pray’r, 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gathered her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gathered her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our cry, we need You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need Your grace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us 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who ar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owed be Thy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Father, hear us from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our sins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15Z</dcterms:modified>
  <cp:revision>11</cp:revision>
  <dc:subject>The Source 2, song number 714</dc:subject>
  <dc:title>Hear Our Prayer (Our Father)</dc:title>
</cp:coreProperties>
</file>