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621-D481-4564-A04F-FEDE58EC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2F7-4612-44EC-995C-3CFA8D6E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4E1-0E2B-44AB-94BE-2BEA5AE8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903-F3FB-4211-A10D-3499A6D5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D11-1F3E-4B0C-89BA-04317A2A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A2C-CB1A-4BE2-A0E0-21AB6111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0DE-6A53-4CAE-B7AF-24D4ECAF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80A-B7C2-47D3-9254-8317D29C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E5B-7B43-4A4B-8461-64A4607B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CBC-D215-4AC9-840F-ED0E79AA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482-C4B2-43BD-906E-2DA35283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157-A2DD-4F68-A721-9444377E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B7F60-EB16-4B80-A1D5-D59090CF43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Господь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пришла с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ь Всевышнего хва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небо и зем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 Господь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 наш славный Царь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, скажи, где твоё ж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Он, чтоб жизнь н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д не страшен нам ни м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ый подвиг соверш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врагов унизил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, Владыке не меш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крыл всем людям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 крыльях мы лет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ле свыше, вслед за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еть с Ним, с Ним о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терпеть, с Ним вечно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8:08Z</dcterms:modified>
  <cp:revision>12</cp:revision>
  <dc:subject>Slavic hymnal Гимны веры христиан, hymn 291</dc:subject>
  <dc:title>Наш Господь Христос воскрес</dc:title>
</cp:coreProperties>
</file>