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E34-C0E2-4429-846A-EB63D7AB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B62-887A-4A03-A73C-93973D78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67A-373F-496B-934F-B8400940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2D5-AAF4-4F8B-939D-93F52617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C78-39C8-41A5-A776-9287F492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395-ADEF-478F-AE2F-CF78EDF2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652-4292-4B65-BDEE-E8A68112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355-D594-4E64-AA61-C22E978E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1EA-0742-4B58-B6D2-A3456B1D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9B5-B3B7-483C-B8B8-F51ABBA1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6B7-CF82-4644-867A-BCE73F0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C71-8E19-4192-A169-290967A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1CD7F-ADA7-4991-A44B-40F96DDB795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feel the mountains tr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hear the ocean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eople rose to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the risen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feel the people trem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you hear the singers r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lost began to s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hrist, the saving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80   Did You Feel the Mount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can see th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mighty river through the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ng and old will turn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ing wide, you heavenly ga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the way of the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the door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music p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treets resound with s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ncers who dance upon in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o you feel the darkness trem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all the saints join in one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streams flow as on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ash away our broken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e can see that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o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time of jubilee is com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ng and old will turn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ling wide, you heavenly gat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epare the way of the risen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the door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music p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streets resound with s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hop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that bring Your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ncers who dance upon injus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26Z</dcterms:modified>
  <cp:revision>10</cp:revision>
  <dc:subject>The Source, song number 80</dc:subject>
  <dc:title>Did You Feel the Mountains Tremble?</dc:title>
</cp:coreProperties>
</file>