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4D6-B237-4B0B-95A2-5BA2B49C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C13-3502-4BEB-A7AB-DC0062D0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329-A5C8-4394-BE2C-604CF053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007-1257-4DEB-8251-2B85F917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FD4-0E57-4AAA-BDE7-B91E35D1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FCB-0E07-46BB-A698-967F1EB7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B5A-76A0-46C2-931F-1D9D2061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CA9-1D96-4973-9C6E-122D0C90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25D-53FA-4909-9924-AEBDF3B6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592-73F1-4247-BFD1-FA9E526D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8A1-A847-4CA7-A77B-F4978F7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DB4-3BD2-4C45-B2E6-F8A5DF2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1D89-B8C3-44BC-9081-B710A95094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ы куда идёшь,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с посохом в ру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милостью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й я иду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горы и дол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тепи и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леса и чрез рав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домой, друзь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куда идёшь, скажи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нник, в чём тво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тране твоей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снеж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нец весь зол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очники ж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за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жгучие пес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х и ужас не знак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а пути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Господни л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т меня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т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клонною тро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в небес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ак возьми ж меня с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чудесна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ой друг, пойдём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ебе моя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алёко уж 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н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чистая,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ведёт с тобой туд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3:44Z</dcterms:modified>
  <cp:revision>12</cp:revision>
  <dc:subject>Slavic hymnal Гимны веры христиан, hymn 613</dc:subject>
  <dc:title>Ты куда идёшь, скажи мне</dc:title>
</cp:coreProperties>
</file>