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CCD-47A3-42AD-BCB0-6BD8F333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984-4732-4F37-AC79-37408444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488-175B-42E1-BE7A-9A25A21D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838-6D1F-4C33-9389-80B51473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FC5-2C57-4F9A-A3F2-32C6E358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BD3-6D13-438C-837F-BDBC7DBA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4D3-A06F-4117-A625-5226749D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B67-170F-4FAB-96CF-D79AD7A1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ABD-A286-4278-804C-FC23EA6D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742-96FF-4FBB-A018-AD81F20E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EBD-CCD5-4FDA-BF77-20D9FBBE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F98-A6D2-45C2-974E-947EDD94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04F51-6881-4041-9D4C-473DDB800E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с Ним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ую долю можно ль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смиряться, стоит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за это мир весь от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краток хоть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далёко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я, не уста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трудиться пусть нам не лен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ь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грех поб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поношенья бодро с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ив путь жизни, чтобы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й бессмертья венчанн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20Z</dcterms:modified>
  <cp:revision>13</cp:revision>
  <dc:subject>Slavic hymnal Гимны веры христиан, hymn 468</dc:subject>
  <dc:title>Жить для Иисуса, с Ним умирать</dc:title>
</cp:coreProperties>
</file>