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E3E-DB7E-4148-AFA0-B6AD3620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E0F-1FAE-47B0-A190-7129E954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064-A3E0-4841-BE54-B0490213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E26-7203-4F67-877B-1837DD54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05D-03A0-47FF-BF96-B4C6017B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4CB-9642-4FCB-957B-D61EFE22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7F0-3761-4E4A-A692-318C9622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AE1-7D74-4C64-9554-8645D42B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46E-35FF-4229-920E-16B6D409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D38-3F69-436D-9746-1E28A2D5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906-948E-4FBA-A7B1-C170723F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316-CB5A-4067-AC13-4592E98C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173DC-7527-4012-8E54-5CA8CB0978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Jesus,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of my days I want to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onders of Your mighty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   Иисус, мо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ы достоин ли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мои дни буду хва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чудеса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comfort, my shel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wer of refuge and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ev’ry breath, all th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ever cease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мой, прию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пасенья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мой вздох будет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осить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out to the Lord, all the earth, let us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wer and majesty, praise to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ountains bow down and the seas will ro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t the sound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мко воскликну я Богу хвал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, величье и слава Цар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ы склоняться, моря восшум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Бога возно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g for joy at the work of Y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ever I’ll love You, for ever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hing comp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the promise I hav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песню хвалы я 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т пусть все, как Тебя я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, что могло 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авнить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1:37Z</dcterms:modified>
  <cp:revision>14</cp:revision>
  <dc:subject>The Source, song number 367а in Russian</dc:subject>
  <dc:title>Иисус, мой Спаситель / My Jesus, My Saviour (Shout to the Lord)</dc:title>
</cp:coreProperties>
</file>