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8CC4-D183-408E-A06C-33513AC0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61C6-0624-46AA-9C0D-2CCB70D4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D29D-5C19-4A7D-9BE3-8CDB2806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342E-76C4-4788-8E4A-7C3B13E1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730-2589-4AF8-A35C-99EA8D27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347A-3057-40D5-87A3-23755F0A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4994-F5F9-4301-8A06-C946A132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6D77-CA1D-413C-8175-B5557425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BFE5-9CCF-4DFC-B985-E48010DE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B74D-561C-430E-B1A0-DD6501E8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EE6D-0C18-4CB9-BE49-B797AAC6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0460-6260-45DA-89ED-BC36D363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C32B5-F641-48DB-ADB4-D9C28E8B5C7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 didst leave Thy th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y kingly cr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ou camest to earth fo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in Bethlehem’s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s there found no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Thy holy n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н оставил прест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оставил престол и на землю сошё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 народу принесть благо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ифлеем тихо спал и совсем не жел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бавителя в дом при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 to my heart, Lord Jes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room in my heart for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йди же, войди мне в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есть место, Господь,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aven’s arches rang when the angels sa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roclaiming Thy royal decr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of lowly birth didst Thou come to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n great hum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лебался эфир, ликовал горний ми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вещая рожденье Ца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смиренного тут не особенно чту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взошла им любви за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 to my heart, Lord Jes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room in my heart for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йди же, войди мне в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есть место, Господь,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 camest, O Lord, with the living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should set Thy people fr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with mocking scorn and with crown of th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y bore Thee to Calv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ово жизни принёс, осушил много слё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бавитель любил и спас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народ озверел, перешёл злу преде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Голгофу Его посл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 to my heart, Lord Jes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room in my heart for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йди же, войди мне в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есть место, Господь,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heavens shall ring and the angels 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t Thy coming to victo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Thy voice call me h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ying, “Yet there is roo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is room at My side for th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дрожат небеса, все узрят чуд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падут пред Иисусом в моль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скажи мне тогда: «Поднимися сю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десь есть место, Мой раб, тебе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heart shall rejoice,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ou comest and callest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йди же, войди мне в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есть место, Господь,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0:16Z</dcterms:modified>
  <cp:revision>14</cp:revision>
  <dc:subject>Slavic hymnal Гимны веры христиан, hymn 240</dc:subject>
  <dc:title>Thou Didst Leave Thy Throne / Он оставил престол</dc:title>
</cp:coreProperties>
</file>