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4F52-C4CA-4D2F-99BC-5EB56B46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FD8-46F5-4708-9031-38964CCB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35D-2157-4231-BED1-C80A5384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CE4-5C83-4F1C-9083-AF21ADAC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C8F-5C9E-4AD3-B20B-73AC4089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800-93A2-4DAE-8C1F-0CFFA1E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A0D-3959-4AEC-B094-F12C4402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E5F-0AAC-4DD3-B4C4-AAFC9D61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FA2-5EFA-4A12-B6E6-76BD7642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071-FB00-497D-A487-5783CC5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D9E-0C8F-4667-B22C-1D5E1FB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9BA7-57EB-4E70-BC28-4BD05CE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B8EC7-6D04-4A14-BA6B-0ABF8F4A87A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anksgiving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enter His courts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ay this is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Lord has ma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rejoice for He has made me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6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Enter His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3:54Z</dcterms:modified>
  <cp:revision>13</cp:revision>
  <dc:subject>The Source, song number 262</dc:subject>
  <dc:title>I Will Enter His Gates (He Has Made Me Glad)</dc:title>
</cp:coreProperties>
</file>