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245-017B-44B8-847F-75D23F2E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34F-2592-4D43-8DF7-CED960E4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B7F-917A-40FC-A3FD-92C566CB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7E8-6CD8-4287-B634-368E36D0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576-D948-4A01-8EA1-FEB74F45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1D3-7AC0-478A-8A2D-AEB155EF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F40-DE38-4D61-8AAF-B4C694F8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035-160F-42A8-B526-3DCD4857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5BC-9CE0-4E13-8CED-99202269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A08D-54E1-4B1C-8C1C-DCE27F6A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AF0-57C3-4A4D-9DD9-14531028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6D1-7E35-4FD5-B7CA-FFF4407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74D54-0E21-46B5-8B9B-8071F4BBF4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традающ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 Ты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рабов греха,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ровь и слёзы 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ифлеема д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скорбей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 мир, объятый тьмой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Отца Ты 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страдающ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ы ли плакал на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лимовых сы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 велик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оне их о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ал бы мне источник в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, томясь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и ночь за сво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кал б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ни, сёла,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ерии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бессильного 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и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00Z</dcterms:modified>
  <cp:revision>12</cp:revision>
  <dc:subject>Slavic hymnal Гимны веры христиан, hymn 528</dc:subject>
  <dc:title>Господь, страдающих людей</dc:title>
</cp:coreProperties>
</file>