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0B6-E4A1-4F53-870D-58B3BFFA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8B0-E7CA-4887-B1EF-273B1AAA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A0B-DE5B-4FAB-8A7F-8F9C23C7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B0D-E11C-4A42-9D83-9871976D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B50-3D6F-4FE9-8CFF-60622932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ADD-823D-4698-978D-0CC2AF07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025-0FD3-44BC-933F-948EF804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070-B632-4423-88CB-1B9361B0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14E-B3F0-42E1-9311-8DA70B37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A82-1771-4A16-B1C0-BF008E15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B4C-984B-4DA0-972E-01180B88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D7D-71FF-4175-8008-924846BF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7C7DD-04D1-4125-8F71-3248F3FDE5A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must be more than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Breath of God, come breathe with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must be more than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God, we wait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us anew, we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us anew,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42   There Must Be 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suming fire, fan into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passion for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God, fall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 wit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e like a rushing w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othe us in power from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set the captives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ave us abandoned to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let Your glory fa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let Your glory f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suming fire, fan into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passion for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pirit of God, fall in this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have Your way with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3:40Z</dcterms:modified>
  <cp:revision>12</cp:revision>
  <dc:subject>The Source 3, song number 1542</dc:subject>
  <dc:title>There Must Be More (Consuming Fire)</dc:title>
</cp:coreProperties>
</file>