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44B-6905-4BF0-A255-4D5201B9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6FD-5B83-451B-A49E-71A4036B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8DE-C5E2-46C9-A66C-2ED7196F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17B-D3F5-465C-9216-F6DAC40B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654-45B8-449D-9888-BEE428AD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518-67AD-4D6A-B43E-49C98D65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926-2440-42ED-A574-BC5F9F9D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C5A-71B7-4415-92BC-B8E3F048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EB7-54A2-4554-85FA-D55B4E33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D29-DAA4-4F00-8F80-6B28FE40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8B7-1B51-4A25-8E69-4D5936E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CAA-6267-412F-A508-119C8E8B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EB2D9-CCFE-4459-A47C-6D500CE3D9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8:18Z</dcterms:modified>
  <cp:revision>12</cp:revision>
  <dc:subject>Slavic hymnal Гимны веры христиан, hymn 429</dc:subject>
  <dc:title>Источник жизни Бог открыл</dc:title>
</cp:coreProperties>
</file>