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A3A-41AB-4D96-9F03-5D53AEE9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604-A076-4EE2-BEA7-F9BA2988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8E4-FDB4-411C-99C2-C70BD74D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CE6-8D4A-4273-9386-D4DAE6B1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886-D7D9-4947-B835-6DD05409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6B6-0AA7-4B8A-94AA-6A53FE69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AA6-3D0D-4D2B-A58A-A0C31540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2C9-6D89-46E7-AA2F-495506EE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90A-B4B9-40B4-99E0-281E825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916-CA21-4504-9060-6AF4ED1D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132-99F0-4B55-9BD4-ADED408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BB4-B1F6-48AB-A986-C936735F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339EB-8B61-4B1D-84A1-EB81CA3165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Он в яслях… чтоб согл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и шли со всех сто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ыну Божью. Кто сей ноч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флееме нам ро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Богом был от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образ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збавить род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Он в яслях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е и пой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 землю к нам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 небе всех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меет Свой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Ним падём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ольёмся в дружном пе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и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Боже, из нас кто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оценит и пойм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ешился и я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ть за вес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юбовь Твоя сверш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грешникам откр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Бог нам стал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10:39Z</dcterms:modified>
  <cp:revision>15</cp:revision>
  <dc:subject>Slavic hymnal Гимны веры христиан, hymn 230</dc:subject>
  <dc:title>Вот, Он в яслях…</dc:title>
</cp:coreProperties>
</file>