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7259-B864-49F7-9283-3357DD1B1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BE16-CA10-4D0F-99E2-8169C565D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EC2E-BE35-40B6-A30F-AB97970B3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3EB6-96C4-4A0F-8C69-6EDE85ADC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5AD0-331C-49E9-8752-CE3A96D25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3FE6-1A15-4CAD-B01A-06C593601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7252-4497-4789-8D09-6F3A96B3F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8D53-5270-4254-BE7D-F7D5F9443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800E-54C1-4268-8DEC-A52018B83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1F69-BDC5-4331-B278-E6C6D27DA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887E-4EDF-488C-B3F4-4FDE852CE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D648-DA54-4C98-A452-7E05B3C8C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44AE56-20BD-465A-84AC-1824F0DDEC5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пришлець в земній долин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ругом мене чужин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ле вище зір небесн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оя рідна сторо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27   Я пришлец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м країна свя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м вітчизна мо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м Отець мій благий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я родина мо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 вони в рідній сторон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 я блукаю по чужин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ут гріхи скрізь і нещаст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ут ненависть і злоб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ле там край, повний щаст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м любов живе свя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м країна свя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м вітчизна мо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м Отець мій благий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я родина мо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 вони в рідній сторон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 я блукаю по чужин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ут мене всі зневажаю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навидять тут ме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ле там, там мене любля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моїй рідній сторон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м країна свя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м вітчизна мо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м Отець мій благий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я родина мо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 вони в рідній сторон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 я блукаю по чужин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ут мені смерть загрожу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цій похмурній чужин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м життя мене чекає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моїй рідній сторон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м країна свя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м вітчизна мо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м Отець мій благий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я родина мо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 вони в рідній сторон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 я блукаю по чужин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9T02:31:28Z</dcterms:modified>
  <cp:revision>13</cp:revision>
  <dc:subject>Slavic hymnal Гимны веры христиан, Ukrainian hymn 27</dc:subject>
  <dc:title>Я пришлець в земній долині</dc:title>
</cp:coreProperties>
</file>