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023-4C63-470E-8C13-B0754635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03C-3EB1-4995-8C83-F7A7D879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7752-DA69-4786-84DA-0061C818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895-1E0C-458A-926C-F174F513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646-72E1-4503-B7B4-887A664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B48-B508-412A-A182-B021F37B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714-F634-400E-9205-83186146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470-578B-4FED-8DAB-768CD814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09D-5349-4567-9E4C-EB2A0EA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10F-4F69-4B8C-BC8F-B87A056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04B-344D-4024-8289-7C0FAF8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BFE-DC73-4826-B88A-1316123C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51C5A-4686-487C-B8DF-B3E09B9268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wn life’s dark vale we wa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atch and wait and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what griefs oppr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His arms will res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let my lamp be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my soul be y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heart pangs no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eace and joy and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doubts and fears will v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om His face will ban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oy His loved ones b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through heaven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auty bright and v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grand,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way wa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know the feet grew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1Z</dcterms:modified>
  <cp:revision>13</cp:revision>
  <dc:subject>Slavic hymnal Гимны веры христиан, hymn 324</dc:subject>
  <dc:title>When Jesus Comes (Down Life’s Dark Vale We Wander) / С небес Своих лазурных</dc:title>
</cp:coreProperties>
</file>