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3B3-B6AA-49CD-BA6A-B412ABD1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A16-939E-4555-BE65-68E4A710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2BD-6608-4F09-A4B3-4CB18DB2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D1F-B0A8-496B-B840-B5C9FC55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35A-85AB-4E80-9457-C6D4A2E5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6A2-2110-4DDC-9983-EF115C3E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6B5-A084-4510-8EF2-1D9F106E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A57-2328-4045-A6E9-D59A31B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61A-5DA2-4E74-8BA0-8BD85910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AED-402F-4149-ADEB-CF42BDD7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CA9-1E8F-4C8D-B540-AF77AFC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FF8-E140-47DF-8424-CE95632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B4E7E-3276-4FFA-B0A8-10559A78C2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3   Бажаю теп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му я, співатим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аю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лачу і я, заплачу і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щастя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 тепер сказати То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равду впов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люблю Тебе, бажаю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ерцем своїм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17Z</dcterms:modified>
  <cp:revision>14</cp:revision>
  <dc:subject>Slavic hymnal Гимны веры христиан, Ukrainian hymn 103</dc:subject>
  <dc:title>Бажаю тепер сказати Тобі</dc:title>
</cp:coreProperties>
</file>