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56C-0116-4F30-81FD-A1FBA5BD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37E0-90E2-420A-A6E3-D8291DC2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2F3-5410-447B-9E37-5AA04E25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5F27-107B-4F84-9DB5-30991364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216-44CD-434D-B401-1902F239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507-DE75-4959-ACF9-C3C67D06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A2D8-6CD0-40B3-991E-4263E953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138A-E358-4B89-8028-C23914C2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7891-5ADA-46F9-A49B-C8808DF4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65E6-AA38-421C-8290-CB86EB4B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E549-40BA-4066-B0ED-8FE10F56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88E8-7963-4328-AE16-0C200E29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5EE92-A4C1-420E-BED3-FA3C278EED2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любит труд От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те, окруживши тр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ми, кто спасён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те, все серд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те лишь не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оспода не чт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ети Божьи пусть по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ыв печаль и труд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ныне нам С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лёт радостей милл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ещё мы не приш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лям святой земл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, где нет оби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ечно песнь зв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Эммануилом мы и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 лучший, в вечный дом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ный, чудный Си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мы прямо к Сио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крашенный город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5:20Z</dcterms:modified>
  <cp:revision>13</cp:revision>
  <dc:subject>Slavic hymnal Гимны веры христиан, hymn 588</dc:subject>
  <dc:title>Придите, все сердца</dc:title>
</cp:coreProperties>
</file>