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05B-4E77-4F5D-BCE2-6C6F1EE5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A0F-AB80-4029-B1DE-73E7F74A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0D6-9E5F-4601-B099-3792C1D5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E81-9030-4D3A-B27E-7E14C288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731-2EE6-431C-806D-EA0E39ED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6B0-067B-4C4C-8079-F21404AD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065-E638-463F-97DD-F262D8F1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3FA-D381-43FE-BAB0-D1CD4FA6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8BC-5AD2-4352-8563-3B77E996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6F1-1F93-40FF-8EF4-0C4AB93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BCC-50B8-46AA-B5BD-E64525E5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D25-276B-4065-8BE1-A466B883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87071-2E71-429B-ADFA-9846BD95D4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город не зде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реди мёртвой пус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царство греховных страст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грязнут серд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рачённых нев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бъятьях лукавых с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Твой город не зде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мы приветств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менем Б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аем мы блага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, упо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коро к по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82224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утника примет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десь, где презр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й святы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ненья от ревности зл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жизнь и дон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а лицемер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явно не скрытой вра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нет! Ты лишь стран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город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оитель которого 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― отдых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рада свя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ечальной долине трев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труден т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киталец, путь т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грехом в постоянно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счастлив насле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ного 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 ты и благо теб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тьма, обличё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ом Хрис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авдою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злобно глумя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ёт поруга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веры Господних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, укрепл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жественным сло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веди свои очи к г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омощь от Б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песнь изнурённым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же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мотря на прегра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няться в восторге душой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е тво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ишелец гоним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й прольётся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мни 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усталому ч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ют на Сио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ы, умягч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леем незри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ю покроешь вра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пу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аётся немн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 близок желанный кон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беда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ко граду с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гда твой небесный О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51Z</dcterms:modified>
  <cp:revision>13</cp:revision>
  <dc:subject>Slavic hymnal Гимны веры христиан, hymn 393</dc:subject>
  <dc:title>Твой город не здесь</dc:title>
</cp:coreProperties>
</file>