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82A-46BF-470A-B6FE-F148821B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1AA-1ED0-48B5-9F2E-ABC0E2EC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EA6-597C-4072-876A-938DBA74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24D-9601-497E-B86F-19B6F276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0DB-FC12-46F5-B50A-1AAB58E7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28E-704E-4D5E-9664-223F677E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5FA-7EFF-49F2-B0C0-F20A6CD8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9C9-6347-4088-9947-5F54FC86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5FC-9ABA-4976-8884-15B9F0F6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1DF-D5DB-43CA-B9F6-9D6FA0BA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0B8F-E46D-4A64-8583-DCF86EDD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A4E-870B-47D7-A231-D88D3528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59037-54CB-4C49-9FBE-77B6899A6F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nderly the Sheph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mountains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es to bring His los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 to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ую ов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погиб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ль её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tiently th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s with earnest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ust and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treasure r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ахма дорог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обрет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земли и м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ingly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s the news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ce dead now liv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lost, now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делить весел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тец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ыл мёртв, потеря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 и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o save, seeki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one, ’tis Jesus seeking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6Z</dcterms:modified>
  <cp:revision>13</cp:revision>
  <dc:subject>Slavic hymnal Гимны веры христиан, hymn 372</dc:subject>
  <dc:title>Seeking to Save / Пастырь добрый ищет</dc:title>
</cp:coreProperties>
</file>