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265-3182-491D-A402-E87AA892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E55-CF8D-459A-9DA7-CCAA3EE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A2B-6754-4A02-93B7-7A700F24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4E1-A346-4373-800D-5FD6D2BA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2BC-D22E-4E0A-847E-5E0BF7BC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88B-EFD5-409B-AB41-5436843B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149-F6EB-41C4-B3AE-FDAF2D55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DD9-E151-4B4A-A264-44BE1AC1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D62-311B-454D-9AF7-8236FCAD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DC6-E308-4088-BFDC-ABB1D661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FFD-1A8A-4B5D-A8E7-F97B9B0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A3F-DE6A-421C-AB53-23C0EF1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106F6-C4E3-4CA7-BB58-BB4D555FA1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50:13Z</dcterms:modified>
  <cp:revision>12</cp:revision>
  <dc:subject>Slavic hymnal Гимны веры христиан, hymn 862</dc:subject>
  <dc:title>Со мной ли Он?</dc:title>
</cp:coreProperties>
</file>