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4</a:t>
            </a:r>
            <a:r>
              <a:rPr b="1" lang="ru-RU" sz="3600" spc="-1" strike="noStrike">
                <a:solidFill>
                  <a:srgbClr val="ffffff"/>
                </a:solidFill>
                <a:latin typeface="Verdana"/>
              </a:rPr>
              <a:t>	</a:t>
            </a:r>
            <a:r>
              <a:rPr b="1" lang="ru-RU" sz="3600" spc="-1" strike="noStrike">
                <a:solidFill>
                  <a:srgbClr val="ffffff"/>
                </a:solidFill>
                <a:latin typeface="Verdana"/>
              </a:rPr>
              <a:t>Мы твёрдо вери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ы твёрдо верим, что есть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это верить буд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грех людей сбивает с н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прах поверглись лю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Бог — велик, превозне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х поддерж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х поддержит О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ы твёрдо верим, что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вился во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и людей на крест воз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м даёт прощ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Ним дрожит владыка ть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а познали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а познали м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ы твёрдо верим, что у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ч Духа — Божье сл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у придёт последн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нас ждёт город нов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рагов постигнет Божий су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 пред Ним пад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 пред Ним паду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ы твёрдо верим и не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ую вест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не удержат в мире зл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 скорби, ни муч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земной путь соверш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явимся пред 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явимся пред Ни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6:28Z</dcterms:modified>
  <cp:revision>3</cp:revision>
  <dc:subject>Slavic hymnal Гимны веры христиан, hymn 54</dc:subject>
  <dc:title>Мы твёрдо верим, что есть Бог</dc:title>
</cp:coreProperties>
</file>