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31</a:t>
            </a:r>
            <a:r>
              <a:rPr b="1" lang="ru-RU" sz="3600" spc="-1" strike="noStrike">
                <a:solidFill>
                  <a:srgbClr val="ffffff"/>
                </a:solidFill>
                <a:latin typeface="Verdana"/>
              </a:rPr>
              <a:t>	</a:t>
            </a:r>
            <a:r>
              <a:rPr b="1" lang="ru-RU" sz="3600" spc="-1" strike="noStrike">
                <a:solidFill>
                  <a:srgbClr val="ffffff"/>
                </a:solidFill>
                <a:latin typeface="Verdana"/>
              </a:rPr>
              <a:t>Люблю я Иисуса</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Люблю я Иисуса всем сердцем м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Люблю я Иисуса всем сердцем м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 нас жизнь отдал Он и дал нам побе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Люблю я Иисуса всем сердцем моим.</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05Z</dcterms:modified>
  <cp:revision>4</cp:revision>
  <dc:subject>Slavic hymnal Гимны веры христиан, chorus 31</dc:subject>
  <dc:title>Люблю я Иисуса всем сердцем моим</dc:title>
</cp:coreProperties>
</file>