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234-CE45-4DC4-95A9-47F08E4B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D8F-C57E-49DF-8AF1-A870917F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CB7-F879-4BE7-9F35-4684681C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8C5-AF33-41A9-8BD4-B3F6DB7F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170-84B6-4E71-A073-41A99D98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5B62-A2F1-4FF1-9CEA-764CAE45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E4F6-24AC-44E3-8A13-924EAC27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0E6-9696-418F-A9B5-EA7F4172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8B5-E9E2-4EA8-A2F0-6B123CF5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B165-FA39-4439-94C5-2DBE770A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F87-D628-4957-8B44-0D68FF63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FD9-8765-42B7-A8A2-D2112DE4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CA36F-4A55-4379-AB5F-F43E9DA0EF1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адай духом, не страши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всегда в Его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падай духом, не страш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рудов, среди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пасность всюду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ужды Он предусмот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учший дал тебе уд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идно ль света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припасть к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4:55Z</dcterms:modified>
  <cp:revision>12</cp:revision>
  <dc:subject>Slavic hymnal Гимны веры христиан, hymn 706</dc:subject>
  <dc:title>Не падай духом, не страшись</dc:title>
</cp:coreProperties>
</file>