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F0B-A0F2-46EA-A483-F7A97CEF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76D-D823-4CC3-A632-7157538E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AFC-B055-4413-964F-DE71E74C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2A0-37BF-4298-9CE6-6F1C35AD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EEA9-3938-4366-909D-C2C5D60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F32-2401-4C14-B502-4270AC40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190-E811-4876-9136-46525C6C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565-D8C1-40FB-BF88-B86AFBE5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D8E-D194-4F1E-AB1C-BEEBFD9D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448-4328-4B9D-AAB3-DD347C7A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CD88-906E-4406-9604-4DFF382E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1DB-872A-41E6-81C7-18546134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3F66B-2B59-492A-B9E0-575348EAD2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боре чи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 зарёю я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дивен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локом и мё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льно над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щим на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огла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руд Царя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лн дворцов од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земля мо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литок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як, в тебе приня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нется пыш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амый и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ный из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род, где не з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кладбищ, ни гро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ышно расцве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ды жив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ород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ури и трев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приют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гото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лёз не льют р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вражды хол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дных жертв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стенах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ся братьев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царит все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город м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раше стен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грани из сап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амней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гнём 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жиих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рко отра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 Ег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14Z</dcterms:modified>
  <cp:revision>12</cp:revision>
  <dc:subject>Slavic hymnal Гимны веры христиан, hymn 666</dc:subject>
  <dc:title>Иерусалим прекрасный</dc:title>
</cp:coreProperties>
</file>