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ADE-A349-4009-9936-01696D7D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04B-EDE4-45DB-82D1-9829706D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548-B7CC-4282-A0A7-3796EA2B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104-726D-412B-9F7E-FC999970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CFE-98A2-4165-90F1-F63DD976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259-39FA-4159-8313-3E6213EF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9F4-72BC-4315-A489-B2CDFCA7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9FF1-0ECA-402E-B902-8A35C925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DBE-8924-4709-8A18-73904B61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544-5AAD-45F7-8031-447846A6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C98-5C5E-4F36-8BB2-4F53C54F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481-D4F5-4583-981B-7813518E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DDB90-F44A-4481-BD60-13F8B23EBF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ope is built on nothing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Jesus’ blood and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dare not trust the sweetest fr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olly lean on Jesus’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троил на крови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оил на крови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 надежду я св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х имён не при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ерю имен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hrist the solid Rock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darkness seems to hide Hi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rest on His unchang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very high and stormy ga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anchor holds within the ve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цо ль Его сокроет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тию креп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волнений, бурь и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якоре Его держ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hrist the solid Rock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oath, His covenant, Hi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pport me in the whelming f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ll around my soul gives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en is all my Hope and St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святой крови за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меня в потоках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сё рушится кру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хожу опору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hrist the solid Rock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He shall come with trumpet s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ay I then in Him be fou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essed in His righteousness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ultless to stand before the thr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с славой Он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рным Он меня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тым в праведность,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ез пятна предстать пре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Christ the solid Rock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ther ground is sinking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скал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угих основах лишь пес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4-12T07:24:32Z</dcterms:modified>
  <cp:revision>13</cp:revision>
  <dc:subject>Slavic hymnal Гимны веры христиан, hymn 634</dc:subject>
  <dc:title>The Solid Rock / Построил на крови Христа</dc:title>
</cp:coreProperties>
</file>