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459-5843-4452-99B3-FB2192E1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681-FD7E-4A04-9E4D-2ACA0759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15D-6D93-4AEC-B0D4-7AB3E8D9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B29-3A7E-40EA-9F30-4511A9E7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CB5-DC7F-449C-B13C-F6368E0E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D9C-FFD1-42CF-800E-0C99E7BF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3E8-4CD1-4B00-8042-4B585718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838-3285-4F0C-ACEB-F0AED866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2B2-5D7A-4A8C-8B40-C3174E86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B04-F962-4817-9A0D-B6F567BB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DE7-6F53-4430-849C-2C99F7CB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17E-40B2-4056-92D7-35E46818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F6DB2-27F7-4E1D-A480-E37220D5CF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Божьих детей уж здесь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веры, какое Бог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щё большее нас счастье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Господень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Божьих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жажда томит в полдневный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руден тернистый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иветливо манит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Господень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устально-прозрачной глади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видим венец Христа кра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дубим труды и тьму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Господень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дом, чуд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ё любовь и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03Z</dcterms:modified>
  <cp:revision>14</cp:revision>
  <dc:subject>Slavic hymnal Гимны веры христиан, hymn 655</dc:subject>
  <dc:title>Сердце Божьих детей</dc:title>
</cp:coreProperties>
</file>