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7EE-F9EF-43D6-ADCA-A0942939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001-366C-4404-9A9D-C30B4F87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496-B1BC-4EA8-A55B-283E9D13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695-A3D5-483A-B8A5-AEDFB7BF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B02-6C07-4309-94B5-092CFB20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3E4-40EB-4C7F-9D76-E015D15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D75-C818-46DF-A485-BB73651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75E6-9F1E-4A2B-B8FB-B7627C1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4D-685B-401F-AEED-69577509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9B3-24FE-4E42-9835-F00FFC7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4DB-3C09-4255-8505-F624785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965-13D6-4497-9C56-A5F92EF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04448-00D7-47E6-8F5F-8A1859234A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ногие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урь и ненас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 мире хр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изнь их при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но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вет благод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угом да проль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й, Боже, им счаст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мудрость им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жизн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 всех дор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енить Твой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освящ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аимн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небу стрем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ах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адежде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их утвер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веры бесц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них соблю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идеть им я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 ними Твой Д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 вла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ить их, как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28Z</dcterms:modified>
  <cp:revision>12</cp:revision>
  <dc:subject>Slavic hymnal Гимны веры христиан, hymn 739</dc:subject>
  <dc:title>Дай, Боже, им счастье</dc:title>
</cp:coreProperties>
</file>