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DC7-37C8-47B8-96E2-291C6363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AF5-0202-4739-8191-A908A1C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A51-1F07-472A-B5EB-59E82878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145-AA68-417B-9290-3402EDFA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807-C1F8-4F69-AC7F-1E4278D0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878-1212-4190-A08C-317A03CB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A21-A495-4174-BB5F-CEB601DF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96E-D471-4E95-9AE4-9EC744EA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520-6D3B-44B8-A108-D983F3B2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5E5-0A1D-434A-8D84-15D5280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BFC-A1CA-4468-9C2A-2503B85B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330-8AEB-4A16-AFF7-B59F5976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294DF-2C80-4988-8462-AABE5CCD6C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, Боже, їм щ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многі лі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бур і нещас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х все захищ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иття їх хай завж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покою м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вітло Господ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ай вкруг них сі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8   Дай, Боже, їм щаст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їм мудрість Б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життю цім земн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а й важні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все в світі ці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25Z</dcterms:modified>
  <cp:revision>13</cp:revision>
  <dc:subject>Slavic hymnal Гимны веры христиан, Ukrainian hymn 18</dc:subject>
  <dc:title>Дай, Боже, їм щастя</dc:title>
</cp:coreProperties>
</file>