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526E-4560-4488-9DFC-755BB8E8B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13DF-4F32-4C96-8C5E-E4F13EFB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ABAA-3F16-4471-9703-504F39F5B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F0A5-7FED-48B9-AF41-D1792BF31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ADF7-D06F-433F-98D1-BF6FE8AB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FC48-531F-4349-B698-9999BFE8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E94B-8F55-447B-819D-76662857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1A33-E6C3-401D-AC89-A3B35F9B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F704-9BCB-465E-85E3-8FB6F561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C7DD-35C5-48B0-B55F-BD5329F0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CD53-1AE1-4E01-AD3F-5A98E743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80B1-995D-47C1-B735-2D0564EE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FC2931-F8F8-466F-ABC7-D4D276287B8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or a closer walk with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calm and heavenly fr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light to shine upon the 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leads me to the Lamb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общеньи с Бог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бщеньи с Богом жить хоч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ь Его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озарил Он мне стез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к небесам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is the blessedness I kne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first I saw the Lo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is the soul-refreshing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Jesus and His Wo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то блаженство, что им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Христа позна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та любовь, какой гор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Христу, к Его слов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turn, O holy Dove, retur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 messenger of re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ate the sins that made Thee mour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drove Thee from my bre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ух Святой! вернись к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редное губ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ненавидел я тот гр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удалил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earest idol I have kn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e’er that idol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me to tear it from Thy thr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orship only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самый дорогой ку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ил мне сокруш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и мне в сердце радость,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Христу слу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shall my walk be close with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m and serene my fr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purer light shall mark the 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leads me to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бщеньи с Богом бу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уше звезда взо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ет светлой мне стез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к небесам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21:36Z</dcterms:modified>
  <cp:revision>12</cp:revision>
  <dc:subject>Slavic hymnal Гимны веры христиан, hymn 885</dc:subject>
  <dc:title>O for a Closer Walk with God / В общеньи с Богом жить хочу</dc:title>
</cp:coreProperties>
</file>