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B038-3AD7-4AEC-B0F4-80427ABBE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2C16-4634-45D6-8EDA-F71B480F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F52B-E79F-46DA-B8A4-7F6C9CCD2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7592-52EF-4EE5-A73A-F8D8998D5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8C68-6431-4A66-BFDC-370EEE4D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ACBA-F80A-4B06-9928-CA2A99DD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04C7-0DC9-4409-BEFE-33BEF292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5047-8FAD-44A6-B91F-23188DFE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6680-EF34-4F51-8EAE-EBCCB597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40E0-D9F1-458E-AE37-431C572F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18FF-382E-44D4-9C7D-6811F0BE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B7EC-0558-4E1B-95E0-2E47CEA9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2DE0B-800D-4AE4-B5E1-394F3EDEFF6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You’ve search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know my w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when I fail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You love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holy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urrounding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 seas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You lo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You love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006   O Lord, You’ve Searched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cross I bow my kn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Your blood was shed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no greater love than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overcome the gr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lory fills the highest pl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separate me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go befor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ield m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hand upholds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You lo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You love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cross I bow my kn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Your blood was shed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no greater love than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overcome the gr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lory fills the highest pl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separate me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re the veil, You made a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 said that it i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re the veil, You made a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 said that it i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en the earth fad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lls from my ey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stand befor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You lo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You love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cross I bow my kn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Your blood was shed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no greater love than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overcome the gr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lory fills the highest pl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separate me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re the veil, You made a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 said that it i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re the veil, You made a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 said that it is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6:52Z</dcterms:modified>
  <cp:revision>12</cp:revision>
  <dc:subject>The Source 4, song number 2006</dc:subject>
  <dc:title>O Lord, You’ve Searched Me (At the Cross)</dc:title>
</cp:coreProperties>
</file>