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FCD-EFF3-41C8-A8FA-348A8D04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933-8AA8-46A2-9634-226AF511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CFD-3CF8-4A9E-BF8C-6F5D637D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61B-5AEE-4E41-9B3C-D01FC19D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DAF5-1994-47A4-B5FA-B111412B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B9D-7C73-4CE2-8C8C-2D35501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D58-CFDB-40B2-92E3-EC7B81B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32A-2E9A-449F-9D81-20D22090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736-8F80-4506-88FD-F06F959B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432-5226-4D3C-A7A1-FA0818D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8EF-B572-4C29-A98E-A785144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A58-C3EE-4B54-9A41-B603DE0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B6AAC-FBED-4C29-A219-ADBA489FEA3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   Благословенье, сла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славу и п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всех народов, всего тво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поклон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словенье, славу и п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всех народов, всего твор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поклон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превознесён, наш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ё Царство не знает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вечный Ц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r kingdom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ver all the ea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ш, Ты прав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всей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none shall 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r matchless wo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равных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ей сла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му Царю восп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язык земли и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 колени прекл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чт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3-13T19:35:09Z</dcterms:modified>
  <cp:revision>13</cp:revision>
  <dc:subject>The Source, song number 54 in Russian</dc:subject>
  <dc:title>Благословенье, славу и почесть / Blessing and Honour (Ancient of Days)</dc:title>
</cp:coreProperties>
</file>