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650-AFF6-48A0-A06A-2E65B86E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F7CD-0B08-45E8-A8BC-F3CBCE30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113-B97A-4325-B769-21E33934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D6E-59EF-4E71-87A4-66094748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BE3-F071-43B3-82F9-8E7837A8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638A-7CF0-4875-A4AD-1264AB39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342B-9B49-4742-892B-35003EEE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1901-F9BF-4A89-94B0-0F4A1990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D730-6567-4CE3-BD0C-087288EB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2C1-6EE9-4D75-A28A-66F8E5C7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745-34B9-41C1-B189-4B13E124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DBF2-41F9-4CB2-AE2C-72B6AAFA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58FAC-E4B9-4E29-A2D9-FD16F465157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e enthron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proclaim You our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anding here in the midst of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raise You up with 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worship, build a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worship, build a thr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worship, build a thr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Lord Jesus, and take Your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0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We Enthron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5:37Z</dcterms:modified>
  <cp:revision>10</cp:revision>
  <dc:subject>The Source, song number 300</dc:subject>
  <dc:title>Jesus, We Enthrone You</dc:title>
</cp:coreProperties>
</file>