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435-C13A-4B5C-8AE0-C1CA8B86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4FA-5098-4851-A85A-DF469FE9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B9B-85C4-49C4-AB89-145261EC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37A-8E8D-4820-B7B3-3DAB6BBC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7A1-1A64-41C1-A80F-01AB45DA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60C-A8BE-44CD-B469-D9B2669D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6EF-2714-4E83-AE07-24BE50AD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065-3FE5-4C21-A030-09ACDD9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128-9180-4B34-8E5D-4557FD0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F70-02DB-402A-A84D-DC081DA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38E-7274-48AB-B8CA-DECA8FD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F7A-AF4A-494F-A30A-795ED41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D7C7-2F0B-4687-A926-3559E8BB2E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Христом бодрее в путь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радостен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я стремлюс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дёт лишь Он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реки, чрез моря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я поднимаю вз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ий дом, где ждёт мен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Христом бодрее в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меня средь тёмной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ждает при восход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Он мне отирает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 и креп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н мне посы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т Он всегда нужд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ильем благ меня пи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ет мне любов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 пути со мн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зовёт меня в послед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жизни вечной вновь пробу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авек откроет ра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21Z</dcterms:modified>
  <cp:revision>13</cp:revision>
  <dc:subject>Slavic hymnal Гимны веры христиан, hymn 618</dc:subject>
  <dc:title>Со Христом бодрее в путь пойду я</dc:title>
</cp:coreProperties>
</file>