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2CD-1029-4CE1-A07B-7EA9C4B6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A4C-9B8B-48E6-81DA-5C5D008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806-C7DB-4980-837B-C854A354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483-C53D-4870-91B9-E4B4694D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981-7825-40D0-B49C-D331B53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22C-8051-408D-ADF7-86ED820D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C24-4BFF-455A-8FBB-4246438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077-31CB-446E-A9AE-6C1C84C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58A-78C2-4C8D-8DA4-8464DB11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F82-D74C-4D37-A8AD-1A15274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CBB-0F4F-4082-A365-682DAA72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02E-FE35-469C-AFB4-17BE88F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96432-3E96-4AE3-ACAA-D6ABF0E4F0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8:38Z</dcterms:modified>
  <cp:revision>12</cp:revision>
  <dc:subject>Slavic hymnal Гимны веры христиан, hymn 661</dc:subject>
  <dc:title>Ах, радость, радость будет там</dc:title>
</cp:coreProperties>
</file>