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54F9-6C49-4474-87CE-68E2466D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0DCE-47FB-43DC-A3E4-14C23D1F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04C7-3CB9-4935-B964-C9BEAC150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BF69-851A-4E6F-8DE6-C77757ED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AF4F-494D-43E2-97DD-5A2EE32C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17FE-453E-4485-8469-9BC0EA3A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65F5-F97C-4FDA-92DE-584CBCAF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BD13-9D67-4A87-B070-EE62A8A7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E52C-F76E-4DFE-9912-683AE88C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A8F0-AA8F-4840-9358-B0EFFF0F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D35D-E846-46DF-868E-0FBC7E5B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30F9-C7B0-40BF-9C8A-8F113D7D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19740-6F20-4140-9529-07B824C34A6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вете жизни будь го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и с неправдой 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юй, пока ночной пок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кроет мир зе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сни врага, займи хол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бей греха ку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а — вера, знаем м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бежда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 свете жизни будь го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уст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нашли ту ши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бежда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м под знаменем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слово Божье — ме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уть подвижников св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м сердца привлеч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вера, словно урага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шла по всей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колизей не запуг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будем в их чис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уст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нашли ту ши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бежда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всех сторон идут вра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ят грозный 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ной уют не бере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олько в правде с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нёю правды доро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я шлем о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 от битвы задро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великий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уст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нашли ту ши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бежда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обедит, того Госпо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чьем облеч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ангелами возне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лавит в род и 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так, вперёд путём прямы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а цель и ч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миг разбегутся силы ть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имене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уст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побед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ю нашли ту ши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побеждает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2:59Z</dcterms:modified>
  <cp:revision>12</cp:revision>
  <dc:subject>Slavic hymnal Гимны веры христиан, hymn 552</dc:subject>
  <dc:title>Во свете жизни будь готов</dc:title>
</cp:coreProperties>
</file>