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DC8-BE5E-4955-9717-A421E607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5B6-0D62-4E93-A8DA-3C074ED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3ED-3F3E-402E-9C26-9399F144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B7E-32A9-48F4-8B8E-AC4D97B6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319-D3F6-454A-8EF1-2EF37DE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8E0-B62D-4CE8-AC19-0EE7636E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7F3-FE37-4733-9B84-9B598BB9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BC5-D2C1-4399-BEF1-7768BAA5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AE0-C165-4D6E-8E80-75F836A1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0D2-4CC5-4A58-9063-E4675DF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E0E-B1E4-4ABB-967C-3ACE36D1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D8B-6D6F-4828-9377-E861ADC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4BAC-3544-481B-A3AD-A2E8760A76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7   Как олень ищет пу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лень ищет путь к ручью жив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ою том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ша моя жаждет встречи с Бо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ом м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Друг, Ты мне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обой лег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л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люблю Тебя больш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лю всей душ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нужен больше, чем богат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ща и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Тебе нахожу я р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,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14400"/>
            <a:ext cx="9372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114800"/>
            <a:ext cx="984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щит, мой с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чник сил для души мо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Господь, Ты мой мир, моя от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зем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2-02-29T06:58:51Z</dcterms:modified>
  <cp:revision>13</cp:revision>
  <dc:subject>The Source, song number 27 in Russian</dc:subject>
  <dc:title>Как олень ищет путь / As the Deer Pants</dc:title>
</cp:coreProperties>
</file>