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51E-26BB-4C45-8A5E-1F4B6468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2C5-19C8-4E52-8F51-229A51DA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47A-C5A5-4032-84BA-696DD089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391-E419-4B7C-8CDA-AF0C7A77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E1F-D35D-4081-9CE9-82903A3F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FA0-5FD1-4DB1-971F-9F667E3B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E04-6C50-4F01-B776-85454A43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D12-6D24-4A0B-BE01-AB747637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6DE-2FD4-4ABB-BDF2-353C2EBA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5BD-2223-4D3D-AA47-3739B50E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2AC-9629-45C3-84AB-E3BF140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9D7-DD1F-41C8-83CE-46D4D706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08C84-46BD-4D80-A4E9-DEEC7FBF72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чудной вести твёрдо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традал, умер за меня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умер я ныне для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нак того по вере я крещ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й чудной вести твёрдо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лилась святая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грех мой омыт и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совершила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чадом наре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а, в которой погружа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могилой для ветхой жизн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новь мне воскреснуть д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од Святого Духа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Христу хочу я под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по Его стопам х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Иисуса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ля того хочу отныне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для греха, жить чтоб дл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гда во мне Христос был вид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бу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0:17Z</dcterms:modified>
  <cp:revision>12</cp:revision>
  <dc:subject>Slavic hymnal Гимны веры христиан, hymn 723</dc:subject>
  <dc:title>Той чудной вести твёрдо верю я</dc:title>
</cp:coreProperties>
</file>