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EB7-27A4-4975-8340-F05D3245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49D-AF05-4267-94CC-94C75CD5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A10-8782-4900-AE02-A1FCAFA4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B28E-7F9A-43F2-8BC1-C0E6A6C2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DEF-CB9A-402E-9672-EBC872CE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E18-82FF-4202-9644-6C315430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AEE-84D8-46EA-8F15-A283B50A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E32-721F-464C-BBB8-DC5D8427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22E-3900-4FA0-815E-D0B38DBE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97D-490B-4BCF-A2FF-E601F654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2D6-56A0-4415-A865-A92183DA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26F-E410-417D-A73F-D0A61E62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61DE4-D16B-40A5-A2CB-65A7934CA1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fountain filled with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n from Emmanuel’s ve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ners, plunged beneath that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зни Бог откр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poor lis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mmering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ners, plunged beneath that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e all their guilty s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, кого Христос ом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и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ying thief rejoiced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ountain in his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may I, though vile a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ойника в послед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ла Христов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may I, though vile a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 all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, у ног Его склон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ся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dying Lamb, Thy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never lose its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the ransomed Church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the ransomed Church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aved, to sin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чрез неё войду 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r since by faith I saw the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lowing wounds sup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ing love has been my the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ерой мог узр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святой кр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ing love has been my the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be till I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жив, я буду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n a nobler, sweeter song, I’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ower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poor lis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mmering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silent in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свой путь законч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ляжет в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нашёл и спас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у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36Z</dcterms:modified>
  <cp:revision>14</cp:revision>
  <dc:subject>Slavic hymnal Гимны веры христиан, hymn 429</dc:subject>
  <dc:title>There is a Fountain / Источник жизни Бог открыл</dc:title>
</cp:coreProperties>
</file>