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5D72-5384-46F6-85AF-73D4C5D3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01A-043A-4CDE-98C8-D87355B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5DA-FA89-42BA-9040-922E537C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2D5B-44C4-4FA2-BB2F-A1A12E79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0B4-FA36-4EDE-ACAA-2C674F65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F23-C21F-448C-947F-4C9A628D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71B-96AC-4A32-947C-28AF816D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D37-E1A6-4FB3-8BD1-1B02DE08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1BB-11F9-4390-9C89-4F8B22F8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82D-0C14-4BD3-86A9-3951B1B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6C7-6053-4DA7-8C80-8897352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FCC-E199-49F5-AF9A-5579CAA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84E04-8B6C-4360-82DF-7FD2A87BCA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в большом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осподь и Власте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нам в нази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ты в большом собра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Его Священ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нимателен, как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полненью будь го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абочий на за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танков, маш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рудящемся на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емли родной раб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евая мир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оляр или как плот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круж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детный семья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ой отяг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, ты —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а, в школе, на з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лесу среди троп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оезде, в ваго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Господним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вущих — образ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христиани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вангельским, при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6:44Z</dcterms:modified>
  <cp:revision>12</cp:revision>
  <dc:subject>Slavic hymnal Гимны веры христиан, hymn 509</dc:subject>
  <dc:title>Если ты в большом собраньи</dc:title>
</cp:coreProperties>
</file>