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D87-51E0-4B92-A759-DC3C5BDC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5AC-0E54-43AD-AB46-9DC4AFE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7C1-6AD3-46C4-8CE5-36F1C9F8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69D-11AE-4E86-B555-180C7F26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08A-9E6A-41C5-98C5-65251AAC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4FB-84F9-4EBC-A1A6-EA95416C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737-C51D-4758-97B2-4A43CAF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EC9-E882-4897-A7F8-1BAF24A9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5C2-84C7-4E46-93CD-8ED38E71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7BA-929B-4BB3-9406-CE939AFB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CB5-A813-4CC9-8895-77D7061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7B9-70AF-48F6-B8C1-0D88BA4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2E069-BEC7-49A5-A3AB-22DC3379B1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, down in my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the joy, joy, joy, joy down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in my heart to st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 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 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37Z</dcterms:modified>
  <cp:revision>12</cp:revision>
  <dc:subject>Slavic hymnal Гимны веры христиан, Ukrainian hymn 111</dc:subject>
  <dc:title>I Have the Joy, Joy, Joy, Joy / Я маю радість, радість</dc:title>
</cp:coreProperties>
</file>