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D29-93F0-4453-B26A-9230B0AE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6AE-0C47-4FDF-A513-C967A3D0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C18-C991-4586-9FE2-6217DDF1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503-EA5F-4BE5-A047-BA8757BB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87C-17B3-4165-8E3E-66D3D839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7AB-4D87-473C-A471-281F29B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52F-ADCD-41D1-BCED-577F68A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DF4-6CCC-41B5-85BA-7ADA794F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FEC-1F65-4152-9CB3-52017EBC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FBD-C46B-453B-B2EF-1C8C6A4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1D0-A461-42CC-B7D8-72429D54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153-6D45-453F-A6B2-824C73F7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E1550-8322-4532-BB11-57F5F32722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not dead. No! He is a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m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aise Him with my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Him in m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is alive 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’s Not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38Z</dcterms:modified>
  <cp:revision>10</cp:revision>
  <dc:subject>The Source, song number 133</dc:subject>
  <dc:title>God’s Not Dead</dc:title>
</cp:coreProperties>
</file>