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5655-FDF8-451B-895F-5C657829C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8059-54BD-4355-8F1C-99C45F02C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802F-212A-4860-9E01-73A97AFBD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2F0D-7705-4A23-BB41-01A440C56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F3AF-A5E5-4537-85D3-65D963710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44AC-A481-4CDF-8BC9-437346EF4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DB18-6A48-45D7-B820-FD311A523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1895-BE38-4F75-BEA8-624964337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9789-C9CE-45DA-9548-A009E1469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3247-1158-4193-89B0-FB89BC7F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3B9F-5E3F-494D-B5BD-A733275D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A95B-2544-4A98-BF28-96FE5443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074D33-D42B-44F2-9BE1-8860DA74785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и к своим, скаж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ты Христом освобожд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видят близкие тво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Им ты обновл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и к своим, скаж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ог с тобою сотвор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пожелают и о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Он их возрод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6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йди к свои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и к своим, скаж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н грехи твои прост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гибшего взыскал и сп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ны исцел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и к своим, скаж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ог с тобою сотвор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пожелают и о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Он их возрод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и к чужим и возв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про любовь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н за них пришёл стра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жизнь дать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и к своим, скаж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ог с тобою сотвор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пожелают и о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Он их возрод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 и дальним о кр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кровь Христос прол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целый мир, чтоб всех спа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ушу полож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и к своим, скаж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ог с тобою сотвор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пожелают и о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Он их возрод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20:38Z</dcterms:modified>
  <cp:revision>12</cp:revision>
  <dc:subject>Slavic hymnal Гимны веры христиан, hymn 564</dc:subject>
  <dc:title>Пойди к своим</dc:title>
</cp:coreProperties>
</file>