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3</a:t>
            </a:r>
            <a:r>
              <a:rPr b="1" lang="ru-RU" sz="3600" spc="-1" strike="noStrike">
                <a:solidFill>
                  <a:srgbClr val="ffffff"/>
                </a:solidFill>
                <a:latin typeface="Verdana"/>
              </a:rPr>
              <a:t>	</a:t>
            </a:r>
            <a:r>
              <a:rPr b="1" lang="ru-RU" sz="3600" spc="-1" strike="noStrike">
                <a:solidFill>
                  <a:srgbClr val="ffffff"/>
                </a:solidFill>
                <a:latin typeface="Verdana"/>
              </a:rPr>
              <a:t>Милость Господня</a:t>
            </a:r>
            <a:endParaRPr b="0" lang="en-US" sz="3600" spc="-1" strike="noStrike">
              <a:solidFill>
                <a:srgbClr val="000000"/>
              </a:solidFill>
              <a:latin typeface="Verdana"/>
            </a:endParaRPr>
          </a:p>
        </p:txBody>
      </p:sp>
      <p:sp>
        <p:nvSpPr>
          <p:cNvPr id="39" name=""/>
          <p:cNvSpPr/>
          <p:nvPr/>
        </p:nvSpPr>
        <p:spPr>
          <a:xfrm>
            <a:off x="36036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илость Господня чудес пол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сильнее, чем грех и су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ам чрез Голгофу пришла о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 Распятом с тех пор по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очищает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убже морей, выше облаков.</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рех и пороки, как глубь м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ут тебя поглотить ск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что больше людски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возвещает чрез крест Христ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очищает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убже морей, выше облак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ятна свои нам нельзя сокр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х не омоешь речной во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о креста в мир течё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примиренья, чтоб всё покр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очищает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убже морей, выше облаков.</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илость чудесна, ей нет кон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является пред людь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ешь ли видеть лицо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Господню сейчас при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очищает от всех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 Божья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лубже морей, выше облаков.</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46:12Z</dcterms:modified>
  <cp:revision>3</cp:revision>
  <dc:subject>Slavic hymnal Гимны веры христиан, hymn 53</dc:subject>
  <dc:title>Милость Господня чудес полна</dc:title>
</cp:coreProperties>
</file>