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109-4528-43F8-BBA9-0606FB97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65D-627E-4077-B80B-7D52D0D5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DC1-6429-42B7-AE26-45045B35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F7D-A76D-41BA-BA96-CB6F4C6C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7DB-4CA6-4AF6-9B52-9E3B0F48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697-7110-4A51-B07F-D28D3758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98E-7D10-4A09-9550-28E085F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2B7-FD9E-4492-B0A7-CFC3CC3B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2EC-7530-4D83-9127-D85057DD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0CB-B795-4127-82C8-93CC71CC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4AC-6308-472C-BCA9-3A6337C8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37D-EEED-43CD-8211-58DDAD3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3C3F0-CD23-45E9-85E3-10C0516AAF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music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s stripp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imply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nging just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mething that’s of 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ill bless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the Music F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endless wo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could ex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You dese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 and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is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single br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ring You more than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ong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not what You hav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arch much deeper with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way things app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looking in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coming back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rt of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rr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 I’ve ma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ab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about You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12Z</dcterms:modified>
  <cp:revision>10</cp:revision>
  <dc:subject>The Source, song number 576</dc:subject>
  <dc:title>When the Music Fades (The Heart of Worship)</dc:title>
</cp:coreProperties>
</file>