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924-A844-42D9-8A6C-FA9DED60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5864-4851-4C4A-998A-4CB03224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DDF-5C80-4E7E-98A9-23D96BB7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245-B4BD-4ABB-8C62-E2B1AE4C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2C5-1FB9-408B-9C42-64F4369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934-804D-4EF4-A666-C5832F68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8D4-5972-41C7-BB72-EF188AFD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59E-84E2-4405-8772-C7A35D6C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CD1-AE68-43EB-AA1F-D5696E88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95A-3F18-410D-BF75-2A90C3B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64B-422A-409C-8F75-B6707000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F48-DA51-460A-BBCB-20FAEFC7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FFB7B-6DD8-4A59-A7E8-7B016CC55B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перёд прямым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двигаясь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Тому, Кто жизнь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 силы мне достичь высо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емлюсь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есен мой земно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учит страх, сомненья жг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корбь близка, а грех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тремлюсь достичь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к небу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цепь тяжёлую в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ой слышу песн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м пою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ья славы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вперёд, молюсь Хрис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осподь, веди на высот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59Z</dcterms:modified>
  <cp:revision>12</cp:revision>
  <dc:subject>Slavic hymnal Гимны веры христиан, hymn 853</dc:subject>
  <dc:title>Стремлюсь вперёд</dc:title>
</cp:coreProperties>
</file>