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DB1-5135-45D2-BAD8-5221C6EB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31A-E1FA-44F0-8CCD-519E291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5F2-6496-449E-9631-648085BD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CAC-C97A-4AF8-81A0-8F98CB6D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0E3-2AD5-432F-827B-2F480578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0E8-534C-49E2-BB9A-AEA6525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888-0CF1-4A5F-9360-C516B67B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30B-F24B-4766-94EF-96FE46D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AF5-C763-4CDB-B800-028D8EF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D1E-9D85-42D4-80FA-6521CFA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E2B-5F8D-4912-8316-465DFFF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D55-3E76-41BC-9281-52CFD1A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79BB8-62A7-4A97-B13C-8B72583B80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all ye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and triumph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ye, O come ye to Bethle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e King of ang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choir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exul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, all ye bright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God, All glory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Lord, we gree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is happ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to Thee be all glory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 of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flesh app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let us ad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9:34Z</dcterms:modified>
  <cp:revision>14</cp:revision>
  <dc:subject>Slavic hymnal Гимны веры христиан, hymn 242</dc:subject>
  <dc:title>O Come, All Ye Faithful (Adeste Fidelis) / Придите к Младенцу, верные с весельем</dc:title>
</cp:coreProperties>
</file>