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B9A6-808A-4D2D-B68C-38EC9791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A52-CC29-4DB6-AB38-1E9296D7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DBB-E937-466C-B362-11EE5B27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BF2-34C6-464F-B0CF-64AD357B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BE2D-9CF3-4BA4-B3B5-3136EADE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6BE-EA75-4F13-B2ED-72243C27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FB0-7210-40EB-A120-5BB6490D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B61B-47C4-4933-8F9A-A995A0CE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F8BE-9DF9-4351-9753-4DEC90FD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81CC-75AB-4605-BA85-03A0BA71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AD41-38E2-4A63-A26E-F3A80C90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AA18-E9E8-474B-9EE7-D82E04B4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432DB-A021-44D3-92B3-EE1CB61838C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етит безжалостное врем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мчались тысячи го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ёт и нынешнее пл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ед исчезнувших 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дёт и нынешнее пл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лед исчезнувших 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етит безжалостное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в вечность день за днём стрем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яя нам сле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на крыльях ветра мчит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и наша чер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на крыльях ветра мчитс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и наша чер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ши громкие дея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ы, заботы, су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знут в пучине мироз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еприметная мечт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знут в пучине мироз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еприметная мечт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вот, зачем ты в свет род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олько выдержал скорб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му ль твой жадный ум стрем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тать добычею черв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му ль твой жадный ум стрем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тать добычею черв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жизни счастья призрак ло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кружил тебя во мг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ываешь, прах ничтож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— прохожий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ываешь, прах ничтож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— прохожий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сть за гробом жизнь и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ая, без счёта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там участь ждёт ка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этом думал ты иль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там участь ждёт ка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этом думал ты иль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0:05Z</dcterms:modified>
  <cp:revision>12</cp:revision>
  <dc:subject>Slavic hymnal Гимны веры христиан, hymn 736</dc:subject>
  <dc:title>Летит безжалостное время</dc:title>
</cp:coreProperties>
</file>