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41EB-3001-4E0E-BD2B-BC235090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AD36-2BC8-40D4-B6EB-2105F110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16B0-671D-415C-B085-60894E072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55E7-C657-45AC-9F50-27D0A9848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3ED1-8FAB-4022-A40B-7772EB02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13D5-3E75-4B6B-A049-2EC053BB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DD31-A7CE-4E65-9BCE-5F19DF01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F4C6-062E-4C25-BF2D-018367B1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6A91-B773-469B-9C8B-88B365DB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D73B-A67E-4A85-97E5-E5025AC6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0061-F9F7-466A-A8E6-868A0213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DE02-72DA-40E4-B3CA-310C22C8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9B6ED-77E6-4ECE-8812-DDB96130C1B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молитвы, в час про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твоей нужды боль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приятный, в час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ли, брат, дом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час молит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еко ты заблуд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Христа в путях зем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 Он примир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, мой друг, вн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найдёшь ты утеш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решном мире сём, брат м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Иисусе в день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обретёшь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прийти к Нему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зыщи прощ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с небес об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твой искуп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(почему) не теперь (не тепе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роешь сердца двер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11-28T02:16:35Z</dcterms:modified>
  <cp:revision>14</cp:revision>
  <dc:subject>Slavic hymnal Гимны веры христиан, hymn 335</dc:subject>
  <dc:title>В час молитвы, в час прощенья</dc:title>
</cp:coreProperties>
</file>