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7C6D-BCB5-4CB8-87AF-6AA53AB76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594E-B273-4512-B267-A11723E2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1223-0A6F-4501-92FD-2D242078A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B9B2-D19B-493B-94BE-E1B3A359C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7282-D02C-4AEC-8AA5-13BD09CB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EE95-018F-4E73-8C15-A2E187CE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90A5-97AF-4C0C-8110-8840BBA3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F7CD-8DF5-468F-8BF5-D43339CB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5AE6-E236-4C43-A241-312BADC9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41CB-342D-47FE-A883-090F018D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308C-E00B-496E-B50C-F7999BBF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9B6C-9583-4E1B-A476-61360302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0E779E-A5EB-407D-92DE-06EBBF9C076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me, for the feast is spread, hark to the c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me to the living Bread, offered to 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me to His house of wine, low on His br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cli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ll that He has is thine; come, sinner, 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дите все на пи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дите все на пир! Зовёт Сам Бо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ам вы найдёте мир, там нет трево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ам радость и покой, и блещет там струё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ток воды живой. Придите вс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me where the fountain flows, river of lif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aling for all thy woes, doubting, and str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illions have been supplied; no one was e’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enie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me to the crimson tide; come, sinner, 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дите все к Христу, к Его стопа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юбви всю полноту Он даст сердц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 Себе Он примет всех, с души омоет гре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убелит, как снег. Придите вс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me to the throne of grace, boldly draw nea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ho would win the race must tarry 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ate’er thy want may be, here is the g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the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esus thine only plea; come, sinner, 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дите вы скорей к Нему тепер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Он рукой Своей откроет двер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обретёте в ней, как сладостный ел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бвение скорбей. Придите вс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дите все, друзья, в Отцовский до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ияют ярче дня святые в н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нец их там блестит, и песня там звуч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в славе Бог царит. Придите вс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1:39Z</dcterms:modified>
  <cp:revision>14</cp:revision>
  <dc:subject>Slavic hymnal Гимны веры христиан, hymn 352</dc:subject>
  <dc:title>Come, For the Feast Is Spread / Идите все на пир</dc:title>
</cp:coreProperties>
</file>