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B2C-A7DF-4464-A4C3-A7A8E1FC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164-76B7-4A19-BF50-A1829AD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29D-7A00-4D01-BF2C-DAA4FFE7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61F-EA93-4227-B10D-B4C56955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F4F-44C2-4E0A-B578-278B2EF0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738-F89B-48FF-B13B-A833EB8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078-CFC2-4794-8E34-C88F9AA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6CB-46D3-4DB9-956F-EF796F21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AC1-7BB3-43D3-8C17-B345D11D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5BC-CBB0-442E-9FFE-2F018D8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C66-7278-44BB-A442-0D7E00AD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85D-3310-43FA-8C5C-E45E1A8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CAA5A-B717-4D25-8C4A-01C4F64A95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 in the ligh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mar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arching, oh, we are m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We Are Mar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 in the lov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li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living, oh, we ar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ove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 in the pow’r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moving, oh, we are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18Z</dcterms:modified>
  <cp:revision>10</cp:revision>
  <dc:subject>The Source, song number 539</dc:subject>
  <dc:title>We Are Marching</dc:title>
</cp:coreProperties>
</file>