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4C8-AAF3-45C5-9547-B29C84FC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9B4-CB89-436C-BBDD-C2893BA9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11C-C8A1-4F19-9A56-67DD8ADB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C1B-F517-4A08-95B3-6FDF2F69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9CD-6E9A-4E6D-AC2B-73801648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A91-663F-485C-8096-958B9CF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C1A-C3B1-4FE5-9634-5907676C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C56-863D-4EB9-B1CA-D235027F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8E8-234E-410E-B549-8A534E8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BA1-83C3-4F35-B730-D1D39EC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5C1-DC6F-4CE9-959B-EF8B4D0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543-A17D-442F-9494-F04D53C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EB2FA-67E9-4101-946E-3395F754D0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let me d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lif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ever worldly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wilt have me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from sorrow, pain o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dom dare I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alone shall be my pray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9   Father, Let Me Ded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child presume to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r how to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a Father’s love re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best to g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glad heart, while 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e in all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whate’er the futur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36Z</dcterms:modified>
  <cp:revision>12</cp:revision>
  <dc:subject>The Source 3, song number 1199</dc:subject>
  <dc:title>Father, Let Me Dedicate (Be Glorified)</dc:title>
</cp:coreProperties>
</file>