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378-E6C7-4ECD-A99E-7EAB664F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AB4-15C9-4D9A-BA43-4F41F4E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511-4A46-4A02-9D18-28CB80D5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5C1-3F47-41EF-A6CA-3389923B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F0B-722D-4398-B3ED-B34DB972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061-3A20-4D7D-BB28-32B9D10D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16D-6BE7-4F25-BDC2-09113FF3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518-B745-44A9-A08D-0DE5591D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8E1-6E51-414E-B0CC-3C4CA5DB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0DF-E133-4BCF-829A-AF1B59B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B9E-832B-433C-A5A5-9F1A481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7EA-0DD8-4C76-9F35-61426B6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F8691-FCFE-42B6-8B60-EEC85CA6F9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престол и на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роду принесть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флеем тихо спал и совсем не ж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я в дом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оставил прест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бался эфир, ликовал горн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я рожденье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миренного тут не особенно чт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зошла им любви з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жизни принёс, осушил много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ель любил и спа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род озверел, перешёл злу пре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лгофу Его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рожат небеса, все узрят чуд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адут пред Иисусом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 мне тогда: «Поднимися сю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есть место, Мой раб, теб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йди же, войди мне в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есть место, Господь,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6:29Z</dcterms:modified>
  <cp:revision>15</cp:revision>
  <dc:subject>Slavic hymnal Гимны веры христиан, hymn 240</dc:subject>
  <dc:title>Он оставил престол</dc:title>
</cp:coreProperties>
</file>