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85E-FF8A-43E5-9A35-0DA65799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556-EC3C-4EFB-8CEC-3DD7FA6A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77B-2650-4352-9EBE-A597A1BB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2B0-137F-4CDA-9E86-B2A22957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87A3-3AA1-47CE-818B-6F8BADFF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A39-C21F-47BF-9108-0300DBD3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DA0-495C-4DAF-8C1D-0FA9F32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E4A-D9E5-477E-8BD2-13A0E88B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202-1189-4F28-BD68-0EADF8A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A70-2DEA-4ED9-BAA9-A05B0CCF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9DE-0B56-45E5-B7D4-1F9F2897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5ECA-1E3F-4084-AE79-064723B7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06D34-E48C-483E-B57D-F2A909F06E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5:07Z</dcterms:modified>
  <cp:revision>12</cp:revision>
  <dc:subject>Slavic hymnal Гимны веры христиан, hymn 897</dc:subject>
  <dc:title>Мы должны светить</dc:title>
</cp:coreProperties>
</file>