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93A-56D5-47C3-A34B-06E314D1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8C3-8537-4798-980F-FB6681FB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18D-1229-45E0-95BF-236D9D74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5E41-EA24-4618-80DB-C4E68B62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99E-601C-4445-A054-1AA66767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6B3-5D8C-4402-8764-A0C5FE43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116-740D-420C-845B-A96902B5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B77-9B09-4693-BDE4-F63D4C8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3E2-1134-45C8-B65E-1B2A6411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E7D-5263-4601-B4FE-94B73D5B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7CA-D95C-44CD-8A47-D2CE6BE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A62-8359-444E-A7E2-B4850440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EE5E4-1072-4212-9349-2016B4D84A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call comes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 restless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resc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5   Серед темряви нічно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 темряви нічної чути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гинуть і настав останні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ve heard the Macedonian call to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golden offering at the cross we 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в світі чути Македонський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очув цей крик, нехай ско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pray that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everywhere ab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Christlike spirit everywhere be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аші дні також жахлива темн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льйони грішних гинуть без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not grow weary in the work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gather jewels for a crow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Ви для світу світло”, так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 темряві нам світити при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58Z</dcterms:modified>
  <cp:revision>12</cp:revision>
  <dc:subject>Slavic hymnal Гимны веры христиан, Ukrainian hymn 55</dc:subject>
  <dc:title>Send the Light / Серед темряви нічної</dc:title>
</cp:coreProperties>
</file>