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61   О, любовь Творца вселенной</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Love divine, all loves exce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oy of heav’n, to earth come dow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ix in us Thy humble dwell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l Thy faithful mercies crown.</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любовь Творца вселе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неба, к нам сой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ушах кротких и смиренны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Царство правды утверд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Thou art all compass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ure, unbounded love Thou ar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Visit us with Thy salv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nter ev’ry trembling heart.</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Иисус, Ты — состра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предвечная люб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мир и оправ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храняй нас от врагов.</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Breathe, O breathe, Thy loving Spir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to ev’ry troubled bre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all in Thee inheri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find Thy promised rest.</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ухом истины напол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чисть от всякой ть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послушно и покор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Тобой шли всюду мы.</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ake away our bent to sinn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lpha and Omega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nd of faith, as its Beginn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t our hearts at liberty.</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нам — Альфа и Омег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начало и кон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 грехами дай побед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вободу для сердец.</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Come, Almighty to deli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all Thy life recei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uddenly return, and nev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evermore Thy temples leave.</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семогущий Изба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ши чувства обно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ас устрой Себе об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тоянно в ней живи.</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e we would be always bles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erve Thee as Thy hosts abov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ray and praise Thee without ceasing,</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lory in Thy perfect love.</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разлучно будь Ты с н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дохновляй нас, Боже, внов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м, словом и дел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лавлять Твою любовь.</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Finish, then, Thy new cre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ure and spotless let us b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et us see Thy great salvatio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Perfectly restored in Thee:</a:t>
            </a:r>
            <a:endParaRPr b="0" lang="en-US" sz="3200" spc="-1" strike="noStrike">
              <a:solidFill>
                <a:srgbClr val="000000"/>
              </a:solidFill>
              <a:latin typeface="Verdana"/>
            </a:endParaRPr>
          </a:p>
        </p:txBody>
      </p:sp>
      <p:sp>
        <p:nvSpPr>
          <p:cNvPr id="5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Сделай новым нас творе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ым правды, чист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дели Твоим спасе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в Себе имеешь Ты.</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Changed from glory into glor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t>
            </a:r>
            <a:r>
              <a:rPr b="0" lang="en-AU" sz="3200" spc="-1" strike="noStrike">
                <a:solidFill>
                  <a:srgbClr val="ffff00"/>
                </a:solidFill>
                <a:latin typeface="Verdana"/>
              </a:rPr>
              <a:t>Til in heav’n we take our pl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ill we cast our crowns before The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Lost in wonder, love and praise.</a:t>
            </a:r>
            <a:endParaRPr b="0" lang="en-US" sz="3200" spc="-1" strike="noStrike">
              <a:solidFill>
                <a:srgbClr val="000000"/>
              </a:solidFill>
              <a:latin typeface="Verdana"/>
            </a:endParaRPr>
          </a:p>
        </p:txBody>
      </p:sp>
      <p:sp>
        <p:nvSpPr>
          <p:cNvPr id="5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нови в нас образ Бож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рай небесный нас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Тобой венцы полож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восхищеньи и любви.</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9:31:55Z</dcterms:modified>
  <cp:revision>3</cp:revision>
  <dc:subject>Slavic hymnal Гимны веры христиан, hymn 61</dc:subject>
  <dc:title>Love Divine, All Loves Excelling / О, любовь Творца вселенной</dc:title>
</cp:coreProperties>
</file>