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7A49-770C-4139-A817-B1C4F1A1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EC7-0F93-4ADB-A5B8-87729E7A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E06-A98C-4DE6-8EEC-2CA4C4D2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FAE-C2AA-47C6-81C4-0DB109C6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CF2-A89B-4F59-891A-69981918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0BD-34DE-4FA7-96CB-C957682C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43D-99FB-466C-A197-D14F6095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FA8-E624-4AD7-91EA-58E7048C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9AE-7D46-4461-88B2-2B5E1F3F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9CE-4721-44C3-94A2-D928814B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8AC-11BA-4EB1-BA37-197A4252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5A0-E4D2-400B-8741-324105B4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06592-99AE-4362-A904-54B637AC60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see the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sunset’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art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ross the evening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feel the my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distant galax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awes and humbles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loved by a God so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38   When I See the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thank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give my life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prais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day make ev’rything I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allelujah, 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hear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God of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hared hum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uffered by ou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cross they nailed You 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ould not hol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You’re making all things 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’r of Your risen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thank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give my life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do but prais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day make ev’rything I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allelujah, hallelujah, halleluj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5:58Z</dcterms:modified>
  <cp:revision>12</cp:revision>
  <dc:subject>The Source 4, song number 2138</dc:subject>
  <dc:title>When I See the Beauty (What Can I Do)</dc:title>
</cp:coreProperties>
</file>