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77A-E8E0-4475-A6C3-6562E1F6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061-0232-4146-8F7A-D517FB62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5E2-F9DE-4245-9F4D-BB3B16E7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2EB-00D3-4C13-95DD-F554E569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E86-B2EA-4BD2-BD38-5BB92F08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ABC-72C3-4B99-910E-2B421E84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534-FB7A-4117-83EA-6A7BC4D8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13F-5BF2-42F5-B3F3-FE8AC84B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6D1-1625-4200-B66E-5DFF5800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BCD-279B-4702-8CF3-D0FBD9BC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B31-4E80-4892-BAF7-2C9DB7ED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846-3B77-4E83-A659-EA3E0299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6AF51-FFF3-43F2-9544-4138DACA2F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ора, нині і на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е той сам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міниться, Він ніко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все Й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5   Вчора, нині і наві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58Z</dcterms:modified>
  <cp:revision>13</cp:revision>
  <dc:subject>Slavic hymnal Гимны веры христиан, Ukrainian hymn 115</dc:subject>
  <dc:title>Вчора, нині і навіки</dc:title>
</cp:coreProperties>
</file>