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58E-AD52-4C3E-BBF6-89D4D274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973-D91A-44FE-81F0-2C92060F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782-9688-44F7-A159-E5281AEF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1EF-179C-4369-8DDA-350F1269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7A2-4809-4483-8B45-BE12A74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CE8-6F5A-4C20-93E5-2BD89DE5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72B-5927-4FBE-B67E-79513C72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91F-BF4B-4429-BE48-8DABF66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54F-B16B-469E-BD0C-678F248A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C86-2EA7-4E87-8DB1-98638D8A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53C-521C-40C4-BD2C-5EBF69C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B08-9B56-4A9A-B53F-2482783D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17ECC-9050-47EA-9951-02C05803D2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from sin are longing to b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 redeem you died on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шь ли жизни чист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шь ли жизни чистой, без грех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олгофе умер за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atan tempts and doubt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His strength shall over all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ли смущает страхом и стыд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жешь в этом мире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you aweary? Does the way s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ove will cheer and fill your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ли в бессильи, мрачен ли тво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м весельем Бог наполнит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 when shadows on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thway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oy or sorrow Christ is all in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вскоре ты придёшь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на Христа гл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, в горе Он всегда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 alone is able to sa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Христа гляди (гляд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ой Спаситель, тв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на Него гля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57Z</dcterms:modified>
  <cp:revision>14</cp:revision>
  <dc:subject>Slavic hymnal Гимны веры христиан, hymn 715</dc:subject>
  <dc:title>Look to the Lamb of God / Жаждешь ли жизни чистой?</dc:title>
</cp:coreProperties>
</file>