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EE82-E1B5-4CCC-BB86-6F8C016C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F99C-8FCF-485A-96CF-C61CE030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518D-D4AD-4C4C-A2DC-93449D4E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8A8F-E776-480B-A63F-0F4ACFBE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ABC8-065D-42E9-8D86-C22871B0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A702-9BCF-4DF3-9FFD-10271335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1918-8975-48EB-8AAF-A890B6EF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CC83-D7F4-4171-A342-BB953F23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4C41-6F7A-427E-9F40-DCB39DC9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AB4E-A638-46A6-9322-0E60B2A2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2565-D5CB-495A-9D98-96369C63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EB5F-80FD-4140-B632-D20F8CC1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91823-45DF-4917-A711-5CE93440658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mply trusting ever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through a stormy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n when my faith is sm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Jesus, that i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оверяй Христу всегд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ли ты, грозит бе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 ль воет, ночь круг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as the moments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as the days go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Him whate’er be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Jesus, that i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во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, хоть свет пог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 в мире зл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ly doth His Spirit s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this poor heart of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He leads I cannot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Jesus, that i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 сиянье ль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бедное мо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дёт прямым путё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as the moments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as the days go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Him whate’er be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Jesus, that i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во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, хоть свет пог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 в мире зл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if my way is cl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ying if the path be dr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in danger, for Him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Jesus, that i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 мной — я весе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ок? — сильней мо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хе? — слышу как бы гр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as the moments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as the days go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Him whate’er be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Jesus, that i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во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, хоть свет пог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 в мире зл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Him while life shall 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Him till earth be p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 I hear His final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Jesus, that i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Тому, Кто сп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и в смертный ч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 вечность не у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as the moments f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as the days go b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Him whate’er be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Jesus, that i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во всякий 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, хоть свет пог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встретил в мире зл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й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1:49Z</dcterms:modified>
  <cp:revision>13</cp:revision>
  <dc:subject>Slavic hymnal Гимны веры христиан, hymn 645</dc:subject>
  <dc:title>Trusting Jesus (Simply Trusting Every Day) / Доверяй Христу всегда!</dc:title>
</cp:coreProperties>
</file>