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1358-5370-4FF4-A4C8-E0882777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E952-CE52-49FD-AA78-72DF4B59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2E0-14C4-48E3-95E0-89411AA6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2E8-88C3-42C0-8535-6C6B06F8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48C-A8B7-4FA9-8E26-E0B1C7AB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1E1-C1BA-4243-B26B-23F3CC75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4F0-4061-4C19-8BFD-72F20228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4AF-D40A-4B66-937A-86641A8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694-6129-473C-8724-73BB4E8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C42-E831-48A9-A186-B2AC6E40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322-C04A-4CE6-BB02-DB90F48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C1C-30FF-49D2-B2AB-95F6B8F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B9AE3-D8C2-476D-B5BB-D7CBFFF068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tenderly calling you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from the sunshine of lov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ther and farther a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ный Спаситель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зовёт нас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,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от любви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ьше и дальш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 the weary to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Him your burden and you 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not turn you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даёт на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аёт, ны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воё пред Иисусом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ет Он бремя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, O come to Hi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oday, wait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your sins, at His feet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no longer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к Себе ждё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ждёт, ныне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вой Ему исповедай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отрада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pleading, O list to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m today, hear Him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believe on His Name s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Quickly arise a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ся чудный Спаситель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тиши, ныне в ти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ёт Он тому, кого сп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к Нему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, call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alling, is tend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0Z</dcterms:modified>
  <cp:revision>13</cp:revision>
  <dc:subject>Slavic hymnal Гимны веры христиан, hymn 401</dc:subject>
  <dc:title>Jesus Is Tenderly Calling You Home / Чудный Спаситель зовёт нас домой</dc:title>
</cp:coreProperties>
</file>