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B02A-1863-4924-B1C4-7E9AC968A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B030-8A30-4998-A730-6F2C95A27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5C5F-8A73-4471-987D-4E3CABB49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E874-AD92-4704-B602-F899E82E0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83BA-688F-497F-A170-10AD38FDC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C9A6-3781-42F5-BC4F-7C715E64A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6B03-BCB5-44A7-B5D1-97DF1F669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26BD-1DBE-4F4D-93B0-108B543CC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C27C-BA19-4F04-B3CA-5A917428C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48DF-4202-411B-ABD9-4B7B8214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C311-8894-4BB9-9BFE-E7A1949D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A8E9-64AD-40F9-A1CE-9E2E109F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800901-675A-4CC8-AC5E-7709C6567A3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43080"/>
            <a:ext cx="91440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но лилия степн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цветая, оживи, душа мо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рёл стремись высо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лёко к небу, в Божие кр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тремись к стране жела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тоянно! Там тебя давно уж жд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у Божьего прест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имн весёлый хоры ангелов по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1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ловно лилия степ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343080"/>
            <a:ext cx="91440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и волн не бойся; сме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мело в челноке Христа плы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к пристани прибуд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забудешь испытания сво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тебя не привлек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леняет мир блестящей суе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еск для мира драгоценны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зрак тленный, поглощён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т ть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343080"/>
            <a:ext cx="962028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 и Врач земли несчаст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жечасно дух несётся мой к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вергни же стремл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ленье, а прими меня к С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крепи Своё создань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ень страданья от меня не отхо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ыми в часы пад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ень сомненья мощной верой утвер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43080"/>
            <a:ext cx="962028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гряди, как Царь побед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 наш бедный и меня возь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 конце борьбы опас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 прекрасный двери жизни м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едь принял наказ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деянья и за грех души м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ь Тобою побеждё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ражёна: воцарись, мой Бог, ско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56:30Z</dcterms:modified>
  <cp:revision>12</cp:revision>
  <dc:subject>Slavic hymnal Гимны веры христиан, hymn 510</dc:subject>
  <dc:title>Словно лилия степная</dc:title>
</cp:coreProperties>
</file>