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2E3-7C2C-432C-B801-551747D0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CE3-77C5-4522-97F8-DF580DA9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716-1928-4E5F-96DD-A735FF5B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E20-CA75-4058-B3FC-B5966301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1D1-D05D-4037-8739-2590752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210-C015-4983-B3A0-F558F5FF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643A-B7C8-4EF8-BCD4-AD75761D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E50-00E5-4E52-8B32-1C644F2D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DBD-9B97-48C8-869F-0867E339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81E-2698-473C-B919-1C56E0A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FBBA-EF01-4C52-8089-98291909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75A-DEF6-480C-BDC2-581F597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14A39-6AC1-4ABB-B50D-272C946B86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39Z</dcterms:modified>
  <cp:revision>13</cp:revision>
  <dc:subject>Slavic hymnal Гимны веры христиан, hymn 530</dc:subject>
  <dc:title>Есть у нас Божье слово</dc:title>
</cp:coreProperties>
</file>