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37C-81AA-4F5B-AA22-B2B69099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00D-0A96-4E0D-99DD-1CBBBE2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004-7861-4ACD-953C-E90EA880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496-49F8-4C53-8471-5DE4B0DD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D63-9069-4BFB-B6C1-5104E354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576-DA55-4384-A9CE-D1C6F94D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913-A092-4DBC-A635-9D492DA9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B19-FCFB-4EBA-957B-91A43FA2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F5B-1CB1-4622-99EB-2400AD7F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FC0-47D8-4983-BB9F-79D7CE5E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EB7-E1A1-4FA9-9239-7437AEC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3DA-5967-4A97-B2AC-D78BAB7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79B81-4277-4CDC-A837-B385F1939F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name above all na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Saviour, glorious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mmanuel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ed Redeemer, Living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Name Above All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26Z</dcterms:modified>
  <cp:revision>9</cp:revision>
  <dc:subject>The Source, song number 291</dc:subject>
  <dc:title>Jesus, Name Above All Names</dc:title>
</cp:coreProperties>
</file>