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25E-8F6D-4E1F-8427-35208D4B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249-4D04-4465-B8FD-0F47729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C6F-62EE-4855-B87B-597F9C54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835-9BED-47A0-BF37-6873943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60C-3066-41A3-A864-C9B2C3AC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661-43F7-410E-A9B4-2C96A22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49D-CF3B-4DB2-A4DB-B59F277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A4E-4B5E-4C3E-A936-3B6FEA47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CCD-4A64-4D54-B249-0F589B2A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7F7-7DD4-4455-BA3E-74663561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BE6-1A18-412B-944B-DADF2A9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A5B-B9D7-417B-A05D-BFF1FEA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D4A3-F798-40D7-920E-B08DC026BB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w in the grav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ing the coming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watched His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ainly they seal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cannot keep his pr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re the bar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0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Up from the grave He aro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With a mighty triumph o’er His fo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 a victor from the dark domai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And He lives forever with His saints to reig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, над тьмой победу одерж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с Ним вечно царствовать Своих призва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e arose! He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00"/>
                </a:solidFill>
                <a:latin typeface="Verdana"/>
              </a:rPr>
              <a:t>Hallelujah! Christ aros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1T07:04:21Z</dcterms:modified>
  <cp:revision>13</cp:revision>
  <dc:subject>Slavic hymnal Гимны веры христиан, hymn 288</dc:subject>
  <dc:title>Christ Arose! / Во гробе Он лежал</dc:title>
</cp:coreProperties>
</file>