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393F-DCC8-4AC8-9FA6-CAE2F982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7BA-9C16-4C99-BC34-ADA42437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A6BE-7F5E-4076-B1A8-35BA0809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A89-5C39-48E2-B5AD-DA105E7C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6A7C-4EBC-47EC-8846-7164F048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2A71-AFBF-43FF-9AB0-08E92703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5B5-B4C0-42AA-AA21-5B1416D0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BD8-C642-4990-AF14-1223826A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48AF-9445-4C25-8552-C6CCFA73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86BE-19CD-49AE-AEB3-83EF7EBD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A43-CCCE-4200-A7C4-2937174F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38D9-2A5F-4D87-B3D0-F994FB09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DE2C7-40B4-40F7-B408-F666D25F63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елись, печальный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, Христа лю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дел твоих и без за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у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ию спас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шь ты вен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пора, положит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й борьбе 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звеселись, печа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роптать сред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лясь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идит твой душевны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нает, как 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чала дней твоих зем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м ли ты хра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шь ли, что Он в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ях не постиж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 же ни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жизненной гроз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шь ты счастлив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м, 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6:12Z</dcterms:modified>
  <cp:revision>12</cp:revision>
  <dc:subject>Slavic hymnal Гимны веры христиан, hymn 699</dc:subject>
  <dc:title>Возвеселись, печальный друг!</dc:title>
</cp:coreProperties>
</file>