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5B7-4771-4045-8454-52F03D1F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2CB-5D07-4C4A-9EF7-3F15FF4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AEE-D281-49D0-B9E8-69AA9D81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4D6-F221-4C79-8C2C-A1A34146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C0D-7AB5-4471-8516-29E8A5A1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0CE-B6D6-4234-AB21-978DE33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F38-5050-4660-8E2B-F24E528A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2B3-A52D-4B92-9ECC-9A55797D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09D-D2F9-46AC-9030-003A1F5F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ED6-50FA-4DF3-B354-10A8534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48C-6A06-4442-B40F-5288CA7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FFA-8841-4AA9-91F1-A6BB39E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F65D3-8698-4953-BE9A-CC8E81CF24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osanna, Hosan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lift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earts full of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xalted, O Lord, our G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 King of k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27Z</dcterms:modified>
  <cp:revision>10</cp:revision>
  <dc:subject>The Source, song number 182</dc:subject>
  <dc:title>Hosanna, Hosanna</dc:title>
</cp:coreProperties>
</file>