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7F21-4F69-40A3-AB2B-38235F4F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F7B1-A511-4340-934E-1AE6E2AD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D07D-2949-4EC9-8516-899F01E2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D3E8-DBA5-47AF-9172-314DE8C5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127A-BA35-45C4-A28F-96271D4A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E832-3B81-4547-83A5-EB41ED86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2A05-F4CC-4AA5-A338-E6076125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F337-CDE7-4D12-93BF-31825010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22D5-2B99-41DD-BD8D-D0F91D29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F910-C8B9-4A5C-AFAF-C6311E01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26CF-9A54-43F1-8BE7-47B10D25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BDBE-237B-4B0F-B2A0-7D79F290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6A106-CE9B-460C-8A73-E5D19BD94B5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валюсь крестом Христо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оходит, он ст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лучах Господня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че золота блес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житейская ли м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уше ль тяжёлый гнё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 Христов терпенью 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мне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хвалюсь крес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ль вешнее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цветёт кругом мен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креста любовь свя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полняет радость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мерть, печаль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освяще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сердечный, веры сл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навек д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50:29Z</dcterms:modified>
  <cp:revision>12</cp:revision>
  <dc:subject>Slavic hymnal Гимны веры христиан, hymn 864</dc:subject>
  <dc:title>Я хвалюсь крестом Христовым</dc:title>
</cp:coreProperties>
</file>