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325D-9DA5-4E59-BD9B-A9F61B67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AB3-55CB-41E0-8C6D-8938480D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7159-8EC2-46B9-B4BC-79308BF8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B35C-50B4-4EB8-B58E-899E6371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32DE-5B28-4C46-9291-B26F2A38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62E0-F816-47C0-8E1D-E78F748F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269-F255-4619-B291-ED791070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66DB-0422-456A-B560-D371954F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5F55-FA23-4FC6-92F6-5E41CC7B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487-25BE-49DA-A635-0A0D4FB8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0695-2E16-4AD7-AECF-B079F072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673-852C-4EE7-8065-F89F5A76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7DB8F-A92A-4147-BAA2-14F741ED94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тся труд мой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мне Спаситель на небе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всегда буду с Ним преб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окончится труд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даровано в доме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еспредельной любовь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Его уви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ногих встречу любимых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о свиданье вдали от скорб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ть Христа будем все воспе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3:38Z</dcterms:modified>
  <cp:revision>12</cp:revision>
  <dc:subject>Slavic hymnal Гимны веры христиан, hymn 870</dc:subject>
  <dc:title>Когда окончится труд мой земной</dc:title>
</cp:coreProperties>
</file>