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26F2-BBF8-4ECB-A003-0A79FDC47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624A-E20D-469C-936E-9C08E07E0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439B-24D4-4C99-9820-2F99AA31D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CC55-AD72-4187-91B9-E3DDE4365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8533-DF28-4645-BD2D-71A402A55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97DE-4769-4225-A7F1-9BED048B2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3497-539D-4C48-9107-744584CB8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F820-9100-4211-B6ED-58E84C157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85E1-A6E0-4617-B8AE-3294EFCDF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75BA-3E54-4FD3-AA7C-2C456109F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7176-2EA1-45FB-B9EE-888C98112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2DD2-F46B-4545-8C7E-A7F3438F6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2FDBF3-D6F7-476D-9901-E900BDAEE14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le we pray and while we plea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le you see your soul’s deep ne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le our Father calls you h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ll you not, my brother, co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35а  Слыша просьбы, слыша з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ыша просьбы, слыша з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вствуя нужду душ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г мой, под Отцовский кр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вратиться поспеш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y not now? Why not 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y not come to Jesus 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y not now? Why not 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y not come to Jesus 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чему не спеши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Искупителю сейчас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чему не спеши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Искупителю сейчас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have wandered far aw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o not risk another d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o not turn from God your f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today accept His gr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яжело душе тво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теряй напрасно дн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рестань во тьме блужд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даёт нам благо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y not now? Why not 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y not come to Jesus 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y not now? Why not 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y not come to Jesus 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чему не спеши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Искупителю сейчас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чему не спеши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Искупителю сейчас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world you’ve failed to f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ught of peace for troubled mi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 to Christ, on Him belie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eace and joy you shall rece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ире тщетно ты иск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а грешному у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 Христу приди, Он да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 сердцу твое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y not now? Why not 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y not come to Jesus 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y not now? Why not 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y not come to Jesus 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чему не спеши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Искупителю сейчас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чему не спеши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Искупителю сейчас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 to Christ, confession mak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 to Christ, and pardon tak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rust in Him from day to 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keep you all the 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открой перед Хрис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ощенья дар прим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ь и будь с Его детьми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т Он твоим вожд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y not now? Why not 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y not come to Jesus 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y not now? Why not 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y not come to Jesus 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чему не спеши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Искупителю сейчас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чему не спеши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Искупителю сейчас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0:57Z</dcterms:modified>
  <cp:revision>14</cp:revision>
  <dc:subject>Slavic hymnal Гимны веры христиан, hymn 335 (as amended)</dc:subject>
  <dc:title>Why Not Now? / Слыша просьбы, слыша зов</dc:title>
</cp:coreProperties>
</file>