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9DA-758F-4F1A-85CD-40758A33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CB0C-AFB6-40B4-A555-A1C26352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D7F-32E1-41B1-BFAA-EAD33D7D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72B-0294-48C8-83B5-370E19AA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6F2-F904-4EFA-9B5F-FF68765D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BC6-815B-4C43-A8D2-90F58EB8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5BA-5771-47B5-A433-C417B62D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68B-9CC5-4AB2-9150-7D62CF57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BF8-B2CA-46FC-BFC8-7E673DD5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461-C321-418B-A099-C59579A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1EE-032F-445A-9405-DD00D74A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7FC-8E41-4BAF-86F1-BE372345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179F1-16EA-43C6-947B-9B55AC907C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не бо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азны сере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ень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й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ницах свящ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очу не бо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много пор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еску у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рек и по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силь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правды нам д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ет нас все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ех, как пурпур багря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ю Я, как сне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 дивны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ворцах веч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овью 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в белом о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ш яды не тр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безвестно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ангелы славя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44:58Z</dcterms:modified>
  <cp:revision>14</cp:revision>
  <dc:subject>Slavic hymnal Гимны веры христиан, hymn 620</dc:subject>
  <dc:title>Я хочу не богатства</dc:title>
</cp:coreProperties>
</file>