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43</a:t>
            </a:r>
            <a:r>
              <a:rPr b="1" lang="ru-RU" sz="3600" spc="-1" strike="noStrike">
                <a:solidFill>
                  <a:srgbClr val="ffffff"/>
                </a:solidFill>
                <a:latin typeface="Verdana"/>
              </a:rPr>
              <a:t>	</a:t>
            </a:r>
            <a:r>
              <a:rPr b="1" lang="ru-RU" sz="3600" spc="-1" strike="noStrike">
                <a:solidFill>
                  <a:srgbClr val="ffffff"/>
                </a:solidFill>
                <a:latin typeface="Verdana"/>
              </a:rPr>
              <a:t>Заблудшего, чужого</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Заблудшего, чужого</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ня нашёл Христо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плечи взяв больного,</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мой к Себе принё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ют святые перед Ним,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Отцом опять заблудший сын.</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8"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ен я любовь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плен Агнца кровь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ю Божьей возвращё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ю Всевышнего прощён.</a:t>
            </a:r>
            <a:endParaRPr b="0" lang="en-US" sz="3200" spc="-1" strike="noStrike">
              <a:solidFill>
                <a:srgbClr val="000000"/>
              </a:solidFill>
              <a:latin typeface="Verdana"/>
            </a:endParaRPr>
          </a:p>
        </p:txBody>
      </p:sp>
      <p:sp>
        <p:nvSpPr>
          <p:cNvPr id="49"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ен я любовь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плен Агнца кровь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ю Божьей возвращё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ю Всевышнего прощён.</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Я, злом порабащённы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ерть видел пред соб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Господом прощённы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ал: «ты — сын М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слаще голоса Христ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му хвалу поют уста.</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ен я любовь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плен Агнца кровь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ю Божьей возвращё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ю Всевышнего прощён.</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еперь с Ним непрестанно</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 радости живу,</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гибших неустанно</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Спасителю зову.</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каждый счастье обретё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к Богу с верою придёт.</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ен я любовь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плен Агнца кровь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ю Божьей возвращё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ю Всевышнего прощён.</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5"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Мои все согрешен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зял с Собой на крес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ечное спасень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мог в Христе обрест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Его кому понят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грешный мир Он мог страдать!</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6"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ен я любовь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плен Агнца кровь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ю Божьей возвращё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ю Всевышнего прощён.</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7"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И жизни светлой, нов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днём проходит ден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ь приготови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м вечной славы сен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торг и радость без кон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ждут в обители Отца!</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5T00:37:42Z</dcterms:modified>
  <cp:revision>5</cp:revision>
  <dc:subject>Slavic hymnal Гимны веры христиан, hymn 43</dc:subject>
  <dc:title>Заблудшего, чужого</dc:title>
</cp:coreProperties>
</file>