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6</a:t>
            </a:r>
            <a:r>
              <a:rPr b="1" lang="ru-RU" sz="3600" spc="-1" strike="noStrike">
                <a:solidFill>
                  <a:srgbClr val="ffffff"/>
                </a:solidFill>
                <a:latin typeface="Verdana"/>
              </a:rPr>
              <a:t>	</a:t>
            </a:r>
            <a:r>
              <a:rPr b="1" lang="ru-RU" sz="3600" spc="-1" strike="noStrike">
                <a:solidFill>
                  <a:srgbClr val="ffffff"/>
                </a:solidFill>
                <a:latin typeface="Verdana"/>
              </a:rPr>
              <a:t>Тому, Кто смертью крестной</a:t>
            </a:r>
            <a:endParaRPr b="0" lang="en-US" sz="3600" spc="-1" strike="noStrike">
              <a:solidFill>
                <a:srgbClr val="000000"/>
              </a:solidFill>
              <a:latin typeface="Verdana"/>
            </a:endParaRPr>
          </a:p>
        </p:txBody>
      </p:sp>
      <p:sp>
        <p:nvSpPr>
          <p:cNvPr id="39"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Ten thousand thanks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se life our ransom pai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se blood a full atonemen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all the world has mad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ому, Кто смертью крес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ровию нас сп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оём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оём сто тысяч раз!</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every heart ador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every creature 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Saviour and our King.</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ныне в сердце каж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 к Нему г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каждый неустан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иста благодари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ll praise Him o’er and o’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or the life with Him to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ousand mor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en thousand thanks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ow gladly would we g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lives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d we so long to liv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если б было м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огам Христа прин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ец и жизней стольк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их не перечес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287280"/>
            <a:ext cx="936000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ongues shall prais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songs asce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m, our blest Redeem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m, our dearest Friend!</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уст да слав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за столько му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дь Он — наш Искуп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самый лучший Друг.</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ll praise Him o’er and o’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or the life with Him to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ousand mo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Ten thousand thanks to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blessings eve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imes ten thous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love’s redeeming power;</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ристу благодар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 что кажды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овью избавля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словляет нас.</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hen we hear His wel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yond the rolling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love through endless ag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ur sweetest song shall b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ж за бурным мор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го увидим 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веки не умолкн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еснь сладостной хвалы.</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287280"/>
            <a:ext cx="8999640" cy="349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ank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e’ll praise Him o’er and o’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or the life with Him to l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en thousand thousand more!</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о тысяч раз, сто тысяч р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валу мы возглас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только ж раз за жизнь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жить мы будем с Ним.</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10:01Z</dcterms:modified>
  <cp:revision>4</cp:revision>
  <dc:subject>Slavic hymnal Гимны веры христиан, hymn 116</dc:subject>
  <dc:title>Ten Thousand Thanks to Jesus (Ten Thousand Times) / Тому, Кто смертью крестной</dc:title>
</cp:coreProperties>
</file>