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D65-049F-4CB5-A5FF-31597ABE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BD5-06AD-4B7D-BBAC-58D3336B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90C-FBB5-42AD-8212-89058F13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E88-0DBA-4F61-8752-F4ADC7EE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D42-A0D2-4B20-A3D0-8BC666D3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EC5-3CAA-488F-B79E-025F013B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036-E488-494A-B7D9-30B3FFE0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0E9-16AB-4581-A490-BCD70F51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07B-1DEA-4B7E-9AC4-278B1956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355-8DA4-448D-9F5C-E9A1751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618-4276-4378-9CCE-B1392D86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DFA-6997-48DB-B3F3-6DF4E16B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E7715-24AD-4ECB-BAE3-DAE3CA786D0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You seem so far a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million miles or more it feels tod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gh I haven’t lost my fai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must confess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it’s hard for me to pra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26   Lord, You Seem So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don’t know what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on’t know where to st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s You give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that’s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, I will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in my darkest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orrow and th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t’s hard for me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thoughts and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for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put my trust in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ing that You 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t me f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don’t know what to s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don’t know where to st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as You give the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that’s in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, I will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n in my darkest h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rough the sorrow and th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50:42Z</dcterms:modified>
  <cp:revision>12</cp:revision>
  <dc:subject>The Source 3, song number 1426</dc:subject>
  <dc:title>Lord, You Seem So Far (I Will Sing)</dc:title>
</cp:coreProperties>
</file>