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FA88-242A-4109-9E1E-CA983F07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D698-77DE-496E-828F-9F96C98B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08C7-7E42-4151-A669-940440F8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1694-0692-4DA3-853B-EA5FA3F1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15CF-791D-4AAF-87B8-23D00B68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198F-CCB4-4BD6-B9FE-DA173100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80E9-A795-4E90-98A3-EFBE50B6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D2F0-37E9-48ED-91FC-CE4277A7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CBD7-6C42-4E6C-886F-369C7D6E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62AD-E19B-40FE-A4C1-DB52A723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55F3-9458-468D-A266-EFC8FA70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E0CE-7C28-4D0A-932E-D2A976D9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C4AF2-F951-4661-9E9C-3605E195B6D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ие минуты мы здесь пров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остоте и Христовой люб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перь нас разлука недолгая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о Господ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свидания! Здесь до небесной ст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свидания, брат и сестр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ем молиться, друг друга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сердцем Иисуса хва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орогие минуты мы зде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6:23Z</dcterms:modified>
  <cp:revision>13</cp:revision>
  <dc:subject>Slavic hymnal Гимны веры христиан, hymn 743</dc:subject>
  <dc:title>Дорогие минуты мы здесь провели</dc:title>
</cp:coreProperties>
</file>