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834B-CC51-4487-9BF0-8D4790F5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AFB8-B0E7-460C-A8A6-00161623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E8AC-EF46-4D37-9574-7BB314FD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3204-D09E-4BB6-9C00-05893927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3520-8C92-414E-81E2-5DC021CA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DEF1-FA62-469B-A8A6-3F471C47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3EAA-5B88-49D9-A46E-F4DEC0A6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87E-E083-4B80-9272-50E5F98C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4BC2-8512-4C04-A53D-676EF13A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1A98-B3D1-4520-BF01-195E1FE4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1766-BCA2-4342-ACAC-820896FF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6381-0F61-467A-B6D9-5B16422D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4EEAD-BD6F-48F2-930A-BA30F7DF1A9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m have I, Lord, in heaven but Th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but Thee! None but Th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is my song through life shall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есть на небе у мен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есть на небе у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жизни только песнь мо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sharpest pains my frame perv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powers of nature f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will I sing through death’s cold sh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мне скорби дух стесн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роды силы замолч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петь сквозь смерти я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th for me the wine-press tr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th redeemed me “by His bloo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reconciled my soul to G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меня в горниле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у с Богом примири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I envy not the rich their jo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vet not earth’s glittering to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илы мне богатств дары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хочу их мишуры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 can no lasting bliss best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ding” is stamped on all bel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ne is a joy no end can k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ечного нам 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ленья облик в нём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же радость не пройд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with the poor be cast my l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knoweth best,”—I murmur n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б я бедным плотью ста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н знает лучше!» — я б сказа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“vine” and “fig-tree” blight ass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“labour of the olive fail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eath o’er flock and herd prev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 винограднике — б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ь маслины без пл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ь бичует мор стад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I am now on hostile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in beset me all a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я среди вражды, ог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аждает грех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earth her fiercest battles w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oes against my soul eng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ong in His strength, I scorn their r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мир готовит грозный 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се враги идут вой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Нём силён — порву их стро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hen my life draws to its cl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fe in His arms I shall rep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for me! Christ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расстанусь я с землё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Его найду поко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06Z</dcterms:modified>
  <cp:revision>13</cp:revision>
  <dc:subject>Slavic hymnal Гимны веры христиан, hymn 578</dc:subject>
  <dc:title>Whom Have I, Lord, in Heaven? / Кто есть на небе у меня?</dc:title>
</cp:coreProperties>
</file>