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6D0-E585-4A09-84AA-7FBDB1A6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7461-FD13-443B-9778-B6667960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FE0-8E49-449C-AD16-11306BF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A20-97C5-41F1-B286-C56B8E0E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EF7-CD5B-47E4-BFC6-D93C68E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FAC-3A6F-4C9A-AE9C-ABDCAF9A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B17-8F69-40A4-A7A0-8C9F8FE3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219-25CC-46C8-B273-DAADFDC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B5E-8DC6-45BD-88CD-2C4EFDAB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4BA-1D77-4468-9E34-0F671AF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E85-5E10-4C41-BCCB-0C1B7444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B6C-7682-40F0-8BEF-DFE17EED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A39AE-4A80-4B4A-96B7-81A319207B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ечной царствуй глуби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и мне будь 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святую волю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меня познать 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учи люби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вятой Д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 меня луч разум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й во мне неверья ть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лишь может вдохнов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вечной правды свет у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душу мне сог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к Спасителю дай 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а мне и утешенье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Дух Утешитель, Од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ях душе успоко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Тобою Божий Сы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, надежду шлёт мне в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ы в сердце множит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делай милостью Тво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чисто и дух п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ей всегда моей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у воле, кротость в н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, Учитель мой, пре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и к блаженству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12Z</dcterms:modified>
  <cp:revision>12</cp:revision>
  <dc:subject>Slavic hymnal Гимны веры христиан, hymn 308</dc:subject>
  <dc:title>Приди, Святой Дух Утешитель</dc:title>
</cp:coreProperties>
</file>