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9DE7-C781-4A55-A514-F9582B96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21A-E015-44D7-BAE8-A12631FD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2E5B-6063-4F2C-9156-FB9870A0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526B-144B-49F9-BB33-16510B43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00E-F18C-45BD-9C21-3EC97AC9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35BD-172F-44E4-A391-49C2825D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9766-B76E-4881-8E03-B35220DA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16A7-1405-4725-B784-E0587450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EF8-78D0-44EB-9D66-F716B7C8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C50-CDC1-481F-9E09-9DE9A8B9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B1D-DB53-4CD0-BBE5-EFE08B6F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B9E-CB9D-42CC-82B3-38EC1B47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C37AE-C7FC-436E-9852-46E26F5E49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Спаситель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мой Госпо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Спаситель жи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але благодатной мне отдых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радость и верный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удесный Спас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372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Спаситель со мною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ает мучительны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т и спасает меня от в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славной победе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честь Его милостей дивных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брежен любви океан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 пред народом, пою в тиш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дивный Спаситель мне д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етый в нетленье, при звуках труб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тречу Христа Сам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жертву спасенья, за всё, Кем О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всеми прославлю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ыл Он меня в благодатной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но грозы ника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л Он меня в Своей вечной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крыл меня нежно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3:36Z</dcterms:modified>
  <cp:revision>13</cp:revision>
  <dc:subject>Slavic hymnal Гимны веры христиан, hymn 595</dc:subject>
  <dc:title>Чудесный Спаситель, Христос мой Господь</dc:title>
</cp:coreProperties>
</file>