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A6A-04FF-4906-84A2-D5954E12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2419-8CDA-4A96-B21D-717FBB9B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9A8-1761-4179-BFFC-563E7EE0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F81-98A9-4C9C-8CBA-3886242B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71B-6C7A-4EE2-A7D0-D5D5B370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D1F-7932-447A-BD8E-A66F40B1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B079-4532-4509-8E39-FA887EA7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D267-8A6C-4325-9B7C-E5A77512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308-3E02-4A78-A653-C4BFF1B9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86BF-B787-4570-A744-DFEB8716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9BBA-D794-41F3-B366-74B9F620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1BAE-449F-473A-B07C-8F8923BE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B8024-F696-4CA4-BC64-DF5260B95BF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about Jesus would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grace to others sh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saving fullness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love Who di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льше скажите 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лагодати полн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saving fullness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love Who di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about Jesus let me lea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holy will discer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irit of God, my teacher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wing the things of Christ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ятости и чи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е истины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яет в нас Христов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saving fullness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love Who di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about Jesus; in His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ing communion with my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ring His voice in every l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ing each faithful saying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ове жизни, что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бщенью с Господом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, и радость на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saving fullness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love Who di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about Jesus; on His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ches in glory all His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kingdom’s sure increa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coming, Prince of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царит на выс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юбит грешников спас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в наш мир придёт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, more about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saving fullness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re of His love Who died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00Z</dcterms:modified>
  <cp:revision>13</cp:revision>
  <dc:subject>Slavic hymnal Гимны веры христиан, hymn 557</dc:subject>
  <dc:title>More About Jesus Would I Know / Больше скажите о Христе</dc:title>
</cp:coreProperties>
</file>