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8BEE-2A7E-42C7-8FE8-326034EC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B898-D8EF-415B-9C2C-B37DD0AA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2C64-96BA-4254-9769-94CB2E485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F174-B889-4836-B423-2403E80FD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6959-7D1A-45A9-8B0A-94CE4E70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7C9A-CF57-4801-B475-2E9E6D8F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4E5E-39A6-4856-8052-06CA0B11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2338-D932-46C8-A669-0326D775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BD04-7962-4946-A97A-8F8F6DAD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4B97-715F-4104-BBA4-4F1FB2B8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B5AD-D771-4067-AEA2-B375C422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26FB-99C0-4249-BE56-80401111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334D5-CB20-4857-B4EB-C2040690CB9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ee as a bird to your moun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who art weary of s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 to the clear flowing fou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you may wash and be cl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4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горнем ущельи укрой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орнем ущельи укро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изнурённый труд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Христовой омо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истомлённый грех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, then, th’ Avenger is near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, and the Saviour will hear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on His bosom will bear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ou who art weary of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ou who art weary of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теснит иску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 твой услышит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всемогущий Хран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ы, истомлённый гре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ы, истомлённый грех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protect thee for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pe every falling t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forsake thee, O n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ltered so tenderly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ой и щедрой ру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едлагает нам да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твой польётся ре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хи исчезнут, как п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, then, the hours are fl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end not the moments in sig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ease from your sorrow and cry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aviour will wipe every t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aviour will wipe every t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! Господь призы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янь! уже ночь наступ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тебя не пуск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ем предлагает Свой д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ем предлагает Свой д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ой защитой Он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емя твоё понес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икогда не за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ёзы с очей Сам отр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ит твои Он скит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удалит воздых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ч прекратит и стра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слёзы с очей Сам отр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слёзы с очей Сам отр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ой приди к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изнывай под грех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ыл до смерти послуш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ь Его верным раб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т твоё Он мо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тебе мир и прощ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ую жизнь и спас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ы, истомлённый грех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ы, истомлённый грех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1:42Z</dcterms:modified>
  <cp:revision>13</cp:revision>
  <dc:subject>Slavic hymnal Гимны веры христиан, hymn 348</dc:subject>
  <dc:title>Flee as a Bird / В горнем ущельи укройся</dc:title>
</cp:coreProperties>
</file>