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7691-6DBB-4754-8875-6412D58F4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A149-A7E8-47F7-A731-AA0A19FB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5D27-C40E-4722-AEF3-909941639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BBE6-7588-411D-B8C0-C9C05859D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D614-371A-4B08-974A-A08C2824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7978-444C-4080-869A-BA27B107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8ABF-48EE-46CD-9BDE-0E362A91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D6E6-7082-4994-AD10-855F1B91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065B-B3C0-4584-B2EC-5267C3E5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005B-A14D-4D0A-8001-E6D6D5B9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401C-E3DF-4D1D-8FE1-31EF7995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8AE4-4DBB-4A7D-92B2-24668B9F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0F75E-0E7B-4D65-B6B1-D5A7F5B685B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6202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йдите, друзья, все в отверстую д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Искупитель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мало не медля, войдите тепер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знает, что завтра нас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же, друг бедный, при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ую ту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, Божий дар пр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, грешник, спе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йдите, друзья, в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343080"/>
            <a:ext cx="96202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может Спаситель на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танешь ты делать т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х Он всех в Сво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 возьм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роется дверь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же, друг бедный, при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ую ту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, Божий дар пр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, грешник, спе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43080"/>
            <a:ext cx="96202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кайся пред Ним, Он сей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рос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оет пороки тв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шу, и тело твоё обнов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едли, к Иисусу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же, друг бедный, при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ую ту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, Божий дар пр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, грешник, спе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1:43Z</dcterms:modified>
  <cp:revision>12</cp:revision>
  <dc:subject>Slavic hymnal Гимны веры христиан, hymn 333</dc:subject>
  <dc:title>Войдите, друзья, все в отверстую дверь</dc:title>
</cp:coreProperties>
</file>