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   Господь, пребудь Ты с нами</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rd, be with us, we need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irect our thoughts we p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y wise counsel guid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ong Thy chosen wa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пребудь Ты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с веди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мудрыми путя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источнику добр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lp us to show to oth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we can rise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hindrances to bless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xhibiting Thy lov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ви Ты миру чуд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динство Ты соз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их детях повсю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Твой вечный да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ur minds bring into u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hearts warm with Thy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lives fill with Thy Spi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evive us from abov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в мыслях еди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ах возгрей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кротости, смир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оживи Ты вн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Pour out on us Thy blessing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Thine abundant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self, and Thy will for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we with joy embrac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злей на всех Ты сн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льно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тавь нас жизнью, слов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лишь прославлять!</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3:02:13Z</dcterms:modified>
  <cp:revision>4</cp:revision>
  <dc:subject>Slavic hymnal Гимны веры христиан, hymn 10</dc:subject>
  <dc:title>Lord, Be With Us / Господь, пребудь Ты с нами</dc:title>
</cp:coreProperties>
</file>