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638-0BCE-423A-8EA1-E99A2D98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93E-B3A2-4577-B08D-09AD8147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D79-BA8A-4983-9C0A-E8E8605A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9EB-B8DD-4CBB-9170-20F49BAC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742-AF4A-4A74-A865-B30A215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9DD-4883-43F5-B028-64D40102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6DE-775B-4A8E-AFB0-4BFDA289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1DC-6924-4038-A5AA-23CB2866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88DC-2E00-48C7-810B-E19D1A18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049-B341-4582-AE1A-7B40B9C7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F39E-DCBF-459D-B492-E3B822C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B00-A334-4DD0-9CC1-65CA9214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CECF4-23E8-4A25-989C-EDFD0669ED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зарёю свод небе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паситель мой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рак рассеял, грех поп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, и жизнь мне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рит зарёю свод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итель! Нет врагов та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разил Ты власти 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амень и с груд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инешь сило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 Он! Что ж мне ун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 меня пришёл спа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покинет мир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со мной, и счастлив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н пища, мой Он щ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ру я, Он меня приз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надежда Он и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стремлюсь всегда отс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и дня лишь Искуп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поглощён той смертной тьм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етий день гробницу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рг, и грех был побе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и я прощ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гом с Богом примир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 царству вечност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, от гибели хра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у любовь и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мы будем просла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десь, и там, когда в сво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 обитель примешь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32Z</dcterms:modified>
  <cp:revision>12</cp:revision>
  <dc:subject>Slavic hymnal Гимны веры христиан, hymn 289</dc:subject>
  <dc:title>Горит зарёю свод небес</dc:title>
</cp:coreProperties>
</file>