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3588-2590-4B2B-AAE0-629938DB5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731A-FB0B-4EBB-9A97-78FAA984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7772-85EC-4FA0-9632-57A60159E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B699-11BB-4F4A-BA5F-5B6A66C30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9011-B939-4CC3-9180-E2548938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32F8-5D4B-4A1D-BDDE-887FCAEE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A7E1-CED4-4F19-97E7-C951208E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5081-F1B3-4567-9787-C2E17931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522E-6692-496B-917B-BD5F22F0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DCFE-39CE-44C3-8A8A-EB42FEE0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DE55-4E8B-4B33-B853-95F1392B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9C88-7C23-4DD4-816D-0CCDF75B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1F874-019B-4106-B2F9-F6E5C43CE8F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любит малых воробьё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ибели хра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пташек любит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ит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любит Он! Да, любит 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, любит 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ит маленьких де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ит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5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г любит малых воробьё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любит лилию в пол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тихого руч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любит Он цв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ит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любит Он! Да, любит 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, любит 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ит маленьких де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ит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творил цветы и пти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светом ос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е забудет и де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ит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любит Он! Да, любит 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, любит 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ит маленьких де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ит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31:39Z</dcterms:modified>
  <cp:revision>12</cp:revision>
  <dc:subject>Slavic hymnal Гимны веры христиан, hymn 750</dc:subject>
  <dc:title>Бог любит малых воробьёв</dc:title>
</cp:coreProperties>
</file>