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4C6-8666-4339-AE11-C27640BD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7E6-B24F-4E82-9941-5376977B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E9A0-5FEC-4C4A-B5DB-99450E94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76BA-CFA1-474B-9ABA-3CA3AC72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8B5E-174C-4BE8-A5A1-2BC5A8A5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5264-8D2B-4C9F-8A10-EE8C8D5A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D250-BB06-40B0-BDBC-5418A8E2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574-B773-4D24-8F62-AA2AE747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875-9A22-4936-B8AE-710E2364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C4A2-B42F-4B47-94DE-991204EC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AAD-7927-43A3-9C46-CE732401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74BC-43BF-4E6B-8C75-C1A56F69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3479E-04BF-4B9B-8D36-3DA19871EFB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hrist, I thin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became not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ured out to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74   О Иисус, как жертва ве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Иисус, как жер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а Тв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положил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ял смер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новь смотрю на крест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по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яет моё сердце 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благода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Тебе свою воз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times I’ve wondere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gift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in that place on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in that plac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и вновь взираю на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лю Тебя вновь и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Тебя вновь и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новь смотрю на крест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по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яет моё сердце 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благода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Тебе свою воз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You are exal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highest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re one day I’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Ты превоз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всей все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нас зов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for now I marvel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is saving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full of praise on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full of prais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ка я преклоня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воей вновь и вн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Тебя вновь и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новь смотрю на крест, где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по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яет моё сердце та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овь благода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Тебе свою воз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nk You for the cross,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ю за крест, мо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5-06-01T12:33:40Z</dcterms:modified>
  <cp:revision>11</cp:revision>
  <dc:subject>The Source, song number 274 in Russian</dc:subject>
  <dc:title>О Иисус, как жертва велика Твоя / Jesus Christ, I Think Upon (Once Again)</dc:title>
</cp:coreProperties>
</file>