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426-7770-4F74-845F-5DF96FB6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2DD-94FA-4AE2-8262-CE81BB47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D8C-C0A6-446D-A8BF-EF9FF8BF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3A4-3F3D-46CF-823D-B8F9770E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CE0-A8C7-4B44-8537-84D19282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4C0-7451-4D9D-8E05-1A062A44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05B-B742-4F32-A012-D6850BEB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A0D-11E8-4524-8CD8-DE43CF16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5FE-B5C0-4BB2-9360-CD5A6D84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695-F4DB-4699-B78A-A69E16F6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B54-6C52-4A41-A7F9-0952EC8A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7EC-FD43-4351-9DCE-35086E1F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20A53-8E7E-4798-8E01-02825E23CF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на этой дор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тяжело нам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плетаются 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зком, тернистом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травят сом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чи яд разоль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таких же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асто на этой доро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 и тяжёл и так д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ется — вот у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шь, ах, где же те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победой зажг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е на ноги поста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е я дальше пой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таких же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чутясь на колен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затворив за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е эти мгно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взлетишь ты с моль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забьётся так гул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ручьём по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подобных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агодатны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наполнят с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бо поднимут на крыл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облегчая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ки мелодии ди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неземной уве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подобных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орогие мгно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дающие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любви, дерзнов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надежду сердц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! в эти мин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в небе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у вас не быв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таких же мину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7:28Z</dcterms:modified>
  <cp:revision>12</cp:revision>
  <dc:subject>Slavic hymnal Гимны веры христиан, hymn 786</dc:subject>
  <dc:title>Часто на этой дороге</dc:title>
</cp:coreProperties>
</file>