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8D1C-EA1B-4C65-B1EC-5350C698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3B9-5F36-40B5-9C3E-3D0279AA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06C-15AD-4A95-978D-4AD14D12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CF7-531E-4431-8EFF-B0EF7AAE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6D48-FA54-4A35-83C2-C45E8F05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B43-3C2D-4EFB-9C45-659540C7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600-E447-4D2B-95F9-20F3C6A4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9D6-6292-4E9D-A098-024ABF4E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2C1-1FEE-423C-9127-A845A355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BAA-273A-48FD-AB95-790D82A3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EAD-B198-449F-B0B3-94DF000D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6D5-595A-410E-921C-002200B4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151B5-1F3C-4684-9C98-99D4973B432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ost worthy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ity of our God, the holy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joy of the whol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hom we have the vi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aids us against the ene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bow down on our kn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7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reat is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Lord, we want to 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name on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Lord, we want to 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works You’ve done in ou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, Lord, we trus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unfail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lone are God eter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out earth and heave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13Z</dcterms:modified>
  <cp:revision>10</cp:revision>
  <dc:subject>The Source, song number 137</dc:subject>
  <dc:title>Great is the Lord and Most Worthy of Praise</dc:title>
</cp:coreProperties>
</file>