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AE7-C16D-47EC-BE59-EA4CE456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B05-2D9E-46C7-A2B6-8D3574F9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6A1-0D77-4290-B897-4C74017A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C05-B9AF-4C4C-AB00-99226BA2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646-1DDF-4E4E-8409-19660083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E15-2F01-47E6-9BDD-D7C1F769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8F6-D22F-4E1B-A79B-B8AF42CC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998-3235-4BD3-BA9D-E400E188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FFF-FCBE-4875-B3A5-A8E9F6A9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CD3D-D125-4D2D-A63B-100DBF0E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CC8-8890-49B4-9AD5-8AC05F2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7E3-D085-4497-A186-0752F229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AD900-976E-4783-B217-9CA6E1B7AF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my list’ning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nature sings, and round me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 the sphe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ня вся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лышится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ё кругом поёт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салом любв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e in the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ocks and trees, of skies and se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hand the wonders wr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изда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ассивах гор, в красе оз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irds their carols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orning light, the lily whi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ir Maker’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блюдать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еск зарниц и пенье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ят Ему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hines in all that’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rustling grass I hear Him pa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peaks to me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реньи виден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уг небес и луг и л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Его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me ne’er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gh th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s oft so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the Ruler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за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мире зло везде вошло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му Суд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Father’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ttle is not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o died, shall be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 and heav’n b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в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 кончен 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— радость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57Z</dcterms:modified>
  <cp:revision>12</cp:revision>
  <dc:subject>Slavic hymnal Гимны веры христиан, hymn 832</dc:subject>
  <dc:title>This is My Father's World / Господня вся земля</dc:title>
</cp:coreProperties>
</file>