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612-9167-49CA-A991-CE14297F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7C0-2A4F-4AE5-B7C2-0E02CFF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AED-74E6-4627-A975-2094D307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742-27CD-43F9-9A64-38F1D1083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A3E-D591-4DDE-BE39-5194EB71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366-743B-4F0D-BC4D-7A259599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B6D-3B4B-4E84-B0D2-2550241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079-73CD-4013-BF66-282FBE0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26F-83D7-4094-B3E1-2A430069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C3F-37D8-40B9-B6CE-4E302CA6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B71-D4B1-46E7-A1A4-7BA4EB2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221-CE2D-40F9-9F2E-1B4DA6F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1D3B5-FA04-42F2-A8D9-76F4F61EA5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олнечным луч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ецы, народ счастли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каждый со сноп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ой глядел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дома сво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аб, к труду нет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ла Тво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склонялись н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ночи путник даль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дверя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кан с водой криста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нес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осве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утник вдаль у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оп позоло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х дверях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огу со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он: «Сноп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я, но не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язан,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во имя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жему я 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тро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этот увидал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он: «З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упок в награ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ен сноп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кто,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жать в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скорбным пом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 свой сноп в дверя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3:29Z</dcterms:modified>
  <cp:revision>12</cp:revision>
  <dc:subject>Slavic hymnal Гимны веры христиан, hymn 523</dc:subject>
  <dc:title>Вдали склонялись нивы</dc:title>
</cp:coreProperties>
</file>