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018-D726-4BEA-9D18-A8D584C2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11FB-E82E-4CDF-98D8-E1575BDD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61C-C0CD-45D6-A662-4760208D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312-234F-442D-9482-6D362995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93B0-760A-4B7D-B77A-E7E7C150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16E7-8235-45D3-A638-A7B2A635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F05-826C-43B6-A9B3-057A2046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ABA-62F1-4BFF-9C4E-69BCB384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16B-3768-4D1D-BBB9-497F7831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0D5-12FC-4D2D-B6ED-7189EBCE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DAE-3D0F-45F8-BE1A-47911BF1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63A-995C-4D34-AAFA-4C9FF59D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8324D-38AD-4530-A499-AF12E97CE1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so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strong and so 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thing that He cannot do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ivers are 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mountains are 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tars are His handiwork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so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strong and so 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thing that He cannot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2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ur God Is So 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2:38Z</dcterms:modified>
  <cp:revision>10</cp:revision>
  <dc:subject>The Source, song number 420</dc:subject>
  <dc:title>Our God Is So Great</dc:title>
</cp:coreProperties>
</file>