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3F0-F63E-44C3-BABA-C77BA561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B23-B60D-46DA-97DE-6AFB0B2D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F9D-C6FE-4900-9584-5F53078C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86D-7AC2-48B7-AA90-3851ED7C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983-838C-44CA-A33A-7EFDEA42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7DE-10F6-4A73-9CDF-08766352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3F4-1164-45EE-B176-24AEE2B8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124-E118-49F5-8CF5-56D1878B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C04-534F-4AC0-8E05-902012F3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46E-6E60-4886-9110-EDD345E2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19E-3906-4E87-AD87-7605361A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857-DBEF-44E7-ABC6-72C3DDB3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0B130-8F3F-41D4-B673-5FDA200BBA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, ye saints! The sight is glorio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the Man of Sorrows 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fight returned vict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to Him shall b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те с ликовань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 с ликова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скорбей непоб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клоняется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s become the victor’s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s become the victor’s b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, angels, crown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the trophies Jesus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at of power enthron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vault of heaven r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венец неси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в спасень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тол вступил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хвал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the Saviour King of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ners in derision scorn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cking thus the Saviour’s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and angels crowd aroun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ли люди з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ем Христа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вс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честь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abroad the victor’s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ose bursts of acclam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, those loud triumphant ch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takes the highest st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joy the sight aff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гимны ликова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хор небесны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Царь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му всё пок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, crown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and Lord of l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and Lord of l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1Z</dcterms:modified>
  <cp:revision>13</cp:revision>
  <dc:subject>Slavic hymnal Гимны веры христиан, hymn 297</dc:subject>
  <dc:title>Look, Ye Saints, the Sight Is Glorious / Посмотрите с ликованьем</dc:title>
</cp:coreProperties>
</file>