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7ED3-74D6-4345-9563-CE4F6273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DF20-16E3-4333-8DF2-22CD8EEA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417-6C64-4C8D-8C8B-77EFD9FD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FF7-AB73-417C-9181-6011DFF0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C71-2B9F-452D-9C88-F730927D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89A-CDD5-43C3-8D59-F6A00B61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EC3-939F-4174-BB34-EF06572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DE5-8039-477F-BA30-C0E79EF6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5FC-9033-450D-972D-8876A557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51A-A23B-4B0C-B06F-25C6D8E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A82-6F41-41EC-9F35-9FF4777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35F-E447-4131-AF4B-C4D2116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73969-D1F4-4A27-A552-EE96C4703E7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ди, друг, жизнь беспе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, как пар, она прой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частье мира скоротеч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смерть к теб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у минуту вдруг исчез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лесть мира, и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сть смерти в ужас ввергн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дным ты найдёшь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веди,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покажутся ничтож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твои д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ешь, к цели лож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жизнь твоя тек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к не будь же, друг, беспе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стигнутым враспло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нев Его тогда уж веч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бо верен в слове Б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зовёт тебя, поверь 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в любви Сво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ты открой теперь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ь уверен ты в прощень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верь Христа слов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тебе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смертью 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лёт тебе от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ере — счастье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затем награ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удный рай введёт с Со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9:59Z</dcterms:modified>
  <cp:revision>12</cp:revision>
  <dc:subject>Slavic hymnal Гимны веры христиан, hymn 366</dc:subject>
  <dc:title>Не веди, друг, жизнь беспечно</dc:title>
</cp:coreProperties>
</file>