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005-3DD6-4086-9CE8-7469802F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C24-D3ED-43C3-A1EC-D132EC9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DF0-D047-4A5B-A193-D01C5ADF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406-F028-4966-B85F-660BC8A3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2D8-723D-4B19-9276-EF918CB0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487-A5B1-4BAE-AFA7-8990B806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3D0-BBED-4A8F-96A8-A2FEB1E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220-0080-435B-B8DA-4D510A1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D27-56E6-4449-908D-F99D48DA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0C0-5997-4B9B-B339-3D1EB74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1F4-7D89-46D3-A6C6-4E34760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756-B427-4E85-B42D-2FF8D138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323C9-8CDA-4D30-9A96-ED797B8F9E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5:56Z</dcterms:modified>
  <cp:revision>14</cp:revision>
  <dc:subject>Slavic hymnal Гимны веры христиан, hymn 628</dc:subject>
  <dc:title>Я не стыжуся возвещать</dc:title>
</cp:coreProperties>
</file>