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C497-DB4C-4FA1-ADA6-82ECF3A10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797D-B005-4238-B3EE-98C8F06CD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D4B5-7EBF-48F0-85C4-7CF61E30A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F442-3CA4-4F0B-B777-B09430434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22F8-7452-4260-9AC9-5BB5217DF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11A5-43A1-42F4-B570-C23D402D7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42AC-2308-4EA2-AE9A-BD2E7D2B7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5D0A-B572-4FB4-9DB9-D3293879D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9DF4-50D9-4102-82DA-177F9CAB8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EC0B-2DDD-4D72-B63E-C9B14CC5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2425-637F-430B-8CE4-8A223145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F674-9A14-4DD0-BCC6-02301C12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B40C46-D2E2-4180-A852-03324E36EDC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have placed all my h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a crucified Ma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wounds in His s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feet and His h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have traded my pr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a share in His sh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glory that one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 burst from His p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893   I Have Placed All My H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I stand at the jud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have no other pla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ve placed my h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a crucified 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ke the thief nailed beside H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have no other pla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ve placed my h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a crucified 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ve abandoned my tr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wise and the pr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is fragile, myster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akness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dare to beli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His scandalous cla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His blood cleanses s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whoever will call on His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ve or die, here I st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ve placed my h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a crucified 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believe as they b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 His beautiful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turned a torturer’s c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an altar of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the worst we can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et the best that God do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unspeakable h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et the gaze of unstoppable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t the crux of it all there He hang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ve placed my hope in a cruci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n of sorrows, Man of grie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 He stay beyond belie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the purest and b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ok the force of our cur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eath’s vict’ry arm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uddered into reve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either we b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r we stumble and f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wisdom of a suffering 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s made fools of us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gladly admit that I a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I’ve placed my hope in a cruci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n of sorrows, Man of grie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 He stay beyond belie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have buried my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cold earth with H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ke a seed in the win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it for the sp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that garden of tomb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den rises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Paradise blo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His body and never will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’ll finish all He bega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reation ho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a crucified 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16T01:08:32Z</dcterms:modified>
  <cp:revision>12</cp:revision>
  <dc:subject>The Source 4, song number 1893</dc:subject>
  <dc:title>I Have Placed All My Hope (Crucified Man)</dc:title>
</cp:coreProperties>
</file>