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BEB-F944-4BE2-9A86-3A5FF922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685-DF44-403A-A489-9BAA4ED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871-EF2E-4858-A02C-C5B0C390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23E-2F38-46BB-B7DD-7936960C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1E0-918B-4F55-BAC5-9EB7142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4A3-5DC7-4EC6-BAA3-6AF9CC17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861-0C5D-44E2-8C19-9081F782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F282-0A93-4AD9-9553-158097E1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159-7508-43C4-9433-890E3D17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060-EED5-435B-B0F8-2FE387D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247-C6DA-482F-A2EB-8CAA7E6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A21-5FD7-4A2A-8E5D-FBD2E97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A096C-E798-4347-AB9C-8101D1FCFFB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и, к Христу прид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 спасенья возвещё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исус спасти нас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лн любви и силы 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может, и Он хоч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а, Он хочет: страхи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338а  Грешники, к Христу прид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вы в нужде, прид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авьте Божью щедро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ру, святость и прощ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сё, что нас влечёт к Христ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купайте, покуп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 без денег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и своим старань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мире этом нам не бы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очет Он, чтоб вы нужда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пришли к Нему прос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Он даст вам, и Он даст в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уха, чтобы вас вод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гнетённые, прид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сли медлит кто и жд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Лучшим быть, то никогда 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Богу жизни не при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едь Он грешных, ведь Он греш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 не праведных зов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смотрите: в Гефсиман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земле простёрся О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н на древе умир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лышат люди Божий с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решник бедный, грешник бед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ы ль ещё не убежд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площённый Бог вознёс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Его крови — жизнь вс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Него душой надей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 вверяйся ник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т другого, нет друг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то бы мог спасти наш д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гелы святые в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осподу хвалу пою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их песням громко вт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ебеса Иисуса чту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лилуйя! Аллилуй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для нас та песнь зв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The hymnal Гимны веры христиан was published by the Union of Slavic Evangelical Pentecostal Churches in Australia in 1981.</dc:description>
  <cp:keywords>hymnal words song book</cp:keywords>
  <dc:language>en-US</dc:language>
  <cp:lastModifiedBy>John Zaitseff</cp:lastModifiedBy>
  <dcterms:modified xsi:type="dcterms:W3CDTF">2010-12-19T23:50:04Z</dcterms:modified>
  <cp:revision>15</cp:revision>
  <dc:subject>Slavic hymnal Гимны веры христиан, hymn 338 (as amended)</dc:subject>
  <dc:title>Грешники, к Христу придите</dc:title>
</cp:coreProperties>
</file>