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98B-012F-4403-991C-AF850857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61A-7E1A-4670-8200-F06D7FAD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390-FBBB-463B-9386-2DCFBBF5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EE2-E515-4952-A5AC-B5218DE4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25A-B4A6-4316-A2E6-B043ABC1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3F6-1687-4CC5-89CA-33ED1E3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908-D44D-464E-B20D-E8806937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E15-65E3-48B3-A250-0E83763D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1C1-60F7-4CC4-9028-677ADEC3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9A95-9F3A-4A89-B6E5-85F2B02C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C3B-8DD8-4FD5-9D47-2A98BEFA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EB5-E5E5-4DED-B6AC-4C6D671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20441-5467-4C9D-8FF5-CE91E63F18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ра тебе уж пробуди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 м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жна ты снова возврати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ец приходит бы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глас внутренний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щадит тебя Христо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ё Собою напол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ё за грешных пере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ра тебе уж пробуди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душа, а твой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ит и тихо слёзы ль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греховной тьмой од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смерть тебя, как жертву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придёт, как гость нежда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ебе весь ужас зат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час неведомый, нежд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стань, опомнись, хоть мгнов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ложе мрачное взгля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увствуй стыд и униж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н греховный отг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давно к тебе в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ты светом озар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 — Он длани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бедная душа, просн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враг твой бдит всечас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пишь, а бездна под тоб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ожий гнев, как гром ужа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мит над грешной голо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коро, скоро разраз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сякнет благости стр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верь спасенья затвори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нись, о бедная душ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7:49Z</dcterms:modified>
  <cp:revision>12</cp:revision>
  <dc:subject>Slavic hymnal Гимны веры христиан, hymn 376</dc:subject>
  <dc:title>Пора тебе уж пробудиться</dc:title>
</cp:coreProperties>
</file>