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628-745E-4487-BF44-D43CA880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9D1-818F-4462-A067-FBE4792F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4F9-67F1-4281-B66B-3241D53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9C8-4294-4796-BAE0-FE4E7589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63D-609E-428B-BC92-4A09C52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927-99C4-491D-88E2-FF10AAD0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044-0871-4FE4-9599-4589EE0F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337-7B17-4D20-B6F2-71D41F4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013-2C88-4412-9DCD-A44AC8E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9C7-827B-4AD7-805C-36BB7D73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BDC-810C-4ABA-ABCE-9E4C6E2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516-5EC1-4EAA-99E4-9B1D70DA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A645C-F6F6-46DC-AD09-5AA2D36646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не мёр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е мёртв. Нет! Он есть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ус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всем серд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живёт во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8:55:17Z</dcterms:modified>
  <cp:revision>12</cp:revision>
  <dc:subject>The Source, song number 133 in Russian</dc:subject>
  <dc:title>Бог не мёртв / God’s Not Dead</dc:title>
</cp:coreProperties>
</file>