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F97-0333-4CBE-854D-9E54E015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67A-8DEB-4EDE-8297-31C7ED97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DC4-0A6E-448D-ACC3-92FE1C24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D9E-242F-4368-BF26-A299075E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C74-2F42-4FC3-B093-FEA4DB5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272-F0C3-4A91-A033-21BB4DAA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199-3CAF-4017-8725-48FD8D91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06B-9A48-4CC2-AB1D-D4C838E1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41B-3DE6-4AB9-900F-2E6BC01B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058-9615-4EFF-B5FC-E66C6E90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B29-8394-40FC-A0B8-E9FB93EE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D1F-1C87-485E-9132-3B424863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8BB55-D95B-4BDC-AEAE-868AE0AA82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Neath the stars of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ed the Saviou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garden of dew-ladened breez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s wonderful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bore all my b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light could b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elt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e prayed ’neath the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in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aviour was h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in the garden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s soul-burdened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is cup pass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so, not My will, Thine be do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old olive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nt the Saviour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My will, Thine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ied the Father’s own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knelt ’neath the old olive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y song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ove proffer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my Lord all alone on His kn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39:41Z</dcterms:modified>
  <cp:revision>13</cp:revision>
  <dc:subject>Slavic hymnal Гимны веры христиан, hymn 281</dc:subject>
  <dc:title>’Neath the Old Olive Trees / Становилось темней, когда Свет наших дней</dc:title>
</cp:coreProperties>
</file>