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7B8B-79ED-4815-A117-A1B4E93BE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6D89-BB72-4548-9DD8-050A82111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F316-7B73-432F-BCDA-21A991B05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EF80-0728-4F2C-BCE6-DD80BCB6E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1BED-19CD-4163-94EE-D50B32AE0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A644-9399-4227-97E7-BC7105E97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9DC9-B768-4762-B28F-E223F78BB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E80F-3EF6-474E-94BF-6DAB6FEE7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5D7C-5DA4-427B-82E6-D80685F4D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E2BF-72B3-49AD-944B-D5B20A9C8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BD00-B824-4D9B-A50C-E1558169B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63D9-08AE-436C-84FF-0E364FABC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452B8A-9874-4EE8-9E70-20FCC42272DD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are called to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Prophets to this n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be the word of G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ev’ry situatio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hange my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hange my heart to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575  We Are Called to be Proph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o’ll be the sa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f the salt should lose its flavou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o’ll be the sa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f the salt should lose its flavou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hange my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hange my heart to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loose the chains of oppressio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set the captives fre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fill my life with Your compassio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hine Your l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hine Your lig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hine Your light through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ork a miracle in my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ork a miracle in my hear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ork a miracle in my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 Lord, today, to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take all my li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ake all of my gree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me be a sacrif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those who are in nee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hange my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hange my heart tod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without Your pow’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t’s all just good intention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without Your gr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o could find redemp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hange my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hange my heart to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ork a miracle in my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ork a miracle in my hear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ork a miracle in my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 Lord, today, to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en-AU" sz="3200" spc="-1" strike="noStrike">
                <a:solidFill>
                  <a:srgbClr val="ffffff"/>
                </a:solidFill>
                <a:latin typeface="Verdana"/>
              </a:rPr>
              <a:t>(repea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1-02-15T05:47:24Z</dcterms:modified>
  <cp:revision>12</cp:revision>
  <dc:subject>The Source 3, song number 1575</dc:subject>
  <dc:title>We Are Called to be Prophets (Miracle In My Heart)</dc:title>
</cp:coreProperties>
</file>