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4</a:t>
            </a:r>
            <a:r>
              <a:rPr b="1" lang="ru-RU" sz="3600" spc="-1" strike="noStrike">
                <a:solidFill>
                  <a:srgbClr val="ffffff"/>
                </a:solidFill>
                <a:latin typeface="Verdana"/>
              </a:rPr>
              <a:t>	</a:t>
            </a:r>
            <a:r>
              <a:rPr b="1" lang="ru-RU" sz="3600" spc="-1" strike="noStrike">
                <a:solidFill>
                  <a:srgbClr val="ffffff"/>
                </a:solidFill>
                <a:latin typeface="Verdana"/>
              </a:rPr>
              <a:t>Сердцем воспряну</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ердцем воспряну, петь не престан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у Тому, Кто нас искупи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епи порвал Он, Дух Свой нам дал О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ой в Иисуса мир подари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лю Его, свободен, спасё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Покровитель, Свет жизни О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би не бойся, в Нём лишь покойс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конец борьб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ечны высоты! Прочь, все забот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не имеет части во мн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свету стремлюся, тьмы не боюс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частлив иду к небесной стран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как ничтожно всё в мире с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Боге лишь счастье жизни найд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ше земного, света иного,</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блеск мы зрим уж здес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Здесь всё мгновенно, там неизменно,</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двери рая Он мне откры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лаву войду я, Друга узрю 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жизнь Свою за нас положи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ы небес там вечно пред Н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и я навек буду с Н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ю хваленья, песню спас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 там буду петь.</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1:37:39Z</dcterms:modified>
  <cp:revision>4</cp:revision>
  <dc:subject>Slavic hymnal Гимны веры христиан, hymn 114</dc:subject>
  <dc:title>Сердцем воспряну, петь не престану</dc:title>
</cp:coreProperties>
</file>