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419-F325-403B-B1CB-939BB43D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FB8-048A-4163-BB40-367E8B46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DB4-EDE6-4DE6-891F-F2BD38B5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046-244A-4AA1-9A9F-610B1CD6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26F-2CB2-4F2D-A011-7C2065BB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1772-805C-4063-99D0-6837ACE5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A96-5A93-4E88-AE6B-AE9AD5E4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ACB-B577-446F-BD16-24F7088C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083-C3C5-463F-A094-8B033AD0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505-64D9-4E53-BFCE-3FC711CC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BCF-A0A4-4D03-8BD3-A2485613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829-8233-420B-A13A-94E06C04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F25E4-E217-4C65-8FCB-9DF3A9A2AA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ірко плакав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корботній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ьози чисті лилися з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даремно Він плак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бачив у з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арно гинучих бідн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9   Гірко плакав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чого же Ти плаче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ю наш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же храми Твої не блищ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ж не Твій віковіч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естол в небес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страждання Тебе тягот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, Я плачу за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лю Свої сльози і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иніс вам на землю небесн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 ж за це розіпнете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дивлюся в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людей, як браті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траждають в гріхах на земл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не згадують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за них Я пр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увають страждання Мо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 плачу за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лю Свої сльози і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иніс вам на землю небесн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еї розіпнете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молюся за в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ною куплені 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прийміть святу жертву М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даю вам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литій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ддав за вас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 плачу за в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лю Свої сльози і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иніс вам на землю небесн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еї розіпнете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6:24Z</dcterms:modified>
  <cp:revision>13</cp:revision>
  <dc:subject>Slavic hymnal Гимны веры христиан, Ukrainian hymn 39</dc:subject>
  <dc:title>Гірко плакав Христос</dc:title>
</cp:coreProperties>
</file>