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25AE-490A-44EC-9764-57ED17FF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67E-BC79-43C6-AA35-1EA17A4B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27EE-D0CC-41DB-9EAA-0F25B6D6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8151-393B-409E-B70F-2FEF7560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62C3-FEBA-4680-A122-8F673F05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47D-6067-4EE6-80D2-3B5ABD0C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A94A-8E4F-45DD-803B-AF89F2CB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590-26E9-471A-BFC9-3AAFFC99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4F91-C068-4867-91C2-C22D3549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5349-4106-4B9B-AFC9-DA1389E2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1CE0-755C-47C0-9D8E-73A5D86D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F657-E16D-491F-8BA5-4DB025D3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1216B-6B12-4909-8A8D-388A9B4BF06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весь покр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и пеле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аяк си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е знает с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е знает 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в мире страж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т кто-ни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маяк ука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истань верны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истань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ир весь покрыв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в мире э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ждущих люд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дают с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а в тьме ноч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а в тьме но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кругом темн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ды нет ни в к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ори яс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удь маяк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удь маяк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3:43Z</dcterms:modified>
  <cp:revision>12</cp:revision>
  <dc:subject>Slavic hymnal Гимны веры христиан, hymn 566</dc:subject>
  <dc:title>Мир весь покрывает</dc:title>
</cp:coreProperties>
</file>