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A3C-612C-4EB9-8D86-FAD75006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16B-356A-475F-9395-42657533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C43-B4CA-49F2-B9F8-34422039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837-ECBB-445A-9309-F12B4C83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024-44FA-45CC-9D60-D13C3079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0AE-A518-4E46-838C-CF081983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07A-A94E-4AA8-9071-4F736D4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5ED-24BB-44E3-99E4-A9115234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A82-AA60-4F27-A4D9-71CA8C6F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07B-94BA-4692-8B5A-E755BE74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7475-7854-4FC3-98B8-CE3D841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B24-12FD-43C8-A244-B263432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781CD-87C0-49FC-BE74-8FA88D782E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God,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ever prais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God,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ever prais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k You in the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earn to walk in Your w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ep by step You lea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ollow You all of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God, You Are M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cp:lastPrinted>2011-02-09T04:18:08Z</cp:lastPrinted>
  <dcterms:modified xsi:type="dcterms:W3CDTF">2011-02-09T08:25:35Z</dcterms:modified>
  <cp:revision>11</cp:revision>
  <dc:subject>The Source 2, song number 906</dc:subject>
  <dc:title>O God, You Are My God (Step By Step)</dc:title>
</cp:coreProperties>
</file>