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936-B1D7-47E2-9EA7-9D9339B5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DC7-58BC-48B8-8C6E-60C3197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057-A236-4D44-B820-14B5DA85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4DE-7F72-4D35-8B65-1CA4492D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2A6-3F43-4FD8-99D3-1E733495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BFF-8CD2-4122-90AE-08B85BBA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494-DA20-43FE-AC06-07A71B7B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687-7FB7-4AA6-B981-22BB8A9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2F1-5E1A-49D0-99BA-9CA36065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165-83D9-419E-BD65-5DB3D51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E37-3260-42FC-8EE7-1E64ECCC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202-34A9-4507-A78C-A1943BCF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BB9F3-F193-4D61-9E5A-3DA77AB5656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лышной черед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день один к концу 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астаёт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коро дни летят вперё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рил, уповал, люб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бывал с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Христос чрез мрак мог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ёт в Свой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обьёт и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час жит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уду после обитат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о Богом з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верю, ве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от Господний 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страшен для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ввек Хрис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астанет жданный ми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аться мне с землё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помни между слуг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го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за часом,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концу забот ид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последний час проб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итель наш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19Z</dcterms:modified>
  <cp:revision>12</cp:revision>
  <dc:subject>Slavic hymnal Гимны веры христиан, hymn 735</dc:subject>
  <dc:title>Как скоро дни летят вперёд</dc:title>
</cp:coreProperties>
</file>