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B0A-137C-4AEF-B9EC-FB97A2F2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F62-7357-4298-8AEC-7AD07CE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951-9B25-4F53-B886-BE316D4F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B96-7126-4EA5-85F6-1213894F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BF5-ED78-4561-9F03-2A94BA1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1E4-58CD-4C3D-B7E8-56E08F3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5CD-DF01-4B91-A249-17987B3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5B7-A1F3-4515-BD6D-AA613E0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20E-8139-4BD3-964D-C09DC125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C94-D570-4502-9024-D8B93E9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820-CAEF-4593-A138-A5D3B84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74B-0407-4346-8F1B-1BDC64F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30B1A-10C5-4457-A4A2-5DCC2F9190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riches of thi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sound of my friends’ 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biggest dream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just the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getting what I say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living the life that I want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than the love anyone could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50   Better Than the Rich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old me now in Your 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, O Lord, make the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moonlight in the night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ive me breath and all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heart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can’t stop falling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stop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33Z</dcterms:modified>
  <cp:revision>12</cp:revision>
  <dc:subject>The Source 3, song number 1150</dc:subject>
  <dc:title>Better Than the Riches of This World (Better Than Life)</dc:title>
</cp:coreProperties>
</file>