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F68-F14C-4CC5-8D99-586C6684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A899-564F-491F-9D77-6CBDDDCF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A12-3B9A-426D-865E-DFA1070D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0F9-D98B-4A04-85B9-8ED4A9D6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232-4FFE-4923-8BEF-F8FBDCA2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61D-E7CE-4EF6-93A3-D1E0287E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063-5745-431E-A43C-4F6C598B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40C-95C2-4621-BEB0-59655C46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241-0A67-410F-B67D-7E050894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C16-E598-4EFD-BAC8-3F1CADB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B17-3F16-4FAC-8EDE-C0DE50BB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0A9-0179-420F-9240-F8F3D01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97E8B-5399-491C-A426-A007E35A998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рещают люди стр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щать нам крест скорб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ум толпы, кругом трев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готовят звон цеп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прещают люди стр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собранья, у п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м стражу сторож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м: «Речь ваша уб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молчите поскоре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ходит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евангельских ве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 будем слушать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, нежели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21:34Z</dcterms:modified>
  <cp:revision>12</cp:revision>
  <dc:subject>Slavic hymnal Гимны веры христиан, hymn 560</dc:subject>
  <dc:title>Запрещают люди строго</dc:title>
</cp:coreProperties>
</file>