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9F3-5D87-4016-AF45-6B11C9FE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D7A-BB47-4752-8FFF-D26CBC97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6F0-74B5-49A2-B1A9-16EB364E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500-44DD-4A35-8BEA-49B10C99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2F3-4C90-43FD-A06A-5610DE90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D52-0028-49E3-B0ED-BC507F6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9DB-6601-4264-B67B-B61FD32C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6D4-F374-406F-B622-2D58C997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D49-E9D0-4F24-9F7A-CA33B07F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3240-29C4-4815-968B-F0CF92AB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E96-3578-418B-B71A-B1C96700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B9E-7513-4B53-BFB9-049ABD3A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5D974-BF83-4E59-9A72-6F6203E204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spend no idle d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is calling thee on the harvest way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ing with a willing hand, sing a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pra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жизни для Христа радостно сверш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ижних люби всегда, слабых подкрепля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learn where duty l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sp ev’ry passing day as a precious pri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ad to help to sorrowing, glad to sympathis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ни все учись считать, праздно не гуля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ань ближним помогать, падших подним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etime is working time, do thy honest 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in discouragements, bear a cheerful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Jesus as thy friend, ne’er from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p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руде не отходи взором о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 Господа проси силы для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жизни ты всегда проводи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iftly the hours of labour f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ighted with love let each pass b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joy in labour for the strugg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ighbo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rk, ever work for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перёд стремитесь, Богу покорит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4Z</dcterms:modified>
  <cp:revision>15</cp:revision>
  <dc:subject>Slavic hymnal Гимны веры христиан, hymn 544</dc:subject>
  <dc:title>Lifetime Is Working Time / Труд в жизни для Христа</dc:title>
</cp:coreProperties>
</file>