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7E8-D389-45BF-8BF9-253793BA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95F-4A09-48AE-B6C5-BDDEE10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28B-9035-4E4E-9D9E-94B9E80C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978-4211-4462-AFED-D91482DF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DA3-E0B7-43FA-A4E6-DE761BC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A54-0002-47CA-BFBE-93B92F0D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BA8-DE12-4DB1-BDCA-AF77ECF1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BDC-2478-41F2-A014-3A4D10D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119-ECC0-4FCA-8E7E-63A5F8A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ABE-7B2E-45B8-B0B3-D3D13FE9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DAD-10FD-4DAF-9FF5-C6C07D31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4AA-5682-4567-8523-CC75E7F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3BE93-A7EC-4637-AA53-4DA506389C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, I wi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like David s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, I will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y like David pr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pirit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up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, I will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eep like David w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59Z</dcterms:modified>
  <cp:revision>12</cp:revision>
  <dc:subject>Slavic hymnal Гимны веры христиан, Ukrainian hymn 108</dc:subject>
  <dc:title>When the Spirit of the Lord / Коли дух Господній наповняє мене</dc:title>
</cp:coreProperties>
</file>