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494-C226-4B75-B772-420F0853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50C-E8F8-459D-91A5-26C911C9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688-7894-42D0-A9F9-0F6AD302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208-278C-435D-8FB0-E8DDE19B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584-C98F-4340-A5DB-333980AC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40D-F8C1-4F47-A5DE-C38B849F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0EF-BC5E-40EA-9AB6-59046F40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E308-1A03-4889-9FA9-7D7648A4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8D49-DBF4-478A-9C02-CC1ED9AA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84B-50D7-4F4D-A954-70CAE045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3E9-E222-442C-B9E4-E0BFFA5E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632-D725-466C-A986-4388B513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9DF67-6173-4449-BAE0-9A66884E7D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ед темряви нічної чути кр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и гинуть і настав останній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5   Серед темряви нічно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ди в світі чути Македонський кр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почув цей крик, нехай скор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ш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аші дні також жахлива темно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льйони грішних гинуть без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Ви для світу світло”, так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з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 темряві нам світити приказ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те світло! Дайте світл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 ми спасіння понес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оно у тьмі г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уть освічує в небесн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любов і мир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1:51Z</dcterms:modified>
  <cp:revision>13</cp:revision>
  <dc:subject>Slavic hymnal Гимны веры христиан, Ukrainian hymn 55</dc:subject>
  <dc:title>Серед темряви нічної</dc:title>
</cp:coreProperties>
</file>