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023-9AFB-40D7-ABCD-A53BE2B9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0CD-B13B-458C-9049-E4A7F860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874-2111-47C7-9E3F-03890C45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1D8E-8E96-47CA-94DE-2E95DB68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CB0-5A77-448F-B834-193AAB8A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26F-E033-4ACE-87F3-E39A0D38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F89-0EAF-4CDF-9621-17F21984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6DB-FAFF-46D3-9D5E-95897201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CB6-5CC2-410A-8E74-C8DC16D1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7D9-38A9-46AE-8754-5CAB22FD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DEF-60DC-4EFA-A03A-22C513B2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EB2-CFC0-411F-A464-18AEE097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0EE79-B907-4C3A-AA1F-530FD3E16C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God of this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King of these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ord of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ght in th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hope to the hop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peace to the res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9   You’re the God of This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God of this c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King of these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ord of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light in this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hope to the hop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peace to the rest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er things have yet to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eater things are still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5:32Z</dcterms:modified>
  <cp:revision>12</cp:revision>
  <dc:subject>The Source 4, song number 2199</dc:subject>
  <dc:title>You’re the God of This City (Greater Things)</dc:title>
</cp:coreProperties>
</file>