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C48-49F4-48F5-BA3A-8FCBB12F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3ED-01D0-4702-8F63-ECFCAFE2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C83-C799-4EC1-982D-E9AF25CC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82D-EBC7-40EE-BC44-3BA89764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EDB-8113-42A0-B47D-C445B00B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7B5-6806-4B2F-AF4B-A6A4DA8C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42D4-8E3A-4BE7-85FB-F62826EC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613-221F-4904-9134-C8AF7070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245-EDEB-4FC5-89C0-C5AFEF62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3F1-E813-460F-857B-528F0B90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9CD-59BE-4403-84CC-E6F11D6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A6B-0D40-4B61-AE39-B7F507A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E95CD-B573-42EA-88C1-0976A835E9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ong shall rise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, свят, свят Господь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утром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оём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ful and 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n three Pers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i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ый, силь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saints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ing down their golden cr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ound the glassy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ют Ему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erubim and serap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down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wert, and ar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ьск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ают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щий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в и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darkness h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eye of sinful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lory may 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й облечё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ным нельзя вид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ей славы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Thou art ho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besid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in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p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 над все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и креп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orks shall praise Th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arth, and sky, and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могущ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жье имя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ре и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ho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rciful and 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n three Pers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Tr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свят Господь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ят наши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31Z</dcterms:modified>
  <cp:revision>13</cp:revision>
  <dc:subject>Slavic hymnal Гимны веры христиан, hymn 804</dc:subject>
  <dc:title>Holy, Holy, Holy! Lord God Almighty / Свят, свят, свят Господь Бог</dc:title>
</cp:coreProperties>
</file>