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8F14-A79C-4AAC-B450-1D907B81C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BBA8-983C-4F59-ACD9-207723BCF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F2C1-77F6-465D-AC7A-902356A30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78CE-7899-4A2F-A2D0-7E002A0F7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466C-FB27-441E-AE6F-018827944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4E0E-699C-4950-9953-F609C3041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F3C9-3059-441F-A6B8-AF592A5F8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452D-B633-422A-9AFB-EF6AA8C28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B524-A244-4395-86C8-ECF03459A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8DF1-25A9-4490-9CFB-D2AC14F8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0CB7-3676-478C-A78F-D64687A8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B2A7-142A-4B82-891C-A1117B82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BFF309-B8CD-4914-9C8A-44CB3DFD227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гор ручеёк резвый быстро теч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он бежит, всё он беж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у песенку звонко по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он бежит, бежи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тый ручей, светлый ру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морю течёт, теч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тый ручей, светлый ру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ь о Творце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5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 гор ручеёк резв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авку засохшую влагой жив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он блестит, всё он блести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тичек, цветочки обильно по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он блестит, блест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тый ручей, светлый ру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морю течёт, теч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тый ручей, светлый ру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ь о Творце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ире и шире вперёд он спеш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ире вперёд, шире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по пути он отраду да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ире вперёд,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тый ручей, светлый ру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морю течёт, теч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тый ручей, светлый ру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ь о Творце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лою струйкой дитя может бы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у служить, Богу служи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вать всех, утешать и люб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у служить, служи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тый ручей, светлый ру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морю течёт, теч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тый ручей, светлый ру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ь о Творце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1:29Z</dcterms:modified>
  <cp:revision>12</cp:revision>
  <dc:subject>Slavic hymnal Гимны веры христиан, hymn 752</dc:subject>
  <dc:title>С гор ручеёк резвый</dc:title>
</cp:coreProperties>
</file>