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104-D576-4627-8B0C-93B72FD5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505-F98F-41E8-B8D7-6D848A4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E8B-BC13-4023-AEBD-2A7774B0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A07-CC8A-4684-9A63-9BD9E478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038-02F2-48E7-9C72-8680E87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6B4-97DF-4782-9E57-679837A9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E23-3A3E-4497-BD13-ED5B2BD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F64-BF56-4134-B10B-95F2E092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8DF-414B-4DD9-9A19-8571C0F3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AB0-BB64-4DA7-9617-D8BAEF7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EF7-59D8-4449-BE7D-4DD44FB8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E6B-833F-4487-8FFD-CF43BFF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50C95-7B86-4334-AF9C-3DB7E7FE91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52Z</dcterms:modified>
  <cp:revision>12</cp:revision>
  <dc:subject>Slavic hymnal Гимны веры христиан, hymn 893</dc:subject>
  <dc:title>Христос, здесь мысли о Тебе</dc:title>
</cp:coreProperties>
</file>