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57A3-88A5-47F0-8500-5EAE98A91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EFD3-8C9A-4048-9680-3AB339C36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5C65-1BCE-4077-96A2-04E3FADCE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18FF-3E64-482A-A021-CB6270701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194A-0F1C-4797-815D-216C940A5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4825-A3D1-4126-948B-2237A4EFC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8A09-6295-4FC1-8C47-B372101AE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6B38-7C81-4D6D-9BC8-65C81DCE0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10CB-7F61-4E32-AB89-91B40D1E0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F2C4-5F73-4CD1-82E5-A19070498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9C79-3DC1-43FA-BA68-418295D93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34DF-3330-45CD-A22E-AFFB50208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262B68-F4EC-4267-8F29-E419EE7CA1B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ток горит зарё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у поёт дух мо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хвала Теб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олитве иль тру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 твердить везд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хвала Теб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2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осток горит зарё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тлеет всё круг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дружней поё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хвала Теб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ходят силы тьм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звучат псалм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хвала Теб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ют и луг и ле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емля и круг небес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хвала Теб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роды всей зем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ешите возгласи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хвала Теб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коле в теле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 будет песнь мо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хвала Теб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ам во все в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 льётся, как рек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хвала Теб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2-29T11:45:29Z</dcterms:modified>
  <cp:revision>12</cp:revision>
  <dc:subject>Slavic hymnal Гимны веры христиан, hymn 822</dc:subject>
  <dc:title>Восток горит зарёй</dc:title>
</cp:coreProperties>
</file>