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177-7796-4829-BBE5-2B8F4E7F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A25-3994-4E96-92C1-A739FE16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D56-4F89-4DAB-AFA5-12697697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DD8-EF51-4364-B1D2-73744AD1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FDA-D0E1-4306-896C-18D0E710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0E8-E357-4D66-9DD7-471E113B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D9F-3CBB-4086-8512-389F6412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9B6-5E6F-4F5B-BDF8-1A838E3A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BA8-2B10-45AD-9684-DC925B2A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1211-CBF4-4A29-910C-5C7E05F2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7C0-71D7-4C14-837A-1F94AB23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DD4-D8F9-4214-A3C5-699D86A3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BD400-6D5A-4B8E-852A-4128743EC6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 и звук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повеств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Господн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авать друг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всему осн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ш созда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весть благ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тократ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все мечты зе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ых дет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повто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радость мне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то воз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грудь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о повто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шу ожи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другим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ть и с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даёт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и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радостно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женно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аллилуй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ю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у же весть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8:32Z</dcterms:modified>
  <cp:revision>12</cp:revision>
  <dc:subject>Slavic hymnal Гимны веры христиан, hymn 649</dc:subject>
  <dc:title>Люблю я весть благую</dc:title>
</cp:coreProperties>
</file>