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08D-EE44-457C-94E8-49F1389C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61A-4495-4924-8C85-D7970021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2B3-4327-46BD-A825-4FBE9B1B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4CC-977F-4F5C-83A0-C1C9A50E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5C7-16A2-47D6-8E4B-97EA2804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19D-3A56-424C-8525-2A88899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9CB-355D-436C-A5AF-FCC82379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E99-91B7-4972-8507-0B11B69E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0E3-C4A9-447B-936D-AFD8EB9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326-A20F-4A18-BB7F-43A680A7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EFD-BF77-446E-9FB8-4BF7522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456-992C-4281-9DD6-858657BA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3ADF-5C2B-438F-AFD3-6580B772BA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дите все на п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ёт Сам Б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вы найдёте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нет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радость и по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блещет там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ток воды жи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Идите все на пи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Его стоп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юбви всю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даст сердц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Себе Он примет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души омоет г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белит, как с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ы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рукой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кроет дв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бретёте в н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ладостный 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бвение скор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Отцовский д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яют ярче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ятые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нец их там блес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есня там звуч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лаве Бог ц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те вс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43Z</dcterms:modified>
  <cp:revision>12</cp:revision>
  <dc:subject>Slavic hymnal Гимны веры христиан, hymn 352</dc:subject>
  <dc:title>Идите все на пир</dc:title>
</cp:coreProperties>
</file>