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D3F-9C5F-4873-8D04-897557FF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2BC-F24D-4618-8852-16757808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C41-E8A8-4A6E-9413-357C02AF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F85-6AB9-49B8-8DE0-718E174F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712-9E6D-4CDA-8132-B97D0E0D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22A-1C4A-467D-AA63-5747CEF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E67-DA8C-4A82-ABEC-D87C8B9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CB1-A2BF-4891-BFD8-FFFB6B2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19A-117D-460D-9CB4-BBE8C6A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0E10-B417-4481-834A-BF78B51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7C3-E426-42FA-A2B4-F4A7B6E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4D7-E3E1-45FD-9134-ACA75D1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2AC37-67A2-4AA8-A51D-4C37405EB5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ith looks up to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Lamb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Агнец Божий,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Агнец Божий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с выс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hear me while I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all my guil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let me from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wholly Th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у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лость мне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y rich grace im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ngth to my fainting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zeal insp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лноты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сердце силу в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уй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t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may my love to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warm and changeless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liv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мер Ты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й нам, обрат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life’s dark maze I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iefs around me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my Gu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пути зе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а и скорб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ца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darkness turn to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pe sorrow’s tears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let me ever st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e as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в утро обр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данья прек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озволь с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ути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ends life’s transient dre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eath’s cold sulle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o’er me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мерти л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уёт и при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Saviour, then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and distrust re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bear me saf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,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в Тво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т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к С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5:22Z</dcterms:modified>
  <cp:revision>12</cp:revision>
  <dc:subject>Slavic hymnal Гимны веры христиан, hymn 829</dc:subject>
  <dc:title>My Faith Looks Up to Thee / О Агнец Божий, Ты</dc:title>
</cp:coreProperties>
</file>