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F14-0EDB-4C2D-982C-D62C7AC8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707-7F39-4476-BECF-73EF79A7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1A2-2AF3-43A6-829B-85F8573D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08C-1B17-4FBF-A4EA-02668EA1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7C4-01C8-4E4C-A756-AE0686AF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85A-224C-487A-AF31-62639BB7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966-7CAE-44F1-B709-A81E7707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52A-3E60-43FB-9289-DD3C0FC7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93D-FFA9-49BB-A9BB-4DA73AA7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EBB-8720-4AA0-AAE3-E3BE6A2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734-95DE-4E8B-953F-8A6B20A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0B9-87F9-473F-9FB0-7235D04F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8C2DC-1173-463D-8B4B-8F9BE73B27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меч не из стали блестя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лотом кован людск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ламенем правды гор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ван нам Богом Сам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оть он людей пораж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ратскую кровь он не ль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и дух проник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, и неверье с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меч не из ст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греха разруб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ным свободу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дебри он путь прола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истине путь тот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лния грозные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зает он вражеский ст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меч наш могуч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ужен ли меч нам и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точим же меч наш ост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и молитвы ог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его и сме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за Велик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огнем, когда на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алек ряды потря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сквозь тьму и смят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лавной победы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cp:lastPrinted>2010-11-29T06:51:50Z</cp:lastPrinted>
  <dcterms:modified xsi:type="dcterms:W3CDTF">2010-12-20T00:42:50Z</dcterms:modified>
  <cp:revision>12</cp:revision>
  <dc:subject>Slavic hymnal Гимны веры христиан, hymn 495</dc:subject>
  <dc:title>Наш меч не из стали блестящей</dc:title>
</cp:coreProperties>
</file>