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872-7A47-44D4-8754-C88F7A63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8BF-1318-42ED-A3B5-C4CF668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0F9-6A3B-42D8-971E-4D3F6903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7AF-BEF2-4445-B029-3A939BC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E74-C2B5-43A5-B289-A96AEE9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459-FF58-44EC-A5DC-A6C39D52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77D-ED65-4E3F-B15F-77882E3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25A6-D73D-4A49-B812-BD4E1916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314-5B80-4D4A-8085-66280B6A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3E8-BF06-4605-804C-68BFECFF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582-EC9C-40DE-B8D5-6B13EA5B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798-F573-444E-AA05-237BFAA3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EBACC-A258-4CAE-BA3C-7D3C35C928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 Господь в чертог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чертог святой Он Сам тебя в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зовут, ты зов не откло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там ждут, туда, туда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4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красен пир в чертоге золот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бя Господь зовёт быть гостем в нё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 там и дверь не зап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ё открыл Спаситель для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многих грешников принял т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 там ещё есть место для теб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и омыты кровию Хри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ристос зовёт — омоет и т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ходи, входи! пир этот для т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аша там веселием пол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 счастье там, вся радость, о, вхо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ь зовёт, ты голосу внемл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ть место,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оспеши во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ветилу дня не долго уж си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чная тьма готова всё объ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станет ночь, закроются вра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жасный вопль услышишь ты тог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места, н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ворены вра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19Z</dcterms:modified>
  <cp:revision>12</cp:revision>
  <dc:subject>Slavic hymnal Гимны веры христиан, hymn 344</dc:subject>
  <dc:title>Есть место, есть!</dc:title>
</cp:coreProperties>
</file>