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16B-CA4D-4510-BC5B-DF3DF2CA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59B-E938-4AF9-A09B-0A5D2CC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503-678B-4DF5-8355-5771032E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C80-87A1-4790-AD3E-D851B11E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87D-D7E5-4DE9-B295-7A5771D9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4D7-5B92-40A9-BBA5-87C1F04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60A-8AA4-4405-B772-C54E40FA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B61-18CF-46FB-A964-8971BC42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421-CCCE-4031-9A86-599B409A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8BD-6B3F-49F6-9806-66C85D1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835-DFE9-41F9-9F48-A141408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FE7-BD18-49C4-91EE-77F91CF9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C4A0A-5AF4-4371-B269-AC18547DD7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God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weary passer-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е обещ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, грешникам, да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tations almost win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trusted watcher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ring with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в огне тер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друга не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ит то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y secret hopes have pe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rave of years gone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promise still be cher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ердца упо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ь жизни раз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с верой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hades of life are f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our has com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y trusty Pilot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очи тень сп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чины час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Кормчий твой в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веду тебя вперёд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, I will gu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way from earth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guide thee with Min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ороге испыта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21Z</dcterms:modified>
  <cp:revision>13</cp:revision>
  <dc:subject>Slavic hymnal Гимны веры христиан, hymn 489</dc:subject>
  <dc:title>Precious Promise / Дорогое обещанье</dc:title>
</cp:coreProperties>
</file>