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1493-00B2-446A-8E4A-D4F19402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6E9-186B-40DA-930F-B1BBE91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AE0-4A42-4C0E-9BCC-1D487360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8AE-067C-4C6B-9068-6C702B29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526-C0F3-4DD7-AD83-D17E6EBD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9FC1-4D04-4D19-A620-CADCA27B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CB0-F858-4BFC-8078-013FB702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AA0-30A5-4911-880E-5F8AD5EC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1DB-60A9-4126-9694-435E115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409-CF4F-4868-9A80-AD9BB78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D1F-87D9-4A39-9BD2-143EEA87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830-CA90-43F9-BB26-3D9E3F0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7AC89-B358-4136-82C4-3AD32CEE49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4:12Z</dcterms:modified>
  <cp:revision>12</cp:revision>
  <dc:subject>Slavic hymnal Гимны веры христиан, hymn 819</dc:subject>
  <dc:title>За добро земных красот</dc:title>
</cp:coreProperties>
</file>