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68B-BCA8-4D8B-AC96-72813824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978-6DE7-4831-AB54-7AEB9DB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ED5-1AB3-454B-AA3C-F3012850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EF1-F988-48CB-A728-BDDBBA29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77D-86DC-4A94-82F2-232692F0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3EB-0BCD-448E-AA4C-7D13543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A6F-BF25-4C1D-B149-8FB626D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82F-BDA3-4F90-88E5-074B6657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B318-DE2D-4984-9EF3-496C6B2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82D-029E-4C32-A53D-E097EDA0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B6F-8E78-4234-ACB3-EA02C83F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3D5-5A97-44F4-9C24-92F9ED7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FAF2C-4DEA-4B4C-96D9-9CCA6FBCF2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ты голос Б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для тебя звуч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стоит прохож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что Он го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лышишь ли ты голо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любви Его ты сл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овёт тебя, мой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ты дыш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Им одним бо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чего, что ты спотк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, иди к Нему оп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и пошатнул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Он тебя под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друг мой, п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ставал и шёл к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перь такой упря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веришь ни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 так тебя Христос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иль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найдешь ты для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к Иисусу поспе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3:59Z</dcterms:modified>
  <cp:revision>12</cp:revision>
  <dc:subject>Slavic hymnal Гимны веры христиан, hymn 405</dc:subject>
  <dc:title>Слышишь ли ты голос Божий?</dc:title>
</cp:coreProperties>
</file>