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4E2-00EA-4B89-B804-CA35AD1D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495-D198-48E7-B6A6-77752026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9B30-B9BC-463B-B63A-12E8245C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919-85AF-4E8E-BF99-080B982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2D1-79A0-4925-B617-982D954C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284-B30E-40D8-9551-A9D44E68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119-43B6-43AD-8069-B2F6AFCC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BA3-BCE8-4EA9-A8F5-9AC80221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706-81F4-4E04-B77C-66C5049F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67D-CEAC-48E5-9062-26C581E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D2B-85EB-499F-B795-883F46B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2FC-18F0-4F83-8A9E-18EA21A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DA100-985B-4E66-8D58-8F059F53EE2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2   Let Worship Be the F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mission’s ai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see the nations recogn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f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’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 every tribe and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oices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worship b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ission’s fl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with a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going for we care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tribe,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creature in the heav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e ear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eart, ev’ry so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note, ev’ry st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melody will be for You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 harmony tha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ev’ry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ll sing Your pra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praise of ev’ry tongu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hould be the joy of ev’ry he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ntil the fullness of Your kingdom com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’til that final revelation daw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nd us out, send u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25Z</dcterms:modified>
  <cp:revision>12</cp:revision>
  <dc:subject>The Source 3, song number 1402</dc:subject>
  <dc:title>Let Worship Be the Fuel (Mission’s Flame)</dc:title>
</cp:coreProperties>
</file>