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60360" y="39528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, Holy Spir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Your pow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y my nee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You can make me whol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me strength and make me gr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Holy Spirit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4:00Z</dcterms:modified>
  <cp:revision>3</cp:revision>
  <dc:subject/>
  <dc:title>Come, Holy Spirit</dc:title>
</cp:coreProperties>
</file>