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9E6-FF60-461C-BA55-D90E12A9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F44-B52B-49AB-A069-74731975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5B6-DA63-44BB-B9D9-412D6592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5FD-C1FE-4CC2-AF03-4CD76F84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626-F7A5-468D-8B54-CDA52498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E1F-947B-4C62-9B59-193413E8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A8C-E0E4-45B3-ADA4-643C9727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FD4-0D1C-435E-963D-00AF5F9B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CE5E-F542-4CFE-AABD-0F367909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090-E93E-495C-8BB7-E2211C26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CA0-4C28-4CD8-8CCE-E7765391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488-003F-4577-9251-7232FDF4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C3FB6-19CA-47E8-8B6A-0EFFBD0F17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reation is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iting to be s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nature like a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iting for a ton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who will give it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ake its anthem 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r rise to lead a cho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ll created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ear Your people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703   All Creation Is a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eation’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of earth and songs of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in as one to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eation’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nations are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iting to be s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instrument and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eated for the 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Maker of all th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majesty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bought us back from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such a costly l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praise could be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eation’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gs of earth and songs of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in as one to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lessing, honour, glory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reation’s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(compiler), The Source 4, Kevin Mayhew: Buxhall, Suffolk, England, 2009.  ISBN 9781848671713.
</dc:description>
  <cp:keywords>lyrics words praise worship songs</cp:keywords>
  <dc:language>en-US</dc:language>
  <cp:lastModifiedBy>John Zaitseff</cp:lastModifiedBy>
  <dcterms:modified xsi:type="dcterms:W3CDTF">2011-02-16T01:09:42Z</dcterms:modified>
  <cp:revision>12</cp:revision>
  <dc:subject>The Source 4, song number 1703</dc:subject>
  <dc:title>All Creation Is a Song (Creation’s King)</dc:title>
</cp:coreProperties>
</file>