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DA1-A0B8-457A-9126-10C7CF10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ECF-1DCD-428C-B5D6-9C8D369A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3CA-51BB-4E78-8FB4-57DBED51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A8D-00F9-4AA1-B9D0-901447BB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93A-7DBF-4E25-8CAC-2958FBCE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526-1F7C-4BE5-97B4-B589DB8D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569-485D-47EC-BE8A-F03DD692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A71-6990-4493-B08E-6D8BBB7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37B-3B7F-46EA-842E-CD49A318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CAA-59BF-49FF-925E-445B8B27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A96-46F9-4B47-AC2F-DD5585FE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57A-3163-47A3-85F7-C265876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5CF73-B642-4B4C-8089-AA96021FD44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кончатся дни твое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ставишь: заботы и тру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ебя после смерти постиг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тебе будет вечный прию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гда кончатся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этом мире ты жаждешь поко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довольствий и выгод себ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всё это мин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ичто не поможет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возможно, подшучивал та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д призывом упасть пред Хрис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узнаешь ты я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енье и жизнь только —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прощённый, грехами покрыт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е сможешь на Бога взир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лько чистые сердцем увид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удут вечно Его прославл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хочешь быть чистым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Иисусу приблизься в мольб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ас последний Он небо отк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 святыми даст место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мой друг! пред тобою сег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мерть, что желаешь избр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ы «завтра» не сделалось «поздно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егодня прими благо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16Z</dcterms:modified>
  <cp:revision>12</cp:revision>
  <dc:subject>Slavic hymnal Гимны веры христиан, hymn 358</dc:subject>
  <dc:title>Когда кончатся дни твоей жизни</dc:title>
</cp:coreProperties>
</file>