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B611-F129-44DE-B6EB-0F888422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5D8-C88F-41B3-B9B2-8E376AFF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615-11B7-491F-81C5-76E0EDF5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3B2-5DAE-4BE2-9549-EDE40955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A9B5-D6DC-44A9-B244-FC3397F3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6E2B-E09A-4410-9979-3F3156BA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AF1-BDF2-47E0-B657-2D296F16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4F2-50EA-4838-906D-4A042E96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C0B6-3854-4376-BB43-53A848A2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888-E0DC-4307-9646-2A8BB7BA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A09-7D65-4FE7-B58C-DC00707B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C83B-F878-43ED-A805-7FFC5A46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81C57-1C6F-4971-A0A0-248E03D268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ys to s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ith a pure, clear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Like a little c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Burning in the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8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сто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реть, как све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в тьме но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is world of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let us sh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in your small cor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in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тёмном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добра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ys to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First of all for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Well He sees and knows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f our light grows d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ца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х Он не с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менных 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He looks down from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o see us sh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in your small cor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in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н видит с не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будь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Jesus says to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Then, for all ar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Many kinds of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In the world are found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глядит на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ви и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ример подас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in and want and sorr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So we must sh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You in your small cor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Verdana"/>
              </a:rPr>
              <a:t>And I in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ло, нужду 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ждай доб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должны све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ю для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нести бла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зные м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114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, будем вер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во вс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уголке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я — в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3-25T01:27:48Z</dcterms:modified>
  <cp:revision>12</cp:revision>
  <dc:subject>Slavic hymnal Гимны веры христиан, hymn 897</dc:subject>
  <dc:title>Jesus Says to Shine / Мы должны светить</dc:title>
</cp:coreProperties>
</file>