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092-9F9A-4C3C-9DA5-05115021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F78E-1628-425C-A0CA-EA3D4B31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61F4-8CC1-4FE6-A97D-A9F8355E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FEBD-5B57-49FC-A8EE-097CE351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148-34F5-486D-A02A-305EA207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08B-540A-49FE-99B2-A34BDFAD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FAF2-FB57-4608-9551-1BB70206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75A-4C3C-420E-BD18-CDE4BFB6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32E-1E99-4032-9B2E-4DB666FD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36F1-A334-4913-A6AE-D69ABF0A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D806-BFBC-41B5-81C3-D712D3EF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62FE-CBD4-4855-9530-3BE629DF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7D524-C5F4-4CC0-A7FC-7562A6765F2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спасён, спасён я от блуж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ытливого и гордого у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от сердца тягостных стр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 ношею житейского яр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от страха смерти, осужд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грех давно лелеемых страст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от бездны вечного забв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среди томящихся тен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а, я спасё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спасён! Спасён я не дел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удростью людскою, не ум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жертвою тельцов и не дар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ленным золотом, не сереб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я безграничною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илою живительной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 невинною и чистой к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литою с Голгофско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спасён! Пусть лев вблизи рык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шепчет смертный приговор зак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тьма неверья пытки собир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 страшусь! Я знаю: я спасён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льше чем спасён! Насыщен хле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ен я живительной во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гащён дарами, принят не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светлён негаснущей зар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спасён! Не гордости то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песня славы Спасшему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лич о пристани, спасти гот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гибнет так, как гибнул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я спасён, поставлен на тверд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т под крыльями любви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 прервётся песнь моя отны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а, хвала Тебе, Спаситель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8:22Z</dcterms:modified>
  <cp:revision>12</cp:revision>
  <dc:subject>Slavic hymnal Гимны веры христиан, hymn 575</dc:subject>
  <dc:title>Да, я спасён</dc:title>
</cp:coreProperties>
</file>