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92E-7C26-464B-828C-6BEF1767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2367-271D-4484-A61E-3A4623C7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1DA-CF10-411D-9D9B-5F668F96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C9A-DE3E-4310-A269-15313460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5F7-81A8-4DF8-9A7E-26C8EE44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49C-FF3F-4A9B-A7F8-C7263C53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B0D-50FF-461A-8F2E-1ED2A01F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426-A0C4-4D45-B5A0-13FF1BA1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137-88C5-4B82-B993-DC99B77B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911-665E-48A7-AB60-23D6212B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74E1-9862-4031-B494-E05B2488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956-E708-44CF-B1F1-5BE54748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0CFFD-61E5-4642-9F86-BC727BEAE0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the Saviour, make no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His Word He has shown us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our midst He’s standing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nderly saying, “C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ть ко спасе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ко спасенью новый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Христа открыт пре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тебе даруе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ворит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joyful will the meet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rom sin our hearts are pure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shall gather, Saviour, wi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eternal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uffer the children!” oh, hear His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heart leap forth and rejo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us freely make Him our cho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delay, but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удьте, как дети!» — Он го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Христа нам радость да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щий всякий пусть повт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ый тот зов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joyful will the meet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rom sin our hearts are pure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shall gather, Saviour, wi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eternal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 once again, He’s with us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ed now His blest command, an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now His accents tenderly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, My children, com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что тебя зовёт Он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все сомненья, искренно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ди в Его отверстую д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зовёт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joyful will the meet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rom sin our hearts are pure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 shall gather, Saviour, wi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eternal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49Z</dcterms:modified>
  <cp:revision>13</cp:revision>
  <dc:subject>Slavic hymnal Гимны веры христиан, hymn 381</dc:subject>
  <dc:title>Come to the Saviour / Путь ко спасенью</dc:title>
</cp:coreProperties>
</file>