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2</a:t>
            </a:r>
            <a:r>
              <a:rPr b="1" lang="ru-RU" sz="3600" spc="-1" strike="noStrike">
                <a:solidFill>
                  <a:srgbClr val="ffffff"/>
                </a:solidFill>
                <a:latin typeface="Verdana"/>
              </a:rPr>
              <a:t>	</a:t>
            </a:r>
            <a:r>
              <a:rPr b="1" lang="ru-RU" sz="3600" spc="-1" strike="noStrike">
                <a:solidFill>
                  <a:srgbClr val="ffffff"/>
                </a:solidFill>
                <a:latin typeface="Verdana"/>
              </a:rPr>
              <a:t>Любит Бог Своё создань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юбит Бог Своё соз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ловека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даёт ему пит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дрость сил и сладкий с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зверей и птиц небес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ловеку поко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цветами благ телес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ть житейский обложи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илы мощные приро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о власть ему 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д натиском невзго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могилы береж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Любит Бог Своё тво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ловека любит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Него Он клад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 начала дней берёг.</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Для него Он в мир несчаст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ына Своего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него, как раб подвласт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ын Создателя стра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Он ему грехи прощ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нимая бремя с плеч,</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кроткой властью приглаш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лугах любви возлечь.</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45:57Z</dcterms:modified>
  <cp:revision>3</cp:revision>
  <dc:subject>Slavic hymnal Гимны веры христиан, hymn 52</dc:subject>
  <dc:title>Любит Бог Своё созданье</dc:title>
</cp:coreProperties>
</file>