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4377-B901-49D7-B5AF-10D9890C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52F3-D21C-4F60-BE49-EFFB5508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BA00-0920-48B9-AC67-8AF9B4C6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FB9B-6D1E-4D87-A7EF-A2887BC8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06AF-F7D1-4DC2-89FF-A567F489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C45E-1CC3-4439-AA88-07258628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3C9E-BD4A-45C3-9946-E59B35DF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E10F-516B-465F-9B42-435FDF6B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EE2F-4E05-4576-A4B4-E1032C16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E2E4-927D-4ABA-ACD0-C3E3CA1B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DE12-35A8-428D-9F1D-4DEA1368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9373-5391-4FA7-8580-CDD457B4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A8967-E9D2-46DC-B040-FBC7F5890AC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rising of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going down of the s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’s name is to be prai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ye the Lord, prais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ye servants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the name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nam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is time forth and for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15   From the Rising of the S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6:03Z</dcterms:modified>
  <cp:revision>12</cp:revision>
  <dc:subject>The Source 3, song number 1215</dc:subject>
  <dc:title>From the Rising of the Sun</dc:title>
</cp:coreProperties>
</file>