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BDA-B359-4093-99D7-1AC8279C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F7A-A3BB-4886-A434-846FAFE5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135-28BD-4C61-8ACE-AD807500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642-F7B8-41D7-A614-058701A2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886-84C0-4BD8-B0EB-C649CA21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8F2-1C5F-43B5-9B1C-8D09B93E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2D9-FE97-42AA-8655-364347A3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AD3-E1A5-4791-99F4-AF272239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DE9-1542-4995-B610-354EE128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3BD-DBEA-49A5-AC9F-7E219CD8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7CD-DCDE-43B0-B15B-5D588E53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6C1-6D38-4FF8-A2D5-A05DF6CC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28F25-C9FE-4167-B51B-1EBA7E7F6D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ли ты, грозит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ль воет, ночь круг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иянье л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едно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прямым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й — я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? — сильней мо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? — слышу как бы гр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Тому, Кто сп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и в смерт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вечность не у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47Z</dcterms:modified>
  <cp:revision>13</cp:revision>
  <dc:subject>Slavic hymnal Гимны веры христиан, hymn 645</dc:subject>
  <dc:title>Доверяй Христу всегда!</dc:title>
</cp:coreProperties>
</file>