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24</a:t>
            </a:r>
            <a:r>
              <a:rPr b="1" lang="ru-RU" sz="3600" spc="-1" strike="noStrike">
                <a:solidFill>
                  <a:srgbClr val="ffffff"/>
                </a:solidFill>
                <a:latin typeface="Verdana"/>
              </a:rPr>
              <a:t>	</a:t>
            </a:r>
            <a:r>
              <a:rPr b="1" lang="ru-RU" sz="3600" spc="-1" strike="noStrike">
                <a:solidFill>
                  <a:srgbClr val="ffffff"/>
                </a:solidFill>
                <a:latin typeface="Verdana"/>
              </a:rPr>
              <a:t>Христос, в Тебе душа нашла</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Христос! В Тебе душа наш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ла в Тебе одн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радость, блага без чис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ечной жизни д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вольства, счастья нет ни в к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в имени друг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и жизнь в Христе одн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ёл я счастье в Нём.</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Нашёл всё то, что я иск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ольше, чем я ж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словенье Ты мне 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ого я не зн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вольства, счастья нет ни в к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в имени друг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и жизнь в Христе одн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ёл я счастье в Нём.</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О счастье сердцем я вздых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я же не иск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мимо рая проход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Ты останов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вольства, счастья нет ни в к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в имени друг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и жизнь в Христе одн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ёл я счастье в Нём.</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В разбитые сосуды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тухший взор брос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утекла из них стру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жажде я стон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вольства, счастья нет ни в к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в имени друг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и жизнь в Христе одн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ёл я счастье в Нём.</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О счастии плотском ры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 разу о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ка мой робкий взор в моль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й лик не уви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вольства, счастья нет ни в к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в имени друг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и жизнь в Христе одн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ёл я счастье в Нём.</a:t>
            </a:r>
            <a:endParaRPr b="0" lang="en-US" sz="3200" spc="-1" strike="noStrike">
              <a:solidFill>
                <a:srgbClr val="000000"/>
              </a:solidFill>
              <a:latin typeface="Verdana"/>
            </a:endParaRPr>
          </a:p>
        </p:txBody>
      </p:sp>
      <p:sp>
        <p:nvSpPr>
          <p:cNvPr id="44"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8:37:34Z</dcterms:modified>
  <cp:revision>3</cp:revision>
  <dc:subject>Slavic hymnal Гимны веры христиан, hymn 124</dc:subject>
  <dc:title>Христос, в Тебе душа нашла</dc:title>
</cp:coreProperties>
</file>