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03C-B92C-453E-AE9E-BD9896E3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AD2-C633-4946-883D-4AFD85ED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38A-DEC1-4F1C-82F4-1D4FE040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A7F-46A4-40C9-8588-0368046F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32E7-7EA4-46FD-A673-B1DE2A3A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316E-3304-4D51-8D66-0EF45454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52B-10AB-4147-9205-5F820B36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5C2-B562-4B0B-8118-71D1AE25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8CD-94B5-4173-BC7A-C590252A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6C6-1895-4CC3-A9DE-CD692DB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285-5887-4D14-8E44-4B625DBB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F77-6035-4607-97B1-3867102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54DAC-8C70-4764-89C8-C2DC92256C1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ым светом озар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же Он огонь прибре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охраны поруч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рко свой маяк Отец н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очь греха жестоки вол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ря стонет и ре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яжённо путник смотр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а с берега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й светильник, брат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о гибнущий плов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калу волной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ретит гибельный к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а светит свет наш люд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лывущих по вол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емогших и уста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правил к бере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2-01T14:56:19Z</dcterms:modified>
  <cp:revision>14</cp:revision>
  <dc:subject>Slavic hymnal Гимны веры христиан, hymn 555</dc:subject>
  <dc:title>Ярко свой маяк Отец наш</dc:title>
</cp:coreProperties>
</file>