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37F-58D4-4F81-BB30-9DC739C3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006-D280-42F5-936A-CF4B05BD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1B5-DAF6-431E-9B7A-DF589C93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93C-FA21-4F62-B93D-B3758D99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A31-84D4-43D4-AEBC-3EACD345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8C2-F7D1-4B93-942F-91819A71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77E-BE8B-4FFA-98C4-EAE4F3A0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1D8-F278-4609-8FE6-026F33EE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9CC-E218-4DC0-BC8B-9A9083C4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C12-A81F-4749-8EC2-1D8FF2EA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9B7-35D6-44CB-A739-E44F912F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4E5-5CBE-4660-923C-168E183D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31374-AC9E-44C8-9714-B2EDBC0ACD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Holy Spirit, heavenly D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y quick’ning pow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dle a flame of sacred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se cold hearts of 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ух Святой, спуст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ого затро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холодных дивно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 святой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vain we tune our formal so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vain we strive to r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s languish on our tongu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devotion 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 песни мы 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лодно мы вста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ас нет радости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нья на 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Lord! and shall we ever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is poor dying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love so faint, so cold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ne to us so gr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лго будем прозяб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с неба ветер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ой любви в нас не ви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ж — так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Holy Spirit, heavenly D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y quick’ning pow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shed abroad the Saviour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shall kindle 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излей в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шу — о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41Z</dcterms:modified>
  <cp:revision>13</cp:revision>
  <dc:subject>Slavic hymnal Гимны веры христиан, hymn 311</dc:subject>
  <dc:title>Come, Holy Spirit, Heavenly Dove / О Дух Святой, спустися к нам</dc:title>
</cp:coreProperties>
</file>