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EB2-8084-43B4-BC93-0994D918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F9D-9E9A-40F1-AA45-D0FA18C8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A4E-B569-49AE-81CB-95BE423C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269-BDEF-4607-BAF2-0667EDAA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51D-716C-4B88-B306-9C3FCE4F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8CE-2787-48F8-820D-DA60928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6CE-B47A-43DC-8FE5-111196B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1E1-83A7-4040-AE29-712DE50A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EE3-51DE-4E66-B047-1D76095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DD9-CB1F-4288-BA36-A854740C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1A6-7A45-415D-B1E2-8E4D2E38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DDE-C33C-4171-99D6-5F70C9E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D1C7-6831-401A-B793-13689D2155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9Z</dcterms:modified>
  <cp:revision>12</cp:revision>
  <dc:subject>Slavic hymnal Гимны веры христиан, hymn 479</dc:subject>
  <dc:title>Таков, как есмь, о Боже мой</dc:title>
</cp:coreProperties>
</file>