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2B1-248C-4A33-BD34-D3B7E040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DE8-66EC-4716-8307-5504177D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3D2-941D-42CF-B27B-2DD488D3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F53-779E-4147-9EE5-30E4DC0F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16D-5071-4E50-A81D-A266C973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7B5-FF23-4E2A-9DE5-E6EA59B0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E3F-DF4D-4B7B-B456-B4DFBC46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61A-3858-4612-881D-D6D9A50E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C20-C5DB-4B20-BFB7-A35C5DB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14D-E9A0-41D7-9099-E2D6E9C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B1B-4C10-4F25-BEB5-D4087DB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441-92B9-4B16-8170-C9408AFE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7EBDA-F701-4E82-962F-3D0933893A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tory to tell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turn their hearts to the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truth and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peace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tory of peac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у нас Божье 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Божье слово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сплавить мож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ете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ong to be sung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lift their hearts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ong that shall conquer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tter the spear and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tter the spear and s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песня веры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х может к Богу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им дать над зл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мать и копьё, и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message to give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who reigns up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sent us His Son to s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w us that God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w us that God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у нас весть живая к народ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здатель дивных м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слал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ь нам Отца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ve a Saviour to show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path of sorrow has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ll of the world’s great peo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come to the tr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come to the truth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известен Спаситель народ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шёл страданья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ть спасенье мно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вернуть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darkness shall turn to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wning to noonda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’s great kingdom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dom of love an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енится ночь рас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ассвет станет ясн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еба царство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придёт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1Z</dcterms:modified>
  <cp:revision>14</cp:revision>
  <dc:subject>Slavic hymnal Гимны веры христиан, hymn 530</dc:subject>
  <dc:title>We’ve a Story to Tell / Есть у нас Божье слово</dc:title>
</cp:coreProperties>
</file>