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80A-7122-48FD-ABDA-9C9C7183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B08-A0F5-47B2-AB82-D4CACEAC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639-A9B4-45CE-AE4F-8B7C526B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BEE-2ADA-4F97-9BE2-6FB810F7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A89-506B-4AE2-A8BA-37EB76AC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80E-36F0-4760-AEB7-533D094E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848-6420-49FF-9009-D876AEAC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19A-D280-4C15-A41D-BDDAEC5C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83B-7BB6-4BC6-8916-CBC1B24A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A88-9525-4DBE-A5FE-A2328D0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B1B-5488-4CF3-9F89-9CA79A85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D7D-A1AF-454D-8F82-6EA436F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86D8-3676-449D-9CE4-AB67B1E5BD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0:55Z</dcterms:modified>
  <cp:revision>12</cp:revision>
  <dc:subject>Slavic hymnal Гимны веры христиан, hymn 643</dc:subject>
  <dc:title>В руках я Иисуса</dc:title>
</cp:coreProperties>
</file>