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AC7-9665-4521-949D-8A8CA57B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9DB-E9CA-4650-8B14-1721372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C34-7EAE-4CBE-859A-3A154E26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053-FF3F-4909-8D8D-DA3137CA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3350-BB68-4FFA-8C01-83A1E5DB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69A-AE0F-457B-A6A7-154C210C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730-1456-493E-8205-BEA0DB15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211-A7D3-4F94-A036-F2FD5BE1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06D-D333-44B7-98F9-357433DA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CDA-A284-4F6D-9AE8-E9CDE0B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9D7-5C69-4CDC-A6BA-F9A7622B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135-56E8-48DA-AB53-55CDDC8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A143E-606B-43C5-B4FF-9757AEE9EB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eace in my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the world never ga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peace it cannot take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the trials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y surround like a clou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ve a peace that has come here to sta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ём сердце п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моём сердце покой не от мира 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мир сей не может от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беда за бедой здесь лишают вс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адкий мир мне даёт благо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the world seemed 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a Saviour and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peace sweetly came 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oubles all fled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night turned to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lessèd Jesus, how glorious Thou 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ышу песню везде об Иисусе Хрис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моём сердце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корбь ушла со сты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чь сменилася днё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Господь! как отрадно с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is treasure I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a temple of cl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here on His footstool I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He’s coming t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some glorious d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 there to my heavenly h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храню этот клад в слабом сердце мо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уждая по стезям земн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придёт Он опять и возьмёт меня в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царство света, в отчизну свят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Jesus is m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nstantly abiding, rapture divi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never leaves me lone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spers, O so k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never leave thee,” Jesus is 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мой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юду Он со мною, я не страш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еня Он не оставит, Он слово д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Я всегда с тобою, Я — твой Господ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0Z</dcterms:modified>
  <cp:revision>13</cp:revision>
  <dc:subject>Slavic hymnal Гимны веры христиан, hymn 642</dc:subject>
  <dc:title>Constantly Abiding / В моём сердце покой</dc:title>
</cp:coreProperties>
</file>