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4B8-2BC6-4860-8302-6715D2E4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311-7FC4-4E60-9781-9AB6B804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9A5-4EA1-468D-918B-3F9FA644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A99-AB3E-40CC-8DB3-8EE00DE4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E0B-986A-4B91-8384-4A7C0F79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75F-1697-4300-84F5-FB001895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00C-BBDE-47D6-8CEE-5F39F44C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01D-D0DC-4E1C-8A59-4C141BC9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529-6FBA-4922-93EA-1E72AC11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753-632E-4BFC-A0BB-EFAC2C07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E14-48BF-438C-90E2-A79C9524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1EC-ADDF-4B43-A5D3-01423478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A9B34-FFE1-40B5-9A4D-AEDDF9E1AF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й стремится и рвёт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ятые в бессмер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труится живая ре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чизна моя в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ждёт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товит обител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мирный на злачных лу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ветлом, блажен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мне быть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мой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е встретятся в райских вр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, что верою жил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12Z</dcterms:modified>
  <cp:revision>12</cp:revision>
  <dc:subject>Slavic hymnal Гимны веры христиан, hymn 692</dc:subject>
  <dc:title>Отчизна моя в небесах</dc:title>
</cp:coreProperties>
</file>