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B10-E4EA-4B0E-A3F7-8DD29A32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BAB-9FD8-4B2E-90E2-0AADE0ED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533-1265-48D8-A726-DC70611C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ABC-8CCC-4D64-A1E8-95B87EA5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C4F-1A92-47C7-895E-9DF746BC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FBD-99A4-49C9-87B1-F21CE1BE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6C4-3C05-4A43-B387-BB300B55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4E4-2548-44C8-874D-3857F6DB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EAC-B606-44C8-8649-19AB00D6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8F6-23AE-4007-9800-3458AA6B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8D2-9E29-48C4-A247-5425CB26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69E-B2EE-4223-B9F6-8499A650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DC72E-BF84-4F16-A187-9F953F27A0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 Вечного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ю мудрость славят горы и мо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!» повторя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а   Доверяю сло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не потря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аган сомнений, страхов и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бури жизни я иду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ами любви с Ним связан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же в искушеньях не боюсь вр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, я не уп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восполнит всякую ну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имею всё, чего я 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7:03Z</dcterms:modified>
  <cp:revision>13</cp:revision>
  <dc:subject>Slavic hymnal Гимны веры христиан, hymn 640 (as amended)</dc:subject>
  <dc:title>Доверяю слову Вечного Царя</dc:title>
</cp:coreProperties>
</file>