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B79-A3C0-4DB3-902D-D8F4165C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E1F-AA56-4F1F-B01C-3E724B65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A8F-4C08-4486-A9DF-AD50DDE6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7F1-B532-429B-92C9-2466A4CC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D76-58D0-4953-83A0-B72FA591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D3C-B7B5-4297-9A1C-2FBADAF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4C8-DB9E-40DE-A5B7-9CE8E9F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B64-2A0D-4970-BA30-66D2F2A5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F09-2B5E-4F3B-9661-355612D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47A-10E1-441C-9360-0236635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86A-9E89-409F-8849-54A7570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399-4280-41F5-83E1-B23F8EA4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51E7A-0BA1-4905-9AA3-1C328ADF33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о вірити в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вятим Його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душею підношу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о в самі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4   Любо вірити в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діюсь на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Його святу люб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Йому служу й молю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олив за мене к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риємно знати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ом пробувати в 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кріплятись Його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ходити завжди з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ходжу собі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голгофському хре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я можу виправдат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ершитись у Хри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Спаситель вірний мі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ій Спасителю, І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буду вічно Т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30:17Z</dcterms:modified>
  <cp:revision>13</cp:revision>
  <dc:subject>Slavic hymnal Гимны веры христиан, Ukrainian hymn 24</dc:subject>
  <dc:title>Любо вірити в Ісуса</dc:title>
</cp:coreProperties>
</file>