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9617E-A723-4560-8E4D-EDE7A3597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2E2A2-0F8C-4F25-9BC8-23A15141C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F363B-52CF-4A40-9786-95AABA2F3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E57A5-7FD5-4926-915D-8BBF5BDD6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C5E4D-E1F6-4E2F-858F-AE8DC0581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BAD0B-5E94-4A9F-9C0E-956C79219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EC1CB-9643-4163-A892-E5C24CDA9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8E560-1BB3-42AA-B9E1-F51254C66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967ED-D011-4016-BEB7-BBACEB22C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9B9D7-ED85-4EC6-836D-5CB33CBE5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08B08-5870-49C0-9EAD-D48939D52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772E7-2E13-417F-B264-F87170DBF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E3C938-D751-4060-AA04-E8EC5CB96AE2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 new command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give unto you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t you love one ano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s I have loved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t you love one ano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s I have loved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23   A New Command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y this shall all k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t you are My dis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f you have love for one anot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y this shall all k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t you are My dis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f you have love for one anot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1-02-07T06:16:27Z</dcterms:modified>
  <cp:revision>10</cp:revision>
  <dc:subject>The Source, song number 23</dc:subject>
  <dc:title>A New Commandment</dc:title>
</cp:coreProperties>
</file>