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5493-64D2-4DFD-B142-AA3C5601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FFF-3EBF-4598-8612-75499E8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629-FBBF-4972-89F3-C3F3806D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F92-87A2-4EB7-A5C3-310AEA4B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2A5-B0EF-442C-A674-F7A895F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4B9-08D8-4B96-9F73-B6F6DCE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A617-7866-4A3F-BC09-9C348DC5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AB7-2726-4F42-BB5B-7CA8CDF5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CFB-2480-4C1D-99C8-090E0AC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66B-EE69-4BA1-A207-87BEA0E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76C4-38B6-40F5-AE81-986102E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380-6198-4609-B549-7E7C1760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6D338-08D2-41F3-AC95-03134A063D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onsuming fire is in Your ga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ant You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follow You all my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 one else in history is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tory itself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pha and Omega, You have lov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hare eternity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about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is i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glory and Your f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 abou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f You should do things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urrender to Your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10Z</dcterms:modified>
  <cp:revision>11</cp:revision>
  <dc:subject>The Source 2, song number 837</dc:subject>
  <dc:title>Jesus, Lover of My Soul (It’s All About You)</dc:title>
</cp:coreProperties>
</file>