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083A-8D34-484C-AF3D-4A1B8DFC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4C6-32CA-4FA0-B236-79552351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6A9-E3D8-4F70-87BF-68BEA172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6D4-7F9D-4FBC-A076-B9B94655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DFA-1C0E-4E2D-99EF-83DC279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FF9-1840-4382-AFAC-9543023B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409-0558-4DE7-B5CF-A64BDCD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774-4AD9-4B28-BC44-4957AC8F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5B6-26F1-43BD-83F7-08527C50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083-7B92-4568-A295-EE08091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B41-1087-421D-B335-1F63BE5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7E3-2ADA-4CFC-899C-CD7AB61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6C1F1-6ABF-47C6-9FE9-9D186B97DA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славить Тебя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Тебе песню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т ада и вечных му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ровью спас душу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кончатся жизни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ак тяжко и трудно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тяжёлой тернистой доро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вечное счастье 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славить Т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огда я пребу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а новой и вечной зем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уду земные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чная буде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та не умолкнет вове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громко и стройно зву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ердце не будет трев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кто уж не будет ры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ю я там новую песн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кровавую битв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ье кровавой це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ление в вечно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вечно Тебя буду слав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я раны Твои от гвоз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ечно Твоею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ённый от вечных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55Z</dcterms:modified>
  <cp:revision>12</cp:revision>
  <dc:subject>Slavic hymnal Гимны веры христиан, hymn 781</dc:subject>
  <dc:title>Буду славить Тебя, мой Спаситель</dc:title>
</cp:coreProperties>
</file>