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B3F-F37B-48EC-98E8-EEFA9990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4D8-9037-4430-9C25-74EDD2A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FC1-8B79-4571-B89C-3CF63FCD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858-4205-4817-B80F-618642A7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534-76C2-47A3-9D01-42C110B5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CC1-400D-4AF4-BACD-28E72E0D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439-0541-4F26-976C-D0DF7BE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D52-E463-40F7-BD27-0A698948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E0F-1A7E-4423-89AF-6A78D6E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A68-078A-4B8A-B6AA-02BCE908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914-698C-4201-8CF4-9015E46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5F6-0F4A-43F9-9979-00B307B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8DDB6-BF92-4C9C-9EB4-40D7FF37B4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5:08Z</dcterms:modified>
  <cp:revision>12</cp:revision>
  <dc:subject>Slavic hymnal Гимны веры христиан, Ukrainian hymn 50</dc:subject>
  <dc:title>Must I Go, and Empty-Handed? / Не хотів би я без плоду</dc:title>
</cp:coreProperties>
</file>