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F40-E0FE-49CD-8D7C-DEE54F08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0A7-8C3A-43AB-AB28-96F97599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6C5-2B0E-4A8A-A80D-45526FB7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267-2B80-4FBD-ADD3-9CCE3F07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17C-211D-4763-8815-5B6DA389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24A-2665-411B-8C4B-5A87831E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2DC-1165-49BE-AB2E-06DB198F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5C2-326D-4A1A-8466-29B2F201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CFD-8C76-4136-8A2D-8C159067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B3B-CD4A-4D8E-9B50-FF7ADAC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33B-D00A-4ECD-A583-E6655146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F34-8CC9-4562-B00C-6EB669D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8FAF4-BA0C-4E20-A259-F06AAC4544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y Jesus, My Savi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6:01Z</dcterms:modified>
  <cp:revision>9</cp:revision>
  <dc:subject>The Source, song number 367</dc:subject>
  <dc:title>My Jesus, My Saviour (Shout to the Lord)</dc:title>
</cp:coreProperties>
</file>