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CA96-DA28-4AEC-9F9B-3F6CEA31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178C-6B06-44A9-8491-ECCCED2A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E4D6-C31E-4F9D-963D-9CE0E1AD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045D-C80A-4255-94FB-B9C248E0B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479E-B094-4771-91B0-F194DD2D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11CE-634E-4F0C-82E7-47884267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6471-BEB2-446E-B5E1-B58E6788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2A5B-5ADE-4BEF-9EC4-E79C20C9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3A5A-ACAC-407E-A8CD-584FF6CB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F3C9-4288-4140-9FE3-FBD2FB03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2F93-9C2E-456A-9EC3-947B3A72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7A8C-ED0B-467F-98AC-CA885ECB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127A3-8CCA-49B6-86CF-17D9E1E4FF6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, my comrades! see the sig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ving in the sk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inforcements now appea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ictory is n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жьи воины, смотр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 воины, смотр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дан сигн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ые полки, гляд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Господь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the fort, for I am coming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ignals sti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ve the answer back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grace we wil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репость Мою не сдав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Я при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 небо отвеч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сдадим вра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the fort, for I am coming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ignals sti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ve the answer back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grace we wil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репость Мою не сдав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Я при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 небо отвеч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сдадим вра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 the mighty host advan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tan leading 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ghty ones around us f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rage almost g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идут полки чужие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тана ве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 падают род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х уж всех бер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the fort, for I am coming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ignals sti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ve the answer back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grace we wil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репость Мою не сдав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Я при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 небо отвеч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сдадим вра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 the glorious banner wav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the trumpet bl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our Leader’s Name we trium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ev’ry fo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мя выше подым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те труб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, дружно все бег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жию войн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the fort, for I am coming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ignals sti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ve the answer back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grace we wil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репость Мою не сдав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Я при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 небо отвеч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сдадим вра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erce and long the battle rag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our help is n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ward comes our great Comma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eer, my comrades, che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ится бой, полки реде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щь уж близ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даются, не робе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ины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the fort, for I am coming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ignals sti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ve the answer back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grace we wil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репость Мою не сдав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Я при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 небо отвечай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сдадим вра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идёт Господь наш с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гионы с Н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и радость, и побед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возда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6-06-08T20:36:54Z</dcterms:modified>
  <cp:revision>13</cp:revision>
  <dc:subject>Slavic hymnal Гимны веры христиан, hymn 484</dc:subject>
  <dc:title>Hold the Fort / Божьи воины, смотрите</dc:title>
</cp:coreProperties>
</file>