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F4AE-A218-4529-8504-B4959EEF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5FD4-E68C-4C01-9F08-B4F1EB38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B26B-D69B-4212-A905-2D3A50B6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B3FD-9051-4EF1-B869-E9831A9D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83C7-F565-40EA-BF63-3F0B87AB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2263-25EE-4571-BB90-F01A40D4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2FF0-0555-4A68-8CAC-F7B27A25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E9C1-2D71-4C75-A786-C5A2C08F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0A9C-B408-4BAA-9855-EE9AC3D7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8CEF-3F63-461D-A09F-43BC0CF9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BEC1-41EF-4263-ABE9-2CDFCA32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672F-4427-4AF2-9AB2-E4D14B44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BB163-D46E-492E-A50D-5AE3F3AB53A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ve that wilt not let me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rest my weary soul in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ive Thee back the life I o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n Thine ocean depths its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richer, fuller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Божья вечная люб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ожья вечна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ы влечёшь меня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даюсь тебе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ей безмерной глуб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всех да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ight that follow’st all m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yield my flick’ring torch to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restores its borrowed 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n Thy sunshine’s blaze it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brighter, fairer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вет, что следуешь за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коптящий факел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сердце яркий веры л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из страны и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светел и могу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oy that seekest me through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not close my heart to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trace the rainbow through the 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eel the promise is not v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orn shall tearless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радость, что в душе м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нила ужас бурь и гроз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день и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: там, где Царь ца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ет тьмы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ross that liftest up my h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dare not ask to fly from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ay in dust, life’s glory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rom the ground there blossoms 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 that shall endless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рест, хотя внушаешь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ез тебя мне нет венц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ое всё кладу во п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я к славе в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жизни без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6:26Z</dcterms:modified>
  <cp:revision>13</cp:revision>
  <dc:subject>Slavic hymnal Гимны веры христиан, hymn 831</dc:subject>
  <dc:title>O Love That Wilt Not Let Me Go / О, Божья вечная любовь</dc:title>
</cp:coreProperties>
</file>