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C10-0C29-41C3-A4BF-8FA444DF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836-173C-495D-9D2A-7E7B63BF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7A1-433B-4332-9910-799BE284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894-05C7-42DC-B6FE-56848CB4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BDB-A031-4D9A-A8D9-C88DB9AD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98F-EC31-41E8-BADB-C18C8D8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00B-BEB6-46DA-9CF4-704F35D7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804-94F2-4921-9A7D-F92D8C9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DA2-DA86-4545-9948-09E2EA52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ADC-2408-41E0-9D13-2D8D9EEA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6C1-1A7D-4ECA-8CB3-67BD631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178-130A-4F21-BF04-EC154FF6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6B700-DFDC-4A9F-8EED-870F45E93F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какой беспредельный великий востор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греховные узы расто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Голгофскою смертью разрушивши 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ил Своих избранных ч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ой беспред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завершенье Своих величайших тру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стал из могильных 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 ликуют все люди и своды неб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Спаситель из гроба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воскресеньи Его — оправдание вс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кресеньем Его попран гр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кресенье Его — расторжение з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 воспрянут Ему честь, хвал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 и со славою торжеств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ожественным светом сия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и в славе Он той же любовью дыш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её верной пастве явля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Спаситель три дня в глубине был зем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из ней вынес дар дорог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ияет светлей драгоценных кам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 — Творца примиренье с земл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сть живёт воскресенье Христово в серд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изгонит сомненье и стра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, и мрак ночи навеки исче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истину в славе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ём вечная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любви полнота, пол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, 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сердца да прославят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7:13Z</dcterms:modified>
  <cp:revision>12</cp:revision>
  <dc:subject>Slavic hymnal Гимны веры христиан, hymn 294</dc:subject>
  <dc:title>О, какой беспредельный великий восторг!</dc:title>
</cp:coreProperties>
</file>