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DBC-90F4-40AE-B489-4C6CBB3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F16-B9CD-47AD-9F51-390B5EDA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39E-65FD-4261-93C0-B1718E3D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3840-CD11-400D-8137-C4C55787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2DD-C563-42E5-8938-B72DF0A3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82F-EEBA-48FD-B2C7-DA59DDD1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059-2FA2-42A3-99E1-CDA5D69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138-9274-4EB4-8A79-914B5958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55A-EF5A-468D-A192-1700C7B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17A-46DB-4F37-AE46-F3AFB187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F8A-C7EE-4518-981C-F66A10AF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E595-8DBD-47E4-B749-2B7F5A0A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A8C48-4B11-4DB7-AB86-D1840602A9B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песня новая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не дал Спаситель м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 тобою всюду, Я — твой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угайся тьмы земн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сердце песня н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мою терзал грех и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разбитый я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осподь меня к Себе привл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ю новую мне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итаюсь от Его сто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лю я под Его кр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 Его не закрывает м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сегда пою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порой чрез воды Он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ат меня тру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стречаю длинный ряд невзг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зде — Его сл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придёт опять с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зьмёт меня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войду я в светлый мир чуд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на выс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, м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мне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лняет нуж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душа всегда по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34Z</dcterms:modified>
  <cp:revision>12</cp:revision>
  <dc:subject>Slavic hymnal Гимны веры христиан, hymn 574</dc:subject>
  <dc:title>В сердце песня новая звучит</dc:title>
</cp:coreProperties>
</file>