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9</a:t>
            </a:r>
            <a:r>
              <a:rPr b="1" lang="ru-RU" sz="3600" spc="-1" strike="noStrike">
                <a:solidFill>
                  <a:srgbClr val="ffffff"/>
                </a:solidFill>
                <a:latin typeface="Verdana"/>
              </a:rPr>
              <a:t>	</a:t>
            </a:r>
            <a:r>
              <a:rPr b="1" lang="ru-RU" sz="3600" spc="-1" strike="noStrike">
                <a:solidFill>
                  <a:srgbClr val="ffffff"/>
                </a:solidFill>
                <a:latin typeface="Verdana"/>
              </a:rPr>
              <a:t>Глубже всех морей</a:t>
            </a:r>
            <a:endParaRPr b="0" lang="en-US" sz="3600" spc="-1" strike="noStrike">
              <a:solidFill>
                <a:srgbClr val="000000"/>
              </a:solidFill>
              <a:latin typeface="Verdana"/>
            </a:endParaRPr>
          </a:p>
        </p:txBody>
      </p:sp>
      <p:sp>
        <p:nvSpPr>
          <p:cNvPr id="39"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лубже всех морей и океан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объятна, вечна, велик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всех златых светил небесных,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спредельная любо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мыл грехи м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ризы снежной бел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Святого Духа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адом Божиим назва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рачны, беспросветны и ужас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и годы в страшной тьме грех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ибнул я израненный, несчаст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Иисус нашёл и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мыл грехи м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ризы снежной бел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Святого Духа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адом Божиим назвал.</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частлив я! Христовой благодат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пасён от смерти и с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м грех теперь не овладе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 обитель Господа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омыл грехи м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ризы снежной белиз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р Святого Духа даро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адом Божиим назвал.</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2:21:52Z</dcterms:modified>
  <cp:revision>3</cp:revision>
  <dc:subject>Slavic hymnal Гимны веры христиан, hymn 39</dc:subject>
  <dc:title>Глубже всех морей и океанов</dc:title>
</cp:coreProperties>
</file>