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reate In Me a Clean He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 in me a clean heart, O Go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me not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y presence, O Lord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not Thy Holy Spirit from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ore unto me the joy of Thy sal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enew a right spirit within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8:24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5T02:56:15Z</dcterms:modified>
  <cp:revision>4</cp:revision>
  <dc:subject>The Source 2, song number 669</dc:subject>
  <dc:title>Create In Me a Clean Heart</dc:title>
</cp:coreProperties>
</file>