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B00-2272-41AF-ACAA-F7B23FCE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F68-027A-416E-9976-224E3CAA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070-AFEA-4FF6-8F5B-1B04B36F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9CE-BC1B-4840-A782-93A29B9D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453-4F20-4D7E-B5BE-9A276D01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6A4-C474-4A7F-82E0-E8D83611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2F6-3341-4A61-9444-B49AD123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F8D-B469-4658-BEB1-2659CDC4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D90-97F4-4EA9-9A6C-687C190A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97E-B532-4A27-B632-8C1E773B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481-93C3-4A9B-B343-0EB49AEF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91E-B10D-4C22-9A7F-DA36A54F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1B4FE-741F-4A82-AE99-0D3ECA2B5E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ove, this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peace of God, t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faith, this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, complet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healed and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isen in His righteous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in Him, He lives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lled with this hope in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lecting His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2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is Love, This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to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to offe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thoughts, my 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l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to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I’m found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Your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0:52Z</dcterms:modified>
  <cp:revision>10</cp:revision>
  <dc:subject>The Source, song number 521</dc:subject>
  <dc:title>This Love, This Hope (Now Is the Time)</dc:title>
</cp:coreProperties>
</file>