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DF6-BCCA-4723-B182-CAF268E2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5E4-4B8D-405B-8E80-6DA153B0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C29-36DB-4296-92AA-C06232E6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72C-9CC8-4E0D-B4FE-CB3E6CD6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2F0-FCBD-4BBF-A635-768F7622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0EF-63CD-4F76-B678-6ECBF8D1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895-D3A7-484D-AFC9-01D97A03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B6E-FD21-48E0-AFD0-57D75AB7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824-CDDA-4362-AD84-B28F7BEF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829-E07E-48A6-9531-465AE015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1A4-B97C-495F-928B-753A7A97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643-42F8-452E-9262-E6B0BFC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65B60-E64E-4DDC-8448-F77091EA1B9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 водах оке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ідний край небес плив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знуть бурі і тума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дість вічну ми вві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забаром стихн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ір кинемо ми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по водах оке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ідний край небес плив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езнуть бурі і тума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дість вічну ми ввійд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9   Ми по водах океа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ільки, скільки вже припл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тих рідних берег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найшли там спокій мил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уть ще інших моря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забаром стихн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ір кинемо ми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ільки, скільки вже припл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тих рідних берег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найшли там спокій мил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дуть ще інших моря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працюйте небага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е кінець журбі, сльо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бесні вдягнем ш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чна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забаром стихне мо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ір кинемо ми ско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працюйте небага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де кінець журбі, сльоз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небесні вдягнем ш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вічна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8:11Z</dcterms:modified>
  <cp:revision>13</cp:revision>
  <dc:subject>Slavic hymnal Гимны веры христиан, Ukrainian hymn 19</dc:subject>
  <dc:title>Ми по водах океану</dc:title>
</cp:coreProperties>
</file>