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AED-7475-41DB-A191-F2EADFC4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783-5962-4AC9-B5D9-7C24314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751-870E-471B-984D-9544A710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AB1-79A4-4D91-8796-0F31AB29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134-A41A-4C89-8B14-1B20A708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9AD-7B70-4F15-8D27-5CAF7E7F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552-F2CB-4159-A800-F5E6284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F02-419D-4604-BF12-029E58A8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BA4-0442-4660-981B-4DD0D0E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0F8-C7FF-4342-892A-82178F9D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60E-EDD6-4FD2-913A-E3DEC39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1F1F-536A-4707-87F0-C0A3D8A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57001-5AB7-41F7-910F-05F1F83B6E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est Lord Jesus; Ruler of all na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of God and ma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will I cherish; Thee will I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my soul’s glory, joy,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красный, всё Тебе подвла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, всего Творец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 любовью жить п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are the meadows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odl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bed in the blooming garb of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fairer; Jesus is pu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makes the woeful heart to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ой красивы лес, луга и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ы сердцу и гла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и вешней Иисус прекрас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и мир даё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r is the sunshine; fairer still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o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twinkling starr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ines brighter; Jesus shines p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angels heav’n can b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сияет, месяц ос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блещут с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снее, Иисус свет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airest beauty, heavenly and earth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rously, Jesus, is found in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be nearer, fairer or dea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Thou, my Saviour, ar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пленяют, люди измен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ом юност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увянут, жить перестан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е вечный Царь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! Lord of the n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and Son of m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and honour, praise, ado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and forevermore be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и и неба красоту и прел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летом и зи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 вселенной всех соверш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,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47Z</dcterms:modified>
  <cp:revision>12</cp:revision>
  <dc:subject>Slavic hymnal Гимны веры христиан, hymn 835</dc:subject>
  <dc:title>Fairest Lord Jesus / Иисус прекрасный</dc:title>
</cp:coreProperties>
</file>