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847-E713-4EDD-8D3A-6C440FC5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336-84DB-4AA1-9E89-DA4EF27C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23D-2F9C-4B09-A37A-3CFE6AAC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AB9-9911-4B4A-B6E9-BC63CF85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373-5D48-4FB7-B12A-801A496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E95-E30F-4605-9385-3CA5BED1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F02-A1FC-4D22-9E1C-83AB619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9E8-BEFC-4511-A9E7-8E279B6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C2F-F097-4D75-AF98-8CA53E5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E70-13D2-4979-BB51-D9EBF6DD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B07-D44B-4B20-AC75-0C9E99E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7B7-B74A-4495-8B3A-04CA0F4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1E44E-3898-499A-99D9-112EC48AEA6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Дух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любви из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арство правды утвер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Тво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вечный Дух!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чувствовать, чт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ами вечно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лизок Ты и в светл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ру тесн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глубже нам позн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мудрость слов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Твой голос разли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ов и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 нас от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ы благ зе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 душ учи иск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лениях Твои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частье ощу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даньях за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ву, крест Твой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ть Тебе, скор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27Z</dcterms:modified>
  <cp:revision>12</cp:revision>
  <dc:subject>Slavic hymnal Гимны веры христиан, hymn 307</dc:subject>
  <dc:title>Предвечный Дух! приди</dc:title>
</cp:coreProperties>
</file>