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F65-AF38-4903-9179-D9149BA3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B62-4015-41EA-A02F-A91DDE53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AE99-3ED3-4DD0-B883-05D10114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B05-0869-4055-967E-FB4EEF5B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6BD-4333-46E9-8A17-2157418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DBE8-E4A5-46D2-8C95-D04442B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F6E-03CD-472B-9A5C-8D0969D8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614-2CF7-4130-913C-30942798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CFE-797F-43B5-B516-38BE3016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1B4-583B-42A6-88AC-6989CAF1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426-640B-4368-B808-F9DD9AC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61F-9696-4159-A31D-085B453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B35FB-589F-4CF7-976A-164901956BF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жу к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томлён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Твоя меня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чистишь сердце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ет в нём си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открой гла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ебя увидеть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познать любовь Твою к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 мой у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мне открой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жил я каждый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силой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яни руки мне с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и Сам меня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арю к Тебе на крыльях веры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ечу с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ведёт Дух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я сила люб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42Z</dcterms:modified>
  <cp:revision>11</cp:revision>
  <dc:subject>The Source, song number 329 in Russian</dc:subject>
  <dc:title>Прихожу к Тебе (Твоя сила любви!) / Lord, I Come To You (Power of Your Love)</dc:title>
</cp:coreProperties>
</file>