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DBED-9A56-4A57-9C08-6F398DC5E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9A6D-F549-4A5C-88FF-E66943DCF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F21C-4B2D-4D41-AB9C-67B7FD10F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50EE-0D3E-4557-94AB-48DFD9664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4534-BC1B-4484-B361-F10EA43E2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C163-2408-4F53-ADE4-5ABD1682B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5EC1-89A6-4E52-9055-70FA7EE61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41F4-902B-4557-9812-31DC42CCA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57EE-85D4-4801-A8AB-6151CEDB3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0C68-0285-4311-8700-EA041B589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1435-F570-4C90-855E-3029E89A4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5972-8B0E-4589-9FD8-CBD29A14C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03680B-DEA4-4F35-9C0E-C9BA2C46286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343080"/>
            <a:ext cx="914400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ойно шеству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в битву за Хри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ярким знамен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оружьем и щи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ю Агн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ржествуя над враг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пришествия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4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тройно шеству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343080"/>
            <a:ext cx="914400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ём все Е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спрянь, песня, Богу моем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й будем ж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ам многие примкн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уть туда, где ре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ей тек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и песни мног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Богу привлек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пришествия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343080"/>
            <a:ext cx="914400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меряя сил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готовим стр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вступить с враг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малым надо в б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ами больше с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м с вражьей сторо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пришествия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343080"/>
            <a:ext cx="914400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ём все Е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спрянь, песня, Богу моем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й будем ж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ам многие примкн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уть туда, где ре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ей тек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и песни мног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Богу привлек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пришествия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343080"/>
            <a:ext cx="914400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ок к нам Госпо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всех руковод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ком нас Сво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обещал хран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аг нас нико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может устраш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пришествия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343080"/>
            <a:ext cx="914400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ём все Е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спрянь, песня, Богу моем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й будем ж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ам многие примкн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уть туда, где ре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ей тек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и песни мног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Богу привлек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пришествия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343080"/>
            <a:ext cx="914400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лаве мы небес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ствовать ид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к высокой че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ваны со Хрис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венец тернов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месте с Ним нес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пришествия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343080"/>
            <a:ext cx="914400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поём все Е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спрянь, песня, Богу моем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й будем ж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ам многие примкн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уть туда, где ре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ей тек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ши песни мног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Богу привлек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пришествия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15:19Z</dcterms:modified>
  <cp:revision>13</cp:revision>
  <dc:subject>Slavic hymnal Гимны веры христиан, hymn 542</dc:subject>
  <dc:title>Стройно шествуем</dc:title>
</cp:coreProperties>
</file>