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9</a:t>
            </a:r>
            <a:r>
              <a:rPr b="1" lang="ru-RU" sz="3600" spc="-1" strike="noStrike">
                <a:solidFill>
                  <a:srgbClr val="ffffff"/>
                </a:solidFill>
                <a:latin typeface="Verdana"/>
              </a:rPr>
              <a:t>	</a:t>
            </a:r>
            <a:r>
              <a:rPr b="1" lang="ru-RU" sz="3600" spc="-1" strike="noStrike">
                <a:solidFill>
                  <a:srgbClr val="ffffff"/>
                </a:solidFill>
                <a:latin typeface="Verdana"/>
              </a:rPr>
              <a:t>Помни, око Его над тобою</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мни, око Его на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изнь так прекрасна к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счастие льётся рек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ть одежда, есть пища, есть 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енствие Он посы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ечный дарует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о рук твоих благослов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ни, око Его — над тоб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мни, око Его на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горе внезапно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зор затуманит слез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друга тогда не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за жизнью твоей наблюд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бя не оставит в бе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олитвы, Он скорбь твою зн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тобой Его око везд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мни, око Его на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тайный ты грех соверш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любишь притворной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в сердце ненависть ц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людей можно скрыть преступ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меть благочестия ви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лько Он наши видит пад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 нас Своим оком гляди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мни, око Его над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безумец, сказал: «Бога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ивался грехом, как вод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ятой ненавидел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я жизнь незаметно промч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 ужасною гостьей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Это может и завтра случи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суд тебя Бог приведёт.</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3:23Z</dcterms:modified>
  <cp:revision>3</cp:revision>
  <dc:subject>Slavic hymnal Гимны веры христиан, hymn 49</dc:subject>
  <dc:title>Помни, око Его над тобою</dc:title>
</cp:coreProperties>
</file>