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91D-3856-4CFE-92C0-94F56E91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3779-C951-4621-A1BE-06192101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35DF-B8DC-4574-8F36-559E2ADF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A55-C7B8-40E0-8D5B-F94CD161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FB5-8E64-4A7C-853F-7519487C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1F6-1E5A-4CED-9CF8-CCB79A19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8BB6-E623-4B63-A1E3-0409FAD9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3DA-60A9-4E9D-9181-86C3A7D6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2A9A-A940-4B2E-A640-A5BA5502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7F3-A981-45FF-ABC0-9439619E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074-5264-4C69-9ABC-9F0DA23E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EEC-98B9-4201-8EE8-9D61496C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7CEF6-95B2-482C-8A65-4FCB3F21F5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чому Бог м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рив Свою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бо чому Спаситель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мене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8   Не знаю, чому Бог мен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як Бог дав м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іння дар прий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ила Його Слова я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є н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 я, як Дух Св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ть в вір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дкриває нам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жественних сл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 я часу, ні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сподь прийде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через смерть, чи Сам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день Він заб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знаю, в Кого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що мене з Христом не розлучи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і насліддя вр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9:43Z</dcterms:modified>
  <cp:revision>12</cp:revision>
  <dc:subject>Slavic hymnal Гимны веры христиан, Ukrainian hymn 48</dc:subject>
  <dc:title>Не знаю, чому Бог мені</dc:title>
</cp:coreProperties>
</file>