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A8C-C792-4516-B43A-80750D35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CE6-E67F-43CB-851A-C5040E13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62A-E5F7-4359-B3CC-A29682BB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70A-A280-4F83-9ACB-9CCE06A3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C56-6BDC-4FEE-B9D9-A6DE599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6C2-7C35-4A0D-882F-68DD5704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41B-9C81-4EE3-ADB6-547B3AC3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0AC-6A65-4404-B9DE-8993FFC7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4AE-4F0C-486D-AD43-42F99740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25E-1854-4177-A1DD-A20EC32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740-F594-4AA7-9DFE-48B83E7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014-EB78-4F70-93A5-36510A8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7F3CE-AEB8-4EAF-9386-D698B87CB6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де один раз Спаситель м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Жертву приніс на вівтар св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олодкий спок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1   Там, де один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як я дивно спасен від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риносив я за гріх ко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кров Ісуса мене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мир прине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, джерело живої в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слови всі мої труд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б мною насаджені 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лідними бу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йте усі з джерел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о ходите шляхом Й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раз заспівайте хвалу Й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з любові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ить всі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мій і серце знайшли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тій крові святі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6:07Z</dcterms:modified>
  <cp:revision>13</cp:revision>
  <dc:subject>Slavic hymnal Гимны веры христиан, Ukrainian hymn 11</dc:subject>
  <dc:title>Там, де один раз Спаситель мій</dc:title>
</cp:coreProperties>
</file>