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6AB-A493-421F-961A-68CE4F79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6E5-2AAF-4A75-87B7-88B3163E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F04-EE34-411A-80A8-44103A3F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A20-7964-469F-8581-0F74DB3F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4815-B20F-448B-A1F7-4BF5E108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A9F-8FA8-42B1-9EFB-8DC49E28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020-DA3C-44F8-BCDB-99254208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BA0-2E6D-47E3-95AE-C7E4090E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34B-9709-4842-83AA-D299CB4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616-C2D2-4B31-82B5-E76021C7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4B2-16CC-4A43-8885-879C9131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FE6-D363-46E5-9B67-F8AFB77F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6109-4E21-498B-92CE-88B33B125B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праведность и кровь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лучшая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осмелимся пред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й суд в конц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ий, страшный,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анет обвинять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, помилован, прощ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веч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ва праве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я верю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чистилище ви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силой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грешник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только грешных, как пе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ах земн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традал за всех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крови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50:09Z</dcterms:modified>
  <cp:revision>12</cp:revision>
  <dc:subject>Slavic hymnal Гимны веры христиан, hymn 884</dc:subject>
  <dc:title>Христова праведность и кровь</dc:title>
</cp:coreProperties>
</file>