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BEA-7F3A-4F46-B3E7-E0CEF1EF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4B0-4617-44A5-AFE3-79A46664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585-1A79-4384-A057-F55F3188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F50-3471-4FDD-A324-52AC519E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976-B9A1-467B-94A0-5A560AE8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2FC-F446-4230-BB91-A291CBF5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B68-8848-4EAF-8873-0051C4F7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9FB-5AAB-4D49-A5AB-5A1B544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F06-F946-48C8-8D76-47DAAC31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C37-BEC2-4F9B-8FBC-4AE74C8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FCC-B473-43EA-8D32-51FEDC9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BF8-5384-45DA-9C37-2BF1422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4D2A8-9DD4-4CD8-ACEE-7038C71CB79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precious than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costly than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beautiful than diamo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I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s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You Are More Pre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14Z</dcterms:modified>
  <cp:revision>10</cp:revision>
  <dc:subject>The Source, song number 339</dc:subject>
  <dc:title>Lord, You Are More Precious</dc:title>
</cp:coreProperties>
</file>