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69C1-8B6D-4D1B-AE7E-287DA15B9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D922-4C50-430F-B584-76268856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6469-0579-4F23-B540-2B932AE60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BB7B-B546-4257-A3B4-A2BB7D416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14C5-0DE4-47FF-8A6F-DC5A34F9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8CBF-B804-496D-A260-D96907CE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24A4-44C3-4416-ADE7-5614E1BD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8106-B666-4EB2-BBE4-5526AE65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425A-3370-4F20-AC57-C9E44CC0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3428-F1CC-4E21-B024-21510494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8640-363E-4D06-9364-9752B2DC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3D78-A0C3-4A6C-A53B-BDB35C1F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1F8AE-1461-4820-89EF-D582A512375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ожих слів не забув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ни несуть тобі спок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Бога серце відкрив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будеш ти ще й завтра 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жливо, вік скінчиться тв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зараз час Христа люб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1   О, Божих слів не забув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світ твоєму серцю дав?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ягар, журбу душі твої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с же щастя обіц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будеш ти ще й завтра 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жливо, вік скінчиться тв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зараз час Христа люб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прийняти хоче всі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р спасіння дає С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скорбних хоче утіш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будеш ти ще й завтра ж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жливо, вік скінчиться тв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зараз час Христа люб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удь з Христом, прийди скор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0:32Z</dcterms:modified>
  <cp:revision>12</cp:revision>
  <dc:subject>Slavic hymnal Гимны веры христиан, Ukrainian hymn 51</dc:subject>
  <dc:title>О, Божих слів не забувай</dc:title>
</cp:coreProperties>
</file>