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51B-30A4-42AC-9C69-C84C5819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CBB-7C3B-4D58-876B-8FF636A8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59B-9B71-46B7-9FA4-45743CAE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C45B-3148-4118-A1BF-6A797B5E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83E-C32C-419C-BD1D-F3969519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B13-DA83-4CDB-A00F-1C69536A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F58-F7D1-4B94-95D9-C07C71BE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430-2A1D-4103-85F6-D059F9FE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4D8-249E-43E6-B450-FD12423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400-C742-466C-894F-554EF5FD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3D8-D99D-4291-8365-6BDF21EE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ECD-8243-42FA-B587-D959A1C2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B8608-EF03-45C4-B01B-8A84D72D8D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ccording to Thy graciou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eek humil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ill I do, my dying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membe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 слову Твоему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ову Твоем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ной про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лись у Тво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, broken for my s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read from Heaven shall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stamental cup I t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remembe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истерзанная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а чашу я б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thsemane can I forg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there Thy conflic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 agony, and bloody sw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remember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имаю взор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умер Ты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поминаю подвиг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помнить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o the cross I turn mine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amb of God, my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remembe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 страданья, Твой за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ч в ночной борьб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етят мне, как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мнил 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these failing lips grow d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ind and memory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shalt in Thy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rememb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омчится жиз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ну в земной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шь на обла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об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8Z</dcterms:modified>
  <cp:revision>13</cp:revision>
  <dc:subject>Slavic hymnal Гимны веры христиан, hymn 729</dc:subject>
  <dc:title>According to Thy Gracious Word / По слову Твоему, Господь</dc:title>
</cp:coreProperties>
</file>