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DBD-C5A4-439C-AC5F-A3211F28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01F-8883-4262-A4CC-8554F0C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417-C1E8-43FF-AA39-4926B9DC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460-9CB6-4239-83C0-3074E944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D83-DFFA-4B02-81F7-20EE59F7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E42-212A-4ACD-B0A5-D488572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4C4-5692-4D39-8C22-9DF311A6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408-7364-4193-A549-09A7D448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E99-1DF9-462E-93CC-587EDEB0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920-3C5A-4A34-BE02-0A46CD79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8F8-035F-4720-A3B4-E7EF646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2B9-3F23-4BA7-8E64-A771949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1D2B3-F021-44F1-8450-7F1AE08032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 all of my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,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va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aid, “I’ll never forsake the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 divine that never can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вете небес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путь мой свер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через хо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ю, Им утеша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рен слову больше, ч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ound me, shadows 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onceal my Saviour and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he Light, in Him is no dar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I’m walking close to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ятся тени, чёрные т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рыть не могут веч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яет свет не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ет сердце, ведё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right sunlight, eve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my way to mansion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 gladly I’m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in sunlight, sunlight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 дух мой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вечной жажду 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стречаю скорб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жу во свете, свет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ly sunlight, heavenly sun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ing my soul with glory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 I am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His praises, Jesus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небесном, в свете чудес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свободна от всяких у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я торжеств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я с песней: «Мой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0Z</dcterms:modified>
  <cp:revision>13</cp:revision>
  <dc:subject>Slavic hymnal Гимны веры христиан, hymn 439</dc:subject>
  <dc:title>Heavenly Sunlight / В свете небесном</dc:title>
</cp:coreProperties>
</file>