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882-5BA5-43D8-B485-8211FF7C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ACA-6330-444C-9B7E-DB4FAADE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7C1-86B3-4916-B9B9-B49DA231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471-65A1-493D-8CD0-615A570B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7A2E-54C7-4732-9444-F924A5B7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156B-8605-442B-9E14-19164B38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70C-C796-4402-8788-4AD47E47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4FA-016C-48BF-95E5-130AA085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C3C-894B-42E7-8262-E43EDA11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23C-6CCA-4A6F-88A3-8CDD46E3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125-9907-4BB2-9D37-4FBB420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28C-95FA-4B34-88A1-77C8A1C6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B0B83-CE24-4BFA-8B5E-1352FECF5F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у я всем жив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мой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 бременем гнету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умир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у я всем жив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истос мой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всем, к Нему идущ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сскажу я всем живу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я не слышу 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уждаю, как ов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находит 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рьбе с грехом был ра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стал и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был скорбью затуман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мне во всём по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мо смерти прохо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зол в пути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ед ними не па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ражу святым ме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ерёт меня з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ять вперёд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наю с Ним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наю с Ним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36Z</dcterms:modified>
  <cp:revision>12</cp:revision>
  <dc:subject>Slavic hymnal Гимны веры христиан, hymn 514</dc:subject>
  <dc:title>Расскажу я всем живущим</dc:title>
</cp:coreProperties>
</file>