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C15-853D-4FB2-B7F2-3CA2FAF7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1166-D72B-447A-BA42-5BF3CBD3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5D3C-813A-4BAF-83F1-7D1C434F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9EEF-AE82-4D89-9588-1923CF62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631-C2F4-4EBD-AA8D-8BDBF340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3EB4-B2EE-46B0-A104-1F36924B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7F7A-41B8-4552-8842-68CF4D02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5DD0-4164-4B7B-BCB8-677D227B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AE11-952F-489C-BA4C-07FAF9EC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A935-D3CF-4BD5-9F6D-2043AAAB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A982-C526-4BB1-9E34-DED45824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9D83-E42C-4D7E-A310-2E9315DD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20653-DEC5-483B-82ED-96D72E2175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ых обителях вечного 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с Спаситель давно ж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Он на пришельцев взи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ангелами встретит у во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и славы Господу, Господу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вечных обител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любимых мы встретим серд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раньше нас ушли 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Агнцу Божию там бескон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хвалы они поют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и славы Господу, Господу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ретенью Бога готовься, спас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остаться вне две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прославить душой восхищ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явления Царя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ённые нас ждут (там нас жду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и славы Господу, Господу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6:38Z</dcterms:modified>
  <cp:revision>12</cp:revision>
  <dc:subject>Slavic hymnal Гимны веры христиан, hymn 657</dc:subject>
  <dc:title>В вечных обителях вечного рая</dc:title>
</cp:coreProperties>
</file>