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113-CB1D-4620-8A07-308A4498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583-E934-4811-A2E7-F24F75CA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67C-81C1-4471-8062-D718E692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213-6D1B-4D13-8129-42921FF0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F38-AF75-4948-9789-F53FC6E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D3C-CFE0-427F-97BF-AC0FD9FA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17D-E126-429E-9581-C52329F0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DD4-EFB8-47DB-9A4C-7B0F678C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BDF-0355-42C5-97E8-E11201DF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2CE-A9CD-4C80-B933-5B2FCEC8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397-19FE-47A0-B50E-B2907E7D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573-E8BD-4B8F-9CAF-8B87B4E9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8256-89F0-449F-ACD0-064FC692B8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от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а мне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е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жертва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лг был уплач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этот дол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ъятна вина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ыкуп от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ой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д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частье, надежд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е и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удел мой земн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тал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т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пи разби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ятся на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е богач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 непо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мне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ртогу 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клю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9:58Z</dcterms:modified>
  <cp:revision>12</cp:revision>
  <dc:subject>Slavic hymnal Гимны веры христиан, hymn 421</dc:subject>
  <dc:title>Не золотом тленным</dc:title>
</cp:coreProperties>
</file>