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D05-7218-4A31-BD78-8D3AA708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EBC-9CB4-4B74-B4A5-08BD8AA4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377-7CAB-4B2E-B316-1AFC00F2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0E6-18F0-4D59-A528-D5BB425C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60F-EF06-44B7-9A57-82B8DF95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8FD-6748-4FB0-94D9-211384E0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3AC-3E06-473A-B483-7866EB4B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113-8FE7-410E-8C6C-33BE54FE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42E-88B6-44A6-8028-7717533C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824-E1D1-4D84-AB05-6CF69A5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A4B-666C-4C3F-80F0-173BCBEF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237-2C0A-4603-AD35-C86028CF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31D0E-6FD7-4045-9119-CF6D88BF8D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И там, где суе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даёт и там нам кровь Хрис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Среди земных забо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адежда на Христа нам мир да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р, пол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Вдали от дороги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Господь их сохранит в путях зем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Хоть будущ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емн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царит, и сила нам да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29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— Хоть смерть вид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руго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Она побеждена давно Хрис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Когда ж придёт конец земной борьб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Христос нас в край небес возьмёт к С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Мир, полный мир! Хоть зло вокруг кипи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о на груди Христовой мир цари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, мир цари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30Z</dcterms:modified>
  <cp:revision>13</cp:revision>
  <dc:subject>Slavic hymnal Гимны веры христиан, hymn 581</dc:subject>
  <dc:title>Мир, полный мир</dc:title>
</cp:coreProperties>
</file>