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2552-9A24-4269-8B5C-00737362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5DB3-39FA-4DD6-A018-CFD477CE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F48E-4046-4202-849A-A453EC8D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4462-8B29-4A12-99FB-F0E212FF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2889-8224-44D0-A2CC-9E789D10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2093-D7C4-43D3-9ABF-2CCF13FE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A883-00E4-4227-8E1D-B2AFC78D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34F0-2FD3-4371-ABFD-D67E647E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2C30-E2BA-44D6-B58D-4E782E00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ED2E-B96C-47F7-A02F-BC31F927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D2A1-102E-4E92-8FBA-787F8352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2D7C-D1BF-428C-9E99-76689980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DFDB4-88EF-4AAD-91EB-19769C280D3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ыльях могучих, орли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морем житейским несу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ыльях могучих, орли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к вечности сердцем стремл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ры, долины и н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выше я к небу леч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ут меня мощные кры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их я спокойно ст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крыльях могуч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мощными крыльями тих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удно покоюся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ими приют мой надёж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ими защита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ьются враги надо мн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целятся злобно в меня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гучи орлиные кры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ими царит тиш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оюсь ли теми крыл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ли надёжно на н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но мне так и отра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китаниях долгих м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сь мне спокоен и яс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менчивый путь через мир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ыльях я чувствую си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крыльями царству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6:25Z</dcterms:modified>
  <cp:revision>12</cp:revision>
  <dc:subject>Slavic hymnal Гимны веры христиан, hymn 584</dc:subject>
  <dc:title>На крыльях могучих, орлиных</dc:title>
</cp:coreProperties>
</file>