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842-8540-42C8-AA37-26F09527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19B-FFE1-41AC-810E-6627F1B8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C1F-E46D-40D3-8988-3DE5B643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682-939D-408D-BD9C-7B6D1515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ADF-7582-4F7F-8218-8EF80622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5FC-C40F-47D7-B88D-003A5B77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ADA-24F3-4B70-B9C7-BCB01A00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D3C-B12A-4D49-9FA8-3AF0FF60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829-587D-427E-B4A9-24408B47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56A-1FB9-410F-976D-130EA3CE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C5A-4E42-4511-9062-83C459FA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D3A-A955-4D7D-9D53-D5A8B2E9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5474A-8ED5-46BB-BD52-9A61C1D8C1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вы налил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ю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шлёт жнецов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вели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еперь их 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е жатвы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 ли, бра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ивы налил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истое з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жать сер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гибнущих ис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их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ому ты бр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у протя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 к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здному вдох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рабо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вы не уй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шь: «Раб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ты войд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истое з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жать сер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гибнущих ис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их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солнце св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сай народ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ы день не до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без снопов ж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Христу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тарайся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ольше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истое зе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жать сер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ныне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ый жатвы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гибнущих ис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их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03Z</dcterms:modified>
  <cp:revision>12</cp:revision>
  <dc:subject>Slavic hymnal Гимны веры христиан, hymn 533</dc:subject>
  <dc:title>Нивы налилися, ожидают нас</dc:title>
</cp:coreProperties>
</file>