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7AEF-7F02-451C-86FD-AEA7327C2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674C-7840-4544-8EFD-AB71EBC3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F3FB-EA00-4C9B-B181-3F4C60D40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FDF9-5DC4-474E-861A-F7191AAC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752C-0F1E-4337-BDC6-9D3A52A0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4821-81FD-4024-A4F4-20A5C3E7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92BE-1D70-497D-B91F-3EEA6B58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0DD2-364F-4754-B14E-84C74585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710F-1BC5-4E78-B247-49750ECC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6DC2-E7D1-415A-A10D-3EF8942E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13A5-E6BA-441A-ACEE-A8E8D029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BDF6-D36B-4DA4-AF1F-0B827DF3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319A2-89D3-414A-BFAB-6AE9AD12213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той день вже близь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нь великий, страш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всі нар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раз стануть перед Су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раття і сестри ро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раття і сестри ро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раття і сестри ро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віки, раз на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2   Так, той день в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той день вже близь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нь великий, страш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всі нар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раз стануть перед Су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ужі з жонами ро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ужі з жонами ро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ужі з жонами ро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віки, раз на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той день вже близь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нь великий, страш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всі нар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раз стануть перед Су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іти з батьками ро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іти з батьками ро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іти з батьками ро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віки, раз на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той день вже близь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нь великий, страш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всі нар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раз стануть перед Су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астирі з стадом ро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астирі з стадом ро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астирі з стадом ро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віки, раз на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той день вже близь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нь великий, страш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всі нар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раз стануть перед Су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тут посіяв, то там пожне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тут посіяв, то там пожне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тут посіяв, то там пожне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віки, раз на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6:56:31Z</dcterms:modified>
  <cp:revision>12</cp:revision>
  <dc:subject>Slavic hymnal Гимны веры христиан, Ukrainian hymn 82</dc:subject>
  <dc:title>Так, той день вже близький</dc:title>
</cp:coreProperties>
</file>