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6036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Great Southland (revised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36036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Your nation, this is Your lan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common future, this shared hop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and of reaping, a land of harves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Your land, this is our ho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6036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great South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Holy Spiri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and of red dust plai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ummer rain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is sunburnt 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seen His lov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is great South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Spirit’s co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Your nation, this is Your lan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and of plenty, this land of hop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ichest harvest is in her people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age to age His Spirit’s co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036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great South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Holy Spiri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and of red dust plai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ummer rain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is sunburnt 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seen His lov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is great South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Spirit’s co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0360" y="828720"/>
            <a:ext cx="953928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Your nation, this is Your lan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“lucky country” of dreams gone dry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all peoples there is a harves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is land His Spirit’s co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great South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Holy Spiri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and of red dust plai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ummer rain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is sunburnt 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seen His lov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is great Southl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Spirit’s co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5:11Z</dcterms:modified>
  <cp:revision>4</cp:revision>
  <dc:subject/>
  <dc:title>The Great Southland (revised) (This Is Your Nation)</dc:title>
</cp:coreProperties>
</file>