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F9DB-4096-4719-A2F7-F7A02B437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C421-B5AE-481D-8107-8D7C4F730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6586-7EE6-45CC-BE37-AB7DBB6CA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1485-40E1-43AA-97D7-086266199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42DC-C20B-4944-A863-8AB5FD417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0DDA-F9C8-42EF-A677-3EF2DF80E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8E32-B050-4D44-ADFA-575D3C4A9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8069-EBCE-43F0-9B4E-C292E13CE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9675-49A9-45B0-847D-69C00810D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EFE7-ED4A-48F8-AB1E-CB314800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5049-FE4C-41F5-A6BE-67F2E983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793F-490D-40F5-A1A7-0C7A69D9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5C0FAA-6D8A-403E-A264-FB190EDC1C2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Цей світ нам каже, що користі нема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ужить Ісусу, коли ми молоді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е ми знаєм, напевно ми знає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ми нагороду дістаним від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е ми знаєм, напевно ми знає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ми нагороду дістаним від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04   Цей світ нам каж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10:43:30Z</dcterms:modified>
  <cp:revision>12</cp:revision>
  <dc:subject>Slavic hymnal Гимны веры христиан, Ukrainian hymn 104</dc:subject>
  <dc:title>Цей світ нам каже</dc:title>
</cp:coreProperties>
</file>