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F5F9-6E88-4498-92C3-741F3417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D17B-6BED-4629-AB2D-E20E2378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1F7-A1F7-4A23-AA31-E126B99E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2BB8-3A01-4F89-83B8-9F6E77A9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FBD-F69B-4694-A4C7-39373A38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2EE0-5828-425E-9E68-9FD19530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C4A7-6CE7-456F-A37B-B72CEC3C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5C73-EB19-4B11-AEDB-9A931427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DA18-9A58-4258-8121-12938471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739-130F-4208-9071-7ABC4790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81B4-BD4D-4C20-9409-0438EC30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531D-A5C7-4837-85C3-650B1C9B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25E31-B3FC-4CD4-ACB4-B0B0CE63206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have longed for sweet pe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for faith to increa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ve earnestly, fervently pray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you cannot have r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r be perfectly bl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Until all on the altar is l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покое вздых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покое вздыхал, больше веры жел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сердечно, усердно прос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забыл, что лишь тот мир и радость найд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здесь всё на алтарь возлож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your all on the altar of sacrifice la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r heart does the Spirit contr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can only be bl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ve peace and sweet r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you yield Him your body and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ложил ли ты всё на Господень алтар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т в блаженство вошёл, мир и радость нашё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walk with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light of His 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ve peace and contentment alway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must do His sweet wi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be free from all i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the altar your all you must 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ы с Господом жить, в свете слова ход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ердце Духа иметь вечный да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ужно волю Его ставить выше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себя возложить на алт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your all on the altar of sacrifice la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r heart does the Spirit contr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can only be bl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ve peace and sweet r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you yield Him your body and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ложил ли ты всё на Господень алтар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т в блаженство вошёл, мир и радость нашё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we never can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the Lord will best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the blessings for which we have pray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ll our body and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doth fully contro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our all on the altar is l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жьих тайн не поймём, в Божи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войд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ударом постигнет уда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сли зренье и слух, если тело и 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возложим на Божий алт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your all on the altar of sacrifice la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r heart does the Spirit contr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can only be bl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ve peace and sweet r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you yield Him your body and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ложил ли ты всё на Господень алтар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т в блаженство вошёл, мир и радость нашё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o can tell all the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send from ab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ow happy our hearts will be mad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the fellowship sw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shall share at His fe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our all on the altar is l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опишет любовь, кто оценит покр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измерит источники с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даёт Бог тому, кто послушен Е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себя на алтарь возложи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your all on the altar of sacrifice la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r heart does the Spirit contr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can only be bl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ve peace and sweet r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you yield Him your body and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ложил ли ты всё на Господень алтар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ух ли Божий владеет тоб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т в блаженство вошёл, мир и радость нашё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отдался Христу всей ду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00Z</dcterms:modified>
  <cp:revision>14</cp:revision>
  <dc:subject>Slavic hymnal Гимны веры христиан, hymn 497</dc:subject>
  <dc:title>Is Your All on the Altar? / О покое вздыхал</dc:title>
</cp:coreProperties>
</file>