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B7F-65C5-46A8-9AA4-1136943D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459-2862-4A9D-BC2B-031DB612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581-2DA1-4FDB-B7A8-92A97C25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E89-E4B7-49A2-A16A-37D56E10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BBB-27D9-43C3-BB7D-2A8BDD77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B3D-93C5-41B5-8080-949B413A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3D1-5056-4DAF-ADA9-0845B988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6A9-DC13-4FD4-8522-F005D442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A09-3D29-4FE0-8DF5-EC897C0F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2E6-EA65-4213-BB56-7005F33E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BC9-AE54-4D41-9C50-DF3B1902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FDD-C34E-44A3-A592-FCC2530E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DBAAA-4A9B-4397-A1E4-C165F4558D1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 with a grateful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 to the Hol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 because He’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, His Son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let the weak say, “I am strong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poor say, “I am rich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what the Lord has done for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 tha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Give T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4:59Z</dcterms:modified>
  <cp:revision>9</cp:revision>
  <dc:subject>The Source, song number 118</dc:subject>
  <dc:title>Give Thanks With a Grateful Heart</dc:title>
</cp:coreProperties>
</file>