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125-9063-4D93-B394-3715280E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E23-70DA-456A-9E9A-500847DF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AEB-97A5-445A-A3AD-1FA8FDCB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CB9-62BE-45C1-AC0F-9C5D77F4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5B2-3E80-48E2-BC50-52D2D3EF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246-E9C4-41AD-AF2B-6451E668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281-B9E0-4DA6-A48A-C7590E6A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4C9-7F25-460F-B097-03D5D266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B94-36BF-4442-A4F9-1EA0905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701-1A03-4EE9-B9F7-CAA406FC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D8D-E68F-4E4E-AB07-64052C71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1EB-A4AC-4C01-BE98-8826FE8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F875-2287-4ABC-99FB-22AB24AA8C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принял я кре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ю дан святой об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ыть в со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блюсти свято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и ж моё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Тебя, о мой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стоянное ста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озбуждать, смирять же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ое принял я крещ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Христос, в Твоё стяж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тело, душу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твергни обещ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навек к Тебе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длани, где Христов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исан к вечной жизни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е здесь меня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душа придё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47Z</dcterms:modified>
  <cp:revision>12</cp:revision>
  <dc:subject>Slavic hymnal Гимны веры христиан, hymn 722</dc:subject>
  <dc:title>Святое принял я крещенье</dc:title>
</cp:coreProperties>
</file>