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25</a:t>
            </a:r>
            <a:r>
              <a:rPr b="1" lang="ru-RU" sz="3600" spc="-1" strike="noStrike">
                <a:solidFill>
                  <a:srgbClr val="ffffff"/>
                </a:solidFill>
                <a:latin typeface="Verdana"/>
              </a:rPr>
              <a:t>	</a:t>
            </a:r>
            <a:r>
              <a:rPr b="1" lang="ru-RU" sz="3600" spc="-1" strike="noStrike">
                <a:solidFill>
                  <a:srgbClr val="ffffff"/>
                </a:solidFill>
                <a:latin typeface="Verdana"/>
              </a:rPr>
              <a:t>Честь Тебе, Спаситель</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Честь Тебе, Спаситель, слав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Ты смертию Св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л мне радостное прав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ыть средь Божиих дет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есть Тебе, Спаситель, слав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Ты смертию Св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л мне радостное прав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ыть средь Божиих детей.</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Долго я искал упор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р, о Боге позабы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ишь со дня, когда покор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поверил, — я счастли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есть Тебе, Спаситель, слав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Ты смертию Св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л мне радостное прав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ыть средь Божиих детей.</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И с тех пор я полага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ю надежду на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сти радостной внима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есу во все ме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есть Тебе, Спаситель, слав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Ты смертию Св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л мне радостное прав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ыть средь Божиих детей.</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Твой, Спаситель, навсегда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й слуга, Твоя ов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й, живя иль умира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й я вечно, без кон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есть Тебе, Спаситель, слав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Ты смертию Св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л мне радостное прав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ыть средь Божиих детей.</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Ты, как Пастырь, ежечас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ведёшь меня вперё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царство милости всевласт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жизни вечной, в мир красо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есть Тебе, Спаситель, слав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Ты смертию Св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л мне радостное прав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ыть средь Божиих детей.</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6.</a:t>
            </a:r>
            <a:r>
              <a:rPr b="0" lang="ru-RU" sz="3200" spc="-1" strike="noStrike">
                <a:solidFill>
                  <a:srgbClr val="ffffff"/>
                </a:solidFill>
                <a:latin typeface="Verdana"/>
              </a:rPr>
              <a:t>	</a:t>
            </a:r>
            <a:r>
              <a:rPr b="0" lang="ru-RU" sz="3200" spc="-1" strike="noStrike">
                <a:solidFill>
                  <a:srgbClr val="ffffff"/>
                </a:solidFill>
                <a:latin typeface="Verdana"/>
              </a:rPr>
              <a:t>Честь Тебе, Спаситель див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Твой подвиг на крес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за зов Твой непрерыв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светлой, славной высо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есть Тебе, Спаситель, слав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Ты смертию Св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л мне радостное прав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ыть средь Божиих детей.</a:t>
            </a:r>
            <a:endParaRPr b="0" lang="en-US" sz="3200" spc="-1" strike="noStrike">
              <a:solidFill>
                <a:srgbClr val="000000"/>
              </a:solidFill>
              <a:latin typeface="Verdana"/>
            </a:endParaRPr>
          </a:p>
        </p:txBody>
      </p:sp>
      <p:sp>
        <p:nvSpPr>
          <p:cNvPr id="4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08:37:52Z</dcterms:modified>
  <cp:revision>3</cp:revision>
  <dc:subject>Slavic hymnal Гимны веры христиан, hymn 125</dc:subject>
  <dc:title>Честь Тебе, Спаситель, слава</dc:title>
</cp:coreProperties>
</file>