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6C9-103E-4E22-9E6A-EA00ED2A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A9D-4665-4889-957F-2AD32DF2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A2D-390B-493B-B75E-FD9DD5C3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D4C-4902-4E57-A12E-0C470F97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5FD-BCD8-4EE2-8E88-9C7DD9E0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359-968A-4F5E-8A5B-7D608A15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6E3-C760-488D-A132-B075DBF7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221-F32F-4C7D-A5C0-1C6668B2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E33-D751-4BAC-AF00-5868B8D1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37F-89B4-47CC-A741-A266B655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819-AD32-49BB-880B-F46EE7E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62F-353F-4F23-B52E-781484B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863E6-FFA1-4152-92DE-3F71BD451B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Мне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одной покинул к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страждет и да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уныло и тем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ын Мой, сердце Мне отд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динок ты, тёмен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где сердцу отдох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лучи любви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согреют горде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ло, радостно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отдаст Мне жизнь с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тяжко од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жизненном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юбил того, кто бы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воей души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Отца ты не 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рчал Его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Мне своё от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раздельно, целик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й верой ты призн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любящим Отц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Господу отд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х дней не ожид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годня да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изыв протекших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, сердце (Мне)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15Z</dcterms:modified>
  <cp:revision>12</cp:revision>
  <dc:subject>Slavic hymnal Гимны веры христиан, hymn 392</dc:subject>
  <dc:title>Сын Мой, сердце Мне отдай</dc:title>
</cp:coreProperties>
</file>