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7E4D-202D-416E-914D-3A8C81FC7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8D3A-74B2-4713-9434-6582BE0F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AC89-60E5-496C-90F5-9B2AC9116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7CE9-9C45-4B75-AFD1-F1FF11DE1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349F-231D-49E5-8C9A-20C0ABC9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D3C9-47AF-465A-BA79-E9B8E5BF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0B8A-9258-4386-91E6-C4F7E1BC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AEC5-0572-4539-9392-4E57548B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A437-ED71-41A1-AEB6-3FA64B23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6A7F-FD11-469B-A3D9-4358A067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08BE-A6F5-4142-AF0A-52BF801A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3C36-48D0-4A68-8AC6-4B4645DF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C77CF-3266-4357-BA43-90B0ECDAA9B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стрым орлом я хотел бы лет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у подняться, Христа уви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очему-то тревожной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могу вознестись над землё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м хотел бы я быть пред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обольщений греховных далё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не знаю: зачем же по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к бессильному сердцу пор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ыстрым орлом я хотел б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ом Твоим я хотел бы си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на земле для людей маяк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очему-то могу лишь мерц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хой лучиной, бегущим луч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зачем я не столько бог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хотел бы, чтоб кротким я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гордился средь Божиих ч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я ближе к Предвечному 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2:06Z</dcterms:modified>
  <cp:revision>12</cp:revision>
  <dc:subject>Slavic hymnal Гимны веры христиан, hymn 465</dc:subject>
  <dc:title>Быстрым орлом я хотел бы летать</dc:title>
</cp:coreProperties>
</file>