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842-A60A-4E27-AD45-458024B0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E63-BF1E-43B3-BF54-2A49D9B1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ED3-39C9-47E9-BCDC-A8BDC129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3F0-D8A2-45AC-A8EA-8EF4CC88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6B6-5BAD-4023-B41B-CD8E450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66D-44AE-4D5A-82DA-7298CF6D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875-C0E0-48E5-9B9E-F2289052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DA3-A4E1-4399-94C6-F5BC2E63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38B-657A-48D8-BDFA-64E40E9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7198-C53C-4CD7-ABC9-2C898EF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379-7566-45CD-A8E7-3B24AEC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B92-4191-4E8A-A605-40FA922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A7099-B0C8-4CBA-A468-880B8C8544C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you fear the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the conflict w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dark without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er still with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your faith grow fa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use you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r prayers un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your God ab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you go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naught of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ing in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r the darkened wind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wide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 little sunshin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5Z</dcterms:modified>
  <cp:revision>13</cp:revision>
  <dc:subject>Slavic hymnal Гимны веры христиан, hymn 397</dc:subject>
  <dc:title>Let the Sunshine In / Хочет всех людей Господь благословить</dc:title>
</cp:coreProperties>
</file>