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DE0-B803-4D20-9B0D-0030C50D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301-7CDF-40C9-9B83-4BC1FABC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F00-1B01-490C-A3E0-A4E230E4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0EC-24E5-4E4C-82C7-A6877194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C2C-9B93-4844-B15B-1DF51799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D3A-63F4-4B63-8C3E-3B8B5B96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89D-D333-4195-AEF5-D4E5C8CB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54C-87D2-41F7-A802-D2CEC7A5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A97-93E0-4977-AE7C-B5646A92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653-1BAE-43BC-8029-21ED6222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D5A-96AB-4D6D-8DE7-50E21688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9B1-B724-49FD-B90B-ED24759A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792B3-BD85-444A-B459-845B338A88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жизни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о светлых надеж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шло много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обою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Иисусе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на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Нему обращ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в жизни т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теб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даст мир,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ь, что Он дас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в с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рустные 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ую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дух возмущ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люд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частья ты прос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стя и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в молитве на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теб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даст мир,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ь, что Он дас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в с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тяжком тр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мученный п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ваясь и по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ю,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 и вспом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 нас Он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слушен От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теб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даст мир,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ь, что Он дас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в с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15Z</dcterms:modified>
  <cp:revision>12</cp:revision>
  <dc:subject>Slavic hymnal Гимны веры христиан, hymn 516</dc:subject>
  <dc:title>Если в жизни твоей</dc:title>
</cp:coreProperties>
</file>