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071-036E-4311-B761-4EFB9115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968-0B6A-4EFB-AF3F-9A8EBF09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11E-E1EC-47BA-95BC-EDD30F48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155-8D40-4FC8-A3B0-70CA4917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2B8-BAA9-4C9B-B1F7-8EF01783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2A3-8685-41A7-8785-3F9A72F0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DC0-ADAC-453A-A129-B82FBC55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57F-90DE-462B-B055-CAA57168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CCE-8A0B-41BA-B0D2-83E605F4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20A-7898-4C96-86F8-2AD8B11E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0D6-8456-445B-94DD-43B4BB25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916D-4A46-492C-A971-B8B2DF1A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875F9-F07A-4628-85B0-8306A0878A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put this song into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put this song into our hea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 song of joy no one can tak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put this song into our he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live in harm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live in harm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fferent faces, different ra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made us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live in harm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 Put This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be a fami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be a fami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ing one another with the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g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aught us how to be a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urned our sorrow into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urned our sorrow into danc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d our tears of sadness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vers of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turned our sorrow into a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5:47Z</dcterms:modified>
  <cp:revision>10</cp:revision>
  <dc:subject>The Source, song number 292</dc:subject>
  <dc:title>Jesus Put This Song Into Our Hearts</dc:title>
</cp:coreProperties>
</file>