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454-BDB1-4FAD-8BFC-4049FF29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8FA-5434-48A4-8AE5-0F522E2C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21B-7E05-4C37-9C12-D91A172D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859-E7C6-4A54-9D1B-54D25C20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550-04D6-47C1-B94D-3DC646C1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614-E42D-4E7D-8102-B8C46F1C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C40-7F58-4C96-88F3-CF4983CB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F37-7D33-4C5D-AF43-1173DD3C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972-82E3-4FE3-988E-7CD47A1E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87F-49EA-409D-8405-2A56784B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CA5-F317-40F6-9103-A6E01D23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D4E-7D86-46DE-A62A-B4632CF5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948B1-1980-4256-A8E1-9CE4A984F3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ы медлишь на грешн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 зов Иисуса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ты не хочешь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есценный, Его благо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40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Агнца святого взгля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страдал без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шу скорби до дна Он исп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я от суда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вяти же Ему жизни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мерно счастлив будеш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святая омоет весь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лее ты станешь, чем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в объятья Хри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теперь, спеши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ночь настигне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25:05Z</dcterms:modified>
  <cp:revision>12</cp:revision>
  <dc:subject>Slavic hymnal Гимны веры христиан, hymn 400</dc:subject>
  <dc:title>Что ты медлишь на грешном пути?</dc:title>
</cp:coreProperties>
</file>