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69D-1A96-4959-B450-7F65B536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8A9-4248-40E3-AA79-4C3B7E1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A06-8FD9-4E30-9F50-6B016908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A50-DA5D-4C15-A7E0-F58B9B7A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1D8-691C-468D-98FD-49919C9F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4C6-8BE3-4035-8705-EE531FE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0CD-DBB1-4FBE-AC41-F20080BF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EDC-4393-44B4-A0E1-BF1D3BB6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FAC-6C57-4A96-B9A1-F0FA99DD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689-FDFA-4EC4-BA32-E4E1E18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4A7-638E-40E8-901D-0A77DD6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5AB-9D3A-4923-8548-02B53A7B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4B90-C5DD-4C7F-BDBF-27B53B2554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friend for sin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ver of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may fail me, foes assai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aviour, makes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— Друг одино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Друг одино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, немощных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наш может стать далёк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Иисус нам всех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strength in weak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hide myself in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, tried and sometimes fai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strength, my victory w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бессильных креп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ваемся м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т нас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победу над вра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a help in sorr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billows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heart is brea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Comfort, helps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омощник скоры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ет Свой нар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, в скорби, в лютом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What a guide and keep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tempest still i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orms about me, night o’ertak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my pilot, hears my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Путе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и и л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, в бурю, в тёмных дебр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 наши гол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ng, helping, keeping, l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Друг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радует серд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нас, хранит, спас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с нами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I do now recei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than all in Him I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granted me forgive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нас, грешных, 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мир наш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л, дал Своё им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народ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39Z</dcterms:modified>
  <cp:revision>12</cp:revision>
  <dc:subject>Slavic hymnal Гимны веры христиан, hymn 883</dc:subject>
  <dc:title>Our Great Saviour (Hallelujah, What a Saviour!) / Иисус — Друг одиноких</dc:title>
</cp:coreProperties>
</file>