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20</a:t>
            </a:r>
            <a:r>
              <a:rPr b="1" lang="ru-RU" sz="3600" spc="-1" strike="noStrike">
                <a:solidFill>
                  <a:srgbClr val="ffffff"/>
                </a:solidFill>
                <a:latin typeface="Verdana"/>
              </a:rPr>
              <a:t>	</a:t>
            </a:r>
            <a:r>
              <a:rPr b="1" lang="ru-RU" sz="3600" spc="-1" strike="noStrike">
                <a:solidFill>
                  <a:srgbClr val="ffffff"/>
                </a:solidFill>
                <a:latin typeface="Verdana"/>
              </a:rPr>
              <a:t>Зажги сердце моё</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жги сердце моё,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Зажги Духом Святым с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обужденье пошли в моё сердц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Жажду к душам погибающих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еснь хваленья, песн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петь Христу, Царю ца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еснь хваленья, песнь спа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Буду петь Царю царей!</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1:26Z</dcterms:modified>
  <cp:revision>3</cp:revision>
  <dc:subject>Slavic hymnal Гимны веры христиан, chorus 20</dc:subject>
  <dc:title>Зажги сердце моё</dc:title>
</cp:coreProperties>
</file>