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6</a:t>
            </a:r>
            <a:r>
              <a:rPr b="1" lang="ru-RU" sz="3600" spc="-1" strike="noStrike">
                <a:solidFill>
                  <a:srgbClr val="ffffff"/>
                </a:solidFill>
                <a:latin typeface="Verdana"/>
              </a:rPr>
              <a:t>	</a:t>
            </a:r>
            <a:r>
              <a:rPr b="1" lang="ru-RU" sz="3600" spc="-1" strike="noStrike">
                <a:solidFill>
                  <a:srgbClr val="ffffff"/>
                </a:solidFill>
                <a:latin typeface="Verdana"/>
              </a:rPr>
              <a:t>Блаженны омытые</a:t>
            </a:r>
            <a:endParaRPr b="0" lang="en-US" sz="3600" spc="-1" strike="noStrike">
              <a:solidFill>
                <a:srgbClr val="000000"/>
              </a:solidFill>
              <a:latin typeface="Verdana"/>
            </a:endParaRPr>
          </a:p>
        </p:txBody>
      </p:sp>
      <p:sp>
        <p:nvSpPr>
          <p:cNvPr id="39" name=""/>
          <p:cNvSpPr/>
          <p:nvPr/>
        </p:nvSpPr>
        <p:spPr>
          <a:xfrm>
            <a:off x="17928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лаженны омытые кровью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едшие мир у подножья кре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язвы греха я избавлен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 ног Твоих вечный нашёл я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пойте любовь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изречён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ать всесиль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Христ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7928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лаженство искупленных, мой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Христо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знаю я мук осужденья и слё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ённый Тобою, Тебя я п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бесконечную, благость Тв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пойте любовь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изречён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ать всесиль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Христа!</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лаженны спасённые смертью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слёзы отёр Он с лица мо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данья души моей Он исцел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ердце усталое Он ожив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пойте любовь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изречён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ать всесиль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Христа!</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179280" y="828720"/>
            <a:ext cx="98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Господь мой распятый, мой Цар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и мо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если б служить Тебе верно я м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час смерти Ты будешь победой м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держишь любовью всесильной Т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пойте любовь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изречён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ать всесиль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Христа!</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6T03:07:18Z</dcterms:modified>
  <cp:revision>3</cp:revision>
  <dc:subject>Slavic hymnal Гимны веры христиан, hymn 26</dc:subject>
  <dc:title>Блаженны омытые кровью Христа</dc:title>
</cp:coreProperties>
</file>