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6A8-DD24-4BBD-BE64-AE10A599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5EA-549A-4D20-8377-C8CE1556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C58-8A17-409F-A540-E7B817BC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407-AEE3-48E3-B28D-57703664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865-DF38-468A-941E-35A140C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14E-EFC7-4AB3-A134-76552206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7A2-1B16-4683-BA29-49090B74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3D4-6CF5-44B3-8627-AEDAF4A6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ACE-3728-4B1C-BF4F-C9891628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DF2-2243-412A-9D54-6FFAAA29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C78-0A9F-419B-866B-9D04946C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8CD-C19C-4E03-9F91-246EB8FF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E5C91-DE68-40EE-B2F7-472FAC0141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, радость непрест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leading, let us fol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cling to Him each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otects from tribul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lead us all th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ам ведёт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на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анит от бед и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внемлет Он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пойдё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льнуть к рука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 бременем сур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пасть нам бе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footsteps we are w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ing in His mighty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otect from dangers stal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liver us from h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the joy that faith can bring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, our cups are overr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keep our joy in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wing in us like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ры, жизнь даю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, как солнце, в нас г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грешных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благ Он н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ous, joyous, without cea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us shed our light ab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we ever show to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joy we have fro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2Z</dcterms:modified>
  <cp:revision>15</cp:revision>
  <dc:subject>Slavic hymnal Гимны веры христиан, hymn 567</dc:subject>
  <dc:title>Joyous, Joyous, Without Ceasing / Радость, радость непрестанно</dc:title>
</cp:coreProperties>
</file>