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91</a:t>
            </a:r>
            <a:r>
              <a:rPr b="1" lang="ru-RU" sz="3600" spc="-1" strike="noStrike">
                <a:solidFill>
                  <a:srgbClr val="ffffff"/>
                </a:solidFill>
                <a:latin typeface="Verdana"/>
              </a:rPr>
              <a:t>	</a:t>
            </a:r>
            <a:r>
              <a:rPr b="1" lang="ru-RU" sz="3600" spc="-1" strike="noStrike">
                <a:solidFill>
                  <a:srgbClr val="ffffff"/>
                </a:solidFill>
                <a:latin typeface="Verdana"/>
              </a:rPr>
              <a:t>Господь, душа внимат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душа внимать гот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слух и очи мне отк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ть правду Божья сл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видеть свет чудесный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в душу слова разум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в нём земных скорбей забвень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Здесь все мы чада заблужд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все греха объяты ть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нас светом откро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росветит Твой Дух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ие мысли и жел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бро Твоё, Господь, даянь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ы Свет от Света, Бог предвеч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динородный Бога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ять слову с верою сердеч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ожешь силу дать Од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прими моё мо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й Себя мне в утешенье.</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7:32Z</dcterms:modified>
  <cp:revision>3</cp:revision>
  <dc:subject>Slavic hymnal Гимны веры христиан, hymn 91</dc:subject>
  <dc:title>Господь, душа внимать готова</dc:title>
</cp:coreProperties>
</file>