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593-EED7-4292-8307-AB0D9399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759-2A6A-4C6D-BDFD-F4A440B1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364-E93E-4A53-9DAE-B2F9AA15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251-B454-49CA-BE54-051B6D57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337-A3FE-423A-94E6-5C737C87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953-D3EF-4E9D-8DD9-3BCDD8A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176-9B8A-471D-A3B4-33D65DCE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B16-BEBA-482E-9772-ACEDAC4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2CA-E3FE-4A36-B403-757290B7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315-936F-42B7-BEC4-1C20359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350-1D6E-443A-9235-719687C7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85C-FC46-418B-A7E8-6AA13CC3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BDF80-7878-42FF-B22E-4C58AA36E8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на небе си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была светла, ти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сять дев беспечно с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я Жени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ни в руках им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ая светильник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ла взять не захо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вёзды на небе сия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раздался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ий клич: «Жених идё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лашатый полном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робужденью все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ять разумных пробуд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 пламя поправл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прежде, засвет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ветильники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— несчас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сло покупать пошл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шёл Жених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ые на пир в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зумные при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видят дев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ёма не нахо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крыт навек для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3:56Z</dcterms:modified>
  <cp:revision>12</cp:revision>
  <dc:subject>Slavic hymnal Гимны веры христиан, hymn 318</dc:subject>
  <dc:title>Звёзды на небе сияли</dc:title>
</cp:coreProperties>
</file>