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738-A457-4FF4-BA41-E857A9D2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ECB-4765-4984-A05A-C8B27A86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F59-B4B4-4C5C-A088-5E9262F6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1DA-C47E-4CBC-A84D-54A8ACBA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754-5F15-4AE6-B853-F9D9BA22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8E4-C3A3-4116-A315-7BE7FC7F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2C4-1676-42D8-8B01-57107C27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DAC-575C-4371-AC2C-643F37DD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1D0-940E-497A-90E6-3D3C1D3F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74C-C6DC-4142-8AC6-BF34478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2FA-99DC-469E-AC5E-13C74B3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062-4504-4CAC-A92F-C97C727D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5BD28-8EE2-458B-A0D6-496EC3D390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а, любви торж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приглашён был давн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призыва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 же на путь в ту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решника с радостью ж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имет тебя т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ст благодат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 обитель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подобной ей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нет ни палящего з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ури, ни скорби, ни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ьоны спасённых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ками и ветвями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там в соглась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азарь, страдалец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ненный в жизненном б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нят, как гость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обитель пок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мыслить о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, средь житейского ст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и, Боже,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29Z</dcterms:modified>
  <cp:revision>12</cp:revision>
  <dc:subject>Slavic hymnal Гимны веры христиан, hymn 658</dc:subject>
  <dc:title>Я знаю обитель покоя</dc:title>
</cp:coreProperties>
</file>