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714-D71F-4859-9C7C-7FDC9284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AB1-ADFC-4B03-ABF1-A8336F4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7E1-65E9-4645-8CB1-D56AA78D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42D-C046-4FDF-BE0F-136BAD9C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F8F-8F87-4372-9E02-2EEF19B9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A85-52E3-4E1A-9A2A-CE74F2F9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B46-8406-4D7B-B0BD-F05115C1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83C-60EF-431A-9D46-159F967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670-A37E-49B1-B5E2-2EB8296E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6F6-9F0E-4E4F-9CEE-7AE353A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25A-6C9A-4D70-B175-882108D1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73BE-5E55-4E31-8F78-2DE0FA15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ECA56-84E1-4A79-976E-7F857580E0D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Христа на крес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покой обретёт в полн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, посмо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, весь мир воз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традал на кресте за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6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то поднимет свой вз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избавил тебя от грозы и с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л Он тебя навсе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ла смерти! Где жало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быт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озный ад! Где победа тв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спросветная тьма над твоею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традания жажды п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лучами гор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сточник в Нём правды со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тобой беззако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тяжесть яр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снит тебя жизнь, как тюрь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взгляни н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вой грех Он в скорб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вободы твоей Он в цеп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!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глянь на раны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терновый ве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знай, как в любви Он выс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зачем же в т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кровенных оч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ье бывает иль стр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взглянь на Христа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адеждой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лучишь ты дар доро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13:46Z</dcterms:modified>
  <cp:revision>12</cp:revision>
  <dc:subject>Slavic hymnal Гимны веры христиан, hymn 360</dc:subject>
  <dc:title>Кто поднимет свой взор на Христа</dc:title>
</cp:coreProperties>
</file>