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A4A3-135A-4534-B944-C675C6624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D28E-0195-4435-ABB8-D9E7DB2E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8DEF-2CF6-4CAA-ABE3-C39755F9E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1A17-BC2C-4F24-B7F3-9A5F55E5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B5B9-5F2D-47F3-A8B3-6543283C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16F6-E526-4A1A-834D-7152B575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095B-976F-4CDF-94AF-AF689D65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4DBF-5A7E-4653-92AF-B5C6E502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71E0-4DB9-477F-93A9-26603CE4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8767-7123-41DD-BD2A-0A4DCE1C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D1FC-5C88-481D-98C1-EBDC62EE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F25F-8AA8-4BFF-AF97-B6333300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8C049-312C-4655-A280-DB7DB037480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чёт ли жизнь мирно, подобно ре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усь ли на грозных волн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ое время, вблизи, вдале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 мной (Ты со мной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Господь (да, Господ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ечёт ли жизнь мир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вражьи нападки, ни тяжесть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клонят меня позаб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ог мой меня из пучины стра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восхотел искуп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 мной (Ты со мной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Господь (да, Господ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 мире сравнится с усладой та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рех весь, как есть целик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кресту пригвождён и я кровью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 всесильным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 мной (Ты со мной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Господь (да, Господ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ердца скажу: для меня жизн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ём мой всесильный опл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ы от греха, искушений и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меня Он любовно сотр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 мной (Ты со мной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Господь (да, Господ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воего я пришествия ж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ь мою душу гр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тогда лишь я сердцу най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й у Тебя на гру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 мной (Ты со мной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Господь (да, Господ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18T21:24:10Z</dcterms:modified>
  <cp:revision>12</cp:revision>
  <dc:subject>Slavic hymnal Гимны веры христиан, hymn 817</dc:subject>
  <dc:title>Течёт ли жизнь мирно, подобно реке</dc:title>
</cp:coreProperties>
</file>