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1D7-DC96-4A92-9F71-AC8E4AEF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2B5-0946-4963-89FE-FE7867F4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877-A737-423E-B017-8A48AC99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A86-2700-44CF-A52E-5AF9B04D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F34-9694-460A-8E69-95E3FE74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7F8-512C-4316-A599-B3A4AAAC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F74-0A5C-4D88-A75A-D3E20CCA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0A8-2013-4F46-A5FD-DC06CAEB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4CA-CB64-4E2C-8EFA-F3305966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83F-D2AC-448F-86E2-F5AFF691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0C0-B321-4D09-8344-FC8E3439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316-3805-4D52-86A8-F6681223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C5D40-D841-492F-967E-B5F5AFD50A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Господній ді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там Хрис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икуплени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люблю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 церкву ― храм жив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Її боронить Дух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горя ― бурев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4   Люблю Господній ді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церкву я мо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 всіх її ді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я церков і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люблену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ажаю, брат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віку бути в 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помогти в порі сумн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еста нести ї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ю, що р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Господа ми йд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вірю, вірю, що бу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ати перед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7:11Z</dcterms:modified>
  <cp:revision>13</cp:revision>
  <dc:subject>Slavic hymnal Гимны веры христиан, Ukrainian hymn 14</dc:subject>
  <dc:title>Люблю Господній дім</dc:title>
</cp:coreProperties>
</file>