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3606-EF5F-4F27-8F2D-F77988E37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26F1-A48C-42BB-8F21-ABA6CD60E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CD5F-346F-44A3-8A3F-8B1236B0B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1591-6DE9-4DA9-A777-6C9D6C7EB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F79B-7E0B-48BA-BDB0-36A0EFC26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6A57-59D6-4FBB-A2EB-ECE4C7904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A450-0534-4EA3-9BF0-C8425CC81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D144-C2B7-44D7-AAAD-77D11BCC4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8271-14E9-48C3-85DA-DD07B0D41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6186-02EA-4514-8234-A4DCE795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EA2B-A532-4CE6-ADA5-E6875A1D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4B8E-1968-45EB-A9D2-A0AF24CB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815EFA-5935-4948-BA51-BF89956504B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кресшему служ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 нами во все дн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ю любовь дар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Он возрод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я вижу рук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я слышу гл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тьме ночной Он со 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яки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8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скресшему служу 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овек жи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т со мной, даёт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ёт меня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е соверш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ите знать живёт Он гд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ёт Он и во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круг себя я виж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ю доброт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м скорби ко мне бли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м ближе я к Хрис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бури и смят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ый дом ве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в славный час Он всех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ебе возьм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овек жи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т со мной, даёт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ёт меня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е соверш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ите знать живёт Он гд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ёт Он и во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, христиа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ысьте голос св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Господом предстан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сельем и хвал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а удручённ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ора в час невзг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жизнь дарит и хран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овек жи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т со мной, даёт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ёт меня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е соверш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ите знать живёт Он гд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ёт Он и во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09:17Z</dcterms:modified>
  <cp:revision>12</cp:revision>
  <dc:subject>Slavic hymnal Гимны веры христиан, hymn 287</dc:subject>
  <dc:title>Воскресшему служу я</dc:title>
</cp:coreProperties>
</file>