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F12-B7CE-4C1F-B583-85738BB4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B18-60CE-4436-B59B-7EAAD3DD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23B-E246-4C0C-B848-D89DBF23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D41-E751-4779-A61C-7DE1FEF8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938-C47E-4225-AED5-B57D8F63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BC1-E136-47C2-9F2B-A2DD9877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A83-AF22-434A-BF9D-516A0C8E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0B1-4613-46CF-9072-CD797CC8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447-DF7A-4210-988C-A4985DD9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4DA-F530-4034-BDD5-0D65B02D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76D-D0B4-45B3-BFE7-3F4F2B90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54E-0CF5-477D-9AD3-D31129F1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FEE29-FDCB-49AC-AA94-059C6C1658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для Бога, всё 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ты не назы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,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ервый пыл от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ив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— су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в нём от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блаженство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для Б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ирай борцов за в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руг знамён Его пол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опись, пока ест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тысяч душ несча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без Господа влач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и им, что ты зн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паситель твой бо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идетель ты пред 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и, что видел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овь Свою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ённым дал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них дней твоих вес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Ему и зре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ень жизни — сед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себя всёце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то предал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дил презрён и бе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кто был Христу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награды не тер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в тебя,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покой тебя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03Z</dcterms:modified>
  <cp:revision>12</cp:revision>
  <dc:subject>Slavic hymnal Гимны веры христиан, hymn 443</dc:subject>
  <dc:title>Жизнь для Бога</dc:title>
</cp:coreProperties>
</file>