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5110-9B07-4D40-B7FB-B8AFAA0B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1632-7D46-4861-BE4D-AD115F50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1858-249B-463B-AB6F-A1DD9CCF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EA7-7AAB-44C0-9782-396147C1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AAB-CD74-46B5-8A4F-C9F01DBE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C3C-13AB-40D3-82D0-6FA600B1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57E-997B-41F8-853E-D06C9E6B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A266-1B85-4F5D-A01E-EF17B67C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5B55-55CF-4EB0-B636-E3FD3CA6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F7AE-B85F-4AC3-9B84-EC7003F3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3C74-7D64-4441-9E67-40D3502E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A07-92AB-49F0-9CE7-6D08F606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2C4B8-245A-4E33-8A02-9D2DB6CA479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blood speaks a better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ll the empty cl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heard upon this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eaks righteousness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ands in my def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Jesus, it’s Your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86   Your Blood Spea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blood speaks a better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ll the empty cl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heard upon this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eaks righteousness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ands in my def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Jesus, it’s Your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wash away our s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make us whole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wash us pure as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comed as the friends of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Your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Your blood, King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cross testifies in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ells of the Father’s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ke a way for 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boldly we approac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by earthly confid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only by Your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wash away our s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make us whole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the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the blood of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wash us pure as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comed as the friends of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Your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Your blood, King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3:05Z</dcterms:modified>
  <cp:revision>12</cp:revision>
  <dc:subject>The Source 4, song number 2186</dc:subject>
  <dc:title>Your Blood Speaks a Better Word (Nothing But the Blood)</dc:title>
</cp:coreProperties>
</file>