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569-418B-413E-A438-BA996ADF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E13-0655-423A-9718-CE2EC887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82C-18FC-400E-B93B-6A43167C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28A-A007-4EE3-BB27-7419B374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92D-D9FF-4884-A5AE-757BF7E6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635-6970-4405-B1A3-69D39124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072-4C49-403D-ACCF-36A0668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758-DBF4-4E56-A61C-84AF9A7F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73C-55CC-40BE-A513-6244B63C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D48-83A2-4B51-8F15-EAF43FC4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824-5251-4777-8399-96B3B62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AAF-2329-44BC-8E6D-F8AA6F36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859B2-6E90-4BEE-8AD2-213B8A5AB9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ross of Christ I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’ring o’er the wrecks of ti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light of sacr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s round its head subl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валюсь кре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валюсь кресто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ходит, он 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учах Господн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золота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woes of life o’ert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s deceive and fears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shall the cross forsak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! it glows with peace and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житейская ли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ь тяжёлый гнё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Христов терпенью 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м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 of bliss is b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ove upon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he radiance str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s more lustre to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ль вешнее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цветёт кругом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креста любовь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яет радость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ne and blessing, pain and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cross are sanct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is there that knows no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s that thro’ all time ab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печаль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свящ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ердечный, веры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навек д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45Z</dcterms:modified>
  <cp:revision>12</cp:revision>
  <dc:subject>Slavic hymnal Гимны веры христиан, hymn 864</dc:subject>
  <dc:title>In the Cross of Christ I Glory / Я хвалюсь крестом Христовым</dc:title>
</cp:coreProperties>
</file>