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9</a:t>
            </a:r>
            <a:r>
              <a:rPr b="1" lang="ru-RU" sz="3600" spc="-1" strike="noStrike">
                <a:solidFill>
                  <a:srgbClr val="ffffff"/>
                </a:solidFill>
                <a:latin typeface="Verdana"/>
              </a:rPr>
              <a:t>	</a:t>
            </a:r>
            <a:r>
              <a:rPr b="1" lang="ru-RU" sz="3600" spc="-1" strike="noStrike">
                <a:solidFill>
                  <a:srgbClr val="ffffff"/>
                </a:solidFill>
                <a:latin typeface="Verdana"/>
              </a:rPr>
              <a:t>Радость спасень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Радост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ыне воспо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у при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у принес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оспода сла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емля и неб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еси Бог наш,</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ящий чуд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ящий чудес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ровью Свое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спасший от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терпе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ас земных раб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ас земных раб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корбью распя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ласть смерти сокруш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нев и прокля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нас Он отвра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нас Он отврат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Станем же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хваленьем на уст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ть в здешней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сле в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сле в небесах.</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4:13Z</dcterms:modified>
  <cp:revision>3</cp:revision>
  <dc:subject>Slavic hymnal Гимны веры христиан, hymn 119</dc:subject>
  <dc:title>Радость спасенья</dc:title>
</cp:coreProperties>
</file>