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4F0-90A6-4903-B3DA-029886AD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CF8-9253-41C1-AA15-1B5EA2F8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A01-F507-4E71-A4B0-7B354AF9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796-82AF-4771-A481-F6DA5E3C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B26-A33A-418C-B6B2-55747743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5AD-8124-41AF-AEBA-24036A4F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7B7-3501-44E0-BD2C-94810D9B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47B-E972-4D53-97E5-9F925263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92C-775B-4BA4-9C20-53DFD1D8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172-12C2-4257-932A-AA6DE233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D8F-0518-465C-9917-90A9AB86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F61D-0F10-46D3-BF92-671630FA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0FED9-1A67-4881-9D1B-7D6735DECD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жить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зарил Он мне стез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о блаженство, что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по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а любовь, какой гор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Христу, к Его слов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общеньи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 вернись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редное гу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навидел я тот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дали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амый дорогой ку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 мне сокру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 мне в сердце радость,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Христ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везд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светлой мне сте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0:47Z</dcterms:modified>
  <cp:revision>12</cp:revision>
  <dc:subject>Slavic hymnal Гимны веры христиан, hymn 885</dc:subject>
  <dc:title>В общеньи с Богом жить хочу</dc:title>
</cp:coreProperties>
</file>