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DA1-4F6D-4726-AA9A-7F525640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678-3959-4FC0-A2A2-48262026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04E-9450-433F-91DD-4842DB50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E7D-87E3-45BE-934F-69AC3200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E22-09C5-4BB5-9487-CD4797FD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ACC9-18A2-4CA6-824E-A60F0987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351-CCF0-4B0E-8143-2AB49F73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AA1-1F17-420E-A169-4879FE72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95C1-740C-470D-ACA0-68226C3C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400-5701-4FB4-8C1F-DD190AA7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1EF-11FE-4DEA-9D07-F147446A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658-8604-492B-BF95-6C88A3C3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1C023-463B-491C-BA7D-4FFD553E796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ить нас Христос безмі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вжди ніжно, завжди вір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тя світу проми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щий друг нас забу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же ні, не залиш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2   Любить нас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хресті Ісус в страждання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м дав Він оправ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инуле все прощ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дивну посил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Йому лиш довір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пізнать Його баж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, щастя той пізн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илічує всі бо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ове життя дар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ає Своїм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до Себе заклик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воє царство Він прийм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блаженство обіц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орі завжди помаг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веде Він нас до 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юбить Ві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1:03Z</dcterms:modified>
  <cp:revision>12</cp:revision>
  <dc:subject>Slavic hymnal Гимны веры христиан, Ukrainian hymn 62</dc:subject>
  <dc:title>Любить нас Христос безмірно</dc:title>
</cp:coreProperties>
</file>