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DBA-744F-4E70-86CD-9F67E0EF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2E4-7C2B-4E9B-914A-D5A8505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6CF-42A9-4CC7-A300-8EFC512D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864-A37D-4530-B8CE-B0D514FE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360-80E2-4C50-8B0F-182C0627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C38-8EE8-495F-BD91-FBCB03F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F25-D871-4319-B606-7DD3D05D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C52-74D4-4947-A2D7-629E8E9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1B6-40B0-41FE-B4E8-7D4A7F42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698-B4BB-41E9-A1BF-8C0C5BF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098-5310-472C-878F-E4E90C2E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DFB-1271-49E6-BC14-ED9093E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94B5B-27B0-4B78-AD78-4A107C9ECE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Physician now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ympathising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he drooping heart to che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ny sins are all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ear the voic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on your way in peace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ar a crown with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 to the dying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believe in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blessèd Saviour’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dispels my guil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name b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how my soul delight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arming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ote in serap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on mortal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carol ever s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lessè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rethren, help me sing Hi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sters, all your voices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less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49Z</dcterms:modified>
  <cp:revision>12</cp:revision>
  <dc:subject>Slavic hymnal Гимны веры христиан, Ukrainian hymn 74</dc:subject>
  <dc:title>The Great Physician / Єдиний лікар є для нас</dc:title>
</cp:coreProperties>
</file>