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E79-9AE6-431E-9627-F6646F8E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3F5-87A5-4ABF-A291-18C42284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A57-E21B-436E-8B83-283F3CE7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42E-545A-470E-9967-57E5F761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7F87-E2B4-4B45-A69D-1A1F4B9C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B64-F7B4-479D-BD14-92C9D7F6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977-0079-4059-8690-86751DE0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5F2-AC46-475D-B703-518E5406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43B-9DF3-4D1D-9FB5-F4A191E5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798-A56B-4F20-A45A-0E0A2CA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0B3-B859-4846-AFF8-C829CB00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77E-2377-4939-9703-FC4EFE8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8B6D4-795D-4D32-BE20-D5E1DFC32F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lonely hearts to ch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weary souls who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тешайте малодуш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йте малоду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сите в мир послу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a smile we can re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ur journey we purs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дость мы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в Отцовски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стлали путь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time for idle sc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face be like the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а да не пленит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ом светят наши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world is full of sig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sad and weeping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your fallen brother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ного слёз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ты пропал и сл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братский дай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loving links that bin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by one we leave behin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орви мирские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зде рабо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seeds of good we s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in shade and shine will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ll keep our hearts a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сеем каждый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ё время возраст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ильный даст нам пл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by (going by), going by (going b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e good we all may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ays are going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,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делать всем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ремя не про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09Z</dcterms:modified>
  <cp:revision>13</cp:revision>
  <dc:subject>Slavic hymnal Гимны веры христиан, hymn 480</dc:subject>
  <dc:title>While the Days Are Going By / Утешайте малодушных</dc:title>
</cp:coreProperties>
</file>