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D70-32AD-4E86-ACAA-77E5D346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B57-4391-4181-BF7C-7EC43118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674-618B-496D-B376-BCB5ADFA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BD5-CD84-4979-8831-F6F55019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10C-CB84-492A-AA7C-B0179682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864-BC45-42CB-9B9B-CF28D6F6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AD1-AA06-4B3D-B23E-DE296561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332-FBED-4953-A76F-2F6EB56A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7C4-1685-48E0-A139-01EE79DE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BF4-84A6-47F5-A3C5-7DDEA8B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582F-5E98-4025-825C-197710BD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63D-D18C-48F6-8122-4B8580B7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3286B-CD7C-4E4A-B5D1-5FC30EC71C4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has dawned upon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d from cre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’s salvation now unfur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for ev’ry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fanfares from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with scenes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 humble gift of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orn of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43  Joy Has Da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unds of wonder fill the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the songs of ange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mighty Prince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lters in a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nds that set each star in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ped the earth in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ing now to a mother’s brea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ulnerable and help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epherds bow before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zing at the glo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fts of men from distant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sy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ld, a King is born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ense, God is wit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rrh, His death will make a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y His blood He’ll w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Adam, Son of heav’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en as a rans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conciling God an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, our mighty champ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Saviour, what a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a glorious myst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a Babe in Bethlehe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e Lord of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4-04-12T09:22:32Z</dcterms:modified>
  <cp:revision>12</cp:revision>
  <dc:subject>The Source 4, song number 1943</dc:subject>
  <dc:title>Joy Has Dawned</dc:title>
</cp:coreProperties>
</file>