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7409-7D6A-44F2-BC28-B9750041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304-2C4D-466C-87C6-5D70F2F5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EB96-74B9-47F1-BB05-EC5037AC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CC1C-81F8-496A-B7FE-646A8EEC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C34-8400-4E70-A223-B9EABE18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D4BE-ED77-43BE-A998-FFC512EA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5C48-C7A0-4C23-8BEE-76812D42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716-5A86-47FD-B5C9-E8ED5BA5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ECE-75C0-46B9-A323-DC799799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AAB6-E383-4967-928D-87E94287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79AE-2AEB-4AE7-A2B5-BEA27774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5E1-F852-4B96-98C6-AB6219D9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C9302-CA2C-4B67-969E-0CCB662CCF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утники к родине славной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ни ненастья, н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ажити мира любовью цвет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етит, как солнце,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путники к род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и страданий, ни бу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мерти дыханья, ни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и насилья, ни злобны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частье, там радость, там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слышится клич, что страна 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 им поют изд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я та льётся, как Божья р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тречу пришельцам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я искупленных кров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ьют из источника бл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ая радость, любовью ч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в их светлых оч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исла пришельцев и их и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ишутся в книге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Бог принимает, а Божья ст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сулит навек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4:51Z</dcterms:modified>
  <cp:revision>12</cp:revision>
  <dc:subject>Slavic hymnal Гимны веры христиан, hymn 686</dc:subject>
  <dc:title>Вот путники к родине славной идут</dc:title>
</cp:coreProperties>
</file>