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6AA5-6EDC-4B1E-AFA4-B83FE899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D15-7257-4D6D-8B5D-2B06601D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A5D0-A0E1-4941-8D7E-BA7E47B0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2A5-C4C6-49F5-9E00-0D96BDC8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5F6-1BAF-484C-9A4B-CDB17575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C072-B45D-4A25-8E4E-E8231B74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AEA-C424-47A6-A71A-FC7ADD8C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651-53C2-44C7-85B3-A0E0FE4F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9F9-EEF8-4388-9637-0F0BA19D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3C9F-4B9B-4F38-9176-E105FAF5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718-EBAB-49EF-98EE-9E347F2F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BCBF-3A2F-4512-85EC-4DCBCE17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48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D3B22-C959-430B-9E48-EAECB4896E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, Дух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приди в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а сюда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енью дружному наст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нас петь ту песн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ют на выс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ы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х Святой, Дух благо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мы ставим Авен-Ез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оселе нам по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веки будь к нам близ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храни в нас Твой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луждали в мире э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паситель нас взы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ил небесным св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лгофе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, мы всей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ём наш долг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оею добро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овала нас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ак склонны заблужд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ходить с Твоих пу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е сердце, наши чув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ебя запечат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06-08T20:38:20Z</dcterms:modified>
  <cp:revision>13</cp:revision>
  <dc:subject>Slavic hymnal Гимны веры христиан, hymn 304</dc:subject>
  <dc:title>Дух Святой, Дух благодати</dc:title>
</cp:coreProperties>
</file>