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DF6-2787-4737-A140-B4421690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8AC-3E83-4AE6-BC46-860E807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7D1-8FFC-4D3E-96E1-95DE661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BDC-3B4A-439A-B15F-D38120E1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347-9CE7-4DE5-8230-1035770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330-554B-4712-AFB6-F7EA8D26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9C9-E6BD-4621-AE5A-B8076DA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869-BAD6-4863-87F3-B0B47ED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FE2-CE19-4E19-8D86-7C87AB8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5F4-4A8D-4A55-A6E2-69F30C7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ECF-1A22-41C9-9911-49EBC712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68F-E241-4C60-A757-246B4C02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798D6-D992-4CCB-91FA-D94CEE1D64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9:49Z</dcterms:modified>
  <cp:revision>13</cp:revision>
  <dc:subject>Slavic hymnal Гимны веры христиан, hymn 844</dc:subject>
  <dc:title>Бывает, сгущается тьма</dc:title>
</cp:coreProperties>
</file>