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3D51-3E63-4DBD-9ED8-57A68A15B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4FB4-B964-4F49-8BCD-6EE14A6D9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E0F1-D94B-4455-9B44-083D01359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E967-C12A-4A89-88AC-9E43F5A9D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9C77-EA0E-47BE-B5A8-34E59DCA9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221D-4CFB-4E0B-9FC2-F72B7A139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1559-70D2-40EC-8FB0-30F906CF5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C2A7-31D4-4FE7-9E22-5B07E077E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3A6A-22F6-4423-8DCA-D93691E1F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7BA9-13E9-47D9-88A3-FA0930E9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5336-B4C4-4B02-A74F-3437567D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4B6F-871E-41FD-B88E-AE937139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56BA9F-2013-4282-B005-9FD2586EBF3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Never will I forget, nor forsake you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promise for you and for 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ugh the flood and the fire I w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more by your side I will b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0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оставлю Я ва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оставлю Я вас, не забуд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ворит Он и мне и теб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охраню и в пустыне безлюд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тяжёлой житейской борь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’Mid the trials of life that assail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n weakness you stand ’fore the fo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be strong to defend; I’ll not fail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defeat unto vict’ry you’ll go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гу одолеть все прегра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ой свыше в пути надел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минуты тяжёлой утр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ешенье и крепость пош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I’ll be watching in tenderness o’er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a mother does over her chil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walk your life’s pathway befor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ielding you when life’s tempests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d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лю Я вас, не забу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мать и отец, и друз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рекутся от вас и осудят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м другом для вас буд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Should your mother and father fors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ever be right at your sid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My haven of rest I will tak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My presence you’ll ever abid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целю воспалённые ра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рачую сердечный нед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строю разбитые пла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одрю обессилевший ду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I will comfort the heart that is lone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scatter the darkness of n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heart that has known trou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in Me find the source of deligh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итаю с заботою неж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учу ваши руки к тру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храню в этой жизни мятеж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небесное царство вве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6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Never will I forget, nor forsake you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promise for you and for 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ugh the flood and the fire I w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more by your side I will b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лю Я вас, не забуду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мир вас отвергнет, то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ам — Отцом и хранителем бу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окинет вас милость Моя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2:44Z</dcterms:modified>
  <cp:revision>13</cp:revision>
  <dc:subject>Slavic hymnal Гимны веры христиан, hymn 708</dc:subject>
  <dc:title>Never Will I Forget / Не оставлю Я вас</dc:title>
</cp:coreProperties>
</file>