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853-E650-46F5-97AE-63C7BB8F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329-C676-41D8-9482-B969682F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A20-FE93-49B0-A90C-88848C5D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42E-FC8C-4CA5-8F83-C74C6E84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AA5-4996-4647-A07E-C4D57ACC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0AC-A517-42B1-966B-E8109201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571-8015-4358-9B25-DACB5412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3C4-17C1-4C0E-8AFD-E73AB334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D4A-82BD-49B9-8346-9D329B41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162-12B8-436E-93E4-4435035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8CA-6BAB-47B8-A480-12509F4A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1AC-7C8F-4159-9E5F-DC1125E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08724-12B6-4508-B053-405551B38B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Свою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пров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чность ты об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частья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род золо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дужны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,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Я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х муках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зае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же жизн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оды посв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Ему слу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21Z</dcterms:modified>
  <cp:revision>12</cp:revision>
  <dc:subject>Slavic hymnal Гимны веры христиан, hymn 427</dc:subject>
  <dc:title>Я умер за тебя</dc:title>
</cp:coreProperties>
</file>