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81</a:t>
            </a:r>
            <a:r>
              <a:rPr b="1" lang="ru-RU" sz="3600" spc="-1" strike="noStrike">
                <a:solidFill>
                  <a:srgbClr val="ffffff"/>
                </a:solidFill>
                <a:latin typeface="Verdana"/>
              </a:rPr>
              <a:t>	</a:t>
            </a:r>
            <a:r>
              <a:rPr b="1" lang="ru-RU" sz="3600" spc="-1" strike="noStrike">
                <a:solidFill>
                  <a:srgbClr val="ffffff"/>
                </a:solidFill>
                <a:latin typeface="Verdana"/>
              </a:rPr>
              <a:t>Люблю, Спаситель, в книге</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Люблю, Спаситель, в книге див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ова любви Твоей чит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ести радостной, призыв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лю восторженно вним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Люблю Твоё успоко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ременённым возвещ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вет небесный обновл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лицах братьев созерцат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Люблю идти Твоей троп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бою данный крест не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лю утомленной душ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 ног Твоих покой най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Люблю Тебя я, хоть пор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вет Твой вечный забыв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лю, хоть не любовью т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ою б пламенно желал.</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Люблю Тебя я! Ты же прежд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еня, созданье, возлюб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в мире был в людской одежд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за меня Свой крест нос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Ты Сам, Господь, — любовь свят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как перед светилом д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учина тусклая, ночн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пред Твоей — любовь моя.</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7.</a:t>
            </a:r>
            <a:r>
              <a:rPr b="0" lang="ru-RU" sz="3200" spc="-1" strike="noStrike">
                <a:solidFill>
                  <a:srgbClr val="ffffff"/>
                </a:solidFill>
                <a:latin typeface="Verdana"/>
              </a:rPr>
              <a:t>	</a:t>
            </a:r>
            <a:r>
              <a:rPr b="0" lang="ru-RU" sz="3200" spc="-1" strike="noStrike">
                <a:solidFill>
                  <a:srgbClr val="ffffff"/>
                </a:solidFill>
                <a:latin typeface="Verdana"/>
              </a:rPr>
              <a:t>Но, Боже, Ты не угашае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искр курящегося ль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гнём его воспламеняе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нём любовь Твоя вид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8.</a:t>
            </a:r>
            <a:r>
              <a:rPr b="0" lang="ru-RU" sz="3200" spc="-1" strike="noStrike">
                <a:solidFill>
                  <a:srgbClr val="ffffff"/>
                </a:solidFill>
                <a:latin typeface="Verdana"/>
              </a:rPr>
              <a:t>	</a:t>
            </a:r>
            <a:r>
              <a:rPr b="0" lang="ru-RU" sz="3200" spc="-1" strike="noStrike">
                <a:solidFill>
                  <a:srgbClr val="ffffff"/>
                </a:solidFill>
                <a:latin typeface="Verdana"/>
              </a:rPr>
              <a:t>Люблю Тебя, и не могу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возлюбить Отца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лю: любовь Свою дару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ю возгрей и оживи.</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0T10:24:55Z</dcterms:modified>
  <cp:revision>3</cp:revision>
  <dc:subject>Slavic hymnal Гимны веры христиан, hymn 81</dc:subject>
  <dc:title>Люблю, Спаситель, в книге дивной</dc:title>
</cp:coreProperties>
</file>