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9842-5D2A-482B-ABD5-C5BECFD3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4DD1-6FB8-4ADB-9648-553694F7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61D3-1D56-4740-8738-EA8E6ADC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1702-BF07-47A5-B935-2A869A84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B2A0-6B6D-441A-A8BA-D7E35DE3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F91C-17DA-45E9-9006-2FA3F5D4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0167-1614-427B-A733-3B00141F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AE4C-C52D-4514-8320-FACC0846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4F97-B0E4-402F-B0F6-A871E1CE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3F5E-F90F-45CF-ACCD-8E567E92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EBE6-50E5-4F67-8A0F-A4006414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6984-17BC-43C6-A41B-5FE7B99D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7687D-0BAC-4FC0-8649-04BC9D8E24C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мой грешный возлю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традал Он, Избав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еня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звучит пусть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Он меня 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мен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взял —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уду петь, как Искуп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 повествов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еня от мук изъ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любви и сострад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хотел Свой выкуп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звучит пусть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Он меня 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мен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взял —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ен вечным торжеств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илён, как побе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д смертью и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звучит пусть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Он меня 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мен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взял —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 петь, как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слабого ме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е в рай путевод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 с Ним пре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 звучит пусть об Иису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Он меня куп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меня прост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г мой взял — освоб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9:21Z</dcterms:modified>
  <cp:revision>12</cp:revision>
  <dc:subject>Slavic hymnal Гимны веры христиан, hymn 570</dc:subject>
  <dc:title>Буду петь, как Искупитель</dc:title>
</cp:coreProperties>
</file>