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2F6-CEFE-4E90-A450-7C1495A2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063-DEA8-4B7D-8F48-5D99F0FD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1C2-E78A-44E5-986C-FEA5A801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E97-8410-4473-992D-26DFF22A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536-2DE2-4AAD-8FBC-6DAA457D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2253-B510-4898-8B31-BD2EBCC5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1AD-832B-4E06-BEE6-7A26C8AB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B0C-16F0-406B-9284-B0879357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A86-C23C-4B01-9E86-388E850F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311-44D0-43F6-9DAC-A0E7944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A31-0EEC-407C-AA3D-2D836E56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B24-2720-4355-A227-B9637B9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86C7F-56B9-46CC-AEE1-11029D5B67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оей жизни слав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жизни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жизни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my so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песне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песне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glorified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Церкви славься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ся,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Церкви слав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35:25Z</dcterms:modified>
  <cp:revision>11</cp:revision>
  <dc:subject>The Source, song number 230 in Russian</dc:subject>
  <dc:title>В моей жизни славься, Господь / In My Life, Lord (Lord, Be Glorified)</dc:title>
</cp:coreProperties>
</file>