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0344-191B-4C0C-88EE-1F23273D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A844-DE0C-45E8-B729-DF68401A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E4AC-F58F-4333-9E10-D3641098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1847-63B1-469D-9460-B0D5C493B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008C-BA1E-40B9-96F5-51ABE4E2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D3EC-7FB4-40AA-931E-8D00AF56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3D95-188A-4D73-B89D-051B5B11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EE88-4B78-463D-A237-287691C4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F041-36CF-4F1E-B4B0-2B4F28A7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496D-2766-4593-AF69-486D117B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686A-B376-43E4-ABD9-651A5647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DDC9-9D27-47D2-B3AF-0F334754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EED94-4D00-459A-88EB-9345E4A9372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found a Friend, O such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oved me ere I knew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drew me with the cords of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us He bound me to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шёл я Друга од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ёл я Друга од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же всех на св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освободи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з греховной с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ound my heart still closely tw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se ties which naught can s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am His, and He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ever and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ердце привязал к С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ко мне любовь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й теперь и я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ю куплен кров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found a Friend, O such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bled, He died to sav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t alone the gift of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His own Self He gave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ёл я Друга од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ёл Он на му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нам вечной жизни д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м купить спас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ught that I have mine own I c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hold it for the G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, my strength, my life, my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His, and His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имею, кем я 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м я не счит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 таланты, жизнь и ч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я посвящ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found a Friend, O such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pow’r to Him is 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guard me on my onward cour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ring me safe to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ёл я Друга од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хранить Он буд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ведёт Своей ру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веки не забуд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’ eternal glories gleam af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nerve my faint endeavou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now to watch, to work, to w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 to rest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 славы впер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стремлюсь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скорбь и труд мой путь ле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ному пок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found a Friend, O such a fri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kind and true and te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wise a Counsellor and Gu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mighty a Defend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ёл я Друга од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чудный мой Спас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лизок, верен Он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сильный Утеш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im who loves me now so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power my soul can sev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life or death, shall earth or h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! I am His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ая сила разл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м Другом несравнен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всегда соедин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ечным, неизмен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00Z</dcterms:modified>
  <cp:revision>14</cp:revision>
  <dc:subject>Slavic hymnal Гимны веры христиан, hymn 583</dc:subject>
  <dc:title>I’ve Found a Friend / Нашёл я Друга одного</dc:title>
</cp:coreProperties>
</file>