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C36-1CD4-44E7-8446-70BA25A0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6B0-787F-4C96-9E09-1962595B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88A-0449-445D-9B32-2FA66AAA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A22-2FB7-4A09-B739-88FB60B4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FA7-9762-401A-A5E8-83FAECF9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59D-8C39-49C2-9AC7-CCD04B3D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DEC-43B3-4B75-AF14-D97934E7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8DF-946E-4713-907B-0E5B7A1A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780-2CE1-4D62-ACC8-843A2337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F0C-3D11-428D-8E7A-A71AC991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9AD-F501-479B-A1CC-5B516C06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C13-BD42-4D92-AB11-D297D9C0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0A232-B238-4B7C-8F2C-2B3C90534A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’twill be, what joy ’t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uls from sin set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life on earth will all be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’ll be home at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1   О, радість, радість б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, радість буд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емний залишим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м в Божий 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ealms of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ill be nothing to ann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here we still must burdens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we’ll have up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, стомлені, сум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вічні радості кра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тяжко, журно в світ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те спасіння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ee of life will ever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of life for us will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gone our mansions to prepar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y we will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сте там дерево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ам побачим м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нях слави не зем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ийме там Сво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does say there’s just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through heaven’s d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don’t chose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ll face an awful f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вузьким нам треба 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в небес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по ньому не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 вічних мук при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hoose Christ,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ears may often mar your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aints in glory you will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our God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зійдем на шлях ву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живемо час тяж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, в небесах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емо в рідни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conquered death and banished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v’n He’s led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eappearance can be near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a glorious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воскрес і щезнув ж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, ось, в велич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х, світли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глядає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9:31Z</dcterms:modified>
  <cp:revision>13</cp:revision>
  <dc:subject>Slavic hymnal Гимны веры христиан, Ukrainian hymn 31</dc:subject>
  <dc:title>What Joy ’Twill Be! / О, радість, радість буде там</dc:title>
</cp:coreProperties>
</file>