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170-7653-4BA1-A637-E1100D4E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DC8-3F32-46C1-817A-F2505010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592-394A-4B4D-9737-BFA0DFD7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27D-FE0F-494A-9D1D-11831EF6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0FD-8807-4D9F-8C2D-3BF1AD0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630-0295-4AE3-B739-C567659A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C41-0282-45D1-AC03-30F70759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05A-2B79-4283-AE96-945299EE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786-E866-4515-889D-AF52AB3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83E-CB66-45E4-B4B2-78B4BDF1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931-2BED-43B2-A6AC-ADCC4CAE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8C8-352D-473A-8D84-91D8A97F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03ECD-E3A1-4F2E-A4C4-416208B027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’s our Rock, in Him we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cure whatever ill be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ог —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скала, сокрыт в Нём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ой Свой ввёл Господ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aging storms may round us b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never leave our safe ret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раг меня стра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паситель защи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ют ли горы пред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!» — слышу: «Я —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Rock divine, O Refuge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Thou our helper ever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ог — Отец, покров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ажду жить Одним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weary land,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Jesus is a Rock in a wea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helter in the time of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 сухой,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мой — источник в земл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ов во время б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2Z</dcterms:modified>
  <cp:revision>13</cp:revision>
  <dc:subject>Slavic hymnal Гимны веры христиан, hymn 650</dc:subject>
  <dc:title>A Shelter in the Time of Storm / Мой Бог — скала</dc:title>
</cp:coreProperties>
</file>