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32E-A78C-4731-A697-779A1F98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BE8-8756-4728-B133-809E9180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2AF-A1AE-405E-8A95-6B26C8FB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6F0-ABE3-402B-BA3A-7C1A7412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73E-27AE-479D-A3B5-376ED2B9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4A7-3431-46EA-B961-AC061C78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965-3EAE-4050-ACD6-19627FED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A12-1AB1-4761-A4DE-DE15DFC7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575-6089-4A91-8F2F-ADDDC246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B2E-21C5-4FF0-9DCE-F371B9AF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18F-E01F-4B18-99AD-50C6B82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6AD-241A-478A-867D-5C4AF2E7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27032-3F28-4806-8132-9BD5A1E19B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is my de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is eyes are fire, His face is 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First and Last, the Living 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is name is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from His mouth there comes a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at shakes the earth and splits the gr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yet this voice is life to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voic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8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King of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y Lover’s breath is sweetest w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am His prize, and He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ow can a sinner know such j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caus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wounds of love are in His han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price is paid for sinful ma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ccepted child, forgiven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cause of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my desire is to have You n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Lord, You know that You are welcome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Before such love, before such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will let the walls come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I will sing my songs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lling out across the ear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roubled minds can know His pe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aptive hearts can be releas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has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King of love has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4:40Z</dcterms:modified>
  <cp:revision>11</cp:revision>
  <dc:subject>The Source 2, song number 983</dc:subject>
  <dc:title>The King of Love (The King Has Come)</dc:title>
</cp:coreProperties>
</file>