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8F2C-B8BF-44E2-AEB9-4E2DEE3C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250-5D92-453B-9BEE-5A797E32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861-8A07-4BF3-9296-73D53A56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9A2-8822-4E00-963D-888E852A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130F-5A02-4465-8720-D5EBC0E9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121-F126-4965-94B4-9F11A213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532-FF68-4587-A80E-727A521B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5A8-9A47-4E06-B555-C66DDD1C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4EA-B8EC-4D2C-BE22-8235DE9D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646-B228-4DB1-B456-C5D5666E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A4B-A94A-41FD-90CB-45D3FEA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439-E1E7-419D-9DAA-A37746E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F2650-F40F-4394-99B3-95D3FEC801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71   Come, Let Us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come before Him with thanks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xtol Him with music and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Lord, our Lord, is the gre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King above all g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bow before Him in our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kneel before God, our great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our God and we are Hi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y we shout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et us sing for joy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shout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Rock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32Z</dcterms:modified>
  <cp:revision>12</cp:revision>
  <dc:subject>The Source 3, song number 1171</dc:subject>
  <dc:title>Come, Let Us Sing</dc:title>
</cp:coreProperties>
</file>