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9139-2156-4DE7-ADF1-1C77D492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31A-8138-4CFB-A2EC-F2B9F6CD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6D3-4772-4EAC-A486-E5DFDEA3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AD1-7088-4B99-9AE3-89178AE5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0E8-E53A-4FBB-81AD-BFFBA7C1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84C-2B59-433B-B103-D64116C2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02A-645C-457B-A330-05D3716A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EBE-AB67-44D4-8C66-482DF007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E53-E554-4163-A29B-EECAD026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829-64FD-4998-BC29-1B378AC6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824-F621-4BC7-9805-1F77BAF9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E15-355E-4B18-BD4C-C5D0157F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79BA7-92FB-4942-8618-8948623FC9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тя, всі раді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ний день наст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стри, весел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м радість да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були чужи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тепер друз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з’єди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свят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0   Браття, всі раді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закон Синайський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овіт стар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прийняв Ізраї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святій гор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слова ми чує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спода Хр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спасла від гні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лагодать свята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живем в наді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і і люб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и усі обми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вятій кров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Господній тіш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еселить серц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мо, браття-сес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ні до кінц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співайте: Алілу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с спас і виправд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ші імена на ві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вічну пам’ять з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5:41Z</dcterms:modified>
  <cp:revision>13</cp:revision>
  <dc:subject>Slavic hymnal Гимны веры христиан, Ukrainian hymn 10</dc:subject>
  <dc:title>Браття, всі радійте</dc:title>
</cp:coreProperties>
</file>