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A57-C4F5-484B-AA4F-2A6901B2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07C-37D5-40A0-9971-CE9E133F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2E9-4E4A-492D-9087-1359BF16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80D-9174-4378-81F9-B7816898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B91-1BC8-4059-AE3F-4273E92F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A472-4455-44B5-B552-2C858290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710E-13A1-4255-8605-26C65836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B00-8B3E-47F6-A38E-B04189C9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46B-1948-46B1-88D0-5F1606A0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A49-4FC9-4DEA-BE44-4EF009C2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54E-0D0C-4CBD-A22E-13525BF9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BB5-5EDB-44DB-8F02-21FCE525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28341-01A2-4227-880D-DFCAB2C2D51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so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Your unfailing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cross has sp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over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eye has seen, no ear has he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heart could fully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glorious, how beautiful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34   Wonderful, So Wonder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owerful, so power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fills the sk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mighty works displa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beauty of Your maje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wakes my heart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arvellous, how wond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opened my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Your wonders ane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captured my heart with t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nothing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as beautiful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my soul must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my soul must s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my soul, Beautiful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I ad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iful One, my soul must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46Z</dcterms:modified>
  <cp:revision>12</cp:revision>
  <dc:subject>The Source 3, song number 1634</dc:subject>
  <dc:title>Wonderful, So Wonderful (Beautiful One)</dc:title>
</cp:coreProperties>
</file>