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A4A-3148-433C-B23F-DAF14B21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52D-D253-47C0-B371-C1415A27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D3E-F3B4-4B1C-BA8E-19014B7F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7DE-A7A5-4378-A9B5-0D45946A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832-AC12-4450-9131-BA299F02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A90-927A-4487-9194-AB748B02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840-B19B-4E44-B4C9-DD38DD67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009-AD34-4C74-975E-BBA47D6E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93A-FADF-4947-8FDE-BAE59BD8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7A6-F810-42CD-B5C2-3C650361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AA2-1A91-45C6-BAD5-A49B5C96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911-D593-4BD6-9E08-35B95B8E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7D750-7655-42DF-ACA0-6F2FB90E38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march has c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nceforth in fields of con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tents shall be our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ди нас, Царь Небе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в последний 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Твой с громкой пес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вслед за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days of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ace has made us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lift our battle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и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ывал Ты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слушной 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щенный дал прик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sin’s fierce war sha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liness shall whis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et Amen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исчез с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вету повсеме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е при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t with swords loud cl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roll of stirring dru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deeds of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eav’nly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копьями, с ме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ужасом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 добрыми д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т Твои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King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follow not with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ladness breaks lik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’er Thy face app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Царь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битва не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ы, там све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ишь хвала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cross is lifted o’e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journey in it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wn awaits the con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on, O God of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крест, Твои 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кавый не затм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енец побед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нас, Боже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52Z</dcterms:modified>
  <cp:revision>12</cp:revision>
  <dc:subject>Slavic hymnal Гимны веры христиан, hymn 828</dc:subject>
  <dc:title>Lead On, O King Eternal / Веди нас, Царь Небесный</dc:title>
</cp:coreProperties>
</file>