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696-5C0A-47F8-A40D-8F056719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1396-94A9-4849-9251-C958EB20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54AD-2F64-4AFD-B309-943FF6C0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4183-BFF7-4050-AC06-051E86A1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B1B8-648E-4B9E-81DD-59626230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2C19-CCD6-48EA-9807-E112B9E8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2BED-BC3C-40F1-AAF7-2D814BC7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D6EB-CD73-4847-928A-F831D341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7E91-C6DE-4C42-893D-C61BFC9D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F61B-21EF-4BE9-867B-C4095C55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0AD0-36F7-4018-A22A-25D39554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D2BE-503F-4602-BB9C-D11E60DC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C120D-4F87-4C5D-8750-EF3F0FDE130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ng the bells of heav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joy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 soul ret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wi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достную песнь воспой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ую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удный сы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возвращ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! the Father meets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t upon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coming His we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nd’ring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огом примир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х слез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ые объят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люч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ow the angels s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ow the loud harps r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the ransomed army, like a mighty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ing forth the anthem of th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Пойте, неб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орьте, все земные голо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олкнут хоры пленников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ённых 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ng the bells of heav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joy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wand’rer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reconcil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ую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ена пропавш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в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s, a soul is resc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is sinful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s born a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ransomed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ник удал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ёртвый во грех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 теп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ители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ow the angels s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ow the loud harps r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the ransomed army, like a mighty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ing forth the anthem of th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Пойте, неб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орьте, все земные голо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олкнут хоры пленников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ённых 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ng the bells of heav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read the feast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gels swell the g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iumphant str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ую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йте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the joyful ti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r it far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 precious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born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зажжётся 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емлющих серд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валой напол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829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ow the angels s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! Glory! How the loud harps r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s the ransomed army, like a mighty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ling forth the anthem of th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Пойте, неб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орьте, все земные голо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олкнут хоры пленников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ённых 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52Z</dcterms:modified>
  <cp:revision>14</cp:revision>
  <dc:subject>Slavic hymnal Гимны веры христиан, hymn 589</dc:subject>
  <dc:title>Ring the Bells of Heaven / Радостную песнь воспойте</dc:title>
</cp:coreProperties>
</file>