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63D1-5947-4221-8D0F-2812D748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A84C-802A-4D25-B818-A56CCC54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8DE9-2CB6-4578-82F4-D26ED6919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A914-8FFE-4CE2-A09F-65D29B80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22C2-657E-40B6-8150-55C11EF1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44C0-432F-44D4-8D41-DD91FC3D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3FA6-FCB3-41BD-AFE5-00664523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8CB8-87DB-4790-A017-0574EC0D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C843-A346-4EE9-8B8A-D038A1ED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FE73-D64C-44AC-A66B-0F76CAC8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5548-D576-4FAA-A4AC-B4FDB204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D022-12B9-4BC6-B60D-5809FF70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5F1DF-1389-4CD1-BEA5-663AD73E56A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йдім на Голгофу, друз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у жертву віддав там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сія лиш правди людей науч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дужих зціляв, за що так постраж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Ним вклонім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йдім на Голгофу, друз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там всі муки терпить до кін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прагне, ― а оцет Йому подаю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з Його уст води живії теч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Ним вклонім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48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2   Зійдім на Голгоф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йдім на Голгофу, друз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итель в любові благає Твор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сти їм, не знають, що чинять Мені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ова молитва знялась від земл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Ним вклонім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йдім на Голгофу, друз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чуєм Ісуса слова до Отц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оже Мій! нащо Мене залишив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любі друзі, то за вас Він терпі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Ним вклонім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йдім на Голгофу, друзі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вже ж не зворушаться наші серц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вершилось! Я Дух Мій Тобі віддаю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нас Він пожертвував душу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ед Ним вклонім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9:53Z</dcterms:modified>
  <cp:revision>16</cp:revision>
  <dc:subject>Slavic hymnal Гимны веры христиан, Ukrainian hymn 22</dc:subject>
  <dc:title>Зійдім на Голгофу, друзі!</dc:title>
</cp:coreProperties>
</file>