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F73-E2E5-4C76-AAD6-7B89C146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4D17-C649-49F5-AE59-E6BB3D14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B9B-D8E5-42C3-A764-DA60A616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817-6F3E-42A1-B9F2-4788C5E2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D0C-00B0-43E8-820D-DCD22C21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23D-5557-4790-9732-94AA0D70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AE4-D96B-41B6-AC94-F96D7C09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49F-5D00-482F-9782-F3EF6687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8B0-10C4-4780-B08B-8B3006AD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685-F71F-4657-B4AE-01D2DA14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013-6DE3-40F0-BE97-91135181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651-E2A4-4AF8-8018-5CECE7A4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887CE-02D1-45FC-A0C0-69B3A5152B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ову Твоем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ной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лись у Тво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истерзанная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а чашу я б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слову Твоему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имаю взор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умер Ты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оминаю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страданья, Твой за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ч в ночной борьб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етят мне, как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мнил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омчится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ну в земной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шь на обла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об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1:24Z</dcterms:modified>
  <cp:revision>12</cp:revision>
  <dc:subject>Slavic hymnal Гимны веры христиан, hymn 729</dc:subject>
  <dc:title>По слову Твоему, Господь</dc:title>
</cp:coreProperties>
</file>