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FDF-B376-40FD-8C77-50874DA3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800-528B-4A16-9E1F-08B9FB8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549-74E8-487E-895B-7DB5B249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06A-8032-4514-B60B-7255A12D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3BB-DF1D-4681-83B1-A52809D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49C-5757-4FA0-A6A9-52A96DF8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3A1-FAD6-4DD0-A149-C000D31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A64-B5E4-409E-95A3-94C61D97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31C-FB44-4844-894A-ED409711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DF4-39FD-4E8B-82BC-7E67F46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547-A053-4669-BB5F-AFF4DCD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117-5260-4E58-8D0A-743F463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3788-07EA-4B42-8A4B-9C06545BD0F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ёт к тебе Странник и в дверь стуч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е твоей Гость святой тверд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чах Его свет, речь дарит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сёт привет Он душе больн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ёт к тебе Стра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да Он войдёт, где приют найдё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ечный мир и любовь жи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Гость дорогой Сам Спаситель т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кровью смыл тяжкий грех зем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ль хочешь идти по Его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за Христом во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ыть — значит милость Его при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один может всех спас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й! Откр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0:53Z</dcterms:modified>
  <cp:revision>12</cp:revision>
  <dc:subject>Slavic hymnal Гимны веры христиан, hymn 355</dc:subject>
  <dc:title>Идёт к тебе Странник</dc:title>
</cp:coreProperties>
</file>