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901-9604-485D-87A9-3D3776E8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836-14AD-47E2-BB1F-A9CCF5E0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21E-CC98-47C1-B7F5-FE6DBD15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881-190C-4D70-B4F0-1E6BA2E7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74D-E364-43C1-B783-EA244B63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35A-C74E-4079-A879-4B8D2F1F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8E7-9C16-49DD-90E8-70396C11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C54-AD1B-438E-B593-8AE80A44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18D-4E4E-419C-AC8F-90963B4D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19D-4D89-414E-978A-C423E367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973-825E-4531-ABDD-EBAF908B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1B5-8631-4611-926E-48C8092F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91AA4-A4CF-4E08-9C26-79F37EF0F0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ее небо меня так м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м мой Спаситель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этом мире бесследно к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не будет скорби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нее небо меня так м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но небо Божьей рук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яц и звёзды, и наша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ражаюсь всей красот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ю неба, прелест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влекаюсь неба твор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ю здесь скорбны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к бы манишь, друг, не печал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Богом дальше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это небо, как ты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раженье Божь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ы взять крылья, чтобы подня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ть у Христовой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2:51Z</dcterms:modified>
  <cp:revision>12</cp:revision>
  <dc:subject>Slavic hymnal Гимны веры христиан, hymn 694</dc:subject>
  <dc:title>Синее небо меня так манит</dc:title>
</cp:coreProperties>
</file>