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B4F0-7A74-469A-BA1D-798DB545D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282B-8A4A-4669-A7A8-2065B4B2A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1F96-ED58-4915-B03C-F374190BF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EF29-8A13-4C02-B347-ABC3DF3FC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8986-41E2-477B-8952-2C3E5294E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C975-1B1E-4FA5-9433-3EF96BD40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4EE0-27E9-4A69-AAE8-C71817317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338E-048E-4BC3-AAF2-C1C36D8E1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2648-323F-492F-9786-753151F54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F735-6A57-4B3A-9F08-761110F43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0052-BE41-4413-9EC3-FFA8067A7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070F-A035-49CE-B968-72DBFC6CC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48C5A3-D517-46C8-94A9-A3110F6BFCB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мне Библию, святое слов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радости мне, страннику, в пу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о мне в сердце живо, мило, нов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Христос пришёл меня спа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мне Библию, бальзам сердеч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 дивный светоч узкого пу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ет, любовь, закон, завет предвеч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уй мне сохранить до веч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9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айте мне Библи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мне Библию, когда я боле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чти то слово утешени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я страхом сильно переполн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я в ней найти спас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мне Библию, бальзам сердеч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 дивный светоч узкого пу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ет, любовь, закон, завет предвеч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уй мне сохранить до веч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мне Библию, источник све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бы мог видеть я стезю м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жить в согласии её сове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наконец, обресть жизнь вечну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мне Библию, бальзам сердеч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 дивный светоч узкого пу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ет, любовь, закон, завет предвеч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уй мне сохранить до веч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мне Библию, светильник прав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я вести мог верно жизнь св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йдя же Иордан, реку прегра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йду я в страну Ханаанску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мне Библию, бальзам сердеч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 дивный светоч узкого пу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ет, любовь, закон, завет предвеч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уй мне сохранить до веч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36:29Z</dcterms:modified>
  <cp:revision>12</cp:revision>
  <dc:subject>Slavic hymnal Гимны веры христиан, hymn 791</dc:subject>
  <dc:title>Дайте мне Библию, святое слово</dc:title>
</cp:coreProperties>
</file>