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43E-A6FD-4A16-B72F-52E4125C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C9B-1FB8-43ED-9D25-D87D08F1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FFF-6DB4-4A61-92E1-D0B3F10B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4E6-D8BC-4976-B970-36EC3D47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869-85B6-46D6-8CEA-4FFD70D5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F76-9198-4AA9-B872-6F85C05E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A97-A67A-4774-8EB9-E63AD4BA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8B1-AA32-42AF-9B7A-32BDAB6E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E4F-901D-438C-9718-05C983AA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60F-82F4-40D0-9FE0-C063DB6D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1AC-664B-40DE-9697-DC568402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618-DC68-473D-9849-591BDFD2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64F1-B5A0-43B8-AC11-175EB988BC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29Z</dcterms:modified>
  <cp:revision>12</cp:revision>
  <dc:subject>Slavic hymnal Гимны веры христиан, hymn 439</dc:subject>
  <dc:title>В свете небесном</dc:title>
</cp:coreProperties>
</file>