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D491-1531-465C-80F8-3197EFDDB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E019-1B56-4C3E-9C6D-4BA1C8849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80DA-E238-4DF4-ADBA-7B98CCCA3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3094-44C5-4669-9E9D-B8546D342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98BB-71B0-4418-9C52-1CFDD3710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80B9-A3EF-4576-9EB6-C7D7A52D2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3C1C-884E-4339-9C49-308C32F3B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0062-DD72-43E3-B041-209F05FB9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DD4C-8396-4F65-979E-AF39EF209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85A9-1639-4479-889A-E7559550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21D6-AFB6-4962-86FF-E76BA8D1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382E-8170-41BD-95CB-A91622E25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8FD76E-48F9-4CF5-BEDA-51AD59128BE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ихая ночь, дивная ноч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емлет всё, лишь не сп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лагоговеньи, святая Че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м Младенцем полны их серд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в душе их го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в душе их го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4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ихая ноч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ихая ночь, дивная ноч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с с небес возвести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Радуйтесь, ныне родился Христо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и спасение всем Он принё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ыше вас Свет посет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ыше вас Свет посетил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ихая ночь, дивная ноч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бу нас Бог приз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да откроются наши серд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а прославят Его все у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м Спасителя да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м Спасителя да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20:23Z</dcterms:modified>
  <cp:revision>13</cp:revision>
  <dc:subject>Slavic hymnal Гимны веры христиан, hymn 244</dc:subject>
  <dc:title>Тихая ночь</dc:title>
</cp:coreProperties>
</file>