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426</a:t>
            </a:r>
            <a:r>
              <a:rPr b="1" lang="ru-RU" sz="3600" spc="-1" strike="noStrike">
                <a:solidFill>
                  <a:srgbClr val="ffffff"/>
                </a:solidFill>
                <a:latin typeface="Verdana"/>
              </a:rPr>
              <a:t>	</a:t>
            </a:r>
            <a:r>
              <a:rPr b="1" lang="ru-RU" sz="3600" spc="-1" strike="noStrike">
                <a:solidFill>
                  <a:srgbClr val="ffffff"/>
                </a:solidFill>
                <a:latin typeface="Verdana"/>
              </a:rPr>
              <a:t>Я видел крест Иисуса</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Я видел крест Иисус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грех меня том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шёл просить Иисус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Он меня прост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пал я пред Иисус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еня очистил О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ам у креста Иисус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с Богом примирён.</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Люблю я крест Иисус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мне открыл, что я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гибший, жалкий грешни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 Бог — святой Суд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дежды на прощ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видел я нигд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ристос купил спас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траданьем на кресте.</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Держусь креста Иисус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реди земных скорб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ам верная защи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ам отдых для люд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родном, в чужом ли кра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досуге ль, за труд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Живу иль умираю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всюду со Христом.</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Приятен крест Иисус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ам страждущим — пок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змученным — отрад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ам жизнь душе боль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 славе петь я буд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еснь жизни и побед;</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уда греху нет вход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ам смерти больше нет.</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9-08-17T21:37:31Z</dcterms:modified>
  <cp:revision>3</cp:revision>
  <dc:subject>Slavic hymnal Гимны веры христиан, hymn 426</dc:subject>
  <dc:title>Я видел крест Иисуса</dc:title>
</cp:coreProperties>
</file>