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F3D-BCA5-4E51-A788-897B5D10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746-632A-4408-B5A2-FCA1D913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DD3-5FD7-4844-9D39-75019973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ACEC-DA11-474A-8D74-D45C79C7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DC3-27E6-4D2E-B2ED-950DC689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B9D-13C2-4C7F-9694-402CF415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26D-36B3-49CD-BA51-AA4F74B3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123-9E8F-4474-9E9E-57D2697A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B7E-D200-48F8-A04F-86D8BBBD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AD3-1A4C-4BC1-A9BD-4F5CDF07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E93-7820-4EF0-B4DB-0B431D4B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C96-3244-407E-ABCF-A70D3738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4AC49-3C50-4622-8ED9-48A382CFB5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ец я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душе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десь мой дом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ушли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ёрдо верю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еня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нуж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обок я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юбящая 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томилась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сво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одные ж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вечно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валеньями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ётся пес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ый гимн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енной хвал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6:43Z</dcterms:modified>
  <cp:revision>12</cp:revision>
  <dc:subject>Slavic hymnal Гимны веры христиан, hymn 672</dc:subject>
  <dc:title>Не здесь мой дом родной</dc:title>
</cp:coreProperties>
</file>