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B8B-D9EB-44D1-9129-8EDD3CF8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DCA-1692-4E06-ABCC-C3C1C6BE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F9D-0835-4CA2-B2AA-73F9C843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0C0-5806-49A2-B906-1EDA231E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04B-78EE-4C2A-A349-C023634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24D-F2C7-401F-B5E2-45F7E513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485-018F-4129-9464-04310B9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1A8-8B73-4120-90CE-79ED20D0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04E-DE46-4B6E-82BC-C964541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C34-5A33-4823-A092-D9EC66C0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EE9-4892-4A82-B935-A48122E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7E1-BDF2-464D-9084-6367F53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175CD-74DB-4C4E-BAA9-4CCB4E93DD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путь борьбы кров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ю я Твоим сло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вой я воин, Боже пра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ебя иду я в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, нет больше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почест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ради почести и сла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, я, Боже, к небе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среди дневного зн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яжело моим ру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— духу насла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приносит мне с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е сердцу уте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Твой раб нашёл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благ обетов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мне радость рас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ал забвение гре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звал к жизни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, любовью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и думать дерз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вых благах для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ди вечного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, Боже,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бы песнью соверш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любовь к Т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а песнь мо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ывае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ам польётся в сен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достойною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38Z</dcterms:modified>
  <cp:revision>12</cp:revision>
  <dc:subject>Slavic hymnal Гимны веры христиан, hymn 454</dc:subject>
  <dc:title>Не ради почести и славы</dc:title>
</cp:coreProperties>
</file>