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89C-97BF-4B71-8650-A8ED2BEF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71E-BCE0-437D-965E-97744313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9D9-2CA7-45FE-971A-8747122F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00F-7147-4594-A229-3B734917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8DD-8814-4B32-AE2E-5E00B96A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4C9-F6DC-48B8-BB7A-A46F70F3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2FF-112D-4E55-9F80-06FB4E47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C60-6031-42A9-82AF-61619A9C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E62-11A0-4645-9FE1-660A8437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CD6-0721-40F2-B51C-CB0DF5BD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BF1-3FA0-49CD-8D5B-BE24AA53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959-7101-47BF-8602-A851EC27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8B750-9F6E-4D90-878E-71DB98183615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ft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Your rightful pla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8   I Will Magnify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 are my L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crown You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Redeemer of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life an off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eath could not hold You dow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y Your blood I’m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creation rej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proclaim His vi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glorify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lift my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worship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take Your rightful place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You’re my Saviou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magnify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glorify Your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2:49Z</dcterms:modified>
  <cp:revision>12</cp:revision>
  <dc:subject>The Source 3, song number 1348</dc:subject>
  <dc:title>I Will Magnify You</dc:title>
</cp:coreProperties>
</file>