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DDE-3E7E-4289-B789-817BB0B5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1A2-4D12-4055-B021-CEC85B8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C05-B21F-4339-8B82-B7A39139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672-B219-499E-92EB-35C2C641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518-777D-4FFE-8F6A-39E3E2FF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552-471C-49C7-AF81-553CB8F4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3DE-9354-4D8E-944A-7EDBBE3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313-6C10-448C-A850-48FA586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2B79-3E6E-40C5-9ADD-5E7E866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535-000B-499D-997F-50B08A4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4F0-A58C-4D1F-8A14-F31266C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F15-5F99-4569-A1D7-DB918CD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367B5-4A21-4C75-BEA4-47CFAF984C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круг престола пред Твор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ы детей ст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с восторженным лиц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круг прест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х детей туда соб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вёл их в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чудной песне соче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юток голо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, Который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ю смертью 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в небе место то при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 ангелов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и Господа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земные д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сильней любить мо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зял их от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осторженным лицом (лиц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(и там), и там (и т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ую песнь твердят (твердя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6:48Z</dcterms:modified>
  <cp:revision>12</cp:revision>
  <dc:subject>Slavic hymnal Гимны веры христиан, hymn 763</dc:subject>
  <dc:title>Вокруг престола пред Творцом</dc:title>
</cp:coreProperties>
</file>