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D24B-31E4-4DDA-B189-AB4317EC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536B-9608-4B47-8833-01701582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B811-E277-44E8-96DB-CE53C6B31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9C09-2507-45F9-A1F2-9160650A5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1F98-F4EC-4274-A398-584CAE47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F1A2-D1F7-453F-A769-F1EDE92C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F4FE-F3D5-4354-93C2-C216BA55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4DC1-DEB8-4372-8846-AFBC82E0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CBED-78AD-46C1-8CD0-192716AD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081B-3D74-4FCA-95CC-ADC8A3F6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3801-E3B1-4E1F-999B-062457B5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E40E-BEFC-445A-8B4D-02DAD9E1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A577B-F9D8-42A7-9F98-D049C387338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 Me standing at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ar Me pleading ever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gentle voice: oh, heart of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I come in? May I com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грешное стуч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жно так зову изв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 Me standing at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ar Me pleading everm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y, weary heart, oppressed with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I come in? May I com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грешное стуч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жно так зову изв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bore the cruel thorns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ited long and patient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y, weary heart, oppressed with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I come in? May I com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терновый был на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 тебя страдал и ж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 Мне, преданный грех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 Me standing at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ar Me pleading everm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y, weary heart, oppressed with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I come in? May I com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грешное стуч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жно так зову изв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uld not plead with thee in v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member all My grief and p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died to ransom thee from s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I come in? May I com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 тебя, откликнись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корбь и муки испы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мер, чтоб ты не 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 Me standing at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ar Me pleading everm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y, weary heart, oppressed with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I come in? May I com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грешное стуч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жно так зову изв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bring thee joy from Heav’n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bring thee pardon, peace, and l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y, weary heart, oppressed with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I come in? May I com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р с небес несу т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е, радость и любов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что ты впустить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 Me standing at the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ar Me pleading everm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y, weary heart, oppressed with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I come in? May I com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грешное стуч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жно так зову изв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2:47Z</dcterms:modified>
  <cp:revision>13</cp:revision>
  <dc:subject>Slavic hymnal Гимны веры христиан, hymn 394</dc:subject>
  <dc:title>Behold Me Standing at the Door / У двери Я твоей стою</dc:title>
</cp:coreProperties>
</file>