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50B-6869-48BE-B427-FD6F80EE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CF7-1BB2-48A6-975A-F4E5F55B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B07-A92B-4EC3-8F94-475BBC47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460-21E0-4BF9-9CBA-CD350B12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CD2-C55A-49C3-B94B-F7CFA2C0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135-AE4E-4FED-AA60-B9A3D62C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71E-26B4-42E4-8482-ADE987EA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517-7812-4BF7-9A22-C06501CE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5C6-BF2C-4B82-B38F-DD4AC721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38A-F280-44CE-A01A-4F941CE8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4C7-9880-4E65-A02A-9F2577D8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66C-3846-4878-BD89-9EF62082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AECEF-5CC7-452E-ACB9-2AACC52230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ear the Saviour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strength indeed is sm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weakness,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 in Me thine all in a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гово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гов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Ты слаб в зем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ужайся и мо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ужно, дам теб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now indeed I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ower and Thin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change the leper’s s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elt the heart of s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Твоя р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ожет совер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ить ярмо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раны исц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nothing go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by Thy grace to cla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wash my garments wh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lood of Calvary’s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годен я, чтоб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й грех с меня о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Агнца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before the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in Him comple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ied my soul to sav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ps shall still rep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в он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ред Ним яв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овторя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Умер за меня Иису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paid i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Him I 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had left a crimson s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ashed it white as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уплат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ой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м всегда хва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7:41Z</dcterms:modified>
  <cp:revision>12</cp:revision>
  <dc:subject>Slavic hymnal Гимны веры христиан, hymn 857</dc:subject>
  <dc:title>Jesus Paid It All (I Hear the Saviour Say) / Спаситель говорит</dc:title>
</cp:coreProperties>
</file>