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C8C-039B-4A67-A777-1C01ED17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C29-E188-4EDF-A585-8A928437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BD3-CAA4-439D-A307-193C2CA7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59B-B2FA-4009-9B3E-9364B081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6CC-EAB6-443A-AAF9-EEB0F24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C8B-0885-4B0E-B13C-D7F91418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D6F-F9A8-42F1-8181-57648BD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3FD-4B57-4C8D-9996-18382B4B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C15-AEA2-43BF-A7DB-ECBDBD8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D48-E03F-4350-83C4-282A153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EBC-83D9-48EE-BDD4-AA3F1BE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3D0-CFD0-4010-8199-C22EFDA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5AD84-CCDD-4FCB-953B-36F8F7B704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0Z</dcterms:modified>
  <cp:revision>16</cp:revision>
  <dc:subject>Slavic hymnal Гимны веры христиан, hymn 338 (as amended)</dc:subject>
  <dc:title>I Will Arise and Go to Jesus (Come, Ye Sinners, Poor and Needy) / Грешники, к Христу придите</dc:title>
</cp:coreProperties>
</file>