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CA5-06D9-4491-95C1-DDFD95A6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7E1-51CD-4FCF-8267-3E9C24E0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C53-92C5-40C8-B82B-0EA6893C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F7E-EC4B-4DE7-9877-730428C8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D5B-0481-40D8-ACAE-CDBF0A64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62F-BD3F-47D4-A5EC-D47DFCAF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E03-C2E6-461A-81BD-9476C363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459F-CA48-461D-BBA4-C2AB612D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957-94FD-40B1-B865-798668F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DC-91E3-4EB2-95F9-D0E7B6E1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8D2-8426-4504-BE91-03AB5CCB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236-AFEE-4BCE-B92E-BFB3562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AD489-089A-4516-AABB-65E83A25A0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Спаситель страд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внодушно гляд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Он кровь проли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ль тебе всё рав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тришь ты на страдаль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мертельной тос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чело Иис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терновом вен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пронзённые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скорбь на лиц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на кр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Господь умир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вой грех на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бровольно Он вз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сознал ли вин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легла на Н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прощеньи мол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 у ног ты 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 обител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Отца Свое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так время бежи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ж скоро зем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 жизнь прол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ближается веч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 о т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нь суда встретиш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неомытым гре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едстанешь пред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рытый сты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купитель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й ответ, не мол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ь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длить страшно, ведь 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пасном пу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тебе всё рав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всё рав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спеши ко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 цепи порв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го гласу внем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рехов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с любовию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ощенье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те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равно, всё рав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15Z</dcterms:modified>
  <cp:revision>12</cp:revision>
  <dc:subject>Slavic hymnal Гимны веры христиан, hymn 354</dc:subject>
  <dc:title>Иль тебе всё равно?</dc:title>
</cp:coreProperties>
</file>