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D24-F732-4830-98D4-4DAC763F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868-C08C-4315-A126-3621FC8D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30F-5EB9-4FE2-8F66-E92A4333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1E2-CDF3-4667-9D77-3E030ACC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539-8914-48A4-80B1-12D811D8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FBA-F864-4FDB-B95F-15F3029B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4620-8C03-43FA-9A38-09112B38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92D-0056-4FF5-B3BD-D9F44A1F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B80-0C92-4DE9-BB83-56CC4C18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BDA-F1F3-4921-BE3A-A8BB55D7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45A-D301-4024-B87C-C9EFE605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C12-306A-41F8-9AE0-DD206FE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CAB74-2564-450F-80DF-CE2C919A97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forgave my sin in Jesus’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been born again in Jesus’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Jesus’ name I come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are His love as He told me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id, “Freely, freely you have rece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ly,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 in My name and because you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thers will know that I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od Forgave My 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 is given in Jesus’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arth and heaven in Jesus’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Jesus’ name I come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hare His power as He told me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id, “Freely, freely you have recei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eely, freely gi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 in My name and because you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thers will know that I liv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01Z</dcterms:modified>
  <cp:revision>10</cp:revision>
  <dc:subject>The Source, song number 123</dc:subject>
  <dc:title>God Forgave My Sin (Freely, Freely)</dc:title>
</cp:coreProperties>
</file>