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369-0F8A-409C-8F91-5C01E87D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9C0-C646-40F3-9939-525F62CC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FBE1-87BB-4D70-8D72-BFF31D9D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77C-BBE3-466F-ABAA-0CA8F703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D48-463F-4273-B437-66F0B974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574-4BA8-4C29-9E7C-7082FCE9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79B-619E-4152-86F8-0F3C5449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6FB-A916-4747-ACAD-7F133F39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D6F-C993-4AC4-B382-B50A2784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7980-E21A-444E-B4C1-CBE7CBE0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479-71C4-4E4C-BB09-A0A3C7D2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EA8-B971-41A8-81DC-4FE749C1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B66D0-D7DE-4970-A683-AA2487BC73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яжко робиться на серц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глянеш ти навкру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тих людей, що спокуси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увши про Божу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уди не підеш ― всюди бач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ин на батька повст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мати гірко, гірко плач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робиш ти, дитя моє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0   Як тяжко роб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іж братами нема ми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діти батьк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любові ― скрізь роздо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є правди ні в 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все тому, що залиш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ивий заповіт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все тому, що призабу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лилась кров Його св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ди, люди, схаменіть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йтесь, до Христа прийді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Нього сили набер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світ гріховний просвіт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1:58Z</dcterms:modified>
  <cp:revision>12</cp:revision>
  <dc:subject>Slavic hymnal Гимны веры христиан, Ukrainian hymn 60</dc:subject>
  <dc:title>Як тяжко робиться на серці</dc:title>
</cp:coreProperties>
</file>