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2565-CEF3-467D-927F-C7DCFEBCF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5756-5725-4785-A7A7-078DD531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D69B-3C68-4854-A62D-C8BE8F6E8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6AE9-A6EC-4C18-8E87-F96E381F0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0E77-D65D-4452-AD90-003AB217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6F46-1C8E-4761-9EC7-17B18F4D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73F9-10C6-44BA-9746-95C72F42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EB1E-6EAB-42FD-9C70-AFBC5202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4018-7E0C-47C6-AB3E-E2465E72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ACCE-33E7-47F1-8533-A26DAD67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FF79-3753-45BE-8CE7-0A9E194A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5895-7840-4941-B359-5234D2C7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FF9C4-E853-4371-872D-6BD7AA9115C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, друг устал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чен долги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можно буд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у отдохн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твой Спасител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и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й Он Хранител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ис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оро, друг устал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твои страд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ет, видит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ерпи не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исцел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твой Спасител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и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й Он Хранител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ис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ёмную мину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ерял ли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 в силу Бож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кой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твой Спасител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и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й Он Хранител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ис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щанья веч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измен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твоя защ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земных трев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твой Спасител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и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й Он Хранител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ис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2:52Z</dcterms:modified>
  <cp:revision>13</cp:revision>
  <dc:subject>Slavic hymnal Гимны веры христиан, hymn 714</dc:subject>
  <dc:title>Скоро, друг усталый</dc:title>
</cp:coreProperties>
</file>