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882-B26B-4A7A-B336-ED769C5F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C92-898D-4FFA-85C7-2ABB7922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74F-2F1A-456C-A078-F0A4DEDE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3D4-34B3-4F88-9A0E-3ED71BB1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B91-F0A2-413B-A941-BA63691C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DE5-839C-4E66-85C0-877A8B9C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107-D424-47FE-8200-EC92DFEA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B52-042D-4954-BB12-626D8388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A7B-6B67-40FE-9F6E-DF31804A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9FD-B8DC-4962-96A4-4594A440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723-BA1B-4C70-842D-D7ACFA97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ADF-D643-4688-ADBA-DAB25327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B179-298A-44AD-BAB5-95DCD022CE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alling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fallen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iend of S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giving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iend of sinners, Lord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given my lif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by which we’r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5:36Z</dcterms:modified>
  <cp:revision>10</cp:revision>
  <dc:subject>The Source 2, song number 687</dc:subject>
  <dc:title>Friend of Sinners</dc:title>
</cp:coreProperties>
</file>