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288-8B93-495F-81ED-57A55A8C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032-11C5-45E8-B2AB-FE069F4B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5DC-9B9B-4A82-B070-7F0CE5D0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D78-4A41-48B8-A68A-43F64CFD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A79-4786-432D-A62D-141C72C3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F8C-67DC-4AB2-82F3-2559E791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380-A721-4003-B868-6F6F9294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C0C-35FC-4DC0-9829-D78EF6B8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97C-9159-40CE-96AC-78CAEBFE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DC9-D4AD-4FAF-8F1A-0098815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A9F-95F7-48B0-A371-194B1D3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F22-C276-431E-82CE-7D1FFCBD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D88BB-9682-40FE-95D8-405491938C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free from your burden of s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o’er evil a victory w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х побед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победить, о желаешь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 свободу Христову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free from your passion and pr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for a cleansing to Calvary’s t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ли гордость и стр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т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Христос весь твой грех уд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be whiter, much whiter than s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 stains are lost in its lifegiving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снега белее ты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всё может ом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do service for Jesus your 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pow’r in the blood, pow’r in the bloo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ld you live daily, His praises to 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wonderful pow’r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очешь ли верно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крови, сила в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, устами Иисуса хвал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ила в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blood of the Lam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pow’r, pow’r, wonder-working pow’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precious blood of th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сила чудотв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агоценной крови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4Z</dcterms:modified>
  <cp:revision>14</cp:revision>
  <dc:subject>Slavic hymnal Гимны веры христиан, hymn 416</dc:subject>
  <dc:title>There is Power in the Blood / Грех победить, о, желаешь ли ты?</dc:title>
</cp:coreProperties>
</file>