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61</a:t>
            </a:r>
            <a:r>
              <a:rPr b="1" lang="ru-RU" sz="3600" spc="-1" strike="noStrike">
                <a:solidFill>
                  <a:srgbClr val="ffffff"/>
                </a:solidFill>
                <a:latin typeface="Verdana"/>
              </a:rPr>
              <a:t>	</a:t>
            </a:r>
            <a:r>
              <a:rPr b="1" lang="ru-RU" sz="3600" spc="-1" strike="noStrike">
                <a:solidFill>
                  <a:srgbClr val="ffffff"/>
                </a:solidFill>
                <a:latin typeface="Verdana"/>
              </a:rPr>
              <a:t>Чудное озеро Геннисаретско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Чудное озеро Геннисаретск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чистой кристальной во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отражало Христа Назаретс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Его обли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ыне Он Духом Своим поселяе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ших счастливых сердц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е не ярко Он в нас отражае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ражался в вода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ли лежит на них плесень сомн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и мутит суе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и от бурного жизни волн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ало в нас видно Хрис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удем, как озеро Геннисаретско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исты и светлы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разится Христа Назаретско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с Его облик свят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9-08-19T09:39:41Z</dcterms:modified>
  <cp:revision>3</cp:revision>
  <dc:subject>Slavic hymnal Гимны веры христиан, hymn 261</dc:subject>
  <dc:title>Чудное озеро Геннисаретское</dc:title>
</cp:coreProperties>
</file>