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4B9-3BCC-4635-80AD-33FDCB39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FE9-088D-4D13-B642-055018AB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84E-351F-4D32-9131-B21837AA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61E-2927-45B9-A99D-08FB5A20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5E9-C9EF-43C0-A6EF-4429C4C6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CC5-0332-44E2-B896-0B4F069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247-FA45-4F6A-81EC-CD129312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E41-D70B-459B-9C5D-5D32B60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A84-006A-4CF4-87B2-012293AA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4C0-D66B-4F60-AB61-6ACA7F8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545-4E85-4C0B-B8E6-6C29D711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221-7C27-4518-82D3-E7A3A5F0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D5036-0BBD-40C0-80BA-82B5BDDADD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14Z</dcterms:modified>
  <cp:revision>12</cp:revision>
  <dc:subject>Slavic hymnal Гимны веры христиан, hymn 532</dc:subject>
  <dc:title>Не хотел бы я бесплодным</dc:title>
</cp:coreProperties>
</file>