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88</a:t>
            </a:r>
            <a:r>
              <a:rPr b="1" lang="ru-RU" sz="3600" spc="-1" strike="noStrike">
                <a:solidFill>
                  <a:srgbClr val="ffffff"/>
                </a:solidFill>
                <a:latin typeface="Verdana"/>
              </a:rPr>
              <a:t>	</a:t>
            </a:r>
            <a:r>
              <a:rPr b="1" lang="ru-RU" sz="3600" spc="-1" strike="noStrike">
                <a:solidFill>
                  <a:srgbClr val="ffffff"/>
                </a:solidFill>
                <a:latin typeface="Verdana"/>
              </a:rPr>
              <a:t>Исцели моё сомненье</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Исцели моё сомне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 приходит иногд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час минутного забве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ношей горького плод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Я хочу не сомневатьс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и на миг, что Твой я сы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 я призван подвизатьс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среди Твоих дружин.</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Удали моё сомне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удто в мире я без си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ам приди, веди в сраже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 с Тобой я победи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Помоги, чтоб я душ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т Тебя не отходи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ы враг своей стрел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ух мой слабый не смутил.</a:t>
            </a:r>
            <a:endParaRPr b="0" lang="en-US" sz="3200" spc="-1" strike="noStrike">
              <a:solidFill>
                <a:srgbClr val="000000"/>
              </a:solidFill>
              <a:latin typeface="Verdana"/>
            </a:endParaRPr>
          </a:p>
        </p:txBody>
      </p:sp>
      <p:sp>
        <p:nvSpPr>
          <p:cNvPr id="41"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28T02:09:28Z</dcterms:modified>
  <cp:revision>3</cp:revision>
  <dc:subject>Slavic hymnal Гимны веры христиан, hymn 188</dc:subject>
  <dc:title>Исцели моё сомненье</dc:title>
</cp:coreProperties>
</file>