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88</a:t>
            </a:r>
            <a:r>
              <a:rPr b="1" lang="ru-RU" sz="3600" spc="-1" strike="noStrike">
                <a:solidFill>
                  <a:srgbClr val="ffffff"/>
                </a:solidFill>
                <a:latin typeface="Verdana"/>
              </a:rPr>
              <a:t>	</a:t>
            </a:r>
            <a:r>
              <a:rPr b="1" lang="ru-RU" sz="3600" spc="-1" strike="noStrike">
                <a:solidFill>
                  <a:srgbClr val="ffffff"/>
                </a:solidFill>
                <a:latin typeface="Verdana"/>
              </a:rPr>
              <a:t>Восхвалим мы Творца</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Now thank we all our Go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th heart and hands and voice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o wondrous things hath don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 whom this world rejoices;</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Восхвалим мы Твор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ердцем, и уста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рит Он чудес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нас, и перед нами.</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o, from our mothers’ arm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ath blessed us on our w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th countless gifts of lo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still is ours today.</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ачала наших дн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наступивший 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Щедротой Он Св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огащает нас.</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O may this bounteous Go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rough all our life be near 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th ever joyful heart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blessed peace to cheer us;</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Да будет Он для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ивительной отрад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правит нами 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пастырь среди стада.</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keep us in His gra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guide us when perplex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free us from all ill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 this world and the next.</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не оставит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милостию впре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да утешит н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начнём скорбеть!</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All praise and thanks to Go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Father now be give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Son, and Him who reign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th them in highest heaven,</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Хвала и честь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лава благосты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ей, Отец и Сы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Дух, всегда и ныне!</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one eternal Go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om earth and heav’n ado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thus it was, is n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shall be evermore.</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сильный Бог, Т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ивут сердца свят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ля них — в Тебе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ебе — отрада их.</a:t>
            </a:r>
            <a:endParaRPr b="0" lang="en-US" sz="3200" spc="-1" strike="noStrike">
              <a:solidFill>
                <a:srgbClr val="000000"/>
              </a:solidFill>
              <a:latin typeface="Verdana"/>
            </a:endParaRPr>
          </a:p>
        </p:txBody>
      </p:sp>
      <p:sp>
        <p:nvSpPr>
          <p:cNvPr id="5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0T10:31:48Z</dcterms:modified>
  <cp:revision>3</cp:revision>
  <dc:subject>Slavic hymnal Гимны веры христиан, hymn 88</dc:subject>
  <dc:title>Now Thank We All Our God / Восхвалим мы Творца</dc:title>
</cp:coreProperties>
</file>