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19B9-F76A-4690-A8D0-D73D5F4CF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57E6-6DBB-43EA-80B6-9185CA84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A95A-1D7B-4C25-9B74-D67A145AC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4312-1636-4EE3-BBA2-2BA02B22D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457D-44EE-48D6-BBBF-D2661B06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44C6-2417-459A-9025-B20C68B7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D45B-1C4C-4C0C-9C0C-5981E38E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1970-1D18-4C63-B80D-8BF579A4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FBD6-22E6-4120-A456-2717B5BF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9B00-82C7-4EF6-ACB1-5BA5624B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86EE-B49D-4830-A6BD-3275B6E1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C120-C01D-4C0B-9B20-95CBEDF8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75D28-6251-499A-986E-B45FD05718F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зав Господь Святим Дух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ухай, Ноє, своїм ухом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ій ковчег, стрій ковче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ій ковчег, стрій ковчег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Триста ліктів довжи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п’ятдесят шири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ридцять вверх, тридцять ввер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ридцять вверх, тридцять вверх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4   Сказав Госпо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топ прийшов, умножав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род, бачивши, злякав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нів іде, гнів і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нів іде, гнів і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ачуть люди многі в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кали всі на го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спастись, там спаст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спастись, там спаст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ди землю залив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живущїї крича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пастись, де спаст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пастись, де спастись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руг із другом обійма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час останній розставалис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іркий час, гірк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іркий час, гіркий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рат з сестрою розстава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ати й дочка обійма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ин з отцем, син з отц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ин з отцем, син з отц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в ту пору ясно ста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життя тяжке наста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ибель всім, гибель вс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ибель всім, гибель всі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же пташки не щебет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д водами всі літал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дчай ― крик, одчай ― кр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дчай ― крик, одчай ― кр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0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Сили їх укороти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воді вони топи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ій воді, в тій вод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ій воді, в тій вод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Один плавав над во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вчег Ноя із син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хвилях тих, в хвилях т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хвилях тих, в хвилях т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Але ось вже не верши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вчег станув на тверди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горі, на гор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горі, на гор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Ворона Ной випуск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рон води виглядає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землі, нема земл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землі, нема земл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Голубиця виліт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исток свіжий відшу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ливний, олив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ливний, олив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Верхи гір вже відкрива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ди в море вже злива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уша є, суша 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уша є, суша 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6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Тоді двері відчини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оя радість появила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йшов Ной, вийшов 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йшов Ной, вийшов 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6:57:27Z</dcterms:modified>
  <cp:revision>12</cp:revision>
  <dc:subject>Slavic hymnal Гимны веры христиан, Ukrainian hymn 84</dc:subject>
  <dc:title>Сказав Господь Святим Духом</dc:title>
</cp:coreProperties>
</file>