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8658-8D1D-4522-9707-CFE5FFF8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E39-5EEC-4F68-AFF3-75355AF2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E60-BA52-4727-A5F8-8EFDE982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550-1D1E-415E-AFA4-79D0CD82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0CF-2238-414E-99D3-A47057C7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EB0-F198-4DC2-BB65-4B47F7CB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731-F665-4162-A245-B6A262D7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59D-1EEF-4CEC-AF96-8ECE2CF7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02D5-1E01-4F32-B492-D2B2223E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482-8C15-47F5-93BC-D86EAA61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982-CDF2-4645-942D-B08E97ED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4F69-2CB3-42F3-A7A3-AF78827C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1C3AC-0822-4557-91F1-3576EBB6D8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витый чистой плащан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, снятый со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ребён в чужой гробн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к ней приложена пл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утихли гнев и зл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рагов: Он может вст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траха их, у двери гр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а положена пе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бвитый чистой плащаниц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нула ночь, поутру р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гиле женщины спеш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 в одежде легко-тк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а светлых ангела си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ть отпала от гробниц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глась на землю пл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обу лишь только плащан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в нём лежащего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глядят в недоум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Учитель их исче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ышат слово утеше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ого вы ищите — воскре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ёны, радостью объя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жат к апостолам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вестить, что Бог распя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л из гроб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7:48Z</dcterms:modified>
  <cp:revision>12</cp:revision>
  <dc:subject>Slavic hymnal Гимны веры христиан, hymn 292</dc:subject>
  <dc:title>Обвитый чистой плащаницей</dc:title>
</cp:coreProperties>
</file>