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D67-A695-4045-AEFB-8C98AE92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A9A-7F54-457F-B3EB-08EA146E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636-9DA1-4BBC-A501-9EF7B71C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04A-F414-47C6-B511-FE8378FD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5E2-258B-4C27-BF28-E96CEC21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53E-568D-4B7D-B456-63C40EF3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4B8-6F4E-4E70-AB4D-B56AFE19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CC7-865B-4818-8CD9-AEE4E7E2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9C2-8731-45A9-A890-A6846153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D1A-83F1-4F63-B461-1E9071DA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88D-F482-438D-8A1F-A19470C5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4E2C-55D5-4B9C-9FC6-9AB41F7E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3EB62-8027-4CB5-ABF2-AD4E5DF040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ftly and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for you an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, on the portals He’s wa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at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for you an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отко и не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о и нежно Иисус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зывает, лю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 у порога, стучит, ожи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меня и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, co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are weary, come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nestly,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, “O sinner,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we tarry when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plea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ding for you and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we linger and hee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merc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ies for you and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и медлить, когда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т, о каждом скор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благодати принять не хотите 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для тебя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, co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are weary, come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nestly,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, “O sinner,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me is now fleeting, the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pa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ssing from you and from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ows are gathering, deathb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for you an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ни сгущаются, смерть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беспощадно гу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приходит, в обитель и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ичут меня 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, co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are weary, come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nestly,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, “O sinner,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the wonderful love He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mised for you and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e have sinned, He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and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don for you an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 нам Господь об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ртву отдал Он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грешили, но Он нам про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меня 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, co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are weary, come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nestly, tenderly Jesus is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, “O sinner,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3Z</dcterms:modified>
  <cp:revision>13</cp:revision>
  <dc:subject>Slavic hymnal Гимны веры христиан, hymn 357</dc:subject>
  <dc:title>Softly and Tenderly / Кротко и нежно Иисус призывает</dc:title>
</cp:coreProperties>
</file>