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D359-D571-41A1-8C60-6B132813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025-D885-4B3F-A080-4F29A81F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226-E9DA-415F-9265-C6E6184B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4F7-3F8F-4603-8FC0-EE5F7549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0F5-0FEB-42E8-849C-DD4C12F1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5CD-6551-4D38-9396-AB70F8E0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BFE2-0F64-423D-B0E1-AED50E56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64B-C2C5-48DE-A723-2220F4A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309-9CD3-4186-B014-EE54BBBC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FFB-C1B9-4EB4-8720-B45DB38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773-B5AD-42DF-9D2C-E196D80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474-5D47-42E0-BC2F-A3F0E02A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94726-BD8C-4E49-B489-1C53C4FA83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when purple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ke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bird waketh, and the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irer than morning, lovelier than day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awns the sweet consciousness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Тобой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, Господь, люблю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ссве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ь, проснулся шум дн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учше дня и мягче ночи лет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сладкое, что Ты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, amid the mystic shadow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lemn hush of nature newly bo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one with Thee in breathless ador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calm dew and freshness of the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с Тобой вникаю в та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рук Твоих и вечного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едине я вижу лик Тво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ьи рос и в свежести у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still with Thee, as to each newborn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fresh and solemn splendour still is giv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does this blessèd consciousness, awa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reath each day nearness unto Th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измучившись в борьбе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 к Тебе с вечернею моль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ен отдых под Твоим пок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обудясь, приятней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shall it be at last, in that bright mor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soul waketh and life’s shadows fl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in that hour, fairer than daylight daw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rise the glorious thought, I am with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, придёт торжественное утр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утся все… умолкнет шум 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нее солнца засияют чу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сегда останем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54Z</dcterms:modified>
  <cp:revision>12</cp:revision>
  <dc:subject>Slavic hymnal Гимны веры христиан, hymn 821</dc:subject>
  <dc:title>Still, Still With Thee / С Тобой, Господь</dc:title>
</cp:coreProperties>
</file>