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65F-AB4F-4DEF-A957-6FDCADF1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364-8CB3-4C9E-AE62-AC0A4C0E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345F-560D-4AB1-A380-B05294F2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C52-4493-4E9E-BF9A-EA7D9800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E11-EFFD-4A11-84C1-278CC77A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8895-DD13-4C44-9584-0BE09278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3E2-9F90-4361-8779-DC63C672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8A45-25CF-41E8-8B22-0E5CD366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2A43-03B5-47E3-AFD4-8C6DA223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80C-4330-47E2-A31B-37E19271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F9E-9317-4FDB-9EF7-4AFA4C3C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5FCA-F9BA-48CD-9DA8-7FBCA407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60973-EDEF-4D73-83A4-D424CDD5AA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айте, братья, во Христе род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с вами мы в последн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айте и вы, сёстры дорог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больше вам не видеть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время здесь мы провод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ясь на ниве в этот слав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 горе мы вместе дел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настал час разлуки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ощайте, брат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кие наши, все друзья, прощ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ть мы будем многие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м, и вы нас добром вспомин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мять навеки да будет ч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вам прощальная теперь проп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ните всё, что сказали мы в 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сех да будет любовью согре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 хранит нас милостью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м и недругам нашим: Проща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ам вредили много, много р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же вам прощаем, это твёрдо зн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— нам свидетель в этот славн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7:27Z</dcterms:modified>
  <cp:revision>12</cp:revision>
  <dc:subject>Slavic hymnal Гимны веры христиан, hymn 747</dc:subject>
  <dc:title>Прощайте, братья, во Христе родные</dc:title>
</cp:coreProperties>
</file>