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AFBB-C7CC-485E-8A92-88A19627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0D4B-6715-4211-96C1-F331B3D2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D46F-07EB-482F-AD4D-F9B8ACA0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9FD-555D-4CE8-8BDF-6600A760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13DE-EAE3-4308-8C3C-60F61C0A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9D47-50D4-4AF5-AB03-18D94169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5BA-F7FA-4A0A-9759-2AE6D83F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040-3DFC-4316-ACEE-A8DE57EB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4116-CFD5-40CE-86B9-806E135B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4136-A87B-4BC7-9A8D-6417445D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B00-61C2-45CC-948E-AC51C6ED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E3DB-C06C-4537-8C7C-47F8E775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6821A-9552-45AC-9D7B-5B83EF85427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do you wait, dea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y do you tarry so l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Saviour is waiting to giv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place in His sanctified th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же ты медлиш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ы медлишь, мой бр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Иисусу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и хочет тебя Он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исло Своих верны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do you hope, dea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ain by a further del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no one to save you but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no other way but His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ты думаешь,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радость на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дин за людей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го нет в жизни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you not feel, dear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Spirit now striving with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y not accept His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w off your burden of s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не чувствуешь,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ух обличает во всё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спасенья прими и будь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расстанься с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do your wait, dear br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arvest is passing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Saviour is longing to bles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re danger and death in de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ы медлишь, мой бр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нежданн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Господню семью не прин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ность и смерть того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Him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4:46Z</dcterms:modified>
  <cp:revision>13</cp:revision>
  <dc:subject>Slavic hymnal Гимны веры христиан, hymn 399</dc:subject>
  <dc:title>Why Do You Wait? / Что же ты медлишь, мой брат?</dc:title>
</cp:coreProperties>
</file>