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4D44-E70A-4F4D-A137-8E7D28D0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2A85-19EF-49BE-8272-D36AA2E4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A36A-7697-49B2-852B-60A253B01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8098-B305-404A-8C2E-F73F7F170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41DF-7794-428B-A7DE-489E767C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F429-A632-4F20-9076-DAD47BFD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50C9-3A41-4C97-A506-1D9A12D4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2414-45FC-4450-B5D1-2B139315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D9E8-09E4-493C-ABDF-F612F275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DE16-F37C-4743-B707-08C1662F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E306-83D0-48EA-9B65-2B6493BB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526F-84B7-4E0A-A658-97F8D831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DC15C-4960-4C9E-8018-EF5B7BB4EC2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belong to the K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a child of His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shall dwell in His palace so fai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He tells of its bli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yon heaven ab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is children in splendour shall sh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подвластен Хрис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6576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мне жизнь даров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вовеки жить буду я с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небес крас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ля души показ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теперь Его Духом вод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belong to the King; I’m a child of His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e never forsaketh His 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call me some day to His palace abo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shall dwell by His glorified thr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6576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мне жизнь даров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век не оставит ме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оный день с Ним вой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край, что Он завещ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бы жить в свете вечного 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belong to the K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e loves me I kn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His mercy and kindness so 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unceasingly 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soever I g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my Refuge unfailing is H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6576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меня возлюби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изобильи Он всё мне даё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сполняет нужд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де б я в мире не жи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— мой щит от врага и заб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belong to the King; I’m a child of His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e never forsaketh His 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call me some day to His palace abo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shall dwell by His glorified thr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6576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мне жизнь даров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век не оставит ме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оный день с Ним вой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край, что Он завещ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бы жить в свете вечного 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belong to the K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is promise is s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we all shall be gathered at l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His kingdom ab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By life’s waters so p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is life with its trials is p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6576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но слово Ег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Своих Он в свой час забер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небес выс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дом Отца Своег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с шумом земное пройд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belong to the King; I’m a child of His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He never forsaketh His 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will call me some day to His palace abov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shall dwell by His glorified thr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6576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мне жизнь даров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век не оставит ме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оный день с Ним вой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край, что Он завещ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бы жить в свете вечного 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11-26T21:34:39Z</dcterms:modified>
  <cp:revision>14</cp:revision>
  <dc:subject>Slavic hymnal Гимны веры христиан, hymn 598</dc:subject>
  <dc:title>I Belong to the King / Я подвластен Христу</dc:title>
</cp:coreProperties>
</file>