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BCA-6C68-4892-8271-F63DF7D2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5A9-3913-4B21-B05A-E76E5424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F59-35C1-4D22-BB5A-5A598D67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024-E32D-4865-B3F7-1495A1A7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E170-576F-455F-BA4A-D7291466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24C-4DA9-4B71-BD68-5BBF5217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EE4-1FEA-4E12-B8AD-EB964DD3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B81-4635-4A25-8EC3-E14E5D03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E230-B58E-42CC-9BB0-1F4526BE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7F0-478F-4DB3-B02E-AE14BEBE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6D2-BC31-4E4F-9F57-38FF8E11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C5B1-6FED-490D-83BF-EFE81E71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B9CB5-FBD9-479C-9965-4054DE0268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world i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just passing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treasures are lai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where beyond the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десь мой дом ро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 мой дом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лец я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 душе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облач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e’s waiting now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eaven’s open d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родные ж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незем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 know 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friend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aven’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Lord, what will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up in Glory-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live e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ints on ever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shouting vi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аоблач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вечно бу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валеньями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ьётся пес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song of sweetest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ifts back from Heaven’s 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ный гимн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енной хвал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 know 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friend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aven’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Lord, what will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 know 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friend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aven’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Lord, what will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’re all expecting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’s one thing I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pardon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onward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ушли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ёрдо верю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еня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мне нуж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He’ll take me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I am weak and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хранит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робок я душ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ord, you know I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friend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Heaven’s not m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Lord, what will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ишь Ты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и свет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ло б всё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s beck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eaven’s open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can’t feel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any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ангелы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меня до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этом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мне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loving 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over in Glory-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don’t expect to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I shake her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юбящая 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томилась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сво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31Z</dcterms:modified>
  <cp:revision>14</cp:revision>
  <dc:subject>Slavic hymnal Гимны веры христиан, hymn 672</dc:subject>
  <dc:title>This World Is Not My Home / Не здесь мой дом родной</dc:title>
</cp:coreProperties>
</file>