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94C1-E797-4C08-89DF-44B8F21B7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7E9A-43F2-46F3-8B81-3498C48D5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ADE1-50BF-4B80-8510-64B786224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A73F-A534-4E45-BDDB-E2B581103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23FE-A893-4B7A-9AE6-343FBCF31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92A3-0DD2-4B70-BBDA-CA2AD398E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FB72-6853-40E4-8683-2846646CB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B600-7C5A-4232-9915-536AC4885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363F-36FC-4588-9162-B421624EC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794F-2560-4F35-9E2B-41010C13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0717-ECC9-4FC8-9602-AC202758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F380-0E81-41E5-B898-730BB0C0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CB158B-948F-4B62-81E4-90C672DBC31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ough I may speak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language of ang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ough I may fath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myster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e into the futu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ve faith that moves mountain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f I am without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n what does it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100   Though I May Spe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out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nothing at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out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out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nothing at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even if I g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poor my possess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urrendered my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died for the ca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ough highly respec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uccessful and gift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f love was exclu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ve wasted it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out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nothing at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out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out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nothing at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hen we pass through the fi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hing but love will surv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out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nothing at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out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out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nothing at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ith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we see l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hing but love will surv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16T01:06:26Z</dcterms:modified>
  <cp:revision>12</cp:revision>
  <dc:subject>The Source 4, song number 2100</dc:subject>
  <dc:title>Though I May Speak (Language of Angels)</dc:title>
</cp:coreProperties>
</file>