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851-007B-475F-B333-CD314727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BDB-EF9D-4BA4-BAB6-B63015FB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5AE-1FF8-4F27-A058-3D405AD5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FF6-EFA2-4C08-81B3-D6A06FB3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62C-CDB9-4E07-A776-A73A7866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3A8-A931-4FBD-B17E-389071F3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8EF-665A-4BA8-B3F8-29F9213A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AFD-7ED4-472D-B772-3A4C23C3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ED4-CDA9-45C8-BB25-88785AF4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B11-2CCA-475E-8190-1601AFB4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C9C-9FD5-49DF-8348-DAA413F5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6A1-5F60-4358-8281-51D99962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AEE92-17E4-4A15-BA7B-BA5E6BEE4C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озунг, данный молодё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зни и борьбы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лозунг силы, лозунг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зирая на Иисуса, в 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ами веет Божь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озунг юности на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, как радостное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жённое Сами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озунг, да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тав героями, как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мело в бой с врагом вступ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жасе бежит др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мир неся закон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любовью покор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дножию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Его и на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свой скорбный приним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радостью сер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идя как ужасен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овой жаждою пыл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убелить себя, как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чуждаемся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зы тюрем приним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радостных псал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ушах мести не та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га правды умо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ть грехи врагам лю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раз совершенный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аз неба отраж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м хождени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ам неведомы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и сердцем усво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добие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 волнам огня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мы за Ним шаг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пожаров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Спасителя взир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укрепляясь верой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ри мира укрощ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й вселенной мир 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20Z</dcterms:modified>
  <cp:revision>12</cp:revision>
  <dc:subject>Slavic hymnal Гимны веры христиан, hymn 442</dc:subject>
  <dc:title>Есть лозунг, данный молодёжи</dc:title>
</cp:coreProperties>
</file>