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79280" y="395280"/>
            <a:ext cx="972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63</a:t>
            </a:r>
            <a:r>
              <a:rPr b="1" lang="ru-RU" sz="3600" spc="-1" strike="noStrike">
                <a:solidFill>
                  <a:srgbClr val="ffffff"/>
                </a:solidFill>
                <a:latin typeface="Verdana"/>
              </a:rPr>
              <a:t>	</a:t>
            </a:r>
            <a:r>
              <a:rPr b="1" lang="ru-RU" sz="3600" spc="-1" strike="noStrike">
                <a:solidFill>
                  <a:srgbClr val="ffffff"/>
                </a:solidFill>
                <a:latin typeface="Verdana"/>
              </a:rPr>
              <a:t>Когда тяжесть нам на сердце</a:t>
            </a:r>
            <a:endParaRPr b="0" lang="en-US" sz="3600" spc="-1" strike="noStrike">
              <a:solidFill>
                <a:srgbClr val="000000"/>
              </a:solidFill>
              <a:latin typeface="Verdana"/>
            </a:endParaRPr>
          </a:p>
        </p:txBody>
      </p:sp>
      <p:sp>
        <p:nvSpPr>
          <p:cNvPr id="39"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Are you weary, are you heavy heart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it to Jesus, tell it to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re you grieving over joys depart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it to Jesus alone.</a:t>
            </a:r>
            <a:endParaRPr b="0" lang="en-US" sz="3200" spc="-1" strike="noStrike">
              <a:solidFill>
                <a:srgbClr val="000000"/>
              </a:solidFill>
              <a:latin typeface="Verdana"/>
            </a:endParaRPr>
          </a:p>
        </p:txBody>
      </p:sp>
      <p:sp>
        <p:nvSpPr>
          <p:cNvPr id="40"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Когда тяжесть нам на сердце ляж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ем Иисусу, скажем Иисус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душу горе сильно свяж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ем Иисусу о всём.</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it to Jesus, tell it to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is a Friend that’s well know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You’ve no other such a friend or broth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it to Jesus alone.</a:t>
            </a:r>
            <a:endParaRPr b="0" lang="en-US" sz="3200" spc="-1" strike="noStrike">
              <a:solidFill>
                <a:srgbClr val="000000"/>
              </a:solidFill>
              <a:latin typeface="Verdana"/>
            </a:endParaRPr>
          </a:p>
        </p:txBody>
      </p:sp>
      <p:sp>
        <p:nvSpPr>
          <p:cNvPr id="42"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ем Иисусу, скажем Иисус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 Друг известен нам все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т уж брата или друга лучш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ем наш Спаситель Христос.</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179280" y="828720"/>
            <a:ext cx="9720360" cy="334800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Do the tears flow down your cheek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unbidde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it to Jesus, tell it to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ave you sins that to men’s eye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are hidde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it to Jesus alone.</a:t>
            </a:r>
            <a:endParaRPr b="0" lang="en-US" sz="3200" spc="-1" strike="noStrike">
              <a:solidFill>
                <a:srgbClr val="000000"/>
              </a:solidFill>
              <a:latin typeface="Verdana"/>
            </a:endParaRPr>
          </a:p>
        </p:txBody>
      </p:sp>
      <p:sp>
        <p:nvSpPr>
          <p:cNvPr id="44"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Когда слёзы наш покой наруша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ем Иисусу, скажем Иисус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ли тайные грехи нас муча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ем Иисусу о всём.</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it to Jesus, tell it to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is a Friend that’s well know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You’ve no other such a friend or broth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it to Jesus alone.</a:t>
            </a:r>
            <a:endParaRPr b="0" lang="en-US" sz="3200" spc="-1" strike="noStrike">
              <a:solidFill>
                <a:srgbClr val="000000"/>
              </a:solidFill>
              <a:latin typeface="Verdana"/>
            </a:endParaRPr>
          </a:p>
        </p:txBody>
      </p:sp>
      <p:sp>
        <p:nvSpPr>
          <p:cNvPr id="46"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ем Иисусу, скажем Иисус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 Друг известен нам все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т уж брата или друга лучш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ем наш Спаситель Христос.</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Do you fear the gathering cloud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of sorro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it to Jesus, tell it to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re you anxious what shall be tomorro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it to Jesus alone.</a:t>
            </a:r>
            <a:endParaRPr b="0" lang="en-US" sz="3200" spc="-1" strike="noStrike">
              <a:solidFill>
                <a:srgbClr val="000000"/>
              </a:solidFill>
              <a:latin typeface="Verdana"/>
            </a:endParaRPr>
          </a:p>
        </p:txBody>
      </p:sp>
      <p:sp>
        <p:nvSpPr>
          <p:cNvPr id="48"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Если видим бедствия приходя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ем Иисусу, скажем Иисус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мерть и голод страшно всюду бродя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ем Иисусу о всём.</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it to Jesus, tell it to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is a Friend that’s well know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You’ve no other such a friend or broth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it to Jesus alone.</a:t>
            </a:r>
            <a:endParaRPr b="0" lang="en-US" sz="3200" spc="-1" strike="noStrike">
              <a:solidFill>
                <a:srgbClr val="000000"/>
              </a:solidFill>
              <a:latin typeface="Verdana"/>
            </a:endParaRPr>
          </a:p>
        </p:txBody>
      </p:sp>
      <p:sp>
        <p:nvSpPr>
          <p:cNvPr id="50"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ем Иисусу, скажем Иисус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 Друг известен нам все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т уж брата или друга лучш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ем наш Спаситель Христос.</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Are you troubled at the thought of dy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it to Jesus, tell it to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Christ’s coming kingdom are you</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sigh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it to Jesus alone.</a:t>
            </a:r>
            <a:endParaRPr b="0" lang="en-US" sz="3200" spc="-1" strike="noStrike">
              <a:solidFill>
                <a:srgbClr val="000000"/>
              </a:solidFill>
              <a:latin typeface="Verdana"/>
            </a:endParaRPr>
          </a:p>
        </p:txBody>
      </p:sp>
      <p:sp>
        <p:nvSpPr>
          <p:cNvPr id="52"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Если с миром не хотим погибну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ем Иисусу, скажем Иисус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желаем царствия достигну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ем Иисусу о всём.</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it to Jesus, tell it to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is a Friend that’s well know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You’ve no other such a friend or broth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it to Jesus alone.</a:t>
            </a:r>
            <a:endParaRPr b="0" lang="en-US" sz="3200" spc="-1" strike="noStrike">
              <a:solidFill>
                <a:srgbClr val="000000"/>
              </a:solidFill>
              <a:latin typeface="Verdana"/>
            </a:endParaRPr>
          </a:p>
        </p:txBody>
      </p:sp>
      <p:sp>
        <p:nvSpPr>
          <p:cNvPr id="54"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ем Иисусу, скажем Иисус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 Друг известен нам все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т уж брата или друга лучш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ем наш Спаситель Христос.</a:t>
            </a:r>
            <a:endParaRPr b="0" lang="en-US" sz="3200" spc="-1" strike="noStrike">
              <a:solidFill>
                <a:srgbClr val="000000"/>
              </a:solidFill>
              <a:latin typeface="Verdana"/>
            </a:endParaRPr>
          </a:p>
        </p:txBody>
      </p:sp>
      <p:sp>
        <p:nvSpPr>
          <p:cNvPr id="5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4T06:08:43Z</dcterms:modified>
  <cp:revision>3</cp:revision>
  <dc:subject>Slavic hymnal Гимны веры христиан, hymn 163</dc:subject>
  <dc:title>Tell It to Jesus / Когда тяжесть нам на сердце ляжет</dc:title>
</cp:coreProperties>
</file>