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C0E-2783-46D1-9B79-27F1EDF9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C26-FD39-4173-A8A1-6A9E6515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FB2-7372-486C-B298-5D97A10D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665-CF25-4306-951F-A183D8EC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78E-0CB6-4DDE-ACE2-7AED760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A03-DDF9-4388-ABAD-08884565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F64-C785-4FCF-A4A6-334E21C9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B4A-83BB-430F-B875-66476F2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B9E-26B6-4D1C-BB3D-3CC4CB96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59C-12D9-4951-8D92-ACB754D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7C6-9BE4-4F62-B3B6-4365731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6D3-7C18-4236-B6F3-A056461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6D2EF-1886-4923-BC08-A6B0143B18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18Z</dcterms:modified>
  <cp:revision>12</cp:revision>
  <dc:subject>Slavic hymnal Гимны веры христиан, hymn 804</dc:subject>
  <dc:title>Свят, свят, свят Господь Бог</dc:title>
</cp:coreProperties>
</file>