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9</a:t>
            </a:r>
            <a:r>
              <a:rPr b="1" lang="ru-RU" sz="3600" spc="-1" strike="noStrike">
                <a:solidFill>
                  <a:srgbClr val="ffffff"/>
                </a:solidFill>
                <a:latin typeface="Verdana"/>
              </a:rPr>
              <a:t>	</a:t>
            </a:r>
            <a:r>
              <a:rPr b="1" lang="ru-RU" sz="3600" spc="-1" strike="noStrike">
                <a:solidFill>
                  <a:srgbClr val="ffffff"/>
                </a:solidFill>
                <a:latin typeface="Verdana"/>
              </a:rPr>
              <a:t>Возьми меня отнын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ake Thou my hand, O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lead Thou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til my journey ende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ternally.</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зьми меня от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пер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жизненной дол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ед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one I will not wand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e single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 Thou my true Compan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ith me sta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мог бы я тро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если Ты со мн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твёрд в пу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 cover with Thy merc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poor, weak he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ev’ry thought rebell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me depar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руй Ты сердцу р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скорбя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чувствовать мне сла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воих словах.</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rmit Thy child to ling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re at Thy f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holly trust Thy good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faith complet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ую веры твёр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еня вдох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а злую гордо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изгон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ough naught of Thy great pow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y move my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e through night and dark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reach the goal.</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же в смертном тел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жды 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равь меня Ты к ц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рез тьму и све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ake, then, my hands, O Fath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lead Thou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til my journey ende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ternally.</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ьми меня отн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пер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жизненной дол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ь, веди!</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8:14Z</dcterms:modified>
  <cp:revision>3</cp:revision>
  <dc:subject>Slavic hymnal Гимны веры христиан, hymn 149</dc:subject>
  <dc:title>Take Thou My Hand, O Father / Возьми меня отныне</dc:title>
</cp:coreProperties>
</file>