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433D-FA08-47B1-BC60-245C70A1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C7F1-589D-4833-A0C8-AB880B37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FBE5-2B2F-4D03-B0A7-7F208776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ADA6-1B5B-495D-A608-C82D6EF9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00EF-D5E6-459E-8183-F8C4BD44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E9D8-2F19-449F-AC92-13CCA0E1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AC0-1546-4F88-A11C-85B8551E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ED10-7591-4E9D-9228-BE07C691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DD84-2422-4F3D-9F44-6BBF79E3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C891-E9E3-4495-A00A-A1DFCBC6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6792-FF81-4AE0-8750-9C832798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848E-F17E-46FC-94D4-1F7BA64A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C3E84-48CC-4953-AF23-1E67083F9B4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чу напрасно утро пров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яркий полдень со Христом хочу ид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же в вечер запись да будет чи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тов слугою быть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у я весть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земле, во все м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мне мой Ангел скажет Госп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по следам Его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хочу напрас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душ блуждает во грехах, во тьм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слёз горячих пролито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лезни мучат страждущих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осподь, хочу я быть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у я весть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земле, во все м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мне мой Ангел скажет Госп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по следам Его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 домах печально и тревожно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етей молиться некому уч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де злое пьянство ― темнота ум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вествовать хочу я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у я весть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земле, во все м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мне мой Ангел скажет Госп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по следам Его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2:28Z</dcterms:modified>
  <cp:revision>12</cp:revision>
  <dc:subject>Slavic hymnal Гимны веры христиан, hymn 455</dc:subject>
  <dc:title>Не хочу напрасно утро провести</dc:title>
</cp:coreProperties>
</file>