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5FAA-ED16-4246-8EEC-F5705580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84B-42CC-4307-B4B3-1F48DE15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A8D-C9C3-4B20-9BCA-DA91FC20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C81D-60B7-4CE6-B1C9-4EE5E0CD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B93F-0A91-4159-8AC6-D8BA8C45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6FE6-E9E8-4B7E-A269-52733163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60E-96ED-46B4-9677-AA7AF518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E7BE-6D0C-4A48-9DEE-78E9968C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D86C-1FDF-4182-977D-76FCA776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0DF-D895-4AB1-9410-DAFA3E9E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C62-2169-4FC8-AAA2-E5E5CC68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342-99A5-41F4-ADFC-65A2E125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1B7A8-2722-4AC8-86AB-51DD612DCF1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t thy joy and glory ever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m, the great Deliver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gave Himself a sacrifice for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, ликуй, спас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будет славой, радость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вознес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е твои грехи на крес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and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who lives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eat High Priest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in th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hast a place that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rem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ids thee dwell in safe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st beneath the shadow of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езопасен под крылом 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хрь бури разъяр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нять не может мира т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and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who lives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eat High Priest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home on high is waiting now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, in all His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ing of saints with w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 shalt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на высоте дом вечный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 славе 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твой тебя туда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and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who lives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eat High Priest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s on to join the happy, happy thr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soon Thy Lord shall call th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realms of joy and everlasting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войти в собрание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ердцем восхищ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 всерадостный спасенья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beli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 and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m who lives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great High Priest and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9:03Z</dcterms:modified>
  <cp:revision>13</cp:revision>
  <dc:subject>Slavic hymnal Гимны веры христиан, hymn 580</dc:subject>
  <dc:title>Rejoice, Rejoice, Believer / Ликуй, ликуй, спасённый</dc:title>
</cp:coreProperties>
</file>