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9</a:t>
            </a:r>
            <a:r>
              <a:rPr b="1" lang="ru-RU" sz="3600" spc="-1" strike="noStrike">
                <a:solidFill>
                  <a:srgbClr val="ffffff"/>
                </a:solidFill>
                <a:latin typeface="Verdana"/>
              </a:rPr>
              <a:t>	</a:t>
            </a:r>
            <a:r>
              <a:rPr b="1" lang="ru-RU" sz="3600" spc="-1" strike="noStrike">
                <a:solidFill>
                  <a:srgbClr val="ffffff"/>
                </a:solidFill>
                <a:latin typeface="Verdana"/>
              </a:rPr>
              <a:t>Ближе, Господь, к Теб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б крестом пришло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яться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одно лишь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к Те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пустыне странник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очь тем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дых на камне л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ёт г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ердце и во с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к Теб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пробудясь от с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вос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ей хвалой,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ач замен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корби отрада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к Теб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огда земную жиз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конч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о славу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ведёшь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ая радость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к Тебе.</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8:01Z</dcterms:modified>
  <cp:revision>3</cp:revision>
  <dc:subject>Slavic hymnal Гимны веры христиан, hymn 139</dc:subject>
  <dc:title>Ближе, Господь, к Тебе</dc:title>
</cp:coreProperties>
</file>