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00F-1FE6-4728-9EAC-C4DF5E70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304-2B4E-4012-A958-658FAC6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B5F-085F-4979-8D45-F4665386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7E6-2BEA-4D5B-B674-702E852D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614-DA1A-4701-96F9-63907D55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1AE-06CA-4A14-BFF3-06B42778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193-2B5A-4DFE-9B6A-24063BF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F8F-2D0B-4E8C-ACC2-E978ED2D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3D5-7241-4E09-A888-CB0A78AD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F8E-ED76-43B7-BEE2-51EDE5A9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F99-3FA5-49E0-82DC-AA5E86D2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EE8-2E48-46F2-B2A6-8B5F977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7FE84-FDF0-434E-B9F9-E75A7D9110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и, Господь,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боду я вой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ь меня отдать мой меч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могу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енье мне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ам ст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объятья заклю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илу дай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лени, Господь,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зяин нуже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ердцем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жества ни сил в нём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еры со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делу по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го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ковы налож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владеет д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е в службе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нужен, чтоб пы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я мне ну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од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ною знамя распу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щество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я не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елавшись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а царский трон вз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ься нужн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 ей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тоит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льнёт к Т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йдё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40Z</dcterms:modified>
  <cp:revision>12</cp:revision>
  <dc:subject>Slavic hymnal Гимны веры христиан, hymn 899</dc:subject>
  <dc:title>Плени, Господь, меня</dc:title>
</cp:coreProperties>
</file>