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8BB-C812-4ECE-A9C5-105603AA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CC7-F2D2-461D-82FC-CD462248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8C41-269C-433B-97AC-4CE0D840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76D-116D-42BC-B425-CF407E97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8168-F8C9-48CA-BDCC-7CC45A13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00B-C837-428E-93F9-BC4EAFE8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7CB-A31D-457C-A4A3-6A8D06D2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49C4-9307-4E36-81DA-FB35EEEB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67D9-7BA4-4867-B4C1-DB8009C4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94B1-93C2-4A1E-AACA-B9E514D2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D23-870D-4F06-83D2-E5948355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0DE-FF16-465D-B90F-13C97E8A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C6AD1-C382-4CAE-8166-B46AAC4375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3726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й, душа! небесных хоров п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в тиши над морем и землё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ко там для душ успоко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греха, вражды и тьмы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 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 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нимай, душ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вперёд, внимая чудным звук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ди, усталый, ко Христу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ешь скорбь, не омрачит разлука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бьётся радостно в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 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 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3726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издали, как сладкий зв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ер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ги Христа звучат в тиши ноч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брый пастырь Он идёт чр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людям дать надежду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 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 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43080"/>
            <a:ext cx="93726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вперёд; путь жизни крут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раче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ходит солнце… всё темней, темне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трудам… но радостная встре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ждёт в стране, где больше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 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 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, на страже верно ст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 песни славы, радости псалм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убежит пред славным днём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ет любви, там нет мертвя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 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 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3:03Z</dcterms:modified>
  <cp:revision>13</cp:revision>
  <dc:subject>Slavic hymnal Гимны веры христиан, hymn 615</dc:subject>
  <dc:title>Внимай, душа! небесных хоров пенье</dc:title>
</cp:coreProperties>
</file>