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539-14FA-4B68-8D5F-0C7660C2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627-AD40-4DA1-A831-61E3E23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45C-7F2D-4CB9-9BB7-4D33E864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CDB-8B1A-4059-9471-BA5E4FCD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B3A-4378-4A1C-AC6B-D7F23FC8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E17-8DC3-4DBF-A32A-A4E83FA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F58-4407-4F10-AE3D-DEC1362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B1D-C642-408F-BB40-22416D5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5E8-93E5-4450-9E0C-EE25CA38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351-858C-471F-9AAA-A4185DB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741-E072-47DB-A9D8-DBF9AC6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8B1-710F-4351-ADDD-24BAEC6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7755F-989C-4648-AFC6-68B0BC61F9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and that is plen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streams of abundance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m found in the deser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walk through the wilder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2   Blessèd Be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un’s shining down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world’s “all as it should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lessèd be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road marked with su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re’s pain in the offe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blessing You pour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turn back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darkness clos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till I will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and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choose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blessèd be Your na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gloriou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24Z</dcterms:modified>
  <cp:revision>12</cp:revision>
  <dc:subject>The Source 3, song number 1152</dc:subject>
  <dc:title>Blessèd Be Your Name</dc:title>
</cp:coreProperties>
</file>