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DB49-FB58-4790-97A4-0BEA9675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5C5-EACF-4DEB-99E4-BE2EF96D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4DF-D1F2-4579-A296-1C07E27B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3F2A-548B-4182-9073-698124DE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C224-EFA0-4228-AC32-FD786206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398-F4F2-418F-98F2-0089E96A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A014-DB41-4D24-835A-70CB6645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8515-AF7D-43CE-BDCD-D465BD36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CC91-4D88-44DC-B3A7-192DF6EA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248-5266-4203-A101-706D7C60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B8D9-FC7F-4C74-B6C5-1E02FF4A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3774-0639-4872-BBB9-E3AF27FB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1B092-AFD2-4AA2-89D5-EA300C6119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hole world wa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darkness of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sunshine at noo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lory shon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 тьме и грех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и грехе погибает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озаряет, как солнце с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Light, ’tis shining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the Light has dawned upo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I was blind, but now I can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darkness have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n Jesus ab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alk in th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follow our Gu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лазна нет в том, кто идёт за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дивный свет избавляет от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Light, ’tis shining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the Light has dawned upo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I was blind, but now I can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dwellers in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in-blinded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, wash at His bid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ght will a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ь ослеплён и во тьме не жи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иди!» Он зовёт, слушай голос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Light, ’tis shining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the Light has dawned upo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I was blind, but now I can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eed of the sun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eaven, we’re t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 is th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ity of G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в солнце нужды в див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аде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вете Его будет вечно свет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Light, ’tis shining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the Light has dawned upo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I was blind, but now I can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ght of the world is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01Z</dcterms:modified>
  <cp:revision>14</cp:revision>
  <dc:subject>Slavic hymnal Гимны веры христиан, hymn 386</dc:subject>
  <dc:title>The Light of the World Is Jesus / Во тьме и грехе погибает народ</dc:title>
</cp:coreProperties>
</file>