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9AE-F761-4FC7-B8BF-87B479A0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39F-5201-4170-8519-B6AF9CAF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859-E613-4947-B6A9-4AB7DB66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20C-CDFC-4480-9870-639A295C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10F-8FA3-4065-B42B-11EBC40F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73D-9280-49E1-859A-5EC29CB5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0AC-3A61-4C6C-B1CF-D80B0F8C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8CA-933A-473F-B6B8-904BE10A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418-B464-45F9-A68D-454165D4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157-0BC3-41F0-ACFB-839155F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A3E0-AEF2-43F2-9307-0917431A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C68-698A-4C09-A1DE-6AF79275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F0A93-D6CD-4AF4-AA89-C4195367E5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ібрання закін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одому йдем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, чого ми науч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ерця візьм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9   Ми зібрання закінч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ож будемо ми завж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ібрання 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учитися тут прав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життя 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сть Бог жити, ми зійдем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ібрання з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будень, чи в неділю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ть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но, тихо і спокі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о Боже, що ми ч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повнять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31Z</dcterms:modified>
  <cp:revision>12</cp:revision>
  <dc:subject>Slavic hymnal Гимны веры христиан, Ukrainian hymn 89</dc:subject>
  <dc:title>Ми зібрання закінчили</dc:title>
</cp:coreProperties>
</file>