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9CA-860D-445A-BC0C-18A87F49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804-0582-4F81-BD85-51D05B2B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F4AD-311B-40EA-89DA-47A554A5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8CC-BCE9-413D-8163-4F0D0DF4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D22-DF99-43F3-9C2B-4B9ABEB9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0BF-76DC-4480-9563-344FAE43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D09-F461-4D1B-BE95-A744BCC0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798-6190-45BB-887C-B8704DE4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A6F-DFA3-4462-829D-0B6F1A2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1C5-3BDE-4D4B-A8E8-72292140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8C5-51D3-4F69-A789-E4E569E3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843-0BBF-4A56-9EE2-7DDC5146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238C5-4ADA-4367-9D8F-C78710DE00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ster, let me walk wit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owly paths of servic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 Thy secret; help me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rain of toil, the fret of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дай сил ид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идти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смиренья и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учи сноси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ы дня, и труд и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he slow of heart to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some clear, winning word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the wayward feet to st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them in the homeward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медлительных заж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любви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к истине привле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ить 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 Thy patience still wit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loser, dearer comp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k that keeps faith sweet and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rust that triumphs over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щеньи сладостном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уженьи верность сох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о любовью побе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ope that sends a shining 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down the future’s broad’ning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eace that only Thou canst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e, O Master, let m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ам души моей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ерных ждёт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пошли, и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й сил мне жи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5:57Z</dcterms:modified>
  <cp:revision>12</cp:revision>
  <dc:subject>Slavic hymnal Гимны веры христиан, hymn 830</dc:subject>
  <dc:title>O Master, Let Me Walk With Thee / Господь, дай сил идти с Тобою</dc:title>
</cp:coreProperties>
</file>