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A5E-C926-4476-B6C7-03B4384B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67A-FADF-4084-95B2-BCEB7D7E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E9B-A29E-47F2-8793-6D4D47F5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F792-2AC9-492B-BB95-7A73D1AF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777-25CB-4BDB-B575-FAE2F61E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C7A6-BF88-48F1-BEC7-FD1F87CE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29B-CC06-4DE8-8AE2-F5ACCB23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F4E-5DEB-4F02-A327-2420B6F1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0C0-3853-49F7-AA44-C9FFDF2B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A72-63E4-4572-8F59-71AA5DCA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54C-03F7-4A5B-B615-250413E5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BB1-9D46-4F57-AAD7-A7738D33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CD25D-753B-4B31-8E0F-224D3FB9C3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028880"/>
            <a:ext cx="92584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o Jesus be glory, honour and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jesty, kingdom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s from His throne unto His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anthem 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"/>
            <a:ext cx="948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клонись перед Велич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ись перед Велич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глашай честь и хвалу 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ие в Царстве мог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от трона, где коронов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exalt, lift up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name of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gnify, come glor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Jesus the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личь, превозн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цай, провозгла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наш Ца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jesty, worship His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ho died, now glor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all k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лонись перед Велич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л распят, Том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6-06-08T20:36:08Z</dcterms:modified>
  <cp:revision>11</cp:revision>
  <dc:subject>The Source, song number 346 in Russian</dc:subject>
  <dc:title>Преклонись перед Величием / Majesty, Worship His Majesty</dc:title>
</cp:coreProperties>
</file>