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C5D-D350-4425-B7B6-B81A0F3B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EC5-F507-4332-9E65-049BB760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507-87AE-4EE0-8A47-86E4B64A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FCE-F815-446E-A4F6-8D114C6F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A4E-62A7-4A80-90FE-ABB6B02A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D61-4177-473C-A5A6-3784E20E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3D9-7FD3-4525-AC96-7F035434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CDA-1068-4D1A-96E7-944293E0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807-79D5-44C5-98ED-9DB1038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C35-D4AA-44E8-94AA-9F1DFDF4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F61-B0FA-49EB-9CC8-2C8418D4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01E-5177-463D-82A6-7FFEC277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27E03-C4FB-47C9-AF71-9EB591D3F8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halleluja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King of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27Z</dcterms:modified>
  <cp:revision>10</cp:revision>
  <dc:subject>The Source, song number 307</dc:subject>
  <dc:title>King of Kings</dc:title>
</cp:coreProperties>
</file>