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15</a:t>
            </a:r>
            <a:r>
              <a:rPr b="1" lang="ru-RU" sz="3600" spc="-1" strike="noStrike">
                <a:solidFill>
                  <a:srgbClr val="ffffff"/>
                </a:solidFill>
                <a:latin typeface="Verdana"/>
              </a:rPr>
              <a:t>	</a:t>
            </a:r>
            <a:r>
              <a:rPr b="1" lang="ru-RU" sz="3600" spc="-1" strike="noStrike">
                <a:solidFill>
                  <a:srgbClr val="ffffff"/>
                </a:solidFill>
                <a:latin typeface="Verdana"/>
              </a:rPr>
              <a:t>Там, где Один пострадал</a:t>
            </a:r>
            <a:endParaRPr b="0" lang="en-US" sz="3600" spc="-1" strike="noStrike">
              <a:solidFill>
                <a:srgbClr val="000000"/>
              </a:solidFill>
              <a:latin typeface="Verdana"/>
            </a:endParaRPr>
          </a:p>
        </p:txBody>
      </p:sp>
      <p:sp>
        <p:nvSpPr>
          <p:cNvPr id="39"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Down at the cross where my Saviour di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Down where for cleansing from sin I cri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re to my heart was the blood appli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p:txBody>
      </p:sp>
      <p:sp>
        <p:nvSpPr>
          <p:cNvPr id="4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Там, где Один пострадал за все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где распятый к Нему прибег,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Своей кровью Он смыл мой гре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re to my heart was the blood appli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p:txBody>
      </p:sp>
      <p:sp>
        <p:nvSpPr>
          <p:cNvPr id="42"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Своей кровью Он смыл мой гре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I am so wondrously saved from s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so sweetly abides with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re at the cross where He took me 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p:txBody>
      </p:sp>
      <p:sp>
        <p:nvSpPr>
          <p:cNvPr id="44"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Дивно Христос дар любви простё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ивно с несчастного снял позо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ивно живёт Он во мне с тех по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re at the cross where He took me 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p:txBody>
      </p:sp>
      <p:sp>
        <p:nvSpPr>
          <p:cNvPr id="46"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ивно живёт Он во мне с тех пор,</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79280" y="828720"/>
            <a:ext cx="98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Oh, precious fountain that saves from s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am so glad I have entered 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re Jesus saves me and keeps me clea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p:txBody>
      </p:sp>
      <p:sp>
        <p:nvSpPr>
          <p:cNvPr id="48"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Чудный свет Божий рассеял ть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о, что смог я прийти к Н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о Христос даёт жизнь всему,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179280" y="828720"/>
            <a:ext cx="98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re Jesus saves me and keeps me clea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p:txBody>
      </p:sp>
      <p:sp>
        <p:nvSpPr>
          <p:cNvPr id="5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удно Христос даёт жизнь всему,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Come to this fountain so rich and swee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ast thy poor soul at the Saviour’s fee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lunge in today, and be made complet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p:txBody>
      </p:sp>
      <p:sp>
        <p:nvSpPr>
          <p:cNvPr id="52"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К жизни потоку направь свой пу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ом спеши ко Христу прильну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ех свой омой и счастливым бу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lunge in today, and be made complet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p:txBody>
      </p:sp>
      <p:sp>
        <p:nvSpPr>
          <p:cNvPr id="54"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ех свой омой и счастливым бу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p:txBody>
      </p:sp>
      <p:sp>
        <p:nvSpPr>
          <p:cNvPr id="5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6:06:52Z</dcterms:modified>
  <cp:revision>3</cp:revision>
  <dc:subject>Slavic hymnal Гимны веры христиан, hymn 115</dc:subject>
  <dc:title>Glory to His Name (Down at the Cross Where My Saviour Died) / Там, где Один пострадал за всех</dc:title>
</cp:coreProperties>
</file>