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02D-ED8D-43BF-84B5-EEC427A8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F48-1F12-40E0-86BD-7E7C1049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FCC-2E10-4548-964D-EFC3A9EC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A88-D4A3-4C0D-AE2E-C0844A2D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FCD-C9EF-469F-8601-4FF9C533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AD7-D9FB-413C-983A-D2106EC7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03D-809E-4B93-9B95-BA1733C0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B50-E40E-4F24-947B-57C77948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5AC-35EA-4DD0-942E-9972AEAD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297-8001-4792-9E90-605B74B9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801-A044-4EAB-B05A-A28F2F31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B53-59F8-43E2-8ACC-1B9B5FD2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3A505-3ED4-42A7-9F06-8FBFF4CE32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без дел, без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вши с радостью Тво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верою в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не смея 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то меня мог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познавш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а   Таков, как ес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для всех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х, страхе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й бурею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увиде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моя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путё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проложенным, прям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авеки быть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6:35Z</dcterms:modified>
  <cp:revision>12</cp:revision>
  <dc:subject>Slavic hymnal Гимны веры христиан, hymn 479 (as amended)</dc:subject>
  <dc:title>Таков, как есмь</dc:title>
</cp:coreProperties>
</file>