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7C2-AEFA-45AC-AB4E-D1E02208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9BE-A2B6-448A-8573-A18E5F65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6A9-5075-4932-AC79-2E5E535C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B38-524E-4EAC-AC65-AF6A1857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3EA-6A94-41D8-8E32-7ABBEACD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A9C-8A30-48B5-B2E0-F41D7874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3FF-37A2-4EC6-84A2-4CA272A3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0D4-4616-43BA-A2AA-61CCFA63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9FB-2D29-4AAF-BB1D-A100E86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4D6-537F-49DC-9DD2-84D642B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C483-1AE7-49BC-9958-ED804CE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FF8-4F7D-4723-B9F1-A4E82597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8BE86-A411-4E56-97FB-6EDE557992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 без сере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жий дар спасенья, вечного добр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Слушайте, идите и спешите взя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То, что Бог всем хочет 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сть берёт, кто хо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ходи, бери, бедный друг, скорей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ыне день спасенья для души твое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Завтра будет поздно, уж не будет зв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Больше Божья благод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, кто хочет! Путь Божий прям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Истинно, правдиво слово Бога к на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сё, что обещает, Он в любви даё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Нищий духом да прид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усть берёт бедняк! Пусть он даром пьё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Вот уста Иисуса уж давно зов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«Воды жизни вечной без конца теку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Даром пей, кто жаждет пить!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6:13Z</dcterms:modified>
  <cp:revision>14</cp:revision>
  <dc:subject>Slavic hymnal Гимны веры христиан, hymn 382</dc:subject>
  <dc:title>Пусть берёт, кто хочет</dc:title>
</cp:coreProperties>
</file>