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C65-73FE-44E1-B4A6-8F0D68D2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FB6-A0FD-40DA-902E-E1BE9AC7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7CB-9958-46C1-9121-4D471092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904-04F7-4E5A-AEB3-AC9D61A5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318-D73C-45A4-B733-A0DB3451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23E-5EEE-402F-89DF-D8FA9BB7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D15-7426-4401-AE9C-3E10AE39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60C-EC68-4EFE-BC1C-6617CA7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44B-8BFE-4F45-BBB7-51E95034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2C09-82E7-4538-A8E9-A00CB09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1B3-C806-45AD-BE18-8CB7ACC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456-4F98-44DA-9F29-B96BA344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82E62-D06A-43DA-B775-6C27358ACF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the angels in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ng as they welcomed Hi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good tidings to eart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ing alone in the dese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days that are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for our sins He was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as triumphan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years of His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sorrow He b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 despised and affli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less, rejected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cross where they nail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hing in anguish and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f the grave where they lai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how He livet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in that story so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er than ever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, let me weep while you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paid the ransom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ite on my heart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e story most prec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that ever was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3:30Z</dcterms:modified>
  <cp:revision>14</cp:revision>
  <dc:subject>Slavic hymnal Гимны веры христиан, Ukrainian hymn 2</dc:subject>
  <dc:title>Tell Me the Story of Jesus / Повість скажи про Ісуса</dc:title>
</cp:coreProperties>
</file>