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28E-D18C-4E9D-9D78-E43179AE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85C-0998-4502-A141-F1025C6D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03B-362C-4863-A4CE-8520BF9F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3AD-B7BB-40C4-B230-10394899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E16-788A-435D-BDA4-A9ECA0E3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1CC-6A70-4EB1-85A8-B0BEAC1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670-E0F5-4A79-B6E7-924B71CA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401-FE92-4C42-8D52-AD5539C1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4F0-430B-44B9-A526-E55E3B2F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FFB-9233-4940-9A05-2FBD6B3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2F9-CBB7-426A-867E-D30F93A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462-E6E9-4E63-85AA-5194636D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6D069-4C64-4B9E-8207-DAB47FC0A9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have strength to 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problems on life’s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pleasur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will of God each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бодрей на жизнен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одрей на жизненном пути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Божию в работе мы на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d’s great 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’ll better under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receive abu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ings at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я Божьи станут нам я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полнит сердце всё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learn God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us to know and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xpect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wait His coming, to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Божию научимся тв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взоры к небу возн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will our pathway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joys will ov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vercom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e trust implicitly in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тлеет путь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будет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враг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дем доверять Иису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6Z</dcterms:modified>
  <cp:revision>14</cp:revision>
  <dc:subject>Slavic hymnal Гимны веры христиан, hymn 453</dc:subject>
  <dc:title>If We Trust Implicitly in Jesus / Мы бодрей на жизненном пути пойдём</dc:title>
</cp:coreProperties>
</file>