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84A-FDE9-487E-B662-D1D9D1D7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60A-D9B6-4A74-94D1-68E0C270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C38-5BFE-4582-A85F-2B33CAA7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4928-1613-4AA2-B7A7-346F60B3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69B-475F-4CC4-AB46-75316EC3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7C1-5426-46F0-B0A6-8999F351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FB9-300A-48DF-B38C-B062A1D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376-6164-483F-BB6E-51A3DB47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98C-CBCF-49A3-9671-9A798B70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C74-DB16-48B2-A45B-A794039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B7B-6B52-42D2-9C53-2C9FA118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544-4D85-4A8D-8B67-0CCA27DE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21B16-9619-41EA-A3F2-E84E784905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to say, L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who gave me life an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explain just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uch You mean to m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have saved me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all that I am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ev’ry day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a light that shine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52   What to Say, Lor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, Lord, I’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rn to stand up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pray that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ay come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would guid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ingle step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ev’ry day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Your light unto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t’s You I live f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’ll follow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 I’ll walk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 I live for ev’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24Z</dcterms:modified>
  <cp:revision>11</cp:revision>
  <dc:subject>The Source 2, song number 1052</dc:subject>
  <dc:title>What to Say, Lord? (Every Day)</dc:title>
</cp:coreProperties>
</file>