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CC6D-0160-4D39-A455-F891D865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740F-2B3D-437C-93A9-047D7237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3382-8E99-4E3D-9C89-25178E3D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B591-E5C4-468A-B7CC-9AA0150A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6DDD-52DD-49BE-B6B1-F6C4A5D0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629D-091B-40EA-93DA-E31089B7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9FA6-2FE7-47D8-8657-FF7DC44E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756F-140F-4B34-896C-4DF5D04E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4303-9E86-4211-8F97-78CEDCF1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FBA4-13E1-4135-BDC3-3A9D6466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EB96-839D-4CEA-B0DB-09E7C796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0566-D5AB-4EDA-8DB3-2344C3D5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DDEC2-8159-4F00-87C9-3D4141DACE5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т: Божьи дети встан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придут к лицу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тогда хвалой воспря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ечной радости 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юноши, и старцы, дет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лечённые в висс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твями пальмы в чудном св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стекутся на Си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 будет: Божьи дети встан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обрадует и при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х возлюбленных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х поношение Он сни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ёзы их отрёт с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лача никогда не буд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й дивной родине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ждый скорби поза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ляя жребий с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и призрака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ерть вовеки не прид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вет Господнего сия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мрачится, не з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не будут уж том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разит их больше з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удут вечно весел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ад, упитанный в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, как камни, воссия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нце Владыки сво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светила, заблист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веки на земл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5:52Z</dcterms:modified>
  <cp:revision>13</cp:revision>
  <dc:subject>Slavic hymnal Гимны веры христиан, hymn 681</dc:subject>
  <dc:title>И будет: Божьи дети встанут</dc:title>
</cp:coreProperties>
</file>