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07D-A8BF-486E-8279-536339D5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552-93E1-499B-9219-86C7749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0E2-6AC4-48D3-93D0-ACF929F1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F87-1921-402F-AAF9-100C7B1B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8D0-6D77-474A-B57B-E58B0EF9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138-730B-4013-878F-3F4F2B25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498-6027-4D76-9D7C-CCB414BC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674-1C65-40B5-869A-DDA2305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F39-816D-4DFF-BC1A-7AA2335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D8C-5A45-47EC-8A5D-21E8ABB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4EF-9897-4F5A-95B6-32EB3BDB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AF0-1A0D-4400-AE42-DEC399D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C6FE4-9224-4160-A4C8-703B057BEA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4:30Z</dcterms:modified>
  <cp:revision>12</cp:revision>
  <dc:subject>Slavic hymnal Гимны веры христиан, hymn 835</dc:subject>
  <dc:title>Иисус прекрасный</dc:title>
</cp:coreProperties>
</file>