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F0F-03C4-4267-A54F-993B2181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7AA-8920-4886-8918-76AB151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450-9B8E-40F1-B5A5-99A86351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F86-F06F-4ED8-99F4-43771154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ECB-160D-4D08-B34E-4530EBF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858-3E18-4FC0-99DE-671D641E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5EC-455D-4D82-9EC3-0BBBE2D1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84E-A1F1-42AC-936E-DAF2703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59A-B962-463A-B474-62D8B179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501-A4B4-4FAB-95F5-52A46FF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D06-545F-4EF0-BC17-247736DA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ABD-D29A-437D-9272-715848A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FD911-230C-4605-800E-B040C5AFA9C4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oy of my desi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-consuming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 of glory, rose of Shar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are and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now my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forter and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onderful, so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o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83   Joy of My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orship You in spirit and in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will never be a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dear to me a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15T05:47:46Z</dcterms:modified>
  <cp:revision>12</cp:revision>
  <dc:subject>The Source 3, song number 1383</dc:subject>
  <dc:title>Joy of My Desire</dc:title>
</cp:coreProperties>
</file>