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FE7-50B0-4C37-B0F6-563E2635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D99-95CE-43E2-9DEB-0E26C9DF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842-EC7C-4884-94AB-9066AD3E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4E5-3431-44F3-A9D1-4781834D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29D-93A8-4AB5-9C19-A4FAE435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9AF-864B-40DB-84E3-17AC5247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8D8-160C-4623-BD50-3AEB68D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9A1-DB43-4A4B-9EE3-BB358241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D92-E48F-46DB-9616-294AB3E6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E73-8375-46E7-96A5-0B47D36A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8820-ACBD-49CC-AA5D-13AB4A8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BF2-D399-4A8A-9FA4-E40C53AE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EFE46-F0F1-4BB0-86BD-4523931E13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3:50Z</dcterms:modified>
  <cp:revision>12</cp:revision>
  <dc:subject>Slavic hymnal Гимны веры христиан, hymn 690</dc:subject>
  <dc:title>В час, когда труба Господня</dc:title>
</cp:coreProperties>
</file>